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9B7F-1038-43FA-958C-3E67ACEC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46E4-53AE-45F5-B3C6-65623F32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AEDA-FC73-4A34-A99C-51EDF297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8114-3685-466F-A428-70C894B0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194E-28A5-45BA-9265-3A964FEB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F00B-58B7-4088-A34D-0211D6E5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B23C-6637-44AA-89D5-A02A5CAC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AF77-ABD4-4777-BA18-3C363E4E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6EFE-7B37-4F10-BA80-0E9DA800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45E-BEEC-4D75-BCA3-231D95FA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AEC6-2E90-43C3-8B37-8768A107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B7AF-B070-49D0-8234-5912DE2D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5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6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AAD7-E82A-4CA4-A86F-6701629D7726}" type="slidenum">
              <a:rPr b="0" lang="zh-CN" sz="1200" spc="-1" strike="noStrike">
                <a:solidFill>
                  <a:srgbClr val="898989"/>
                </a:solidFill>
                <a:latin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1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0"/>
          <p:cNvSpPr/>
          <p:nvPr/>
        </p:nvSpPr>
        <p:spPr>
          <a:xfrm>
            <a:off x="7308720" y="0"/>
            <a:ext cx="86364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41"/>
          <p:cNvGrpSpPr/>
          <p:nvPr/>
        </p:nvGrpSpPr>
        <p:grpSpPr>
          <a:xfrm>
            <a:off x="811080" y="676440"/>
            <a:ext cx="4513320" cy="1296720"/>
            <a:chOff x="811080" y="676440"/>
            <a:chExt cx="4513320" cy="1296720"/>
          </a:xfrm>
        </p:grpSpPr>
        <p:sp>
          <p:nvSpPr>
            <p:cNvPr id="43" name="矩形 1"/>
            <p:cNvSpPr/>
            <p:nvPr/>
          </p:nvSpPr>
          <p:spPr>
            <a:xfrm>
              <a:off x="811080" y="676440"/>
              <a:ext cx="4513320" cy="1296720"/>
            </a:xfrm>
            <a:custGeom>
              <a:avLst/>
              <a:gdLst/>
              <a:ahLst/>
              <a:rect l="l" t="t" r="r" b="b"/>
              <a:pathLst>
                <a:path w="5512819" h="1584176">
                  <a:moveTo>
                    <a:pt x="0" y="0"/>
                  </a:moveTo>
                  <a:lnTo>
                    <a:pt x="5184576" y="0"/>
                  </a:lnTo>
                  <a:lnTo>
                    <a:pt x="5184576" y="529601"/>
                  </a:lnTo>
                  <a:lnTo>
                    <a:pt x="5512819" y="761350"/>
                  </a:lnTo>
                  <a:lnTo>
                    <a:pt x="5184576" y="993099"/>
                  </a:lnTo>
                  <a:lnTo>
                    <a:pt x="5184576" y="1584176"/>
                  </a:lnTo>
                  <a:lnTo>
                    <a:pt x="528496" y="1584176"/>
                  </a:lnTo>
                  <a:lnTo>
                    <a:pt x="0" y="11750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8440">
              <a:solidFill>
                <a:srgbClr val="ffce33"/>
              </a:solidFill>
              <a:round/>
            </a:ln>
            <a:effectLst>
              <a:outerShdw dist="1260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43"/>
            <p:cNvSpPr/>
            <p:nvPr/>
          </p:nvSpPr>
          <p:spPr>
            <a:xfrm>
              <a:off x="878400" y="733320"/>
              <a:ext cx="4126680" cy="35352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44"/>
            <p:cNvSpPr/>
            <p:nvPr/>
          </p:nvSpPr>
          <p:spPr>
            <a:xfrm>
              <a:off x="4062240" y="772920"/>
              <a:ext cx="888120" cy="273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45"/>
            <p:cNvSpPr/>
            <p:nvPr/>
          </p:nvSpPr>
          <p:spPr>
            <a:xfrm>
              <a:off x="811080" y="1148040"/>
              <a:ext cx="4227480" cy="0"/>
            </a:xfrm>
            <a:prstGeom prst="line">
              <a:avLst/>
            </a:prstGeom>
            <a:ln w="19080">
              <a:solidFill>
                <a:srgbClr val="b88c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直接连接符 46"/>
          <p:cNvSpPr/>
          <p:nvPr/>
        </p:nvSpPr>
        <p:spPr>
          <a:xfrm>
            <a:off x="5611680" y="0"/>
            <a:ext cx="0" cy="6858000"/>
          </a:xfrm>
          <a:prstGeom prst="line">
            <a:avLst/>
          </a:prstGeom>
          <a:ln w="2844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椭圆 47"/>
          <p:cNvGrpSpPr/>
          <p:nvPr/>
        </p:nvGrpSpPr>
        <p:grpSpPr>
          <a:xfrm>
            <a:off x="5522760" y="1238400"/>
            <a:ext cx="176040" cy="176040"/>
            <a:chOff x="5522760" y="1238400"/>
            <a:chExt cx="176040" cy="176040"/>
          </a:xfrm>
        </p:grpSpPr>
        <p:pic>
          <p:nvPicPr>
            <p:cNvPr id="49" name="椭圆 47" descr=""/>
            <p:cNvPicPr/>
            <p:nvPr/>
          </p:nvPicPr>
          <p:blipFill>
            <a:blip r:embed="rId2"/>
            <a:stretch/>
          </p:blipFill>
          <p:spPr>
            <a:xfrm>
              <a:off x="5522760" y="1238400"/>
              <a:ext cx="17604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557680" y="127332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Box 48"/>
          <p:cNvSpPr/>
          <p:nvPr/>
        </p:nvSpPr>
        <p:spPr>
          <a:xfrm>
            <a:off x="5707080" y="985680"/>
            <a:ext cx="1008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ndara"/>
                <a:ea typeface="微软雅黑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9"/>
          <p:cNvSpPr/>
          <p:nvPr/>
        </p:nvSpPr>
        <p:spPr>
          <a:xfrm>
            <a:off x="755640" y="717480"/>
            <a:ext cx="1595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Your</a:t>
            </a:r>
            <a:r>
              <a:rPr b="1" lang="en-US" sz="1800" spc="-1" strike="noStrike">
                <a:solidFill>
                  <a:srgbClr val="ffffff"/>
                </a:solidFill>
                <a:latin typeface="Agency FB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0"/>
          <p:cNvSpPr/>
          <p:nvPr/>
        </p:nvSpPr>
        <p:spPr>
          <a:xfrm>
            <a:off x="1065240" y="1174680"/>
            <a:ext cx="388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c3a00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51"/>
          <p:cNvGrpSpPr/>
          <p:nvPr/>
        </p:nvGrpSpPr>
        <p:grpSpPr>
          <a:xfrm>
            <a:off x="811080" y="2122560"/>
            <a:ext cx="4513320" cy="1297080"/>
            <a:chOff x="811080" y="2122560"/>
            <a:chExt cx="4513320" cy="1297080"/>
          </a:xfrm>
        </p:grpSpPr>
        <p:sp>
          <p:nvSpPr>
            <p:cNvPr id="55" name="矩形 1"/>
            <p:cNvSpPr/>
            <p:nvPr/>
          </p:nvSpPr>
          <p:spPr>
            <a:xfrm>
              <a:off x="811080" y="2122560"/>
              <a:ext cx="4513320" cy="1297080"/>
            </a:xfrm>
            <a:custGeom>
              <a:avLst/>
              <a:gdLst/>
              <a:ahLst/>
              <a:rect l="l" t="t" r="r" b="b"/>
              <a:pathLst>
                <a:path w="5512819" h="1584176">
                  <a:moveTo>
                    <a:pt x="0" y="0"/>
                  </a:moveTo>
                  <a:lnTo>
                    <a:pt x="5184576" y="0"/>
                  </a:lnTo>
                  <a:lnTo>
                    <a:pt x="5184576" y="529601"/>
                  </a:lnTo>
                  <a:lnTo>
                    <a:pt x="5512819" y="761350"/>
                  </a:lnTo>
                  <a:lnTo>
                    <a:pt x="5184576" y="993099"/>
                  </a:lnTo>
                  <a:lnTo>
                    <a:pt x="5184576" y="1584176"/>
                  </a:lnTo>
                  <a:lnTo>
                    <a:pt x="528496" y="1584176"/>
                  </a:lnTo>
                  <a:lnTo>
                    <a:pt x="0" y="11750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8440">
              <a:solidFill>
                <a:srgbClr val="ffce33"/>
              </a:solidFill>
              <a:round/>
            </a:ln>
            <a:effectLst>
              <a:outerShdw dist="1260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53"/>
            <p:cNvSpPr/>
            <p:nvPr/>
          </p:nvSpPr>
          <p:spPr>
            <a:xfrm>
              <a:off x="878400" y="2179440"/>
              <a:ext cx="4126680" cy="35352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54"/>
            <p:cNvSpPr/>
            <p:nvPr/>
          </p:nvSpPr>
          <p:spPr>
            <a:xfrm>
              <a:off x="4062240" y="2219040"/>
              <a:ext cx="888120" cy="274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直接连接符 55"/>
            <p:cNvSpPr/>
            <p:nvPr/>
          </p:nvSpPr>
          <p:spPr>
            <a:xfrm>
              <a:off x="811080" y="2594160"/>
              <a:ext cx="4227480" cy="0"/>
            </a:xfrm>
            <a:prstGeom prst="line">
              <a:avLst/>
            </a:prstGeom>
            <a:ln w="19080">
              <a:solidFill>
                <a:srgbClr val="b88c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椭圆 56"/>
          <p:cNvGrpSpPr/>
          <p:nvPr/>
        </p:nvGrpSpPr>
        <p:grpSpPr>
          <a:xfrm>
            <a:off x="5522760" y="2687760"/>
            <a:ext cx="176040" cy="171360"/>
            <a:chOff x="5522760" y="2687760"/>
            <a:chExt cx="176040" cy="171360"/>
          </a:xfrm>
        </p:grpSpPr>
        <p:pic>
          <p:nvPicPr>
            <p:cNvPr id="60" name="椭圆 56" descr=""/>
            <p:cNvPicPr/>
            <p:nvPr/>
          </p:nvPicPr>
          <p:blipFill>
            <a:blip r:embed="rId4"/>
            <a:stretch/>
          </p:blipFill>
          <p:spPr>
            <a:xfrm>
              <a:off x="5522760" y="2687760"/>
              <a:ext cx="17604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557680" y="271944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Box 57"/>
          <p:cNvSpPr/>
          <p:nvPr/>
        </p:nvSpPr>
        <p:spPr>
          <a:xfrm>
            <a:off x="5707080" y="2432160"/>
            <a:ext cx="1008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ndara"/>
                <a:ea typeface="微软雅黑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8"/>
          <p:cNvSpPr/>
          <p:nvPr/>
        </p:nvSpPr>
        <p:spPr>
          <a:xfrm>
            <a:off x="755640" y="2162160"/>
            <a:ext cx="1595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Your</a:t>
            </a:r>
            <a:r>
              <a:rPr b="1" lang="en-US" sz="1800" spc="-1" strike="noStrike">
                <a:solidFill>
                  <a:srgbClr val="ffffff"/>
                </a:solidFill>
                <a:latin typeface="Agency FB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9"/>
          <p:cNvSpPr/>
          <p:nvPr/>
        </p:nvSpPr>
        <p:spPr>
          <a:xfrm>
            <a:off x="1065240" y="2620800"/>
            <a:ext cx="388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c3a00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60"/>
          <p:cNvGrpSpPr/>
          <p:nvPr/>
        </p:nvGrpSpPr>
        <p:grpSpPr>
          <a:xfrm>
            <a:off x="811080" y="3567240"/>
            <a:ext cx="4513320" cy="1296720"/>
            <a:chOff x="811080" y="3567240"/>
            <a:chExt cx="4513320" cy="1296720"/>
          </a:xfrm>
        </p:grpSpPr>
        <p:sp>
          <p:nvSpPr>
            <p:cNvPr id="66" name="矩形 1"/>
            <p:cNvSpPr/>
            <p:nvPr/>
          </p:nvSpPr>
          <p:spPr>
            <a:xfrm>
              <a:off x="811080" y="3567240"/>
              <a:ext cx="4513320" cy="1296720"/>
            </a:xfrm>
            <a:custGeom>
              <a:avLst/>
              <a:gdLst/>
              <a:ahLst/>
              <a:rect l="l" t="t" r="r" b="b"/>
              <a:pathLst>
                <a:path w="5512819" h="1584176">
                  <a:moveTo>
                    <a:pt x="0" y="0"/>
                  </a:moveTo>
                  <a:lnTo>
                    <a:pt x="5184576" y="0"/>
                  </a:lnTo>
                  <a:lnTo>
                    <a:pt x="5184576" y="529601"/>
                  </a:lnTo>
                  <a:lnTo>
                    <a:pt x="5512819" y="761350"/>
                  </a:lnTo>
                  <a:lnTo>
                    <a:pt x="5184576" y="993099"/>
                  </a:lnTo>
                  <a:lnTo>
                    <a:pt x="5184576" y="1584176"/>
                  </a:lnTo>
                  <a:lnTo>
                    <a:pt x="528496" y="1584176"/>
                  </a:lnTo>
                  <a:lnTo>
                    <a:pt x="0" y="11750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8440">
              <a:solidFill>
                <a:srgbClr val="ffce33"/>
              </a:solidFill>
              <a:round/>
            </a:ln>
            <a:effectLst>
              <a:outerShdw dist="1260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62"/>
            <p:cNvSpPr/>
            <p:nvPr/>
          </p:nvSpPr>
          <p:spPr>
            <a:xfrm>
              <a:off x="878400" y="3624120"/>
              <a:ext cx="4126680" cy="35352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63"/>
            <p:cNvSpPr/>
            <p:nvPr/>
          </p:nvSpPr>
          <p:spPr>
            <a:xfrm>
              <a:off x="4062240" y="3663720"/>
              <a:ext cx="888120" cy="2739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64"/>
            <p:cNvSpPr/>
            <p:nvPr/>
          </p:nvSpPr>
          <p:spPr>
            <a:xfrm>
              <a:off x="811080" y="4038840"/>
              <a:ext cx="4227480" cy="0"/>
            </a:xfrm>
            <a:prstGeom prst="line">
              <a:avLst/>
            </a:prstGeom>
            <a:ln w="19080">
              <a:solidFill>
                <a:srgbClr val="b88c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椭圆 65"/>
          <p:cNvGrpSpPr/>
          <p:nvPr/>
        </p:nvGrpSpPr>
        <p:grpSpPr>
          <a:xfrm>
            <a:off x="5522760" y="4133880"/>
            <a:ext cx="176040" cy="169920"/>
            <a:chOff x="5522760" y="4133880"/>
            <a:chExt cx="176040" cy="169920"/>
          </a:xfrm>
        </p:grpSpPr>
        <p:pic>
          <p:nvPicPr>
            <p:cNvPr id="71" name="椭圆 65" descr=""/>
            <p:cNvPicPr/>
            <p:nvPr/>
          </p:nvPicPr>
          <p:blipFill>
            <a:blip r:embed="rId6"/>
            <a:stretch/>
          </p:blipFill>
          <p:spPr>
            <a:xfrm>
              <a:off x="5522760" y="4133880"/>
              <a:ext cx="1760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557680" y="416412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66"/>
          <p:cNvSpPr/>
          <p:nvPr/>
        </p:nvSpPr>
        <p:spPr>
          <a:xfrm>
            <a:off x="5707080" y="3876840"/>
            <a:ext cx="1008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ndara"/>
                <a:ea typeface="微软雅黑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7"/>
          <p:cNvSpPr/>
          <p:nvPr/>
        </p:nvSpPr>
        <p:spPr>
          <a:xfrm>
            <a:off x="755640" y="3608280"/>
            <a:ext cx="1595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Your</a:t>
            </a:r>
            <a:r>
              <a:rPr b="1" lang="en-US" sz="1800" spc="-1" strike="noStrike">
                <a:solidFill>
                  <a:srgbClr val="ffffff"/>
                </a:solidFill>
                <a:latin typeface="Agency FB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8"/>
          <p:cNvSpPr/>
          <p:nvPr/>
        </p:nvSpPr>
        <p:spPr>
          <a:xfrm>
            <a:off x="1065240" y="4065480"/>
            <a:ext cx="388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c3a00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69"/>
          <p:cNvGrpSpPr/>
          <p:nvPr/>
        </p:nvGrpSpPr>
        <p:grpSpPr>
          <a:xfrm>
            <a:off x="811080" y="5011560"/>
            <a:ext cx="4513320" cy="1297080"/>
            <a:chOff x="811080" y="5011560"/>
            <a:chExt cx="4513320" cy="1297080"/>
          </a:xfrm>
        </p:grpSpPr>
        <p:sp>
          <p:nvSpPr>
            <p:cNvPr id="77" name="矩形 1"/>
            <p:cNvSpPr/>
            <p:nvPr/>
          </p:nvSpPr>
          <p:spPr>
            <a:xfrm>
              <a:off x="811080" y="5011560"/>
              <a:ext cx="4513320" cy="1297080"/>
            </a:xfrm>
            <a:custGeom>
              <a:avLst/>
              <a:gdLst/>
              <a:ahLst/>
              <a:rect l="l" t="t" r="r" b="b"/>
              <a:pathLst>
                <a:path w="5512819" h="1584176">
                  <a:moveTo>
                    <a:pt x="0" y="0"/>
                  </a:moveTo>
                  <a:lnTo>
                    <a:pt x="5184576" y="0"/>
                  </a:lnTo>
                  <a:lnTo>
                    <a:pt x="5184576" y="529601"/>
                  </a:lnTo>
                  <a:lnTo>
                    <a:pt x="5512819" y="761350"/>
                  </a:lnTo>
                  <a:lnTo>
                    <a:pt x="5184576" y="993099"/>
                  </a:lnTo>
                  <a:lnTo>
                    <a:pt x="5184576" y="1584176"/>
                  </a:lnTo>
                  <a:lnTo>
                    <a:pt x="528496" y="1584176"/>
                  </a:lnTo>
                  <a:lnTo>
                    <a:pt x="0" y="11750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8440">
              <a:solidFill>
                <a:srgbClr val="ffce33"/>
              </a:solidFill>
              <a:round/>
            </a:ln>
            <a:effectLst>
              <a:outerShdw dist="1260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71"/>
            <p:cNvSpPr/>
            <p:nvPr/>
          </p:nvSpPr>
          <p:spPr>
            <a:xfrm>
              <a:off x="878400" y="5068440"/>
              <a:ext cx="4126680" cy="35352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矩形 72"/>
            <p:cNvSpPr/>
            <p:nvPr/>
          </p:nvSpPr>
          <p:spPr>
            <a:xfrm>
              <a:off x="4062240" y="5108040"/>
              <a:ext cx="888120" cy="2743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73"/>
            <p:cNvSpPr/>
            <p:nvPr/>
          </p:nvSpPr>
          <p:spPr>
            <a:xfrm>
              <a:off x="811080" y="5483160"/>
              <a:ext cx="4227480" cy="0"/>
            </a:xfrm>
            <a:prstGeom prst="line">
              <a:avLst/>
            </a:prstGeom>
            <a:ln w="19080">
              <a:solidFill>
                <a:srgbClr val="b88c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椭圆 74"/>
          <p:cNvGrpSpPr/>
          <p:nvPr/>
        </p:nvGrpSpPr>
        <p:grpSpPr>
          <a:xfrm>
            <a:off x="5522760" y="5578560"/>
            <a:ext cx="176040" cy="169920"/>
            <a:chOff x="5522760" y="5578560"/>
            <a:chExt cx="176040" cy="169920"/>
          </a:xfrm>
        </p:grpSpPr>
        <p:pic>
          <p:nvPicPr>
            <p:cNvPr id="82" name="椭圆 74" descr=""/>
            <p:cNvPicPr/>
            <p:nvPr/>
          </p:nvPicPr>
          <p:blipFill>
            <a:blip r:embed="rId8"/>
            <a:stretch/>
          </p:blipFill>
          <p:spPr>
            <a:xfrm>
              <a:off x="5522760" y="5578560"/>
              <a:ext cx="1760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557680" y="561024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Box 75"/>
          <p:cNvSpPr/>
          <p:nvPr/>
        </p:nvSpPr>
        <p:spPr>
          <a:xfrm>
            <a:off x="5707080" y="5321160"/>
            <a:ext cx="1008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ndara"/>
                <a:ea typeface="微软雅黑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6"/>
          <p:cNvSpPr/>
          <p:nvPr/>
        </p:nvSpPr>
        <p:spPr>
          <a:xfrm>
            <a:off x="755640" y="5052960"/>
            <a:ext cx="1595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Your</a:t>
            </a:r>
            <a:r>
              <a:rPr b="1" lang="en-US" sz="1800" spc="-1" strike="noStrike">
                <a:solidFill>
                  <a:srgbClr val="ffffff"/>
                </a:solidFill>
                <a:latin typeface="Agency FB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7"/>
          <p:cNvSpPr/>
          <p:nvPr/>
        </p:nvSpPr>
        <p:spPr>
          <a:xfrm>
            <a:off x="1065240" y="5511960"/>
            <a:ext cx="388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c3a00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54040" y="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间轴免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f7f7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D77-E4D6-4316-80F1-0C12998E87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51:1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53:30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IP等级">
    <vt:lpwstr>2</vt:lpwstr>
  </property>
  <property fmtid="{D5CDD505-2E9C-101B-9397-08002B2CF9AE}" pid="4" name="_模板ID">
    <vt:lpwstr/>
  </property>
  <property fmtid="{D5CDD505-2E9C-101B-9397-08002B2CF9AE}" pid="5" name="价格">
    <vt:lpwstr>40</vt:lpwstr>
  </property>
  <property fmtid="{D5CDD505-2E9C-101B-9397-08002B2CF9AE}" pid="6" name="使用说明">
    <vt:lpwstr>PPT单页幻灯片是没有母版的单张幻灯片，所有背景图片、装饰元素、图形、文本框等等元素都置于幻灯片中，用户可以通过直接插入到幻灯片文稿中，插入后所有元素都不会改变格式，用户仅需要修改文字即可。若不需要某些元素，请直接单击选择然后删除即可。</vt:lpwstr>
  </property>
  <property fmtid="{D5CDD505-2E9C-101B-9397-08002B2CF9AE}" pid="7" name="使用软件">
    <vt:lpwstr>ppt</vt:lpwstr>
  </property>
  <property fmtid="{D5CDD505-2E9C-101B-9397-08002B2CF9AE}" pid="8" name="关键字">
    <vt:lpwstr>PPT幻灯片 EN 并列列表 流程步骤 其他关系 文本 几何 图形 时间 时间线 黄 黄色 黑 黑色 分类 观点 分析 版式 排列 排版 4 装饰 陈述 说明 V2</vt:lpwstr>
  </property>
  <property fmtid="{D5CDD505-2E9C-101B-9397-08002B2CF9AE}" pid="9" name="操作代码">
    <vt:lpwstr>1</vt:lpwstr>
  </property>
  <property fmtid="{D5CDD505-2E9C-101B-9397-08002B2CF9AE}" pid="10" name="是否可购买">
    <vt:lpwstr>1</vt:lpwstr>
  </property>
  <property fmtid="{D5CDD505-2E9C-101B-9397-08002B2CF9AE}" pid="11" name="显示VIP等级">
    <vt:lpwstr>2</vt:lpwstr>
  </property>
  <property fmtid="{D5CDD505-2E9C-101B-9397-08002B2CF9AE}" pid="12" name="标题">
    <vt:lpwstr>时间线排列</vt:lpwstr>
  </property>
  <property fmtid="{D5CDD505-2E9C-101B-9397-08002B2CF9AE}" pid="13" name="模板ID">
    <vt:lpwstr>A30120130516A02</vt:lpwstr>
  </property>
  <property fmtid="{D5CDD505-2E9C-101B-9397-08002B2CF9AE}" pid="14" name="模板缩略图">
    <vt:lpwstr>A30120130516A02.png</vt:lpwstr>
  </property>
  <property fmtid="{D5CDD505-2E9C-101B-9397-08002B2CF9AE}" pid="15" name="相关案例">
    <vt:lpwstr>854</vt:lpwstr>
  </property>
  <property fmtid="{D5CDD505-2E9C-101B-9397-08002B2CF9AE}" pid="16" name="缩略图标题">
    <vt:lpwstr>时间线排列</vt:lpwstr>
  </property>
  <property fmtid="{D5CDD505-2E9C-101B-9397-08002B2CF9AE}" pid="17" name="适用软件">
    <vt:lpwstr>PowerPoint 2007及以上版本</vt:lpwstr>
  </property>
  <property fmtid="{D5CDD505-2E9C-101B-9397-08002B2CF9AE}" pid="18" name="附件ID">
    <vt:lpwstr>A30120130516A0201</vt:lpwstr>
  </property>
  <property fmtid="{D5CDD505-2E9C-101B-9397-08002B2CF9AE}" pid="19" name="附件缩略图">
    <vt:lpwstr>A30120130516A0201.png</vt:lpwstr>
  </property>
  <property fmtid="{D5CDD505-2E9C-101B-9397-08002B2CF9AE}" pid="20" name="附件路径">
    <vt:lpwstr>A30120130516A0201.pptx</vt:lpwstr>
  </property>
</Properties>
</file>