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AD3-46B9-40E3-ADEB-69041979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E62-BAC4-4AAE-9A6D-0E9622A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906-C17B-4A02-B338-7D1F2ED3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00A-0554-4369-AE5B-A2D35E05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49E-9503-46F1-9551-BBEAD5D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00C-B3AA-4ED8-8DBF-F03506D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DE3-DF12-4BAC-BF43-A9C91B21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E39-BFE4-4C5C-A3A0-10395C8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EFE-67AB-4B43-8B62-E7C1B7AB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F46-D895-4D62-8D68-B3E51885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E69-9B69-435B-865F-BF22F10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0CA-B5FE-417D-9A5A-5C27523B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0B4-0BA7-4CDC-BF7E-766528EA20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92F7-ED13-403B-860F-717A78863F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2900520" y="1123920"/>
            <a:ext cx="3111480" cy="4149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3348000" y="5734080"/>
            <a:ext cx="2602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7" descr=""/>
          <p:cNvPicPr/>
          <p:nvPr/>
        </p:nvPicPr>
        <p:blipFill>
          <a:blip r:embed="rId2"/>
          <a:stretch/>
        </p:blipFill>
        <p:spPr>
          <a:xfrm>
            <a:off x="179280" y="1339920"/>
            <a:ext cx="295596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3"/>
          <a:srcRect l="35434" t="17002" r="27162" b="31421"/>
          <a:stretch/>
        </p:blipFill>
        <p:spPr>
          <a:xfrm flipH="1">
            <a:off x="5549400" y="1844640"/>
            <a:ext cx="3419640" cy="314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012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D56-C07A-420B-8D7D-5160FB73E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8:15Z</dcterms:modified>
  <cp:revision>9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