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ECB-039B-4AE5-B888-B534DAD5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994-B770-4C93-A117-3A1A7630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37B-22F9-4528-999B-B273C3C6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D84-3F0D-4EA0-8452-BF608181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54B-A9B7-47DF-BDBA-426CEF08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565-029C-4F3D-8FB8-9AE272C7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E90-018A-4862-94F7-5C3B5A8B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45E-A444-4724-B391-52FD2C77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2592-84E9-46FB-8C56-F307EFD2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393-A0CE-4012-9DD0-756C97D0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5B6-918C-4D37-B6F7-8A2D1083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87E6-36FA-491A-9DFD-3F259F6A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Arial Narrow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 Narrow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 Narrow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 Narrow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45E008-7F87-4022-B6D2-77B400ECC5CC}" type="slidenum">
              <a:rPr b="0" lang="en-US" sz="1200" spc="-1" strike="noStrike">
                <a:solidFill>
                  <a:srgbClr val="8b8b8b"/>
                </a:solidFill>
                <a:latin typeface="Arial Narrow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72d6"/>
            </a:gs>
            <a:gs pos="100000">
              <a:srgbClr val="1ea2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663840" y="828000"/>
            <a:ext cx="254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  <a:ea typeface="微软雅黑"/>
              </a:rPr>
              <a:t>Sound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Narrow"/>
              <a:ea typeface="微软雅黑"/>
            </a:endParaRPr>
          </a:p>
        </p:txBody>
      </p:sp>
      <p:pic>
        <p:nvPicPr>
          <p:cNvPr id="43" name="图片 4" descr=""/>
          <p:cNvPicPr/>
          <p:nvPr/>
        </p:nvPicPr>
        <p:blipFill>
          <a:blip r:embed="rId1"/>
          <a:stretch/>
        </p:blipFill>
        <p:spPr>
          <a:xfrm>
            <a:off x="5421600" y="294120"/>
            <a:ext cx="6190920" cy="5486040"/>
          </a:xfrm>
          <a:prstGeom prst="rect">
            <a:avLst/>
          </a:prstGeom>
          <a:ln w="0">
            <a:noFill/>
          </a:ln>
          <a:effectLst>
            <a:reflection algn="bl" blurRad="6350" dir="5400000" endPos="26000" rotWithShape="0" stA="38000" sy="-100000"/>
          </a:effectLst>
        </p:spPr>
      </p:pic>
      <p:sp>
        <p:nvSpPr>
          <p:cNvPr id="44" name="文本框 5"/>
          <p:cNvSpPr/>
          <p:nvPr/>
        </p:nvSpPr>
        <p:spPr>
          <a:xfrm>
            <a:off x="627480" y="1413000"/>
            <a:ext cx="249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Eras Medium ITC"/>
                <a:ea typeface="微软雅黑"/>
              </a:rPr>
              <a:t>Start with heavy-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3380040" y="1812960"/>
            <a:ext cx="5501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微软雅黑"/>
              </a:rPr>
              <a:t>时尚数码产品展示通用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3000">
              <a:srgbClr val="f68f70"/>
            </a:gs>
            <a:gs pos="100000">
              <a:srgbClr val="f76f9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Narrow"/>
              <a:ea typeface="微软雅黑"/>
            </a:endParaRPr>
          </a:p>
        </p:txBody>
      </p:sp>
      <p:sp>
        <p:nvSpPr>
          <p:cNvPr id="48" name="文本框 5"/>
          <p:cNvSpPr/>
          <p:nvPr/>
        </p:nvSpPr>
        <p:spPr>
          <a:xfrm>
            <a:off x="663840" y="828000"/>
            <a:ext cx="254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  <a:ea typeface="微软雅黑"/>
              </a:rPr>
              <a:t>Sound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627480" y="1413000"/>
            <a:ext cx="249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Eras Medium ITC"/>
                <a:ea typeface="微软雅黑"/>
              </a:rPr>
              <a:t>Start with heavy-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8" descr=""/>
          <p:cNvPicPr/>
          <p:nvPr/>
        </p:nvPicPr>
        <p:blipFill>
          <a:blip r:embed="rId1"/>
          <a:stretch/>
        </p:blipFill>
        <p:spPr>
          <a:xfrm>
            <a:off x="5421600" y="294120"/>
            <a:ext cx="6190920" cy="5486040"/>
          </a:xfrm>
          <a:prstGeom prst="rect">
            <a:avLst/>
          </a:prstGeom>
          <a:ln w="0">
            <a:noFill/>
          </a:ln>
          <a:effectLst>
            <a:reflection algn="bl" blurRad="6350" dir="5400000" endPos="26000" rotWithShape="0" stA="38000" sy="-10000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3000">
              <a:srgbClr val="51357d"/>
            </a:gs>
            <a:gs pos="100000">
              <a:srgbClr val="7163b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Narrow"/>
              <a:ea typeface="微软雅黑"/>
            </a:endParaRPr>
          </a:p>
        </p:txBody>
      </p:sp>
      <p:sp>
        <p:nvSpPr>
          <p:cNvPr id="52" name="文本框 5"/>
          <p:cNvSpPr/>
          <p:nvPr/>
        </p:nvSpPr>
        <p:spPr>
          <a:xfrm>
            <a:off x="663840" y="828000"/>
            <a:ext cx="254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Eras Medium ITC"/>
                <a:ea typeface="微软雅黑"/>
              </a:rPr>
              <a:t>Sound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627480" y="1413000"/>
            <a:ext cx="249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Eras Medium ITC"/>
                <a:ea typeface="微软雅黑"/>
              </a:rPr>
              <a:t>Start with heavy-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8" descr=""/>
          <p:cNvPicPr/>
          <p:nvPr/>
        </p:nvPicPr>
        <p:blipFill>
          <a:blip r:embed="rId1"/>
          <a:stretch/>
        </p:blipFill>
        <p:spPr>
          <a:xfrm>
            <a:off x="5421600" y="294120"/>
            <a:ext cx="6190920" cy="5486040"/>
          </a:xfrm>
          <a:prstGeom prst="rect">
            <a:avLst/>
          </a:prstGeom>
          <a:ln w="0">
            <a:noFill/>
          </a:ln>
          <a:effectLst>
            <a:reflection algn="bl" blurRad="6350" dir="5400000" endPos="26000" rotWithShape="0" stA="38000" sy="-10000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3000">
              <a:srgbClr val="dfe5ed"/>
            </a:gs>
            <a:gs pos="100000">
              <a:srgbClr val="e7ecf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633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 Narrow"/>
              <a:ea typeface="微软雅黑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663840" y="828000"/>
            <a:ext cx="254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595959"/>
                </a:solidFill>
                <a:latin typeface="Eras Medium ITC"/>
                <a:ea typeface="微软雅黑"/>
              </a:rPr>
              <a:t>Sound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627480" y="1413000"/>
            <a:ext cx="249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595959"/>
                </a:solidFill>
                <a:latin typeface="Eras Medium ITC"/>
                <a:ea typeface="微软雅黑"/>
              </a:rPr>
              <a:t>Start with heavy-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8" descr=""/>
          <p:cNvPicPr/>
          <p:nvPr/>
        </p:nvPicPr>
        <p:blipFill>
          <a:blip r:embed="rId1"/>
          <a:stretch/>
        </p:blipFill>
        <p:spPr>
          <a:xfrm>
            <a:off x="5421600" y="294120"/>
            <a:ext cx="6190920" cy="5486040"/>
          </a:xfrm>
          <a:prstGeom prst="rect">
            <a:avLst/>
          </a:prstGeom>
          <a:ln w="0">
            <a:noFill/>
          </a:ln>
          <a:effectLst>
            <a:reflection algn="bl" blurRad="6350" dir="5400000" endPos="26000" rotWithShape="0" stA="38000" sy="-10000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Pink Shock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f15362"/>
      </a:accent1>
      <a:accent2>
        <a:srgbClr val="a63843"/>
      </a:accent2>
      <a:accent3>
        <a:srgbClr val="f2c2b3"/>
      </a:accent3>
      <a:accent4>
        <a:srgbClr val="a6857b"/>
      </a:accent4>
      <a:accent5>
        <a:srgbClr val="0d0d0d"/>
      </a:accent5>
      <a:accent6>
        <a:srgbClr val="f2f2f2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  <Words>34</Words>
  <Paragraphs>10</Paragraphs>
  <Company>MideaGrou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02:00:20Z</dcterms:created>
  <dc:creator>龙卉</dc:creator>
  <dc:description/>
  <dc:language>en-US</dc:language>
  <cp:lastModifiedBy>王玉清</cp:lastModifiedBy>
  <dcterms:modified xsi:type="dcterms:W3CDTF">2016-02-23T03:49:19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4</vt:r8>
  </property>
</Properties>
</file>