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376-882D-4B1C-AA46-9583F877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084-D010-41CD-921B-65B6C71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C07-5B67-4773-8B8F-1D021805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B2E-1220-42E2-AC43-8B412747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2DF-2E65-41FE-BA02-4E01D135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DE7-CEFA-4824-98C8-028A8EE1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A6AA-1A60-45D6-9DF7-A088B55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19C-9D8E-4842-8A05-0EBC3D6D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8E8-9196-4E62-BC0D-3BB77F29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341-B462-4990-A60C-94B83E7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B24-03FD-442A-B27C-113E8E3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887-FDE0-41FE-9ABF-E768B55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F5E41-ECDC-4B33-924F-2DBC35574E1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910160" y="1071720"/>
            <a:ext cx="13230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2709720" y="1143000"/>
            <a:ext cx="180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2070000" y="32796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韵动粗黑简体"/>
                <a:ea typeface="方正韵动粗黑简体"/>
              </a:rPr>
              <a:t>商务办公</a:t>
            </a: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通用</a:t>
            </a:r>
            <a:r>
              <a:rPr b="0" lang="en-US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韵动中黑简体"/>
                <a:ea typeface="方正韵动中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116"/>
          <p:cNvGrpSpPr/>
          <p:nvPr/>
        </p:nvGrpSpPr>
        <p:grpSpPr>
          <a:xfrm>
            <a:off x="511200" y="1857240"/>
            <a:ext cx="1688040" cy="3110400"/>
            <a:chOff x="511200" y="1857240"/>
            <a:chExt cx="1688040" cy="3110400"/>
          </a:xfrm>
        </p:grpSpPr>
        <p:sp>
          <p:nvSpPr>
            <p:cNvPr id="206" name="Rectangle 13 copy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矩形 31"/>
            <p:cNvSpPr/>
            <p:nvPr/>
          </p:nvSpPr>
          <p:spPr>
            <a:xfrm>
              <a:off x="51156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矩形 32"/>
            <p:cNvSpPr/>
            <p:nvPr/>
          </p:nvSpPr>
          <p:spPr>
            <a:xfrm>
              <a:off x="511560" y="1857240"/>
              <a:ext cx="168768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9" name="直接连接符 33"/>
            <p:cNvCxnSpPr/>
            <p:nvPr/>
          </p:nvCxnSpPr>
          <p:spPr>
            <a:xfrm>
              <a:off x="51120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10" name="组合 117"/>
          <p:cNvGrpSpPr/>
          <p:nvPr/>
        </p:nvGrpSpPr>
        <p:grpSpPr>
          <a:xfrm>
            <a:off x="1691280" y="2517480"/>
            <a:ext cx="104400" cy="398160"/>
            <a:chOff x="1691280" y="2517480"/>
            <a:chExt cx="104400" cy="398160"/>
          </a:xfrm>
        </p:grpSpPr>
        <p:grpSp>
          <p:nvGrpSpPr>
            <p:cNvPr id="211" name="组合 125"/>
            <p:cNvGrpSpPr/>
            <p:nvPr/>
          </p:nvGrpSpPr>
          <p:grpSpPr>
            <a:xfrm>
              <a:off x="1691280" y="2517480"/>
              <a:ext cx="104400" cy="195840"/>
              <a:chOff x="1691280" y="2517480"/>
              <a:chExt cx="104400" cy="195840"/>
            </a:xfrm>
          </p:grpSpPr>
          <p:sp>
            <p:nvSpPr>
              <p:cNvPr id="212" name="椭圆 28"/>
              <p:cNvSpPr/>
              <p:nvPr/>
            </p:nvSpPr>
            <p:spPr>
              <a:xfrm>
                <a:off x="169128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3" name="直接连接符 29"/>
              <p:cNvCxnSpPr/>
              <p:nvPr/>
            </p:nvCxnSpPr>
            <p:spPr>
              <a:xfrm flipH="1">
                <a:off x="174240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14" name="组合 126"/>
            <p:cNvGrpSpPr/>
            <p:nvPr/>
          </p:nvGrpSpPr>
          <p:grpSpPr>
            <a:xfrm>
              <a:off x="1691280" y="2720160"/>
              <a:ext cx="104400" cy="195480"/>
              <a:chOff x="1691280" y="2720160"/>
              <a:chExt cx="104400" cy="195480"/>
            </a:xfrm>
          </p:grpSpPr>
          <p:sp>
            <p:nvSpPr>
              <p:cNvPr id="215" name="椭圆 26"/>
              <p:cNvSpPr/>
              <p:nvPr/>
            </p:nvSpPr>
            <p:spPr>
              <a:xfrm flipV="1">
                <a:off x="169128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16" name="直接连接符 27"/>
              <p:cNvCxnSpPr/>
              <p:nvPr/>
            </p:nvCxnSpPr>
            <p:spPr>
              <a:xfrm flipH="1" flipV="1">
                <a:off x="174240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17" name="组合 118"/>
          <p:cNvGrpSpPr/>
          <p:nvPr/>
        </p:nvGrpSpPr>
        <p:grpSpPr>
          <a:xfrm>
            <a:off x="918720" y="2520720"/>
            <a:ext cx="104400" cy="398520"/>
            <a:chOff x="918720" y="2520720"/>
            <a:chExt cx="104400" cy="398520"/>
          </a:xfrm>
        </p:grpSpPr>
        <p:grpSp>
          <p:nvGrpSpPr>
            <p:cNvPr id="218" name="组合 119"/>
            <p:cNvGrpSpPr/>
            <p:nvPr/>
          </p:nvGrpSpPr>
          <p:grpSpPr>
            <a:xfrm>
              <a:off x="918720" y="2520720"/>
              <a:ext cx="104400" cy="195840"/>
              <a:chOff x="918720" y="2520720"/>
              <a:chExt cx="104400" cy="195840"/>
            </a:xfrm>
          </p:grpSpPr>
          <p:sp>
            <p:nvSpPr>
              <p:cNvPr id="219" name="椭圆 22"/>
              <p:cNvSpPr/>
              <p:nvPr/>
            </p:nvSpPr>
            <p:spPr>
              <a:xfrm>
                <a:off x="91872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0" name="直接连接符 23"/>
              <p:cNvCxnSpPr/>
              <p:nvPr/>
            </p:nvCxnSpPr>
            <p:spPr>
              <a:xfrm flipH="1">
                <a:off x="96984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21" name="组合 120"/>
            <p:cNvGrpSpPr/>
            <p:nvPr/>
          </p:nvGrpSpPr>
          <p:grpSpPr>
            <a:xfrm>
              <a:off x="918720" y="2723400"/>
              <a:ext cx="104400" cy="195840"/>
              <a:chOff x="918720" y="2723400"/>
              <a:chExt cx="104400" cy="195840"/>
            </a:xfrm>
          </p:grpSpPr>
          <p:sp>
            <p:nvSpPr>
              <p:cNvPr id="222" name="椭圆 20"/>
              <p:cNvSpPr/>
              <p:nvPr/>
            </p:nvSpPr>
            <p:spPr>
              <a:xfrm flipV="1">
                <a:off x="91872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23" name="直接连接符 21"/>
              <p:cNvCxnSpPr/>
              <p:nvPr/>
            </p:nvCxnSpPr>
            <p:spPr>
              <a:xfrm flipH="1" flipV="1">
                <a:off x="96984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24" name="组合 96"/>
          <p:cNvGrpSpPr/>
          <p:nvPr/>
        </p:nvGrpSpPr>
        <p:grpSpPr>
          <a:xfrm>
            <a:off x="2660040" y="1857240"/>
            <a:ext cx="1688040" cy="3110400"/>
            <a:chOff x="2660040" y="1857240"/>
            <a:chExt cx="1688040" cy="3110400"/>
          </a:xfrm>
        </p:grpSpPr>
        <p:sp>
          <p:nvSpPr>
            <p:cNvPr id="225" name="Rectangle 13 copy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6" name="矩形 55"/>
            <p:cNvSpPr/>
            <p:nvPr/>
          </p:nvSpPr>
          <p:spPr>
            <a:xfrm>
              <a:off x="266004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27" name="矩形 56"/>
            <p:cNvSpPr/>
            <p:nvPr/>
          </p:nvSpPr>
          <p:spPr>
            <a:xfrm>
              <a:off x="266004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28" name="直接连接符 57"/>
            <p:cNvCxnSpPr/>
            <p:nvPr/>
          </p:nvCxnSpPr>
          <p:spPr>
            <a:xfrm>
              <a:off x="266004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29" name="组合 97"/>
          <p:cNvGrpSpPr/>
          <p:nvPr/>
        </p:nvGrpSpPr>
        <p:grpSpPr>
          <a:xfrm>
            <a:off x="3840120" y="2517480"/>
            <a:ext cx="104400" cy="398160"/>
            <a:chOff x="3840120" y="2517480"/>
            <a:chExt cx="104400" cy="398160"/>
          </a:xfrm>
        </p:grpSpPr>
        <p:grpSp>
          <p:nvGrpSpPr>
            <p:cNvPr id="230" name="组合 105"/>
            <p:cNvGrpSpPr/>
            <p:nvPr/>
          </p:nvGrpSpPr>
          <p:grpSpPr>
            <a:xfrm>
              <a:off x="3840120" y="2517480"/>
              <a:ext cx="104400" cy="195840"/>
              <a:chOff x="3840120" y="2517480"/>
              <a:chExt cx="104400" cy="195840"/>
            </a:xfrm>
          </p:grpSpPr>
          <p:sp>
            <p:nvSpPr>
              <p:cNvPr id="231" name="椭圆 52"/>
              <p:cNvSpPr/>
              <p:nvPr/>
            </p:nvSpPr>
            <p:spPr>
              <a:xfrm>
                <a:off x="38401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2" name="直接连接符 53"/>
              <p:cNvCxnSpPr/>
              <p:nvPr/>
            </p:nvCxnSpPr>
            <p:spPr>
              <a:xfrm flipH="1">
                <a:off x="38908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33" name="组合 106"/>
            <p:cNvGrpSpPr/>
            <p:nvPr/>
          </p:nvGrpSpPr>
          <p:grpSpPr>
            <a:xfrm>
              <a:off x="3840120" y="2720160"/>
              <a:ext cx="104400" cy="195480"/>
              <a:chOff x="3840120" y="2720160"/>
              <a:chExt cx="104400" cy="195480"/>
            </a:xfrm>
          </p:grpSpPr>
          <p:sp>
            <p:nvSpPr>
              <p:cNvPr id="234" name="椭圆 50"/>
              <p:cNvSpPr/>
              <p:nvPr/>
            </p:nvSpPr>
            <p:spPr>
              <a:xfrm flipV="1">
                <a:off x="38401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5" name="直接连接符 51"/>
              <p:cNvCxnSpPr/>
              <p:nvPr/>
            </p:nvCxnSpPr>
            <p:spPr>
              <a:xfrm flipH="1" flipV="1">
                <a:off x="38908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36" name="组合 98"/>
          <p:cNvGrpSpPr/>
          <p:nvPr/>
        </p:nvGrpSpPr>
        <p:grpSpPr>
          <a:xfrm>
            <a:off x="3067560" y="2520720"/>
            <a:ext cx="104400" cy="398520"/>
            <a:chOff x="3067560" y="2520720"/>
            <a:chExt cx="104400" cy="398520"/>
          </a:xfrm>
        </p:grpSpPr>
        <p:grpSp>
          <p:nvGrpSpPr>
            <p:cNvPr id="237" name="组合 99"/>
            <p:cNvGrpSpPr/>
            <p:nvPr/>
          </p:nvGrpSpPr>
          <p:grpSpPr>
            <a:xfrm>
              <a:off x="3067560" y="2520720"/>
              <a:ext cx="104400" cy="195840"/>
              <a:chOff x="3067560" y="2520720"/>
              <a:chExt cx="104400" cy="195840"/>
            </a:xfrm>
          </p:grpSpPr>
          <p:sp>
            <p:nvSpPr>
              <p:cNvPr id="238" name="椭圆 46"/>
              <p:cNvSpPr/>
              <p:nvPr/>
            </p:nvSpPr>
            <p:spPr>
              <a:xfrm>
                <a:off x="306756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39" name="直接连接符 47"/>
              <p:cNvCxnSpPr/>
              <p:nvPr/>
            </p:nvCxnSpPr>
            <p:spPr>
              <a:xfrm flipH="1">
                <a:off x="3118320" y="262548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40" name="组合 100"/>
            <p:cNvGrpSpPr/>
            <p:nvPr/>
          </p:nvGrpSpPr>
          <p:grpSpPr>
            <a:xfrm>
              <a:off x="3067560" y="2723400"/>
              <a:ext cx="104400" cy="195840"/>
              <a:chOff x="3067560" y="2723400"/>
              <a:chExt cx="104400" cy="195840"/>
            </a:xfrm>
          </p:grpSpPr>
          <p:sp>
            <p:nvSpPr>
              <p:cNvPr id="241" name="椭圆 44"/>
              <p:cNvSpPr/>
              <p:nvPr/>
            </p:nvSpPr>
            <p:spPr>
              <a:xfrm flipV="1">
                <a:off x="306756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42" name="直接连接符 45"/>
              <p:cNvCxnSpPr/>
              <p:nvPr/>
            </p:nvCxnSpPr>
            <p:spPr>
              <a:xfrm flipH="1" flipV="1">
                <a:off x="3118320" y="272340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43" name="组合 76"/>
          <p:cNvGrpSpPr/>
          <p:nvPr/>
        </p:nvGrpSpPr>
        <p:grpSpPr>
          <a:xfrm>
            <a:off x="4807080" y="1857240"/>
            <a:ext cx="1688400" cy="3110400"/>
            <a:chOff x="4807080" y="1857240"/>
            <a:chExt cx="1688400" cy="3110400"/>
          </a:xfrm>
        </p:grpSpPr>
        <p:sp>
          <p:nvSpPr>
            <p:cNvPr id="244" name="Rectangle 13 copy"/>
            <p:cNvSpPr/>
            <p:nvPr/>
          </p:nvSpPr>
          <p:spPr>
            <a:xfrm>
              <a:off x="4807440" y="1857240"/>
              <a:ext cx="168768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矩形 79"/>
            <p:cNvSpPr/>
            <p:nvPr/>
          </p:nvSpPr>
          <p:spPr>
            <a:xfrm>
              <a:off x="4807440" y="1857240"/>
              <a:ext cx="1688040" cy="311040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矩形 80"/>
            <p:cNvSpPr/>
            <p:nvPr/>
          </p:nvSpPr>
          <p:spPr>
            <a:xfrm>
              <a:off x="4807440" y="1857240"/>
              <a:ext cx="1688040" cy="862560"/>
            </a:xfrm>
            <a:prstGeom prst="rect">
              <a:avLst/>
            </a:prstGeom>
            <a:solidFill>
              <a:srgbClr val="1f1d50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47" name="直接连接符 81"/>
            <p:cNvCxnSpPr/>
            <p:nvPr/>
          </p:nvCxnSpPr>
          <p:spPr>
            <a:xfrm>
              <a:off x="4807080" y="2719800"/>
              <a:ext cx="168840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48" name="组合 77"/>
          <p:cNvGrpSpPr/>
          <p:nvPr/>
        </p:nvGrpSpPr>
        <p:grpSpPr>
          <a:xfrm>
            <a:off x="5987520" y="2517480"/>
            <a:ext cx="104400" cy="398160"/>
            <a:chOff x="5987520" y="2517480"/>
            <a:chExt cx="104400" cy="398160"/>
          </a:xfrm>
        </p:grpSpPr>
        <p:grpSp>
          <p:nvGrpSpPr>
            <p:cNvPr id="249" name="组合 85"/>
            <p:cNvGrpSpPr/>
            <p:nvPr/>
          </p:nvGrpSpPr>
          <p:grpSpPr>
            <a:xfrm>
              <a:off x="5987520" y="2517480"/>
              <a:ext cx="104400" cy="195840"/>
              <a:chOff x="5987520" y="2517480"/>
              <a:chExt cx="104400" cy="195840"/>
            </a:xfrm>
          </p:grpSpPr>
          <p:sp>
            <p:nvSpPr>
              <p:cNvPr id="250" name="椭圆 76"/>
              <p:cNvSpPr/>
              <p:nvPr/>
            </p:nvSpPr>
            <p:spPr>
              <a:xfrm>
                <a:off x="598752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1" name="直接连接符 77"/>
              <p:cNvCxnSpPr/>
              <p:nvPr/>
            </p:nvCxnSpPr>
            <p:spPr>
              <a:xfrm flipH="1">
                <a:off x="6038280" y="2621880"/>
                <a:ext cx="180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2" name="组合 86"/>
            <p:cNvGrpSpPr/>
            <p:nvPr/>
          </p:nvGrpSpPr>
          <p:grpSpPr>
            <a:xfrm>
              <a:off x="5987520" y="2720160"/>
              <a:ext cx="104400" cy="195480"/>
              <a:chOff x="5987520" y="2720160"/>
              <a:chExt cx="104400" cy="195480"/>
            </a:xfrm>
          </p:grpSpPr>
          <p:sp>
            <p:nvSpPr>
              <p:cNvPr id="253" name="椭圆 74"/>
              <p:cNvSpPr/>
              <p:nvPr/>
            </p:nvSpPr>
            <p:spPr>
              <a:xfrm flipV="1">
                <a:off x="598752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4" name="直接连接符 75"/>
              <p:cNvCxnSpPr/>
              <p:nvPr/>
            </p:nvCxnSpPr>
            <p:spPr>
              <a:xfrm flipH="1" flipV="1">
                <a:off x="6038280" y="2720160"/>
                <a:ext cx="180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55" name="组合 78"/>
          <p:cNvGrpSpPr/>
          <p:nvPr/>
        </p:nvGrpSpPr>
        <p:grpSpPr>
          <a:xfrm>
            <a:off x="5214600" y="2520720"/>
            <a:ext cx="104400" cy="398520"/>
            <a:chOff x="5214600" y="2520720"/>
            <a:chExt cx="104400" cy="398520"/>
          </a:xfrm>
        </p:grpSpPr>
        <p:grpSp>
          <p:nvGrpSpPr>
            <p:cNvPr id="256" name="组合 79"/>
            <p:cNvGrpSpPr/>
            <p:nvPr/>
          </p:nvGrpSpPr>
          <p:grpSpPr>
            <a:xfrm>
              <a:off x="5214600" y="2520720"/>
              <a:ext cx="104400" cy="195840"/>
              <a:chOff x="5214600" y="2520720"/>
              <a:chExt cx="104400" cy="195840"/>
            </a:xfrm>
          </p:grpSpPr>
          <p:sp>
            <p:nvSpPr>
              <p:cNvPr id="257" name="椭圆 70"/>
              <p:cNvSpPr/>
              <p:nvPr/>
            </p:nvSpPr>
            <p:spPr>
              <a:xfrm>
                <a:off x="521460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58" name="直接连接符 71"/>
              <p:cNvCxnSpPr/>
              <p:nvPr/>
            </p:nvCxnSpPr>
            <p:spPr>
              <a:xfrm flipH="1">
                <a:off x="526572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59" name="组合 80"/>
            <p:cNvGrpSpPr/>
            <p:nvPr/>
          </p:nvGrpSpPr>
          <p:grpSpPr>
            <a:xfrm>
              <a:off x="5214600" y="2723400"/>
              <a:ext cx="104400" cy="195840"/>
              <a:chOff x="5214600" y="2723400"/>
              <a:chExt cx="104400" cy="195840"/>
            </a:xfrm>
          </p:grpSpPr>
          <p:sp>
            <p:nvSpPr>
              <p:cNvPr id="260" name="椭圆 68"/>
              <p:cNvSpPr/>
              <p:nvPr/>
            </p:nvSpPr>
            <p:spPr>
              <a:xfrm flipV="1">
                <a:off x="521460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61" name="直接连接符 69"/>
              <p:cNvCxnSpPr/>
              <p:nvPr/>
            </p:nvCxnSpPr>
            <p:spPr>
              <a:xfrm flipH="1" flipV="1">
                <a:off x="526572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62" name="组合 22"/>
          <p:cNvGrpSpPr/>
          <p:nvPr/>
        </p:nvGrpSpPr>
        <p:grpSpPr>
          <a:xfrm>
            <a:off x="6955560" y="1857240"/>
            <a:ext cx="1688400" cy="3110400"/>
            <a:chOff x="6955560" y="1857240"/>
            <a:chExt cx="1688400" cy="3110400"/>
          </a:xfrm>
        </p:grpSpPr>
        <p:sp>
          <p:nvSpPr>
            <p:cNvPr id="263" name="Rectangle 13 copy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outerShdw algn="tl" blurRad="76320" dir="27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矩形 103"/>
            <p:cNvSpPr/>
            <p:nvPr/>
          </p:nvSpPr>
          <p:spPr>
            <a:xfrm>
              <a:off x="6955920" y="1857240"/>
              <a:ext cx="1687680" cy="311040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81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265" name="矩形 104"/>
            <p:cNvSpPr/>
            <p:nvPr/>
          </p:nvSpPr>
          <p:spPr>
            <a:xfrm>
              <a:off x="6955920" y="1857240"/>
              <a:ext cx="1687680" cy="862560"/>
            </a:xfrm>
            <a:prstGeom prst="rect">
              <a:avLst/>
            </a:prstGeom>
            <a:solidFill>
              <a:srgbClr val="75747e"/>
            </a:solidFill>
            <a:ln>
              <a:noFill/>
            </a:ln>
            <a:effectLst>
              <a:innerShdw blurRad="152400" dir="18900000" dist="38100">
                <a:schemeClr val="accent1">
                  <a:lumMod val="50000"/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66" name="直接连接符 105"/>
            <p:cNvCxnSpPr/>
            <p:nvPr/>
          </p:nvCxnSpPr>
          <p:spPr>
            <a:xfrm>
              <a:off x="6955560" y="2719800"/>
              <a:ext cx="1688760" cy="360"/>
            </a:xfrm>
            <a:prstGeom prst="straightConnector1">
              <a:avLst/>
            </a:prstGeom>
            <a:ln w="25400">
              <a:solidFill>
                <a:srgbClr val="ffffff"/>
              </a:solidFill>
              <a:round/>
            </a:ln>
          </p:spPr>
        </p:cxnSp>
      </p:grpSp>
      <p:grpSp>
        <p:nvGrpSpPr>
          <p:cNvPr id="267" name="组合 46"/>
          <p:cNvGrpSpPr/>
          <p:nvPr/>
        </p:nvGrpSpPr>
        <p:grpSpPr>
          <a:xfrm>
            <a:off x="8135640" y="2517480"/>
            <a:ext cx="104400" cy="398160"/>
            <a:chOff x="8135640" y="2517480"/>
            <a:chExt cx="104400" cy="398160"/>
          </a:xfrm>
        </p:grpSpPr>
        <p:grpSp>
          <p:nvGrpSpPr>
            <p:cNvPr id="268" name="组合 42"/>
            <p:cNvGrpSpPr/>
            <p:nvPr/>
          </p:nvGrpSpPr>
          <p:grpSpPr>
            <a:xfrm>
              <a:off x="8135640" y="2517480"/>
              <a:ext cx="104400" cy="195840"/>
              <a:chOff x="8135640" y="2517480"/>
              <a:chExt cx="104400" cy="195840"/>
            </a:xfrm>
          </p:grpSpPr>
          <p:sp>
            <p:nvSpPr>
              <p:cNvPr id="269" name="椭圆 100"/>
              <p:cNvSpPr/>
              <p:nvPr/>
            </p:nvSpPr>
            <p:spPr>
              <a:xfrm>
                <a:off x="8135640" y="251748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0" name="直接连接符 40"/>
              <p:cNvCxnSpPr/>
              <p:nvPr/>
            </p:nvCxnSpPr>
            <p:spPr>
              <a:xfrm flipH="1">
                <a:off x="8186760" y="2621880"/>
                <a:ext cx="1440" cy="9180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1" name="组合 43"/>
            <p:cNvGrpSpPr/>
            <p:nvPr/>
          </p:nvGrpSpPr>
          <p:grpSpPr>
            <a:xfrm>
              <a:off x="8135640" y="2720160"/>
              <a:ext cx="104400" cy="195480"/>
              <a:chOff x="8135640" y="2720160"/>
              <a:chExt cx="104400" cy="195480"/>
            </a:xfrm>
          </p:grpSpPr>
          <p:sp>
            <p:nvSpPr>
              <p:cNvPr id="272" name="椭圆 98"/>
              <p:cNvSpPr/>
              <p:nvPr/>
            </p:nvSpPr>
            <p:spPr>
              <a:xfrm flipV="1">
                <a:off x="8135640" y="28112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3" name="直接连接符 99"/>
              <p:cNvCxnSpPr/>
              <p:nvPr/>
            </p:nvCxnSpPr>
            <p:spPr>
              <a:xfrm flipH="1" flipV="1">
                <a:off x="8186760" y="272016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grpSp>
        <p:nvGrpSpPr>
          <p:cNvPr id="274" name="组合 47"/>
          <p:cNvGrpSpPr/>
          <p:nvPr/>
        </p:nvGrpSpPr>
        <p:grpSpPr>
          <a:xfrm>
            <a:off x="7363080" y="2520720"/>
            <a:ext cx="104400" cy="398520"/>
            <a:chOff x="7363080" y="2520720"/>
            <a:chExt cx="104400" cy="398520"/>
          </a:xfrm>
        </p:grpSpPr>
        <p:grpSp>
          <p:nvGrpSpPr>
            <p:cNvPr id="275" name="组合 48"/>
            <p:cNvGrpSpPr/>
            <p:nvPr/>
          </p:nvGrpSpPr>
          <p:grpSpPr>
            <a:xfrm>
              <a:off x="7363080" y="2520720"/>
              <a:ext cx="104400" cy="195840"/>
              <a:chOff x="7363080" y="2520720"/>
              <a:chExt cx="104400" cy="195840"/>
            </a:xfrm>
          </p:grpSpPr>
          <p:sp>
            <p:nvSpPr>
              <p:cNvPr id="276" name="椭圆 94"/>
              <p:cNvSpPr/>
              <p:nvPr/>
            </p:nvSpPr>
            <p:spPr>
              <a:xfrm>
                <a:off x="7363080" y="252072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77" name="直接连接符 95"/>
              <p:cNvCxnSpPr/>
              <p:nvPr/>
            </p:nvCxnSpPr>
            <p:spPr>
              <a:xfrm flipH="1">
                <a:off x="7414200" y="262548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  <p:grpSp>
          <p:nvGrpSpPr>
            <p:cNvPr id="278" name="组合 49"/>
            <p:cNvGrpSpPr/>
            <p:nvPr/>
          </p:nvGrpSpPr>
          <p:grpSpPr>
            <a:xfrm>
              <a:off x="7363080" y="2723400"/>
              <a:ext cx="104400" cy="195840"/>
              <a:chOff x="7363080" y="2723400"/>
              <a:chExt cx="104400" cy="195840"/>
            </a:xfrm>
          </p:grpSpPr>
          <p:sp>
            <p:nvSpPr>
              <p:cNvPr id="279" name="椭圆 50"/>
              <p:cNvSpPr/>
              <p:nvPr/>
            </p:nvSpPr>
            <p:spPr>
              <a:xfrm flipV="1">
                <a:off x="7363080" y="2814840"/>
                <a:ext cx="104400" cy="1044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cxnSp>
            <p:nvCxnSpPr>
              <p:cNvPr id="280" name="直接连接符 51"/>
              <p:cNvCxnSpPr/>
              <p:nvPr/>
            </p:nvCxnSpPr>
            <p:spPr>
              <a:xfrm flipH="1" flipV="1">
                <a:off x="7414200" y="2723400"/>
                <a:ext cx="1440" cy="91440"/>
              </a:xfrm>
              <a:prstGeom prst="straightConnector1">
                <a:avLst/>
              </a:prstGeom>
              <a:ln w="22225">
                <a:solidFill>
                  <a:srgbClr val="ffffff"/>
                </a:solidFill>
                <a:round/>
              </a:ln>
            </p:spPr>
          </p:cxnSp>
        </p:grpSp>
      </p:grpSp>
      <p:sp>
        <p:nvSpPr>
          <p:cNvPr id="2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2"/>
          <p:cNvSpPr/>
          <p:nvPr/>
        </p:nvSpPr>
        <p:spPr>
          <a:xfrm>
            <a:off x="2997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3"/>
          <p:cNvSpPr/>
          <p:nvPr/>
        </p:nvSpPr>
        <p:spPr>
          <a:xfrm>
            <a:off x="7283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4"/>
          <p:cNvSpPr/>
          <p:nvPr/>
        </p:nvSpPr>
        <p:spPr>
          <a:xfrm>
            <a:off x="5140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5"/>
          <p:cNvSpPr/>
          <p:nvPr/>
        </p:nvSpPr>
        <p:spPr>
          <a:xfrm>
            <a:off x="85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任意多边形 30"/>
          <p:cNvSpPr/>
          <p:nvPr/>
        </p:nvSpPr>
        <p:spPr>
          <a:xfrm>
            <a:off x="3000240" y="1428840"/>
            <a:ext cx="713880" cy="3733560"/>
          </a:xfrm>
          <a:custGeom>
            <a:avLst/>
            <a:gdLst>
              <a:gd name="textAreaLeft" fmla="*/ 0 w 713880"/>
              <a:gd name="textAreaRight" fmla="*/ 714240 w 71388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1099186" h="5745390">
                <a:moveTo>
                  <a:pt x="549591" y="4513539"/>
                </a:moveTo>
                <a:lnTo>
                  <a:pt x="150867" y="4912263"/>
                </a:lnTo>
                <a:lnTo>
                  <a:pt x="549591" y="5310987"/>
                </a:lnTo>
                <a:lnTo>
                  <a:pt x="948316" y="4912263"/>
                </a:lnTo>
                <a:close/>
                <a:moveTo>
                  <a:pt x="549591" y="3207979"/>
                </a:moveTo>
                <a:lnTo>
                  <a:pt x="150868" y="3606703"/>
                </a:lnTo>
                <a:lnTo>
                  <a:pt x="549591" y="4005426"/>
                </a:lnTo>
                <a:lnTo>
                  <a:pt x="948316" y="3606703"/>
                </a:lnTo>
                <a:close/>
                <a:moveTo>
                  <a:pt x="543607" y="1908402"/>
                </a:moveTo>
                <a:lnTo>
                  <a:pt x="150866" y="2301140"/>
                </a:lnTo>
                <a:lnTo>
                  <a:pt x="549591" y="2699864"/>
                </a:lnTo>
                <a:lnTo>
                  <a:pt x="948314" y="2301141"/>
                </a:lnTo>
                <a:lnTo>
                  <a:pt x="555575" y="1908402"/>
                </a:lnTo>
                <a:close/>
                <a:moveTo>
                  <a:pt x="555188" y="602456"/>
                </a:moveTo>
                <a:lnTo>
                  <a:pt x="543993" y="602456"/>
                </a:lnTo>
                <a:lnTo>
                  <a:pt x="150866" y="995581"/>
                </a:lnTo>
                <a:lnTo>
                  <a:pt x="537098" y="1381812"/>
                </a:lnTo>
                <a:lnTo>
                  <a:pt x="562083" y="1381813"/>
                </a:lnTo>
                <a:lnTo>
                  <a:pt x="948315" y="995581"/>
                </a:lnTo>
                <a:close/>
                <a:moveTo>
                  <a:pt x="488633" y="0"/>
                </a:moveTo>
                <a:lnTo>
                  <a:pt x="610553" y="0"/>
                </a:lnTo>
                <a:lnTo>
                  <a:pt x="610553" y="506950"/>
                </a:lnTo>
                <a:lnTo>
                  <a:pt x="1099185" y="995582"/>
                </a:lnTo>
                <a:lnTo>
                  <a:pt x="611505" y="1483262"/>
                </a:lnTo>
                <a:lnTo>
                  <a:pt x="611504" y="1813461"/>
                </a:lnTo>
                <a:lnTo>
                  <a:pt x="1099185" y="2301142"/>
                </a:lnTo>
                <a:lnTo>
                  <a:pt x="611504" y="2788822"/>
                </a:lnTo>
                <a:lnTo>
                  <a:pt x="611504" y="3119022"/>
                </a:lnTo>
                <a:lnTo>
                  <a:pt x="1099186" y="3606703"/>
                </a:lnTo>
                <a:lnTo>
                  <a:pt x="611504" y="4094384"/>
                </a:lnTo>
                <a:lnTo>
                  <a:pt x="611505" y="4424583"/>
                </a:lnTo>
                <a:lnTo>
                  <a:pt x="1099185" y="4912263"/>
                </a:lnTo>
                <a:lnTo>
                  <a:pt x="611505" y="5399943"/>
                </a:lnTo>
                <a:lnTo>
                  <a:pt x="611505" y="5745390"/>
                </a:lnTo>
                <a:lnTo>
                  <a:pt x="487680" y="5745390"/>
                </a:lnTo>
                <a:lnTo>
                  <a:pt x="487680" y="5399941"/>
                </a:lnTo>
                <a:lnTo>
                  <a:pt x="1" y="4912263"/>
                </a:lnTo>
                <a:lnTo>
                  <a:pt x="487679" y="4424585"/>
                </a:lnTo>
                <a:lnTo>
                  <a:pt x="487679" y="4094381"/>
                </a:lnTo>
                <a:lnTo>
                  <a:pt x="2" y="3606703"/>
                </a:lnTo>
                <a:lnTo>
                  <a:pt x="487679" y="3119026"/>
                </a:lnTo>
                <a:lnTo>
                  <a:pt x="487679" y="2788821"/>
                </a:lnTo>
                <a:lnTo>
                  <a:pt x="0" y="2301142"/>
                </a:lnTo>
                <a:lnTo>
                  <a:pt x="487680" y="1813463"/>
                </a:lnTo>
                <a:lnTo>
                  <a:pt x="487680" y="1483261"/>
                </a:lnTo>
                <a:lnTo>
                  <a:pt x="0" y="995582"/>
                </a:lnTo>
                <a:lnTo>
                  <a:pt x="488633" y="506950"/>
                </a:lnTo>
                <a:close/>
              </a:path>
            </a:pathLst>
          </a:custGeom>
          <a:solidFill>
            <a:srgbClr val="1f1d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燕尾形 31"/>
          <p:cNvSpPr/>
          <p:nvPr/>
        </p:nvSpPr>
        <p:spPr>
          <a:xfrm>
            <a:off x="3643200" y="185724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" name="燕尾形 32"/>
          <p:cNvSpPr/>
          <p:nvPr/>
        </p:nvSpPr>
        <p:spPr>
          <a:xfrm>
            <a:off x="3643200" y="271476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" name="燕尾形 33"/>
          <p:cNvSpPr/>
          <p:nvPr/>
        </p:nvSpPr>
        <p:spPr>
          <a:xfrm>
            <a:off x="3643200" y="357192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0" name="燕尾形 34"/>
          <p:cNvSpPr/>
          <p:nvPr/>
        </p:nvSpPr>
        <p:spPr>
          <a:xfrm>
            <a:off x="3643200" y="4429080"/>
            <a:ext cx="2999880" cy="428400"/>
          </a:xfrm>
          <a:prstGeom prst="chevron">
            <a:avLst>
              <a:gd name="adj" fmla="val 50000"/>
            </a:avLst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1356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4989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49748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49748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 rot="16200000">
            <a:off x="383400" y="2903040"/>
            <a:ext cx="36396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080" rIns="10080" tIns="10080" bIns="1008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9748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154520 h 3233520"/>
            </a:gdLst>
            <a:ahLst/>
            <a:rect l="textAreaLeft" t="textAreaTop" r="textAreaRight" b="textAreaBottom"/>
            <a:pathLst>
              <a:path w="21600" h="21600">
                <a:moveTo>
                  <a:pt x="1002" y="10800"/>
                </a:moveTo>
                <a:cubicBezTo>
                  <a:pt x="1002" y="5388"/>
                  <a:pt x="5388" y="1002"/>
                  <a:pt x="10800" y="1002"/>
                </a:cubicBezTo>
                <a:cubicBezTo>
                  <a:pt x="16211" y="1001"/>
                  <a:pt x="20597" y="5388"/>
                  <a:pt x="2059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3216960 h 3233520"/>
            </a:gdLst>
            <a:ahLst/>
            <a:rect l="textAreaLeft" t="textAreaTop" r="textAreaRight" b="textAreaBottom"/>
            <a:pathLst>
              <a:path w="21600" h="21600">
                <a:moveTo>
                  <a:pt x="10800" y="20598"/>
                </a:moveTo>
                <a:lnTo>
                  <a:pt x="10800" y="2160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598" y="10800"/>
                </a:moveTo>
                <a:cubicBezTo>
                  <a:pt x="20598" y="16211"/>
                  <a:pt x="16211" y="20598"/>
                  <a:pt x="10800" y="20598"/>
                </a:cubicBezTo>
                <a:cubicBezTo>
                  <a:pt x="5388" y="20598"/>
                  <a:pt x="1002" y="16211"/>
                  <a:pt x="1002" y="10800"/>
                </a:cubicBezTo>
                <a:lnTo>
                  <a:pt x="0" y="10800"/>
                </a:ln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197160" y="1698480"/>
            <a:ext cx="3233520" cy="3233520"/>
          </a:xfrm>
          <a:custGeom>
            <a:avLst/>
            <a:gdLst>
              <a:gd name="textAreaLeft" fmla="*/ 0 w 3233520"/>
              <a:gd name="textAreaRight" fmla="*/ 3233880 w 3233520"/>
              <a:gd name="textAreaTop" fmla="*/ 0 h 3233520"/>
              <a:gd name="textAreaBottom" fmla="*/ 150120 h 3233520"/>
            </a:gdLst>
            <a:ahLst/>
            <a:rect l="textAreaLeft" t="textAreaTop" r="textAreaRight" b="textAreaBottom"/>
            <a:pathLst>
              <a:path w="21600" h="21600">
                <a:moveTo>
                  <a:pt x="10799" y="1002"/>
                </a:moveTo>
                <a:lnTo>
                  <a:pt x="10799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4068720" y="2570040"/>
            <a:ext cx="1490400" cy="1490400"/>
          </a:xfrm>
          <a:prstGeom prst="ellipse">
            <a:avLst/>
          </a:prstGeom>
          <a:solidFill>
            <a:srgbClr val="1f1d50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4292640" y="121428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7" name="Oval 15"/>
          <p:cNvSpPr/>
          <p:nvPr/>
        </p:nvSpPr>
        <p:spPr>
          <a:xfrm>
            <a:off x="587232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4292640" y="437364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9" name="Oval 19"/>
          <p:cNvSpPr/>
          <p:nvPr/>
        </p:nvSpPr>
        <p:spPr>
          <a:xfrm>
            <a:off x="2712960" y="2793960"/>
            <a:ext cx="1042560" cy="1042560"/>
          </a:xfrm>
          <a:prstGeom prst="ellipse">
            <a:avLst/>
          </a:prstGeom>
          <a:solidFill>
            <a:srgbClr val="75747e"/>
          </a:soli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278280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924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43531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435312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9"/>
          <p:cNvSpPr/>
          <p:nvPr/>
        </p:nvSpPr>
        <p:spPr>
          <a:xfrm>
            <a:off x="93024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93024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481120" y="24620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248112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29052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29052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44578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4457880" y="2532240"/>
            <a:ext cx="20772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487980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87980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6432480" y="246204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1f1d50"/>
          </a:solidFill>
          <a:ln w="127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6432480" y="253224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854760" y="2214720"/>
            <a:ext cx="1410840" cy="845640"/>
          </a:xfrm>
          <a:prstGeom prst="flowChartProcess">
            <a:avLst/>
          </a:prstGeom>
          <a:solidFill>
            <a:srgbClr val="75747e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6854760" y="221472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3" name="AutoShape 24"/>
          <p:cNvSpPr/>
          <p:nvPr/>
        </p:nvSpPr>
        <p:spPr>
          <a:xfrm>
            <a:off x="93024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4" name="Rectangle 25"/>
          <p:cNvSpPr/>
          <p:nvPr/>
        </p:nvSpPr>
        <p:spPr>
          <a:xfrm>
            <a:off x="930240" y="3290760"/>
            <a:ext cx="1410840" cy="84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2481120" y="3538440"/>
            <a:ext cx="29952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2481120" y="3608280"/>
            <a:ext cx="209160" cy="210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2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97" name="AutoShape 28"/>
          <p:cNvSpPr/>
          <p:nvPr/>
        </p:nvSpPr>
        <p:spPr>
          <a:xfrm>
            <a:off x="29052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29052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微软雅黑"/>
              <a:ea typeface="微软雅黑"/>
            </a:endParaRPr>
          </a:p>
        </p:txBody>
      </p:sp>
      <p:sp>
        <p:nvSpPr>
          <p:cNvPr id="99" name="AutoShape 32"/>
          <p:cNvSpPr/>
          <p:nvPr/>
        </p:nvSpPr>
        <p:spPr>
          <a:xfrm>
            <a:off x="487980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487980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41760" bIns="41760" anchor="ctr">
            <a:noAutofit/>
          </a:bodyPr>
          <a:p>
            <a:pPr algn="ctr">
              <a:lnSpc>
                <a:spcPct val="90000"/>
              </a:lnSpc>
              <a:spcAft>
                <a:spcPts val="386"/>
              </a:spcAft>
            </a:pPr>
            <a:endParaRPr b="0" lang="en-US" sz="11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6854760" y="3290760"/>
            <a:ext cx="1410840" cy="845640"/>
          </a:xfrm>
          <a:prstGeom prst="flowChartProcess">
            <a:avLst/>
          </a:prstGeom>
          <a:solidFill>
            <a:schemeClr val="bg1"/>
          </a:solidFill>
          <a:ln w="127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2" name="Rectangle 37"/>
          <p:cNvSpPr/>
          <p:nvPr/>
        </p:nvSpPr>
        <p:spPr>
          <a:xfrm>
            <a:off x="6854760" y="3290760"/>
            <a:ext cx="1410840" cy="845640"/>
          </a:xfrm>
          <a:prstGeom prst="rect">
            <a:avLst/>
          </a:prstGeom>
          <a:noFill/>
          <a:ln w="254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349"/>
              </a:spcAft>
            </a:pPr>
            <a:endParaRPr b="0" lang="en-US" sz="1000" spc="-1" strike="noStrike">
              <a:solidFill>
                <a:srgbClr val="c20f2a"/>
              </a:solidFill>
              <a:latin typeface="宋体"/>
              <a:ea typeface="宋体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4486320" y="3513240"/>
            <a:ext cx="298080" cy="3488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6427800" y="3591000"/>
            <a:ext cx="298080" cy="3506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314172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143680" y="2487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707076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114300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1"/>
          <p:cNvSpPr/>
          <p:nvPr/>
        </p:nvSpPr>
        <p:spPr>
          <a:xfrm>
            <a:off x="1192320" y="18716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椭圆 13"/>
          <p:cNvSpPr/>
          <p:nvPr/>
        </p:nvSpPr>
        <p:spPr>
          <a:xfrm>
            <a:off x="471600" y="18572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1189080" y="3567240"/>
            <a:ext cx="7522920" cy="1331640"/>
          </a:xfrm>
          <a:prstGeom prst="rect">
            <a:avLst/>
          </a:prstGeom>
          <a:solidFill>
            <a:srgbClr val="75747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15"/>
          <p:cNvSpPr/>
          <p:nvPr/>
        </p:nvSpPr>
        <p:spPr>
          <a:xfrm>
            <a:off x="468360" y="3552840"/>
            <a:ext cx="1331640" cy="1331640"/>
          </a:xfrm>
          <a:prstGeom prst="ellipse">
            <a:avLst/>
          </a:prstGeom>
          <a:solidFill>
            <a:srgbClr val="1f1d5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Arial"/>
              <a:ea typeface="微软雅黑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442584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4354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0"/>
          <p:cNvSpPr/>
          <p:nvPr/>
        </p:nvSpPr>
        <p:spPr>
          <a:xfrm>
            <a:off x="2692440" y="3176640"/>
            <a:ext cx="452160" cy="864720"/>
          </a:xfrm>
          <a:custGeom>
            <a:avLst/>
            <a:gdLst>
              <a:gd name="textAreaLeft" fmla="*/ 0 w 452160"/>
              <a:gd name="textAreaRight" fmla="*/ 452520 w 452160"/>
              <a:gd name="textAreaTop" fmla="*/ 0 h 864720"/>
              <a:gd name="textAreaBottom" fmla="*/ 865080 h 864720"/>
            </a:gdLst>
            <a:ahLst/>
            <a:rect l="textAreaLeft" t="textAreaTop" r="textAreaRight" b="textAreaBottom"/>
            <a:pathLst>
              <a:path w="366448" h="698263">
                <a:moveTo>
                  <a:pt x="0" y="0"/>
                </a:moveTo>
                <a:lnTo>
                  <a:pt x="183224" y="0"/>
                </a:lnTo>
                <a:lnTo>
                  <a:pt x="183224" y="698263"/>
                </a:lnTo>
                <a:lnTo>
                  <a:pt x="366448" y="698263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894040" y="3584520"/>
            <a:ext cx="48960" cy="4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692440" y="3121200"/>
            <a:ext cx="452160" cy="112320"/>
          </a:xfrm>
          <a:custGeom>
            <a:avLst/>
            <a:gdLst>
              <a:gd name="textAreaLeft" fmla="*/ 0 w 452160"/>
              <a:gd name="textAreaRight" fmla="*/ 452520 w 45216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366448" h="91440">
                <a:moveTo>
                  <a:pt x="0" y="45720"/>
                </a:moveTo>
                <a:lnTo>
                  <a:pt x="366448" y="4572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906640" y="3165480"/>
            <a:ext cx="23400" cy="2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2692440" y="2313000"/>
            <a:ext cx="452160" cy="863280"/>
          </a:xfrm>
          <a:custGeom>
            <a:avLst/>
            <a:gdLst>
              <a:gd name="textAreaLeft" fmla="*/ 0 w 452160"/>
              <a:gd name="textAreaRight" fmla="*/ 452520 w 45216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366448" h="698263">
                <a:moveTo>
                  <a:pt x="0" y="698263"/>
                </a:moveTo>
                <a:lnTo>
                  <a:pt x="183224" y="698263"/>
                </a:lnTo>
                <a:lnTo>
                  <a:pt x="183224" y="0"/>
                </a:lnTo>
                <a:lnTo>
                  <a:pt x="366448" y="0"/>
                </a:lnTo>
              </a:path>
            </a:pathLst>
          </a:custGeom>
          <a:noFill/>
          <a:ln w="38100">
            <a:solidFill>
              <a:srgbClr val="1f1d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2894040" y="2720880"/>
            <a:ext cx="48960" cy="4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0" bIns="0" anchor="ctr">
            <a:noAutofit/>
          </a:bodyPr>
          <a:p>
            <a:pPr algn="ctr">
              <a:lnSpc>
                <a:spcPct val="90000"/>
              </a:lnSpc>
              <a:spcAft>
                <a:spcPts val="139"/>
              </a:spcAft>
            </a:pPr>
            <a:endParaRPr b="0" lang="en-US" sz="4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" name="Rectangle 16"/>
          <p:cNvSpPr/>
          <p:nvPr/>
        </p:nvSpPr>
        <p:spPr>
          <a:xfrm rot="16200000">
            <a:off x="1131840" y="2868840"/>
            <a:ext cx="2428560" cy="691920"/>
          </a:xfrm>
          <a:prstGeom prst="rect">
            <a:avLst/>
          </a:prstGeom>
          <a:solidFill>
            <a:srgbClr val="75747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144960" y="196704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144960" y="283068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35" name="组合 19"/>
          <p:cNvGrpSpPr/>
          <p:nvPr/>
        </p:nvGrpSpPr>
        <p:grpSpPr>
          <a:xfrm>
            <a:off x="3144960" y="1967040"/>
            <a:ext cx="4427280" cy="2420280"/>
            <a:chOff x="3144960" y="1967040"/>
            <a:chExt cx="4427280" cy="2420280"/>
          </a:xfrm>
        </p:grpSpPr>
        <p:sp>
          <p:nvSpPr>
            <p:cNvPr id="136" name="Rectangle 18"/>
            <p:cNvSpPr/>
            <p:nvPr/>
          </p:nvSpPr>
          <p:spPr>
            <a:xfrm>
              <a:off x="3144960" y="196704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3144960" y="2831400"/>
              <a:ext cx="4427280" cy="691200"/>
            </a:xfrm>
            <a:prstGeom prst="rect">
              <a:avLst/>
            </a:prstGeom>
            <a:solidFill>
              <a:srgbClr val="1f1d5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3144960" y="3696120"/>
              <a:ext cx="4427280" cy="691200"/>
            </a:xfrm>
            <a:prstGeom prst="rect">
              <a:avLst/>
            </a:prstGeom>
            <a:solidFill>
              <a:srgbClr val="75747e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9" name="Rectangle 23"/>
          <p:cNvSpPr/>
          <p:nvPr/>
        </p:nvSpPr>
        <p:spPr>
          <a:xfrm>
            <a:off x="3144960" y="3695760"/>
            <a:ext cx="22680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Aft>
                <a:spcPts val="490"/>
              </a:spcAft>
            </a:pPr>
            <a:endParaRPr b="0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640400" y="3038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4640400" y="2109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4640400" y="3882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2214720" y="2355840"/>
            <a:ext cx="1425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reeform 5"/>
          <p:cNvSpPr/>
          <p:nvPr/>
        </p:nvSpPr>
        <p:spPr>
          <a:xfrm rot="10800000">
            <a:off x="4764240" y="2025720"/>
            <a:ext cx="2808000" cy="17348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1734840"/>
              <a:gd name="textAreaBottom" fmla="*/ 1735200 h 173484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grpSp>
        <p:nvGrpSpPr>
          <p:cNvPr id="150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1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52" name="组合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3" name="Freeform 5"/>
          <p:cNvSpPr/>
          <p:nvPr/>
        </p:nvSpPr>
        <p:spPr>
          <a:xfrm rot="10800000">
            <a:off x="4707360" y="2022480"/>
            <a:ext cx="2809440" cy="1736280"/>
          </a:xfrm>
          <a:custGeom>
            <a:avLst/>
            <a:gdLst>
              <a:gd name="textAreaLeft" fmla="*/ 0 w 2809440"/>
              <a:gd name="textAreaRight" fmla="*/ 2809800 w 2809440"/>
              <a:gd name="textAreaTop" fmla="*/ 0 h 1736280"/>
              <a:gd name="textAreaBottom" fmla="*/ 1736640 h 1736280"/>
            </a:gdLst>
            <a:ahLst/>
            <a:rect l="textAreaLeft" t="textAreaTop" r="textAreaRight" b="textAreaBottom"/>
            <a:pathLst>
              <a:path w="309" h="190">
                <a:moveTo>
                  <a:pt x="309" y="95"/>
                </a:moveTo>
                <a:cubicBezTo>
                  <a:pt x="309" y="43"/>
                  <a:pt x="267" y="0"/>
                  <a:pt x="215" y="0"/>
                </a:cubicBezTo>
                <a:cubicBezTo>
                  <a:pt x="215" y="0"/>
                  <a:pt x="215" y="0"/>
                  <a:pt x="2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90"/>
                  <a:pt x="0" y="190"/>
                  <a:pt x="0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15" y="190"/>
                  <a:pt x="215" y="190"/>
                  <a:pt x="215" y="190"/>
                </a:cubicBezTo>
                <a:cubicBezTo>
                  <a:pt x="267" y="190"/>
                  <a:pt x="309" y="147"/>
                  <a:pt x="309" y="95"/>
                </a:cubicBezTo>
                <a:close/>
              </a:path>
            </a:pathLst>
          </a:custGeom>
          <a:solidFill>
            <a:srgbClr val="1f1d50"/>
          </a:solidFill>
          <a:ln w="9525">
            <a:noFill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dk1"/>
              </a:solidFill>
              <a:latin typeface="微软雅黑"/>
              <a:ea typeface="微软雅黑"/>
            </a:endParaRPr>
          </a:p>
        </p:txBody>
      </p:sp>
      <p:sp>
        <p:nvSpPr>
          <p:cNvPr id="15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997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"/>
          <p:cNvSpPr/>
          <p:nvPr/>
        </p:nvSpPr>
        <p:spPr>
          <a:xfrm>
            <a:off x="57834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5068800" y="4929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385596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43"/>
          <p:cNvSpPr/>
          <p:nvPr/>
        </p:nvSpPr>
        <p:spPr>
          <a:xfrm>
            <a:off x="5513040" y="1639800"/>
            <a:ext cx="224640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Line 44"/>
          <p:cNvSpPr/>
          <p:nvPr/>
        </p:nvSpPr>
        <p:spPr>
          <a:xfrm>
            <a:off x="1285560" y="4984560"/>
            <a:ext cx="2244960" cy="360"/>
          </a:xfrm>
          <a:prstGeom prst="line">
            <a:avLst/>
          </a:prstGeom>
          <a:ln w="25400">
            <a:solidFill>
              <a:srgbClr val="1f1d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5" name="Line 45"/>
          <p:cNvSpPr/>
          <p:nvPr/>
        </p:nvSpPr>
        <p:spPr>
          <a:xfrm>
            <a:off x="1315800" y="3643200"/>
            <a:ext cx="224496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6" name="Line 46"/>
          <p:cNvSpPr/>
          <p:nvPr/>
        </p:nvSpPr>
        <p:spPr>
          <a:xfrm>
            <a:off x="5543280" y="3009600"/>
            <a:ext cx="2246400" cy="360"/>
          </a:xfrm>
          <a:prstGeom prst="line">
            <a:avLst/>
          </a:prstGeom>
          <a:ln w="25400">
            <a:solidFill>
              <a:srgbClr val="7574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39"/>
          <p:cNvSpPr/>
          <p:nvPr/>
        </p:nvSpPr>
        <p:spPr>
          <a:xfrm>
            <a:off x="3114720" y="231768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AutoShape 41"/>
          <p:cNvSpPr/>
          <p:nvPr/>
        </p:nvSpPr>
        <p:spPr>
          <a:xfrm>
            <a:off x="4368960" y="1639800"/>
            <a:ext cx="1625400" cy="1325160"/>
          </a:xfrm>
          <a:prstGeom prst="hexagon">
            <a:avLst>
              <a:gd name="adj" fmla="val 30659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AutoShape 42"/>
          <p:cNvSpPr/>
          <p:nvPr/>
        </p:nvSpPr>
        <p:spPr>
          <a:xfrm>
            <a:off x="3114720" y="3675240"/>
            <a:ext cx="1625400" cy="1325160"/>
          </a:xfrm>
          <a:prstGeom prst="hexagon">
            <a:avLst>
              <a:gd name="adj" fmla="val 30653"/>
              <a:gd name="vf" fmla="val 115470"/>
            </a:avLst>
          </a:prstGeom>
          <a:solidFill>
            <a:srgbClr val="1f1d5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4368960" y="2997360"/>
            <a:ext cx="1625400" cy="1325160"/>
          </a:xfrm>
          <a:prstGeom prst="hexagon">
            <a:avLst>
              <a:gd name="adj" fmla="val 30630"/>
              <a:gd name="vf" fmla="val 115470"/>
            </a:avLst>
          </a:prstGeom>
          <a:solidFill>
            <a:srgbClr val="75747e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15685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62834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62118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156852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6"/>
          <p:cNvGrpSpPr/>
          <p:nvPr/>
        </p:nvGrpSpPr>
        <p:grpSpPr>
          <a:xfrm>
            <a:off x="2242800" y="3349080"/>
            <a:ext cx="2906280" cy="2801160"/>
            <a:chOff x="2242800" y="3349080"/>
            <a:chExt cx="2906280" cy="2801160"/>
          </a:xfrm>
        </p:grpSpPr>
        <p:sp>
          <p:nvSpPr>
            <p:cNvPr id="181" name="Freeform 34"/>
            <p:cNvSpPr/>
            <p:nvPr/>
          </p:nvSpPr>
          <p:spPr>
            <a:xfrm rot="16200000">
              <a:off x="2709720" y="2943360"/>
              <a:ext cx="2027880" cy="2838960"/>
            </a:xfrm>
            <a:custGeom>
              <a:avLst/>
              <a:gdLst>
                <a:gd name="textAreaLeft" fmla="*/ 0 w 2027880"/>
                <a:gd name="textAreaRight" fmla="*/ 2028240 w 202788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任意多边形 12"/>
            <p:cNvSpPr/>
            <p:nvPr/>
          </p:nvSpPr>
          <p:spPr>
            <a:xfrm rot="18525600">
              <a:off x="2988360" y="35265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任意多边形 13"/>
            <p:cNvSpPr/>
            <p:nvPr/>
          </p:nvSpPr>
          <p:spPr>
            <a:xfrm rot="16200000">
              <a:off x="3119760" y="3351600"/>
              <a:ext cx="1220400" cy="283824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8240"/>
                <a:gd name="textAreaBottom" fmla="*/ 2838600 h 283824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10"/>
          <p:cNvGrpSpPr/>
          <p:nvPr/>
        </p:nvGrpSpPr>
        <p:grpSpPr>
          <a:xfrm>
            <a:off x="4658400" y="3020400"/>
            <a:ext cx="2827800" cy="2913120"/>
            <a:chOff x="4658400" y="3020400"/>
            <a:chExt cx="2827800" cy="2913120"/>
          </a:xfrm>
        </p:grpSpPr>
        <p:sp>
          <p:nvSpPr>
            <p:cNvPr id="185" name="Freeform 34"/>
            <p:cNvSpPr/>
            <p:nvPr/>
          </p:nvSpPr>
          <p:spPr>
            <a:xfrm rot="10860000">
              <a:off x="4682880" y="303876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任意多边形 16"/>
            <p:cNvSpPr/>
            <p:nvPr/>
          </p:nvSpPr>
          <p:spPr>
            <a:xfrm rot="13185600">
              <a:off x="5452560" y="322128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任意多边形 17"/>
            <p:cNvSpPr/>
            <p:nvPr/>
          </p:nvSpPr>
          <p:spPr>
            <a:xfrm rot="10860000">
              <a:off x="5487840" y="303084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14"/>
          <p:cNvGrpSpPr/>
          <p:nvPr/>
        </p:nvGrpSpPr>
        <p:grpSpPr>
          <a:xfrm>
            <a:off x="4496400" y="642960"/>
            <a:ext cx="2913120" cy="2827800"/>
            <a:chOff x="4496400" y="642960"/>
            <a:chExt cx="2913120" cy="2827800"/>
          </a:xfrm>
        </p:grpSpPr>
        <p:sp>
          <p:nvSpPr>
            <p:cNvPr id="189" name="Freeform 34"/>
            <p:cNvSpPr/>
            <p:nvPr/>
          </p:nvSpPr>
          <p:spPr>
            <a:xfrm rot="5460000">
              <a:off x="4919760" y="1011600"/>
              <a:ext cx="2028960" cy="283968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任意多边形 20"/>
            <p:cNvSpPr/>
            <p:nvPr/>
          </p:nvSpPr>
          <p:spPr>
            <a:xfrm rot="7785600">
              <a:off x="5298120" y="705600"/>
              <a:ext cx="1369800" cy="25714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任意多边形 21"/>
            <p:cNvSpPr/>
            <p:nvPr/>
          </p:nvSpPr>
          <p:spPr>
            <a:xfrm rot="5460000">
              <a:off x="5316480" y="61092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757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18"/>
          <p:cNvGrpSpPr/>
          <p:nvPr/>
        </p:nvGrpSpPr>
        <p:grpSpPr>
          <a:xfrm>
            <a:off x="2176560" y="804960"/>
            <a:ext cx="2793240" cy="2906280"/>
            <a:chOff x="2176560" y="804960"/>
            <a:chExt cx="2793240" cy="2906280"/>
          </a:xfrm>
        </p:grpSpPr>
        <p:sp>
          <p:nvSpPr>
            <p:cNvPr id="193" name="Freeform 34"/>
            <p:cNvSpPr/>
            <p:nvPr/>
          </p:nvSpPr>
          <p:spPr>
            <a:xfrm>
              <a:off x="2941560" y="857160"/>
              <a:ext cx="2028240" cy="2838960"/>
            </a:xfrm>
            <a:custGeom>
              <a:avLst/>
              <a:gdLst>
                <a:gd name="textAreaLeft" fmla="*/ 0 w 2028240"/>
                <a:gd name="textAreaRight" fmla="*/ 2028600 w 2028240"/>
                <a:gd name="textAreaTop" fmla="*/ 0 h 2838960"/>
                <a:gd name="textAreaBottom" fmla="*/ 2839320 h 2838960"/>
              </a:gdLst>
              <a:ahLst/>
              <a:rect l="textAreaLeft" t="textAreaTop" r="textAreaRight" b="textAreaBottom"/>
              <a:pathLst>
                <a:path w="1243" h="1740">
                  <a:moveTo>
                    <a:pt x="568" y="0"/>
                  </a:moveTo>
                  <a:cubicBezTo>
                    <a:pt x="226" y="225"/>
                    <a:pt x="0" y="613"/>
                    <a:pt x="0" y="1054"/>
                  </a:cubicBezTo>
                  <a:cubicBezTo>
                    <a:pt x="0" y="1307"/>
                    <a:pt x="75" y="1543"/>
                    <a:pt x="203" y="1740"/>
                  </a:cubicBezTo>
                  <a:cubicBezTo>
                    <a:pt x="1243" y="1021"/>
                    <a:pt x="1243" y="1021"/>
                    <a:pt x="1243" y="1021"/>
                  </a:cubicBezTo>
                  <a:lnTo>
                    <a:pt x="568" y="0"/>
                  </a:ln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  <a:effectLst>
              <a:outerShdw algn="ctr" blurRad="228600" rotWithShape="0" sx="102000" sy="102000">
                <a:srgbClr val="000000">
                  <a:alpha val="30000"/>
                </a:srgbClr>
              </a:outerShdw>
            </a:effectLst>
            <a:scene3d>
              <a:camera prst="orthographicFront"/>
              <a:lightRig dir="t" rig="threePt"/>
            </a:scene3d>
            <a:sp3d prstMaterial="softEdge">
              <a:bevelT h="1905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任意多边形 24"/>
            <p:cNvSpPr/>
            <p:nvPr/>
          </p:nvSpPr>
          <p:spPr>
            <a:xfrm rot="2325600">
              <a:off x="2829960" y="950760"/>
              <a:ext cx="1369800" cy="2569680"/>
            </a:xfrm>
            <a:custGeom>
              <a:avLst/>
              <a:gdLst>
                <a:gd name="textAreaLeft" fmla="*/ 0 w 1369800"/>
                <a:gd name="textAreaRight" fmla="*/ 1370160 w 1369800"/>
                <a:gd name="textAreaTop" fmla="*/ 0 h 2569680"/>
                <a:gd name="textAreaBottom" fmla="*/ 2570040 h 2569680"/>
              </a:gdLst>
              <a:ahLst/>
              <a:rect l="textAreaLeft" t="textAreaTop" r="textAreaRight" b="textAreaBottom"/>
              <a:pathLst>
                <a:path w="1369984" h="2571598">
                  <a:moveTo>
                    <a:pt x="99713" y="0"/>
                  </a:moveTo>
                  <a:lnTo>
                    <a:pt x="934767" y="267618"/>
                  </a:lnTo>
                  <a:lnTo>
                    <a:pt x="922443" y="306081"/>
                  </a:lnTo>
                  <a:cubicBezTo>
                    <a:pt x="862910" y="524729"/>
                    <a:pt x="830839" y="757197"/>
                    <a:pt x="830839" y="998222"/>
                  </a:cubicBezTo>
                  <a:cubicBezTo>
                    <a:pt x="830839" y="1560615"/>
                    <a:pt x="1005449" y="2076420"/>
                    <a:pt x="1296118" y="2478757"/>
                  </a:cubicBezTo>
                  <a:lnTo>
                    <a:pt x="1369984" y="2571598"/>
                  </a:lnTo>
                  <a:lnTo>
                    <a:pt x="1278053" y="2537715"/>
                  </a:lnTo>
                  <a:cubicBezTo>
                    <a:pt x="966088" y="2410148"/>
                    <a:pt x="680087" y="2203640"/>
                    <a:pt x="453867" y="1921889"/>
                  </a:cubicBezTo>
                  <a:cubicBezTo>
                    <a:pt x="3217" y="1360613"/>
                    <a:pt x="-105638" y="635848"/>
                    <a:pt x="99713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任意多边形 25"/>
            <p:cNvSpPr/>
            <p:nvPr/>
          </p:nvSpPr>
          <p:spPr>
            <a:xfrm>
              <a:off x="2945880" y="871560"/>
              <a:ext cx="1220400" cy="2839680"/>
            </a:xfrm>
            <a:custGeom>
              <a:avLst/>
              <a:gdLst>
                <a:gd name="textAreaLeft" fmla="*/ 0 w 1220400"/>
                <a:gd name="textAreaRight" fmla="*/ 1220760 w 1220400"/>
                <a:gd name="textAreaTop" fmla="*/ 0 h 2839680"/>
                <a:gd name="textAreaBottom" fmla="*/ 2840040 h 2839680"/>
              </a:gdLst>
              <a:ahLst/>
              <a:rect l="textAreaLeft" t="textAreaTop" r="textAreaRight" b="textAreaBottom"/>
              <a:pathLst>
                <a:path w="1220548" h="2840038">
                  <a:moveTo>
                    <a:pt x="927090" y="0"/>
                  </a:moveTo>
                  <a:lnTo>
                    <a:pt x="1220548" y="443885"/>
                  </a:lnTo>
                  <a:lnTo>
                    <a:pt x="1198360" y="458537"/>
                  </a:lnTo>
                  <a:cubicBezTo>
                    <a:pt x="765530" y="775040"/>
                    <a:pt x="447314" y="1260973"/>
                    <a:pt x="346302" y="1841317"/>
                  </a:cubicBezTo>
                  <a:cubicBezTo>
                    <a:pt x="295796" y="2131489"/>
                    <a:pt x="304372" y="2417793"/>
                    <a:pt x="363130" y="2687071"/>
                  </a:cubicBezTo>
                  <a:lnTo>
                    <a:pt x="392805" y="2797542"/>
                  </a:lnTo>
                  <a:lnTo>
                    <a:pt x="331337" y="2840038"/>
                  </a:lnTo>
                  <a:cubicBezTo>
                    <a:pt x="122415" y="2518494"/>
                    <a:pt x="0" y="2133293"/>
                    <a:pt x="0" y="1720345"/>
                  </a:cubicBezTo>
                  <a:cubicBezTo>
                    <a:pt x="0" y="1000542"/>
                    <a:pt x="368877" y="367246"/>
                    <a:pt x="927090" y="0"/>
                  </a:cubicBezTo>
                  <a:close/>
                </a:path>
              </a:pathLst>
            </a:custGeom>
            <a:solidFill>
              <a:srgbClr val="1f1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52833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556884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31402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342576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  <Words>295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55:09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