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xls" ContentType="application/vnd.ms-exce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0EF-A5DE-473A-826D-E9301C2A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F0D-1544-4418-86CC-10C087EA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2FD-2BB7-419E-9C19-9D1EBBE3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006-9A90-4C81-9A17-73E06EB2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FD5-8635-4AC2-8698-8B810F7F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A0F-9924-4103-BFC7-5D9E4649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579-6FC9-4642-8915-C941EE1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AE9-9518-4891-98D7-F96D7BA0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B73-F58C-4EA8-80D9-C682ECA8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DE9-9674-4001-9816-29EB254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880-40E3-456C-B384-ACAAAAF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B91-A113-4520-8BF0-F4901F9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6DC578-8FF4-4EB0-95D8-FC781A1480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143320" y="148104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775160" y="751680"/>
            <a:ext cx="562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宋体"/>
              </a:rPr>
              <a:t>商务记笔记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1"/>
          <p:cNvSpPr/>
          <p:nvPr/>
        </p:nvSpPr>
        <p:spPr>
          <a:xfrm>
            <a:off x="825480" y="1143000"/>
            <a:ext cx="7505280" cy="12380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68" name="组合 7"/>
          <p:cNvGrpSpPr/>
          <p:nvPr/>
        </p:nvGrpSpPr>
        <p:grpSpPr>
          <a:xfrm>
            <a:off x="714240" y="1805760"/>
            <a:ext cx="2032560" cy="446400"/>
            <a:chOff x="714240" y="1805760"/>
            <a:chExt cx="2032560" cy="446400"/>
          </a:xfrm>
        </p:grpSpPr>
        <p:grpSp>
          <p:nvGrpSpPr>
            <p:cNvPr id="269" name="组合 2"/>
            <p:cNvGrpSpPr/>
            <p:nvPr/>
          </p:nvGrpSpPr>
          <p:grpSpPr>
            <a:xfrm>
              <a:off x="714240" y="1883160"/>
              <a:ext cx="2032560" cy="369000"/>
              <a:chOff x="714240" y="1883160"/>
              <a:chExt cx="2032560" cy="369000"/>
            </a:xfrm>
          </p:grpSpPr>
          <p:sp>
            <p:nvSpPr>
              <p:cNvPr id="270" name="矩形 19"/>
              <p:cNvSpPr/>
              <p:nvPr/>
            </p:nvSpPr>
            <p:spPr>
              <a:xfrm>
                <a:off x="714240" y="1883160"/>
                <a:ext cx="1900440" cy="36900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1" name="直角三角形 20"/>
              <p:cNvSpPr/>
              <p:nvPr/>
            </p:nvSpPr>
            <p:spPr>
              <a:xfrm>
                <a:off x="2615040" y="1883160"/>
                <a:ext cx="131760" cy="36900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72" name="直角三角形 18"/>
            <p:cNvSpPr/>
            <p:nvPr/>
          </p:nvSpPr>
          <p:spPr>
            <a:xfrm flipH="1">
              <a:off x="714240" y="1805760"/>
              <a:ext cx="110160" cy="7668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73" name="直接连接符 13"/>
          <p:cNvCxnSpPr/>
          <p:nvPr/>
        </p:nvCxnSpPr>
        <p:spPr>
          <a:xfrm>
            <a:off x="6484680" y="1143000"/>
            <a:ext cx="360" cy="1238400"/>
          </a:xfrm>
          <a:prstGeom prst="straightConnector1">
            <a:avLst/>
          </a:prstGeom>
          <a:ln w="12700">
            <a:solidFill>
              <a:srgbClr val="fcf8ed"/>
            </a:solidFill>
            <a:prstDash val="dash"/>
            <a:round/>
          </a:ln>
        </p:spPr>
      </p:cxnSp>
      <p:sp>
        <p:nvSpPr>
          <p:cNvPr id="274" name="圆角矩形 15"/>
          <p:cNvSpPr/>
          <p:nvPr/>
        </p:nvSpPr>
        <p:spPr>
          <a:xfrm>
            <a:off x="6796080" y="1612800"/>
            <a:ext cx="1223640" cy="387000"/>
          </a:xfrm>
          <a:prstGeom prst="roundRect">
            <a:avLst>
              <a:gd name="adj" fmla="val 50000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矩形 22"/>
          <p:cNvSpPr/>
          <p:nvPr/>
        </p:nvSpPr>
        <p:spPr>
          <a:xfrm>
            <a:off x="825480" y="2786040"/>
            <a:ext cx="7505280" cy="12380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76" name="组合 48"/>
          <p:cNvGrpSpPr/>
          <p:nvPr/>
        </p:nvGrpSpPr>
        <p:grpSpPr>
          <a:xfrm>
            <a:off x="714240" y="3449160"/>
            <a:ext cx="2032560" cy="446040"/>
            <a:chOff x="714240" y="3449160"/>
            <a:chExt cx="2032560" cy="446040"/>
          </a:xfrm>
        </p:grpSpPr>
        <p:grpSp>
          <p:nvGrpSpPr>
            <p:cNvPr id="277" name="组合 49"/>
            <p:cNvGrpSpPr/>
            <p:nvPr/>
          </p:nvGrpSpPr>
          <p:grpSpPr>
            <a:xfrm>
              <a:off x="714240" y="3526200"/>
              <a:ext cx="2032560" cy="369000"/>
              <a:chOff x="714240" y="3526200"/>
              <a:chExt cx="2032560" cy="369000"/>
            </a:xfrm>
          </p:grpSpPr>
          <p:sp>
            <p:nvSpPr>
              <p:cNvPr id="278" name="矩形 30"/>
              <p:cNvSpPr/>
              <p:nvPr/>
            </p:nvSpPr>
            <p:spPr>
              <a:xfrm>
                <a:off x="714240" y="3526200"/>
                <a:ext cx="1900440" cy="36900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直角三角形 31"/>
              <p:cNvSpPr/>
              <p:nvPr/>
            </p:nvSpPr>
            <p:spPr>
              <a:xfrm>
                <a:off x="2615040" y="3526200"/>
                <a:ext cx="131760" cy="36900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80" name="直角三角形 29"/>
            <p:cNvSpPr/>
            <p:nvPr/>
          </p:nvSpPr>
          <p:spPr>
            <a:xfrm flipH="1">
              <a:off x="714240" y="3449160"/>
              <a:ext cx="110160" cy="7668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81" name="直接连接符 24"/>
          <p:cNvCxnSpPr/>
          <p:nvPr/>
        </p:nvCxnSpPr>
        <p:spPr>
          <a:xfrm>
            <a:off x="6484680" y="2786040"/>
            <a:ext cx="360" cy="1238400"/>
          </a:xfrm>
          <a:prstGeom prst="straightConnector1">
            <a:avLst/>
          </a:prstGeom>
          <a:ln w="12700">
            <a:solidFill>
              <a:srgbClr val="fcf8ed"/>
            </a:solidFill>
            <a:prstDash val="dash"/>
            <a:round/>
          </a:ln>
        </p:spPr>
      </p:cxnSp>
      <p:sp>
        <p:nvSpPr>
          <p:cNvPr id="282" name="圆角矩形 26"/>
          <p:cNvSpPr/>
          <p:nvPr/>
        </p:nvSpPr>
        <p:spPr>
          <a:xfrm>
            <a:off x="6796080" y="3211560"/>
            <a:ext cx="1223640" cy="387000"/>
          </a:xfrm>
          <a:prstGeom prst="roundRect">
            <a:avLst>
              <a:gd name="adj" fmla="val 50000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矩形 33"/>
          <p:cNvSpPr/>
          <p:nvPr/>
        </p:nvSpPr>
        <p:spPr>
          <a:xfrm>
            <a:off x="825480" y="4405320"/>
            <a:ext cx="7505280" cy="12380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84" name="组合 55"/>
          <p:cNvGrpSpPr/>
          <p:nvPr/>
        </p:nvGrpSpPr>
        <p:grpSpPr>
          <a:xfrm>
            <a:off x="714240" y="5069160"/>
            <a:ext cx="2032560" cy="446040"/>
            <a:chOff x="714240" y="5069160"/>
            <a:chExt cx="2032560" cy="446040"/>
          </a:xfrm>
        </p:grpSpPr>
        <p:grpSp>
          <p:nvGrpSpPr>
            <p:cNvPr id="285" name="组合 56"/>
            <p:cNvGrpSpPr/>
            <p:nvPr/>
          </p:nvGrpSpPr>
          <p:grpSpPr>
            <a:xfrm>
              <a:off x="714240" y="5146200"/>
              <a:ext cx="2032560" cy="369000"/>
              <a:chOff x="714240" y="5146200"/>
              <a:chExt cx="2032560" cy="369000"/>
            </a:xfrm>
          </p:grpSpPr>
          <p:sp>
            <p:nvSpPr>
              <p:cNvPr id="286" name="矩形 41"/>
              <p:cNvSpPr/>
              <p:nvPr/>
            </p:nvSpPr>
            <p:spPr>
              <a:xfrm>
                <a:off x="714240" y="5146200"/>
                <a:ext cx="1900440" cy="36900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7" name="直角三角形 42"/>
              <p:cNvSpPr/>
              <p:nvPr/>
            </p:nvSpPr>
            <p:spPr>
              <a:xfrm>
                <a:off x="2615040" y="5146200"/>
                <a:ext cx="131760" cy="36900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88" name="直角三角形 40"/>
            <p:cNvSpPr/>
            <p:nvPr/>
          </p:nvSpPr>
          <p:spPr>
            <a:xfrm flipH="1">
              <a:off x="714240" y="5069160"/>
              <a:ext cx="110160" cy="7668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89" name="直接连接符 35"/>
          <p:cNvCxnSpPr/>
          <p:nvPr/>
        </p:nvCxnSpPr>
        <p:spPr>
          <a:xfrm>
            <a:off x="6484680" y="4404960"/>
            <a:ext cx="360" cy="1238760"/>
          </a:xfrm>
          <a:prstGeom prst="straightConnector1">
            <a:avLst/>
          </a:prstGeom>
          <a:ln w="12700">
            <a:solidFill>
              <a:srgbClr val="fcf8ed"/>
            </a:solidFill>
            <a:prstDash val="dash"/>
            <a:round/>
          </a:ln>
        </p:spPr>
      </p:cxnSp>
      <p:sp>
        <p:nvSpPr>
          <p:cNvPr id="290" name="圆角矩形 37"/>
          <p:cNvSpPr/>
          <p:nvPr/>
        </p:nvSpPr>
        <p:spPr>
          <a:xfrm>
            <a:off x="6796080" y="4830840"/>
            <a:ext cx="1223640" cy="387000"/>
          </a:xfrm>
          <a:prstGeom prst="roundRect">
            <a:avLst>
              <a:gd name="adj" fmla="val 50000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85452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378288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4"/>
          <p:cNvSpPr/>
          <p:nvPr/>
        </p:nvSpPr>
        <p:spPr>
          <a:xfrm>
            <a:off x="37116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9"/>
          <p:cNvSpPr/>
          <p:nvPr/>
        </p:nvSpPr>
        <p:spPr>
          <a:xfrm>
            <a:off x="2751120" y="178596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" name="圆角矩形 10"/>
          <p:cNvSpPr/>
          <p:nvPr/>
        </p:nvSpPr>
        <p:spPr>
          <a:xfrm>
            <a:off x="2751120" y="249552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" name="圆角矩形 11"/>
          <p:cNvSpPr/>
          <p:nvPr/>
        </p:nvSpPr>
        <p:spPr>
          <a:xfrm>
            <a:off x="2751120" y="321480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圆角矩形 12"/>
          <p:cNvSpPr/>
          <p:nvPr/>
        </p:nvSpPr>
        <p:spPr>
          <a:xfrm>
            <a:off x="2751120" y="392436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425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425840" y="2630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4258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42584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圆角矩形 11"/>
          <p:cNvSpPr/>
          <p:nvPr/>
        </p:nvSpPr>
        <p:spPr>
          <a:xfrm>
            <a:off x="714240" y="1598760"/>
            <a:ext cx="3580920" cy="631440"/>
          </a:xfrm>
          <a:prstGeom prst="roundRect">
            <a:avLst>
              <a:gd name="adj" fmla="val 19262"/>
            </a:avLst>
          </a:prstGeom>
          <a:solidFill>
            <a:schemeClr val="bg1">
              <a:lumMod val="5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59" name="圆角矩形 12"/>
          <p:cNvSpPr/>
          <p:nvPr/>
        </p:nvSpPr>
        <p:spPr>
          <a:xfrm>
            <a:off x="738360" y="1622520"/>
            <a:ext cx="3528720" cy="58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5400000"/>
          </a:gradFill>
          <a:ln w="2857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0" name="同侧圆角矩形 14"/>
          <p:cNvSpPr/>
          <p:nvPr/>
        </p:nvSpPr>
        <p:spPr>
          <a:xfrm rot="16200000">
            <a:off x="658080" y="1744200"/>
            <a:ext cx="547200" cy="342720"/>
          </a:xfrm>
          <a:prstGeom prst="round2SameRect">
            <a:avLst>
              <a:gd name="adj1" fmla="val 24886"/>
              <a:gd name="adj2" fmla="val 0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1" name="L 形 15"/>
          <p:cNvSpPr/>
          <p:nvPr/>
        </p:nvSpPr>
        <p:spPr>
          <a:xfrm rot="13500000">
            <a:off x="819000" y="1834920"/>
            <a:ext cx="162720" cy="162720"/>
          </a:xfrm>
          <a:prstGeom prst="corner">
            <a:avLst>
              <a:gd name="adj1" fmla="val 26712"/>
              <a:gd name="adj2" fmla="val 26712"/>
            </a:avLst>
          </a:prstGeom>
          <a:solidFill>
            <a:schemeClr val="tx1"/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2" name="圆角矩形 17"/>
          <p:cNvSpPr/>
          <p:nvPr/>
        </p:nvSpPr>
        <p:spPr>
          <a:xfrm>
            <a:off x="5051520" y="1598760"/>
            <a:ext cx="3580920" cy="631440"/>
          </a:xfrm>
          <a:prstGeom prst="roundRect">
            <a:avLst>
              <a:gd name="adj" fmla="val 19262"/>
            </a:avLst>
          </a:prstGeom>
          <a:solidFill>
            <a:schemeClr val="bg1">
              <a:lumMod val="5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3" name="圆角矩形 18"/>
          <p:cNvSpPr/>
          <p:nvPr/>
        </p:nvSpPr>
        <p:spPr>
          <a:xfrm>
            <a:off x="5075280" y="1622520"/>
            <a:ext cx="3528720" cy="58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5400000"/>
          </a:gradFill>
          <a:ln w="2857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4" name="同侧圆角矩形 20"/>
          <p:cNvSpPr/>
          <p:nvPr/>
        </p:nvSpPr>
        <p:spPr>
          <a:xfrm rot="16200000">
            <a:off x="4995360" y="1744200"/>
            <a:ext cx="547200" cy="342720"/>
          </a:xfrm>
          <a:prstGeom prst="round2SameRect">
            <a:avLst>
              <a:gd name="adj1" fmla="val 24886"/>
              <a:gd name="adj2" fmla="val 0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5" name="L 形 21"/>
          <p:cNvSpPr/>
          <p:nvPr/>
        </p:nvSpPr>
        <p:spPr>
          <a:xfrm rot="13500000">
            <a:off x="5156280" y="1834920"/>
            <a:ext cx="162720" cy="162720"/>
          </a:xfrm>
          <a:prstGeom prst="corner">
            <a:avLst>
              <a:gd name="adj1" fmla="val 26712"/>
              <a:gd name="adj2" fmla="val 26712"/>
            </a:avLst>
          </a:prstGeom>
          <a:solidFill>
            <a:schemeClr val="tx1"/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936720" y="27525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" name="椭圆 40"/>
          <p:cNvSpPr/>
          <p:nvPr/>
        </p:nvSpPr>
        <p:spPr>
          <a:xfrm>
            <a:off x="873000" y="2843280"/>
            <a:ext cx="1980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936720" y="351324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9" name="椭圆 40"/>
          <p:cNvSpPr/>
          <p:nvPr/>
        </p:nvSpPr>
        <p:spPr>
          <a:xfrm>
            <a:off x="873000" y="3603600"/>
            <a:ext cx="1980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936720" y="42339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" name="椭圆 40"/>
          <p:cNvSpPr/>
          <p:nvPr/>
        </p:nvSpPr>
        <p:spPr>
          <a:xfrm>
            <a:off x="873000" y="4324320"/>
            <a:ext cx="1980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936720" y="50259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" name="椭圆 40"/>
          <p:cNvSpPr/>
          <p:nvPr/>
        </p:nvSpPr>
        <p:spPr>
          <a:xfrm>
            <a:off x="873000" y="5116680"/>
            <a:ext cx="1980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5259240" y="276084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5195880" y="2851200"/>
            <a:ext cx="1998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5259240" y="35337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" name="椭圆 40"/>
          <p:cNvSpPr/>
          <p:nvPr/>
        </p:nvSpPr>
        <p:spPr>
          <a:xfrm>
            <a:off x="5195880" y="3611520"/>
            <a:ext cx="1998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8" name="TextBox 34"/>
          <p:cNvSpPr/>
          <p:nvPr/>
        </p:nvSpPr>
        <p:spPr>
          <a:xfrm>
            <a:off x="5259240" y="424188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9" name="椭圆 40"/>
          <p:cNvSpPr/>
          <p:nvPr/>
        </p:nvSpPr>
        <p:spPr>
          <a:xfrm>
            <a:off x="5195880" y="4332240"/>
            <a:ext cx="1998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5259240" y="503388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5195880" y="5124600"/>
            <a:ext cx="1998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178272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2834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1925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62118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 rot="10800000">
            <a:off x="3510360" y="4653360"/>
            <a:ext cx="212832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92" name="Group 28"/>
          <p:cNvGrpSpPr/>
          <p:nvPr/>
        </p:nvGrpSpPr>
        <p:grpSpPr>
          <a:xfrm>
            <a:off x="802080" y="4188240"/>
            <a:ext cx="7467120" cy="894960"/>
            <a:chOff x="802080" y="4188240"/>
            <a:chExt cx="7467120" cy="894960"/>
          </a:xfrm>
        </p:grpSpPr>
        <p:sp>
          <p:nvSpPr>
            <p:cNvPr id="93" name="AutoShape 4"/>
            <p:cNvSpPr/>
            <p:nvPr/>
          </p:nvSpPr>
          <p:spPr>
            <a:xfrm rot="10800000">
              <a:off x="802080" y="418824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10800000">
              <a:off x="6140880" y="418824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854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1403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14256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4572000" y="3485880"/>
            <a:ext cx="360" cy="1104840"/>
          </a:xfrm>
          <a:prstGeom prst="line">
            <a:avLst/>
          </a:prstGeom>
          <a:ln cap="rnd"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743280" y="134316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963880" y="149076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930400" y="1285920"/>
            <a:ext cx="3284280" cy="469440"/>
          </a:xfrm>
          <a:prstGeom prst="roundRect">
            <a:avLst>
              <a:gd name="adj" fmla="val 24375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424320" y="322092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398760" y="3016080"/>
            <a:ext cx="2346120" cy="417240"/>
          </a:xfrm>
          <a:prstGeom prst="roundRect">
            <a:avLst>
              <a:gd name="adj" fmla="val 22537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717480" y="288756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92280" y="2665440"/>
            <a:ext cx="2344320" cy="415440"/>
          </a:xfrm>
          <a:prstGeom prst="roundRect">
            <a:avLst>
              <a:gd name="adj" fmla="val 22537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6068880" y="288756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6043680" y="2665440"/>
            <a:ext cx="2344320" cy="415440"/>
          </a:xfrm>
          <a:prstGeom prst="roundRect">
            <a:avLst>
              <a:gd name="adj" fmla="val 23944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1904760" y="3819240"/>
            <a:ext cx="5332680" cy="331920"/>
            <a:chOff x="1904760" y="3819240"/>
            <a:chExt cx="5332680" cy="331920"/>
          </a:xfrm>
        </p:grpSpPr>
        <p:sp>
          <p:nvSpPr>
            <p:cNvPr id="114" name="Line 15"/>
            <p:cNvSpPr/>
            <p:nvPr/>
          </p:nvSpPr>
          <p:spPr>
            <a:xfrm>
              <a:off x="1904760" y="3819240"/>
              <a:ext cx="5332320" cy="36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>
              <a:off x="1904760" y="381924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>
              <a:off x="7237080" y="381924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7" name="Line 18"/>
          <p:cNvSpPr/>
          <p:nvPr/>
        </p:nvSpPr>
        <p:spPr>
          <a:xfrm>
            <a:off x="4572000" y="1814400"/>
            <a:ext cx="360" cy="1149120"/>
          </a:xfrm>
          <a:prstGeom prst="line">
            <a:avLst/>
          </a:prstGeom>
          <a:ln cap="rnd" w="19050">
            <a:solidFill>
              <a:srgbClr val="e59b87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18" name="Group 26"/>
          <p:cNvGrpSpPr/>
          <p:nvPr/>
        </p:nvGrpSpPr>
        <p:grpSpPr>
          <a:xfrm>
            <a:off x="1904760" y="2147760"/>
            <a:ext cx="5332680" cy="473040"/>
            <a:chOff x="1904760" y="2147760"/>
            <a:chExt cx="5332680" cy="473040"/>
          </a:xfrm>
        </p:grpSpPr>
        <p:sp>
          <p:nvSpPr>
            <p:cNvPr id="119" name="Line 19"/>
            <p:cNvSpPr/>
            <p:nvPr/>
          </p:nvSpPr>
          <p:spPr>
            <a:xfrm>
              <a:off x="1904760" y="2147760"/>
              <a:ext cx="5332320" cy="360"/>
            </a:xfrm>
            <a:prstGeom prst="line">
              <a:avLst/>
            </a:prstGeom>
            <a:ln cap="rnd" w="19050">
              <a:solidFill>
                <a:srgbClr val="e59b8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04760" y="2147760"/>
              <a:ext cx="5332680" cy="473040"/>
              <a:chOff x="1904760" y="2147760"/>
              <a:chExt cx="5332680" cy="473040"/>
            </a:xfrm>
          </p:grpSpPr>
          <p:sp>
            <p:nvSpPr>
              <p:cNvPr id="121" name="Line 21"/>
              <p:cNvSpPr/>
              <p:nvPr/>
            </p:nvSpPr>
            <p:spPr>
              <a:xfrm>
                <a:off x="1904760" y="2147760"/>
                <a:ext cx="360" cy="473040"/>
              </a:xfrm>
              <a:prstGeom prst="line">
                <a:avLst/>
              </a:prstGeom>
              <a:ln cap="rnd" w="19050">
                <a:solidFill>
                  <a:srgbClr val="e59b87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2" name="Line 22"/>
              <p:cNvSpPr/>
              <p:nvPr/>
            </p:nvSpPr>
            <p:spPr>
              <a:xfrm>
                <a:off x="7237080" y="2147760"/>
                <a:ext cx="360" cy="473040"/>
              </a:xfrm>
              <a:prstGeom prst="line">
                <a:avLst/>
              </a:prstGeom>
              <a:ln cap="rnd" w="19050">
                <a:solidFill>
                  <a:srgbClr val="e59b87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图表 11"/>
          <p:cNvGraphicFramePr/>
          <p:nvPr/>
        </p:nvGraphicFramePr>
        <p:xfrm>
          <a:off x="1000080" y="1000080"/>
          <a:ext cx="7451280" cy="49636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29" name="图表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000080"/>
                    <a:ext cx="7451280" cy="49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直角三角形 12"/>
          <p:cNvSpPr/>
          <p:nvPr/>
        </p:nvSpPr>
        <p:spPr>
          <a:xfrm rot="10800000">
            <a:off x="6018480" y="163872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直角三角形 13"/>
          <p:cNvSpPr/>
          <p:nvPr/>
        </p:nvSpPr>
        <p:spPr>
          <a:xfrm>
            <a:off x="2752560" y="469116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直角三角形 14"/>
          <p:cNvSpPr/>
          <p:nvPr/>
        </p:nvSpPr>
        <p:spPr>
          <a:xfrm flipH="1" rot="10800000">
            <a:off x="2752560" y="163872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直角三角形 15"/>
          <p:cNvSpPr/>
          <p:nvPr/>
        </p:nvSpPr>
        <p:spPr>
          <a:xfrm flipH="1">
            <a:off x="6017400" y="456084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文本框 21"/>
          <p:cNvSpPr/>
          <p:nvPr/>
        </p:nvSpPr>
        <p:spPr>
          <a:xfrm rot="18900000">
            <a:off x="2561760" y="2178720"/>
            <a:ext cx="2057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3"/>
          <p:cNvSpPr/>
          <p:nvPr/>
        </p:nvSpPr>
        <p:spPr>
          <a:xfrm flipH="1" rot="2700000">
            <a:off x="4879080" y="2197800"/>
            <a:ext cx="20566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4"/>
          <p:cNvSpPr/>
          <p:nvPr/>
        </p:nvSpPr>
        <p:spPr>
          <a:xfrm rot="13500000">
            <a:off x="2516040" y="4390920"/>
            <a:ext cx="2057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7"/>
          <p:cNvSpPr/>
          <p:nvPr/>
        </p:nvSpPr>
        <p:spPr>
          <a:xfrm flipH="1" rot="8100000">
            <a:off x="4905360" y="4390920"/>
            <a:ext cx="20566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1"/>
          <p:cNvSpPr/>
          <p:nvPr/>
        </p:nvSpPr>
        <p:spPr>
          <a:xfrm>
            <a:off x="1703520" y="2759040"/>
            <a:ext cx="4662000" cy="2948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6365880" y="2759040"/>
            <a:ext cx="1198080" cy="2948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3905280" y="3743280"/>
            <a:ext cx="3658680" cy="2948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矩形 17"/>
          <p:cNvSpPr/>
          <p:nvPr/>
        </p:nvSpPr>
        <p:spPr>
          <a:xfrm>
            <a:off x="1703520" y="3743280"/>
            <a:ext cx="3128760" cy="2948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1703520" y="4732200"/>
            <a:ext cx="5250960" cy="2966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6954840" y="4732200"/>
            <a:ext cx="609120" cy="2966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44" name="组合 29"/>
          <p:cNvGrpSpPr/>
          <p:nvPr/>
        </p:nvGrpSpPr>
        <p:grpSpPr>
          <a:xfrm>
            <a:off x="6677640" y="4121640"/>
            <a:ext cx="541440" cy="596520"/>
            <a:chOff x="6677640" y="4121640"/>
            <a:chExt cx="541440" cy="596520"/>
          </a:xfrm>
        </p:grpSpPr>
        <p:sp>
          <p:nvSpPr>
            <p:cNvPr id="145" name="椭圆 25"/>
            <p:cNvSpPr/>
            <p:nvPr/>
          </p:nvSpPr>
          <p:spPr>
            <a:xfrm>
              <a:off x="6677640" y="4121640"/>
              <a:ext cx="541440" cy="54144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等腰三角形 26"/>
            <p:cNvSpPr/>
            <p:nvPr/>
          </p:nvSpPr>
          <p:spPr>
            <a:xfrm rot="10800000">
              <a:off x="6831000" y="4515840"/>
              <a:ext cx="234720" cy="20232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7" name="文本框 17"/>
          <p:cNvSpPr/>
          <p:nvPr/>
        </p:nvSpPr>
        <p:spPr>
          <a:xfrm>
            <a:off x="6665760" y="4121280"/>
            <a:ext cx="977400" cy="5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148" name="组合 49"/>
          <p:cNvGrpSpPr/>
          <p:nvPr/>
        </p:nvGrpSpPr>
        <p:grpSpPr>
          <a:xfrm>
            <a:off x="6156720" y="2290320"/>
            <a:ext cx="414360" cy="456480"/>
            <a:chOff x="6156720" y="2290320"/>
            <a:chExt cx="414360" cy="456480"/>
          </a:xfrm>
        </p:grpSpPr>
        <p:sp>
          <p:nvSpPr>
            <p:cNvPr id="149" name="椭圆 30"/>
            <p:cNvSpPr/>
            <p:nvPr/>
          </p:nvSpPr>
          <p:spPr>
            <a:xfrm>
              <a:off x="6156720" y="2290320"/>
              <a:ext cx="414360" cy="41436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0" name="等腰三角形 31"/>
            <p:cNvSpPr/>
            <p:nvPr/>
          </p:nvSpPr>
          <p:spPr>
            <a:xfrm rot="10800000">
              <a:off x="6274440" y="2592000"/>
              <a:ext cx="179640" cy="15480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1" name="文本框 50"/>
          <p:cNvSpPr/>
          <p:nvPr/>
        </p:nvSpPr>
        <p:spPr>
          <a:xfrm>
            <a:off x="6156360" y="2295360"/>
            <a:ext cx="101736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152" name="组合 54"/>
          <p:cNvGrpSpPr/>
          <p:nvPr/>
        </p:nvGrpSpPr>
        <p:grpSpPr>
          <a:xfrm>
            <a:off x="4625280" y="3275640"/>
            <a:ext cx="414360" cy="456480"/>
            <a:chOff x="4625280" y="3275640"/>
            <a:chExt cx="414360" cy="456480"/>
          </a:xfrm>
        </p:grpSpPr>
        <p:sp>
          <p:nvSpPr>
            <p:cNvPr id="153" name="椭圆 35"/>
            <p:cNvSpPr/>
            <p:nvPr/>
          </p:nvSpPr>
          <p:spPr>
            <a:xfrm>
              <a:off x="4625280" y="3275640"/>
              <a:ext cx="414360" cy="41436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等腰三角形 36"/>
            <p:cNvSpPr/>
            <p:nvPr/>
          </p:nvSpPr>
          <p:spPr>
            <a:xfrm rot="10800000">
              <a:off x="4743000" y="3577320"/>
              <a:ext cx="179640" cy="15480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5" name="文本框 55"/>
          <p:cNvSpPr/>
          <p:nvPr/>
        </p:nvSpPr>
        <p:spPr>
          <a:xfrm>
            <a:off x="4622760" y="3279600"/>
            <a:ext cx="101736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6" name="矩形 38"/>
          <p:cNvSpPr/>
          <p:nvPr/>
        </p:nvSpPr>
        <p:spPr>
          <a:xfrm>
            <a:off x="1703520" y="1623960"/>
            <a:ext cx="3738240" cy="2948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57" name="组合 45"/>
          <p:cNvGrpSpPr/>
          <p:nvPr/>
        </p:nvGrpSpPr>
        <p:grpSpPr>
          <a:xfrm>
            <a:off x="5225760" y="1145160"/>
            <a:ext cx="414360" cy="456480"/>
            <a:chOff x="5225760" y="1145160"/>
            <a:chExt cx="414360" cy="456480"/>
          </a:xfrm>
        </p:grpSpPr>
        <p:sp>
          <p:nvSpPr>
            <p:cNvPr id="158" name="椭圆 45"/>
            <p:cNvSpPr/>
            <p:nvPr/>
          </p:nvSpPr>
          <p:spPr>
            <a:xfrm>
              <a:off x="5225760" y="1145160"/>
              <a:ext cx="414360" cy="41436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等腰三角形 46"/>
            <p:cNvSpPr/>
            <p:nvPr/>
          </p:nvSpPr>
          <p:spPr>
            <a:xfrm rot="10800000">
              <a:off x="5343480" y="1446840"/>
              <a:ext cx="179640" cy="15480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0" name="文本框 10"/>
          <p:cNvSpPr/>
          <p:nvPr/>
        </p:nvSpPr>
        <p:spPr>
          <a:xfrm>
            <a:off x="5208480" y="1143000"/>
            <a:ext cx="101736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5433840" y="1623960"/>
            <a:ext cx="2130120" cy="2948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68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371160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9257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31402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712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6"/>
          <p:cNvGrpSpPr/>
          <p:nvPr/>
        </p:nvGrpSpPr>
        <p:grpSpPr>
          <a:xfrm>
            <a:off x="3056760" y="1730880"/>
            <a:ext cx="3519000" cy="3412800"/>
            <a:chOff x="3056760" y="1730880"/>
            <a:chExt cx="3519000" cy="3412800"/>
          </a:xfrm>
        </p:grpSpPr>
        <p:sp>
          <p:nvSpPr>
            <p:cNvPr id="173" name="Circular Arrow 34"/>
            <p:cNvSpPr/>
            <p:nvPr/>
          </p:nvSpPr>
          <p:spPr>
            <a:xfrm rot="6895200">
              <a:off x="3584520" y="2152440"/>
              <a:ext cx="2569320" cy="2569320"/>
            </a:xfrm>
            <a:prstGeom prst="circularArrow">
              <a:avLst>
                <a:gd name="adj1" fmla="val 24401"/>
                <a:gd name="adj2" fmla="val 1142319"/>
                <a:gd name="adj3" fmla="val 20457687"/>
                <a:gd name="adj4" fmla="val 12180209"/>
                <a:gd name="adj5" fmla="val 12500"/>
              </a:avLst>
            </a:prstGeom>
            <a:solidFill>
              <a:srgbClr val="c7cad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90000" bIns="900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</a:pPr>
              <a:endParaRPr b="0" lang="en-US" sz="15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706000">
              <a:off x="3789720" y="2074320"/>
              <a:ext cx="2138760" cy="134208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1342080"/>
                <a:gd name="textAreaBottom" fmla="*/ 1342440 h 1342080"/>
              </a:gdLst>
              <a:ahLst/>
              <a:rect l="textAreaLeft" t="textAreaTop" r="textAreaRight" b="textAreaBottom"/>
              <a:pathLst>
                <a:path w="3361769" h="2109788">
                  <a:moveTo>
                    <a:pt x="623403" y="1465792"/>
                  </a:moveTo>
                  <a:cubicBezTo>
                    <a:pt x="205992" y="1348376"/>
                    <a:pt x="0" y="751954"/>
                    <a:pt x="197172" y="531132"/>
                  </a:cubicBezTo>
                  <a:cubicBezTo>
                    <a:pt x="513286" y="253809"/>
                    <a:pt x="1175227" y="0"/>
                    <a:pt x="1816702" y="143686"/>
                  </a:cubicBezTo>
                  <a:cubicBezTo>
                    <a:pt x="2552113" y="296005"/>
                    <a:pt x="3171197" y="865290"/>
                    <a:pt x="3361769" y="1615762"/>
                  </a:cubicBezTo>
                  <a:cubicBezTo>
                    <a:pt x="3361769" y="1615761"/>
                    <a:pt x="3361768" y="1615760"/>
                    <a:pt x="3361768" y="1615759"/>
                  </a:cubicBezTo>
                  <a:lnTo>
                    <a:pt x="2930786" y="2109788"/>
                  </a:lnTo>
                  <a:lnTo>
                    <a:pt x="2310681" y="1615756"/>
                  </a:lnTo>
                  <a:lnTo>
                    <a:pt x="2310681" y="1615756"/>
                  </a:lnTo>
                  <a:cubicBezTo>
                    <a:pt x="2039577" y="1124957"/>
                    <a:pt x="1201679" y="873752"/>
                    <a:pt x="623403" y="1465792"/>
                  </a:cubicBezTo>
                  <a:close/>
                </a:path>
              </a:pathLst>
            </a:custGeom>
            <a:solidFill>
              <a:srgbClr val="c7cad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90000" bIns="900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</a:pPr>
              <a:endParaRPr b="0" lang="en-US" sz="15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13962600">
              <a:off x="3178080" y="3024000"/>
              <a:ext cx="2086200" cy="133884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38840"/>
                <a:gd name="textAreaBottom" fmla="*/ 1339200 h 1338840"/>
              </a:gdLst>
              <a:ahLst/>
              <a:rect l="textAreaLeft" t="textAreaTop" r="textAreaRight" b="textAreaBottom"/>
              <a:pathLst>
                <a:path w="3279076" h="2104536">
                  <a:moveTo>
                    <a:pt x="0" y="623947"/>
                  </a:moveTo>
                  <a:cubicBezTo>
                    <a:pt x="386672" y="216217"/>
                    <a:pt x="1074126" y="0"/>
                    <a:pt x="1671946" y="126048"/>
                  </a:cubicBezTo>
                  <a:cubicBezTo>
                    <a:pt x="2438867" y="280774"/>
                    <a:pt x="3083812" y="841561"/>
                    <a:pt x="3279076" y="1610510"/>
                  </a:cubicBezTo>
                  <a:cubicBezTo>
                    <a:pt x="3279076" y="1610509"/>
                    <a:pt x="3279075" y="1610508"/>
                    <a:pt x="3279075" y="1610507"/>
                  </a:cubicBezTo>
                  <a:lnTo>
                    <a:pt x="2848093" y="2104536"/>
                  </a:lnTo>
                  <a:lnTo>
                    <a:pt x="2227988" y="1610504"/>
                  </a:lnTo>
                  <a:lnTo>
                    <a:pt x="2227988" y="1610504"/>
                  </a:lnTo>
                  <a:cubicBezTo>
                    <a:pt x="2055444" y="1298135"/>
                    <a:pt x="1732428" y="1098420"/>
                    <a:pt x="1375877" y="1083659"/>
                  </a:cubicBezTo>
                  <a:cubicBezTo>
                    <a:pt x="1028023" y="1057676"/>
                    <a:pt x="722335" y="1230632"/>
                    <a:pt x="483136" y="1538271"/>
                  </a:cubicBezTo>
                  <a:lnTo>
                    <a:pt x="505201" y="875992"/>
                  </a:lnTo>
                  <a:lnTo>
                    <a:pt x="0" y="623947"/>
                  </a:lnTo>
                  <a:close/>
                </a:path>
              </a:pathLst>
            </a:custGeom>
            <a:solidFill>
              <a:srgbClr val="c7cad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90000" bIns="900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</a:pPr>
              <a:endParaRPr b="0" lang="en-US" sz="15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6" name="椭圆 12"/>
          <p:cNvSpPr/>
          <p:nvPr/>
        </p:nvSpPr>
        <p:spPr>
          <a:xfrm>
            <a:off x="4446720" y="2360520"/>
            <a:ext cx="339480" cy="339480"/>
          </a:xfrm>
          <a:prstGeom prst="ellipse">
            <a:avLst/>
          </a:prstGeom>
          <a:solidFill>
            <a:srgbClr val="e59b8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dobe 黑体 Std R"/>
              <a:ea typeface="Adobe 黑体 Std R"/>
            </a:endParaRPr>
          </a:p>
        </p:txBody>
      </p:sp>
      <p:sp>
        <p:nvSpPr>
          <p:cNvPr id="177" name="椭圆 13"/>
          <p:cNvSpPr/>
          <p:nvPr/>
        </p:nvSpPr>
        <p:spPr>
          <a:xfrm>
            <a:off x="3946680" y="3873600"/>
            <a:ext cx="340920" cy="339480"/>
          </a:xfrm>
          <a:prstGeom prst="ellipse">
            <a:avLst/>
          </a:prstGeom>
          <a:solidFill>
            <a:srgbClr val="e59b8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dobe 黑体 Std R"/>
              <a:ea typeface="Adobe 黑体 Std R"/>
            </a:endParaRPr>
          </a:p>
        </p:txBody>
      </p:sp>
      <p:sp>
        <p:nvSpPr>
          <p:cNvPr id="178" name="椭圆 14"/>
          <p:cNvSpPr/>
          <p:nvPr/>
        </p:nvSpPr>
        <p:spPr>
          <a:xfrm>
            <a:off x="5616720" y="3328920"/>
            <a:ext cx="340920" cy="339480"/>
          </a:xfrm>
          <a:prstGeom prst="ellipse">
            <a:avLst/>
          </a:prstGeom>
          <a:solidFill>
            <a:srgbClr val="e59b8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dobe 黑体 Std R"/>
              <a:ea typeface="Adobe 黑体 Std R"/>
            </a:endParaRPr>
          </a:p>
        </p:txBody>
      </p:sp>
      <p:grpSp>
        <p:nvGrpSpPr>
          <p:cNvPr id="179" name="组合 50"/>
          <p:cNvGrpSpPr/>
          <p:nvPr/>
        </p:nvGrpSpPr>
        <p:grpSpPr>
          <a:xfrm>
            <a:off x="4850640" y="1357200"/>
            <a:ext cx="3268800" cy="911160"/>
            <a:chOff x="4850640" y="1357200"/>
            <a:chExt cx="3268800" cy="911160"/>
          </a:xfrm>
        </p:grpSpPr>
        <p:sp>
          <p:nvSpPr>
            <p:cNvPr id="180" name="矩形 24"/>
            <p:cNvSpPr/>
            <p:nvPr/>
          </p:nvSpPr>
          <p:spPr>
            <a:xfrm>
              <a:off x="4850640" y="1357200"/>
              <a:ext cx="3268800" cy="620280"/>
            </a:xfrm>
            <a:prstGeom prst="rect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等腰三角形 25"/>
            <p:cNvSpPr/>
            <p:nvPr/>
          </p:nvSpPr>
          <p:spPr>
            <a:xfrm rot="10800000">
              <a:off x="4851000" y="1640160"/>
              <a:ext cx="172440" cy="628200"/>
            </a:xfrm>
            <a:prstGeom prst="triangle">
              <a:avLst>
                <a:gd name="adj" fmla="val 10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2" name="组合 56"/>
          <p:cNvGrpSpPr/>
          <p:nvPr/>
        </p:nvGrpSpPr>
        <p:grpSpPr>
          <a:xfrm>
            <a:off x="5672880" y="4199400"/>
            <a:ext cx="3229920" cy="910800"/>
            <a:chOff x="5672880" y="4199400"/>
            <a:chExt cx="3229920" cy="910800"/>
          </a:xfrm>
        </p:grpSpPr>
        <p:sp>
          <p:nvSpPr>
            <p:cNvPr id="183" name="矩形 29"/>
            <p:cNvSpPr/>
            <p:nvPr/>
          </p:nvSpPr>
          <p:spPr>
            <a:xfrm flipV="1">
              <a:off x="5672880" y="4489560"/>
              <a:ext cx="3229920" cy="620280"/>
            </a:xfrm>
            <a:prstGeom prst="rect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等腰三角形 30"/>
            <p:cNvSpPr/>
            <p:nvPr/>
          </p:nvSpPr>
          <p:spPr>
            <a:xfrm flipV="1" rot="10800000">
              <a:off x="5673240" y="4199040"/>
              <a:ext cx="172440" cy="628200"/>
            </a:xfrm>
            <a:prstGeom prst="triangle">
              <a:avLst>
                <a:gd name="adj" fmla="val 10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5" name="组合 59"/>
          <p:cNvGrpSpPr/>
          <p:nvPr/>
        </p:nvGrpSpPr>
        <p:grpSpPr>
          <a:xfrm>
            <a:off x="214560" y="3665880"/>
            <a:ext cx="3536280" cy="620280"/>
            <a:chOff x="214560" y="3665880"/>
            <a:chExt cx="3536280" cy="620280"/>
          </a:xfrm>
        </p:grpSpPr>
        <p:sp>
          <p:nvSpPr>
            <p:cNvPr id="186" name="矩形 34"/>
            <p:cNvSpPr/>
            <p:nvPr/>
          </p:nvSpPr>
          <p:spPr>
            <a:xfrm rot="10800000">
              <a:off x="214560" y="3665880"/>
              <a:ext cx="3165120" cy="620280"/>
            </a:xfrm>
            <a:prstGeom prst="rect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7" name="等腰三角形 35"/>
            <p:cNvSpPr/>
            <p:nvPr/>
          </p:nvSpPr>
          <p:spPr>
            <a:xfrm flipV="1" rot="16200000">
              <a:off x="3350520" y="3442680"/>
              <a:ext cx="172440" cy="628200"/>
            </a:xfrm>
            <a:prstGeom prst="triangle">
              <a:avLst>
                <a:gd name="adj" fmla="val 10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2114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67118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606888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圆角矩形 11"/>
          <p:cNvSpPr/>
          <p:nvPr/>
        </p:nvSpPr>
        <p:spPr>
          <a:xfrm>
            <a:off x="841320" y="1924200"/>
            <a:ext cx="2360160" cy="2599920"/>
          </a:xfrm>
          <a:prstGeom prst="roundRect">
            <a:avLst>
              <a:gd name="adj" fmla="val 7418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97" name="组合 23"/>
          <p:cNvGrpSpPr/>
          <p:nvPr/>
        </p:nvGrpSpPr>
        <p:grpSpPr>
          <a:xfrm>
            <a:off x="725760" y="2134080"/>
            <a:ext cx="2190240" cy="527400"/>
            <a:chOff x="725760" y="2134080"/>
            <a:chExt cx="2190240" cy="527400"/>
          </a:xfrm>
        </p:grpSpPr>
        <p:grpSp>
          <p:nvGrpSpPr>
            <p:cNvPr id="198" name="组合 24"/>
            <p:cNvGrpSpPr/>
            <p:nvPr/>
          </p:nvGrpSpPr>
          <p:grpSpPr>
            <a:xfrm>
              <a:off x="725760" y="2225160"/>
              <a:ext cx="2190240" cy="436320"/>
              <a:chOff x="725760" y="2225160"/>
              <a:chExt cx="2190240" cy="436320"/>
            </a:xfrm>
          </p:grpSpPr>
          <p:sp>
            <p:nvSpPr>
              <p:cNvPr id="199" name="矩形 16"/>
              <p:cNvSpPr/>
              <p:nvPr/>
            </p:nvSpPr>
            <p:spPr>
              <a:xfrm>
                <a:off x="725760" y="2225160"/>
                <a:ext cx="2047680" cy="43632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0" name="直角三角形 17"/>
              <p:cNvSpPr/>
              <p:nvPr/>
            </p:nvSpPr>
            <p:spPr>
              <a:xfrm>
                <a:off x="2773800" y="2225160"/>
                <a:ext cx="142200" cy="43632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01" name="直角三角形 15"/>
            <p:cNvSpPr/>
            <p:nvPr/>
          </p:nvSpPr>
          <p:spPr>
            <a:xfrm flipH="1">
              <a:off x="725760" y="2134080"/>
              <a:ext cx="118800" cy="9072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02" name="圆角矩形 18"/>
          <p:cNvSpPr/>
          <p:nvPr/>
        </p:nvSpPr>
        <p:spPr>
          <a:xfrm>
            <a:off x="3497400" y="1971720"/>
            <a:ext cx="2360160" cy="2599920"/>
          </a:xfrm>
          <a:prstGeom prst="roundRect">
            <a:avLst>
              <a:gd name="adj" fmla="val 7418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03" name="组合 23"/>
          <p:cNvGrpSpPr/>
          <p:nvPr/>
        </p:nvGrpSpPr>
        <p:grpSpPr>
          <a:xfrm>
            <a:off x="3380760" y="2181960"/>
            <a:ext cx="2190240" cy="527400"/>
            <a:chOff x="3380760" y="2181960"/>
            <a:chExt cx="2190240" cy="527400"/>
          </a:xfrm>
        </p:grpSpPr>
        <p:grpSp>
          <p:nvGrpSpPr>
            <p:cNvPr id="204" name="组合 24"/>
            <p:cNvGrpSpPr/>
            <p:nvPr/>
          </p:nvGrpSpPr>
          <p:grpSpPr>
            <a:xfrm>
              <a:off x="3380760" y="2273040"/>
              <a:ext cx="2190240" cy="436320"/>
              <a:chOff x="3380760" y="2273040"/>
              <a:chExt cx="2190240" cy="436320"/>
            </a:xfrm>
          </p:grpSpPr>
          <p:sp>
            <p:nvSpPr>
              <p:cNvPr id="205" name="矩形 22"/>
              <p:cNvSpPr/>
              <p:nvPr/>
            </p:nvSpPr>
            <p:spPr>
              <a:xfrm>
                <a:off x="3380760" y="2273040"/>
                <a:ext cx="2047680" cy="43632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6" name="直角三角形 23"/>
              <p:cNvSpPr/>
              <p:nvPr/>
            </p:nvSpPr>
            <p:spPr>
              <a:xfrm>
                <a:off x="5428800" y="2273040"/>
                <a:ext cx="142200" cy="43632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07" name="直角三角形 21"/>
            <p:cNvSpPr/>
            <p:nvPr/>
          </p:nvSpPr>
          <p:spPr>
            <a:xfrm flipH="1">
              <a:off x="3380760" y="2181960"/>
              <a:ext cx="118800" cy="9072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08" name="圆角矩形 24"/>
          <p:cNvSpPr/>
          <p:nvPr/>
        </p:nvSpPr>
        <p:spPr>
          <a:xfrm>
            <a:off x="6211800" y="1971720"/>
            <a:ext cx="2360160" cy="2599920"/>
          </a:xfrm>
          <a:prstGeom prst="roundRect">
            <a:avLst>
              <a:gd name="adj" fmla="val 7418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09" name="组合 23"/>
          <p:cNvGrpSpPr/>
          <p:nvPr/>
        </p:nvGrpSpPr>
        <p:grpSpPr>
          <a:xfrm>
            <a:off x="6095520" y="2181960"/>
            <a:ext cx="2190240" cy="527400"/>
            <a:chOff x="6095520" y="2181960"/>
            <a:chExt cx="2190240" cy="527400"/>
          </a:xfrm>
        </p:grpSpPr>
        <p:grpSp>
          <p:nvGrpSpPr>
            <p:cNvPr id="210" name="组合 24"/>
            <p:cNvGrpSpPr/>
            <p:nvPr/>
          </p:nvGrpSpPr>
          <p:grpSpPr>
            <a:xfrm>
              <a:off x="6095520" y="2273040"/>
              <a:ext cx="2190240" cy="436320"/>
              <a:chOff x="6095520" y="2273040"/>
              <a:chExt cx="2190240" cy="436320"/>
            </a:xfrm>
          </p:grpSpPr>
          <p:sp>
            <p:nvSpPr>
              <p:cNvPr id="211" name="矩形 28"/>
              <p:cNvSpPr/>
              <p:nvPr/>
            </p:nvSpPr>
            <p:spPr>
              <a:xfrm>
                <a:off x="6095520" y="2273040"/>
                <a:ext cx="2047680" cy="43632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2" name="直角三角形 29"/>
              <p:cNvSpPr/>
              <p:nvPr/>
            </p:nvSpPr>
            <p:spPr>
              <a:xfrm>
                <a:off x="8143560" y="2273040"/>
                <a:ext cx="142200" cy="43632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13" name="直角三角形 27"/>
            <p:cNvSpPr/>
            <p:nvPr/>
          </p:nvSpPr>
          <p:spPr>
            <a:xfrm flipH="1">
              <a:off x="6095520" y="2181960"/>
              <a:ext cx="118800" cy="9072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14986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6926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4141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0"/>
          <p:cNvSpPr/>
          <p:nvPr/>
        </p:nvSpPr>
        <p:spPr>
          <a:xfrm>
            <a:off x="511200" y="225900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511200" y="2608200"/>
            <a:ext cx="2646000" cy="3376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511200" y="294624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511200" y="32860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矩形 14"/>
          <p:cNvSpPr/>
          <p:nvPr/>
        </p:nvSpPr>
        <p:spPr>
          <a:xfrm>
            <a:off x="511200" y="3625920"/>
            <a:ext cx="2646000" cy="3376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511200" y="39736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矩形 16"/>
          <p:cNvSpPr/>
          <p:nvPr/>
        </p:nvSpPr>
        <p:spPr>
          <a:xfrm>
            <a:off x="511200" y="431316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9" name="矩形 17"/>
          <p:cNvSpPr/>
          <p:nvPr/>
        </p:nvSpPr>
        <p:spPr>
          <a:xfrm>
            <a:off x="3317760" y="2259000"/>
            <a:ext cx="264744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3317760" y="2608200"/>
            <a:ext cx="2647440" cy="3376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1" name="矩形 19"/>
          <p:cNvSpPr/>
          <p:nvPr/>
        </p:nvSpPr>
        <p:spPr>
          <a:xfrm>
            <a:off x="3317760" y="2946240"/>
            <a:ext cx="264744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3317760" y="3286080"/>
            <a:ext cx="264744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矩形 21"/>
          <p:cNvSpPr/>
          <p:nvPr/>
        </p:nvSpPr>
        <p:spPr>
          <a:xfrm>
            <a:off x="3317760" y="3625920"/>
            <a:ext cx="2647440" cy="3376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4" name="矩形 22"/>
          <p:cNvSpPr/>
          <p:nvPr/>
        </p:nvSpPr>
        <p:spPr>
          <a:xfrm>
            <a:off x="3317760" y="3973680"/>
            <a:ext cx="264744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5" name="矩形 23"/>
          <p:cNvSpPr/>
          <p:nvPr/>
        </p:nvSpPr>
        <p:spPr>
          <a:xfrm>
            <a:off x="3317760" y="4313160"/>
            <a:ext cx="264744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6126120" y="225900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矩形 25"/>
          <p:cNvSpPr/>
          <p:nvPr/>
        </p:nvSpPr>
        <p:spPr>
          <a:xfrm>
            <a:off x="6126120" y="2608200"/>
            <a:ext cx="2646000" cy="3376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8" name="矩形 26"/>
          <p:cNvSpPr/>
          <p:nvPr/>
        </p:nvSpPr>
        <p:spPr>
          <a:xfrm>
            <a:off x="6126120" y="294624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矩形 27"/>
          <p:cNvSpPr/>
          <p:nvPr/>
        </p:nvSpPr>
        <p:spPr>
          <a:xfrm>
            <a:off x="6126120" y="32860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0" name="矩形 28"/>
          <p:cNvSpPr/>
          <p:nvPr/>
        </p:nvSpPr>
        <p:spPr>
          <a:xfrm>
            <a:off x="6126120" y="3625920"/>
            <a:ext cx="2646000" cy="3376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1" name="矩形 29"/>
          <p:cNvSpPr/>
          <p:nvPr/>
        </p:nvSpPr>
        <p:spPr>
          <a:xfrm>
            <a:off x="6126120" y="39736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矩形 30"/>
          <p:cNvSpPr/>
          <p:nvPr/>
        </p:nvSpPr>
        <p:spPr>
          <a:xfrm>
            <a:off x="6126120" y="431316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矩形 32"/>
          <p:cNvSpPr/>
          <p:nvPr/>
        </p:nvSpPr>
        <p:spPr>
          <a:xfrm>
            <a:off x="511200" y="1571760"/>
            <a:ext cx="2646000" cy="68688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44" name="组合 59"/>
          <p:cNvGrpSpPr/>
          <p:nvPr/>
        </p:nvGrpSpPr>
        <p:grpSpPr>
          <a:xfrm>
            <a:off x="428760" y="1684440"/>
            <a:ext cx="800280" cy="303480"/>
            <a:chOff x="428760" y="1684440"/>
            <a:chExt cx="800280" cy="303480"/>
          </a:xfrm>
        </p:grpSpPr>
        <p:sp>
          <p:nvSpPr>
            <p:cNvPr id="245" name="任意多边形 35"/>
            <p:cNvSpPr/>
            <p:nvPr/>
          </p:nvSpPr>
          <p:spPr>
            <a:xfrm flipV="1">
              <a:off x="428760" y="1719360"/>
              <a:ext cx="800280" cy="2682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022681" h="342899">
                  <a:moveTo>
                    <a:pt x="0" y="0"/>
                  </a:moveTo>
                  <a:lnTo>
                    <a:pt x="1022681" y="0"/>
                  </a:lnTo>
                  <a:lnTo>
                    <a:pt x="1022681" y="8036"/>
                  </a:lnTo>
                  <a:lnTo>
                    <a:pt x="762826" y="342899"/>
                  </a:lnTo>
                  <a:lnTo>
                    <a:pt x="0" y="342899"/>
                  </a:lnTo>
                  <a:close/>
                </a:path>
              </a:pathLst>
            </a:cu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直角三角形 36"/>
            <p:cNvSpPr/>
            <p:nvPr/>
          </p:nvSpPr>
          <p:spPr>
            <a:xfrm flipH="1">
              <a:off x="428760" y="1684440"/>
              <a:ext cx="94320" cy="35280"/>
            </a:xfrm>
            <a:prstGeom prst="rtTriangl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47" name="矩形 38"/>
          <p:cNvSpPr/>
          <p:nvPr/>
        </p:nvSpPr>
        <p:spPr>
          <a:xfrm>
            <a:off x="3317760" y="1571760"/>
            <a:ext cx="2647440" cy="68688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48" name="组合 60"/>
          <p:cNvGrpSpPr/>
          <p:nvPr/>
        </p:nvGrpSpPr>
        <p:grpSpPr>
          <a:xfrm>
            <a:off x="3218400" y="1684440"/>
            <a:ext cx="800280" cy="303480"/>
            <a:chOff x="3218400" y="1684440"/>
            <a:chExt cx="800280" cy="303480"/>
          </a:xfrm>
        </p:grpSpPr>
        <p:sp>
          <p:nvSpPr>
            <p:cNvPr id="249" name="任意多边形 41"/>
            <p:cNvSpPr/>
            <p:nvPr/>
          </p:nvSpPr>
          <p:spPr>
            <a:xfrm flipV="1">
              <a:off x="3218400" y="1719360"/>
              <a:ext cx="800280" cy="2682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022681" h="342899">
                  <a:moveTo>
                    <a:pt x="0" y="0"/>
                  </a:moveTo>
                  <a:lnTo>
                    <a:pt x="1022681" y="0"/>
                  </a:lnTo>
                  <a:lnTo>
                    <a:pt x="1022681" y="8036"/>
                  </a:lnTo>
                  <a:lnTo>
                    <a:pt x="762826" y="342899"/>
                  </a:lnTo>
                  <a:lnTo>
                    <a:pt x="0" y="342899"/>
                  </a:lnTo>
                  <a:close/>
                </a:path>
              </a:pathLst>
            </a:cu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50" name="直角三角形 42"/>
            <p:cNvSpPr/>
            <p:nvPr/>
          </p:nvSpPr>
          <p:spPr>
            <a:xfrm flipH="1">
              <a:off x="3218400" y="1684440"/>
              <a:ext cx="94320" cy="35280"/>
            </a:xfrm>
            <a:prstGeom prst="rtTriangl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1" name="矩形 44"/>
          <p:cNvSpPr/>
          <p:nvPr/>
        </p:nvSpPr>
        <p:spPr>
          <a:xfrm>
            <a:off x="6126120" y="1571760"/>
            <a:ext cx="2646000" cy="68688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52" name="组合 63"/>
          <p:cNvGrpSpPr/>
          <p:nvPr/>
        </p:nvGrpSpPr>
        <p:grpSpPr>
          <a:xfrm>
            <a:off x="6032520" y="1684440"/>
            <a:ext cx="800280" cy="303480"/>
            <a:chOff x="6032520" y="1684440"/>
            <a:chExt cx="800280" cy="303480"/>
          </a:xfrm>
        </p:grpSpPr>
        <p:sp>
          <p:nvSpPr>
            <p:cNvPr id="253" name="任意多边形 47"/>
            <p:cNvSpPr/>
            <p:nvPr/>
          </p:nvSpPr>
          <p:spPr>
            <a:xfrm flipV="1">
              <a:off x="6032520" y="1719360"/>
              <a:ext cx="800280" cy="2682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022681" h="342899">
                  <a:moveTo>
                    <a:pt x="0" y="0"/>
                  </a:moveTo>
                  <a:lnTo>
                    <a:pt x="1022681" y="0"/>
                  </a:lnTo>
                  <a:lnTo>
                    <a:pt x="1022681" y="8036"/>
                  </a:lnTo>
                  <a:lnTo>
                    <a:pt x="762826" y="342899"/>
                  </a:lnTo>
                  <a:lnTo>
                    <a:pt x="0" y="342899"/>
                  </a:lnTo>
                  <a:close/>
                </a:path>
              </a:pathLst>
            </a:cu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54" name="直角三角形 48"/>
            <p:cNvSpPr/>
            <p:nvPr/>
          </p:nvSpPr>
          <p:spPr>
            <a:xfrm flipH="1">
              <a:off x="6032520" y="1684440"/>
              <a:ext cx="94320" cy="35280"/>
            </a:xfrm>
            <a:prstGeom prst="rtTriangl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5" name="矩形 50"/>
          <p:cNvSpPr/>
          <p:nvPr/>
        </p:nvSpPr>
        <p:spPr>
          <a:xfrm>
            <a:off x="511200" y="4653000"/>
            <a:ext cx="2646000" cy="57420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6" name="矩形 53"/>
          <p:cNvSpPr/>
          <p:nvPr/>
        </p:nvSpPr>
        <p:spPr>
          <a:xfrm>
            <a:off x="3317760" y="4653000"/>
            <a:ext cx="2647440" cy="57420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矩形 56"/>
          <p:cNvSpPr/>
          <p:nvPr/>
        </p:nvSpPr>
        <p:spPr>
          <a:xfrm>
            <a:off x="6126120" y="4653000"/>
            <a:ext cx="2646000" cy="57420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3"/>
          <p:cNvSpPr/>
          <p:nvPr/>
        </p:nvSpPr>
        <p:spPr>
          <a:xfrm>
            <a:off x="6997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4"/>
          <p:cNvSpPr/>
          <p:nvPr/>
        </p:nvSpPr>
        <p:spPr>
          <a:xfrm>
            <a:off x="4354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135576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5712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  <Words>294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40:33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