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7E8238E3-0F58-4E66-BA3B-9DB6BE6DD35F}" type="doc">
      <dgm:prSet loTypeId="urn:microsoft.com/office/officeart/2005/8/layout/hProcess4" loCatId="process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7B5AE738-93C7-43C8-9DB6-5F01C0495DE4}">
      <dgm:prSet phldrT="[文本]" custT="1"/>
      <dgm:spPr>
        <a:solidFill>
          <a:srgbClr val="F49453"/>
        </a:solidFill>
      </dgm:spPr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E82CA1AC-9DD4-4F43-B8BE-187C5E36B814}" type="parTrans" cxnId="{B602405C-175D-402B-A0CB-743B528C1A38}">
      <dgm:prSet/>
      <dgm:spPr/>
      <dgm:t>
        <a:bodyPr/>
        <a:lstStyle/>
        <a:p>
          <a:endParaRPr lang="zh-CN" altLang="en-US"/>
        </a:p>
      </dgm:t>
    </dgm:pt>
    <dgm:pt modelId="{0A42F8B8-4764-4BB2-B0E7-5D5E32EC3C23}" type="sibTrans" cxnId="{B602405C-175D-402B-A0CB-743B528C1A38}">
      <dgm:prSet/>
      <dgm:spPr/>
      <dgm:t>
        <a:bodyPr/>
        <a:lstStyle/>
        <a:p>
          <a:endParaRPr lang="zh-CN" altLang="en-US"/>
        </a:p>
      </dgm:t>
    </dgm:pt>
    <dgm:pt modelId="{AFBFCE69-D95F-465E-B5DB-FDE90EFCA149}">
      <dgm:prSet phldrT="[文本]" custT="1"/>
      <dgm:spPr>
        <a:solidFill>
          <a:srgbClr val="FFFFFF">
            <a:alpha val="90000"/>
          </a:srgbClr>
        </a:solidFill>
        <a:ln w="22225">
          <a:solidFill>
            <a:srgbClr val="986BA0"/>
          </a:solidFill>
        </a:ln>
      </dgm:spPr>
      <dgm:t>
        <a:bodyPr/>
        <a:lstStyle/>
        <a:p>
          <a:endParaRPr lang="zh-CN" altLang="en-US" sz="1400" dirty="0">
            <a:solidFill>
              <a:srgbClr val="1C1C1C"/>
            </a:solidFill>
          </a:endParaRPr>
        </a:p>
      </dgm:t>
    </dgm:pt>
    <dgm:pt modelId="{FE1BBF74-839A-4F92-81C7-C1EB3E1819FB}" type="parTrans" cxnId="{ECFFA45D-FD60-4B86-9C2F-EC05E7307511}">
      <dgm:prSet/>
      <dgm:spPr/>
      <dgm:t>
        <a:bodyPr/>
        <a:lstStyle/>
        <a:p>
          <a:endParaRPr lang="zh-CN" altLang="en-US"/>
        </a:p>
      </dgm:t>
    </dgm:pt>
    <dgm:pt modelId="{FF90C5F3-FB4D-4EC1-9360-BC8A9E605B54}" type="sibTrans" cxnId="{ECFFA45D-FD60-4B86-9C2F-EC05E7307511}">
      <dgm:prSet/>
      <dgm:spPr/>
      <dgm:t>
        <a:bodyPr/>
        <a:lstStyle/>
        <a:p>
          <a:endParaRPr lang="zh-CN" altLang="en-US"/>
        </a:p>
      </dgm:t>
    </dgm:pt>
    <dgm:pt modelId="{50D1D4AE-6284-4639-B39D-7107C967DE93}">
      <dgm:prSet phldrT="[文本]" custT="1"/>
      <dgm:spPr>
        <a:solidFill>
          <a:srgbClr val="F49453"/>
        </a:solidFill>
      </dgm:spPr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F883ABD2-DD0E-40DD-BD0F-C33D93DB3A0A}" type="parTrans" cxnId="{6E256C9E-1278-4C22-B513-BE6F49E87AE9}">
      <dgm:prSet/>
      <dgm:spPr/>
      <dgm:t>
        <a:bodyPr/>
        <a:lstStyle/>
        <a:p>
          <a:endParaRPr lang="zh-CN" altLang="en-US"/>
        </a:p>
      </dgm:t>
    </dgm:pt>
    <dgm:pt modelId="{6B680945-A323-4172-9DE0-35B7D7CE503D}" type="sibTrans" cxnId="{6E256C9E-1278-4C22-B513-BE6F49E87AE9}">
      <dgm:prSet/>
      <dgm:spPr/>
      <dgm:t>
        <a:bodyPr/>
        <a:lstStyle/>
        <a:p>
          <a:endParaRPr lang="zh-CN" altLang="en-US"/>
        </a:p>
      </dgm:t>
    </dgm:pt>
    <dgm:pt modelId="{07F363F8-5443-4D43-B030-85B1BD2F4B99}">
      <dgm:prSet phldrT="[文本]" custT="1"/>
      <dgm:spPr>
        <a:solidFill>
          <a:srgbClr val="FFFFFF">
            <a:alpha val="90000"/>
          </a:srgbClr>
        </a:solidFill>
        <a:ln w="22225">
          <a:solidFill>
            <a:srgbClr val="986BA0"/>
          </a:solidFill>
        </a:ln>
      </dgm:spPr>
      <dgm:t>
        <a:bodyPr/>
        <a:lstStyle/>
        <a:p>
          <a:endParaRPr lang="zh-CN" altLang="en-US" sz="1400" dirty="0">
            <a:solidFill>
              <a:srgbClr val="1C1C1C"/>
            </a:solidFill>
          </a:endParaRPr>
        </a:p>
      </dgm:t>
    </dgm:pt>
    <dgm:pt modelId="{E7B1A53C-508A-4D5A-9F51-A19F7262204D}" type="parTrans" cxnId="{D744D89F-8F00-49B8-A9CF-23175566DA43}">
      <dgm:prSet/>
      <dgm:spPr/>
      <dgm:t>
        <a:bodyPr/>
        <a:lstStyle/>
        <a:p>
          <a:endParaRPr lang="zh-CN" altLang="en-US"/>
        </a:p>
      </dgm:t>
    </dgm:pt>
    <dgm:pt modelId="{0633A044-18CC-4725-89A3-47F862423F3F}" type="sibTrans" cxnId="{D744D89F-8F00-49B8-A9CF-23175566DA43}">
      <dgm:prSet/>
      <dgm:spPr/>
      <dgm:t>
        <a:bodyPr/>
        <a:lstStyle/>
        <a:p>
          <a:endParaRPr lang="zh-CN" altLang="en-US"/>
        </a:p>
      </dgm:t>
    </dgm:pt>
    <dgm:pt modelId="{A92D798B-F514-4C55-9637-4ECD7BC618AD}">
      <dgm:prSet phldrT="[文本]" custT="1"/>
      <dgm:spPr>
        <a:solidFill>
          <a:srgbClr val="F49453"/>
        </a:solidFill>
      </dgm:spPr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6D1221F9-81B4-4EF1-B42A-472C601797C8}" type="parTrans" cxnId="{7A77D7F9-A012-4264-8060-ABEB881DF896}">
      <dgm:prSet/>
      <dgm:spPr/>
      <dgm:t>
        <a:bodyPr/>
        <a:lstStyle/>
        <a:p>
          <a:endParaRPr lang="zh-CN" altLang="en-US"/>
        </a:p>
      </dgm:t>
    </dgm:pt>
    <dgm:pt modelId="{FAA4E5DD-8388-4257-B651-89A2FA4D0752}" type="sibTrans" cxnId="{7A77D7F9-A012-4264-8060-ABEB881DF896}">
      <dgm:prSet/>
      <dgm:spPr/>
      <dgm:t>
        <a:bodyPr/>
        <a:lstStyle/>
        <a:p>
          <a:endParaRPr lang="zh-CN" altLang="en-US"/>
        </a:p>
      </dgm:t>
    </dgm:pt>
    <dgm:pt modelId="{44E8B082-45DE-4A7F-A9F8-53876133B0D6}">
      <dgm:prSet phldrT="[文本]" custT="1"/>
      <dgm:spPr>
        <a:solidFill>
          <a:srgbClr val="FFFFFF">
            <a:alpha val="90000"/>
          </a:srgbClr>
        </a:solidFill>
        <a:ln w="22225">
          <a:solidFill>
            <a:srgbClr val="986BA0"/>
          </a:solidFill>
        </a:ln>
      </dgm:spPr>
      <dgm:t>
        <a:bodyPr/>
        <a:lstStyle/>
        <a:p>
          <a:endParaRPr lang="zh-CN" altLang="en-US" sz="1400" dirty="0">
            <a:solidFill>
              <a:srgbClr val="1C1C1C"/>
            </a:solidFill>
          </a:endParaRPr>
        </a:p>
      </dgm:t>
    </dgm:pt>
    <dgm:pt modelId="{B162AAEE-0187-4161-83E1-503EB3717844}" type="parTrans" cxnId="{8ECEADA3-C94D-449D-870C-6B75FF1028CE}">
      <dgm:prSet/>
      <dgm:spPr/>
      <dgm:t>
        <a:bodyPr/>
        <a:lstStyle/>
        <a:p>
          <a:endParaRPr lang="zh-CN" altLang="en-US"/>
        </a:p>
      </dgm:t>
    </dgm:pt>
    <dgm:pt modelId="{A484B21F-1807-4F86-8D1E-82F2DDAE378C}" type="sibTrans" cxnId="{8ECEADA3-C94D-449D-870C-6B75FF1028CE}">
      <dgm:prSet/>
      <dgm:spPr/>
      <dgm:t>
        <a:bodyPr/>
        <a:lstStyle/>
        <a:p>
          <a:endParaRPr lang="zh-CN" altLang="en-US"/>
        </a:p>
      </dgm:t>
    </dgm:pt>
    <dgm:pt modelId="{99E50B6F-CDEF-4513-B3B6-C75FA17A2E12}" type="pres">
      <dgm:prSet presAssocID="{7E8238E3-0F58-4E66-BA3B-9DB6BE6DD35F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66ED8938-C4F5-455A-B0C4-2FE0DA5BF18E}" type="pres">
      <dgm:prSet presAssocID="{7E8238E3-0F58-4E66-BA3B-9DB6BE6DD35F}" presName="tSp" presStyleCnt="0"/>
      <dgm:spPr/>
    </dgm:pt>
    <dgm:pt modelId="{2E111DA8-6F33-4A9B-9F89-8E0BA97EEB40}" type="pres">
      <dgm:prSet presAssocID="{7E8238E3-0F58-4E66-BA3B-9DB6BE6DD35F}" presName="bSp" presStyleCnt="0"/>
      <dgm:spPr/>
    </dgm:pt>
    <dgm:pt modelId="{51C00026-C4D5-49C4-8079-60A70CC9A993}" type="pres">
      <dgm:prSet presAssocID="{7E8238E3-0F58-4E66-BA3B-9DB6BE6DD35F}" presName="process" presStyleCnt="0"/>
      <dgm:spPr/>
    </dgm:pt>
    <dgm:pt modelId="{AB571A68-42A2-4F7C-BD6D-A65EF0A79D57}" type="pres">
      <dgm:prSet presAssocID="{7B5AE738-93C7-43C8-9DB6-5F01C0495DE4}" presName="composite1" presStyleCnt="0"/>
      <dgm:spPr/>
    </dgm:pt>
    <dgm:pt modelId="{8D83914C-F646-47C9-86D3-46B2B8A75942}" type="pres">
      <dgm:prSet presAssocID="{7B5AE738-93C7-43C8-9DB6-5F01C0495DE4}" presName="dummyNode1" presStyleLbl="node1" presStyleIdx="0" presStyleCnt="3"/>
      <dgm:spPr/>
    </dgm:pt>
    <dgm:pt modelId="{3A56968A-E0A1-4472-A81F-33AF83D89196}" type="pres">
      <dgm:prSet presAssocID="{7B5AE738-93C7-43C8-9DB6-5F01C0495DE4}" presName="childNode1" presStyleLbl="bgAcc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85351F3-A84E-4E77-8FAE-5FE9A70E5BD1}" type="pres">
      <dgm:prSet presAssocID="{7B5AE738-93C7-43C8-9DB6-5F01C0495DE4}" presName="childNode1tx" presStyleLbl="bgAcc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3246614-B449-443A-B0F1-95E91921E9D8}" type="pres">
      <dgm:prSet presAssocID="{7B5AE738-93C7-43C8-9DB6-5F01C0495DE4}" presName="parentNode1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C101A1B-316F-4708-8B9D-3719DC1F7B01}" type="pres">
      <dgm:prSet presAssocID="{7B5AE738-93C7-43C8-9DB6-5F01C0495DE4}" presName="connSite1" presStyleCnt="0"/>
      <dgm:spPr/>
    </dgm:pt>
    <dgm:pt modelId="{806460DA-3BDB-4235-8F83-5E07F6F8F17D}" type="pres">
      <dgm:prSet presAssocID="{0A42F8B8-4764-4BB2-B0E7-5D5E32EC3C23}" presName="Name9" presStyleLbl="sibTrans2D1" presStyleIdx="0" presStyleCnt="2"/>
      <dgm:spPr/>
      <dgm:t>
        <a:bodyPr/>
        <a:lstStyle/>
        <a:p>
          <a:endParaRPr lang="zh-CN" altLang="en-US"/>
        </a:p>
      </dgm:t>
    </dgm:pt>
    <dgm:pt modelId="{F4DA058E-0EB1-48CF-9C37-9A410B6031B6}" type="pres">
      <dgm:prSet presAssocID="{50D1D4AE-6284-4639-B39D-7107C967DE93}" presName="composite2" presStyleCnt="0"/>
      <dgm:spPr/>
    </dgm:pt>
    <dgm:pt modelId="{285D0E3D-AB51-41D0-B8A1-D4D22AB6E7BF}" type="pres">
      <dgm:prSet presAssocID="{50D1D4AE-6284-4639-B39D-7107C967DE93}" presName="dummyNode2" presStyleLbl="node1" presStyleIdx="0" presStyleCnt="3"/>
      <dgm:spPr/>
    </dgm:pt>
    <dgm:pt modelId="{8D87B9EB-96F2-4066-86EF-89D7AFAEA69E}" type="pres">
      <dgm:prSet presAssocID="{50D1D4AE-6284-4639-B39D-7107C967DE93}" presName="childNode2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547749D9-95A7-4758-A1D5-44C0C97D642A}" type="pres">
      <dgm:prSet presAssocID="{50D1D4AE-6284-4639-B39D-7107C967DE93}" presName="childNode2tx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35B912B-C3EC-41D4-A7E3-1B2F9D15219C}" type="pres">
      <dgm:prSet presAssocID="{50D1D4AE-6284-4639-B39D-7107C967DE93}" presName="parentNode2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262FE74-7744-4C35-8542-96856CB5F4D2}" type="pres">
      <dgm:prSet presAssocID="{50D1D4AE-6284-4639-B39D-7107C967DE93}" presName="connSite2" presStyleCnt="0"/>
      <dgm:spPr/>
    </dgm:pt>
    <dgm:pt modelId="{511FCBE0-7C2E-46E5-B1C1-B7E2BD5EB0F5}" type="pres">
      <dgm:prSet presAssocID="{6B680945-A323-4172-9DE0-35B7D7CE503D}" presName="Name18" presStyleLbl="sibTrans2D1" presStyleIdx="1" presStyleCnt="2"/>
      <dgm:spPr/>
      <dgm:t>
        <a:bodyPr/>
        <a:lstStyle/>
        <a:p>
          <a:endParaRPr lang="zh-CN" altLang="en-US"/>
        </a:p>
      </dgm:t>
    </dgm:pt>
    <dgm:pt modelId="{EFC49B28-E7A3-4C69-A7AD-B42CEEBD2192}" type="pres">
      <dgm:prSet presAssocID="{A92D798B-F514-4C55-9637-4ECD7BC618AD}" presName="composite1" presStyleCnt="0"/>
      <dgm:spPr/>
    </dgm:pt>
    <dgm:pt modelId="{CFE5C617-7C03-4756-9AE2-C062FC0BF34F}" type="pres">
      <dgm:prSet presAssocID="{A92D798B-F514-4C55-9637-4ECD7BC618AD}" presName="dummyNode1" presStyleLbl="node1" presStyleIdx="1" presStyleCnt="3"/>
      <dgm:spPr/>
    </dgm:pt>
    <dgm:pt modelId="{D627A842-D3B2-492A-BCBB-66750577F7BE}" type="pres">
      <dgm:prSet presAssocID="{A92D798B-F514-4C55-9637-4ECD7BC618AD}" presName="childNode1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ABC0C0E-391E-48E1-B23C-66A1E1642A9F}" type="pres">
      <dgm:prSet presAssocID="{A92D798B-F514-4C55-9637-4ECD7BC618AD}" presName="childNode1tx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324AE40-C757-43FB-8D9F-7736A07938F3}" type="pres">
      <dgm:prSet presAssocID="{A92D798B-F514-4C55-9637-4ECD7BC618AD}" presName="parentNode1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D51103C7-D87B-4778-B101-1BB33A337979}" type="pres">
      <dgm:prSet presAssocID="{A92D798B-F514-4C55-9637-4ECD7BC618AD}" presName="connSite1" presStyleCnt="0"/>
      <dgm:spPr/>
    </dgm:pt>
  </dgm:ptLst>
  <dgm:cxnLst>
    <dgm:cxn modelId="{6E256C9E-1278-4C22-B513-BE6F49E87AE9}" srcId="{7E8238E3-0F58-4E66-BA3B-9DB6BE6DD35F}" destId="{50D1D4AE-6284-4639-B39D-7107C967DE93}" srcOrd="1" destOrd="0" parTransId="{F883ABD2-DD0E-40DD-BD0F-C33D93DB3A0A}" sibTransId="{6B680945-A323-4172-9DE0-35B7D7CE503D}"/>
    <dgm:cxn modelId="{4846F925-7F8E-456A-81A1-5139B121A415}" type="presOf" srcId="{A92D798B-F514-4C55-9637-4ECD7BC618AD}" destId="{9324AE40-C757-43FB-8D9F-7736A07938F3}" srcOrd="0" destOrd="0" presId="urn:microsoft.com/office/officeart/2005/8/layout/hProcess4"/>
    <dgm:cxn modelId="{ECFFA45D-FD60-4B86-9C2F-EC05E7307511}" srcId="{7B5AE738-93C7-43C8-9DB6-5F01C0495DE4}" destId="{AFBFCE69-D95F-465E-B5DB-FDE90EFCA149}" srcOrd="0" destOrd="0" parTransId="{FE1BBF74-839A-4F92-81C7-C1EB3E1819FB}" sibTransId="{FF90C5F3-FB4D-4EC1-9360-BC8A9E605B54}"/>
    <dgm:cxn modelId="{609194D7-3C45-4821-9D26-B861B467769F}" type="presOf" srcId="{7E8238E3-0F58-4E66-BA3B-9DB6BE6DD35F}" destId="{99E50B6F-CDEF-4513-B3B6-C75FA17A2E12}" srcOrd="0" destOrd="0" presId="urn:microsoft.com/office/officeart/2005/8/layout/hProcess4"/>
    <dgm:cxn modelId="{C7C4D29C-D552-471E-BEC0-006F5B63864A}" type="presOf" srcId="{0A42F8B8-4764-4BB2-B0E7-5D5E32EC3C23}" destId="{806460DA-3BDB-4235-8F83-5E07F6F8F17D}" srcOrd="0" destOrd="0" presId="urn:microsoft.com/office/officeart/2005/8/layout/hProcess4"/>
    <dgm:cxn modelId="{165EDB7A-F8CD-42E6-A7B1-6E4E719BBBA0}" type="presOf" srcId="{07F363F8-5443-4D43-B030-85B1BD2F4B99}" destId="{547749D9-95A7-4758-A1D5-44C0C97D642A}" srcOrd="1" destOrd="0" presId="urn:microsoft.com/office/officeart/2005/8/layout/hProcess4"/>
    <dgm:cxn modelId="{0C1250A3-4333-4F14-AA85-E855B35B1592}" type="presOf" srcId="{AFBFCE69-D95F-465E-B5DB-FDE90EFCA149}" destId="{F85351F3-A84E-4E77-8FAE-5FE9A70E5BD1}" srcOrd="1" destOrd="0" presId="urn:microsoft.com/office/officeart/2005/8/layout/hProcess4"/>
    <dgm:cxn modelId="{7A77D7F9-A012-4264-8060-ABEB881DF896}" srcId="{7E8238E3-0F58-4E66-BA3B-9DB6BE6DD35F}" destId="{A92D798B-F514-4C55-9637-4ECD7BC618AD}" srcOrd="2" destOrd="0" parTransId="{6D1221F9-81B4-4EF1-B42A-472C601797C8}" sibTransId="{FAA4E5DD-8388-4257-B651-89A2FA4D0752}"/>
    <dgm:cxn modelId="{D59F606E-2CEB-478F-B5FD-9247D75C0C93}" type="presOf" srcId="{07F363F8-5443-4D43-B030-85B1BD2F4B99}" destId="{8D87B9EB-96F2-4066-86EF-89D7AFAEA69E}" srcOrd="0" destOrd="0" presId="urn:microsoft.com/office/officeart/2005/8/layout/hProcess4"/>
    <dgm:cxn modelId="{1EA60BA5-F980-42B1-AAC2-6371D0106420}" type="presOf" srcId="{44E8B082-45DE-4A7F-A9F8-53876133B0D6}" destId="{D627A842-D3B2-492A-BCBB-66750577F7BE}" srcOrd="0" destOrd="0" presId="urn:microsoft.com/office/officeart/2005/8/layout/hProcess4"/>
    <dgm:cxn modelId="{C5C068F9-1A6A-48DC-ABE8-C5EE3765C4B5}" type="presOf" srcId="{6B680945-A323-4172-9DE0-35B7D7CE503D}" destId="{511FCBE0-7C2E-46E5-B1C1-B7E2BD5EB0F5}" srcOrd="0" destOrd="0" presId="urn:microsoft.com/office/officeart/2005/8/layout/hProcess4"/>
    <dgm:cxn modelId="{D744D89F-8F00-49B8-A9CF-23175566DA43}" srcId="{50D1D4AE-6284-4639-B39D-7107C967DE93}" destId="{07F363F8-5443-4D43-B030-85B1BD2F4B99}" srcOrd="0" destOrd="0" parTransId="{E7B1A53C-508A-4D5A-9F51-A19F7262204D}" sibTransId="{0633A044-18CC-4725-89A3-47F862423F3F}"/>
    <dgm:cxn modelId="{7934850A-45A9-44A4-AA68-CFB70E515C7D}" type="presOf" srcId="{AFBFCE69-D95F-465E-B5DB-FDE90EFCA149}" destId="{3A56968A-E0A1-4472-A81F-33AF83D89196}" srcOrd="0" destOrd="0" presId="urn:microsoft.com/office/officeart/2005/8/layout/hProcess4"/>
    <dgm:cxn modelId="{8ECEADA3-C94D-449D-870C-6B75FF1028CE}" srcId="{A92D798B-F514-4C55-9637-4ECD7BC618AD}" destId="{44E8B082-45DE-4A7F-A9F8-53876133B0D6}" srcOrd="0" destOrd="0" parTransId="{B162AAEE-0187-4161-83E1-503EB3717844}" sibTransId="{A484B21F-1807-4F86-8D1E-82F2DDAE378C}"/>
    <dgm:cxn modelId="{B602405C-175D-402B-A0CB-743B528C1A38}" srcId="{7E8238E3-0F58-4E66-BA3B-9DB6BE6DD35F}" destId="{7B5AE738-93C7-43C8-9DB6-5F01C0495DE4}" srcOrd="0" destOrd="0" parTransId="{E82CA1AC-9DD4-4F43-B8BE-187C5E36B814}" sibTransId="{0A42F8B8-4764-4BB2-B0E7-5D5E32EC3C23}"/>
    <dgm:cxn modelId="{08F026DF-FAC9-41BB-A89F-BDD37808C7C1}" type="presOf" srcId="{50D1D4AE-6284-4639-B39D-7107C967DE93}" destId="{C35B912B-C3EC-41D4-A7E3-1B2F9D15219C}" srcOrd="0" destOrd="0" presId="urn:microsoft.com/office/officeart/2005/8/layout/hProcess4"/>
    <dgm:cxn modelId="{3D980997-A1E3-42F4-9697-3D5088E4A125}" type="presOf" srcId="{44E8B082-45DE-4A7F-A9F8-53876133B0D6}" destId="{1ABC0C0E-391E-48E1-B23C-66A1E1642A9F}" srcOrd="1" destOrd="0" presId="urn:microsoft.com/office/officeart/2005/8/layout/hProcess4"/>
    <dgm:cxn modelId="{7BE75483-B596-49F7-AB22-7996BFB67CE3}" type="presOf" srcId="{7B5AE738-93C7-43C8-9DB6-5F01C0495DE4}" destId="{93246614-B449-443A-B0F1-95E91921E9D8}" srcOrd="0" destOrd="0" presId="urn:microsoft.com/office/officeart/2005/8/layout/hProcess4"/>
    <dgm:cxn modelId="{38A41E3B-5C95-4E55-8C89-F9995DD2689B}" type="presParOf" srcId="{99E50B6F-CDEF-4513-B3B6-C75FA17A2E12}" destId="{66ED8938-C4F5-455A-B0C4-2FE0DA5BF18E}" srcOrd="0" destOrd="0" presId="urn:microsoft.com/office/officeart/2005/8/layout/hProcess4"/>
    <dgm:cxn modelId="{753C7523-C808-450D-AE6E-3DAAE2BE5DAF}" type="presParOf" srcId="{99E50B6F-CDEF-4513-B3B6-C75FA17A2E12}" destId="{2E111DA8-6F33-4A9B-9F89-8E0BA97EEB40}" srcOrd="1" destOrd="0" presId="urn:microsoft.com/office/officeart/2005/8/layout/hProcess4"/>
    <dgm:cxn modelId="{6A540235-8C96-4CFD-9FFA-7271EE5EF7B3}" type="presParOf" srcId="{99E50B6F-CDEF-4513-B3B6-C75FA17A2E12}" destId="{51C00026-C4D5-49C4-8079-60A70CC9A993}" srcOrd="2" destOrd="0" presId="urn:microsoft.com/office/officeart/2005/8/layout/hProcess4"/>
    <dgm:cxn modelId="{2CE69ABC-ACAA-4BEC-9614-6B01223A1FE0}" type="presParOf" srcId="{51C00026-C4D5-49C4-8079-60A70CC9A993}" destId="{AB571A68-42A2-4F7C-BD6D-A65EF0A79D57}" srcOrd="0" destOrd="0" presId="urn:microsoft.com/office/officeart/2005/8/layout/hProcess4"/>
    <dgm:cxn modelId="{A5DDEF03-7405-4FB3-BF6D-D94F157DBD35}" type="presParOf" srcId="{AB571A68-42A2-4F7C-BD6D-A65EF0A79D57}" destId="{8D83914C-F646-47C9-86D3-46B2B8A75942}" srcOrd="0" destOrd="0" presId="urn:microsoft.com/office/officeart/2005/8/layout/hProcess4"/>
    <dgm:cxn modelId="{9418BC11-523F-4258-87F2-CF2A3B79CBEA}" type="presParOf" srcId="{AB571A68-42A2-4F7C-BD6D-A65EF0A79D57}" destId="{3A56968A-E0A1-4472-A81F-33AF83D89196}" srcOrd="1" destOrd="0" presId="urn:microsoft.com/office/officeart/2005/8/layout/hProcess4"/>
    <dgm:cxn modelId="{0407F5D2-C762-40EB-8903-484268987B87}" type="presParOf" srcId="{AB571A68-42A2-4F7C-BD6D-A65EF0A79D57}" destId="{F85351F3-A84E-4E77-8FAE-5FE9A70E5BD1}" srcOrd="2" destOrd="0" presId="urn:microsoft.com/office/officeart/2005/8/layout/hProcess4"/>
    <dgm:cxn modelId="{26E68EAB-2854-4D9B-8A7F-A2999825D9C2}" type="presParOf" srcId="{AB571A68-42A2-4F7C-BD6D-A65EF0A79D57}" destId="{93246614-B449-443A-B0F1-95E91921E9D8}" srcOrd="3" destOrd="0" presId="urn:microsoft.com/office/officeart/2005/8/layout/hProcess4"/>
    <dgm:cxn modelId="{ACD5AD83-184C-4C83-ADF6-A5CF6F3E5DBE}" type="presParOf" srcId="{AB571A68-42A2-4F7C-BD6D-A65EF0A79D57}" destId="{3C101A1B-316F-4708-8B9D-3719DC1F7B01}" srcOrd="4" destOrd="0" presId="urn:microsoft.com/office/officeart/2005/8/layout/hProcess4"/>
    <dgm:cxn modelId="{2CCD6F56-3B37-4013-9C6F-11F001D700F9}" type="presParOf" srcId="{51C00026-C4D5-49C4-8079-60A70CC9A993}" destId="{806460DA-3BDB-4235-8F83-5E07F6F8F17D}" srcOrd="1" destOrd="0" presId="urn:microsoft.com/office/officeart/2005/8/layout/hProcess4"/>
    <dgm:cxn modelId="{CD910096-5E44-48F3-8BE8-C83733BCC5E6}" type="presParOf" srcId="{51C00026-C4D5-49C4-8079-60A70CC9A993}" destId="{F4DA058E-0EB1-48CF-9C37-9A410B6031B6}" srcOrd="2" destOrd="0" presId="urn:microsoft.com/office/officeart/2005/8/layout/hProcess4"/>
    <dgm:cxn modelId="{E6FCDF87-4BD8-44F2-BA21-6E4A72D3EA31}" type="presParOf" srcId="{F4DA058E-0EB1-48CF-9C37-9A410B6031B6}" destId="{285D0E3D-AB51-41D0-B8A1-D4D22AB6E7BF}" srcOrd="0" destOrd="0" presId="urn:microsoft.com/office/officeart/2005/8/layout/hProcess4"/>
    <dgm:cxn modelId="{F56C481F-E739-43EB-BDBE-4A58DA387891}" type="presParOf" srcId="{F4DA058E-0EB1-48CF-9C37-9A410B6031B6}" destId="{8D87B9EB-96F2-4066-86EF-89D7AFAEA69E}" srcOrd="1" destOrd="0" presId="urn:microsoft.com/office/officeart/2005/8/layout/hProcess4"/>
    <dgm:cxn modelId="{A6260E1F-5B51-462F-AD92-095C117DED85}" type="presParOf" srcId="{F4DA058E-0EB1-48CF-9C37-9A410B6031B6}" destId="{547749D9-95A7-4758-A1D5-44C0C97D642A}" srcOrd="2" destOrd="0" presId="urn:microsoft.com/office/officeart/2005/8/layout/hProcess4"/>
    <dgm:cxn modelId="{179868A9-2F0F-4120-A4E6-8B08FA7D38F8}" type="presParOf" srcId="{F4DA058E-0EB1-48CF-9C37-9A410B6031B6}" destId="{C35B912B-C3EC-41D4-A7E3-1B2F9D15219C}" srcOrd="3" destOrd="0" presId="urn:microsoft.com/office/officeart/2005/8/layout/hProcess4"/>
    <dgm:cxn modelId="{3F8624CB-3155-4FF8-9756-041FB4BE8331}" type="presParOf" srcId="{F4DA058E-0EB1-48CF-9C37-9A410B6031B6}" destId="{4262FE74-7744-4C35-8542-96856CB5F4D2}" srcOrd="4" destOrd="0" presId="urn:microsoft.com/office/officeart/2005/8/layout/hProcess4"/>
    <dgm:cxn modelId="{2C781CA4-CC1D-457A-A8FE-13713DF56CD4}" type="presParOf" srcId="{51C00026-C4D5-49C4-8079-60A70CC9A993}" destId="{511FCBE0-7C2E-46E5-B1C1-B7E2BD5EB0F5}" srcOrd="3" destOrd="0" presId="urn:microsoft.com/office/officeart/2005/8/layout/hProcess4"/>
    <dgm:cxn modelId="{C45E34B1-AF86-4D57-B856-148F4A3278AC}" type="presParOf" srcId="{51C00026-C4D5-49C4-8079-60A70CC9A993}" destId="{EFC49B28-E7A3-4C69-A7AD-B42CEEBD2192}" srcOrd="4" destOrd="0" presId="urn:microsoft.com/office/officeart/2005/8/layout/hProcess4"/>
    <dgm:cxn modelId="{27EA56B4-0B23-4840-BB67-5820BF843AF6}" type="presParOf" srcId="{EFC49B28-E7A3-4C69-A7AD-B42CEEBD2192}" destId="{CFE5C617-7C03-4756-9AE2-C062FC0BF34F}" srcOrd="0" destOrd="0" presId="urn:microsoft.com/office/officeart/2005/8/layout/hProcess4"/>
    <dgm:cxn modelId="{B490ABD7-D467-4E6D-AA44-0A96DF9DA369}" type="presParOf" srcId="{EFC49B28-E7A3-4C69-A7AD-B42CEEBD2192}" destId="{D627A842-D3B2-492A-BCBB-66750577F7BE}" srcOrd="1" destOrd="0" presId="urn:microsoft.com/office/officeart/2005/8/layout/hProcess4"/>
    <dgm:cxn modelId="{6E61BDAE-060A-4856-A6E1-FF3AA74279A1}" type="presParOf" srcId="{EFC49B28-E7A3-4C69-A7AD-B42CEEBD2192}" destId="{1ABC0C0E-391E-48E1-B23C-66A1E1642A9F}" srcOrd="2" destOrd="0" presId="urn:microsoft.com/office/officeart/2005/8/layout/hProcess4"/>
    <dgm:cxn modelId="{F0EF4F25-6118-40F6-9DD2-4A87E6727A8D}" type="presParOf" srcId="{EFC49B28-E7A3-4C69-A7AD-B42CEEBD2192}" destId="{9324AE40-C757-43FB-8D9F-7736A07938F3}" srcOrd="3" destOrd="0" presId="urn:microsoft.com/office/officeart/2005/8/layout/hProcess4"/>
    <dgm:cxn modelId="{6768C1B2-E43D-414A-99AF-48401F70DEF8}" type="presParOf" srcId="{EFC49B28-E7A3-4C69-A7AD-B42CEEBD2192}" destId="{D51103C7-D87B-4778-B101-1BB33A337979}" srcOrd="4" destOrd="0" presId="urn:microsoft.com/office/officeart/2005/8/layout/hProcess4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hProcess4">
  <dgm:title val=""/>
  <dgm:desc val=""/>
  <dgm:catLst>
    <dgm:cat type="process" pri="4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composite"/>
    <dgm:shape xmlns:r="http://schemas.openxmlformats.org/officeDocument/2006/relationships" r:blip="">
      <dgm:adjLst/>
    </dgm:shape>
    <dgm:presOf/>
    <dgm:constrLst>
      <dgm:constr type="w" for="ch" forName="tSp" refType="w"/>
      <dgm:constr type="h" for="ch" forName="tSp" refType="h" fact="0.15"/>
      <dgm:constr type="l" for="ch" forName="tSp"/>
      <dgm:constr type="t" for="ch" forName="tSp"/>
      <dgm:constr type="w" for="ch" forName="bSp" refType="w"/>
      <dgm:constr type="h" for="ch" forName="bSp" refType="h" fact="0.15"/>
      <dgm:constr type="l" for="ch" forName="bSp"/>
      <dgm:constr type="t" for="ch" forName="bSp" refType="h" fact="0.85"/>
      <dgm:constr type="w" for="ch" forName="process" refType="w"/>
      <dgm:constr type="h" for="ch" forName="process" refType="h" fact="0.7"/>
      <dgm:constr type="l" for="ch" forName="process"/>
      <dgm:constr type="t" for="ch" forName="process" refType="h" fact="0.15"/>
    </dgm:constrLst>
    <dgm:ruleLst/>
    <dgm:layoutNode name="t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b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process">
      <dgm:choose name="Name1">
        <dgm:if name="Name2" func="var" arg="dir" op="equ" val="norm">
          <dgm:alg type="lin">
            <dgm:param type="linDir" val="fromL"/>
          </dgm:alg>
        </dgm:if>
        <dgm:else name="Name3">
          <dgm:alg type="lin">
            <dgm:param type="linDir" val="fromR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w" for="ch" forName="composite1" refType="w"/>
        <dgm:constr type="w" for="ch" forName="composite2" refType="w" refFor="ch" refForName="composite1" op="equ"/>
        <dgm:constr type="h" for="ch" forName="composite1" refType="h"/>
        <dgm:constr type="h" for="ch" forName="composite2" refType="h" refFor="ch" refForName="composite1" op="equ"/>
        <dgm:constr type="primFontSz" for="des" forName="parentNode1" val="65"/>
        <dgm:constr type="primFontSz" for="des" forName="parentNode2" refType="primFontSz" refFor="des" refForName="parentNode1" op="equ"/>
        <dgm:constr type="secFontSz" for="des" forName="childNode1tx" val="65"/>
        <dgm:constr type="secFontSz" for="des" forName="childNode2tx" refType="secFontSz" refFor="des" refForName="childNode1tx" op="equ"/>
        <dgm:constr type="w" for="des" ptType="sibTrans" refType="w" refFor="ch" refForName="composite1" op="equ" fact="0.05"/>
      </dgm:constrLst>
      <dgm:ruleLst/>
      <dgm:forEach name="Name4" axis="ch" ptType="node" step="2">
        <dgm:layoutNode name="composite1">
          <dgm:alg type="composite">
            <dgm:param type="ar" val="0.943"/>
          </dgm:alg>
          <dgm:shape xmlns:r="http://schemas.openxmlformats.org/officeDocument/2006/relationships" r:blip="">
            <dgm:adjLst/>
          </dgm:shape>
          <dgm:presOf/>
          <dgm:choose name="Name5">
            <dgm:if name="Name6" func="var" arg="dir" op="equ" val="norm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 refType="w" fact="0.2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35"/>
              </dgm:constrLst>
            </dgm:if>
            <dgm:else name="Name7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 refType="w" fact="0.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 refType="w" fact="0.1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65"/>
              </dgm:constrLst>
            </dgm:else>
          </dgm:choose>
          <dgm:ruleLst/>
          <dgm:layoutNode name="dummyNode1">
            <dgm:alg type="sp"/>
            <dgm:shape xmlns:r="http://schemas.openxmlformats.org/officeDocument/2006/relationships" type="rect" r:blip="" hideGeom="1">
              <dgm:adjLst/>
            </dgm:shape>
            <dgm:presOf/>
            <dgm:constrLst/>
            <dgm:ruleLst/>
          </dgm:layoutNode>
          <dgm:layoutNode name="childNode1" styleLbl="bgAcc1">
            <dgm:varLst>
              <dgm:bulletEnabled val="1"/>
            </dgm:varLst>
            <dgm:alg type="sp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/>
            <dgm:ruleLst/>
          </dgm:layoutNode>
          <dgm:layoutNode name="childNode1tx" styleLbl="bgAcc1">
            <dgm:varLst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 hideGeom="1">
              <dgm:adjLst>
                <dgm:adj idx="1" val="0.1"/>
              </dgm:adjLst>
            </dgm:shape>
            <dgm:presOf axis="des" ptType="node"/>
            <dgm:constrLst>
              <dgm:constr type="secFontSz" val="65"/>
              <dgm:constr type="primFontSz" refType="secFontSz"/>
              <dgm:constr type="tMarg" refType="secFontSz" fact="0.15"/>
              <dgm:constr type="bMarg" refType="secFontSz" fact="0.15"/>
              <dgm:constr type="lMarg" refType="secFontSz" fact="0.15"/>
              <dgm:constr type="rMarg" refType="secFontSz" fact="0.15"/>
            </dgm:constrLst>
            <dgm:ruleLst>
              <dgm:rule type="secFontSz" val="5" fact="NaN" max="NaN"/>
            </dgm:ruleLst>
          </dgm:layoutNode>
          <dgm:layoutNode name="parentNode1" styleLbl="node1">
            <dgm:varLst>
              <dgm:chMax val="1"/>
              <dgm:bulletEnabled val="1"/>
            </dgm:varLst>
            <dgm:alg type="tx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self"/>
            <dgm:constrLst>
              <dgm:constr type="tMarg" refType="primFontSz" fact="0.1"/>
              <dgm:constr type="bMarg" refType="primFontSz" fact="0.1"/>
              <dgm:constr type="lMarg" refType="primFontSz" fact="0.15"/>
              <dgm:constr type="rMarg" refType="primFontSz" fact="0.15"/>
            </dgm:constrLst>
            <dgm:ruleLst>
              <dgm:rule type="primFontSz" val="5" fact="NaN" max="NaN"/>
            </dgm:ruleLst>
          </dgm:layoutNode>
          <dgm:layoutNode name="connSite1" moveWith="childNode1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layoutNode>
        <dgm:forEach name="Name8" axis="followSib" ptType="sibTrans" cnt="1">
          <dgm:layoutNode name="Name9">
            <dgm:alg type="conn">
              <dgm:param type="connRout" val="curve"/>
              <dgm:param type="srcNode" val="parentNode1"/>
              <dgm:param type="dstNode" val="connSite2"/>
              <dgm:param type="begPts" val="bCtr"/>
              <dgm:param type="endPts" val="bCtr"/>
            </dgm:alg>
            <dgm:shape xmlns:r="http://schemas.openxmlformats.org/officeDocument/2006/relationships" type="conn" r:blip="" zOrderOff="-2">
              <dgm:adjLst/>
            </dgm:shape>
            <dgm:presOf axis="self"/>
            <dgm:choose name="Name10">
              <dgm:if name="Name11" func="var" arg="dir" op="equ" val="norm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-1.15"/>
                  <dgm:constr type="begPad"/>
                  <dgm:constr type="endPad"/>
                </dgm:constrLst>
              </dgm:if>
              <dgm:else name="Name12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1.15"/>
                  <dgm:constr type="begPad"/>
                  <dgm:constr type="endPad"/>
                </dgm:constrLst>
              </dgm:else>
            </dgm:choose>
            <dgm:ruleLst/>
          </dgm:layoutNode>
        </dgm:forEach>
        <dgm:forEach name="Name13" axis="followSib" ptType="node" cnt="1">
          <dgm:layoutNode name="composite2">
            <dgm:alg type="composite">
              <dgm:param type="ar" val="0.943"/>
            </dgm:alg>
            <dgm:shape xmlns:r="http://schemas.openxmlformats.org/officeDocument/2006/relationships" r:blip="">
              <dgm:adjLst/>
            </dgm:shape>
            <dgm:presOf/>
            <dgm:choose name="Name14">
              <dgm:if name="Name15" func="var" arg="dir" op="equ" val="norm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 refType="w" fact="0.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25"/>
                </dgm:constrLst>
              </dgm:if>
              <dgm:else name="Name16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 refType="w" fact="0.1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 refType="w" fact="0.1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85"/>
                </dgm:constrLst>
              </dgm:else>
            </dgm:choose>
            <dgm:ruleLst/>
            <dgm:layoutNode name="dummyNode2">
              <dgm:alg type="sp"/>
              <dgm:shape xmlns:r="http://schemas.openxmlformats.org/officeDocument/2006/relationships" type="rect" r:blip="" hideGeom="1">
                <dgm:adjLst/>
              </dgm:shape>
              <dgm:presOf/>
              <dgm:constrLst/>
              <dgm:ruleLst/>
            </dgm:layoutNode>
            <dgm:layoutNode name="childNode2" styleLbl="bgAcc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des" ptType="node"/>
              <dgm:constrLst/>
              <dgm:ruleLst/>
            </dgm:layoutNode>
            <dgm:layoutNode name="childNode2tx" styleLbl="bgAcc1">
              <dgm:varLst>
                <dgm:bulletEnabled val="1"/>
              </dgm:varLst>
              <dgm:alg type="tx">
                <dgm:param type="stBulletLvl" val="1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des" ptType="node"/>
              <dgm:constrLst>
                <dgm:constr type="secFontSz" val="65"/>
                <dgm:constr type="primFontSz" refType="secFontSz"/>
                <dgm:constr type="tMarg" refType="secFontSz" fact="0.15"/>
                <dgm:constr type="bMarg" refType="secFontSz" fact="0.15"/>
                <dgm:constr type="lMarg" refType="secFontSz" fact="0.15"/>
                <dgm:constr type="rMarg" refType="secFontSz" fact="0.15"/>
              </dgm:constrLst>
              <dgm:ruleLst>
                <dgm:rule type="secFontSz" val="5" fact="NaN" max="NaN"/>
              </dgm:ruleLst>
            </dgm:layoutNode>
            <dgm:layoutNode name="parentNode2" styleLbl="node1">
              <dgm:varLst>
                <dgm:chMax val="0"/>
                <dgm:bulletEnabled val="1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1"/>
                <dgm:constr type="bMarg" refType="primFontSz" fact="0.1"/>
                <dgm:constr type="lMarg" refType="primFontSz" fact="0.15"/>
                <dgm:constr type="rMarg" refType="primFontSz" fact="0.15"/>
              </dgm:constrLst>
              <dgm:ruleLst>
                <dgm:rule type="primFontSz" val="5" fact="NaN" max="NaN"/>
              </dgm:ruleLst>
            </dgm:layoutNode>
            <dgm:layoutNode name="connSite2" moveWith="childNode2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layoutNode>
          <dgm:forEach name="Name17" axis="followSib" ptType="sibTrans" cnt="1">
            <dgm:layoutNode name="Name18">
              <dgm:alg type="conn">
                <dgm:param type="connRout" val="curve"/>
                <dgm:param type="srcNode" val="parentNode2"/>
                <dgm:param type="dstNode" val="connSite1"/>
                <dgm:param type="begPts" val="tCtr"/>
                <dgm:param type="endPts" val="tCtr"/>
              </dgm:alg>
              <dgm:shape xmlns:r="http://schemas.openxmlformats.org/officeDocument/2006/relationships" type="conn" r:blip="" zOrderOff="-2">
                <dgm:adjLst/>
              </dgm:shape>
              <dgm:presOf axis="self"/>
              <dgm:choose name="Name19">
                <dgm:if name="Name20" func="var" arg="dir" op="equ" val="norm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1.15"/>
                    <dgm:constr type="begPad"/>
                    <dgm:constr type="endPad"/>
                  </dgm:constrLst>
                </dgm:if>
                <dgm:else name="Name21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-1.15"/>
                    <dgm:constr type="begPad"/>
                    <dgm:constr type="endPad"/>
                  </dgm:constrLst>
                </dgm:else>
              </dgm:choose>
              <dgm:ruleLst/>
            </dgm:layoutNode>
          </dgm:forEach>
        </dgm:forEach>
      </dgm:forEach>
    </dgm:layoutNod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65F6-3AAA-4272-ADF5-F1D598DDE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389D-93BC-42A6-B903-01B73A50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7596-CF21-429A-906D-6B2053520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4C14-3D63-48D7-81A7-010456259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C259-DE3F-4BDE-904E-9906FF8E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E202-1CB2-4ADC-B58A-FC67EC10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CA02-1237-434E-989D-A3A06232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561E-79D7-44D5-AD85-EE3C4E4D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BB97-766F-4ED1-887B-D64293C8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0867-B210-4AC6-AF40-62612A4F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4044-A958-462A-8DED-C0165ED6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47A7-45A3-40D2-8D53-C1166A4E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E7C795-202A-40E7-A172-8CB88297A49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357880" y="712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接连接符 6"/>
          <p:cNvCxnSpPr/>
          <p:nvPr/>
        </p:nvCxnSpPr>
        <p:spPr>
          <a:xfrm>
            <a:off x="1143000" y="5481360"/>
            <a:ext cx="3000600" cy="21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3" name="矩形 1"/>
          <p:cNvSpPr/>
          <p:nvPr/>
        </p:nvSpPr>
        <p:spPr>
          <a:xfrm>
            <a:off x="1486440" y="4653000"/>
            <a:ext cx="5301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经典行书简"/>
                <a:ea typeface="微软雅黑"/>
              </a:rPr>
              <a:t>商务面谈通用</a:t>
            </a:r>
            <a:r>
              <a:rPr b="1" lang="en-US" sz="4000" spc="-1" strike="noStrike">
                <a:solidFill>
                  <a:srgbClr val="000000"/>
                </a:solidFill>
                <a:latin typeface="经典行书简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经典行书简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75"/>
          <p:cNvSpPr/>
          <p:nvPr/>
        </p:nvSpPr>
        <p:spPr>
          <a:xfrm>
            <a:off x="1992240" y="2376360"/>
            <a:ext cx="5290920" cy="1800000"/>
          </a:xfrm>
          <a:prstGeom prst="downArrow">
            <a:avLst>
              <a:gd name="adj1" fmla="val 80356"/>
              <a:gd name="adj2" fmla="val 54167"/>
            </a:avLst>
          </a:prstGeom>
          <a:solidFill>
            <a:srgbClr val="986ba0"/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76" name="Oval 2"/>
          <p:cNvSpPr/>
          <p:nvPr/>
        </p:nvSpPr>
        <p:spPr>
          <a:xfrm>
            <a:off x="3929040" y="1571760"/>
            <a:ext cx="1323720" cy="1368000"/>
          </a:xfrm>
          <a:prstGeom prst="ellipse">
            <a:avLst/>
          </a:prstGeom>
          <a:solidFill>
            <a:srgbClr val="f49453"/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77" name="Oval 2"/>
          <p:cNvSpPr/>
          <p:nvPr/>
        </p:nvSpPr>
        <p:spPr>
          <a:xfrm>
            <a:off x="5929200" y="1643040"/>
            <a:ext cx="1361880" cy="1368000"/>
          </a:xfrm>
          <a:prstGeom prst="ellipse">
            <a:avLst/>
          </a:prstGeom>
          <a:solidFill>
            <a:srgbClr val="f49453"/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78" name="Oval 2"/>
          <p:cNvSpPr/>
          <p:nvPr/>
        </p:nvSpPr>
        <p:spPr>
          <a:xfrm>
            <a:off x="1709640" y="1714680"/>
            <a:ext cx="1361880" cy="1368000"/>
          </a:xfrm>
          <a:prstGeom prst="ellipse">
            <a:avLst/>
          </a:prstGeom>
          <a:solidFill>
            <a:srgbClr val="f49453"/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7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3"/>
          <p:cNvSpPr/>
          <p:nvPr/>
        </p:nvSpPr>
        <p:spPr>
          <a:xfrm>
            <a:off x="6140520" y="2201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4"/>
          <p:cNvSpPr/>
          <p:nvPr/>
        </p:nvSpPr>
        <p:spPr>
          <a:xfrm>
            <a:off x="406872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5"/>
          <p:cNvSpPr/>
          <p:nvPr/>
        </p:nvSpPr>
        <p:spPr>
          <a:xfrm>
            <a:off x="1927080" y="22734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81"/>
          <p:cNvSpPr/>
          <p:nvPr/>
        </p:nvSpPr>
        <p:spPr>
          <a:xfrm>
            <a:off x="1387800" y="4302000"/>
            <a:ext cx="1979640" cy="1079640"/>
          </a:xfrm>
          <a:prstGeom prst="roundRect">
            <a:avLst>
              <a:gd name="adj" fmla="val 8789"/>
            </a:avLst>
          </a:prstGeom>
          <a:solidFill>
            <a:srgbClr val="f49453"/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contourW="19050">
            <a:bevelT prst="artDeco" w="101600"/>
            <a:bevelB w="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82"/>
          <p:cNvSpPr/>
          <p:nvPr/>
        </p:nvSpPr>
        <p:spPr>
          <a:xfrm>
            <a:off x="3647880" y="4302000"/>
            <a:ext cx="1979640" cy="1079640"/>
          </a:xfrm>
          <a:prstGeom prst="roundRect">
            <a:avLst>
              <a:gd name="adj" fmla="val 10212"/>
            </a:avLst>
          </a:prstGeom>
          <a:solidFill>
            <a:srgbClr val="f49453"/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contourW="19050">
            <a:bevelT prst="artDeco" w="101600"/>
            <a:bevelB w="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83"/>
          <p:cNvSpPr/>
          <p:nvPr/>
        </p:nvSpPr>
        <p:spPr>
          <a:xfrm>
            <a:off x="5906160" y="4302000"/>
            <a:ext cx="1979640" cy="1079640"/>
          </a:xfrm>
          <a:prstGeom prst="roundRect">
            <a:avLst>
              <a:gd name="adj" fmla="val 11948"/>
            </a:avLst>
          </a:prstGeom>
          <a:solidFill>
            <a:srgbClr val="f49453"/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contourW="19050">
            <a:bevelT prst="artDeco" w="101600"/>
            <a:bevelB w="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306360" y="637380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3"/>
          <p:cNvSpPr/>
          <p:nvPr/>
        </p:nvSpPr>
        <p:spPr>
          <a:xfrm>
            <a:off x="2514600" y="2295360"/>
            <a:ext cx="4557240" cy="70920"/>
          </a:xfrm>
          <a:prstGeom prst="rect">
            <a:avLst/>
          </a:prstGeom>
          <a:solidFill>
            <a:srgbClr val="986ba0"/>
          </a:solidFill>
          <a:ln w="127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533680" y="1836720"/>
            <a:ext cx="4538160" cy="429840"/>
          </a:xfrm>
          <a:prstGeom prst="rect">
            <a:avLst/>
          </a:prstGeom>
          <a:solidFill>
            <a:srgbClr val="986ba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1f497d"/>
              </a:solidFill>
              <a:latin typeface="Calibri"/>
              <a:ea typeface="微软雅黑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2514600" y="2968560"/>
            <a:ext cx="4557240" cy="72720"/>
          </a:xfrm>
          <a:prstGeom prst="rect">
            <a:avLst/>
          </a:prstGeom>
          <a:solidFill>
            <a:srgbClr val="f49453"/>
          </a:solidFill>
          <a:ln w="127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2533680" y="2509920"/>
            <a:ext cx="4538160" cy="431280"/>
          </a:xfrm>
          <a:prstGeom prst="rect">
            <a:avLst/>
          </a:prstGeom>
          <a:solidFill>
            <a:srgbClr val="f4945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1f497d"/>
              </a:solidFill>
              <a:latin typeface="Calibri"/>
              <a:ea typeface="微软雅黑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2514600" y="3683160"/>
            <a:ext cx="4557240" cy="72720"/>
          </a:xfrm>
          <a:prstGeom prst="rect">
            <a:avLst/>
          </a:prstGeom>
          <a:solidFill>
            <a:srgbClr val="986ba0"/>
          </a:solidFill>
          <a:ln w="127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533680" y="3224160"/>
            <a:ext cx="4538160" cy="431280"/>
          </a:xfrm>
          <a:prstGeom prst="rect">
            <a:avLst/>
          </a:prstGeom>
          <a:solidFill>
            <a:srgbClr val="986ba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1f497d"/>
              </a:solidFill>
              <a:latin typeface="Calibri"/>
              <a:ea typeface="微软雅黑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2514600" y="4357800"/>
            <a:ext cx="4557240" cy="70920"/>
          </a:xfrm>
          <a:prstGeom prst="rect">
            <a:avLst/>
          </a:prstGeom>
          <a:solidFill>
            <a:srgbClr val="f49453"/>
          </a:solidFill>
          <a:ln w="127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533680" y="3898800"/>
            <a:ext cx="4538160" cy="429840"/>
          </a:xfrm>
          <a:prstGeom prst="rect">
            <a:avLst/>
          </a:prstGeom>
          <a:solidFill>
            <a:srgbClr val="f4945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1f497d"/>
              </a:solidFill>
              <a:latin typeface="Calibri"/>
              <a:ea typeface="微软雅黑"/>
            </a:endParaRPr>
          </a:p>
        </p:txBody>
      </p:sp>
      <p:sp>
        <p:nvSpPr>
          <p:cNvPr id="5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500040" y="500040"/>
            <a:ext cx="1142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0"/>
          <p:cNvSpPr/>
          <p:nvPr/>
        </p:nvSpPr>
        <p:spPr>
          <a:xfrm>
            <a:off x="4283280" y="257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1"/>
          <p:cNvSpPr/>
          <p:nvPr/>
        </p:nvSpPr>
        <p:spPr>
          <a:xfrm>
            <a:off x="428328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2"/>
          <p:cNvSpPr/>
          <p:nvPr/>
        </p:nvSpPr>
        <p:spPr>
          <a:xfrm>
            <a:off x="428328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2"/>
          <p:cNvSpPr/>
          <p:nvPr/>
        </p:nvSpPr>
        <p:spPr>
          <a:xfrm>
            <a:off x="4283280" y="185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3"/>
          <p:cNvSpPr/>
          <p:nvPr/>
        </p:nvSpPr>
        <p:spPr>
          <a:xfrm>
            <a:off x="1557360" y="1438200"/>
            <a:ext cx="5943240" cy="4038120"/>
          </a:xfrm>
          <a:custGeom>
            <a:avLst/>
            <a:gdLst>
              <a:gd name="textAreaLeft" fmla="*/ 0 w 5943240"/>
              <a:gd name="textAreaRight" fmla="*/ 5943600 w 5943240"/>
              <a:gd name="textAreaTop" fmla="*/ 0 h 4038120"/>
              <a:gd name="textAreaBottom" fmla="*/ 4038480 h 4038120"/>
            </a:gdLst>
            <a:ahLst/>
            <a:rect l="textAreaLeft" t="textAreaTop" r="textAreaRight" b="textAreaBottom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solidFill>
            <a:srgbClr val="986ba0"/>
          </a:solidFill>
          <a:ln w="0">
            <a:noFill/>
          </a:ln>
          <a:effectLst>
            <a:outerShdw algn="ctr" dir="8252688" dist="206395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34"/>
          <p:cNvSpPr/>
          <p:nvPr/>
        </p:nvSpPr>
        <p:spPr>
          <a:xfrm rot="20876400">
            <a:off x="3654360" y="4429080"/>
            <a:ext cx="1437840" cy="666360"/>
          </a:xfrm>
          <a:prstGeom prst="ellipse">
            <a:avLst/>
          </a:prstGeom>
          <a:solidFill>
            <a:srgbClr val="0f2145">
              <a:alpha val="3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9" name="Oval 37"/>
          <p:cNvSpPr/>
          <p:nvPr/>
        </p:nvSpPr>
        <p:spPr>
          <a:xfrm>
            <a:off x="3624120" y="3235320"/>
            <a:ext cx="1584000" cy="1555560"/>
          </a:xfrm>
          <a:prstGeom prst="ellipse">
            <a:avLst/>
          </a:prstGeom>
          <a:solidFill>
            <a:srgbClr val="f4945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0" name="Oval 40"/>
          <p:cNvSpPr/>
          <p:nvPr/>
        </p:nvSpPr>
        <p:spPr>
          <a:xfrm rot="20827200">
            <a:off x="1810800" y="3819240"/>
            <a:ext cx="1133280" cy="609120"/>
          </a:xfrm>
          <a:prstGeom prst="ellipse">
            <a:avLst/>
          </a:prstGeom>
          <a:solidFill>
            <a:srgbClr val="0f2145">
              <a:alpha val="3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1" name="Oval 42"/>
          <p:cNvSpPr/>
          <p:nvPr/>
        </p:nvSpPr>
        <p:spPr>
          <a:xfrm>
            <a:off x="1735200" y="2828880"/>
            <a:ext cx="1371240" cy="1441080"/>
          </a:xfrm>
          <a:prstGeom prst="ellipse">
            <a:avLst/>
          </a:prstGeom>
          <a:solidFill>
            <a:srgbClr val="f4945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2" name="Oval 47"/>
          <p:cNvSpPr/>
          <p:nvPr/>
        </p:nvSpPr>
        <p:spPr>
          <a:xfrm>
            <a:off x="1701720" y="2063880"/>
            <a:ext cx="91404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3" name="Oval 48"/>
          <p:cNvSpPr/>
          <p:nvPr/>
        </p:nvSpPr>
        <p:spPr>
          <a:xfrm>
            <a:off x="1778040" y="1457280"/>
            <a:ext cx="1023480" cy="1023480"/>
          </a:xfrm>
          <a:prstGeom prst="ellipse">
            <a:avLst/>
          </a:prstGeom>
          <a:solidFill>
            <a:srgbClr val="f4945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4" name="Oval 53"/>
          <p:cNvSpPr/>
          <p:nvPr/>
        </p:nvSpPr>
        <p:spPr>
          <a:xfrm>
            <a:off x="2968560" y="1533600"/>
            <a:ext cx="685440" cy="228240"/>
          </a:xfrm>
          <a:prstGeom prst="ellipse">
            <a:avLst/>
          </a:prstGeom>
          <a:solidFill>
            <a:srgbClr val="0f2145">
              <a:alpha val="3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5" name="Oval 54"/>
          <p:cNvSpPr/>
          <p:nvPr/>
        </p:nvSpPr>
        <p:spPr>
          <a:xfrm>
            <a:off x="3090960" y="1000080"/>
            <a:ext cx="682200" cy="682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6" name="Oval 55"/>
          <p:cNvSpPr/>
          <p:nvPr/>
        </p:nvSpPr>
        <p:spPr>
          <a:xfrm>
            <a:off x="3100320" y="1003320"/>
            <a:ext cx="664920" cy="666360"/>
          </a:xfrm>
          <a:prstGeom prst="ellipse">
            <a:avLst/>
          </a:prstGeom>
          <a:solidFill>
            <a:srgbClr val="f4945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7" name="矩形 31"/>
          <p:cNvSpPr/>
          <p:nvPr/>
        </p:nvSpPr>
        <p:spPr>
          <a:xfrm>
            <a:off x="2406600" y="1957320"/>
            <a:ext cx="1004040" cy="418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32"/>
          <p:cNvSpPr/>
          <p:nvPr/>
        </p:nvSpPr>
        <p:spPr>
          <a:xfrm>
            <a:off x="4335480" y="3743280"/>
            <a:ext cx="1004040" cy="418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33"/>
          <p:cNvSpPr/>
          <p:nvPr/>
        </p:nvSpPr>
        <p:spPr>
          <a:xfrm>
            <a:off x="2120760" y="3314880"/>
            <a:ext cx="1004040" cy="418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5437080" y="2484360"/>
            <a:ext cx="2563560" cy="2658600"/>
          </a:xfrm>
          <a:prstGeom prst="chevron">
            <a:avLst>
              <a:gd name="adj" fmla="val 16468"/>
            </a:avLst>
          </a:prstGeom>
          <a:solidFill>
            <a:srgbClr val="986ba0"/>
          </a:solidFill>
          <a:ln w="38100">
            <a:solidFill>
              <a:srgbClr val="eaeaea"/>
            </a:solidFill>
            <a:miter/>
          </a:ln>
          <a:effectLst>
            <a:outerShdw algn="ctr" dir="3265096" dist="108891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3290760" y="2484360"/>
            <a:ext cx="2701440" cy="2658600"/>
          </a:xfrm>
          <a:prstGeom prst="chevron">
            <a:avLst>
              <a:gd name="adj" fmla="val 17842"/>
            </a:avLst>
          </a:prstGeom>
          <a:solidFill>
            <a:srgbClr val="f49453"/>
          </a:solidFill>
          <a:ln w="38100">
            <a:solidFill>
              <a:srgbClr val="eaeaea"/>
            </a:solidFill>
            <a:miter/>
          </a:ln>
          <a:effectLst>
            <a:outerShdw algn="ctr" dir="3265096" dist="108891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1143000" y="2484360"/>
            <a:ext cx="2701440" cy="2658600"/>
          </a:xfrm>
          <a:prstGeom prst="chevron">
            <a:avLst>
              <a:gd name="adj" fmla="val 17842"/>
            </a:avLst>
          </a:prstGeom>
          <a:solidFill>
            <a:srgbClr val="986ba0"/>
          </a:solidFill>
          <a:ln w="38100">
            <a:solidFill>
              <a:srgbClr val="eaeaea"/>
            </a:solidFill>
            <a:miter/>
          </a:ln>
          <a:effectLst>
            <a:outerShdw algn="ctr" dir="3265096" dist="108891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1351080" y="1714680"/>
            <a:ext cx="1869840" cy="526680"/>
          </a:xfrm>
          <a:prstGeom prst="roundRect">
            <a:avLst>
              <a:gd name="adj" fmla="val 50000"/>
            </a:avLst>
          </a:prstGeom>
          <a:solidFill>
            <a:srgbClr val="f49453"/>
          </a:solidFill>
          <a:ln w="38100">
            <a:solidFill>
              <a:srgbClr val="ffffff"/>
            </a:solidFill>
            <a:round/>
          </a:ln>
          <a:effectLst>
            <a:outerShdw algn="ctr" dir="3187806" dist="6300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f8f8f8"/>
              </a:solidFill>
              <a:latin typeface="Calibri"/>
              <a:ea typeface="宋体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3459240" y="1714680"/>
            <a:ext cx="1869840" cy="526680"/>
          </a:xfrm>
          <a:prstGeom prst="roundRect">
            <a:avLst>
              <a:gd name="adj" fmla="val 50000"/>
            </a:avLst>
          </a:prstGeom>
          <a:solidFill>
            <a:srgbClr val="986ba0"/>
          </a:solidFill>
          <a:ln w="38100">
            <a:solidFill>
              <a:srgbClr val="ffffff"/>
            </a:solidFill>
            <a:round/>
          </a:ln>
          <a:effectLst>
            <a:outerShdw algn="ctr" dir="3187806" dist="6300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f8f8f8"/>
              </a:solidFill>
              <a:latin typeface="Calibri"/>
              <a:ea typeface="宋体"/>
            </a:endParaRPr>
          </a:p>
        </p:txBody>
      </p:sp>
      <p:sp>
        <p:nvSpPr>
          <p:cNvPr id="90" name="AutoShape 9"/>
          <p:cNvSpPr/>
          <p:nvPr/>
        </p:nvSpPr>
        <p:spPr>
          <a:xfrm>
            <a:off x="5576760" y="1714680"/>
            <a:ext cx="1869840" cy="526680"/>
          </a:xfrm>
          <a:prstGeom prst="roundRect">
            <a:avLst>
              <a:gd name="adj" fmla="val 50000"/>
            </a:avLst>
          </a:prstGeom>
          <a:solidFill>
            <a:srgbClr val="f49453"/>
          </a:solidFill>
          <a:ln w="38100">
            <a:solidFill>
              <a:srgbClr val="ffffff"/>
            </a:solidFill>
            <a:round/>
          </a:ln>
          <a:effectLst>
            <a:outerShdw algn="ctr" dir="3187806" dist="6300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f8f8f8"/>
              </a:solidFill>
              <a:latin typeface="Calibri"/>
              <a:ea typeface="宋体"/>
            </a:endParaRPr>
          </a:p>
        </p:txBody>
      </p:sp>
      <p:sp>
        <p:nvSpPr>
          <p:cNvPr id="91" name="矩形 10"/>
          <p:cNvSpPr/>
          <p:nvPr/>
        </p:nvSpPr>
        <p:spPr>
          <a:xfrm>
            <a:off x="2287440" y="3581280"/>
            <a:ext cx="1004040" cy="418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1"/>
          <p:cNvSpPr/>
          <p:nvPr/>
        </p:nvSpPr>
        <p:spPr>
          <a:xfrm>
            <a:off x="4430880" y="3510000"/>
            <a:ext cx="1004040" cy="418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6502320" y="3510000"/>
            <a:ext cx="1004040" cy="418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871282035"/>
              </p:ext>
            </p:extLst>
          </p:nvPr>
        </p:nvGraphicFramePr>
        <p:xfrm>
          <a:off x="1026000" y="1214280"/>
          <a:ext cx="7331760" cy="4486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9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2"/>
          <p:cNvSpPr/>
          <p:nvPr/>
        </p:nvSpPr>
        <p:spPr>
          <a:xfrm>
            <a:off x="145116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3"/>
          <p:cNvSpPr/>
          <p:nvPr/>
        </p:nvSpPr>
        <p:spPr>
          <a:xfrm>
            <a:off x="666576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4"/>
          <p:cNvSpPr/>
          <p:nvPr/>
        </p:nvSpPr>
        <p:spPr>
          <a:xfrm>
            <a:off x="409428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10"/>
          <p:cNvSpPr/>
          <p:nvPr/>
        </p:nvSpPr>
        <p:spPr>
          <a:xfrm>
            <a:off x="1071720" y="2805120"/>
            <a:ext cx="1618920" cy="1980720"/>
          </a:xfrm>
          <a:prstGeom prst="rect">
            <a:avLst/>
          </a:prstGeom>
          <a:solidFill>
            <a:srgbClr val="986ba0"/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03" name="矩形 11"/>
          <p:cNvSpPr/>
          <p:nvPr/>
        </p:nvSpPr>
        <p:spPr>
          <a:xfrm>
            <a:off x="3664080" y="2271600"/>
            <a:ext cx="1620360" cy="1980720"/>
          </a:xfrm>
          <a:prstGeom prst="rect">
            <a:avLst/>
          </a:prstGeom>
          <a:solidFill>
            <a:srgbClr val="f49453"/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04" name="矩形 12"/>
          <p:cNvSpPr/>
          <p:nvPr/>
        </p:nvSpPr>
        <p:spPr>
          <a:xfrm>
            <a:off x="6308640" y="1922400"/>
            <a:ext cx="1620360" cy="1980720"/>
          </a:xfrm>
          <a:prstGeom prst="rect">
            <a:avLst/>
          </a:prstGeom>
          <a:solidFill>
            <a:srgbClr val="986ba0"/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0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2"/>
          <p:cNvSpPr/>
          <p:nvPr/>
        </p:nvSpPr>
        <p:spPr>
          <a:xfrm>
            <a:off x="135432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3"/>
          <p:cNvSpPr/>
          <p:nvPr/>
        </p:nvSpPr>
        <p:spPr>
          <a:xfrm>
            <a:off x="664056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4"/>
          <p:cNvSpPr/>
          <p:nvPr/>
        </p:nvSpPr>
        <p:spPr>
          <a:xfrm>
            <a:off x="399744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"/>
          <p:cNvSpPr/>
          <p:nvPr/>
        </p:nvSpPr>
        <p:spPr>
          <a:xfrm>
            <a:off x="880920" y="2768760"/>
            <a:ext cx="1618920" cy="1528560"/>
          </a:xfrm>
          <a:prstGeom prst="ellipse">
            <a:avLst/>
          </a:prstGeom>
          <a:solidFill>
            <a:srgbClr val="986ba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64440" bIns="42840" anchor="ctr">
            <a:noAutofit/>
          </a:bodyPr>
          <a:p>
            <a:pPr algn="ctr">
              <a:lnSpc>
                <a:spcPct val="100000"/>
              </a:lnSpc>
              <a:tabLst>
                <a:tab algn="l" pos="687240"/>
                <a:tab algn="l" pos="137484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19" name="Oval 2"/>
          <p:cNvSpPr/>
          <p:nvPr/>
        </p:nvSpPr>
        <p:spPr>
          <a:xfrm>
            <a:off x="3411360" y="3009960"/>
            <a:ext cx="1147320" cy="1058400"/>
          </a:xfrm>
          <a:prstGeom prst="ellipse">
            <a:avLst/>
          </a:prstGeom>
          <a:solidFill>
            <a:srgbClr val="f4945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61200" bIns="42840" anchor="ctr">
            <a:noAutofit/>
          </a:bodyPr>
          <a:p>
            <a:pPr algn="ctr">
              <a:lnSpc>
                <a:spcPct val="100000"/>
              </a:lnSpc>
              <a:tabLst>
                <a:tab algn="l" pos="68724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0" name="Oval 3"/>
          <p:cNvSpPr/>
          <p:nvPr/>
        </p:nvSpPr>
        <p:spPr>
          <a:xfrm>
            <a:off x="3164040" y="4425840"/>
            <a:ext cx="1147320" cy="1060200"/>
          </a:xfrm>
          <a:prstGeom prst="ellipse">
            <a:avLst/>
          </a:prstGeom>
          <a:solidFill>
            <a:srgbClr val="f4945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61200" bIns="42840" anchor="ctr">
            <a:noAutofit/>
          </a:bodyPr>
          <a:p>
            <a:pPr algn="ctr">
              <a:lnSpc>
                <a:spcPct val="100000"/>
              </a:lnSpc>
              <a:tabLst>
                <a:tab algn="l" pos="68724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1" name="Oval 4"/>
          <p:cNvSpPr/>
          <p:nvPr/>
        </p:nvSpPr>
        <p:spPr>
          <a:xfrm>
            <a:off x="3164040" y="1571760"/>
            <a:ext cx="1147320" cy="1060200"/>
          </a:xfrm>
          <a:prstGeom prst="ellipse">
            <a:avLst/>
          </a:prstGeom>
          <a:solidFill>
            <a:srgbClr val="f4945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61200" bIns="42840" anchor="ctr">
            <a:noAutofit/>
          </a:bodyPr>
          <a:p>
            <a:pPr algn="ctr">
              <a:lnSpc>
                <a:spcPct val="100000"/>
              </a:lnSpc>
              <a:tabLst>
                <a:tab algn="l" pos="68724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4740120" y="1589040"/>
            <a:ext cx="3474720" cy="1014120"/>
          </a:xfrm>
          <a:prstGeom prst="roundRect">
            <a:avLst>
              <a:gd name="adj" fmla="val 8153"/>
            </a:avLst>
          </a:prstGeom>
          <a:solidFill>
            <a:srgbClr val="986ba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42000" rIns="85680" tIns="-17280" bIns="-17280" anchor="ctr">
            <a:noAutofit/>
          </a:bodyPr>
          <a:p>
            <a:pPr>
              <a:lnSpc>
                <a:spcPct val="100000"/>
              </a:lnSpc>
              <a:tabLst>
                <a:tab algn="l" pos="687240"/>
                <a:tab algn="l" pos="1374840"/>
                <a:tab algn="l" pos="2063880"/>
                <a:tab algn="l" pos="27511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cxnSp>
        <p:nvCxnSpPr>
          <p:cNvPr id="123" name="AutoShape 6"/>
          <p:cNvCxnSpPr>
            <a:stCxn id="118" idx="7"/>
            <a:endCxn id="121" idx="2"/>
          </p:cNvCxnSpPr>
          <p:nvPr/>
        </p:nvCxnSpPr>
        <p:spPr>
          <a:xfrm flipV="1">
            <a:off x="2263680" y="2101680"/>
            <a:ext cx="900360" cy="89100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4" name="AutoShape 7"/>
          <p:cNvCxnSpPr>
            <a:stCxn id="118" idx="5"/>
            <a:endCxn id="120" idx="2"/>
          </p:cNvCxnSpPr>
          <p:nvPr/>
        </p:nvCxnSpPr>
        <p:spPr>
          <a:xfrm>
            <a:off x="2263680" y="4073400"/>
            <a:ext cx="900360" cy="88308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5" name="AutoShape 8"/>
          <p:cNvCxnSpPr>
            <a:stCxn id="118" idx="6"/>
            <a:endCxn id="119" idx="2"/>
          </p:cNvCxnSpPr>
          <p:nvPr/>
        </p:nvCxnSpPr>
        <p:spPr>
          <a:xfrm>
            <a:off x="2500200" y="3531960"/>
            <a:ext cx="911520" cy="684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26" name="AutoShape 9"/>
          <p:cNvSpPr/>
          <p:nvPr/>
        </p:nvSpPr>
        <p:spPr>
          <a:xfrm>
            <a:off x="4740120" y="3008160"/>
            <a:ext cx="3474720" cy="1012320"/>
          </a:xfrm>
          <a:prstGeom prst="roundRect">
            <a:avLst>
              <a:gd name="adj" fmla="val 8153"/>
            </a:avLst>
          </a:prstGeom>
          <a:solidFill>
            <a:srgbClr val="986ba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42000" rIns="85680" tIns="-17280" bIns="-17280" anchor="ctr">
            <a:noAutofit/>
          </a:bodyPr>
          <a:p>
            <a:pPr>
              <a:lnSpc>
                <a:spcPct val="100000"/>
              </a:lnSpc>
              <a:tabLst>
                <a:tab algn="l" pos="687240"/>
                <a:tab algn="l" pos="1374840"/>
                <a:tab algn="l" pos="2063880"/>
                <a:tab algn="l" pos="27511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4740120" y="4397400"/>
            <a:ext cx="3474720" cy="1014120"/>
          </a:xfrm>
          <a:prstGeom prst="roundRect">
            <a:avLst>
              <a:gd name="adj" fmla="val 8153"/>
            </a:avLst>
          </a:prstGeom>
          <a:solidFill>
            <a:srgbClr val="986ba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342000" rIns="85680" tIns="-17280" bIns="-17280" anchor="ctr">
            <a:noAutofit/>
          </a:bodyPr>
          <a:p>
            <a:pPr>
              <a:lnSpc>
                <a:spcPct val="100000"/>
              </a:lnSpc>
              <a:tabLst>
                <a:tab algn="l" pos="687240"/>
                <a:tab algn="l" pos="1374840"/>
                <a:tab algn="l" pos="2063880"/>
                <a:tab algn="l" pos="27511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8" name="矩形 12"/>
          <p:cNvSpPr/>
          <p:nvPr/>
        </p:nvSpPr>
        <p:spPr>
          <a:xfrm>
            <a:off x="5815080" y="1892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3"/>
          <p:cNvSpPr/>
          <p:nvPr/>
        </p:nvSpPr>
        <p:spPr>
          <a:xfrm>
            <a:off x="5815080" y="3321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6"/>
          <p:cNvSpPr/>
          <p:nvPr/>
        </p:nvSpPr>
        <p:spPr>
          <a:xfrm>
            <a:off x="5886360" y="4749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7"/>
          <p:cNvSpPr/>
          <p:nvPr/>
        </p:nvSpPr>
        <p:spPr>
          <a:xfrm>
            <a:off x="1171440" y="3321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306360" y="637380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燕尾形 44"/>
          <p:cNvSpPr/>
          <p:nvPr/>
        </p:nvSpPr>
        <p:spPr>
          <a:xfrm rot="5400000">
            <a:off x="1812600" y="2491560"/>
            <a:ext cx="193320" cy="518760"/>
          </a:xfrm>
          <a:prstGeom prst="chevron">
            <a:avLst>
              <a:gd name="adj" fmla="val 63227"/>
            </a:avLst>
          </a:prstGeom>
          <a:noFill/>
          <a:ln w="19050">
            <a:solidFill>
              <a:srgbClr val="f494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4" name="燕尾形 45"/>
          <p:cNvSpPr/>
          <p:nvPr/>
        </p:nvSpPr>
        <p:spPr>
          <a:xfrm rot="5400000">
            <a:off x="1812600" y="2643840"/>
            <a:ext cx="193320" cy="518760"/>
          </a:xfrm>
          <a:prstGeom prst="chevron">
            <a:avLst>
              <a:gd name="adj" fmla="val 63227"/>
            </a:avLst>
          </a:prstGeom>
          <a:noFill/>
          <a:ln w="19050">
            <a:solidFill>
              <a:srgbClr val="f494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5" name="燕尾形 47"/>
          <p:cNvSpPr/>
          <p:nvPr/>
        </p:nvSpPr>
        <p:spPr>
          <a:xfrm rot="5400000">
            <a:off x="3610080" y="2492280"/>
            <a:ext cx="193320" cy="517320"/>
          </a:xfrm>
          <a:prstGeom prst="chevron">
            <a:avLst>
              <a:gd name="adj" fmla="val 63227"/>
            </a:avLst>
          </a:prstGeom>
          <a:noFill/>
          <a:ln w="19050">
            <a:solidFill>
              <a:srgbClr val="986b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6" name="燕尾形 48"/>
          <p:cNvSpPr/>
          <p:nvPr/>
        </p:nvSpPr>
        <p:spPr>
          <a:xfrm rot="5400000">
            <a:off x="3610080" y="2644560"/>
            <a:ext cx="193320" cy="517320"/>
          </a:xfrm>
          <a:prstGeom prst="chevron">
            <a:avLst>
              <a:gd name="adj" fmla="val 63227"/>
            </a:avLst>
          </a:prstGeom>
          <a:noFill/>
          <a:ln w="19050">
            <a:solidFill>
              <a:srgbClr val="986b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7" name="燕尾形 50"/>
          <p:cNvSpPr/>
          <p:nvPr/>
        </p:nvSpPr>
        <p:spPr>
          <a:xfrm rot="5400000">
            <a:off x="5407200" y="2492280"/>
            <a:ext cx="193320" cy="517320"/>
          </a:xfrm>
          <a:prstGeom prst="chevron">
            <a:avLst>
              <a:gd name="adj" fmla="val 63227"/>
            </a:avLst>
          </a:prstGeom>
          <a:noFill/>
          <a:ln w="19050">
            <a:solidFill>
              <a:srgbClr val="f494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8" name="燕尾形 51"/>
          <p:cNvSpPr/>
          <p:nvPr/>
        </p:nvSpPr>
        <p:spPr>
          <a:xfrm rot="5400000">
            <a:off x="5407200" y="2644560"/>
            <a:ext cx="193320" cy="517320"/>
          </a:xfrm>
          <a:prstGeom prst="chevron">
            <a:avLst>
              <a:gd name="adj" fmla="val 63227"/>
            </a:avLst>
          </a:prstGeom>
          <a:noFill/>
          <a:ln w="19050">
            <a:solidFill>
              <a:srgbClr val="f494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9" name="燕尾形 53"/>
          <p:cNvSpPr/>
          <p:nvPr/>
        </p:nvSpPr>
        <p:spPr>
          <a:xfrm rot="5400000">
            <a:off x="7205400" y="2491560"/>
            <a:ext cx="193320" cy="518760"/>
          </a:xfrm>
          <a:prstGeom prst="chevron">
            <a:avLst>
              <a:gd name="adj" fmla="val 63227"/>
            </a:avLst>
          </a:prstGeom>
          <a:noFill/>
          <a:ln w="19050">
            <a:solidFill>
              <a:srgbClr val="986b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40" name="燕尾形 54"/>
          <p:cNvSpPr/>
          <p:nvPr/>
        </p:nvSpPr>
        <p:spPr>
          <a:xfrm rot="5400000">
            <a:off x="7205400" y="2643840"/>
            <a:ext cx="193320" cy="518760"/>
          </a:xfrm>
          <a:prstGeom prst="chevron">
            <a:avLst>
              <a:gd name="adj" fmla="val 63227"/>
            </a:avLst>
          </a:prstGeom>
          <a:noFill/>
          <a:ln w="19050">
            <a:solidFill>
              <a:srgbClr val="986b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41" name="矩形 56"/>
          <p:cNvSpPr/>
          <p:nvPr/>
        </p:nvSpPr>
        <p:spPr>
          <a:xfrm>
            <a:off x="1066680" y="3094200"/>
            <a:ext cx="1684080" cy="2430000"/>
          </a:xfrm>
          <a:prstGeom prst="rect">
            <a:avLst/>
          </a:prstGeom>
          <a:solidFill>
            <a:srgbClr val="f49453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42" name="矩形 61"/>
          <p:cNvSpPr/>
          <p:nvPr/>
        </p:nvSpPr>
        <p:spPr>
          <a:xfrm>
            <a:off x="2863800" y="3094200"/>
            <a:ext cx="1684080" cy="2430000"/>
          </a:xfrm>
          <a:prstGeom prst="rect">
            <a:avLst/>
          </a:prstGeom>
          <a:solidFill>
            <a:srgbClr val="986ba0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43" name="矩形 66"/>
          <p:cNvSpPr/>
          <p:nvPr/>
        </p:nvSpPr>
        <p:spPr>
          <a:xfrm>
            <a:off x="4662360" y="3094200"/>
            <a:ext cx="1684080" cy="2430000"/>
          </a:xfrm>
          <a:prstGeom prst="rect">
            <a:avLst/>
          </a:prstGeom>
          <a:solidFill>
            <a:srgbClr val="f49453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44" name="矩形 71"/>
          <p:cNvSpPr/>
          <p:nvPr/>
        </p:nvSpPr>
        <p:spPr>
          <a:xfrm>
            <a:off x="6459480" y="3094200"/>
            <a:ext cx="1684080" cy="2430000"/>
          </a:xfrm>
          <a:prstGeom prst="rect">
            <a:avLst/>
          </a:prstGeom>
          <a:solidFill>
            <a:srgbClr val="986ba0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45" name="圆角矩形 71"/>
          <p:cNvSpPr/>
          <p:nvPr/>
        </p:nvSpPr>
        <p:spPr>
          <a:xfrm>
            <a:off x="1176480" y="1785960"/>
            <a:ext cx="1499760" cy="785520"/>
          </a:xfrm>
          <a:prstGeom prst="roundRect">
            <a:avLst>
              <a:gd name="adj" fmla="val 16667"/>
            </a:avLst>
          </a:prstGeom>
          <a:solidFill>
            <a:srgbClr val="f4945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6" name="圆角矩形 72"/>
          <p:cNvSpPr/>
          <p:nvPr/>
        </p:nvSpPr>
        <p:spPr>
          <a:xfrm>
            <a:off x="4748040" y="1785960"/>
            <a:ext cx="1499760" cy="785520"/>
          </a:xfrm>
          <a:prstGeom prst="roundRect">
            <a:avLst>
              <a:gd name="adj" fmla="val 16667"/>
            </a:avLst>
          </a:prstGeom>
          <a:solidFill>
            <a:srgbClr val="f4945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7" name="圆角矩形 73"/>
          <p:cNvSpPr/>
          <p:nvPr/>
        </p:nvSpPr>
        <p:spPr>
          <a:xfrm>
            <a:off x="2962440" y="1785960"/>
            <a:ext cx="1499760" cy="785520"/>
          </a:xfrm>
          <a:prstGeom prst="roundRect">
            <a:avLst>
              <a:gd name="adj" fmla="val 16667"/>
            </a:avLst>
          </a:prstGeom>
          <a:solidFill>
            <a:srgbClr val="986b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8" name="圆角矩形 74"/>
          <p:cNvSpPr/>
          <p:nvPr/>
        </p:nvSpPr>
        <p:spPr>
          <a:xfrm>
            <a:off x="6534000" y="1785960"/>
            <a:ext cx="1499760" cy="785520"/>
          </a:xfrm>
          <a:prstGeom prst="roundRect">
            <a:avLst>
              <a:gd name="adj" fmla="val 16667"/>
            </a:avLst>
          </a:prstGeom>
          <a:solidFill>
            <a:srgbClr val="986b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2"/>
          <p:cNvSpPr/>
          <p:nvPr/>
        </p:nvSpPr>
        <p:spPr>
          <a:xfrm>
            <a:off x="321156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3"/>
          <p:cNvSpPr/>
          <p:nvPr/>
        </p:nvSpPr>
        <p:spPr>
          <a:xfrm>
            <a:off x="685476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4"/>
          <p:cNvSpPr/>
          <p:nvPr/>
        </p:nvSpPr>
        <p:spPr>
          <a:xfrm>
            <a:off x="499752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5"/>
          <p:cNvSpPr/>
          <p:nvPr/>
        </p:nvSpPr>
        <p:spPr>
          <a:xfrm>
            <a:off x="142560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5"/>
          <p:cNvSpPr/>
          <p:nvPr/>
        </p:nvSpPr>
        <p:spPr>
          <a:xfrm>
            <a:off x="321156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5"/>
          <p:cNvSpPr/>
          <p:nvPr/>
        </p:nvSpPr>
        <p:spPr>
          <a:xfrm>
            <a:off x="678348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"/>
          <p:cNvSpPr/>
          <p:nvPr/>
        </p:nvSpPr>
        <p:spPr>
          <a:xfrm>
            <a:off x="3933720" y="1500120"/>
            <a:ext cx="4601880" cy="1007640"/>
          </a:xfrm>
          <a:custGeom>
            <a:avLst/>
            <a:gdLst>
              <a:gd name="textAreaLeft" fmla="*/ 695520 w 4601880"/>
              <a:gd name="textAreaRight" fmla="*/ 3906360 w 4601880"/>
              <a:gd name="textAreaTop" fmla="*/ 152280 h 1007640"/>
              <a:gd name="textAreaBottom" fmla="*/ 855360 h 10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930" y="21600"/>
                </a:lnTo>
                <a:lnTo>
                  <a:pt x="186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4945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57960" bIns="42840" anchor="ctr">
            <a:noAutofit/>
          </a:bodyPr>
          <a:p>
            <a:pPr algn="ctr">
              <a:lnSpc>
                <a:spcPct val="100000"/>
              </a:lnSpc>
              <a:tabLst>
                <a:tab algn="l" pos="687240"/>
                <a:tab algn="l" pos="1374840"/>
                <a:tab algn="l" pos="2063880"/>
                <a:tab algn="l" pos="2751120"/>
                <a:tab algn="l" pos="3438360"/>
                <a:tab algn="l" pos="4127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66" name="AutoShape 2"/>
          <p:cNvSpPr/>
          <p:nvPr/>
        </p:nvSpPr>
        <p:spPr>
          <a:xfrm flipV="1">
            <a:off x="785880" y="4388760"/>
            <a:ext cx="4601880" cy="1007640"/>
          </a:xfrm>
          <a:custGeom>
            <a:avLst/>
            <a:gdLst>
              <a:gd name="textAreaLeft" fmla="*/ 695520 w 4601880"/>
              <a:gd name="textAreaRight" fmla="*/ 3906360 w 4601880"/>
              <a:gd name="textAreaTop" fmla="*/ 152280 h 1007640"/>
              <a:gd name="textAreaBottom" fmla="*/ 855360 h 10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930" y="21600"/>
                </a:lnTo>
                <a:lnTo>
                  <a:pt x="186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86ba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4589640" y="2584440"/>
            <a:ext cx="3311280" cy="979200"/>
          </a:xfrm>
          <a:custGeom>
            <a:avLst/>
            <a:gdLst>
              <a:gd name="textAreaLeft" fmla="*/ 566640 w 3311280"/>
              <a:gd name="textAreaRight" fmla="*/ 2744640 w 3311280"/>
              <a:gd name="textAreaTop" fmla="*/ 167400 h 979200"/>
              <a:gd name="textAreaBottom" fmla="*/ 811800 h 97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91" y="21600"/>
                </a:lnTo>
                <a:lnTo>
                  <a:pt x="1780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86ba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57960" bIns="42840" anchor="ctr">
            <a:noAutofit/>
          </a:bodyPr>
          <a:p>
            <a:pPr algn="ctr">
              <a:lnSpc>
                <a:spcPct val="100000"/>
              </a:lnSpc>
              <a:tabLst>
                <a:tab algn="l" pos="687240"/>
                <a:tab algn="l" pos="1374840"/>
                <a:tab algn="l" pos="2063880"/>
                <a:tab algn="l" pos="275112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68" name="AutoShape 4"/>
          <p:cNvSpPr/>
          <p:nvPr/>
        </p:nvSpPr>
        <p:spPr>
          <a:xfrm flipV="1">
            <a:off x="1440000" y="3332160"/>
            <a:ext cx="3312720" cy="979200"/>
          </a:xfrm>
          <a:custGeom>
            <a:avLst/>
            <a:gdLst>
              <a:gd name="textAreaLeft" fmla="*/ 566640 w 3312720"/>
              <a:gd name="textAreaRight" fmla="*/ 2746080 w 3312720"/>
              <a:gd name="textAreaTop" fmla="*/ 167400 h 979200"/>
              <a:gd name="textAreaBottom" fmla="*/ 811800 h 97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91" y="21600"/>
                </a:lnTo>
                <a:lnTo>
                  <a:pt x="1780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4945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9" name="AutoShape 6"/>
          <p:cNvSpPr/>
          <p:nvPr/>
        </p:nvSpPr>
        <p:spPr>
          <a:xfrm flipV="1">
            <a:off x="5205240" y="3653640"/>
            <a:ext cx="2090520" cy="1749240"/>
          </a:xfrm>
          <a:prstGeom prst="triangle">
            <a:avLst>
              <a:gd name="adj" fmla="val 50023"/>
            </a:avLst>
          </a:prstGeom>
          <a:solidFill>
            <a:srgbClr val="f4945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2057400" y="1531800"/>
            <a:ext cx="2090520" cy="1749240"/>
          </a:xfrm>
          <a:prstGeom prst="triangle">
            <a:avLst>
              <a:gd name="adj" fmla="val 50023"/>
            </a:avLst>
          </a:prstGeom>
          <a:solidFill>
            <a:srgbClr val="986ba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250812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2508120" y="3786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572292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72292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8</TotalTime>
  <Application>LibreOffice/7.4.7.2$Linux_X86_64 LibreOffice_project/40$Build-2</Application>
  <AppVersion>15.0000</AppVersion>
  <Words>289</Words>
  <Paragraphs>8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7T02:33:54Z</dcterms:modified>
  <cp:revision>29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