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F94-1751-4800-9B7D-8A5EFEE1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CF1-2660-4966-841B-DA49935A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BA1-A5B7-489C-9890-C9959E89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14E-389B-49F5-8C7A-2AF296B4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E90-E7C6-4B54-87E8-C3DCE1E4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D38-E180-4B4D-A2E0-31DFBFDB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25D-80A0-4B46-8A3B-5D054D26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15F-463C-46F4-AC36-D8D94AD7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4F8-F441-4601-936D-3721080F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7E9-4D02-48AC-99EA-92609AE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F10-A126-454C-868A-4D416127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D31-58CC-49B1-9215-42AB92CC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A36C-8CEC-4E5A-93E7-2A7E7A4A5C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83320" y="1951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ttp://www.taopic.com/uploads/allimg/110820/1771-110r0093s286.jpg"/>
          <p:cNvPicPr/>
          <p:nvPr/>
        </p:nvPicPr>
        <p:blipFill>
          <a:blip r:embed="rId2"/>
          <a:srcRect l="21041" t="0" r="-916" b="0"/>
          <a:stretch/>
        </p:blipFill>
        <p:spPr>
          <a:xfrm>
            <a:off x="12600" y="0"/>
            <a:ext cx="41022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矩形 16"/>
          <p:cNvSpPr/>
          <p:nvPr/>
        </p:nvSpPr>
        <p:spPr>
          <a:xfrm>
            <a:off x="1735200" y="0"/>
            <a:ext cx="7408800" cy="5143680"/>
          </a:xfrm>
          <a:custGeom>
            <a:avLst/>
            <a:gdLst/>
            <a:ahLst/>
            <a:rect l="l" t="t" r="r" b="b"/>
            <a:pathLst>
              <a:path w="7408788" h="5143500">
                <a:moveTo>
                  <a:pt x="2324100" y="0"/>
                </a:moveTo>
                <a:lnTo>
                  <a:pt x="7408788" y="0"/>
                </a:lnTo>
                <a:lnTo>
                  <a:pt x="7408788" y="5143500"/>
                </a:lnTo>
                <a:lnTo>
                  <a:pt x="0" y="5143500"/>
                </a:lnTo>
                <a:lnTo>
                  <a:pt x="232410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矩形 20" descr=""/>
          <p:cNvPicPr/>
          <p:nvPr/>
        </p:nvPicPr>
        <p:blipFill>
          <a:blip r:embed="rId3"/>
          <a:stretch/>
        </p:blipFill>
        <p:spPr>
          <a:xfrm>
            <a:off x="2901960" y="1328760"/>
            <a:ext cx="6327720" cy="2139840"/>
          </a:xfrm>
          <a:prstGeom prst="rect">
            <a:avLst/>
          </a:prstGeom>
          <a:ln w="0">
            <a:noFill/>
          </a:ln>
        </p:spPr>
      </p:pic>
      <p:sp>
        <p:nvSpPr>
          <p:cNvPr id="45" name="矩形 19"/>
          <p:cNvSpPr/>
          <p:nvPr/>
        </p:nvSpPr>
        <p:spPr>
          <a:xfrm>
            <a:off x="3780000" y="2849400"/>
            <a:ext cx="4679640" cy="58608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矩形 14"/>
          <p:cNvGrpSpPr/>
          <p:nvPr/>
        </p:nvGrpSpPr>
        <p:grpSpPr>
          <a:xfrm>
            <a:off x="1494000" y="12600"/>
            <a:ext cx="2577960" cy="5139000"/>
            <a:chOff x="1494000" y="12600"/>
            <a:chExt cx="2577960" cy="5139000"/>
          </a:xfrm>
        </p:grpSpPr>
        <p:pic>
          <p:nvPicPr>
            <p:cNvPr id="47" name="矩形 14" descr=""/>
            <p:cNvPicPr/>
            <p:nvPr/>
          </p:nvPicPr>
          <p:blipFill>
            <a:blip r:embed="rId4"/>
            <a:stretch/>
          </p:blipFill>
          <p:spPr>
            <a:xfrm>
              <a:off x="1494000" y="12600"/>
              <a:ext cx="2577960" cy="513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511280" y="25560"/>
              <a:ext cx="2548080" cy="51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矩形 17"/>
          <p:cNvSpPr/>
          <p:nvPr/>
        </p:nvSpPr>
        <p:spPr>
          <a:xfrm>
            <a:off x="0" y="4803840"/>
            <a:ext cx="9144000" cy="144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3703680" y="19270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54061"/>
                </a:solidFill>
                <a:latin typeface="微软雅黑"/>
                <a:ea typeface="微软雅黑"/>
              </a:rPr>
              <a:t>BUSINES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1"/>
          <p:cNvSpPr/>
          <p:nvPr/>
        </p:nvSpPr>
        <p:spPr>
          <a:xfrm>
            <a:off x="3564000" y="2806560"/>
            <a:ext cx="541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商务人士简洁</a:t>
            </a:r>
            <a:r>
              <a:rPr b="1" lang="en-US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65040" y="4514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www.taopic.com/uploads/allimg/110820/1771-110r0093s286.jpg"/>
          <p:cNvPicPr/>
          <p:nvPr/>
        </p:nvPicPr>
        <p:blipFill>
          <a:blip r:embed="rId1"/>
          <a:srcRect l="1329" t="408" r="921" b="391"/>
          <a:stretch/>
        </p:blipFill>
        <p:spPr>
          <a:xfrm>
            <a:off x="4114800" y="-11160"/>
            <a:ext cx="5029200" cy="5146560"/>
          </a:xfrm>
          <a:prstGeom prst="rect">
            <a:avLst/>
          </a:prstGeom>
          <a:ln w="0">
            <a:noFill/>
          </a:ln>
        </p:spPr>
      </p:pic>
      <p:sp>
        <p:nvSpPr>
          <p:cNvPr id="54" name="矩形 16"/>
          <p:cNvSpPr/>
          <p:nvPr/>
        </p:nvSpPr>
        <p:spPr>
          <a:xfrm flipH="1">
            <a:off x="-720" y="-11160"/>
            <a:ext cx="8459640" cy="5143680"/>
          </a:xfrm>
          <a:custGeom>
            <a:avLst/>
            <a:gdLst/>
            <a:ahLst/>
            <a:rect l="l" t="t" r="r" b="b"/>
            <a:pathLst>
              <a:path w="7408788" h="5143500">
                <a:moveTo>
                  <a:pt x="2324100" y="0"/>
                </a:moveTo>
                <a:lnTo>
                  <a:pt x="7408788" y="0"/>
                </a:lnTo>
                <a:lnTo>
                  <a:pt x="7408788" y="5143500"/>
                </a:lnTo>
                <a:lnTo>
                  <a:pt x="0" y="5143500"/>
                </a:lnTo>
                <a:lnTo>
                  <a:pt x="232410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9"/>
          <p:cNvSpPr/>
          <p:nvPr/>
        </p:nvSpPr>
        <p:spPr>
          <a:xfrm>
            <a:off x="0" y="411120"/>
            <a:ext cx="5597640" cy="64764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5824440" y="-17640"/>
            <a:ext cx="2921040" cy="5186520"/>
          </a:xfrm>
          <a:custGeom>
            <a:avLst/>
            <a:gdLst/>
            <a:ahLst/>
            <a:rect l="l" t="t" r="r" b="b"/>
            <a:pathLst>
              <a:path w="2921000" h="5187082">
                <a:moveTo>
                  <a:pt x="2443088" y="5187082"/>
                </a:moveTo>
                <a:lnTo>
                  <a:pt x="0" y="0"/>
                </a:lnTo>
                <a:lnTo>
                  <a:pt x="2921000" y="5187082"/>
                </a:lnTo>
                <a:lnTo>
                  <a:pt x="2443088" y="5187082"/>
                </a:lnTo>
                <a:close/>
              </a:path>
            </a:pathLst>
          </a:cu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7"/>
          <p:cNvSpPr/>
          <p:nvPr/>
        </p:nvSpPr>
        <p:spPr>
          <a:xfrm>
            <a:off x="0" y="4803840"/>
            <a:ext cx="9144000" cy="144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147600" y="47484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23"/>
          <p:cNvSpPr/>
          <p:nvPr/>
        </p:nvSpPr>
        <p:spPr>
          <a:xfrm>
            <a:off x="399960" y="1924200"/>
            <a:ext cx="1368360" cy="2226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5"/>
          <p:cNvSpPr/>
          <p:nvPr/>
        </p:nvSpPr>
        <p:spPr>
          <a:xfrm>
            <a:off x="2259000" y="1924200"/>
            <a:ext cx="1368360" cy="2226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6"/>
          <p:cNvSpPr/>
          <p:nvPr/>
        </p:nvSpPr>
        <p:spPr>
          <a:xfrm>
            <a:off x="4230720" y="1924200"/>
            <a:ext cx="1366920" cy="2226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7"/>
          <p:cNvSpPr/>
          <p:nvPr/>
        </p:nvSpPr>
        <p:spPr>
          <a:xfrm>
            <a:off x="247680" y="1754280"/>
            <a:ext cx="6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9d9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8"/>
          <p:cNvSpPr/>
          <p:nvPr/>
        </p:nvSpPr>
        <p:spPr>
          <a:xfrm>
            <a:off x="2127240" y="1762200"/>
            <a:ext cx="6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9d9"/>
                </a:solidFill>
                <a:latin typeface="微软雅黑"/>
                <a:ea typeface="微软雅黑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9"/>
          <p:cNvSpPr/>
          <p:nvPr/>
        </p:nvSpPr>
        <p:spPr>
          <a:xfrm>
            <a:off x="4114800" y="1760400"/>
            <a:ext cx="6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9d9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399960" y="24969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要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2251080" y="24969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要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4219560" y="24969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要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www.taopic.com/uploads/allimg/110820/1771-110r0093s286.jpg"/>
          <p:cNvPicPr/>
          <p:nvPr/>
        </p:nvPicPr>
        <p:blipFill>
          <a:blip r:embed="rId1"/>
          <a:srcRect l="10522" t="408" r="31099" b="391"/>
          <a:stretch/>
        </p:blipFill>
        <p:spPr>
          <a:xfrm>
            <a:off x="0" y="0"/>
            <a:ext cx="3003480" cy="5194440"/>
          </a:xfrm>
          <a:prstGeom prst="rect">
            <a:avLst/>
          </a:prstGeom>
          <a:ln w="0">
            <a:noFill/>
          </a:ln>
        </p:spPr>
      </p:pic>
      <p:sp>
        <p:nvSpPr>
          <p:cNvPr id="69" name="矩形 16"/>
          <p:cNvSpPr/>
          <p:nvPr/>
        </p:nvSpPr>
        <p:spPr>
          <a:xfrm>
            <a:off x="1319040" y="-42840"/>
            <a:ext cx="7824960" cy="5251320"/>
          </a:xfrm>
          <a:custGeom>
            <a:avLst/>
            <a:gdLst/>
            <a:ahLst/>
            <a:rect l="l" t="t" r="r" b="b"/>
            <a:pathLst>
              <a:path w="6852685" h="5193740">
                <a:moveTo>
                  <a:pt x="1000575" y="37820"/>
                </a:moveTo>
                <a:lnTo>
                  <a:pt x="6852685" y="0"/>
                </a:lnTo>
                <a:lnTo>
                  <a:pt x="6852685" y="5143500"/>
                </a:lnTo>
                <a:lnTo>
                  <a:pt x="0" y="5193740"/>
                </a:lnTo>
                <a:lnTo>
                  <a:pt x="1000575" y="3782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9"/>
          <p:cNvSpPr/>
          <p:nvPr/>
        </p:nvSpPr>
        <p:spPr>
          <a:xfrm>
            <a:off x="2205000" y="423720"/>
            <a:ext cx="6240600" cy="657360"/>
          </a:xfrm>
          <a:custGeom>
            <a:avLst/>
            <a:gdLst/>
            <a:ahLst/>
            <a:rect l="l" t="t" r="r" b="b"/>
            <a:pathLst>
              <a:path w="4513529" h="658120">
                <a:moveTo>
                  <a:pt x="122686" y="0"/>
                </a:moveTo>
                <a:lnTo>
                  <a:pt x="4513529" y="0"/>
                </a:lnTo>
                <a:lnTo>
                  <a:pt x="4498993" y="658120"/>
                </a:lnTo>
                <a:lnTo>
                  <a:pt x="0" y="635372"/>
                </a:lnTo>
                <a:lnTo>
                  <a:pt x="122686" y="0"/>
                </a:lnTo>
                <a:close/>
              </a:path>
            </a:pathLst>
          </a:cu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7"/>
          <p:cNvSpPr/>
          <p:nvPr/>
        </p:nvSpPr>
        <p:spPr>
          <a:xfrm>
            <a:off x="0" y="4803840"/>
            <a:ext cx="9144000" cy="144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矩形 14"/>
          <p:cNvGrpSpPr/>
          <p:nvPr/>
        </p:nvGrpSpPr>
        <p:grpSpPr>
          <a:xfrm>
            <a:off x="1011240" y="-30240"/>
            <a:ext cx="1476360" cy="5261040"/>
            <a:chOff x="1011240" y="-30240"/>
            <a:chExt cx="1476360" cy="5261040"/>
          </a:xfrm>
        </p:grpSpPr>
        <p:pic>
          <p:nvPicPr>
            <p:cNvPr id="73" name="矩形 14" descr=""/>
            <p:cNvPicPr/>
            <p:nvPr/>
          </p:nvPicPr>
          <p:blipFill>
            <a:blip r:embed="rId2"/>
            <a:stretch/>
          </p:blipFill>
          <p:spPr>
            <a:xfrm>
              <a:off x="1011240" y="-30240"/>
              <a:ext cx="1476360" cy="52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023840" y="-17640"/>
              <a:ext cx="1444680" cy="52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7"/>
          <p:cNvSpPr/>
          <p:nvPr/>
        </p:nvSpPr>
        <p:spPr>
          <a:xfrm>
            <a:off x="2492280" y="49068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700360" y="158256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54061"/>
                </a:solidFill>
                <a:latin typeface="微软雅黑"/>
                <a:ea typeface="微软雅黑"/>
              </a:rPr>
              <a:t>双击输入正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10:10:26Z</dcterms:created>
  <dc:creator>user</dc:creator>
  <dc:description/>
  <dc:language>en-US</dc:language>
  <cp:lastModifiedBy>a</cp:lastModifiedBy>
  <dcterms:modified xsi:type="dcterms:W3CDTF">2015-07-25T01:55:01Z</dcterms:modified>
  <cp:revision>5</cp:revision>
  <dc:subject/>
  <dc:title>PowerPoint 演示文稿</dc:title>
</cp:coreProperties>
</file>