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F65-A9C1-4C4F-9EAA-8546AE10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C0E-1077-41F8-81CA-47CDEC5A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584-592A-4247-953D-E868BADE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172-379E-40E2-A5EE-EF6907AD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874-D56A-4DE7-9268-923E000E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947-E176-485E-852D-3055119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68C-49B2-4291-8E76-767EA91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D4A-D6FC-4ED2-8CEA-40920128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AE2-722C-481E-9AE7-74C4D96D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315-9EC5-4192-844A-7B5496F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6C0-9AC4-420D-A761-382AB2D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ED4-E07E-4FBE-B4E6-7F4E986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D4A2-1778-4FB0-BBBE-8CD337DE2D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www.taopic.com/uploads/allimg/110820/1771-110r0093s286.jpg"/>
          <p:cNvPicPr/>
          <p:nvPr/>
        </p:nvPicPr>
        <p:blipFill>
          <a:blip r:embed="rId1"/>
          <a:srcRect l="21041" t="0" r="-916" b="0"/>
          <a:stretch/>
        </p:blipFill>
        <p:spPr>
          <a:xfrm>
            <a:off x="12600" y="0"/>
            <a:ext cx="41022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16"/>
          <p:cNvSpPr/>
          <p:nvPr/>
        </p:nvSpPr>
        <p:spPr>
          <a:xfrm>
            <a:off x="1735200" y="0"/>
            <a:ext cx="740880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矩形 20" descr=""/>
          <p:cNvPicPr/>
          <p:nvPr/>
        </p:nvPicPr>
        <p:blipFill>
          <a:blip r:embed="rId2"/>
          <a:stretch/>
        </p:blipFill>
        <p:spPr>
          <a:xfrm>
            <a:off x="2901960" y="1328760"/>
            <a:ext cx="6327720" cy="2139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9"/>
          <p:cNvSpPr/>
          <p:nvPr/>
        </p:nvSpPr>
        <p:spPr>
          <a:xfrm>
            <a:off x="3780000" y="2849400"/>
            <a:ext cx="4679640" cy="5860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矩形 14"/>
          <p:cNvGrpSpPr/>
          <p:nvPr/>
        </p:nvGrpSpPr>
        <p:grpSpPr>
          <a:xfrm>
            <a:off x="1494000" y="12600"/>
            <a:ext cx="2577960" cy="5139000"/>
            <a:chOff x="1494000" y="12600"/>
            <a:chExt cx="2577960" cy="5139000"/>
          </a:xfrm>
        </p:grpSpPr>
        <p:pic>
          <p:nvPicPr>
            <p:cNvPr id="47" name="矩形 14" descr=""/>
            <p:cNvPicPr/>
            <p:nvPr/>
          </p:nvPicPr>
          <p:blipFill>
            <a:blip r:embed="rId3"/>
            <a:stretch/>
          </p:blipFill>
          <p:spPr>
            <a:xfrm>
              <a:off x="1494000" y="12600"/>
              <a:ext cx="2577960" cy="51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11280" y="25560"/>
              <a:ext cx="2548080" cy="51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17"/>
          <p:cNvSpPr/>
          <p:nvPr/>
        </p:nvSpPr>
        <p:spPr>
          <a:xfrm>
            <a:off x="0" y="485136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3703680" y="19270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54061"/>
                </a:solidFill>
                <a:latin typeface="微软雅黑"/>
                <a:ea typeface="微软雅黑"/>
              </a:rPr>
              <a:t>BUSINES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2516040" y="2805120"/>
            <a:ext cx="664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人士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14280" y="4643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www.taopic.com/uploads/allimg/110820/1771-110r0093s286.jpg"/>
          <p:cNvPicPr/>
          <p:nvPr/>
        </p:nvPicPr>
        <p:blipFill>
          <a:blip r:embed="rId1"/>
          <a:srcRect l="1329" t="408" r="921" b="391"/>
          <a:stretch/>
        </p:blipFill>
        <p:spPr>
          <a:xfrm>
            <a:off x="4114800" y="-11160"/>
            <a:ext cx="5029200" cy="5146560"/>
          </a:xfrm>
          <a:prstGeom prst="rect">
            <a:avLst/>
          </a:prstGeom>
          <a:ln w="0">
            <a:noFill/>
          </a:ln>
        </p:spPr>
      </p:pic>
      <p:sp>
        <p:nvSpPr>
          <p:cNvPr id="54" name="矩形 16"/>
          <p:cNvSpPr/>
          <p:nvPr/>
        </p:nvSpPr>
        <p:spPr>
          <a:xfrm flipH="1">
            <a:off x="-720" y="-11160"/>
            <a:ext cx="845964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0" y="411120"/>
            <a:ext cx="5597640" cy="647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824440" y="-17640"/>
            <a:ext cx="2921040" cy="5186520"/>
          </a:xfrm>
          <a:custGeom>
            <a:avLst/>
            <a:gdLst/>
            <a:ahLst/>
            <a:rect l="l" t="t" r="r" b="b"/>
            <a:pathLst>
              <a:path w="2921000" h="5187082">
                <a:moveTo>
                  <a:pt x="2443088" y="5187082"/>
                </a:moveTo>
                <a:lnTo>
                  <a:pt x="0" y="0"/>
                </a:lnTo>
                <a:lnTo>
                  <a:pt x="2921000" y="5187082"/>
                </a:lnTo>
                <a:lnTo>
                  <a:pt x="2443088" y="5187082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47600" y="47484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39996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25900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4230720" y="1924200"/>
            <a:ext cx="136692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247680" y="175428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2127240" y="17622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4114800" y="17604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3999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225108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42195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taopic.com/uploads/allimg/110820/1771-110r0093s286.jpg"/>
          <p:cNvPicPr/>
          <p:nvPr/>
        </p:nvPicPr>
        <p:blipFill>
          <a:blip r:embed="rId1"/>
          <a:srcRect l="10522" t="408" r="31099" b="391"/>
          <a:stretch/>
        </p:blipFill>
        <p:spPr>
          <a:xfrm>
            <a:off x="0" y="0"/>
            <a:ext cx="3003480" cy="5194440"/>
          </a:xfrm>
          <a:prstGeom prst="rect">
            <a:avLst/>
          </a:prstGeom>
          <a:ln w="0">
            <a:noFill/>
          </a:ln>
        </p:spPr>
      </p:pic>
      <p:sp>
        <p:nvSpPr>
          <p:cNvPr id="69" name="矩形 16"/>
          <p:cNvSpPr/>
          <p:nvPr/>
        </p:nvSpPr>
        <p:spPr>
          <a:xfrm>
            <a:off x="1319040" y="-42840"/>
            <a:ext cx="7824960" cy="5251320"/>
          </a:xfrm>
          <a:custGeom>
            <a:avLst/>
            <a:gdLst/>
            <a:ahLst/>
            <a:rect l="l" t="t" r="r" b="b"/>
            <a:pathLst>
              <a:path w="6852685" h="5193740">
                <a:moveTo>
                  <a:pt x="1000575" y="37820"/>
                </a:moveTo>
                <a:lnTo>
                  <a:pt x="6852685" y="0"/>
                </a:lnTo>
                <a:lnTo>
                  <a:pt x="6852685" y="5143500"/>
                </a:lnTo>
                <a:lnTo>
                  <a:pt x="0" y="5193740"/>
                </a:lnTo>
                <a:lnTo>
                  <a:pt x="1000575" y="3782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"/>
          <p:cNvSpPr/>
          <p:nvPr/>
        </p:nvSpPr>
        <p:spPr>
          <a:xfrm>
            <a:off x="2205000" y="423720"/>
            <a:ext cx="6240600" cy="657360"/>
          </a:xfrm>
          <a:custGeom>
            <a:avLst/>
            <a:gdLst/>
            <a:ahLst/>
            <a:rect l="l" t="t" r="r" b="b"/>
            <a:pathLst>
              <a:path w="4513529" h="658120">
                <a:moveTo>
                  <a:pt x="122686" y="0"/>
                </a:moveTo>
                <a:lnTo>
                  <a:pt x="4513529" y="0"/>
                </a:lnTo>
                <a:lnTo>
                  <a:pt x="4498993" y="658120"/>
                </a:lnTo>
                <a:lnTo>
                  <a:pt x="0" y="635372"/>
                </a:lnTo>
                <a:lnTo>
                  <a:pt x="122686" y="0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矩形 14"/>
          <p:cNvGrpSpPr/>
          <p:nvPr/>
        </p:nvGrpSpPr>
        <p:grpSpPr>
          <a:xfrm>
            <a:off x="1011240" y="-30240"/>
            <a:ext cx="1476360" cy="5261040"/>
            <a:chOff x="1011240" y="-30240"/>
            <a:chExt cx="1476360" cy="5261040"/>
          </a:xfrm>
        </p:grpSpPr>
        <p:pic>
          <p:nvPicPr>
            <p:cNvPr id="73" name="矩形 14" descr=""/>
            <p:cNvPicPr/>
            <p:nvPr/>
          </p:nvPicPr>
          <p:blipFill>
            <a:blip r:embed="rId2"/>
            <a:stretch/>
          </p:blipFill>
          <p:spPr>
            <a:xfrm>
              <a:off x="1011240" y="-30240"/>
              <a:ext cx="1476360" cy="52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23840" y="-17640"/>
              <a:ext cx="1444680" cy="52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7"/>
          <p:cNvSpPr/>
          <p:nvPr/>
        </p:nvSpPr>
        <p:spPr>
          <a:xfrm>
            <a:off x="2492280" y="49068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700360" y="15825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双击输入正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0:10:26Z</dcterms:created>
  <dc:creator>user</dc:creator>
  <dc:description/>
  <dc:language>en-US</dc:language>
  <cp:lastModifiedBy>a</cp:lastModifiedBy>
  <dcterms:modified xsi:type="dcterms:W3CDTF">2015-07-25T02:07:26Z</dcterms:modified>
  <cp:revision>9</cp:revision>
  <dc:subject/>
  <dc:title>PowerPoint 演示文稿</dc:title>
</cp:coreProperties>
</file>