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AE0-D9CE-4C40-BC8E-25AA879D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C2A-9788-42E4-9106-BB5CC1E8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016-09CC-493A-93D7-63948A17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EF3-D974-45F1-BAFB-FC783BAB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4DF-962D-4EC8-AA0C-09923DB9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2D23-A3DE-4BD8-B0A3-15A8785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05C4-A9FD-4278-A319-517C35C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75D4-0B57-49F6-8737-C18D97A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2EAB-6420-45D0-902D-21B1B1F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9352-B3AD-4747-8A21-9FE27070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0E63-D2FA-4874-9FD6-8932829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5E8-0BFD-4058-B6AA-E72F393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825-6BD7-4C47-928A-ED14006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829-EB8F-4C00-8627-53CA0B2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64C2-2655-4A8C-BE0F-8343F8F8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98E8-5C80-4555-92E2-46C65791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0CF-54ED-41AC-8136-86FB83FF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D9D-CAEB-4C1A-9AB2-259285F7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AE2-BA7E-4B3F-BF85-863155B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4FD-BEE9-4BDA-9AB6-7786568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E42-2B6A-4F5F-835C-1147B718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306-8795-4A81-913C-DA058D8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EE1-966F-40E1-B13B-F9B62AA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47F-EBC4-4509-90BE-959CC62E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Microsoft YaHei UI Light"/>
                <a:ea typeface="Microsoft YaHei U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0440CA-F341-4114-8C32-5BE0014CBF62}" type="slidenum"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28C74D-B6BF-47C6-90E7-BD1DCA10BCBE}" type="slidenum">
              <a:rPr b="0" lang="en-US" sz="1200" spc="-1" strike="noStrike">
                <a:solidFill>
                  <a:srgbClr val="8b8b8b"/>
                </a:solidFill>
                <a:latin typeface="Times New Roman"/>
                <a:ea typeface="Microsoft YaHei U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" descr=""/>
          <p:cNvPicPr/>
          <p:nvPr/>
        </p:nvPicPr>
        <p:blipFill>
          <a:blip r:embed="rId1"/>
          <a:srcRect l="0" t="0" r="0" b="1625"/>
          <a:stretch/>
        </p:blipFill>
        <p:spPr>
          <a:xfrm>
            <a:off x="-299160" y="0"/>
            <a:ext cx="1279008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6" descr=""/>
          <p:cNvPicPr/>
          <p:nvPr/>
        </p:nvPicPr>
        <p:blipFill>
          <a:blip r:embed="rId2"/>
          <a:srcRect l="38984" t="12353" r="36098" b="50638"/>
          <a:stretch/>
        </p:blipFill>
        <p:spPr>
          <a:xfrm>
            <a:off x="4687560" y="279000"/>
            <a:ext cx="3185640" cy="2579040"/>
          </a:xfrm>
          <a:prstGeom prst="rect">
            <a:avLst/>
          </a:prstGeom>
          <a:ln w="0">
            <a:noFill/>
          </a:ln>
        </p:spPr>
      </p:pic>
      <p:sp>
        <p:nvSpPr>
          <p:cNvPr id="84" name="矩形 8"/>
          <p:cNvSpPr/>
          <p:nvPr/>
        </p:nvSpPr>
        <p:spPr>
          <a:xfrm>
            <a:off x="3588840" y="33602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生招募啦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1"/>
          <p:cNvSpPr/>
          <p:nvPr/>
        </p:nvSpPr>
        <p:spPr>
          <a:xfrm>
            <a:off x="676800" y="1775520"/>
            <a:ext cx="10983600" cy="459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grpSp>
        <p:nvGrpSpPr>
          <p:cNvPr id="87" name="组合 29"/>
          <p:cNvGrpSpPr/>
          <p:nvPr/>
        </p:nvGrpSpPr>
        <p:grpSpPr>
          <a:xfrm>
            <a:off x="2899080" y="645480"/>
            <a:ext cx="5353200" cy="1129680"/>
            <a:chOff x="2899080" y="645480"/>
            <a:chExt cx="5353200" cy="1129680"/>
          </a:xfrm>
        </p:grpSpPr>
        <p:pic>
          <p:nvPicPr>
            <p:cNvPr id="88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289908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"/>
            <p:cNvSpPr/>
            <p:nvPr/>
          </p:nvSpPr>
          <p:spPr>
            <a:xfrm>
              <a:off x="4890600" y="859680"/>
              <a:ext cx="3361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什么？你问我们是谁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2"/>
          <p:cNvSpPr/>
          <p:nvPr/>
        </p:nvSpPr>
        <p:spPr>
          <a:xfrm>
            <a:off x="6768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1" name="矩形 35"/>
          <p:cNvSpPr/>
          <p:nvPr/>
        </p:nvSpPr>
        <p:spPr>
          <a:xfrm rot="21437400">
            <a:off x="4484160" y="3099600"/>
            <a:ext cx="2460960" cy="2091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2" name="矩形 32"/>
          <p:cNvSpPr/>
          <p:nvPr/>
        </p:nvSpPr>
        <p:spPr>
          <a:xfrm>
            <a:off x="112986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3" name="矩形 33"/>
          <p:cNvSpPr/>
          <p:nvPr/>
        </p:nvSpPr>
        <p:spPr>
          <a:xfrm>
            <a:off x="112986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4" name="矩形 34"/>
          <p:cNvSpPr/>
          <p:nvPr/>
        </p:nvSpPr>
        <p:spPr>
          <a:xfrm>
            <a:off x="6768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5" name="矩形 36"/>
          <p:cNvSpPr/>
          <p:nvPr/>
        </p:nvSpPr>
        <p:spPr>
          <a:xfrm rot="21437400">
            <a:off x="4936680" y="3924720"/>
            <a:ext cx="3372480" cy="23184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6" name="矩形 37"/>
          <p:cNvSpPr/>
          <p:nvPr/>
        </p:nvSpPr>
        <p:spPr>
          <a:xfrm rot="21437400">
            <a:off x="4029120" y="4683960"/>
            <a:ext cx="4629240" cy="2761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553040" y="2697480"/>
            <a:ext cx="92318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国资委直属大型央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房地产国企龙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是中国第二个年销售额破千亿的房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4"/>
          <p:cNvGrpSpPr/>
          <p:nvPr/>
        </p:nvGrpSpPr>
        <p:grpSpPr>
          <a:xfrm>
            <a:off x="676800" y="1775520"/>
            <a:ext cx="10983960" cy="4596120"/>
            <a:chOff x="676800" y="1775520"/>
            <a:chExt cx="10983960" cy="4596120"/>
          </a:xfrm>
        </p:grpSpPr>
        <p:sp>
          <p:nvSpPr>
            <p:cNvPr id="100" name="矩形 1"/>
            <p:cNvSpPr/>
            <p:nvPr/>
          </p:nvSpPr>
          <p:spPr>
            <a:xfrm>
              <a:off x="676800" y="1775520"/>
              <a:ext cx="10983600" cy="45961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1" name="矩形 36"/>
            <p:cNvSpPr/>
            <p:nvPr/>
          </p:nvSpPr>
          <p:spPr>
            <a:xfrm>
              <a:off x="676800" y="177552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2" name="矩形 37"/>
            <p:cNvSpPr/>
            <p:nvPr/>
          </p:nvSpPr>
          <p:spPr>
            <a:xfrm>
              <a:off x="11298600" y="177552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3" name="矩形 38"/>
            <p:cNvSpPr/>
            <p:nvPr/>
          </p:nvSpPr>
          <p:spPr>
            <a:xfrm>
              <a:off x="11298600" y="603936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04" name="矩形 39"/>
            <p:cNvSpPr/>
            <p:nvPr/>
          </p:nvSpPr>
          <p:spPr>
            <a:xfrm>
              <a:off x="676800" y="6039360"/>
              <a:ext cx="362160" cy="33192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Microsoft YaHei UI Light"/>
              </a:endParaRPr>
            </a:p>
          </p:txBody>
        </p:sp>
      </p:grpSp>
      <p:grpSp>
        <p:nvGrpSpPr>
          <p:cNvPr id="105" name="组合 29"/>
          <p:cNvGrpSpPr/>
          <p:nvPr/>
        </p:nvGrpSpPr>
        <p:grpSpPr>
          <a:xfrm>
            <a:off x="1616760" y="645480"/>
            <a:ext cx="7397280" cy="1129680"/>
            <a:chOff x="1616760" y="645480"/>
            <a:chExt cx="7397280" cy="1129680"/>
          </a:xfrm>
        </p:grpSpPr>
        <p:pic>
          <p:nvPicPr>
            <p:cNvPr id="106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161676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3"/>
            <p:cNvSpPr/>
            <p:nvPr/>
          </p:nvSpPr>
          <p:spPr>
            <a:xfrm>
              <a:off x="4128480" y="859680"/>
              <a:ext cx="4885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哦，你还想知道我们能给你什么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2"/>
          <p:cNvSpPr/>
          <p:nvPr/>
        </p:nvSpPr>
        <p:spPr>
          <a:xfrm rot="21437400">
            <a:off x="3047400" y="2446920"/>
            <a:ext cx="5572800" cy="2617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09" name="矩形 33"/>
          <p:cNvSpPr/>
          <p:nvPr/>
        </p:nvSpPr>
        <p:spPr>
          <a:xfrm rot="21437400">
            <a:off x="1845000" y="3200040"/>
            <a:ext cx="4734360" cy="2736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0" name="矩形 34"/>
          <p:cNvSpPr/>
          <p:nvPr/>
        </p:nvSpPr>
        <p:spPr>
          <a:xfrm rot="21437400">
            <a:off x="3595680" y="4070880"/>
            <a:ext cx="4082040" cy="20988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1" name="矩形 35"/>
          <p:cNvSpPr/>
          <p:nvPr/>
        </p:nvSpPr>
        <p:spPr>
          <a:xfrm rot="21437400">
            <a:off x="4655520" y="4891680"/>
            <a:ext cx="2857320" cy="23184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2" name="矩形 40"/>
          <p:cNvSpPr/>
          <p:nvPr/>
        </p:nvSpPr>
        <p:spPr>
          <a:xfrm rot="21437400">
            <a:off x="7227720" y="5691960"/>
            <a:ext cx="2297880" cy="23292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743400" y="1983600"/>
            <a:ext cx="107046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内有竞争力的实习薪资与福利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甲级豪华江景写字楼办公环境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自清北交复的优秀同事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大上的名企实习证明属于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Y.I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以为我会告诉你这是吃货的天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676800" y="1775520"/>
            <a:ext cx="10983600" cy="459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grpSp>
        <p:nvGrpSpPr>
          <p:cNvPr id="116" name="组合 29"/>
          <p:cNvGrpSpPr/>
          <p:nvPr/>
        </p:nvGrpSpPr>
        <p:grpSpPr>
          <a:xfrm>
            <a:off x="1360080" y="645480"/>
            <a:ext cx="7806600" cy="1129680"/>
            <a:chOff x="1360080" y="645480"/>
            <a:chExt cx="7806600" cy="1129680"/>
          </a:xfrm>
        </p:grpSpPr>
        <p:pic>
          <p:nvPicPr>
            <p:cNvPr id="117" name="图片 5" descr=""/>
            <p:cNvPicPr/>
            <p:nvPr/>
          </p:nvPicPr>
          <p:blipFill>
            <a:blip r:embed="rId1"/>
            <a:srcRect l="38990" t="12350" r="36105" b="50648"/>
            <a:stretch/>
          </p:blipFill>
          <p:spPr>
            <a:xfrm>
              <a:off x="1360080" y="645480"/>
              <a:ext cx="1395360" cy="112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矩形 3"/>
            <p:cNvSpPr/>
            <p:nvPr/>
          </p:nvSpPr>
          <p:spPr>
            <a:xfrm>
              <a:off x="3976200" y="859680"/>
              <a:ext cx="5190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现在问题来了：我们需要的是什么？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36"/>
          <p:cNvSpPr/>
          <p:nvPr/>
        </p:nvSpPr>
        <p:spPr>
          <a:xfrm>
            <a:off x="6768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0" name="矩形 37"/>
          <p:cNvSpPr/>
          <p:nvPr/>
        </p:nvSpPr>
        <p:spPr>
          <a:xfrm>
            <a:off x="11298600" y="177552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1" name="矩形 38"/>
          <p:cNvSpPr/>
          <p:nvPr/>
        </p:nvSpPr>
        <p:spPr>
          <a:xfrm>
            <a:off x="112986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2" name="矩形 39"/>
          <p:cNvSpPr/>
          <p:nvPr/>
        </p:nvSpPr>
        <p:spPr>
          <a:xfrm>
            <a:off x="676800" y="6039360"/>
            <a:ext cx="362160" cy="3319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3" name="矩形 19"/>
          <p:cNvSpPr/>
          <p:nvPr/>
        </p:nvSpPr>
        <p:spPr>
          <a:xfrm rot="21437400">
            <a:off x="5218560" y="4928760"/>
            <a:ext cx="2534400" cy="2610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842840" y="210780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4438440" y="2169360"/>
            <a:ext cx="234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人力资源 宣传 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6"/>
          <p:cNvSpPr/>
          <p:nvPr/>
        </p:nvSpPr>
        <p:spPr>
          <a:xfrm>
            <a:off x="1842840" y="291456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聘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7"/>
          <p:cNvSpPr/>
          <p:nvPr/>
        </p:nvSpPr>
        <p:spPr>
          <a:xfrm>
            <a:off x="5547240" y="2898000"/>
            <a:ext cx="351072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专业：人力资源、新闻、传播、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学历：本科生或研究生皆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时间：一周至少四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技能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达人优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其他：有冲劲、爱挑战、想成长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"/>
          <p:cNvGrpSpPr/>
          <p:nvPr/>
        </p:nvGrpSpPr>
        <p:grpSpPr>
          <a:xfrm>
            <a:off x="926280" y="957240"/>
            <a:ext cx="6095520" cy="3327480"/>
            <a:chOff x="926280" y="957240"/>
            <a:chExt cx="6095520" cy="3327480"/>
          </a:xfrm>
        </p:grpSpPr>
        <p:sp>
          <p:nvSpPr>
            <p:cNvPr id="130" name="矩形 1"/>
            <p:cNvSpPr/>
            <p:nvPr/>
          </p:nvSpPr>
          <p:spPr>
            <a:xfrm>
              <a:off x="926280" y="3177000"/>
              <a:ext cx="184320" cy="11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  <a:ea typeface="Microsoft YaHei UI Light"/>
              </a:endParaRPr>
            </a:p>
          </p:txBody>
        </p:sp>
        <p:sp>
          <p:nvSpPr>
            <p:cNvPr id="131" name="矩形 3"/>
            <p:cNvSpPr/>
            <p:nvPr/>
          </p:nvSpPr>
          <p:spPr>
            <a:xfrm>
              <a:off x="926280" y="957240"/>
              <a:ext cx="6095520" cy="22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想起来是不是还有点小激动呢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那快叫上你的小伙伴赶紧行动吧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Microsoft YaHei UI Light"/>
                </a:rPr>
                <a:t>简历请速投递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18" descr=""/>
          <p:cNvPicPr/>
          <p:nvPr/>
        </p:nvPicPr>
        <p:blipFill>
          <a:blip r:embed="rId1"/>
          <a:srcRect l="69488" t="0" r="0" b="1622"/>
          <a:stretch/>
        </p:blipFill>
        <p:spPr>
          <a:xfrm>
            <a:off x="10799640" y="4411440"/>
            <a:ext cx="1392120" cy="24462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9" descr=""/>
          <p:cNvPicPr/>
          <p:nvPr/>
        </p:nvPicPr>
        <p:blipFill>
          <a:blip r:embed="rId2"/>
          <a:srcRect l="69483" t="0" r="0" b="1624"/>
          <a:stretch/>
        </p:blipFill>
        <p:spPr>
          <a:xfrm>
            <a:off x="10279440" y="5711040"/>
            <a:ext cx="670680" cy="1178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20"/>
          <p:cNvSpPr/>
          <p:nvPr/>
        </p:nvSpPr>
        <p:spPr>
          <a:xfrm>
            <a:off x="1843560" y="4295160"/>
            <a:ext cx="2863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crosoft YaHei UI Light"/>
              </a:rPr>
              <a:t>保利城投欢迎你的加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0" y="0"/>
            <a:ext cx="12191760" cy="8640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Microsoft YaHei U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96</TotalTime>
  <Application>LibreOffice/7.4.7.2$Linux_X86_64 LibreOffice_project/40$Build-2</Application>
  <AppVersion>15.0000</AppVersion>
  <Words>213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02:14:27Z</dcterms:created>
  <dc:creator>www.pptbz.com</dc:creator>
  <dc:description/>
  <dc:language>en-US</dc:language>
  <cp:lastModifiedBy>王玉清</cp:lastModifiedBy>
  <dcterms:modified xsi:type="dcterms:W3CDTF">2016-03-06T04:20:28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