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83F-58F9-4EE4-8DF3-5C5DD8B6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746-C97D-40E3-A628-69983E35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EFB-B11E-4C65-A031-C6B4A0F9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633-03DE-463A-8CDC-3D1A6868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BE2-AD1D-4D9D-A4CB-C04D47C5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946-BB0B-47EC-A85C-EBF9D7FC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359-B09C-4F63-A08C-D570F945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9C79-A4F8-4C7F-B8B1-7548191B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F0C-DE2E-4351-8594-5F64BC1A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620-54E9-4E19-AF3A-F5F28293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C27-EE1A-4860-B1A7-A2DA9874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9C0-D8ED-42B9-A38E-B18E1787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B98A57-97A6-4C58-8C8F-BA2EEABDBD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06240" y="1341360"/>
            <a:ext cx="3533760" cy="759960"/>
          </a:xfrm>
          <a:prstGeom prst="rect">
            <a:avLst/>
          </a:prstGeom>
          <a:noFill/>
          <a:ln w="0">
            <a:noFill/>
          </a:ln>
          <a:effectLst>
            <a:outerShdw algn="ctr" dir="3806096" dist="28174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在此处添加幻灯片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06520" y="2084400"/>
            <a:ext cx="4277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宋体"/>
              </a:rPr>
              <a:t>ZAICICHUTIANJIAHUANDENGPIANBIAO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2105280" y="245592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叶草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1181160" y="189000"/>
            <a:ext cx="2101320" cy="638280"/>
          </a:xfrm>
          <a:prstGeom prst="rect">
            <a:avLst/>
          </a:prstGeom>
          <a:noFill/>
          <a:ln w="0">
            <a:noFill/>
          </a:ln>
          <a:effectLst>
            <a:outerShdw algn="ctr" dir="3806096" dist="28174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在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100160" y="1755720"/>
            <a:ext cx="1644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黑体"/>
              </a:rPr>
              <a:t>此处添加正文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06360" y="638136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漂亮的绿色花朵底纹PPT模板">
  <a:themeElements>
    <a:clrScheme name="Office 主题​​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漂亮的绿色花朵底纹PPT模板</Template>
  <TotalTime>1</TotalTime>
  <Application>LibreOffice/7.4.7.2$Linux_X86_64 LibreOffice_project/40$Build-2</Application>
  <AppVersion>15.0000</AppVersion>
  <Words>44</Words>
  <Paragraphs>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09:14:39Z</dcterms:created>
  <dc:creator>jccook</dc:creator>
  <dc:description/>
  <dc:language>en-US</dc:language>
  <cp:lastModifiedBy>王玉清</cp:lastModifiedBy>
  <dcterms:modified xsi:type="dcterms:W3CDTF">2016-02-22T03:43:37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