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3FC8-9216-4604-9B07-3FE2F5E1BE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C95E-161A-40AD-B651-82175E1F626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B4A1-8E2C-46E7-8757-622DAD65683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9BC3-3DC9-4686-9BEF-71B2522E9C1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8E4-F38C-44C5-81EE-E81769F1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5A2-1780-4041-888D-EAA5F469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2D9-C92D-4834-8CD1-FF40B684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5BB-C989-4E45-A86B-19ADA513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74AD-1AE3-426E-B2B5-2A766590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19CD-77CB-4753-8563-07ED3CC6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DA4A-DBA9-41E1-985C-1F13CD68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47A8-6E62-4143-8C1B-ADED0C21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421F-651D-4385-90C7-3B5FC5B0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81CE-2905-40A7-B94F-EA89FDC7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32F1-32E5-4205-A38B-BA75989A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735F-2CB8-41B6-9236-BA4C48E0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0AFB-EE1B-4509-BBE4-448E2A8B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CB87-77F5-4C25-8789-0E14D60A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F8B1-4B28-4F21-80A6-5B584E2D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4D29-85DB-4C24-8FB6-5F0AB6B0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207A-F0CB-46F3-83D9-340912B1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E7A-EBE6-40F4-A12B-56EA8E4B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C32-66C4-46A8-A55A-7137AF50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234-A1CF-4ECB-A7DE-AB87BC61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5E0-F205-4C0C-98DF-4D7358D5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E42-7F49-4E6B-9768-BA286462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F15-FA9E-4831-A0B3-81F453ED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F6B-68AF-4964-AC35-5087710F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1a3a15">
                  <a:alpha val="85098"/>
                </a:srgbClr>
              </a:gs>
              <a:gs pos="100000">
                <a:srgbClr val="1a3a1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F112-25F0-4632-9DEA-7DD3D403F40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1a3a15">
                  <a:alpha val="85098"/>
                </a:srgbClr>
              </a:gs>
              <a:gs pos="100000">
                <a:srgbClr val="1a3a1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351000" y="33480"/>
            <a:ext cx="8569080" cy="1368360"/>
          </a:xfrm>
          <a:prstGeom prst="rect">
            <a:avLst/>
          </a:prstGeom>
          <a:gradFill rotWithShape="0">
            <a:gsLst>
              <a:gs pos="0">
                <a:srgbClr val="1a3a15">
                  <a:alpha val="60000"/>
                </a:srgbClr>
              </a:gs>
              <a:gs pos="100000">
                <a:srgbClr val="1a3a1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C3F5-0505-4BC8-BD69-49A212CF952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2800" y="8892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帅鹰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59000" y="8110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Bullet Point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6440" y="166356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ampl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901800" y="1790640"/>
            <a:ext cx="73404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lour sch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571920" y="286380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648320" y="286380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19280" y="4478400"/>
            <a:ext cx="827280" cy="611280"/>
          </a:xfrm>
          <a:prstGeom prst="rect">
            <a:avLst/>
          </a:prstGeom>
          <a:solidFill>
            <a:srgbClr val="1a3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587760" y="4478400"/>
            <a:ext cx="826920" cy="611280"/>
          </a:xfrm>
          <a:prstGeom prst="rect">
            <a:avLst/>
          </a:prstGeom>
          <a:solidFill>
            <a:srgbClr val="6ba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4656240" y="4478400"/>
            <a:ext cx="826920" cy="611280"/>
          </a:xfrm>
          <a:prstGeom prst="rect">
            <a:avLst/>
          </a:prstGeom>
          <a:solidFill>
            <a:srgbClr val="0b6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5726160" y="4478400"/>
            <a:ext cx="826920" cy="611280"/>
          </a:xfrm>
          <a:prstGeom prst="rect">
            <a:avLst/>
          </a:prstGeom>
          <a:solidFill>
            <a:srgbClr val="237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5708520" y="2863800"/>
            <a:ext cx="82728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503440" y="286380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285640" y="22240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603960" y="21016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4553640" y="22240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834520" y="2101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1840" y="383868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3609360" y="38386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543560" y="37162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5624640" y="371484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2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MG_9271"/>
          <p:cNvPicPr/>
          <p:nvPr/>
        </p:nvPicPr>
        <p:blipFill>
          <a:blip r:embed="rId1"/>
          <a:stretch/>
        </p:blipFill>
        <p:spPr>
          <a:xfrm>
            <a:off x="5256360" y="2205000"/>
            <a:ext cx="3097080" cy="3853080"/>
          </a:xfrm>
          <a:prstGeom prst="rect">
            <a:avLst/>
          </a:prstGeom>
          <a:ln w="57240">
            <a:solidFill>
              <a:srgbClr val="1a3a15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0" y="6361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b6de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王玉清</cp:lastModifiedBy>
  <dcterms:modified xsi:type="dcterms:W3CDTF">2016-03-02T07:26:41Z</dcterms:modified>
  <cp:revision>12</cp:revision>
  <dc:subject/>
  <dc:title>Bird of Prey PowerPoint Presentation</dc:title>
</cp:coreProperties>
</file>