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986D-A4FF-4AF9-ADB9-60AFA34AC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7DD0-64AF-4E3F-AC7B-4F82DF05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9B24-CEB7-464F-A753-1FD5EFD8E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9769-A23B-4F26-A962-15BB5129A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EC928-A104-43FE-86E6-DBD0CC768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5145-3199-4E4E-946C-C125C3191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68B78-0FC7-4BD0-AA8E-E22FB9A1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6C81A-ECBB-4E60-8606-E96ABD23D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530B-DEDB-40BB-95A6-2E6779F3F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21796-DB2F-40C7-88D7-A7ACEF1FE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8C414-7A17-44F3-B1C1-BF7BEE7A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F575-2477-4356-BE6B-AAD8726A5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0B95B-0F76-4CFF-8174-63693CC5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DC904-F377-4FA3-ABF6-9DDE0C020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A8024-7457-4573-B108-16FFD5C2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08A3-C8EA-4045-B4DB-FCE7B1ACE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878F2-F5BE-49E0-8FC7-00069B4B7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B6800-2CE9-4278-8661-8F020EC51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76DB6-8248-430B-A3F6-201430F88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B1ED61-0294-4962-AB32-5751F32DF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46DBB-D3B8-4BE2-B118-B18F4A5D3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3A4336-3790-4051-94F0-AF1BA657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2D815-DA80-4A3E-A1A4-A7166908B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654F4B-F369-4F3F-82B6-7A59A785D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A0001-4899-4DE3-A3B0-3586A8917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272163-20E2-401C-ADAD-5AE06DB06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0C2D9A-CA3E-4B79-AC44-9969CC4E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E2871-B984-4F87-80EF-02BF3D45B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B611-AAD3-45F9-9364-5AAA006FC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0CE743-F89C-4680-9169-C14B205F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76AD-56F0-4402-9484-5F7E12BE4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9543-1BFB-462C-841A-9ABA9F6BF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83C-396F-412D-A415-7E8906B1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5951-1327-487B-AEFD-B41356E22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03BD-3B9F-4ED4-82BB-53B6A3391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98DC4-FD9F-4C47-B514-329106316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40C7-991F-4E07-A60C-68DB93DEEB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（除）绿叶 树叶 水珠 撕裂 纸张 瓢虫 动感线条 曲线 背景 矢量素材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（除）绿叶 树叶 水珠 撕裂 纸张 瓢虫 动感线条 曲线 背景 矢量素材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p_large_N0Nc_58171l017014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96C1D-5ED9-4281-9710-9A2CA4AF3AD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6" descr="（除）绿叶 树叶 水珠 撕裂 纸张 瓢虫 动感线条 曲线 背景 矢量素材图片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图片 7" descr="（除）绿叶 树叶 水珠 撕裂 纸张 瓢虫 动感线条 曲线 背景 矢量素材图片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DFA52-2A96-43DB-9098-7D545637B36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b050"/>
                </a:solidFill>
                <a:latin typeface="汉仪大宋简"/>
                <a:ea typeface="汉仪大宋简"/>
              </a:rPr>
              <a:t>藤</a:t>
            </a:r>
            <a:r>
              <a:rPr b="0" lang="zh-CN" sz="4000" spc="-1" strike="noStrike">
                <a:solidFill>
                  <a:srgbClr val="00b050"/>
                </a:solidFill>
                <a:latin typeface="汉仪大宋简"/>
                <a:ea typeface="汉仪大宋简"/>
              </a:rPr>
              <a:t>蔓通用</a:t>
            </a:r>
            <a:r>
              <a:rPr b="0" lang="en-US" sz="4000" spc="-1" strike="noStrike">
                <a:solidFill>
                  <a:srgbClr val="00b050"/>
                </a:solidFill>
                <a:latin typeface="汉仪大宋简"/>
                <a:ea typeface="汉仪大宋简"/>
              </a:rPr>
              <a:t>PPT</a:t>
            </a:r>
            <a:r>
              <a:rPr b="0" lang="zh-CN" sz="4000" spc="-1" strike="noStrike">
                <a:solidFill>
                  <a:srgbClr val="00b050"/>
                </a:solidFill>
                <a:latin typeface="汉仪大宋简"/>
                <a:ea typeface="汉仪大宋简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2808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92d050"/>
              </a:solidFill>
              <a:latin typeface="汉仪大宋简"/>
              <a:ea typeface="汉仪大宋简"/>
            </a:endParaRPr>
          </a:p>
        </p:txBody>
      </p:sp>
      <p:sp>
        <p:nvSpPr>
          <p:cNvPr id="130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08:25:30Z</dcterms:created>
  <dc:creator>雨林木风</dc:creator>
  <dc:description/>
  <dc:language>en-US</dc:language>
  <cp:lastModifiedBy>王玉清</cp:lastModifiedBy>
  <dcterms:modified xsi:type="dcterms:W3CDTF">2016-02-22T03:11:26Z</dcterms:modified>
  <cp:revision>3</cp:revision>
  <dc:subject/>
  <dc:title>幻灯片 1</dc:title>
</cp:coreProperties>
</file>