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193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020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473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49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193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473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749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193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020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19320" y="380520"/>
            <a:ext cx="77724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020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193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193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020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020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193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020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93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020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473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749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193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8473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749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020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19320" y="380520"/>
            <a:ext cx="77724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020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193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20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020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193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193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91800" y="117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台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2235240" y="1414440"/>
            <a:ext cx="5280120" cy="463680"/>
            <a:chOff x="2235240" y="1414440"/>
            <a:chExt cx="5280120" cy="463680"/>
          </a:xfrm>
        </p:grpSpPr>
        <p:sp>
          <p:nvSpPr>
            <p:cNvPr id="79" name="AutoShape 3"/>
            <p:cNvSpPr/>
            <p:nvPr/>
          </p:nvSpPr>
          <p:spPr>
            <a:xfrm>
              <a:off x="2473200" y="1474920"/>
              <a:ext cx="5042160" cy="365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25800"/>
                </a:gs>
                <a:gs pos="50000">
                  <a:srgbClr val="934300"/>
                </a:gs>
                <a:gs pos="100000">
                  <a:srgbClr val="c258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0" name="AutoShape 4"/>
            <p:cNvSpPr/>
            <p:nvPr/>
          </p:nvSpPr>
          <p:spPr>
            <a:xfrm>
              <a:off x="2235240" y="1414440"/>
              <a:ext cx="457200" cy="463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25800"/>
                </a:gs>
                <a:gs pos="100000">
                  <a:srgbClr val="5a2900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1" name="Group 5"/>
          <p:cNvGrpSpPr/>
          <p:nvPr/>
        </p:nvGrpSpPr>
        <p:grpSpPr>
          <a:xfrm>
            <a:off x="2235240" y="2351160"/>
            <a:ext cx="5251320" cy="463320"/>
            <a:chOff x="2235240" y="2351160"/>
            <a:chExt cx="5251320" cy="463320"/>
          </a:xfrm>
        </p:grpSpPr>
        <p:sp>
          <p:nvSpPr>
            <p:cNvPr id="82" name="AutoShape 6"/>
            <p:cNvSpPr/>
            <p:nvPr/>
          </p:nvSpPr>
          <p:spPr>
            <a:xfrm>
              <a:off x="2444760" y="2404800"/>
              <a:ext cx="5041800" cy="36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bc04"/>
                </a:gs>
                <a:gs pos="50000">
                  <a:srgbClr val="b78e03"/>
                </a:gs>
                <a:gs pos="100000">
                  <a:srgbClr val="f2bc0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" name="AutoShape 7"/>
            <p:cNvSpPr/>
            <p:nvPr/>
          </p:nvSpPr>
          <p:spPr>
            <a:xfrm>
              <a:off x="2235240" y="2351160"/>
              <a:ext cx="457200" cy="463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2bc04"/>
                </a:gs>
                <a:gs pos="100000">
                  <a:srgbClr val="705702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4" name="Group 8"/>
          <p:cNvGrpSpPr/>
          <p:nvPr/>
        </p:nvGrpSpPr>
        <p:grpSpPr>
          <a:xfrm>
            <a:off x="2235240" y="3359160"/>
            <a:ext cx="5280120" cy="463680"/>
            <a:chOff x="2235240" y="3359160"/>
            <a:chExt cx="5280120" cy="463680"/>
          </a:xfrm>
        </p:grpSpPr>
        <p:sp>
          <p:nvSpPr>
            <p:cNvPr id="85" name="AutoShape 9"/>
            <p:cNvSpPr/>
            <p:nvPr/>
          </p:nvSpPr>
          <p:spPr>
            <a:xfrm>
              <a:off x="2473200" y="3417840"/>
              <a:ext cx="5042160" cy="365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0000"/>
                </a:gs>
                <a:gs pos="50000">
                  <a:srgbClr val="cb0000"/>
                </a:gs>
                <a:gs pos="100000">
                  <a:srgbClr val="fe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" name="AutoShape 10"/>
            <p:cNvSpPr/>
            <p:nvPr/>
          </p:nvSpPr>
          <p:spPr>
            <a:xfrm>
              <a:off x="2235240" y="3359160"/>
              <a:ext cx="457200" cy="463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e0000"/>
                </a:gs>
                <a:gs pos="100000">
                  <a:srgbClr val="760000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7" name="Group 11"/>
          <p:cNvGrpSpPr/>
          <p:nvPr/>
        </p:nvGrpSpPr>
        <p:grpSpPr>
          <a:xfrm>
            <a:off x="2235240" y="4295880"/>
            <a:ext cx="5241960" cy="463320"/>
            <a:chOff x="2235240" y="4295880"/>
            <a:chExt cx="5241960" cy="463320"/>
          </a:xfrm>
        </p:grpSpPr>
        <p:sp>
          <p:nvSpPr>
            <p:cNvPr id="88" name="AutoShape 12"/>
            <p:cNvSpPr/>
            <p:nvPr/>
          </p:nvSpPr>
          <p:spPr>
            <a:xfrm>
              <a:off x="2435400" y="4350960"/>
              <a:ext cx="5041800" cy="365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7777"/>
                </a:gs>
                <a:gs pos="50000">
                  <a:srgbClr val="5a5a5a"/>
                </a:gs>
                <a:gs pos="100000">
                  <a:srgbClr val="77777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" name="AutoShape 13"/>
            <p:cNvSpPr/>
            <p:nvPr/>
          </p:nvSpPr>
          <p:spPr>
            <a:xfrm>
              <a:off x="2235240" y="4295880"/>
              <a:ext cx="457200" cy="463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373737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0" name="AutoShape 14"/>
          <p:cNvSpPr/>
          <p:nvPr/>
        </p:nvSpPr>
        <p:spPr>
          <a:xfrm>
            <a:off x="2762280" y="1406520"/>
            <a:ext cx="32400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Moment at Nigh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AutoShape 15"/>
          <p:cNvSpPr/>
          <p:nvPr/>
        </p:nvSpPr>
        <p:spPr>
          <a:xfrm>
            <a:off x="2771640" y="2349360"/>
            <a:ext cx="324036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Moment by a Wel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AutoShape 16"/>
          <p:cNvSpPr/>
          <p:nvPr/>
        </p:nvSpPr>
        <p:spPr>
          <a:xfrm>
            <a:off x="2752560" y="3375000"/>
            <a:ext cx="309564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Moment in Cour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AutoShape 17"/>
          <p:cNvSpPr/>
          <p:nvPr/>
        </p:nvSpPr>
        <p:spPr>
          <a:xfrm>
            <a:off x="2770200" y="4281480"/>
            <a:ext cx="309564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Moment at Dinn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AutoShape 18"/>
          <p:cNvSpPr/>
          <p:nvPr/>
        </p:nvSpPr>
        <p:spPr>
          <a:xfrm>
            <a:off x="1744560" y="1357200"/>
            <a:ext cx="574920" cy="577800"/>
          </a:xfrm>
          <a:custGeom>
            <a:avLst/>
            <a:gdLst>
              <a:gd name="textAreaLeft" fmla="*/ 23760 w 574920"/>
              <a:gd name="textAreaRight" fmla="*/ 551160 w 574920"/>
              <a:gd name="textAreaTop" fmla="*/ 23760 h 577800"/>
              <a:gd name="textAreaBottom" fmla="*/ 554040 h 577800"/>
            </a:gdLst>
            <a:ahLst/>
            <a:rect l="textAreaLeft" t="textAreaTop" r="textAreaRight" b="textAreaBottom"/>
            <a:pathLst>
              <a:path w="21600" h="21708">
                <a:moveTo>
                  <a:pt x="3072" y="0"/>
                </a:moveTo>
                <a:arcTo wR="3072" hR="3072" stAng="16200000" swAng="-5400000"/>
                <a:lnTo>
                  <a:pt x="0" y="18636"/>
                </a:lnTo>
                <a:arcTo wR="3072" hR="3072" stAng="10800000" swAng="-5400000"/>
                <a:lnTo>
                  <a:pt x="18528" y="21708"/>
                </a:lnTo>
                <a:arcTo wR="3072" hR="3072" stAng="5400000" swAng="-5400000"/>
                <a:lnTo>
                  <a:pt x="21600" y="3072"/>
                </a:lnTo>
                <a:arcTo wR="3072" hR="3072" stAng="0" swAng="-5400000"/>
                <a:close/>
              </a:path>
            </a:pathLst>
          </a:custGeom>
          <a:solidFill>
            <a:srgbClr val="c2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95" name="Group 19"/>
          <p:cNvGrpSpPr/>
          <p:nvPr/>
        </p:nvGrpSpPr>
        <p:grpSpPr>
          <a:xfrm>
            <a:off x="1744560" y="1357200"/>
            <a:ext cx="574920" cy="577800"/>
            <a:chOff x="1744560" y="1357200"/>
            <a:chExt cx="574920" cy="577800"/>
          </a:xfrm>
        </p:grpSpPr>
        <p:sp>
          <p:nvSpPr>
            <p:cNvPr id="96" name="Oval 20"/>
            <p:cNvSpPr/>
            <p:nvPr/>
          </p:nvSpPr>
          <p:spPr>
            <a:xfrm>
              <a:off x="1744560" y="1357200"/>
              <a:ext cx="574920" cy="577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" name="Oval 21"/>
            <p:cNvSpPr/>
            <p:nvPr/>
          </p:nvSpPr>
          <p:spPr>
            <a:xfrm>
              <a:off x="1752840" y="1357920"/>
              <a:ext cx="560520" cy="562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8" name="Oval 22"/>
          <p:cNvSpPr/>
          <p:nvPr/>
        </p:nvSpPr>
        <p:spPr>
          <a:xfrm flipH="1">
            <a:off x="1789920" y="1409760"/>
            <a:ext cx="482760" cy="460440"/>
          </a:xfrm>
          <a:prstGeom prst="ellipse">
            <a:avLst/>
          </a:prstGeom>
          <a:solidFill>
            <a:srgbClr val="c2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Oval 23"/>
          <p:cNvSpPr/>
          <p:nvPr/>
        </p:nvSpPr>
        <p:spPr>
          <a:xfrm flipH="1">
            <a:off x="1838160" y="1419120"/>
            <a:ext cx="378000" cy="304920"/>
          </a:xfrm>
          <a:prstGeom prst="ellipse">
            <a:avLst/>
          </a:prstGeom>
          <a:gradFill rotWithShape="0">
            <a:gsLst>
              <a:gs pos="0">
                <a:srgbClr val="f6e7da"/>
              </a:gs>
              <a:gs pos="100000">
                <a:srgbClr val="c25800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AutoShape 24"/>
          <p:cNvSpPr/>
          <p:nvPr/>
        </p:nvSpPr>
        <p:spPr>
          <a:xfrm>
            <a:off x="1744560" y="1359000"/>
            <a:ext cx="576360" cy="539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1" name="Group 25"/>
          <p:cNvGrpSpPr/>
          <p:nvPr/>
        </p:nvGrpSpPr>
        <p:grpSpPr>
          <a:xfrm>
            <a:off x="1744560" y="2293920"/>
            <a:ext cx="576360" cy="577800"/>
            <a:chOff x="1744560" y="2293920"/>
            <a:chExt cx="576360" cy="577800"/>
          </a:xfrm>
        </p:grpSpPr>
        <p:sp>
          <p:nvSpPr>
            <p:cNvPr id="102" name="AutoShape 26"/>
            <p:cNvSpPr/>
            <p:nvPr/>
          </p:nvSpPr>
          <p:spPr>
            <a:xfrm>
              <a:off x="1747800" y="2295360"/>
              <a:ext cx="571320" cy="576360"/>
            </a:xfrm>
            <a:custGeom>
              <a:avLst/>
              <a:gdLst>
                <a:gd name="textAreaLeft" fmla="*/ 23760 w 571320"/>
                <a:gd name="textAreaRight" fmla="*/ 547560 w 571320"/>
                <a:gd name="textAreaTop" fmla="*/ 23760 h 576360"/>
                <a:gd name="textAreaBottom" fmla="*/ 552600 h 576360"/>
              </a:gdLst>
              <a:ahLst/>
              <a:rect l="textAreaLeft" t="textAreaTop" r="textAreaRight" b="textAreaBottom"/>
              <a:pathLst>
                <a:path w="21600" h="21790">
                  <a:moveTo>
                    <a:pt x="3072" y="0"/>
                  </a:moveTo>
                  <a:arcTo wR="3072" hR="3072" stAng="16200000" swAng="-5400000"/>
                  <a:lnTo>
                    <a:pt x="0" y="18718"/>
                  </a:lnTo>
                  <a:arcTo wR="3072" hR="3072" stAng="10800000" swAng="-5400000"/>
                  <a:lnTo>
                    <a:pt x="18528" y="21790"/>
                  </a:lnTo>
                  <a:arcTo wR="3072" hR="3072" stAng="5400000" swAng="-5400000"/>
                  <a:lnTo>
                    <a:pt x="21600" y="3072"/>
                  </a:lnTo>
                  <a:arcTo wR="3072" hR="3072" stAng="0" swAng="-5400000"/>
                  <a:close/>
                </a:path>
              </a:pathLst>
            </a:custGeom>
            <a:solidFill>
              <a:srgbClr val="f2b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03" name="Group 27"/>
            <p:cNvGrpSpPr/>
            <p:nvPr/>
          </p:nvGrpSpPr>
          <p:grpSpPr>
            <a:xfrm>
              <a:off x="1747800" y="2293920"/>
              <a:ext cx="569880" cy="577800"/>
              <a:chOff x="1747800" y="2293920"/>
              <a:chExt cx="569880" cy="577800"/>
            </a:xfrm>
          </p:grpSpPr>
          <p:sp>
            <p:nvSpPr>
              <p:cNvPr id="104" name="Oval 28"/>
              <p:cNvSpPr/>
              <p:nvPr/>
            </p:nvSpPr>
            <p:spPr>
              <a:xfrm>
                <a:off x="1747800" y="2293920"/>
                <a:ext cx="569880" cy="5778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5" name="Oval 29"/>
              <p:cNvSpPr/>
              <p:nvPr/>
            </p:nvSpPr>
            <p:spPr>
              <a:xfrm>
                <a:off x="1756080" y="2294640"/>
                <a:ext cx="555480" cy="5626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06" name="Oval 30"/>
            <p:cNvSpPr/>
            <p:nvPr/>
          </p:nvSpPr>
          <p:spPr>
            <a:xfrm flipH="1">
              <a:off x="1793160" y="2346480"/>
              <a:ext cx="479160" cy="463320"/>
            </a:xfrm>
            <a:prstGeom prst="ellipse">
              <a:avLst/>
            </a:prstGeom>
            <a:solidFill>
              <a:srgbClr val="f2b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7" name="Oval 31"/>
            <p:cNvSpPr/>
            <p:nvPr/>
          </p:nvSpPr>
          <p:spPr>
            <a:xfrm flipH="1">
              <a:off x="1838160" y="2359080"/>
              <a:ext cx="387360" cy="303120"/>
            </a:xfrm>
            <a:prstGeom prst="ellipse">
              <a:avLst/>
            </a:prstGeom>
            <a:gradFill rotWithShape="0">
              <a:gsLst>
                <a:gs pos="0">
                  <a:srgbClr val="fcf2cd"/>
                </a:gs>
                <a:gs pos="100000">
                  <a:srgbClr val="f2bc04">
                    <a:alpha val="3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8" name="AutoShape 32"/>
            <p:cNvSpPr/>
            <p:nvPr/>
          </p:nvSpPr>
          <p:spPr>
            <a:xfrm>
              <a:off x="1744560" y="2295360"/>
              <a:ext cx="576360" cy="5400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9" name="Group 33"/>
          <p:cNvGrpSpPr/>
          <p:nvPr/>
        </p:nvGrpSpPr>
        <p:grpSpPr>
          <a:xfrm>
            <a:off x="1744560" y="3303720"/>
            <a:ext cx="576360" cy="577800"/>
            <a:chOff x="1744560" y="3303720"/>
            <a:chExt cx="576360" cy="577800"/>
          </a:xfrm>
        </p:grpSpPr>
        <p:sp>
          <p:nvSpPr>
            <p:cNvPr id="110" name="AutoShape 34"/>
            <p:cNvSpPr/>
            <p:nvPr/>
          </p:nvSpPr>
          <p:spPr>
            <a:xfrm>
              <a:off x="1746000" y="3303720"/>
              <a:ext cx="573120" cy="576360"/>
            </a:xfrm>
            <a:custGeom>
              <a:avLst/>
              <a:gdLst>
                <a:gd name="textAreaLeft" fmla="*/ 23760 w 573120"/>
                <a:gd name="textAreaRight" fmla="*/ 549360 w 573120"/>
                <a:gd name="textAreaTop" fmla="*/ 23760 h 576360"/>
                <a:gd name="textAreaBottom" fmla="*/ 552600 h 576360"/>
              </a:gdLst>
              <a:ahLst/>
              <a:rect l="textAreaLeft" t="textAreaTop" r="textAreaRight" b="textAreaBottom"/>
              <a:pathLst>
                <a:path w="21600" h="21722">
                  <a:moveTo>
                    <a:pt x="3072" y="0"/>
                  </a:moveTo>
                  <a:arcTo wR="3072" hR="3072" stAng="16200000" swAng="-5400000"/>
                  <a:lnTo>
                    <a:pt x="0" y="18650"/>
                  </a:lnTo>
                  <a:arcTo wR="3072" hR="3072" stAng="10800000" swAng="-5400000"/>
                  <a:lnTo>
                    <a:pt x="18528" y="21722"/>
                  </a:lnTo>
                  <a:arcTo wR="3072" hR="3072" stAng="5400000" swAng="-5400000"/>
                  <a:lnTo>
                    <a:pt x="21600" y="3072"/>
                  </a:lnTo>
                  <a:arcTo wR="3072" hR="3072" stAng="0" swAng="-5400000"/>
                  <a:close/>
                </a:path>
              </a:pathLst>
            </a:custGeom>
            <a:solidFill>
              <a:srgbClr val="f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11" name="Group 35"/>
            <p:cNvGrpSpPr/>
            <p:nvPr/>
          </p:nvGrpSpPr>
          <p:grpSpPr>
            <a:xfrm>
              <a:off x="1744560" y="3303720"/>
              <a:ext cx="573120" cy="577800"/>
              <a:chOff x="1744560" y="3303720"/>
              <a:chExt cx="573120" cy="577800"/>
            </a:xfrm>
          </p:grpSpPr>
          <p:sp>
            <p:nvSpPr>
              <p:cNvPr id="112" name="Oval 36"/>
              <p:cNvSpPr/>
              <p:nvPr/>
            </p:nvSpPr>
            <p:spPr>
              <a:xfrm>
                <a:off x="1744560" y="3303720"/>
                <a:ext cx="573120" cy="5778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3" name="Oval 37"/>
              <p:cNvSpPr/>
              <p:nvPr/>
            </p:nvSpPr>
            <p:spPr>
              <a:xfrm>
                <a:off x="1752840" y="3304440"/>
                <a:ext cx="558720" cy="5626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14" name="Oval 38"/>
            <p:cNvSpPr/>
            <p:nvPr/>
          </p:nvSpPr>
          <p:spPr>
            <a:xfrm flipH="1">
              <a:off x="1790640" y="3356280"/>
              <a:ext cx="480960" cy="465120"/>
            </a:xfrm>
            <a:prstGeom prst="ellipse">
              <a:avLst/>
            </a:prstGeom>
            <a:solidFill>
              <a:srgbClr val="f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5" name="Oval 39"/>
            <p:cNvSpPr/>
            <p:nvPr/>
          </p:nvSpPr>
          <p:spPr>
            <a:xfrm flipH="1">
              <a:off x="1834200" y="3368880"/>
              <a:ext cx="390600" cy="303120"/>
            </a:xfrm>
            <a:prstGeom prst="ellipse">
              <a:avLst/>
            </a:prstGeom>
            <a:gradFill rotWithShape="0">
              <a:gsLst>
                <a:gs pos="0">
                  <a:srgbClr val="ffaaaa"/>
                </a:gs>
                <a:gs pos="100000">
                  <a:srgbClr val="fe0000">
                    <a:alpha val="3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6" name="AutoShape 40"/>
            <p:cNvSpPr/>
            <p:nvPr/>
          </p:nvSpPr>
          <p:spPr>
            <a:xfrm>
              <a:off x="1744560" y="3303720"/>
              <a:ext cx="576360" cy="539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7" name="Group 41"/>
          <p:cNvGrpSpPr/>
          <p:nvPr/>
        </p:nvGrpSpPr>
        <p:grpSpPr>
          <a:xfrm>
            <a:off x="1744560" y="4238640"/>
            <a:ext cx="576360" cy="577800"/>
            <a:chOff x="1744560" y="4238640"/>
            <a:chExt cx="576360" cy="577800"/>
          </a:xfrm>
        </p:grpSpPr>
        <p:sp>
          <p:nvSpPr>
            <p:cNvPr id="118" name="AutoShape 42"/>
            <p:cNvSpPr/>
            <p:nvPr/>
          </p:nvSpPr>
          <p:spPr>
            <a:xfrm>
              <a:off x="1746000" y="4240080"/>
              <a:ext cx="573120" cy="576360"/>
            </a:xfrm>
            <a:custGeom>
              <a:avLst/>
              <a:gdLst>
                <a:gd name="textAreaLeft" fmla="*/ 23760 w 573120"/>
                <a:gd name="textAreaRight" fmla="*/ 549360 w 573120"/>
                <a:gd name="textAreaTop" fmla="*/ 23760 h 576360"/>
                <a:gd name="textAreaBottom" fmla="*/ 552600 h 576360"/>
              </a:gdLst>
              <a:ahLst/>
              <a:rect l="textAreaLeft" t="textAreaTop" r="textAreaRight" b="textAreaBottom"/>
              <a:pathLst>
                <a:path w="21600" h="21722">
                  <a:moveTo>
                    <a:pt x="3072" y="0"/>
                  </a:moveTo>
                  <a:arcTo wR="3072" hR="3072" stAng="16200000" swAng="-5400000"/>
                  <a:lnTo>
                    <a:pt x="0" y="18650"/>
                  </a:lnTo>
                  <a:arcTo wR="3072" hR="3072" stAng="10800000" swAng="-5400000"/>
                  <a:lnTo>
                    <a:pt x="18528" y="21722"/>
                  </a:lnTo>
                  <a:arcTo wR="3072" hR="3072" stAng="5400000" swAng="-5400000"/>
                  <a:lnTo>
                    <a:pt x="21600" y="3072"/>
                  </a:lnTo>
                  <a:arcTo wR="3072" hR="3072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19" name="Group 43"/>
            <p:cNvGrpSpPr/>
            <p:nvPr/>
          </p:nvGrpSpPr>
          <p:grpSpPr>
            <a:xfrm>
              <a:off x="1744560" y="4238640"/>
              <a:ext cx="571680" cy="577800"/>
              <a:chOff x="1744560" y="4238640"/>
              <a:chExt cx="571680" cy="577800"/>
            </a:xfrm>
          </p:grpSpPr>
          <p:grpSp>
            <p:nvGrpSpPr>
              <p:cNvPr id="120" name="Group 44"/>
              <p:cNvGrpSpPr/>
              <p:nvPr/>
            </p:nvGrpSpPr>
            <p:grpSpPr>
              <a:xfrm>
                <a:off x="1744560" y="4238640"/>
                <a:ext cx="571680" cy="577800"/>
                <a:chOff x="1744560" y="4238640"/>
                <a:chExt cx="571680" cy="577800"/>
              </a:xfrm>
            </p:grpSpPr>
            <p:sp>
              <p:nvSpPr>
                <p:cNvPr id="121" name="Oval 45"/>
                <p:cNvSpPr/>
                <p:nvPr/>
              </p:nvSpPr>
              <p:spPr>
                <a:xfrm>
                  <a:off x="1744560" y="4238640"/>
                  <a:ext cx="571680" cy="577800"/>
                </a:xfrm>
                <a:prstGeom prst="ellipse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22" name="Oval 46"/>
                <p:cNvSpPr/>
                <p:nvPr/>
              </p:nvSpPr>
              <p:spPr>
                <a:xfrm>
                  <a:off x="1752840" y="4239360"/>
                  <a:ext cx="557280" cy="56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Oval 47"/>
              <p:cNvSpPr/>
              <p:nvPr/>
            </p:nvSpPr>
            <p:spPr>
              <a:xfrm flipH="1">
                <a:off x="1789560" y="4291560"/>
                <a:ext cx="480600" cy="462600"/>
              </a:xfrm>
              <a:prstGeom prst="ellipse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24" name="Oval 48"/>
            <p:cNvSpPr/>
            <p:nvPr/>
          </p:nvSpPr>
          <p:spPr>
            <a:xfrm flipH="1">
              <a:off x="1834920" y="4305240"/>
              <a:ext cx="387360" cy="303120"/>
            </a:xfrm>
            <a:prstGeom prst="ellips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777777">
                    <a:alpha val="3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5" name="AutoShape 49"/>
            <p:cNvSpPr/>
            <p:nvPr/>
          </p:nvSpPr>
          <p:spPr>
            <a:xfrm>
              <a:off x="1744560" y="4240080"/>
              <a:ext cx="576360" cy="5400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" name="Group 50"/>
          <p:cNvGrpSpPr/>
          <p:nvPr/>
        </p:nvGrpSpPr>
        <p:grpSpPr>
          <a:xfrm>
            <a:off x="2182680" y="5068800"/>
            <a:ext cx="5280120" cy="463680"/>
            <a:chOff x="2182680" y="5068800"/>
            <a:chExt cx="5280120" cy="463680"/>
          </a:xfrm>
        </p:grpSpPr>
        <p:sp>
          <p:nvSpPr>
            <p:cNvPr id="127" name="AutoShape 51"/>
            <p:cNvSpPr/>
            <p:nvPr/>
          </p:nvSpPr>
          <p:spPr>
            <a:xfrm>
              <a:off x="2420640" y="5127480"/>
              <a:ext cx="5042160" cy="365040"/>
            </a:xfrm>
            <a:prstGeom prst="roundRect">
              <a:avLst>
                <a:gd name="adj" fmla="val 50000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8" name="AutoShape 52"/>
            <p:cNvSpPr/>
            <p:nvPr/>
          </p:nvSpPr>
          <p:spPr>
            <a:xfrm>
              <a:off x="2182680" y="5068800"/>
              <a:ext cx="457200" cy="463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29" name="AutoShape 53"/>
          <p:cNvSpPr/>
          <p:nvPr/>
        </p:nvSpPr>
        <p:spPr>
          <a:xfrm>
            <a:off x="2700360" y="5084640"/>
            <a:ext cx="3095640" cy="4669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Moment outside the Templ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Group 54"/>
          <p:cNvGrpSpPr/>
          <p:nvPr/>
        </p:nvGrpSpPr>
        <p:grpSpPr>
          <a:xfrm>
            <a:off x="1692360" y="5013360"/>
            <a:ext cx="576000" cy="577800"/>
            <a:chOff x="1692360" y="5013360"/>
            <a:chExt cx="576000" cy="577800"/>
          </a:xfrm>
        </p:grpSpPr>
        <p:sp>
          <p:nvSpPr>
            <p:cNvPr id="131" name="AutoShape 55"/>
            <p:cNvSpPr/>
            <p:nvPr/>
          </p:nvSpPr>
          <p:spPr>
            <a:xfrm>
              <a:off x="1693440" y="5013360"/>
              <a:ext cx="572760" cy="576360"/>
            </a:xfrm>
            <a:custGeom>
              <a:avLst/>
              <a:gdLst>
                <a:gd name="textAreaLeft" fmla="*/ 23760 w 572760"/>
                <a:gd name="textAreaRight" fmla="*/ 549000 w 572760"/>
                <a:gd name="textAreaTop" fmla="*/ 23760 h 576360"/>
                <a:gd name="textAreaBottom" fmla="*/ 552600 h 576360"/>
              </a:gdLst>
              <a:ahLst/>
              <a:rect l="textAreaLeft" t="textAreaTop" r="textAreaRight" b="textAreaBottom"/>
              <a:pathLst>
                <a:path w="21600" h="21736">
                  <a:moveTo>
                    <a:pt x="3072" y="0"/>
                  </a:moveTo>
                  <a:arcTo wR="3072" hR="3072" stAng="16200000" swAng="-5400000"/>
                  <a:lnTo>
                    <a:pt x="0" y="18664"/>
                  </a:lnTo>
                  <a:arcTo wR="3072" hR="3072" stAng="10800000" swAng="-5400000"/>
                  <a:lnTo>
                    <a:pt x="18528" y="21736"/>
                  </a:lnTo>
                  <a:arcTo wR="3072" hR="3072" stAng="5400000" swAng="-5400000"/>
                  <a:lnTo>
                    <a:pt x="21600" y="3072"/>
                  </a:lnTo>
                  <a:arcTo wR="3072" hR="3072" stAng="0" swAng="-5400000"/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32" name="Group 56"/>
            <p:cNvGrpSpPr/>
            <p:nvPr/>
          </p:nvGrpSpPr>
          <p:grpSpPr>
            <a:xfrm>
              <a:off x="1692360" y="5013360"/>
              <a:ext cx="572760" cy="577800"/>
              <a:chOff x="1692360" y="5013360"/>
              <a:chExt cx="572760" cy="577800"/>
            </a:xfrm>
          </p:grpSpPr>
          <p:sp>
            <p:nvSpPr>
              <p:cNvPr id="133" name="Oval 57"/>
              <p:cNvSpPr/>
              <p:nvPr/>
            </p:nvSpPr>
            <p:spPr>
              <a:xfrm>
                <a:off x="1692360" y="5013360"/>
                <a:ext cx="572760" cy="5778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4" name="Oval 58"/>
              <p:cNvSpPr/>
              <p:nvPr/>
            </p:nvSpPr>
            <p:spPr>
              <a:xfrm>
                <a:off x="1700640" y="5014080"/>
                <a:ext cx="558360" cy="5626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35" name="Oval 59"/>
            <p:cNvSpPr/>
            <p:nvPr/>
          </p:nvSpPr>
          <p:spPr>
            <a:xfrm flipH="1">
              <a:off x="1737360" y="5065920"/>
              <a:ext cx="480600" cy="4651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6" name="Oval 60"/>
            <p:cNvSpPr/>
            <p:nvPr/>
          </p:nvSpPr>
          <p:spPr>
            <a:xfrm flipH="1">
              <a:off x="1782360" y="5078520"/>
              <a:ext cx="390240" cy="303120"/>
            </a:xfrm>
            <a:prstGeom prst="ellipse">
              <a:avLst/>
            </a:prstGeom>
            <a:solidFill>
              <a:srgbClr val="00ffff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7" name="AutoShape 61"/>
            <p:cNvSpPr/>
            <p:nvPr/>
          </p:nvSpPr>
          <p:spPr>
            <a:xfrm>
              <a:off x="1692360" y="5013360"/>
              <a:ext cx="576000" cy="539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5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Arial"/>
              </a:rPr>
              <a:t>Moments to Consi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47640" y="602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77777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3"/>
          <p:cNvSpPr txBox="1"/>
          <p:nvPr/>
        </p:nvSpPr>
        <p:spPr>
          <a:xfrm>
            <a:off x="304920" y="4578480"/>
            <a:ext cx="37447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000000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777777"/>
                  </a:gs>
                  <a:gs pos="100000">
                    <a:srgbClr val="000000"/>
                  </a:gs>
                </a:gsLst>
                <a:lin ang="1080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ru-RU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ru-RU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ru-RU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ru-RU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ru-RU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ru-RU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21:51:2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0:51:49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