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21C-1DB5-4585-9638-83C9A393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870-196D-4CFA-9A74-7950384C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31C-A35D-478B-BB21-60A24079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99C-7753-4844-988B-EE07D4A9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AFB-C4D4-42B4-9115-72E30DF0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82C-A9C5-4EA0-8599-098A0555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50D-2247-495C-B9FD-828C76C8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371-271B-44FB-B037-B3A7A93A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89D-1D88-4813-B5CE-B2585B13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077-EF35-446C-951A-3A7B6EB4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89C-02B2-434A-99A9-873BFFFD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9CA-526C-4C9B-9E15-75E945E9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F4D6E9-E29A-4782-8A7D-9719A9C52E4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in/&#26377;&#27809;&#26377;&#21160;&#30011;&#27604;&#36739;1.ppt" TargetMode="External"/><Relationship Id="rId2" Type="http://schemas.openxmlformats.org/officeDocument/2006/relationships/hyperlink" Target="file:///tmp/in/&#26377;&#26080;&#21160;&#30011;&#27604;&#36739;2.ppt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143000" y="178560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2121120" y="76464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问号商务通用</a:t>
            </a: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4578480" y="3664080"/>
            <a:ext cx="3539880" cy="1960200"/>
          </a:xfrm>
          <a:prstGeom prst="rect">
            <a:avLst/>
          </a:prstGeom>
          <a:solidFill>
            <a:srgbClr val="7b777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5" name="弦形 7"/>
          <p:cNvSpPr/>
          <p:nvPr/>
        </p:nvSpPr>
        <p:spPr>
          <a:xfrm rot="10800000">
            <a:off x="3935880" y="403128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4578480" y="1643040"/>
            <a:ext cx="3539880" cy="1960200"/>
          </a:xfrm>
          <a:prstGeom prst="rect">
            <a:avLst/>
          </a:prstGeom>
          <a:solidFill>
            <a:srgbClr val="d3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7" name="弦形 9"/>
          <p:cNvSpPr/>
          <p:nvPr/>
        </p:nvSpPr>
        <p:spPr>
          <a:xfrm rot="10800000">
            <a:off x="3935880" y="201024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8" name="矩形 10"/>
          <p:cNvSpPr/>
          <p:nvPr/>
        </p:nvSpPr>
        <p:spPr>
          <a:xfrm flipH="1">
            <a:off x="999360" y="3664080"/>
            <a:ext cx="3539880" cy="1960200"/>
          </a:xfrm>
          <a:prstGeom prst="rect">
            <a:avLst/>
          </a:prstGeom>
          <a:solidFill>
            <a:srgbClr val="d3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9" name="弦形 11"/>
          <p:cNvSpPr/>
          <p:nvPr/>
        </p:nvSpPr>
        <p:spPr>
          <a:xfrm flipH="1" rot="10800000">
            <a:off x="3943080" y="403128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0" name="矩形 12"/>
          <p:cNvSpPr/>
          <p:nvPr/>
        </p:nvSpPr>
        <p:spPr>
          <a:xfrm flipH="1">
            <a:off x="999360" y="1643040"/>
            <a:ext cx="3539880" cy="1960200"/>
          </a:xfrm>
          <a:prstGeom prst="rect">
            <a:avLst/>
          </a:prstGeom>
          <a:solidFill>
            <a:srgbClr val="7b777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1" name="弦形 13"/>
          <p:cNvSpPr/>
          <p:nvPr/>
        </p:nvSpPr>
        <p:spPr>
          <a:xfrm flipH="1" rot="10800000">
            <a:off x="3943080" y="2010240"/>
            <a:ext cx="1239480" cy="1240920"/>
          </a:xfrm>
          <a:prstGeom prst="chord">
            <a:avLst>
              <a:gd name="adj1" fmla="val 5357881"/>
              <a:gd name="adj2" fmla="val 1630823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2" name="矩形 15"/>
          <p:cNvSpPr/>
          <p:nvPr/>
        </p:nvSpPr>
        <p:spPr>
          <a:xfrm>
            <a:off x="5997600" y="4410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5"/>
          <p:cNvSpPr/>
          <p:nvPr/>
        </p:nvSpPr>
        <p:spPr>
          <a:xfrm>
            <a:off x="5926320" y="2266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5"/>
          <p:cNvSpPr/>
          <p:nvPr/>
        </p:nvSpPr>
        <p:spPr>
          <a:xfrm>
            <a:off x="2139840" y="4410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5"/>
          <p:cNvSpPr/>
          <p:nvPr/>
        </p:nvSpPr>
        <p:spPr>
          <a:xfrm>
            <a:off x="2068560" y="2266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32"/>
          <p:cNvGrpSpPr/>
          <p:nvPr/>
        </p:nvGrpSpPr>
        <p:grpSpPr>
          <a:xfrm>
            <a:off x="3500280" y="1295280"/>
            <a:ext cx="2623680" cy="918720"/>
            <a:chOff x="3500280" y="1295280"/>
            <a:chExt cx="2623680" cy="918720"/>
          </a:xfrm>
        </p:grpSpPr>
        <p:sp>
          <p:nvSpPr>
            <p:cNvPr id="46" name="燕尾形 9"/>
            <p:cNvSpPr/>
            <p:nvPr/>
          </p:nvSpPr>
          <p:spPr>
            <a:xfrm>
              <a:off x="4317120" y="1295280"/>
              <a:ext cx="1806840" cy="918720"/>
            </a:xfrm>
            <a:prstGeom prst="chevron">
              <a:avLst>
                <a:gd name="adj" fmla="val 34444"/>
              </a:avLst>
            </a:prstGeom>
            <a:solidFill>
              <a:srgbClr val="d3373a"/>
            </a:solidFill>
            <a:ln>
              <a:noFill/>
            </a:ln>
            <a:scene3d>
              <a:camera prst="orthographicFront">
                <a:rot lat="0" lon="20099993" rev="0"/>
              </a:camera>
              <a:lightRig dir="t" rig="threePt"/>
            </a:scene3d>
            <a:sp3d extrusionH="520700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椭圆 10"/>
            <p:cNvSpPr/>
            <p:nvPr/>
          </p:nvSpPr>
          <p:spPr>
            <a:xfrm>
              <a:off x="4514760" y="1725480"/>
              <a:ext cx="1609200" cy="5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六边形 15"/>
            <p:cNvSpPr/>
            <p:nvPr/>
          </p:nvSpPr>
          <p:spPr>
            <a:xfrm>
              <a:off x="3500280" y="1503360"/>
              <a:ext cx="583560" cy="502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d3373a"/>
            </a:solidFill>
            <a:ln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9" name="文本框 15"/>
            <p:cNvSpPr/>
            <p:nvPr/>
          </p:nvSpPr>
          <p:spPr>
            <a:xfrm>
              <a:off x="3521520" y="1548000"/>
              <a:ext cx="528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33"/>
          <p:cNvGrpSpPr/>
          <p:nvPr/>
        </p:nvGrpSpPr>
        <p:grpSpPr>
          <a:xfrm>
            <a:off x="3500280" y="2295360"/>
            <a:ext cx="2623680" cy="918720"/>
            <a:chOff x="3500280" y="2295360"/>
            <a:chExt cx="2623680" cy="918720"/>
          </a:xfrm>
        </p:grpSpPr>
        <p:sp>
          <p:nvSpPr>
            <p:cNvPr id="51" name="燕尾形 34"/>
            <p:cNvSpPr/>
            <p:nvPr/>
          </p:nvSpPr>
          <p:spPr>
            <a:xfrm>
              <a:off x="4317120" y="2295360"/>
              <a:ext cx="1806840" cy="918720"/>
            </a:xfrm>
            <a:prstGeom prst="chevron">
              <a:avLst>
                <a:gd name="adj" fmla="val 34444"/>
              </a:avLst>
            </a:prstGeom>
            <a:solidFill>
              <a:srgbClr val="7b7777"/>
            </a:solidFill>
            <a:ln>
              <a:noFill/>
            </a:ln>
            <a:scene3d>
              <a:camera prst="orthographicFront">
                <a:rot lat="0" lon="20099993" rev="0"/>
              </a:camera>
              <a:lightRig dir="t" rig="threePt"/>
            </a:scene3d>
            <a:sp3d extrusionH="520700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2" name="椭圆 35"/>
            <p:cNvSpPr/>
            <p:nvPr/>
          </p:nvSpPr>
          <p:spPr>
            <a:xfrm>
              <a:off x="4514760" y="2725560"/>
              <a:ext cx="1609200" cy="5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" name="六边形 36"/>
            <p:cNvSpPr/>
            <p:nvPr/>
          </p:nvSpPr>
          <p:spPr>
            <a:xfrm>
              <a:off x="3500280" y="2503440"/>
              <a:ext cx="583560" cy="502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7b7777"/>
            </a:solidFill>
            <a:ln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" name="文本框 15"/>
            <p:cNvSpPr/>
            <p:nvPr/>
          </p:nvSpPr>
          <p:spPr>
            <a:xfrm>
              <a:off x="3521520" y="2548080"/>
              <a:ext cx="528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38"/>
          <p:cNvGrpSpPr/>
          <p:nvPr/>
        </p:nvGrpSpPr>
        <p:grpSpPr>
          <a:xfrm>
            <a:off x="3500280" y="3295800"/>
            <a:ext cx="2623680" cy="918720"/>
            <a:chOff x="3500280" y="3295800"/>
            <a:chExt cx="2623680" cy="918720"/>
          </a:xfrm>
        </p:grpSpPr>
        <p:sp>
          <p:nvSpPr>
            <p:cNvPr id="56" name="燕尾形 39"/>
            <p:cNvSpPr/>
            <p:nvPr/>
          </p:nvSpPr>
          <p:spPr>
            <a:xfrm>
              <a:off x="4317120" y="3295800"/>
              <a:ext cx="1806840" cy="918720"/>
            </a:xfrm>
            <a:prstGeom prst="chevron">
              <a:avLst>
                <a:gd name="adj" fmla="val 34444"/>
              </a:avLst>
            </a:prstGeom>
            <a:solidFill>
              <a:srgbClr val="d3373a"/>
            </a:solidFill>
            <a:ln>
              <a:noFill/>
            </a:ln>
            <a:scene3d>
              <a:camera prst="orthographicFront">
                <a:rot lat="0" lon="20099993" rev="0"/>
              </a:camera>
              <a:lightRig dir="t" rig="threePt"/>
            </a:scene3d>
            <a:sp3d extrusionH="520700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7" name="椭圆 40"/>
            <p:cNvSpPr/>
            <p:nvPr/>
          </p:nvSpPr>
          <p:spPr>
            <a:xfrm>
              <a:off x="4514760" y="3726000"/>
              <a:ext cx="1609200" cy="5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8" name="六边形 41"/>
            <p:cNvSpPr/>
            <p:nvPr/>
          </p:nvSpPr>
          <p:spPr>
            <a:xfrm>
              <a:off x="3500280" y="3503520"/>
              <a:ext cx="583560" cy="502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d3373a"/>
            </a:solidFill>
            <a:ln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" name="文本框 15"/>
            <p:cNvSpPr/>
            <p:nvPr/>
          </p:nvSpPr>
          <p:spPr>
            <a:xfrm>
              <a:off x="3521520" y="3548160"/>
              <a:ext cx="528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43"/>
          <p:cNvGrpSpPr/>
          <p:nvPr/>
        </p:nvGrpSpPr>
        <p:grpSpPr>
          <a:xfrm>
            <a:off x="3500280" y="4295880"/>
            <a:ext cx="2623680" cy="918720"/>
            <a:chOff x="3500280" y="4295880"/>
            <a:chExt cx="2623680" cy="918720"/>
          </a:xfrm>
        </p:grpSpPr>
        <p:sp>
          <p:nvSpPr>
            <p:cNvPr id="61" name="燕尾形 44"/>
            <p:cNvSpPr/>
            <p:nvPr/>
          </p:nvSpPr>
          <p:spPr>
            <a:xfrm>
              <a:off x="4317120" y="4295880"/>
              <a:ext cx="1806840" cy="918720"/>
            </a:xfrm>
            <a:prstGeom prst="chevron">
              <a:avLst>
                <a:gd name="adj" fmla="val 34444"/>
              </a:avLst>
            </a:prstGeom>
            <a:solidFill>
              <a:srgbClr val="7b7777"/>
            </a:solidFill>
            <a:ln>
              <a:noFill/>
            </a:ln>
            <a:scene3d>
              <a:camera prst="orthographicFront">
                <a:rot lat="0" lon="20099993" rev="0"/>
              </a:camera>
              <a:lightRig dir="t" rig="threePt"/>
            </a:scene3d>
            <a:sp3d extrusionH="520700"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" name="椭圆 45"/>
            <p:cNvSpPr/>
            <p:nvPr/>
          </p:nvSpPr>
          <p:spPr>
            <a:xfrm>
              <a:off x="4514760" y="4726080"/>
              <a:ext cx="1609200" cy="5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" name="六边形 46"/>
            <p:cNvSpPr/>
            <p:nvPr/>
          </p:nvSpPr>
          <p:spPr>
            <a:xfrm>
              <a:off x="3500280" y="4503600"/>
              <a:ext cx="583560" cy="502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7b7777"/>
            </a:solidFill>
            <a:ln>
              <a:noFill/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4" name="文本框 15"/>
            <p:cNvSpPr/>
            <p:nvPr/>
          </p:nvSpPr>
          <p:spPr>
            <a:xfrm>
              <a:off x="3521520" y="4548240"/>
              <a:ext cx="528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>
            <a:off x="4894560" y="45720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2"/>
          <p:cNvSpPr/>
          <p:nvPr/>
        </p:nvSpPr>
        <p:spPr>
          <a:xfrm>
            <a:off x="4894560" y="35910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2"/>
          <p:cNvSpPr/>
          <p:nvPr/>
        </p:nvSpPr>
        <p:spPr>
          <a:xfrm>
            <a:off x="4835880" y="259092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>
            <a:off x="4835880" y="160812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3140280" y="58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6283440" y="58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4711680" y="58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1568520" y="58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51"/>
          <p:cNvGrpSpPr/>
          <p:nvPr/>
        </p:nvGrpSpPr>
        <p:grpSpPr>
          <a:xfrm>
            <a:off x="2194200" y="628200"/>
            <a:ext cx="5789880" cy="5480640"/>
            <a:chOff x="2194200" y="628200"/>
            <a:chExt cx="5789880" cy="5480640"/>
          </a:xfrm>
        </p:grpSpPr>
        <p:sp>
          <p:nvSpPr>
            <p:cNvPr id="84" name="椭圆 11"/>
            <p:cNvSpPr/>
            <p:nvPr/>
          </p:nvSpPr>
          <p:spPr>
            <a:xfrm>
              <a:off x="2871720" y="4346640"/>
              <a:ext cx="1458720" cy="1460160"/>
            </a:xfrm>
            <a:prstGeom prst="ellipse">
              <a:avLst/>
            </a:prstGeom>
            <a:solidFill>
              <a:srgbClr val="d3373a"/>
            </a:solidFill>
            <a:ln w="25400">
              <a:solidFill>
                <a:srgbClr val="c1310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椭圆 12"/>
            <p:cNvSpPr/>
            <p:nvPr/>
          </p:nvSpPr>
          <p:spPr>
            <a:xfrm>
              <a:off x="4734000" y="3965400"/>
              <a:ext cx="2030040" cy="2030040"/>
            </a:xfrm>
            <a:prstGeom prst="ellipse">
              <a:avLst/>
            </a:prstGeom>
            <a:solidFill>
              <a:srgbClr val="7b7777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椭圆 13"/>
            <p:cNvSpPr/>
            <p:nvPr/>
          </p:nvSpPr>
          <p:spPr>
            <a:xfrm>
              <a:off x="4850280" y="3903120"/>
              <a:ext cx="1917360" cy="19393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ffffff"/>
                </a:gs>
              </a:gsLst>
              <a:path path="circle">
                <a:fillToRect l="50000" t="50000" r="50000" b="50000"/>
              </a:path>
            </a:gradFill>
            <a:ln w="25400">
              <a:noFill/>
            </a:ln>
            <a:effectLst>
              <a:softEdge rad="1270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椭圆 14"/>
            <p:cNvSpPr/>
            <p:nvPr/>
          </p:nvSpPr>
          <p:spPr>
            <a:xfrm rot="1569000">
              <a:off x="2961720" y="4287600"/>
              <a:ext cx="1438920" cy="152460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ffffff"/>
                </a:gs>
              </a:gsLst>
              <a:path path="circle">
                <a:fillToRect l="50000" t="50000" r="50000" b="50000"/>
              </a:path>
            </a:gradFill>
            <a:ln w="25400">
              <a:noFill/>
            </a:ln>
            <a:effectLst>
              <a:softEdge rad="1270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 rot="21263400">
              <a:off x="3024000" y="4199760"/>
              <a:ext cx="3562200" cy="173880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738800"/>
                <a:gd name="textAreaBottom" fmla="*/ 1739160 h 1738800"/>
              </a:gdLst>
              <a:ahLst/>
              <a:rect l="textAreaLeft" t="textAreaTop" r="textAreaRight" b="textAreaBottom"/>
              <a:pathLst>
                <a:path w="6636810" h="3240537">
                  <a:moveTo>
                    <a:pt x="5995706" y="329447"/>
                  </a:moveTo>
                  <a:cubicBezTo>
                    <a:pt x="6708608" y="870225"/>
                    <a:pt x="6848141" y="1886532"/>
                    <a:pt x="6307363" y="2599433"/>
                  </a:cubicBezTo>
                  <a:cubicBezTo>
                    <a:pt x="5766586" y="3312335"/>
                    <a:pt x="4750279" y="3451868"/>
                    <a:pt x="4037377" y="2911090"/>
                  </a:cubicBezTo>
                  <a:cubicBezTo>
                    <a:pt x="3834697" y="2757346"/>
                    <a:pt x="3678362" y="2565165"/>
                    <a:pt x="3572521" y="2351592"/>
                  </a:cubicBezTo>
                  <a:cubicBezTo>
                    <a:pt x="3382613" y="2221161"/>
                    <a:pt x="3125137" y="2125355"/>
                    <a:pt x="2835026" y="2089472"/>
                  </a:cubicBezTo>
                  <a:cubicBezTo>
                    <a:pt x="2470925" y="2044438"/>
                    <a:pt x="2133683" y="2103468"/>
                    <a:pt x="1902855" y="2234479"/>
                  </a:cubicBezTo>
                  <a:cubicBezTo>
                    <a:pt x="1508230" y="2603881"/>
                    <a:pt x="893457" y="2645913"/>
                    <a:pt x="448097" y="2308081"/>
                  </a:cubicBezTo>
                  <a:cubicBezTo>
                    <a:pt x="-50183" y="1930106"/>
                    <a:pt x="-147709" y="1219762"/>
                    <a:pt x="230265" y="721482"/>
                  </a:cubicBezTo>
                  <a:cubicBezTo>
                    <a:pt x="608240" y="223202"/>
                    <a:pt x="1318584" y="125676"/>
                    <a:pt x="1816864" y="503651"/>
                  </a:cubicBezTo>
                  <a:cubicBezTo>
                    <a:pt x="1922519" y="583796"/>
                    <a:pt x="2010155" y="678885"/>
                    <a:pt x="2077971" y="784443"/>
                  </a:cubicBezTo>
                  <a:cubicBezTo>
                    <a:pt x="2289760" y="902821"/>
                    <a:pt x="2577725" y="972444"/>
                    <a:pt x="2893769" y="967396"/>
                  </a:cubicBezTo>
                  <a:cubicBezTo>
                    <a:pt x="3168575" y="963007"/>
                    <a:pt x="3420358" y="902868"/>
                    <a:pt x="3617906" y="804590"/>
                  </a:cubicBezTo>
                  <a:cubicBezTo>
                    <a:pt x="3649441" y="748230"/>
                    <a:pt x="3685719" y="693837"/>
                    <a:pt x="3725720" y="641104"/>
                  </a:cubicBezTo>
                  <a:cubicBezTo>
                    <a:pt x="4266498" y="-71797"/>
                    <a:pt x="5282805" y="-211331"/>
                    <a:pt x="5995706" y="32944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椭圆 16"/>
            <p:cNvSpPr/>
            <p:nvPr/>
          </p:nvSpPr>
          <p:spPr>
            <a:xfrm rot="1226400">
              <a:off x="2428920" y="1311120"/>
              <a:ext cx="1641240" cy="1641240"/>
            </a:xfrm>
            <a:prstGeom prst="ellipse">
              <a:avLst/>
            </a:prstGeom>
            <a:solidFill>
              <a:srgbClr val="d3373a"/>
            </a:solidFill>
            <a:ln w="25400">
              <a:solidFill>
                <a:srgbClr val="c1310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椭圆 17"/>
            <p:cNvSpPr/>
            <p:nvPr/>
          </p:nvSpPr>
          <p:spPr>
            <a:xfrm>
              <a:off x="6269040" y="2617920"/>
              <a:ext cx="1312560" cy="1312560"/>
            </a:xfrm>
            <a:prstGeom prst="ellipse">
              <a:avLst/>
            </a:prstGeom>
            <a:solidFill>
              <a:srgbClr val="d3373a"/>
            </a:solidFill>
            <a:ln w="25400">
              <a:solidFill>
                <a:srgbClr val="c1310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椭圆 18"/>
            <p:cNvSpPr/>
            <p:nvPr/>
          </p:nvSpPr>
          <p:spPr>
            <a:xfrm>
              <a:off x="6276240" y="2635560"/>
              <a:ext cx="1332000" cy="140796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ffffff"/>
                </a:gs>
              </a:gsLst>
              <a:path path="circle">
                <a:fillToRect l="50000" t="50000" r="50000" b="50000"/>
              </a:path>
            </a:gradFill>
            <a:ln w="25400">
              <a:noFill/>
            </a:ln>
            <a:effectLst>
              <a:softEdge rad="1270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椭圆 19"/>
            <p:cNvSpPr/>
            <p:nvPr/>
          </p:nvSpPr>
          <p:spPr>
            <a:xfrm>
              <a:off x="4448160" y="714240"/>
              <a:ext cx="2187360" cy="2187360"/>
            </a:xfrm>
            <a:prstGeom prst="ellipse">
              <a:avLst/>
            </a:prstGeom>
            <a:solidFill>
              <a:srgbClr val="7b7777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椭圆 20"/>
            <p:cNvSpPr/>
            <p:nvPr/>
          </p:nvSpPr>
          <p:spPr>
            <a:xfrm>
              <a:off x="4676040" y="875160"/>
              <a:ext cx="1997640" cy="211176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ffffff"/>
                </a:gs>
              </a:gsLst>
              <a:path path="circle">
                <a:fillToRect l="50000" t="50000" r="50000" b="50000"/>
              </a:path>
            </a:gradFill>
            <a:ln w="25400">
              <a:noFill/>
            </a:ln>
            <a:effectLst>
              <a:softEdge rad="1270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矩形 4"/>
            <p:cNvSpPr/>
            <p:nvPr/>
          </p:nvSpPr>
          <p:spPr>
            <a:xfrm rot="20920800">
              <a:off x="2565720" y="1035360"/>
              <a:ext cx="3966840" cy="1936440"/>
            </a:xfrm>
            <a:custGeom>
              <a:avLst/>
              <a:gdLst>
                <a:gd name="textAreaLeft" fmla="*/ 0 w 3966840"/>
                <a:gd name="textAreaRight" fmla="*/ 3967200 w 3966840"/>
                <a:gd name="textAreaTop" fmla="*/ 0 h 1936440"/>
                <a:gd name="textAreaBottom" fmla="*/ 1936800 h 1936440"/>
              </a:gdLst>
              <a:ahLst/>
              <a:rect l="textAreaLeft" t="textAreaTop" r="textAreaRight" b="textAreaBottom"/>
              <a:pathLst>
                <a:path w="6636810" h="3240537">
                  <a:moveTo>
                    <a:pt x="5995706" y="329447"/>
                  </a:moveTo>
                  <a:cubicBezTo>
                    <a:pt x="6708608" y="870225"/>
                    <a:pt x="6848141" y="1886532"/>
                    <a:pt x="6307363" y="2599433"/>
                  </a:cubicBezTo>
                  <a:cubicBezTo>
                    <a:pt x="5766586" y="3312335"/>
                    <a:pt x="4750279" y="3451868"/>
                    <a:pt x="4037377" y="2911090"/>
                  </a:cubicBezTo>
                  <a:cubicBezTo>
                    <a:pt x="3834697" y="2757346"/>
                    <a:pt x="3678362" y="2565165"/>
                    <a:pt x="3572521" y="2351592"/>
                  </a:cubicBezTo>
                  <a:cubicBezTo>
                    <a:pt x="3382613" y="2221161"/>
                    <a:pt x="3125137" y="2125355"/>
                    <a:pt x="2835026" y="2089472"/>
                  </a:cubicBezTo>
                  <a:cubicBezTo>
                    <a:pt x="2470925" y="2044438"/>
                    <a:pt x="2133683" y="2103468"/>
                    <a:pt x="1902855" y="2234479"/>
                  </a:cubicBezTo>
                  <a:cubicBezTo>
                    <a:pt x="1508230" y="2603881"/>
                    <a:pt x="893457" y="2645913"/>
                    <a:pt x="448097" y="2308081"/>
                  </a:cubicBezTo>
                  <a:cubicBezTo>
                    <a:pt x="-50183" y="1930106"/>
                    <a:pt x="-147709" y="1219762"/>
                    <a:pt x="230265" y="721482"/>
                  </a:cubicBezTo>
                  <a:cubicBezTo>
                    <a:pt x="608240" y="223202"/>
                    <a:pt x="1318584" y="125676"/>
                    <a:pt x="1816864" y="503651"/>
                  </a:cubicBezTo>
                  <a:cubicBezTo>
                    <a:pt x="1922519" y="583796"/>
                    <a:pt x="2010155" y="678885"/>
                    <a:pt x="2077971" y="784443"/>
                  </a:cubicBezTo>
                  <a:cubicBezTo>
                    <a:pt x="2289760" y="902821"/>
                    <a:pt x="2577725" y="972444"/>
                    <a:pt x="2893769" y="967396"/>
                  </a:cubicBezTo>
                  <a:cubicBezTo>
                    <a:pt x="3168575" y="963007"/>
                    <a:pt x="3420358" y="902868"/>
                    <a:pt x="3617906" y="804590"/>
                  </a:cubicBezTo>
                  <a:cubicBezTo>
                    <a:pt x="3649441" y="748230"/>
                    <a:pt x="3685719" y="693837"/>
                    <a:pt x="3725720" y="641104"/>
                  </a:cubicBezTo>
                  <a:cubicBezTo>
                    <a:pt x="4266498" y="-71797"/>
                    <a:pt x="5282805" y="-211331"/>
                    <a:pt x="5995706" y="32944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椭圆 22"/>
            <p:cNvSpPr/>
            <p:nvPr/>
          </p:nvSpPr>
          <p:spPr>
            <a:xfrm>
              <a:off x="4577400" y="837720"/>
              <a:ext cx="1917360" cy="19393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ffffff"/>
                </a:gs>
              </a:gsLst>
              <a:path path="circle">
                <a:fillToRect l="50000" t="50000" r="50000" b="50000"/>
              </a:path>
            </a:gradFill>
            <a:ln w="25400">
              <a:noFill/>
            </a:ln>
            <a:effectLst>
              <a:softEdge rad="1270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矩形 4"/>
            <p:cNvSpPr/>
            <p:nvPr/>
          </p:nvSpPr>
          <p:spPr>
            <a:xfrm rot="13416000">
              <a:off x="4465800" y="1575360"/>
              <a:ext cx="3414240" cy="1666800"/>
            </a:xfrm>
            <a:custGeom>
              <a:avLst/>
              <a:gdLst>
                <a:gd name="textAreaLeft" fmla="*/ 0 w 3414240"/>
                <a:gd name="textAreaRight" fmla="*/ 3414600 w 3414240"/>
                <a:gd name="textAreaTop" fmla="*/ 0 h 1666800"/>
                <a:gd name="textAreaBottom" fmla="*/ 1667160 h 1666800"/>
              </a:gdLst>
              <a:ahLst/>
              <a:rect l="textAreaLeft" t="textAreaTop" r="textAreaRight" b="textAreaBottom"/>
              <a:pathLst>
                <a:path w="6636810" h="3240537">
                  <a:moveTo>
                    <a:pt x="5995706" y="329447"/>
                  </a:moveTo>
                  <a:cubicBezTo>
                    <a:pt x="6708608" y="870225"/>
                    <a:pt x="6848141" y="1886532"/>
                    <a:pt x="6307363" y="2599433"/>
                  </a:cubicBezTo>
                  <a:cubicBezTo>
                    <a:pt x="5766586" y="3312335"/>
                    <a:pt x="4750279" y="3451868"/>
                    <a:pt x="4037377" y="2911090"/>
                  </a:cubicBezTo>
                  <a:cubicBezTo>
                    <a:pt x="3834697" y="2757346"/>
                    <a:pt x="3678362" y="2565165"/>
                    <a:pt x="3572521" y="2351592"/>
                  </a:cubicBezTo>
                  <a:cubicBezTo>
                    <a:pt x="3382613" y="2221161"/>
                    <a:pt x="3125137" y="2125355"/>
                    <a:pt x="2835026" y="2089472"/>
                  </a:cubicBezTo>
                  <a:cubicBezTo>
                    <a:pt x="2470925" y="2044438"/>
                    <a:pt x="2133683" y="2103468"/>
                    <a:pt x="1902855" y="2234479"/>
                  </a:cubicBezTo>
                  <a:cubicBezTo>
                    <a:pt x="1508230" y="2603881"/>
                    <a:pt x="893457" y="2645913"/>
                    <a:pt x="448097" y="2308081"/>
                  </a:cubicBezTo>
                  <a:cubicBezTo>
                    <a:pt x="-50183" y="1930106"/>
                    <a:pt x="-147709" y="1219762"/>
                    <a:pt x="230265" y="721482"/>
                  </a:cubicBezTo>
                  <a:cubicBezTo>
                    <a:pt x="608240" y="223202"/>
                    <a:pt x="1318584" y="125676"/>
                    <a:pt x="1816864" y="503651"/>
                  </a:cubicBezTo>
                  <a:cubicBezTo>
                    <a:pt x="1922519" y="583796"/>
                    <a:pt x="2010155" y="678885"/>
                    <a:pt x="2077971" y="784443"/>
                  </a:cubicBezTo>
                  <a:cubicBezTo>
                    <a:pt x="2289760" y="902821"/>
                    <a:pt x="2577725" y="972444"/>
                    <a:pt x="2893769" y="967396"/>
                  </a:cubicBezTo>
                  <a:cubicBezTo>
                    <a:pt x="3168575" y="963007"/>
                    <a:pt x="3420358" y="902868"/>
                    <a:pt x="3617906" y="804590"/>
                  </a:cubicBezTo>
                  <a:cubicBezTo>
                    <a:pt x="3649441" y="748230"/>
                    <a:pt x="3685719" y="693837"/>
                    <a:pt x="3725720" y="641104"/>
                  </a:cubicBezTo>
                  <a:cubicBezTo>
                    <a:pt x="4266498" y="-71797"/>
                    <a:pt x="5282805" y="-211331"/>
                    <a:pt x="5995706" y="32944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矩形 4"/>
            <p:cNvSpPr/>
            <p:nvPr/>
          </p:nvSpPr>
          <p:spPr>
            <a:xfrm rot="7207200">
              <a:off x="4552560" y="3357360"/>
              <a:ext cx="3414240" cy="1666800"/>
            </a:xfrm>
            <a:custGeom>
              <a:avLst/>
              <a:gdLst>
                <a:gd name="textAreaLeft" fmla="*/ 0 w 3414240"/>
                <a:gd name="textAreaRight" fmla="*/ 3414600 w 3414240"/>
                <a:gd name="textAreaTop" fmla="*/ 0 h 1666800"/>
                <a:gd name="textAreaBottom" fmla="*/ 1667160 h 1666800"/>
              </a:gdLst>
              <a:ahLst/>
              <a:rect l="textAreaLeft" t="textAreaTop" r="textAreaRight" b="textAreaBottom"/>
              <a:pathLst>
                <a:path w="6636810" h="3240537">
                  <a:moveTo>
                    <a:pt x="5995706" y="329447"/>
                  </a:moveTo>
                  <a:cubicBezTo>
                    <a:pt x="6708608" y="870225"/>
                    <a:pt x="6848141" y="1886532"/>
                    <a:pt x="6307363" y="2599433"/>
                  </a:cubicBezTo>
                  <a:cubicBezTo>
                    <a:pt x="5766586" y="3312335"/>
                    <a:pt x="4750279" y="3451868"/>
                    <a:pt x="4037377" y="2911090"/>
                  </a:cubicBezTo>
                  <a:cubicBezTo>
                    <a:pt x="3834697" y="2757346"/>
                    <a:pt x="3678362" y="2565165"/>
                    <a:pt x="3572521" y="2351592"/>
                  </a:cubicBezTo>
                  <a:cubicBezTo>
                    <a:pt x="3382613" y="2221161"/>
                    <a:pt x="3125137" y="2125355"/>
                    <a:pt x="2835026" y="2089472"/>
                  </a:cubicBezTo>
                  <a:cubicBezTo>
                    <a:pt x="2470925" y="2044438"/>
                    <a:pt x="2133683" y="2103468"/>
                    <a:pt x="1902855" y="2234479"/>
                  </a:cubicBezTo>
                  <a:cubicBezTo>
                    <a:pt x="1508230" y="2603881"/>
                    <a:pt x="893457" y="2645913"/>
                    <a:pt x="448097" y="2308081"/>
                  </a:cubicBezTo>
                  <a:cubicBezTo>
                    <a:pt x="-50183" y="1930106"/>
                    <a:pt x="-147709" y="1219762"/>
                    <a:pt x="230265" y="721482"/>
                  </a:cubicBezTo>
                  <a:cubicBezTo>
                    <a:pt x="608240" y="223202"/>
                    <a:pt x="1318584" y="125676"/>
                    <a:pt x="1816864" y="503651"/>
                  </a:cubicBezTo>
                  <a:cubicBezTo>
                    <a:pt x="1922519" y="583796"/>
                    <a:pt x="2010155" y="678885"/>
                    <a:pt x="2077971" y="784443"/>
                  </a:cubicBezTo>
                  <a:cubicBezTo>
                    <a:pt x="2289760" y="902821"/>
                    <a:pt x="2577725" y="972444"/>
                    <a:pt x="2893769" y="967396"/>
                  </a:cubicBezTo>
                  <a:cubicBezTo>
                    <a:pt x="3168575" y="963007"/>
                    <a:pt x="3420358" y="902868"/>
                    <a:pt x="3617906" y="804590"/>
                  </a:cubicBezTo>
                  <a:cubicBezTo>
                    <a:pt x="3649441" y="748230"/>
                    <a:pt x="3685719" y="693837"/>
                    <a:pt x="3725720" y="641104"/>
                  </a:cubicBezTo>
                  <a:cubicBezTo>
                    <a:pt x="4266498" y="-71797"/>
                    <a:pt x="5282805" y="-211331"/>
                    <a:pt x="5995706" y="32944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8" name="矩形 15"/>
          <p:cNvSpPr/>
          <p:nvPr/>
        </p:nvSpPr>
        <p:spPr>
          <a:xfrm>
            <a:off x="50688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528336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2854440" y="1916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3211560" y="4916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6497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2"/>
          <p:cNvSpPr/>
          <p:nvPr/>
        </p:nvSpPr>
        <p:spPr>
          <a:xfrm>
            <a:off x="1668600" y="1795320"/>
            <a:ext cx="1487160" cy="1287000"/>
          </a:xfrm>
          <a:custGeom>
            <a:avLst/>
            <a:gdLst>
              <a:gd name="textAreaLeft" fmla="*/ 0 w 1487160"/>
              <a:gd name="textAreaRight" fmla="*/ 1487520 w 1487160"/>
              <a:gd name="textAreaTop" fmla="*/ 0 h 1287000"/>
              <a:gd name="textAreaBottom" fmla="*/ 1287360 h 1287000"/>
            </a:gdLst>
            <a:ahLst/>
            <a:rect l="textAreaLeft" t="textAreaTop" r="textAreaRight" b="textAreaBottom"/>
            <a:pathLst>
              <a:path w="1581548" h="1368152">
                <a:moveTo>
                  <a:pt x="228030" y="0"/>
                </a:moveTo>
                <a:lnTo>
                  <a:pt x="1581548" y="0"/>
                </a:lnTo>
                <a:lnTo>
                  <a:pt x="1581548" y="1368152"/>
                </a:lnTo>
                <a:lnTo>
                  <a:pt x="228030" y="1368152"/>
                </a:lnTo>
                <a:cubicBezTo>
                  <a:pt x="102093" y="1368152"/>
                  <a:pt x="0" y="1266059"/>
                  <a:pt x="0" y="1140122"/>
                </a:cubicBezTo>
                <a:lnTo>
                  <a:pt x="0" y="228030"/>
                </a:lnTo>
                <a:cubicBezTo>
                  <a:pt x="0" y="102093"/>
                  <a:pt x="102093" y="0"/>
                  <a:pt x="228030" y="0"/>
                </a:cubicBezTo>
                <a:close/>
              </a:path>
            </a:pathLst>
          </a:custGeom>
          <a:solidFill>
            <a:srgbClr val="7b7777"/>
          </a:solidFill>
          <a:ln w="2540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圆角矩形 5"/>
          <p:cNvSpPr/>
          <p:nvPr/>
        </p:nvSpPr>
        <p:spPr>
          <a:xfrm>
            <a:off x="3429000" y="1795320"/>
            <a:ext cx="4655880" cy="1287000"/>
          </a:xfrm>
          <a:custGeom>
            <a:avLst/>
            <a:gdLst>
              <a:gd name="textAreaLeft" fmla="*/ 0 w 4655880"/>
              <a:gd name="textAreaRight" fmla="*/ 4656240 w 4655880"/>
              <a:gd name="textAreaTop" fmla="*/ 0 h 1287000"/>
              <a:gd name="textAreaBottom" fmla="*/ 1287360 h 1287000"/>
            </a:gdLst>
            <a:ahLst/>
            <a:rect l="textAreaLeft" t="textAreaTop" r="textAreaRight" b="textAreaBottom"/>
            <a:pathLst>
              <a:path w="4953577" h="1368152">
                <a:moveTo>
                  <a:pt x="0" y="0"/>
                </a:moveTo>
                <a:lnTo>
                  <a:pt x="2509587" y="0"/>
                </a:lnTo>
                <a:lnTo>
                  <a:pt x="4452490" y="0"/>
                </a:lnTo>
                <a:lnTo>
                  <a:pt x="4760656" y="0"/>
                </a:lnTo>
                <a:cubicBezTo>
                  <a:pt x="4883544" y="198811"/>
                  <a:pt x="4953577" y="433265"/>
                  <a:pt x="4953577" y="684076"/>
                </a:cubicBezTo>
                <a:cubicBezTo>
                  <a:pt x="4953577" y="934888"/>
                  <a:pt x="4883544" y="1169342"/>
                  <a:pt x="4760656" y="1368152"/>
                </a:cubicBezTo>
                <a:lnTo>
                  <a:pt x="4452490" y="1368152"/>
                </a:lnTo>
                <a:lnTo>
                  <a:pt x="2509587" y="1368152"/>
                </a:lnTo>
                <a:lnTo>
                  <a:pt x="0" y="1368152"/>
                </a:lnTo>
                <a:close/>
              </a:path>
            </a:pathLst>
          </a:custGeom>
          <a:solidFill>
            <a:srgbClr val="7b7777"/>
          </a:solidFill>
          <a:ln w="2540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圆角矩形 2"/>
          <p:cNvSpPr/>
          <p:nvPr/>
        </p:nvSpPr>
        <p:spPr>
          <a:xfrm>
            <a:off x="1655640" y="3597120"/>
            <a:ext cx="1487160" cy="1287000"/>
          </a:xfrm>
          <a:custGeom>
            <a:avLst/>
            <a:gdLst>
              <a:gd name="textAreaLeft" fmla="*/ 0 w 1487160"/>
              <a:gd name="textAreaRight" fmla="*/ 1487520 w 1487160"/>
              <a:gd name="textAreaTop" fmla="*/ 0 h 1287000"/>
              <a:gd name="textAreaBottom" fmla="*/ 1287360 h 1287000"/>
            </a:gdLst>
            <a:ahLst/>
            <a:rect l="textAreaLeft" t="textAreaTop" r="textAreaRight" b="textAreaBottom"/>
            <a:pathLst>
              <a:path w="1581548" h="1368152">
                <a:moveTo>
                  <a:pt x="228030" y="0"/>
                </a:moveTo>
                <a:lnTo>
                  <a:pt x="1581548" y="0"/>
                </a:lnTo>
                <a:lnTo>
                  <a:pt x="1581548" y="1368152"/>
                </a:lnTo>
                <a:lnTo>
                  <a:pt x="228030" y="1368152"/>
                </a:lnTo>
                <a:cubicBezTo>
                  <a:pt x="102093" y="1368152"/>
                  <a:pt x="0" y="1266059"/>
                  <a:pt x="0" y="1140122"/>
                </a:cubicBezTo>
                <a:lnTo>
                  <a:pt x="0" y="228030"/>
                </a:lnTo>
                <a:cubicBezTo>
                  <a:pt x="0" y="102093"/>
                  <a:pt x="102093" y="0"/>
                  <a:pt x="228030" y="0"/>
                </a:cubicBezTo>
                <a:close/>
              </a:path>
            </a:pathLst>
          </a:custGeom>
          <a:solidFill>
            <a:srgbClr val="d3373a"/>
          </a:solidFill>
          <a:ln w="2540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圆角矩形 5"/>
          <p:cNvSpPr/>
          <p:nvPr/>
        </p:nvSpPr>
        <p:spPr>
          <a:xfrm>
            <a:off x="3416400" y="3597120"/>
            <a:ext cx="4655880" cy="1287000"/>
          </a:xfrm>
          <a:custGeom>
            <a:avLst/>
            <a:gdLst>
              <a:gd name="textAreaLeft" fmla="*/ 0 w 4655880"/>
              <a:gd name="textAreaRight" fmla="*/ 4656240 w 4655880"/>
              <a:gd name="textAreaTop" fmla="*/ 0 h 1287000"/>
              <a:gd name="textAreaBottom" fmla="*/ 1287360 h 1287000"/>
            </a:gdLst>
            <a:ahLst/>
            <a:rect l="textAreaLeft" t="textAreaTop" r="textAreaRight" b="textAreaBottom"/>
            <a:pathLst>
              <a:path w="4953577" h="1368152">
                <a:moveTo>
                  <a:pt x="0" y="0"/>
                </a:moveTo>
                <a:lnTo>
                  <a:pt x="2509587" y="0"/>
                </a:lnTo>
                <a:lnTo>
                  <a:pt x="4452490" y="0"/>
                </a:lnTo>
                <a:lnTo>
                  <a:pt x="4760656" y="0"/>
                </a:lnTo>
                <a:cubicBezTo>
                  <a:pt x="4883544" y="198811"/>
                  <a:pt x="4953577" y="433265"/>
                  <a:pt x="4953577" y="684076"/>
                </a:cubicBezTo>
                <a:cubicBezTo>
                  <a:pt x="4953577" y="934888"/>
                  <a:pt x="4883544" y="1169342"/>
                  <a:pt x="4760656" y="1368152"/>
                </a:cubicBezTo>
                <a:lnTo>
                  <a:pt x="4452490" y="1368152"/>
                </a:lnTo>
                <a:lnTo>
                  <a:pt x="2509587" y="1368152"/>
                </a:lnTo>
                <a:lnTo>
                  <a:pt x="0" y="1368152"/>
                </a:lnTo>
                <a:close/>
              </a:path>
            </a:pathLst>
          </a:custGeom>
          <a:solidFill>
            <a:srgbClr val="d3373a"/>
          </a:solidFill>
          <a:ln w="2540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3416400" y="2867040"/>
            <a:ext cx="166320" cy="2490480"/>
          </a:xfrm>
          <a:prstGeom prst="rect">
            <a:avLst/>
          </a:prstGeom>
          <a:ln w="9525">
            <a:noFill/>
          </a:ln>
        </p:spPr>
      </p:pic>
      <p:sp>
        <p:nvSpPr>
          <p:cNvPr id="113" name="矩形 12"/>
          <p:cNvSpPr/>
          <p:nvPr/>
        </p:nvSpPr>
        <p:spPr>
          <a:xfrm>
            <a:off x="471168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711680" y="398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609480" y="2567160"/>
            <a:ext cx="8105400" cy="1647360"/>
            <a:chOff x="609480" y="2567160"/>
            <a:chExt cx="8105400" cy="1647360"/>
          </a:xfrm>
        </p:grpSpPr>
        <p:sp>
          <p:nvSpPr>
            <p:cNvPr id="121" name="AutoShape 4"/>
            <p:cNvSpPr/>
            <p:nvPr/>
          </p:nvSpPr>
          <p:spPr>
            <a:xfrm>
              <a:off x="6787800" y="2869200"/>
              <a:ext cx="1927080" cy="1334160"/>
            </a:xfrm>
            <a:prstGeom prst="roundRect">
              <a:avLst>
                <a:gd name="adj" fmla="val 5304"/>
              </a:avLst>
            </a:prstGeom>
            <a:noFill/>
            <a:ln w="38100">
              <a:solidFill>
                <a:srgbClr val="7b7777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divot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2" name="AutoShape 4"/>
            <p:cNvSpPr/>
            <p:nvPr/>
          </p:nvSpPr>
          <p:spPr>
            <a:xfrm>
              <a:off x="609480" y="2880360"/>
              <a:ext cx="1927080" cy="1334160"/>
            </a:xfrm>
            <a:prstGeom prst="roundRect">
              <a:avLst>
                <a:gd name="adj" fmla="val 5304"/>
              </a:avLst>
            </a:prstGeom>
            <a:noFill/>
            <a:ln w="38100">
              <a:solidFill>
                <a:srgbClr val="7b7777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divot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3" name="AutoShape 3"/>
            <p:cNvSpPr/>
            <p:nvPr/>
          </p:nvSpPr>
          <p:spPr>
            <a:xfrm>
              <a:off x="906120" y="2577960"/>
              <a:ext cx="1334160" cy="41472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chemeClr val="accent2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2669040" y="2880360"/>
              <a:ext cx="1927080" cy="1334160"/>
            </a:xfrm>
            <a:prstGeom prst="roundRect">
              <a:avLst>
                <a:gd name="adj" fmla="val 5304"/>
              </a:avLst>
            </a:prstGeom>
            <a:noFill/>
            <a:ln w="38100">
              <a:solidFill>
                <a:srgbClr val="7b7777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divot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5" name="AutoShape 3"/>
            <p:cNvSpPr/>
            <p:nvPr/>
          </p:nvSpPr>
          <p:spPr>
            <a:xfrm>
              <a:off x="2965680" y="2577960"/>
              <a:ext cx="1334160" cy="41472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chemeClr val="accent2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6" name="AutoShape 4"/>
            <p:cNvSpPr/>
            <p:nvPr/>
          </p:nvSpPr>
          <p:spPr>
            <a:xfrm>
              <a:off x="4728600" y="2869200"/>
              <a:ext cx="1927080" cy="1334160"/>
            </a:xfrm>
            <a:prstGeom prst="roundRect">
              <a:avLst>
                <a:gd name="adj" fmla="val 5304"/>
              </a:avLst>
            </a:prstGeom>
            <a:noFill/>
            <a:ln w="38100">
              <a:solidFill>
                <a:srgbClr val="7b7777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divot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7" name="AutoShape 3"/>
            <p:cNvSpPr/>
            <p:nvPr/>
          </p:nvSpPr>
          <p:spPr>
            <a:xfrm>
              <a:off x="5024880" y="2567160"/>
              <a:ext cx="1334160" cy="41472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chemeClr val="accent2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8" name="AutoShape 3"/>
            <p:cNvSpPr/>
            <p:nvPr/>
          </p:nvSpPr>
          <p:spPr>
            <a:xfrm>
              <a:off x="7084440" y="2567160"/>
              <a:ext cx="1334160" cy="41472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/>
              <a:bevelB w="0" h="0"/>
              <a:contourClr>
                <a:schemeClr val="accent2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29" name="矩形 12"/>
          <p:cNvSpPr/>
          <p:nvPr/>
        </p:nvSpPr>
        <p:spPr>
          <a:xfrm>
            <a:off x="32130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72835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4"/>
          <p:cNvSpPr/>
          <p:nvPr/>
        </p:nvSpPr>
        <p:spPr>
          <a:xfrm>
            <a:off x="52117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10684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0204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5"/>
          <p:cNvSpPr/>
          <p:nvPr/>
        </p:nvSpPr>
        <p:spPr>
          <a:xfrm>
            <a:off x="4373640" y="3164040"/>
            <a:ext cx="1366560" cy="116028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2539" h="2160">
                <a:moveTo>
                  <a:pt x="1993" y="0"/>
                </a:moveTo>
                <a:lnTo>
                  <a:pt x="1993" y="0"/>
                </a:lnTo>
                <a:lnTo>
                  <a:pt x="1962" y="5"/>
                </a:lnTo>
                <a:lnTo>
                  <a:pt x="1935" y="13"/>
                </a:lnTo>
                <a:lnTo>
                  <a:pt x="1910" y="23"/>
                </a:lnTo>
                <a:lnTo>
                  <a:pt x="1888" y="38"/>
                </a:lnTo>
                <a:lnTo>
                  <a:pt x="1879" y="45"/>
                </a:lnTo>
                <a:lnTo>
                  <a:pt x="1870" y="52"/>
                </a:lnTo>
                <a:lnTo>
                  <a:pt x="1863" y="61"/>
                </a:lnTo>
                <a:lnTo>
                  <a:pt x="1857" y="70"/>
                </a:lnTo>
                <a:lnTo>
                  <a:pt x="1852" y="79"/>
                </a:lnTo>
                <a:lnTo>
                  <a:pt x="1848" y="90"/>
                </a:lnTo>
                <a:lnTo>
                  <a:pt x="1847" y="99"/>
                </a:lnTo>
                <a:lnTo>
                  <a:pt x="1847" y="110"/>
                </a:lnTo>
                <a:lnTo>
                  <a:pt x="1847" y="110"/>
                </a:lnTo>
                <a:lnTo>
                  <a:pt x="1847" y="123"/>
                </a:lnTo>
                <a:lnTo>
                  <a:pt x="1850" y="133"/>
                </a:lnTo>
                <a:lnTo>
                  <a:pt x="1856" y="144"/>
                </a:lnTo>
                <a:lnTo>
                  <a:pt x="1861" y="153"/>
                </a:lnTo>
                <a:lnTo>
                  <a:pt x="1877" y="173"/>
                </a:lnTo>
                <a:lnTo>
                  <a:pt x="1895" y="189"/>
                </a:lnTo>
                <a:lnTo>
                  <a:pt x="1912" y="207"/>
                </a:lnTo>
                <a:lnTo>
                  <a:pt x="1928" y="225"/>
                </a:lnTo>
                <a:lnTo>
                  <a:pt x="1933" y="236"/>
                </a:lnTo>
                <a:lnTo>
                  <a:pt x="1939" y="245"/>
                </a:lnTo>
                <a:lnTo>
                  <a:pt x="1942" y="258"/>
                </a:lnTo>
                <a:lnTo>
                  <a:pt x="1942" y="269"/>
                </a:lnTo>
                <a:lnTo>
                  <a:pt x="1942" y="269"/>
                </a:lnTo>
                <a:lnTo>
                  <a:pt x="1942" y="281"/>
                </a:lnTo>
                <a:lnTo>
                  <a:pt x="1939" y="292"/>
                </a:lnTo>
                <a:lnTo>
                  <a:pt x="1935" y="303"/>
                </a:lnTo>
                <a:lnTo>
                  <a:pt x="1930" y="312"/>
                </a:lnTo>
                <a:lnTo>
                  <a:pt x="1922" y="323"/>
                </a:lnTo>
                <a:lnTo>
                  <a:pt x="1913" y="332"/>
                </a:lnTo>
                <a:lnTo>
                  <a:pt x="1904" y="339"/>
                </a:lnTo>
                <a:lnTo>
                  <a:pt x="1894" y="348"/>
                </a:lnTo>
                <a:lnTo>
                  <a:pt x="1881" y="355"/>
                </a:lnTo>
                <a:lnTo>
                  <a:pt x="1868" y="361"/>
                </a:lnTo>
                <a:lnTo>
                  <a:pt x="1854" y="366"/>
                </a:lnTo>
                <a:lnTo>
                  <a:pt x="1839" y="371"/>
                </a:lnTo>
                <a:lnTo>
                  <a:pt x="1823" y="375"/>
                </a:lnTo>
                <a:lnTo>
                  <a:pt x="1807" y="379"/>
                </a:lnTo>
                <a:lnTo>
                  <a:pt x="1791" y="380"/>
                </a:lnTo>
                <a:lnTo>
                  <a:pt x="1773" y="380"/>
                </a:lnTo>
                <a:lnTo>
                  <a:pt x="1773" y="380"/>
                </a:lnTo>
                <a:lnTo>
                  <a:pt x="1756" y="380"/>
                </a:lnTo>
                <a:lnTo>
                  <a:pt x="1740" y="379"/>
                </a:lnTo>
                <a:lnTo>
                  <a:pt x="1724" y="375"/>
                </a:lnTo>
                <a:lnTo>
                  <a:pt x="1708" y="371"/>
                </a:lnTo>
                <a:lnTo>
                  <a:pt x="1693" y="366"/>
                </a:lnTo>
                <a:lnTo>
                  <a:pt x="1679" y="361"/>
                </a:lnTo>
                <a:lnTo>
                  <a:pt x="1666" y="355"/>
                </a:lnTo>
                <a:lnTo>
                  <a:pt x="1654" y="348"/>
                </a:lnTo>
                <a:lnTo>
                  <a:pt x="1643" y="339"/>
                </a:lnTo>
                <a:lnTo>
                  <a:pt x="1634" y="332"/>
                </a:lnTo>
                <a:lnTo>
                  <a:pt x="1625" y="323"/>
                </a:lnTo>
                <a:lnTo>
                  <a:pt x="1618" y="312"/>
                </a:lnTo>
                <a:lnTo>
                  <a:pt x="1612" y="303"/>
                </a:lnTo>
                <a:lnTo>
                  <a:pt x="1607" y="292"/>
                </a:lnTo>
                <a:lnTo>
                  <a:pt x="1605" y="281"/>
                </a:lnTo>
                <a:lnTo>
                  <a:pt x="1605" y="269"/>
                </a:lnTo>
                <a:lnTo>
                  <a:pt x="1605" y="269"/>
                </a:lnTo>
                <a:lnTo>
                  <a:pt x="1605" y="258"/>
                </a:lnTo>
                <a:lnTo>
                  <a:pt x="1609" y="245"/>
                </a:lnTo>
                <a:lnTo>
                  <a:pt x="1614" y="236"/>
                </a:lnTo>
                <a:lnTo>
                  <a:pt x="1619" y="225"/>
                </a:lnTo>
                <a:lnTo>
                  <a:pt x="1636" y="207"/>
                </a:lnTo>
                <a:lnTo>
                  <a:pt x="1652" y="189"/>
                </a:lnTo>
                <a:lnTo>
                  <a:pt x="1670" y="173"/>
                </a:lnTo>
                <a:lnTo>
                  <a:pt x="1686" y="153"/>
                </a:lnTo>
                <a:lnTo>
                  <a:pt x="1692" y="144"/>
                </a:lnTo>
                <a:lnTo>
                  <a:pt x="1697" y="133"/>
                </a:lnTo>
                <a:lnTo>
                  <a:pt x="1701" y="123"/>
                </a:lnTo>
                <a:lnTo>
                  <a:pt x="1701" y="110"/>
                </a:lnTo>
                <a:lnTo>
                  <a:pt x="1701" y="110"/>
                </a:lnTo>
                <a:lnTo>
                  <a:pt x="1701" y="99"/>
                </a:lnTo>
                <a:lnTo>
                  <a:pt x="1699" y="90"/>
                </a:lnTo>
                <a:lnTo>
                  <a:pt x="1695" y="79"/>
                </a:lnTo>
                <a:lnTo>
                  <a:pt x="1690" y="70"/>
                </a:lnTo>
                <a:lnTo>
                  <a:pt x="1684" y="61"/>
                </a:lnTo>
                <a:lnTo>
                  <a:pt x="1677" y="52"/>
                </a:lnTo>
                <a:lnTo>
                  <a:pt x="1668" y="45"/>
                </a:lnTo>
                <a:lnTo>
                  <a:pt x="1659" y="38"/>
                </a:lnTo>
                <a:lnTo>
                  <a:pt x="1637" y="23"/>
                </a:lnTo>
                <a:lnTo>
                  <a:pt x="1612" y="13"/>
                </a:lnTo>
                <a:lnTo>
                  <a:pt x="1585" y="5"/>
                </a:lnTo>
                <a:lnTo>
                  <a:pt x="1555" y="0"/>
                </a:lnTo>
                <a:lnTo>
                  <a:pt x="379" y="0"/>
                </a:lnTo>
                <a:lnTo>
                  <a:pt x="379" y="1185"/>
                </a:lnTo>
                <a:lnTo>
                  <a:pt x="379" y="1185"/>
                </a:lnTo>
                <a:lnTo>
                  <a:pt x="374" y="1213"/>
                </a:lnTo>
                <a:lnTo>
                  <a:pt x="366" y="1240"/>
                </a:lnTo>
                <a:lnTo>
                  <a:pt x="356" y="1264"/>
                </a:lnTo>
                <a:lnTo>
                  <a:pt x="341" y="1284"/>
                </a:lnTo>
                <a:lnTo>
                  <a:pt x="325" y="1302"/>
                </a:lnTo>
                <a:lnTo>
                  <a:pt x="318" y="1307"/>
                </a:lnTo>
                <a:lnTo>
                  <a:pt x="309" y="1314"/>
                </a:lnTo>
                <a:lnTo>
                  <a:pt x="300" y="1318"/>
                </a:lnTo>
                <a:lnTo>
                  <a:pt x="289" y="1322"/>
                </a:lnTo>
                <a:lnTo>
                  <a:pt x="280" y="1323"/>
                </a:lnTo>
                <a:lnTo>
                  <a:pt x="269" y="1323"/>
                </a:lnTo>
                <a:lnTo>
                  <a:pt x="269" y="1323"/>
                </a:lnTo>
                <a:lnTo>
                  <a:pt x="258" y="1323"/>
                </a:lnTo>
                <a:lnTo>
                  <a:pt x="246" y="1320"/>
                </a:lnTo>
                <a:lnTo>
                  <a:pt x="237" y="1316"/>
                </a:lnTo>
                <a:lnTo>
                  <a:pt x="226" y="1309"/>
                </a:lnTo>
                <a:lnTo>
                  <a:pt x="208" y="1295"/>
                </a:lnTo>
                <a:lnTo>
                  <a:pt x="190" y="1277"/>
                </a:lnTo>
                <a:lnTo>
                  <a:pt x="173" y="1258"/>
                </a:lnTo>
                <a:lnTo>
                  <a:pt x="154" y="1242"/>
                </a:lnTo>
                <a:lnTo>
                  <a:pt x="145" y="1237"/>
                </a:lnTo>
                <a:lnTo>
                  <a:pt x="134" y="1231"/>
                </a:lnTo>
                <a:lnTo>
                  <a:pt x="123" y="1228"/>
                </a:lnTo>
                <a:lnTo>
                  <a:pt x="110" y="1228"/>
                </a:lnTo>
                <a:lnTo>
                  <a:pt x="110" y="1228"/>
                </a:lnTo>
                <a:lnTo>
                  <a:pt x="100" y="1228"/>
                </a:lnTo>
                <a:lnTo>
                  <a:pt x="89" y="1231"/>
                </a:lnTo>
                <a:lnTo>
                  <a:pt x="78" y="1235"/>
                </a:lnTo>
                <a:lnTo>
                  <a:pt x="67" y="1240"/>
                </a:lnTo>
                <a:lnTo>
                  <a:pt x="58" y="1248"/>
                </a:lnTo>
                <a:lnTo>
                  <a:pt x="49" y="1257"/>
                </a:lnTo>
                <a:lnTo>
                  <a:pt x="40" y="1266"/>
                </a:lnTo>
                <a:lnTo>
                  <a:pt x="33" y="1277"/>
                </a:lnTo>
                <a:lnTo>
                  <a:pt x="26" y="1289"/>
                </a:lnTo>
                <a:lnTo>
                  <a:pt x="18" y="1302"/>
                </a:lnTo>
                <a:lnTo>
                  <a:pt x="13" y="1316"/>
                </a:lnTo>
                <a:lnTo>
                  <a:pt x="8" y="1331"/>
                </a:lnTo>
                <a:lnTo>
                  <a:pt x="4" y="1347"/>
                </a:lnTo>
                <a:lnTo>
                  <a:pt x="2" y="1363"/>
                </a:lnTo>
                <a:lnTo>
                  <a:pt x="0" y="1379"/>
                </a:lnTo>
                <a:lnTo>
                  <a:pt x="0" y="1397"/>
                </a:lnTo>
                <a:lnTo>
                  <a:pt x="0" y="1397"/>
                </a:lnTo>
                <a:lnTo>
                  <a:pt x="0" y="1414"/>
                </a:lnTo>
                <a:lnTo>
                  <a:pt x="2" y="1432"/>
                </a:lnTo>
                <a:lnTo>
                  <a:pt x="4" y="1448"/>
                </a:lnTo>
                <a:lnTo>
                  <a:pt x="8" y="1462"/>
                </a:lnTo>
                <a:lnTo>
                  <a:pt x="13" y="1478"/>
                </a:lnTo>
                <a:lnTo>
                  <a:pt x="18" y="1491"/>
                </a:lnTo>
                <a:lnTo>
                  <a:pt x="26" y="1504"/>
                </a:lnTo>
                <a:lnTo>
                  <a:pt x="33" y="1516"/>
                </a:lnTo>
                <a:lnTo>
                  <a:pt x="40" y="1527"/>
                </a:lnTo>
                <a:lnTo>
                  <a:pt x="49" y="1538"/>
                </a:lnTo>
                <a:lnTo>
                  <a:pt x="58" y="1545"/>
                </a:lnTo>
                <a:lnTo>
                  <a:pt x="67" y="1552"/>
                </a:lnTo>
                <a:lnTo>
                  <a:pt x="78" y="1558"/>
                </a:lnTo>
                <a:lnTo>
                  <a:pt x="89" y="1563"/>
                </a:lnTo>
                <a:lnTo>
                  <a:pt x="100" y="1565"/>
                </a:lnTo>
                <a:lnTo>
                  <a:pt x="110" y="1567"/>
                </a:lnTo>
                <a:lnTo>
                  <a:pt x="110" y="1567"/>
                </a:lnTo>
                <a:lnTo>
                  <a:pt x="123" y="1565"/>
                </a:lnTo>
                <a:lnTo>
                  <a:pt x="134" y="1561"/>
                </a:lnTo>
                <a:lnTo>
                  <a:pt x="145" y="1558"/>
                </a:lnTo>
                <a:lnTo>
                  <a:pt x="154" y="1551"/>
                </a:lnTo>
                <a:lnTo>
                  <a:pt x="173" y="1536"/>
                </a:lnTo>
                <a:lnTo>
                  <a:pt x="190" y="1518"/>
                </a:lnTo>
                <a:lnTo>
                  <a:pt x="208" y="1500"/>
                </a:lnTo>
                <a:lnTo>
                  <a:pt x="226" y="1484"/>
                </a:lnTo>
                <a:lnTo>
                  <a:pt x="237" y="1478"/>
                </a:lnTo>
                <a:lnTo>
                  <a:pt x="247" y="1473"/>
                </a:lnTo>
                <a:lnTo>
                  <a:pt x="258" y="1471"/>
                </a:lnTo>
                <a:lnTo>
                  <a:pt x="269" y="1469"/>
                </a:lnTo>
                <a:lnTo>
                  <a:pt x="269" y="1469"/>
                </a:lnTo>
                <a:lnTo>
                  <a:pt x="280" y="1469"/>
                </a:lnTo>
                <a:lnTo>
                  <a:pt x="289" y="1473"/>
                </a:lnTo>
                <a:lnTo>
                  <a:pt x="300" y="1475"/>
                </a:lnTo>
                <a:lnTo>
                  <a:pt x="309" y="1480"/>
                </a:lnTo>
                <a:lnTo>
                  <a:pt x="318" y="1486"/>
                </a:lnTo>
                <a:lnTo>
                  <a:pt x="325" y="1493"/>
                </a:lnTo>
                <a:lnTo>
                  <a:pt x="341" y="1509"/>
                </a:lnTo>
                <a:lnTo>
                  <a:pt x="354" y="1531"/>
                </a:lnTo>
                <a:lnTo>
                  <a:pt x="366" y="1554"/>
                </a:lnTo>
                <a:lnTo>
                  <a:pt x="374" y="1579"/>
                </a:lnTo>
                <a:lnTo>
                  <a:pt x="379" y="1608"/>
                </a:lnTo>
                <a:lnTo>
                  <a:pt x="379" y="2160"/>
                </a:lnTo>
                <a:lnTo>
                  <a:pt x="379" y="2160"/>
                </a:lnTo>
                <a:lnTo>
                  <a:pt x="435" y="2160"/>
                </a:lnTo>
                <a:lnTo>
                  <a:pt x="491" y="2158"/>
                </a:lnTo>
                <a:lnTo>
                  <a:pt x="545" y="2155"/>
                </a:lnTo>
                <a:lnTo>
                  <a:pt x="599" y="2149"/>
                </a:lnTo>
                <a:lnTo>
                  <a:pt x="655" y="2144"/>
                </a:lnTo>
                <a:lnTo>
                  <a:pt x="707" y="2137"/>
                </a:lnTo>
                <a:lnTo>
                  <a:pt x="761" y="2128"/>
                </a:lnTo>
                <a:lnTo>
                  <a:pt x="814" y="2117"/>
                </a:lnTo>
                <a:lnTo>
                  <a:pt x="868" y="2106"/>
                </a:lnTo>
                <a:lnTo>
                  <a:pt x="918" y="2093"/>
                </a:lnTo>
                <a:lnTo>
                  <a:pt x="970" y="2079"/>
                </a:lnTo>
                <a:lnTo>
                  <a:pt x="1021" y="2064"/>
                </a:lnTo>
                <a:lnTo>
                  <a:pt x="1071" y="2046"/>
                </a:lnTo>
                <a:lnTo>
                  <a:pt x="1122" y="2030"/>
                </a:lnTo>
                <a:lnTo>
                  <a:pt x="1171" y="2010"/>
                </a:lnTo>
                <a:lnTo>
                  <a:pt x="1219" y="1991"/>
                </a:lnTo>
                <a:lnTo>
                  <a:pt x="1268" y="1971"/>
                </a:lnTo>
                <a:lnTo>
                  <a:pt x="1315" y="1947"/>
                </a:lnTo>
                <a:lnTo>
                  <a:pt x="1362" y="1924"/>
                </a:lnTo>
                <a:lnTo>
                  <a:pt x="1409" y="1900"/>
                </a:lnTo>
                <a:lnTo>
                  <a:pt x="1454" y="1875"/>
                </a:lnTo>
                <a:lnTo>
                  <a:pt x="1499" y="1848"/>
                </a:lnTo>
                <a:lnTo>
                  <a:pt x="1544" y="1821"/>
                </a:lnTo>
                <a:lnTo>
                  <a:pt x="1587" y="1792"/>
                </a:lnTo>
                <a:lnTo>
                  <a:pt x="1630" y="1762"/>
                </a:lnTo>
                <a:lnTo>
                  <a:pt x="1672" y="1731"/>
                </a:lnTo>
                <a:lnTo>
                  <a:pt x="1713" y="1700"/>
                </a:lnTo>
                <a:lnTo>
                  <a:pt x="1753" y="1668"/>
                </a:lnTo>
                <a:lnTo>
                  <a:pt x="1793" y="1634"/>
                </a:lnTo>
                <a:lnTo>
                  <a:pt x="1832" y="1599"/>
                </a:lnTo>
                <a:lnTo>
                  <a:pt x="1870" y="1565"/>
                </a:lnTo>
                <a:lnTo>
                  <a:pt x="1906" y="1529"/>
                </a:lnTo>
                <a:lnTo>
                  <a:pt x="1942" y="1491"/>
                </a:lnTo>
                <a:lnTo>
                  <a:pt x="1978" y="1453"/>
                </a:lnTo>
                <a:lnTo>
                  <a:pt x="2013" y="1414"/>
                </a:lnTo>
                <a:lnTo>
                  <a:pt x="2045" y="1374"/>
                </a:lnTo>
                <a:lnTo>
                  <a:pt x="2079" y="1334"/>
                </a:lnTo>
                <a:lnTo>
                  <a:pt x="2110" y="1293"/>
                </a:lnTo>
                <a:lnTo>
                  <a:pt x="2141" y="1251"/>
                </a:lnTo>
                <a:lnTo>
                  <a:pt x="2169" y="1208"/>
                </a:lnTo>
                <a:lnTo>
                  <a:pt x="2198" y="1165"/>
                </a:lnTo>
                <a:lnTo>
                  <a:pt x="2227" y="1121"/>
                </a:lnTo>
                <a:lnTo>
                  <a:pt x="2252" y="1076"/>
                </a:lnTo>
                <a:lnTo>
                  <a:pt x="2278" y="1030"/>
                </a:lnTo>
                <a:lnTo>
                  <a:pt x="2303" y="984"/>
                </a:lnTo>
                <a:lnTo>
                  <a:pt x="2326" y="938"/>
                </a:lnTo>
                <a:lnTo>
                  <a:pt x="2348" y="889"/>
                </a:lnTo>
                <a:lnTo>
                  <a:pt x="2370" y="842"/>
                </a:lnTo>
                <a:lnTo>
                  <a:pt x="2389" y="793"/>
                </a:lnTo>
                <a:lnTo>
                  <a:pt x="2407" y="743"/>
                </a:lnTo>
                <a:lnTo>
                  <a:pt x="2425" y="694"/>
                </a:lnTo>
                <a:lnTo>
                  <a:pt x="2442" y="644"/>
                </a:lnTo>
                <a:lnTo>
                  <a:pt x="2458" y="591"/>
                </a:lnTo>
                <a:lnTo>
                  <a:pt x="2470" y="541"/>
                </a:lnTo>
                <a:lnTo>
                  <a:pt x="2483" y="489"/>
                </a:lnTo>
                <a:lnTo>
                  <a:pt x="2496" y="436"/>
                </a:lnTo>
                <a:lnTo>
                  <a:pt x="2505" y="382"/>
                </a:lnTo>
                <a:lnTo>
                  <a:pt x="2514" y="330"/>
                </a:lnTo>
                <a:lnTo>
                  <a:pt x="2521" y="276"/>
                </a:lnTo>
                <a:lnTo>
                  <a:pt x="2528" y="222"/>
                </a:lnTo>
                <a:lnTo>
                  <a:pt x="2534" y="166"/>
                </a:lnTo>
                <a:lnTo>
                  <a:pt x="2537" y="112"/>
                </a:lnTo>
                <a:lnTo>
                  <a:pt x="2539" y="56"/>
                </a:lnTo>
                <a:lnTo>
                  <a:pt x="2539" y="0"/>
                </a:lnTo>
                <a:lnTo>
                  <a:pt x="1993" y="0"/>
                </a:lnTo>
                <a:close/>
              </a:path>
            </a:pathLst>
          </a:custGeom>
          <a:solidFill>
            <a:srgbClr val="d33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4568760" y="2000160"/>
            <a:ext cx="1161720" cy="136476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1364760"/>
              <a:gd name="textAreaBottom" fmla="*/ 1365120 h 1364760"/>
            </a:gdLst>
            <a:ahLst/>
            <a:rect l="textAreaLeft" t="textAreaTop" r="textAreaRight" b="textAreaBottom"/>
            <a:pathLst>
              <a:path w="2160" h="2540">
                <a:moveTo>
                  <a:pt x="1614" y="2160"/>
                </a:moveTo>
                <a:lnTo>
                  <a:pt x="2160" y="2160"/>
                </a:lnTo>
                <a:lnTo>
                  <a:pt x="2160" y="2160"/>
                </a:lnTo>
                <a:lnTo>
                  <a:pt x="2160" y="2104"/>
                </a:lnTo>
                <a:lnTo>
                  <a:pt x="2158" y="2050"/>
                </a:lnTo>
                <a:lnTo>
                  <a:pt x="2155" y="1994"/>
                </a:lnTo>
                <a:lnTo>
                  <a:pt x="2149" y="1940"/>
                </a:lnTo>
                <a:lnTo>
                  <a:pt x="2142" y="1886"/>
                </a:lnTo>
                <a:lnTo>
                  <a:pt x="2135" y="1832"/>
                </a:lnTo>
                <a:lnTo>
                  <a:pt x="2126" y="1778"/>
                </a:lnTo>
                <a:lnTo>
                  <a:pt x="2117" y="1725"/>
                </a:lnTo>
                <a:lnTo>
                  <a:pt x="2104" y="1673"/>
                </a:lnTo>
                <a:lnTo>
                  <a:pt x="2091" y="1621"/>
                </a:lnTo>
                <a:lnTo>
                  <a:pt x="2079" y="1569"/>
                </a:lnTo>
                <a:lnTo>
                  <a:pt x="2063" y="1518"/>
                </a:lnTo>
                <a:lnTo>
                  <a:pt x="2046" y="1468"/>
                </a:lnTo>
                <a:lnTo>
                  <a:pt x="2028" y="1417"/>
                </a:lnTo>
                <a:lnTo>
                  <a:pt x="2010" y="1368"/>
                </a:lnTo>
                <a:lnTo>
                  <a:pt x="1991" y="1320"/>
                </a:lnTo>
                <a:lnTo>
                  <a:pt x="1969" y="1271"/>
                </a:lnTo>
                <a:lnTo>
                  <a:pt x="1947" y="1224"/>
                </a:lnTo>
                <a:lnTo>
                  <a:pt x="1924" y="1177"/>
                </a:lnTo>
                <a:lnTo>
                  <a:pt x="1899" y="1130"/>
                </a:lnTo>
                <a:lnTo>
                  <a:pt x="1873" y="1085"/>
                </a:lnTo>
                <a:lnTo>
                  <a:pt x="1848" y="1040"/>
                </a:lnTo>
                <a:lnTo>
                  <a:pt x="1819" y="995"/>
                </a:lnTo>
                <a:lnTo>
                  <a:pt x="1790" y="952"/>
                </a:lnTo>
                <a:lnTo>
                  <a:pt x="1762" y="911"/>
                </a:lnTo>
                <a:lnTo>
                  <a:pt x="1731" y="867"/>
                </a:lnTo>
                <a:lnTo>
                  <a:pt x="1700" y="828"/>
                </a:lnTo>
                <a:lnTo>
                  <a:pt x="1666" y="786"/>
                </a:lnTo>
                <a:lnTo>
                  <a:pt x="1634" y="746"/>
                </a:lnTo>
                <a:lnTo>
                  <a:pt x="1599" y="709"/>
                </a:lnTo>
                <a:lnTo>
                  <a:pt x="1563" y="671"/>
                </a:lnTo>
                <a:lnTo>
                  <a:pt x="1527" y="633"/>
                </a:lnTo>
                <a:lnTo>
                  <a:pt x="1491" y="597"/>
                </a:lnTo>
                <a:lnTo>
                  <a:pt x="1453" y="561"/>
                </a:lnTo>
                <a:lnTo>
                  <a:pt x="1414" y="526"/>
                </a:lnTo>
                <a:lnTo>
                  <a:pt x="1374" y="494"/>
                </a:lnTo>
                <a:lnTo>
                  <a:pt x="1334" y="462"/>
                </a:lnTo>
                <a:lnTo>
                  <a:pt x="1293" y="429"/>
                </a:lnTo>
                <a:lnTo>
                  <a:pt x="1251" y="398"/>
                </a:lnTo>
                <a:lnTo>
                  <a:pt x="1208" y="370"/>
                </a:lnTo>
                <a:lnTo>
                  <a:pt x="1165" y="341"/>
                </a:lnTo>
                <a:lnTo>
                  <a:pt x="1120" y="314"/>
                </a:lnTo>
                <a:lnTo>
                  <a:pt x="1075" y="287"/>
                </a:lnTo>
                <a:lnTo>
                  <a:pt x="1030" y="261"/>
                </a:lnTo>
                <a:lnTo>
                  <a:pt x="983" y="236"/>
                </a:lnTo>
                <a:lnTo>
                  <a:pt x="936" y="213"/>
                </a:lnTo>
                <a:lnTo>
                  <a:pt x="889" y="191"/>
                </a:lnTo>
                <a:lnTo>
                  <a:pt x="840" y="169"/>
                </a:lnTo>
                <a:lnTo>
                  <a:pt x="792" y="150"/>
                </a:lnTo>
                <a:lnTo>
                  <a:pt x="743" y="132"/>
                </a:lnTo>
                <a:lnTo>
                  <a:pt x="692" y="114"/>
                </a:lnTo>
                <a:lnTo>
                  <a:pt x="642" y="97"/>
                </a:lnTo>
                <a:lnTo>
                  <a:pt x="591" y="83"/>
                </a:lnTo>
                <a:lnTo>
                  <a:pt x="539" y="69"/>
                </a:lnTo>
                <a:lnTo>
                  <a:pt x="489" y="56"/>
                </a:lnTo>
                <a:lnTo>
                  <a:pt x="435" y="43"/>
                </a:lnTo>
                <a:lnTo>
                  <a:pt x="382" y="34"/>
                </a:lnTo>
                <a:lnTo>
                  <a:pt x="328" y="25"/>
                </a:lnTo>
                <a:lnTo>
                  <a:pt x="276" y="18"/>
                </a:lnTo>
                <a:lnTo>
                  <a:pt x="220" y="11"/>
                </a:lnTo>
                <a:lnTo>
                  <a:pt x="166" y="7"/>
                </a:lnTo>
                <a:lnTo>
                  <a:pt x="112" y="4"/>
                </a:lnTo>
                <a:lnTo>
                  <a:pt x="56" y="0"/>
                </a:lnTo>
                <a:lnTo>
                  <a:pt x="0" y="0"/>
                </a:lnTo>
                <a:lnTo>
                  <a:pt x="0" y="546"/>
                </a:lnTo>
                <a:lnTo>
                  <a:pt x="0" y="546"/>
                </a:lnTo>
                <a:lnTo>
                  <a:pt x="4" y="577"/>
                </a:lnTo>
                <a:lnTo>
                  <a:pt x="13" y="604"/>
                </a:lnTo>
                <a:lnTo>
                  <a:pt x="23" y="629"/>
                </a:lnTo>
                <a:lnTo>
                  <a:pt x="36" y="651"/>
                </a:lnTo>
                <a:lnTo>
                  <a:pt x="43" y="660"/>
                </a:lnTo>
                <a:lnTo>
                  <a:pt x="52" y="669"/>
                </a:lnTo>
                <a:lnTo>
                  <a:pt x="61" y="676"/>
                </a:lnTo>
                <a:lnTo>
                  <a:pt x="70" y="682"/>
                </a:lnTo>
                <a:lnTo>
                  <a:pt x="79" y="687"/>
                </a:lnTo>
                <a:lnTo>
                  <a:pt x="90" y="691"/>
                </a:lnTo>
                <a:lnTo>
                  <a:pt x="99" y="692"/>
                </a:lnTo>
                <a:lnTo>
                  <a:pt x="110" y="694"/>
                </a:lnTo>
                <a:lnTo>
                  <a:pt x="110" y="694"/>
                </a:lnTo>
                <a:lnTo>
                  <a:pt x="123" y="692"/>
                </a:lnTo>
                <a:lnTo>
                  <a:pt x="133" y="689"/>
                </a:lnTo>
                <a:lnTo>
                  <a:pt x="144" y="685"/>
                </a:lnTo>
                <a:lnTo>
                  <a:pt x="153" y="678"/>
                </a:lnTo>
                <a:lnTo>
                  <a:pt x="171" y="664"/>
                </a:lnTo>
                <a:lnTo>
                  <a:pt x="189" y="645"/>
                </a:lnTo>
                <a:lnTo>
                  <a:pt x="207" y="627"/>
                </a:lnTo>
                <a:lnTo>
                  <a:pt x="225" y="611"/>
                </a:lnTo>
                <a:lnTo>
                  <a:pt x="234" y="606"/>
                </a:lnTo>
                <a:lnTo>
                  <a:pt x="245" y="600"/>
                </a:lnTo>
                <a:lnTo>
                  <a:pt x="256" y="597"/>
                </a:lnTo>
                <a:lnTo>
                  <a:pt x="269" y="597"/>
                </a:lnTo>
                <a:lnTo>
                  <a:pt x="269" y="597"/>
                </a:lnTo>
                <a:lnTo>
                  <a:pt x="279" y="597"/>
                </a:lnTo>
                <a:lnTo>
                  <a:pt x="290" y="600"/>
                </a:lnTo>
                <a:lnTo>
                  <a:pt x="301" y="604"/>
                </a:lnTo>
                <a:lnTo>
                  <a:pt x="312" y="609"/>
                </a:lnTo>
                <a:lnTo>
                  <a:pt x="321" y="617"/>
                </a:lnTo>
                <a:lnTo>
                  <a:pt x="330" y="626"/>
                </a:lnTo>
                <a:lnTo>
                  <a:pt x="339" y="635"/>
                </a:lnTo>
                <a:lnTo>
                  <a:pt x="348" y="645"/>
                </a:lnTo>
                <a:lnTo>
                  <a:pt x="355" y="658"/>
                </a:lnTo>
                <a:lnTo>
                  <a:pt x="361" y="671"/>
                </a:lnTo>
                <a:lnTo>
                  <a:pt x="366" y="685"/>
                </a:lnTo>
                <a:lnTo>
                  <a:pt x="371" y="700"/>
                </a:lnTo>
                <a:lnTo>
                  <a:pt x="375" y="716"/>
                </a:lnTo>
                <a:lnTo>
                  <a:pt x="377" y="732"/>
                </a:lnTo>
                <a:lnTo>
                  <a:pt x="379" y="748"/>
                </a:lnTo>
                <a:lnTo>
                  <a:pt x="380" y="766"/>
                </a:lnTo>
                <a:lnTo>
                  <a:pt x="380" y="766"/>
                </a:lnTo>
                <a:lnTo>
                  <a:pt x="379" y="783"/>
                </a:lnTo>
                <a:lnTo>
                  <a:pt x="377" y="801"/>
                </a:lnTo>
                <a:lnTo>
                  <a:pt x="375" y="817"/>
                </a:lnTo>
                <a:lnTo>
                  <a:pt x="371" y="831"/>
                </a:lnTo>
                <a:lnTo>
                  <a:pt x="366" y="847"/>
                </a:lnTo>
                <a:lnTo>
                  <a:pt x="361" y="860"/>
                </a:lnTo>
                <a:lnTo>
                  <a:pt x="355" y="874"/>
                </a:lnTo>
                <a:lnTo>
                  <a:pt x="348" y="885"/>
                </a:lnTo>
                <a:lnTo>
                  <a:pt x="339" y="896"/>
                </a:lnTo>
                <a:lnTo>
                  <a:pt x="330" y="907"/>
                </a:lnTo>
                <a:lnTo>
                  <a:pt x="321" y="914"/>
                </a:lnTo>
                <a:lnTo>
                  <a:pt x="312" y="921"/>
                </a:lnTo>
                <a:lnTo>
                  <a:pt x="301" y="929"/>
                </a:lnTo>
                <a:lnTo>
                  <a:pt x="290" y="932"/>
                </a:lnTo>
                <a:lnTo>
                  <a:pt x="279" y="934"/>
                </a:lnTo>
                <a:lnTo>
                  <a:pt x="269" y="936"/>
                </a:lnTo>
                <a:lnTo>
                  <a:pt x="269" y="936"/>
                </a:lnTo>
                <a:lnTo>
                  <a:pt x="256" y="934"/>
                </a:lnTo>
                <a:lnTo>
                  <a:pt x="245" y="930"/>
                </a:lnTo>
                <a:lnTo>
                  <a:pt x="234" y="927"/>
                </a:lnTo>
                <a:lnTo>
                  <a:pt x="225" y="920"/>
                </a:lnTo>
                <a:lnTo>
                  <a:pt x="207" y="905"/>
                </a:lnTo>
                <a:lnTo>
                  <a:pt x="189" y="887"/>
                </a:lnTo>
                <a:lnTo>
                  <a:pt x="171" y="869"/>
                </a:lnTo>
                <a:lnTo>
                  <a:pt x="153" y="853"/>
                </a:lnTo>
                <a:lnTo>
                  <a:pt x="144" y="847"/>
                </a:lnTo>
                <a:lnTo>
                  <a:pt x="133" y="842"/>
                </a:lnTo>
                <a:lnTo>
                  <a:pt x="123" y="840"/>
                </a:lnTo>
                <a:lnTo>
                  <a:pt x="110" y="838"/>
                </a:lnTo>
                <a:lnTo>
                  <a:pt x="110" y="838"/>
                </a:lnTo>
                <a:lnTo>
                  <a:pt x="99" y="838"/>
                </a:lnTo>
                <a:lnTo>
                  <a:pt x="90" y="842"/>
                </a:lnTo>
                <a:lnTo>
                  <a:pt x="79" y="846"/>
                </a:lnTo>
                <a:lnTo>
                  <a:pt x="70" y="849"/>
                </a:lnTo>
                <a:lnTo>
                  <a:pt x="61" y="856"/>
                </a:lnTo>
                <a:lnTo>
                  <a:pt x="52" y="864"/>
                </a:lnTo>
                <a:lnTo>
                  <a:pt x="43" y="871"/>
                </a:lnTo>
                <a:lnTo>
                  <a:pt x="36" y="882"/>
                </a:lnTo>
                <a:lnTo>
                  <a:pt x="23" y="903"/>
                </a:lnTo>
                <a:lnTo>
                  <a:pt x="13" y="929"/>
                </a:lnTo>
                <a:lnTo>
                  <a:pt x="4" y="956"/>
                </a:lnTo>
                <a:lnTo>
                  <a:pt x="0" y="986"/>
                </a:lnTo>
                <a:lnTo>
                  <a:pt x="0" y="2160"/>
                </a:lnTo>
                <a:lnTo>
                  <a:pt x="1176" y="2160"/>
                </a:lnTo>
                <a:lnTo>
                  <a:pt x="1176" y="2160"/>
                </a:lnTo>
                <a:lnTo>
                  <a:pt x="1206" y="2165"/>
                </a:lnTo>
                <a:lnTo>
                  <a:pt x="1233" y="2173"/>
                </a:lnTo>
                <a:lnTo>
                  <a:pt x="1258" y="2183"/>
                </a:lnTo>
                <a:lnTo>
                  <a:pt x="1280" y="2198"/>
                </a:lnTo>
                <a:lnTo>
                  <a:pt x="1289" y="2205"/>
                </a:lnTo>
                <a:lnTo>
                  <a:pt x="1298" y="2212"/>
                </a:lnTo>
                <a:lnTo>
                  <a:pt x="1305" y="2221"/>
                </a:lnTo>
                <a:lnTo>
                  <a:pt x="1311" y="2230"/>
                </a:lnTo>
                <a:lnTo>
                  <a:pt x="1316" y="2239"/>
                </a:lnTo>
                <a:lnTo>
                  <a:pt x="1320" y="2250"/>
                </a:lnTo>
                <a:lnTo>
                  <a:pt x="1322" y="2259"/>
                </a:lnTo>
                <a:lnTo>
                  <a:pt x="1322" y="2270"/>
                </a:lnTo>
                <a:lnTo>
                  <a:pt x="1322" y="2270"/>
                </a:lnTo>
                <a:lnTo>
                  <a:pt x="1322" y="2283"/>
                </a:lnTo>
                <a:lnTo>
                  <a:pt x="1318" y="2293"/>
                </a:lnTo>
                <a:lnTo>
                  <a:pt x="1313" y="2304"/>
                </a:lnTo>
                <a:lnTo>
                  <a:pt x="1307" y="2313"/>
                </a:lnTo>
                <a:lnTo>
                  <a:pt x="1291" y="2333"/>
                </a:lnTo>
                <a:lnTo>
                  <a:pt x="1273" y="2349"/>
                </a:lnTo>
                <a:lnTo>
                  <a:pt x="1257" y="2367"/>
                </a:lnTo>
                <a:lnTo>
                  <a:pt x="1240" y="2385"/>
                </a:lnTo>
                <a:lnTo>
                  <a:pt x="1235" y="2396"/>
                </a:lnTo>
                <a:lnTo>
                  <a:pt x="1230" y="2405"/>
                </a:lnTo>
                <a:lnTo>
                  <a:pt x="1226" y="2418"/>
                </a:lnTo>
                <a:lnTo>
                  <a:pt x="1226" y="2429"/>
                </a:lnTo>
                <a:lnTo>
                  <a:pt x="1226" y="2429"/>
                </a:lnTo>
                <a:lnTo>
                  <a:pt x="1226" y="2441"/>
                </a:lnTo>
                <a:lnTo>
                  <a:pt x="1228" y="2452"/>
                </a:lnTo>
                <a:lnTo>
                  <a:pt x="1233" y="2463"/>
                </a:lnTo>
                <a:lnTo>
                  <a:pt x="1239" y="2472"/>
                </a:lnTo>
                <a:lnTo>
                  <a:pt x="1246" y="2483"/>
                </a:lnTo>
                <a:lnTo>
                  <a:pt x="1255" y="2492"/>
                </a:lnTo>
                <a:lnTo>
                  <a:pt x="1264" y="2499"/>
                </a:lnTo>
                <a:lnTo>
                  <a:pt x="1275" y="2508"/>
                </a:lnTo>
                <a:lnTo>
                  <a:pt x="1287" y="2515"/>
                </a:lnTo>
                <a:lnTo>
                  <a:pt x="1300" y="2521"/>
                </a:lnTo>
                <a:lnTo>
                  <a:pt x="1314" y="2526"/>
                </a:lnTo>
                <a:lnTo>
                  <a:pt x="1329" y="2531"/>
                </a:lnTo>
                <a:lnTo>
                  <a:pt x="1345" y="2535"/>
                </a:lnTo>
                <a:lnTo>
                  <a:pt x="1361" y="2539"/>
                </a:lnTo>
                <a:lnTo>
                  <a:pt x="1377" y="2540"/>
                </a:lnTo>
                <a:lnTo>
                  <a:pt x="1394" y="2540"/>
                </a:lnTo>
                <a:lnTo>
                  <a:pt x="1394" y="2540"/>
                </a:lnTo>
                <a:lnTo>
                  <a:pt x="1412" y="2540"/>
                </a:lnTo>
                <a:lnTo>
                  <a:pt x="1428" y="2539"/>
                </a:lnTo>
                <a:lnTo>
                  <a:pt x="1444" y="2535"/>
                </a:lnTo>
                <a:lnTo>
                  <a:pt x="1460" y="2531"/>
                </a:lnTo>
                <a:lnTo>
                  <a:pt x="1475" y="2526"/>
                </a:lnTo>
                <a:lnTo>
                  <a:pt x="1489" y="2521"/>
                </a:lnTo>
                <a:lnTo>
                  <a:pt x="1502" y="2515"/>
                </a:lnTo>
                <a:lnTo>
                  <a:pt x="1515" y="2508"/>
                </a:lnTo>
                <a:lnTo>
                  <a:pt x="1525" y="2499"/>
                </a:lnTo>
                <a:lnTo>
                  <a:pt x="1534" y="2492"/>
                </a:lnTo>
                <a:lnTo>
                  <a:pt x="1543" y="2483"/>
                </a:lnTo>
                <a:lnTo>
                  <a:pt x="1551" y="2472"/>
                </a:lnTo>
                <a:lnTo>
                  <a:pt x="1556" y="2463"/>
                </a:lnTo>
                <a:lnTo>
                  <a:pt x="1560" y="2452"/>
                </a:lnTo>
                <a:lnTo>
                  <a:pt x="1563" y="2441"/>
                </a:lnTo>
                <a:lnTo>
                  <a:pt x="1563" y="2429"/>
                </a:lnTo>
                <a:lnTo>
                  <a:pt x="1563" y="2429"/>
                </a:lnTo>
                <a:lnTo>
                  <a:pt x="1563" y="2418"/>
                </a:lnTo>
                <a:lnTo>
                  <a:pt x="1560" y="2405"/>
                </a:lnTo>
                <a:lnTo>
                  <a:pt x="1554" y="2396"/>
                </a:lnTo>
                <a:lnTo>
                  <a:pt x="1549" y="2385"/>
                </a:lnTo>
                <a:lnTo>
                  <a:pt x="1533" y="2367"/>
                </a:lnTo>
                <a:lnTo>
                  <a:pt x="1516" y="2349"/>
                </a:lnTo>
                <a:lnTo>
                  <a:pt x="1498" y="2333"/>
                </a:lnTo>
                <a:lnTo>
                  <a:pt x="1482" y="2313"/>
                </a:lnTo>
                <a:lnTo>
                  <a:pt x="1477" y="2304"/>
                </a:lnTo>
                <a:lnTo>
                  <a:pt x="1471" y="2293"/>
                </a:lnTo>
                <a:lnTo>
                  <a:pt x="1468" y="2283"/>
                </a:lnTo>
                <a:lnTo>
                  <a:pt x="1468" y="2270"/>
                </a:lnTo>
                <a:lnTo>
                  <a:pt x="1468" y="2270"/>
                </a:lnTo>
                <a:lnTo>
                  <a:pt x="1468" y="2259"/>
                </a:lnTo>
                <a:lnTo>
                  <a:pt x="1469" y="2250"/>
                </a:lnTo>
                <a:lnTo>
                  <a:pt x="1473" y="2239"/>
                </a:lnTo>
                <a:lnTo>
                  <a:pt x="1478" y="2230"/>
                </a:lnTo>
                <a:lnTo>
                  <a:pt x="1484" y="2221"/>
                </a:lnTo>
                <a:lnTo>
                  <a:pt x="1491" y="2212"/>
                </a:lnTo>
                <a:lnTo>
                  <a:pt x="1500" y="2205"/>
                </a:lnTo>
                <a:lnTo>
                  <a:pt x="1509" y="2198"/>
                </a:lnTo>
                <a:lnTo>
                  <a:pt x="1531" y="2183"/>
                </a:lnTo>
                <a:lnTo>
                  <a:pt x="1556" y="2173"/>
                </a:lnTo>
                <a:lnTo>
                  <a:pt x="1583" y="2165"/>
                </a:lnTo>
                <a:lnTo>
                  <a:pt x="1614" y="2160"/>
                </a:lnTo>
                <a:lnTo>
                  <a:pt x="1614" y="2160"/>
                </a:lnTo>
                <a:close/>
              </a:path>
            </a:pathLst>
          </a:custGeom>
          <a:solidFill>
            <a:srgbClr val="7b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7"/>
          <p:cNvSpPr/>
          <p:nvPr/>
        </p:nvSpPr>
        <p:spPr>
          <a:xfrm>
            <a:off x="3441600" y="2960640"/>
            <a:ext cx="1161720" cy="136332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1363320"/>
              <a:gd name="textAreaBottom" fmla="*/ 1363680 h 1363320"/>
            </a:gdLst>
            <a:ahLst/>
            <a:rect l="textAreaLeft" t="textAreaTop" r="textAreaRight" b="textAreaBottom"/>
            <a:pathLst>
              <a:path w="2160" h="2537">
                <a:moveTo>
                  <a:pt x="2050" y="1846"/>
                </a:moveTo>
                <a:lnTo>
                  <a:pt x="2050" y="1846"/>
                </a:lnTo>
                <a:lnTo>
                  <a:pt x="2039" y="1848"/>
                </a:lnTo>
                <a:lnTo>
                  <a:pt x="2028" y="1850"/>
                </a:lnTo>
                <a:lnTo>
                  <a:pt x="2018" y="1855"/>
                </a:lnTo>
                <a:lnTo>
                  <a:pt x="2007" y="1861"/>
                </a:lnTo>
                <a:lnTo>
                  <a:pt x="1989" y="1877"/>
                </a:lnTo>
                <a:lnTo>
                  <a:pt x="1971" y="1895"/>
                </a:lnTo>
                <a:lnTo>
                  <a:pt x="1954" y="1913"/>
                </a:lnTo>
                <a:lnTo>
                  <a:pt x="1935" y="1928"/>
                </a:lnTo>
                <a:lnTo>
                  <a:pt x="1926" y="1935"/>
                </a:lnTo>
                <a:lnTo>
                  <a:pt x="1915" y="1938"/>
                </a:lnTo>
                <a:lnTo>
                  <a:pt x="1904" y="1942"/>
                </a:lnTo>
                <a:lnTo>
                  <a:pt x="1891" y="1944"/>
                </a:lnTo>
                <a:lnTo>
                  <a:pt x="1891" y="1944"/>
                </a:lnTo>
                <a:lnTo>
                  <a:pt x="1881" y="1942"/>
                </a:lnTo>
                <a:lnTo>
                  <a:pt x="1870" y="1940"/>
                </a:lnTo>
                <a:lnTo>
                  <a:pt x="1859" y="1935"/>
                </a:lnTo>
                <a:lnTo>
                  <a:pt x="1848" y="1929"/>
                </a:lnTo>
                <a:lnTo>
                  <a:pt x="1839" y="1922"/>
                </a:lnTo>
                <a:lnTo>
                  <a:pt x="1830" y="1915"/>
                </a:lnTo>
                <a:lnTo>
                  <a:pt x="1821" y="1904"/>
                </a:lnTo>
                <a:lnTo>
                  <a:pt x="1814" y="1893"/>
                </a:lnTo>
                <a:lnTo>
                  <a:pt x="1807" y="1881"/>
                </a:lnTo>
                <a:lnTo>
                  <a:pt x="1799" y="1868"/>
                </a:lnTo>
                <a:lnTo>
                  <a:pt x="1794" y="1855"/>
                </a:lnTo>
                <a:lnTo>
                  <a:pt x="1789" y="1839"/>
                </a:lnTo>
                <a:lnTo>
                  <a:pt x="1785" y="1825"/>
                </a:lnTo>
                <a:lnTo>
                  <a:pt x="1783" y="1809"/>
                </a:lnTo>
                <a:lnTo>
                  <a:pt x="1781" y="1791"/>
                </a:lnTo>
                <a:lnTo>
                  <a:pt x="1781" y="1774"/>
                </a:lnTo>
                <a:lnTo>
                  <a:pt x="1781" y="1774"/>
                </a:lnTo>
                <a:lnTo>
                  <a:pt x="1781" y="1756"/>
                </a:lnTo>
                <a:lnTo>
                  <a:pt x="1783" y="1740"/>
                </a:lnTo>
                <a:lnTo>
                  <a:pt x="1785" y="1724"/>
                </a:lnTo>
                <a:lnTo>
                  <a:pt x="1789" y="1708"/>
                </a:lnTo>
                <a:lnTo>
                  <a:pt x="1794" y="1693"/>
                </a:lnTo>
                <a:lnTo>
                  <a:pt x="1799" y="1679"/>
                </a:lnTo>
                <a:lnTo>
                  <a:pt x="1807" y="1666"/>
                </a:lnTo>
                <a:lnTo>
                  <a:pt x="1814" y="1654"/>
                </a:lnTo>
                <a:lnTo>
                  <a:pt x="1821" y="1643"/>
                </a:lnTo>
                <a:lnTo>
                  <a:pt x="1830" y="1634"/>
                </a:lnTo>
                <a:lnTo>
                  <a:pt x="1839" y="1625"/>
                </a:lnTo>
                <a:lnTo>
                  <a:pt x="1848" y="1617"/>
                </a:lnTo>
                <a:lnTo>
                  <a:pt x="1859" y="1612"/>
                </a:lnTo>
                <a:lnTo>
                  <a:pt x="1870" y="1608"/>
                </a:lnTo>
                <a:lnTo>
                  <a:pt x="1881" y="1605"/>
                </a:lnTo>
                <a:lnTo>
                  <a:pt x="1891" y="1605"/>
                </a:lnTo>
                <a:lnTo>
                  <a:pt x="1891" y="1605"/>
                </a:lnTo>
                <a:lnTo>
                  <a:pt x="1904" y="1605"/>
                </a:lnTo>
                <a:lnTo>
                  <a:pt x="1915" y="1608"/>
                </a:lnTo>
                <a:lnTo>
                  <a:pt x="1926" y="1614"/>
                </a:lnTo>
                <a:lnTo>
                  <a:pt x="1935" y="1619"/>
                </a:lnTo>
                <a:lnTo>
                  <a:pt x="1954" y="1635"/>
                </a:lnTo>
                <a:lnTo>
                  <a:pt x="1971" y="1654"/>
                </a:lnTo>
                <a:lnTo>
                  <a:pt x="1989" y="1672"/>
                </a:lnTo>
                <a:lnTo>
                  <a:pt x="2007" y="1686"/>
                </a:lnTo>
                <a:lnTo>
                  <a:pt x="2018" y="1693"/>
                </a:lnTo>
                <a:lnTo>
                  <a:pt x="2027" y="1697"/>
                </a:lnTo>
                <a:lnTo>
                  <a:pt x="2039" y="1700"/>
                </a:lnTo>
                <a:lnTo>
                  <a:pt x="2050" y="1700"/>
                </a:lnTo>
                <a:lnTo>
                  <a:pt x="2050" y="1700"/>
                </a:lnTo>
                <a:lnTo>
                  <a:pt x="2061" y="1700"/>
                </a:lnTo>
                <a:lnTo>
                  <a:pt x="2070" y="1699"/>
                </a:lnTo>
                <a:lnTo>
                  <a:pt x="2081" y="1695"/>
                </a:lnTo>
                <a:lnTo>
                  <a:pt x="2090" y="1691"/>
                </a:lnTo>
                <a:lnTo>
                  <a:pt x="2099" y="1684"/>
                </a:lnTo>
                <a:lnTo>
                  <a:pt x="2106" y="1679"/>
                </a:lnTo>
                <a:lnTo>
                  <a:pt x="2122" y="1661"/>
                </a:lnTo>
                <a:lnTo>
                  <a:pt x="2137" y="1641"/>
                </a:lnTo>
                <a:lnTo>
                  <a:pt x="2147" y="1617"/>
                </a:lnTo>
                <a:lnTo>
                  <a:pt x="2155" y="1590"/>
                </a:lnTo>
                <a:lnTo>
                  <a:pt x="2160" y="1562"/>
                </a:lnTo>
                <a:lnTo>
                  <a:pt x="2160" y="377"/>
                </a:lnTo>
                <a:lnTo>
                  <a:pt x="968" y="377"/>
                </a:lnTo>
                <a:lnTo>
                  <a:pt x="968" y="377"/>
                </a:lnTo>
                <a:lnTo>
                  <a:pt x="941" y="372"/>
                </a:lnTo>
                <a:lnTo>
                  <a:pt x="916" y="363"/>
                </a:lnTo>
                <a:lnTo>
                  <a:pt x="894" y="352"/>
                </a:lnTo>
                <a:lnTo>
                  <a:pt x="874" y="339"/>
                </a:lnTo>
                <a:lnTo>
                  <a:pt x="858" y="323"/>
                </a:lnTo>
                <a:lnTo>
                  <a:pt x="847" y="307"/>
                </a:lnTo>
                <a:lnTo>
                  <a:pt x="844" y="298"/>
                </a:lnTo>
                <a:lnTo>
                  <a:pt x="840" y="289"/>
                </a:lnTo>
                <a:lnTo>
                  <a:pt x="838" y="280"/>
                </a:lnTo>
                <a:lnTo>
                  <a:pt x="837" y="269"/>
                </a:lnTo>
                <a:lnTo>
                  <a:pt x="837" y="269"/>
                </a:lnTo>
                <a:lnTo>
                  <a:pt x="838" y="258"/>
                </a:lnTo>
                <a:lnTo>
                  <a:pt x="842" y="247"/>
                </a:lnTo>
                <a:lnTo>
                  <a:pt x="846" y="236"/>
                </a:lnTo>
                <a:lnTo>
                  <a:pt x="853" y="226"/>
                </a:lnTo>
                <a:lnTo>
                  <a:pt x="867" y="208"/>
                </a:lnTo>
                <a:lnTo>
                  <a:pt x="885" y="189"/>
                </a:lnTo>
                <a:lnTo>
                  <a:pt x="903" y="173"/>
                </a:lnTo>
                <a:lnTo>
                  <a:pt x="920" y="153"/>
                </a:lnTo>
                <a:lnTo>
                  <a:pt x="925" y="144"/>
                </a:lnTo>
                <a:lnTo>
                  <a:pt x="930" y="134"/>
                </a:lnTo>
                <a:lnTo>
                  <a:pt x="934" y="123"/>
                </a:lnTo>
                <a:lnTo>
                  <a:pt x="934" y="110"/>
                </a:lnTo>
                <a:lnTo>
                  <a:pt x="934" y="110"/>
                </a:lnTo>
                <a:lnTo>
                  <a:pt x="934" y="99"/>
                </a:lnTo>
                <a:lnTo>
                  <a:pt x="930" y="89"/>
                </a:lnTo>
                <a:lnTo>
                  <a:pt x="927" y="78"/>
                </a:lnTo>
                <a:lnTo>
                  <a:pt x="921" y="67"/>
                </a:lnTo>
                <a:lnTo>
                  <a:pt x="914" y="58"/>
                </a:lnTo>
                <a:lnTo>
                  <a:pt x="905" y="49"/>
                </a:lnTo>
                <a:lnTo>
                  <a:pt x="896" y="40"/>
                </a:lnTo>
                <a:lnTo>
                  <a:pt x="885" y="33"/>
                </a:lnTo>
                <a:lnTo>
                  <a:pt x="873" y="25"/>
                </a:lnTo>
                <a:lnTo>
                  <a:pt x="860" y="18"/>
                </a:lnTo>
                <a:lnTo>
                  <a:pt x="846" y="13"/>
                </a:lnTo>
                <a:lnTo>
                  <a:pt x="831" y="9"/>
                </a:lnTo>
                <a:lnTo>
                  <a:pt x="815" y="4"/>
                </a:lnTo>
                <a:lnTo>
                  <a:pt x="799" y="2"/>
                </a:lnTo>
                <a:lnTo>
                  <a:pt x="783" y="0"/>
                </a:lnTo>
                <a:lnTo>
                  <a:pt x="764" y="0"/>
                </a:lnTo>
                <a:lnTo>
                  <a:pt x="764" y="0"/>
                </a:lnTo>
                <a:lnTo>
                  <a:pt x="748" y="0"/>
                </a:lnTo>
                <a:lnTo>
                  <a:pt x="730" y="2"/>
                </a:lnTo>
                <a:lnTo>
                  <a:pt x="714" y="4"/>
                </a:lnTo>
                <a:lnTo>
                  <a:pt x="700" y="9"/>
                </a:lnTo>
                <a:lnTo>
                  <a:pt x="683" y="13"/>
                </a:lnTo>
                <a:lnTo>
                  <a:pt x="671" y="18"/>
                </a:lnTo>
                <a:lnTo>
                  <a:pt x="656" y="25"/>
                </a:lnTo>
                <a:lnTo>
                  <a:pt x="645" y="33"/>
                </a:lnTo>
                <a:lnTo>
                  <a:pt x="635" y="40"/>
                </a:lnTo>
                <a:lnTo>
                  <a:pt x="624" y="49"/>
                </a:lnTo>
                <a:lnTo>
                  <a:pt x="617" y="58"/>
                </a:lnTo>
                <a:lnTo>
                  <a:pt x="609" y="67"/>
                </a:lnTo>
                <a:lnTo>
                  <a:pt x="604" y="78"/>
                </a:lnTo>
                <a:lnTo>
                  <a:pt x="599" y="89"/>
                </a:lnTo>
                <a:lnTo>
                  <a:pt x="597" y="99"/>
                </a:lnTo>
                <a:lnTo>
                  <a:pt x="595" y="110"/>
                </a:lnTo>
                <a:lnTo>
                  <a:pt x="595" y="110"/>
                </a:lnTo>
                <a:lnTo>
                  <a:pt x="597" y="123"/>
                </a:lnTo>
                <a:lnTo>
                  <a:pt x="600" y="134"/>
                </a:lnTo>
                <a:lnTo>
                  <a:pt x="604" y="144"/>
                </a:lnTo>
                <a:lnTo>
                  <a:pt x="611" y="153"/>
                </a:lnTo>
                <a:lnTo>
                  <a:pt x="626" y="173"/>
                </a:lnTo>
                <a:lnTo>
                  <a:pt x="644" y="189"/>
                </a:lnTo>
                <a:lnTo>
                  <a:pt x="662" y="208"/>
                </a:lnTo>
                <a:lnTo>
                  <a:pt x="678" y="226"/>
                </a:lnTo>
                <a:lnTo>
                  <a:pt x="683" y="236"/>
                </a:lnTo>
                <a:lnTo>
                  <a:pt x="689" y="247"/>
                </a:lnTo>
                <a:lnTo>
                  <a:pt x="691" y="258"/>
                </a:lnTo>
                <a:lnTo>
                  <a:pt x="692" y="269"/>
                </a:lnTo>
                <a:lnTo>
                  <a:pt x="692" y="269"/>
                </a:lnTo>
                <a:lnTo>
                  <a:pt x="692" y="280"/>
                </a:lnTo>
                <a:lnTo>
                  <a:pt x="691" y="289"/>
                </a:lnTo>
                <a:lnTo>
                  <a:pt x="687" y="298"/>
                </a:lnTo>
                <a:lnTo>
                  <a:pt x="682" y="307"/>
                </a:lnTo>
                <a:lnTo>
                  <a:pt x="671" y="323"/>
                </a:lnTo>
                <a:lnTo>
                  <a:pt x="654" y="339"/>
                </a:lnTo>
                <a:lnTo>
                  <a:pt x="636" y="352"/>
                </a:lnTo>
                <a:lnTo>
                  <a:pt x="613" y="363"/>
                </a:lnTo>
                <a:lnTo>
                  <a:pt x="590" y="372"/>
                </a:lnTo>
                <a:lnTo>
                  <a:pt x="563" y="377"/>
                </a:lnTo>
                <a:lnTo>
                  <a:pt x="0" y="377"/>
                </a:lnTo>
                <a:lnTo>
                  <a:pt x="0" y="377"/>
                </a:lnTo>
                <a:lnTo>
                  <a:pt x="0" y="433"/>
                </a:lnTo>
                <a:lnTo>
                  <a:pt x="2" y="489"/>
                </a:lnTo>
                <a:lnTo>
                  <a:pt x="5" y="543"/>
                </a:lnTo>
                <a:lnTo>
                  <a:pt x="11" y="599"/>
                </a:lnTo>
                <a:lnTo>
                  <a:pt x="16" y="653"/>
                </a:lnTo>
                <a:lnTo>
                  <a:pt x="25" y="707"/>
                </a:lnTo>
                <a:lnTo>
                  <a:pt x="32" y="759"/>
                </a:lnTo>
                <a:lnTo>
                  <a:pt x="43" y="813"/>
                </a:lnTo>
                <a:lnTo>
                  <a:pt x="54" y="866"/>
                </a:lnTo>
                <a:lnTo>
                  <a:pt x="67" y="918"/>
                </a:lnTo>
                <a:lnTo>
                  <a:pt x="81" y="968"/>
                </a:lnTo>
                <a:lnTo>
                  <a:pt x="97" y="1021"/>
                </a:lnTo>
                <a:lnTo>
                  <a:pt x="114" y="1071"/>
                </a:lnTo>
                <a:lnTo>
                  <a:pt x="130" y="1120"/>
                </a:lnTo>
                <a:lnTo>
                  <a:pt x="150" y="1170"/>
                </a:lnTo>
                <a:lnTo>
                  <a:pt x="169" y="1219"/>
                </a:lnTo>
                <a:lnTo>
                  <a:pt x="191" y="1266"/>
                </a:lnTo>
                <a:lnTo>
                  <a:pt x="213" y="1315"/>
                </a:lnTo>
                <a:lnTo>
                  <a:pt x="236" y="1361"/>
                </a:lnTo>
                <a:lnTo>
                  <a:pt x="260" y="1407"/>
                </a:lnTo>
                <a:lnTo>
                  <a:pt x="285" y="1453"/>
                </a:lnTo>
                <a:lnTo>
                  <a:pt x="312" y="1498"/>
                </a:lnTo>
                <a:lnTo>
                  <a:pt x="341" y="1542"/>
                </a:lnTo>
                <a:lnTo>
                  <a:pt x="368" y="1585"/>
                </a:lnTo>
                <a:lnTo>
                  <a:pt x="398" y="1628"/>
                </a:lnTo>
                <a:lnTo>
                  <a:pt x="429" y="1670"/>
                </a:lnTo>
                <a:lnTo>
                  <a:pt x="460" y="1711"/>
                </a:lnTo>
                <a:lnTo>
                  <a:pt x="492" y="1751"/>
                </a:lnTo>
                <a:lnTo>
                  <a:pt x="526" y="1791"/>
                </a:lnTo>
                <a:lnTo>
                  <a:pt x="561" y="1830"/>
                </a:lnTo>
                <a:lnTo>
                  <a:pt x="597" y="1868"/>
                </a:lnTo>
                <a:lnTo>
                  <a:pt x="633" y="1906"/>
                </a:lnTo>
                <a:lnTo>
                  <a:pt x="669" y="1942"/>
                </a:lnTo>
                <a:lnTo>
                  <a:pt x="707" y="1976"/>
                </a:lnTo>
                <a:lnTo>
                  <a:pt x="746" y="2011"/>
                </a:lnTo>
                <a:lnTo>
                  <a:pt x="786" y="2045"/>
                </a:lnTo>
                <a:lnTo>
                  <a:pt x="826" y="2077"/>
                </a:lnTo>
                <a:lnTo>
                  <a:pt x="867" y="2108"/>
                </a:lnTo>
                <a:lnTo>
                  <a:pt x="909" y="2139"/>
                </a:lnTo>
                <a:lnTo>
                  <a:pt x="952" y="2169"/>
                </a:lnTo>
                <a:lnTo>
                  <a:pt x="995" y="2198"/>
                </a:lnTo>
                <a:lnTo>
                  <a:pt x="1040" y="2225"/>
                </a:lnTo>
                <a:lnTo>
                  <a:pt x="1085" y="2252"/>
                </a:lnTo>
                <a:lnTo>
                  <a:pt x="1130" y="2277"/>
                </a:lnTo>
                <a:lnTo>
                  <a:pt x="1176" y="2301"/>
                </a:lnTo>
                <a:lnTo>
                  <a:pt x="1222" y="2324"/>
                </a:lnTo>
                <a:lnTo>
                  <a:pt x="1271" y="2348"/>
                </a:lnTo>
                <a:lnTo>
                  <a:pt x="1320" y="2368"/>
                </a:lnTo>
                <a:lnTo>
                  <a:pt x="1368" y="2387"/>
                </a:lnTo>
                <a:lnTo>
                  <a:pt x="1417" y="2407"/>
                </a:lnTo>
                <a:lnTo>
                  <a:pt x="1468" y="2423"/>
                </a:lnTo>
                <a:lnTo>
                  <a:pt x="1518" y="2441"/>
                </a:lnTo>
                <a:lnTo>
                  <a:pt x="1569" y="2456"/>
                </a:lnTo>
                <a:lnTo>
                  <a:pt x="1619" y="2470"/>
                </a:lnTo>
                <a:lnTo>
                  <a:pt x="1671" y="2483"/>
                </a:lnTo>
                <a:lnTo>
                  <a:pt x="1724" y="2494"/>
                </a:lnTo>
                <a:lnTo>
                  <a:pt x="1778" y="2505"/>
                </a:lnTo>
                <a:lnTo>
                  <a:pt x="1830" y="2514"/>
                </a:lnTo>
                <a:lnTo>
                  <a:pt x="1884" y="2521"/>
                </a:lnTo>
                <a:lnTo>
                  <a:pt x="1938" y="2526"/>
                </a:lnTo>
                <a:lnTo>
                  <a:pt x="1994" y="2532"/>
                </a:lnTo>
                <a:lnTo>
                  <a:pt x="2048" y="2535"/>
                </a:lnTo>
                <a:lnTo>
                  <a:pt x="2104" y="2537"/>
                </a:lnTo>
                <a:lnTo>
                  <a:pt x="2160" y="2537"/>
                </a:lnTo>
                <a:lnTo>
                  <a:pt x="2160" y="1985"/>
                </a:lnTo>
                <a:lnTo>
                  <a:pt x="2160" y="1985"/>
                </a:lnTo>
                <a:lnTo>
                  <a:pt x="2155" y="1956"/>
                </a:lnTo>
                <a:lnTo>
                  <a:pt x="2147" y="1931"/>
                </a:lnTo>
                <a:lnTo>
                  <a:pt x="2135" y="1908"/>
                </a:lnTo>
                <a:lnTo>
                  <a:pt x="2122" y="1886"/>
                </a:lnTo>
                <a:lnTo>
                  <a:pt x="2106" y="1870"/>
                </a:lnTo>
                <a:lnTo>
                  <a:pt x="2099" y="1863"/>
                </a:lnTo>
                <a:lnTo>
                  <a:pt x="2090" y="1857"/>
                </a:lnTo>
                <a:lnTo>
                  <a:pt x="2081" y="1852"/>
                </a:lnTo>
                <a:lnTo>
                  <a:pt x="2070" y="1850"/>
                </a:lnTo>
                <a:lnTo>
                  <a:pt x="2061" y="1846"/>
                </a:lnTo>
                <a:lnTo>
                  <a:pt x="2050" y="1846"/>
                </a:lnTo>
                <a:lnTo>
                  <a:pt x="2050" y="1846"/>
                </a:lnTo>
                <a:close/>
              </a:path>
            </a:pathLst>
          </a:custGeom>
          <a:solidFill>
            <a:srgbClr val="7b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3436920" y="2000160"/>
            <a:ext cx="1364760" cy="1163160"/>
          </a:xfrm>
          <a:custGeom>
            <a:avLst/>
            <a:gdLst>
              <a:gd name="textAreaLeft" fmla="*/ 0 w 1364760"/>
              <a:gd name="textAreaRight" fmla="*/ 1365120 w 1364760"/>
              <a:gd name="textAreaTop" fmla="*/ 0 h 1163160"/>
              <a:gd name="textAreaBottom" fmla="*/ 1163520 h 1163160"/>
            </a:gdLst>
            <a:ahLst/>
            <a:rect l="textAreaLeft" t="textAreaTop" r="textAreaRight" b="textAreaBottom"/>
            <a:pathLst>
              <a:path w="2540" h="2160">
                <a:moveTo>
                  <a:pt x="2429" y="597"/>
                </a:moveTo>
                <a:lnTo>
                  <a:pt x="2429" y="597"/>
                </a:lnTo>
                <a:lnTo>
                  <a:pt x="2416" y="597"/>
                </a:lnTo>
                <a:lnTo>
                  <a:pt x="2405" y="600"/>
                </a:lnTo>
                <a:lnTo>
                  <a:pt x="2394" y="606"/>
                </a:lnTo>
                <a:lnTo>
                  <a:pt x="2385" y="611"/>
                </a:lnTo>
                <a:lnTo>
                  <a:pt x="2367" y="627"/>
                </a:lnTo>
                <a:lnTo>
                  <a:pt x="2349" y="645"/>
                </a:lnTo>
                <a:lnTo>
                  <a:pt x="2331" y="664"/>
                </a:lnTo>
                <a:lnTo>
                  <a:pt x="2313" y="678"/>
                </a:lnTo>
                <a:lnTo>
                  <a:pt x="2304" y="685"/>
                </a:lnTo>
                <a:lnTo>
                  <a:pt x="2293" y="689"/>
                </a:lnTo>
                <a:lnTo>
                  <a:pt x="2283" y="692"/>
                </a:lnTo>
                <a:lnTo>
                  <a:pt x="2270" y="694"/>
                </a:lnTo>
                <a:lnTo>
                  <a:pt x="2270" y="694"/>
                </a:lnTo>
                <a:lnTo>
                  <a:pt x="2259" y="692"/>
                </a:lnTo>
                <a:lnTo>
                  <a:pt x="2250" y="691"/>
                </a:lnTo>
                <a:lnTo>
                  <a:pt x="2239" y="687"/>
                </a:lnTo>
                <a:lnTo>
                  <a:pt x="2230" y="682"/>
                </a:lnTo>
                <a:lnTo>
                  <a:pt x="2221" y="676"/>
                </a:lnTo>
                <a:lnTo>
                  <a:pt x="2212" y="669"/>
                </a:lnTo>
                <a:lnTo>
                  <a:pt x="2203" y="660"/>
                </a:lnTo>
                <a:lnTo>
                  <a:pt x="2196" y="651"/>
                </a:lnTo>
                <a:lnTo>
                  <a:pt x="2183" y="629"/>
                </a:lnTo>
                <a:lnTo>
                  <a:pt x="2173" y="604"/>
                </a:lnTo>
                <a:lnTo>
                  <a:pt x="2164" y="577"/>
                </a:lnTo>
                <a:lnTo>
                  <a:pt x="2160" y="546"/>
                </a:lnTo>
                <a:lnTo>
                  <a:pt x="2160" y="0"/>
                </a:lnTo>
                <a:lnTo>
                  <a:pt x="2160" y="0"/>
                </a:lnTo>
                <a:lnTo>
                  <a:pt x="2104" y="0"/>
                </a:lnTo>
                <a:lnTo>
                  <a:pt x="2048" y="4"/>
                </a:lnTo>
                <a:lnTo>
                  <a:pt x="1994" y="7"/>
                </a:lnTo>
                <a:lnTo>
                  <a:pt x="1938" y="11"/>
                </a:lnTo>
                <a:lnTo>
                  <a:pt x="1884" y="18"/>
                </a:lnTo>
                <a:lnTo>
                  <a:pt x="1830" y="25"/>
                </a:lnTo>
                <a:lnTo>
                  <a:pt x="1778" y="34"/>
                </a:lnTo>
                <a:lnTo>
                  <a:pt x="1724" y="43"/>
                </a:lnTo>
                <a:lnTo>
                  <a:pt x="1671" y="56"/>
                </a:lnTo>
                <a:lnTo>
                  <a:pt x="1619" y="69"/>
                </a:lnTo>
                <a:lnTo>
                  <a:pt x="1569" y="83"/>
                </a:lnTo>
                <a:lnTo>
                  <a:pt x="1518" y="97"/>
                </a:lnTo>
                <a:lnTo>
                  <a:pt x="1468" y="114"/>
                </a:lnTo>
                <a:lnTo>
                  <a:pt x="1417" y="132"/>
                </a:lnTo>
                <a:lnTo>
                  <a:pt x="1368" y="150"/>
                </a:lnTo>
                <a:lnTo>
                  <a:pt x="1320" y="169"/>
                </a:lnTo>
                <a:lnTo>
                  <a:pt x="1271" y="191"/>
                </a:lnTo>
                <a:lnTo>
                  <a:pt x="1222" y="213"/>
                </a:lnTo>
                <a:lnTo>
                  <a:pt x="1176" y="236"/>
                </a:lnTo>
                <a:lnTo>
                  <a:pt x="1130" y="261"/>
                </a:lnTo>
                <a:lnTo>
                  <a:pt x="1085" y="287"/>
                </a:lnTo>
                <a:lnTo>
                  <a:pt x="1040" y="314"/>
                </a:lnTo>
                <a:lnTo>
                  <a:pt x="995" y="341"/>
                </a:lnTo>
                <a:lnTo>
                  <a:pt x="952" y="370"/>
                </a:lnTo>
                <a:lnTo>
                  <a:pt x="909" y="398"/>
                </a:lnTo>
                <a:lnTo>
                  <a:pt x="867" y="429"/>
                </a:lnTo>
                <a:lnTo>
                  <a:pt x="826" y="462"/>
                </a:lnTo>
                <a:lnTo>
                  <a:pt x="786" y="494"/>
                </a:lnTo>
                <a:lnTo>
                  <a:pt x="746" y="526"/>
                </a:lnTo>
                <a:lnTo>
                  <a:pt x="707" y="561"/>
                </a:lnTo>
                <a:lnTo>
                  <a:pt x="669" y="597"/>
                </a:lnTo>
                <a:lnTo>
                  <a:pt x="633" y="633"/>
                </a:lnTo>
                <a:lnTo>
                  <a:pt x="597" y="671"/>
                </a:lnTo>
                <a:lnTo>
                  <a:pt x="561" y="709"/>
                </a:lnTo>
                <a:lnTo>
                  <a:pt x="526" y="746"/>
                </a:lnTo>
                <a:lnTo>
                  <a:pt x="492" y="786"/>
                </a:lnTo>
                <a:lnTo>
                  <a:pt x="460" y="828"/>
                </a:lnTo>
                <a:lnTo>
                  <a:pt x="429" y="867"/>
                </a:lnTo>
                <a:lnTo>
                  <a:pt x="398" y="911"/>
                </a:lnTo>
                <a:lnTo>
                  <a:pt x="368" y="952"/>
                </a:lnTo>
                <a:lnTo>
                  <a:pt x="341" y="995"/>
                </a:lnTo>
                <a:lnTo>
                  <a:pt x="312" y="1040"/>
                </a:lnTo>
                <a:lnTo>
                  <a:pt x="285" y="1085"/>
                </a:lnTo>
                <a:lnTo>
                  <a:pt x="260" y="1130"/>
                </a:lnTo>
                <a:lnTo>
                  <a:pt x="236" y="1177"/>
                </a:lnTo>
                <a:lnTo>
                  <a:pt x="213" y="1224"/>
                </a:lnTo>
                <a:lnTo>
                  <a:pt x="191" y="1271"/>
                </a:lnTo>
                <a:lnTo>
                  <a:pt x="169" y="1320"/>
                </a:lnTo>
                <a:lnTo>
                  <a:pt x="150" y="1368"/>
                </a:lnTo>
                <a:lnTo>
                  <a:pt x="130" y="1417"/>
                </a:lnTo>
                <a:lnTo>
                  <a:pt x="114" y="1468"/>
                </a:lnTo>
                <a:lnTo>
                  <a:pt x="97" y="1518"/>
                </a:lnTo>
                <a:lnTo>
                  <a:pt x="81" y="1569"/>
                </a:lnTo>
                <a:lnTo>
                  <a:pt x="67" y="1621"/>
                </a:lnTo>
                <a:lnTo>
                  <a:pt x="54" y="1673"/>
                </a:lnTo>
                <a:lnTo>
                  <a:pt x="43" y="1725"/>
                </a:lnTo>
                <a:lnTo>
                  <a:pt x="32" y="1778"/>
                </a:lnTo>
                <a:lnTo>
                  <a:pt x="25" y="1832"/>
                </a:lnTo>
                <a:lnTo>
                  <a:pt x="16" y="1886"/>
                </a:lnTo>
                <a:lnTo>
                  <a:pt x="11" y="1940"/>
                </a:lnTo>
                <a:lnTo>
                  <a:pt x="5" y="1994"/>
                </a:lnTo>
                <a:lnTo>
                  <a:pt x="2" y="2050"/>
                </a:lnTo>
                <a:lnTo>
                  <a:pt x="0" y="2104"/>
                </a:lnTo>
                <a:lnTo>
                  <a:pt x="0" y="2160"/>
                </a:lnTo>
                <a:lnTo>
                  <a:pt x="563" y="2160"/>
                </a:lnTo>
                <a:lnTo>
                  <a:pt x="563" y="2160"/>
                </a:lnTo>
                <a:lnTo>
                  <a:pt x="590" y="2155"/>
                </a:lnTo>
                <a:lnTo>
                  <a:pt x="613" y="2146"/>
                </a:lnTo>
                <a:lnTo>
                  <a:pt x="636" y="2135"/>
                </a:lnTo>
                <a:lnTo>
                  <a:pt x="654" y="2122"/>
                </a:lnTo>
                <a:lnTo>
                  <a:pt x="671" y="2106"/>
                </a:lnTo>
                <a:lnTo>
                  <a:pt x="682" y="2090"/>
                </a:lnTo>
                <a:lnTo>
                  <a:pt x="687" y="2081"/>
                </a:lnTo>
                <a:lnTo>
                  <a:pt x="691" y="2072"/>
                </a:lnTo>
                <a:lnTo>
                  <a:pt x="692" y="2063"/>
                </a:lnTo>
                <a:lnTo>
                  <a:pt x="692" y="2052"/>
                </a:lnTo>
                <a:lnTo>
                  <a:pt x="692" y="2052"/>
                </a:lnTo>
                <a:lnTo>
                  <a:pt x="691" y="2041"/>
                </a:lnTo>
                <a:lnTo>
                  <a:pt x="689" y="2030"/>
                </a:lnTo>
                <a:lnTo>
                  <a:pt x="683" y="2019"/>
                </a:lnTo>
                <a:lnTo>
                  <a:pt x="678" y="2009"/>
                </a:lnTo>
                <a:lnTo>
                  <a:pt x="662" y="1991"/>
                </a:lnTo>
                <a:lnTo>
                  <a:pt x="644" y="1972"/>
                </a:lnTo>
                <a:lnTo>
                  <a:pt x="626" y="1956"/>
                </a:lnTo>
                <a:lnTo>
                  <a:pt x="611" y="1936"/>
                </a:lnTo>
                <a:lnTo>
                  <a:pt x="604" y="1927"/>
                </a:lnTo>
                <a:lnTo>
                  <a:pt x="600" y="1917"/>
                </a:lnTo>
                <a:lnTo>
                  <a:pt x="597" y="1906"/>
                </a:lnTo>
                <a:lnTo>
                  <a:pt x="595" y="1893"/>
                </a:lnTo>
                <a:lnTo>
                  <a:pt x="595" y="1893"/>
                </a:lnTo>
                <a:lnTo>
                  <a:pt x="597" y="1882"/>
                </a:lnTo>
                <a:lnTo>
                  <a:pt x="599" y="1872"/>
                </a:lnTo>
                <a:lnTo>
                  <a:pt x="604" y="1861"/>
                </a:lnTo>
                <a:lnTo>
                  <a:pt x="609" y="1850"/>
                </a:lnTo>
                <a:lnTo>
                  <a:pt x="617" y="1841"/>
                </a:lnTo>
                <a:lnTo>
                  <a:pt x="624" y="1832"/>
                </a:lnTo>
                <a:lnTo>
                  <a:pt x="635" y="1823"/>
                </a:lnTo>
                <a:lnTo>
                  <a:pt x="645" y="1816"/>
                </a:lnTo>
                <a:lnTo>
                  <a:pt x="656" y="1808"/>
                </a:lnTo>
                <a:lnTo>
                  <a:pt x="671" y="1801"/>
                </a:lnTo>
                <a:lnTo>
                  <a:pt x="683" y="1796"/>
                </a:lnTo>
                <a:lnTo>
                  <a:pt x="700" y="1792"/>
                </a:lnTo>
                <a:lnTo>
                  <a:pt x="714" y="1787"/>
                </a:lnTo>
                <a:lnTo>
                  <a:pt x="730" y="1785"/>
                </a:lnTo>
                <a:lnTo>
                  <a:pt x="748" y="1783"/>
                </a:lnTo>
                <a:lnTo>
                  <a:pt x="764" y="1783"/>
                </a:lnTo>
                <a:lnTo>
                  <a:pt x="764" y="1783"/>
                </a:lnTo>
                <a:lnTo>
                  <a:pt x="783" y="1783"/>
                </a:lnTo>
                <a:lnTo>
                  <a:pt x="799" y="1785"/>
                </a:lnTo>
                <a:lnTo>
                  <a:pt x="815" y="1787"/>
                </a:lnTo>
                <a:lnTo>
                  <a:pt x="831" y="1792"/>
                </a:lnTo>
                <a:lnTo>
                  <a:pt x="846" y="1796"/>
                </a:lnTo>
                <a:lnTo>
                  <a:pt x="860" y="1801"/>
                </a:lnTo>
                <a:lnTo>
                  <a:pt x="873" y="1808"/>
                </a:lnTo>
                <a:lnTo>
                  <a:pt x="885" y="1816"/>
                </a:lnTo>
                <a:lnTo>
                  <a:pt x="896" y="1823"/>
                </a:lnTo>
                <a:lnTo>
                  <a:pt x="905" y="1832"/>
                </a:lnTo>
                <a:lnTo>
                  <a:pt x="914" y="1841"/>
                </a:lnTo>
                <a:lnTo>
                  <a:pt x="921" y="1850"/>
                </a:lnTo>
                <a:lnTo>
                  <a:pt x="927" y="1861"/>
                </a:lnTo>
                <a:lnTo>
                  <a:pt x="930" y="1872"/>
                </a:lnTo>
                <a:lnTo>
                  <a:pt x="934" y="1882"/>
                </a:lnTo>
                <a:lnTo>
                  <a:pt x="934" y="1893"/>
                </a:lnTo>
                <a:lnTo>
                  <a:pt x="934" y="1893"/>
                </a:lnTo>
                <a:lnTo>
                  <a:pt x="934" y="1906"/>
                </a:lnTo>
                <a:lnTo>
                  <a:pt x="930" y="1917"/>
                </a:lnTo>
                <a:lnTo>
                  <a:pt x="925" y="1927"/>
                </a:lnTo>
                <a:lnTo>
                  <a:pt x="920" y="1936"/>
                </a:lnTo>
                <a:lnTo>
                  <a:pt x="903" y="1956"/>
                </a:lnTo>
                <a:lnTo>
                  <a:pt x="885" y="1972"/>
                </a:lnTo>
                <a:lnTo>
                  <a:pt x="867" y="1991"/>
                </a:lnTo>
                <a:lnTo>
                  <a:pt x="853" y="2009"/>
                </a:lnTo>
                <a:lnTo>
                  <a:pt x="846" y="2019"/>
                </a:lnTo>
                <a:lnTo>
                  <a:pt x="842" y="2030"/>
                </a:lnTo>
                <a:lnTo>
                  <a:pt x="838" y="2041"/>
                </a:lnTo>
                <a:lnTo>
                  <a:pt x="837" y="2052"/>
                </a:lnTo>
                <a:lnTo>
                  <a:pt x="837" y="2052"/>
                </a:lnTo>
                <a:lnTo>
                  <a:pt x="838" y="2063"/>
                </a:lnTo>
                <a:lnTo>
                  <a:pt x="840" y="2072"/>
                </a:lnTo>
                <a:lnTo>
                  <a:pt x="844" y="2081"/>
                </a:lnTo>
                <a:lnTo>
                  <a:pt x="847" y="2090"/>
                </a:lnTo>
                <a:lnTo>
                  <a:pt x="858" y="2106"/>
                </a:lnTo>
                <a:lnTo>
                  <a:pt x="874" y="2122"/>
                </a:lnTo>
                <a:lnTo>
                  <a:pt x="894" y="2135"/>
                </a:lnTo>
                <a:lnTo>
                  <a:pt x="916" y="2146"/>
                </a:lnTo>
                <a:lnTo>
                  <a:pt x="941" y="2155"/>
                </a:lnTo>
                <a:lnTo>
                  <a:pt x="968" y="2160"/>
                </a:lnTo>
                <a:lnTo>
                  <a:pt x="2160" y="2160"/>
                </a:lnTo>
                <a:lnTo>
                  <a:pt x="2160" y="986"/>
                </a:lnTo>
                <a:lnTo>
                  <a:pt x="2160" y="986"/>
                </a:lnTo>
                <a:lnTo>
                  <a:pt x="2164" y="956"/>
                </a:lnTo>
                <a:lnTo>
                  <a:pt x="2173" y="929"/>
                </a:lnTo>
                <a:lnTo>
                  <a:pt x="2183" y="903"/>
                </a:lnTo>
                <a:lnTo>
                  <a:pt x="2196" y="882"/>
                </a:lnTo>
                <a:lnTo>
                  <a:pt x="2203" y="871"/>
                </a:lnTo>
                <a:lnTo>
                  <a:pt x="2212" y="864"/>
                </a:lnTo>
                <a:lnTo>
                  <a:pt x="2221" y="856"/>
                </a:lnTo>
                <a:lnTo>
                  <a:pt x="2230" y="849"/>
                </a:lnTo>
                <a:lnTo>
                  <a:pt x="2239" y="846"/>
                </a:lnTo>
                <a:lnTo>
                  <a:pt x="2250" y="842"/>
                </a:lnTo>
                <a:lnTo>
                  <a:pt x="2259" y="838"/>
                </a:lnTo>
                <a:lnTo>
                  <a:pt x="2270" y="838"/>
                </a:lnTo>
                <a:lnTo>
                  <a:pt x="2270" y="838"/>
                </a:lnTo>
                <a:lnTo>
                  <a:pt x="2283" y="840"/>
                </a:lnTo>
                <a:lnTo>
                  <a:pt x="2293" y="842"/>
                </a:lnTo>
                <a:lnTo>
                  <a:pt x="2304" y="847"/>
                </a:lnTo>
                <a:lnTo>
                  <a:pt x="2313" y="853"/>
                </a:lnTo>
                <a:lnTo>
                  <a:pt x="2331" y="869"/>
                </a:lnTo>
                <a:lnTo>
                  <a:pt x="2349" y="887"/>
                </a:lnTo>
                <a:lnTo>
                  <a:pt x="2367" y="905"/>
                </a:lnTo>
                <a:lnTo>
                  <a:pt x="2385" y="920"/>
                </a:lnTo>
                <a:lnTo>
                  <a:pt x="2394" y="927"/>
                </a:lnTo>
                <a:lnTo>
                  <a:pt x="2405" y="930"/>
                </a:lnTo>
                <a:lnTo>
                  <a:pt x="2416" y="934"/>
                </a:lnTo>
                <a:lnTo>
                  <a:pt x="2429" y="936"/>
                </a:lnTo>
                <a:lnTo>
                  <a:pt x="2429" y="936"/>
                </a:lnTo>
                <a:lnTo>
                  <a:pt x="2439" y="934"/>
                </a:lnTo>
                <a:lnTo>
                  <a:pt x="2450" y="932"/>
                </a:lnTo>
                <a:lnTo>
                  <a:pt x="2461" y="929"/>
                </a:lnTo>
                <a:lnTo>
                  <a:pt x="2472" y="921"/>
                </a:lnTo>
                <a:lnTo>
                  <a:pt x="2481" y="914"/>
                </a:lnTo>
                <a:lnTo>
                  <a:pt x="2490" y="907"/>
                </a:lnTo>
                <a:lnTo>
                  <a:pt x="2499" y="896"/>
                </a:lnTo>
                <a:lnTo>
                  <a:pt x="2508" y="885"/>
                </a:lnTo>
                <a:lnTo>
                  <a:pt x="2515" y="874"/>
                </a:lnTo>
                <a:lnTo>
                  <a:pt x="2521" y="860"/>
                </a:lnTo>
                <a:lnTo>
                  <a:pt x="2526" y="847"/>
                </a:lnTo>
                <a:lnTo>
                  <a:pt x="2531" y="831"/>
                </a:lnTo>
                <a:lnTo>
                  <a:pt x="2535" y="817"/>
                </a:lnTo>
                <a:lnTo>
                  <a:pt x="2537" y="801"/>
                </a:lnTo>
                <a:lnTo>
                  <a:pt x="2539" y="783"/>
                </a:lnTo>
                <a:lnTo>
                  <a:pt x="2540" y="766"/>
                </a:lnTo>
                <a:lnTo>
                  <a:pt x="2540" y="766"/>
                </a:lnTo>
                <a:lnTo>
                  <a:pt x="2539" y="748"/>
                </a:lnTo>
                <a:lnTo>
                  <a:pt x="2537" y="732"/>
                </a:lnTo>
                <a:lnTo>
                  <a:pt x="2535" y="716"/>
                </a:lnTo>
                <a:lnTo>
                  <a:pt x="2531" y="700"/>
                </a:lnTo>
                <a:lnTo>
                  <a:pt x="2526" y="685"/>
                </a:lnTo>
                <a:lnTo>
                  <a:pt x="2521" y="671"/>
                </a:lnTo>
                <a:lnTo>
                  <a:pt x="2515" y="658"/>
                </a:lnTo>
                <a:lnTo>
                  <a:pt x="2508" y="645"/>
                </a:lnTo>
                <a:lnTo>
                  <a:pt x="2499" y="635"/>
                </a:lnTo>
                <a:lnTo>
                  <a:pt x="2490" y="626"/>
                </a:lnTo>
                <a:lnTo>
                  <a:pt x="2481" y="617"/>
                </a:lnTo>
                <a:lnTo>
                  <a:pt x="2472" y="609"/>
                </a:lnTo>
                <a:lnTo>
                  <a:pt x="2461" y="604"/>
                </a:lnTo>
                <a:lnTo>
                  <a:pt x="2450" y="600"/>
                </a:lnTo>
                <a:lnTo>
                  <a:pt x="2439" y="597"/>
                </a:lnTo>
                <a:lnTo>
                  <a:pt x="2429" y="597"/>
                </a:lnTo>
                <a:lnTo>
                  <a:pt x="2429" y="597"/>
                </a:lnTo>
                <a:close/>
              </a:path>
            </a:pathLst>
          </a:custGeom>
          <a:solidFill>
            <a:srgbClr val="d337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直接连接符 18"/>
          <p:cNvCxnSpPr/>
          <p:nvPr/>
        </p:nvCxnSpPr>
        <p:spPr>
          <a:xfrm>
            <a:off x="947520" y="2225520"/>
            <a:ext cx="2667240" cy="360"/>
          </a:xfrm>
          <a:prstGeom prst="straightConnector1">
            <a:avLst/>
          </a:prstGeom>
          <a:ln w="25400">
            <a:solidFill>
              <a:srgbClr val="d3373a"/>
            </a:solidFill>
            <a:prstDash val="sysDash"/>
            <a:round/>
          </a:ln>
        </p:spPr>
      </p:cxnSp>
      <p:cxnSp>
        <p:nvCxnSpPr>
          <p:cNvPr id="144" name="直接连接符 22"/>
          <p:cNvCxnSpPr/>
          <p:nvPr/>
        </p:nvCxnSpPr>
        <p:spPr>
          <a:xfrm>
            <a:off x="5706720" y="2220840"/>
            <a:ext cx="2667600" cy="360"/>
          </a:xfrm>
          <a:prstGeom prst="straightConnector1">
            <a:avLst/>
          </a:prstGeom>
          <a:ln w="25400">
            <a:solidFill>
              <a:srgbClr val="7b7777"/>
            </a:solidFill>
            <a:prstDash val="sysDash"/>
            <a:round/>
          </a:ln>
        </p:spPr>
      </p:cxnSp>
      <p:cxnSp>
        <p:nvCxnSpPr>
          <p:cNvPr id="145" name="直接连接符 25"/>
          <p:cNvCxnSpPr/>
          <p:nvPr/>
        </p:nvCxnSpPr>
        <p:spPr>
          <a:xfrm>
            <a:off x="5678280" y="4127400"/>
            <a:ext cx="2670480" cy="360"/>
          </a:xfrm>
          <a:prstGeom prst="straightConnector1">
            <a:avLst/>
          </a:prstGeom>
          <a:ln w="25400">
            <a:solidFill>
              <a:srgbClr val="d3373a"/>
            </a:solidFill>
            <a:prstDash val="sysDash"/>
            <a:round/>
          </a:ln>
        </p:spPr>
      </p:cxnSp>
      <p:cxnSp>
        <p:nvCxnSpPr>
          <p:cNvPr id="146" name="直接连接符 27"/>
          <p:cNvCxnSpPr/>
          <p:nvPr/>
        </p:nvCxnSpPr>
        <p:spPr>
          <a:xfrm>
            <a:off x="928440" y="4151160"/>
            <a:ext cx="2667600" cy="360"/>
          </a:xfrm>
          <a:prstGeom prst="straightConnector1">
            <a:avLst/>
          </a:prstGeom>
          <a:ln w="25400">
            <a:solidFill>
              <a:srgbClr val="7b7777"/>
            </a:solidFill>
            <a:prstDash val="sysDash"/>
            <a:round/>
          </a:ln>
        </p:spPr>
      </p:cxnSp>
      <p:sp>
        <p:nvSpPr>
          <p:cNvPr id="147" name="矩形 12"/>
          <p:cNvSpPr/>
          <p:nvPr/>
        </p:nvSpPr>
        <p:spPr>
          <a:xfrm>
            <a:off x="22114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60688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614052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21398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6"/>
          <p:cNvSpPr/>
          <p:nvPr/>
        </p:nvSpPr>
        <p:spPr>
          <a:xfrm>
            <a:off x="357120" y="3857760"/>
            <a:ext cx="2588760" cy="479160"/>
          </a:xfrm>
          <a:prstGeom prst="roundRect">
            <a:avLst>
              <a:gd name="adj" fmla="val 9812"/>
            </a:avLst>
          </a:prstGeom>
          <a:solidFill>
            <a:srgbClr val="d3373a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圆角矩形 7"/>
          <p:cNvSpPr/>
          <p:nvPr/>
        </p:nvSpPr>
        <p:spPr>
          <a:xfrm>
            <a:off x="3286080" y="3857760"/>
            <a:ext cx="2588760" cy="479160"/>
          </a:xfrm>
          <a:prstGeom prst="roundRect">
            <a:avLst>
              <a:gd name="adj" fmla="val 9812"/>
            </a:avLst>
          </a:prstGeom>
          <a:solidFill>
            <a:srgbClr val="7b7777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圆角矩形 8"/>
          <p:cNvSpPr/>
          <p:nvPr/>
        </p:nvSpPr>
        <p:spPr>
          <a:xfrm>
            <a:off x="6197760" y="3857760"/>
            <a:ext cx="2588760" cy="479160"/>
          </a:xfrm>
          <a:prstGeom prst="roundRect">
            <a:avLst>
              <a:gd name="adj" fmla="val 9812"/>
            </a:avLst>
          </a:prstGeom>
          <a:solidFill>
            <a:srgbClr val="d3373a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9" name="圆角矩形 9"/>
          <p:cNvSpPr/>
          <p:nvPr/>
        </p:nvSpPr>
        <p:spPr>
          <a:xfrm>
            <a:off x="358920" y="1454040"/>
            <a:ext cx="2588760" cy="1872720"/>
          </a:xfrm>
          <a:prstGeom prst="roundRect">
            <a:avLst>
              <a:gd name="adj" fmla="val 9812"/>
            </a:avLst>
          </a:prstGeom>
          <a:solidFill>
            <a:srgbClr val="7b7777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圆角矩形 10"/>
          <p:cNvSpPr/>
          <p:nvPr/>
        </p:nvSpPr>
        <p:spPr>
          <a:xfrm>
            <a:off x="3240000" y="1482840"/>
            <a:ext cx="2590560" cy="1871280"/>
          </a:xfrm>
          <a:prstGeom prst="roundRect">
            <a:avLst>
              <a:gd name="adj" fmla="val 9812"/>
            </a:avLst>
          </a:prstGeom>
          <a:solidFill>
            <a:srgbClr val="d3373a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圆角矩形 11"/>
          <p:cNvSpPr/>
          <p:nvPr/>
        </p:nvSpPr>
        <p:spPr>
          <a:xfrm>
            <a:off x="6121440" y="1482840"/>
            <a:ext cx="2588760" cy="1871280"/>
          </a:xfrm>
          <a:prstGeom prst="roundRect">
            <a:avLst>
              <a:gd name="adj" fmla="val 9812"/>
            </a:avLst>
          </a:prstGeom>
          <a:solidFill>
            <a:srgbClr val="7b7777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下箭头 12"/>
          <p:cNvSpPr/>
          <p:nvPr/>
        </p:nvSpPr>
        <p:spPr>
          <a:xfrm>
            <a:off x="1289160" y="3538440"/>
            <a:ext cx="785520" cy="266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下箭头 13"/>
          <p:cNvSpPr/>
          <p:nvPr/>
        </p:nvSpPr>
        <p:spPr>
          <a:xfrm>
            <a:off x="4154400" y="3549600"/>
            <a:ext cx="785520" cy="266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b777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下箭头 14"/>
          <p:cNvSpPr/>
          <p:nvPr/>
        </p:nvSpPr>
        <p:spPr>
          <a:xfrm>
            <a:off x="7102440" y="3559320"/>
            <a:ext cx="786960" cy="26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4068720" y="2168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6997680" y="2168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4211640" y="3916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1139760" y="2168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1211400" y="3903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7069320" y="3916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形标注 6"/>
          <p:cNvSpPr/>
          <p:nvPr/>
        </p:nvSpPr>
        <p:spPr>
          <a:xfrm>
            <a:off x="714240" y="1928880"/>
            <a:ext cx="3704760" cy="25156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575">
            <a:solidFill>
              <a:srgbClr val="7b7777"/>
            </a:solidFill>
            <a:miter/>
          </a:ln>
          <a:effectLst>
            <a:outerShdw algn="tl" blurRad="50760" dir="2700000" dist="37674" rotWithShape="0">
              <a:srgbClr val="485033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7" name="椭圆形标注 7"/>
          <p:cNvSpPr/>
          <p:nvPr/>
        </p:nvSpPr>
        <p:spPr>
          <a:xfrm>
            <a:off x="844560" y="2016000"/>
            <a:ext cx="3444480" cy="2341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b7777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8" name="椭圆形标注 8"/>
          <p:cNvSpPr/>
          <p:nvPr/>
        </p:nvSpPr>
        <p:spPr>
          <a:xfrm>
            <a:off x="4786200" y="1928880"/>
            <a:ext cx="3704760" cy="25156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575">
            <a:solidFill>
              <a:srgbClr val="de3132"/>
            </a:solidFill>
            <a:miter/>
          </a:ln>
          <a:effectLst>
            <a:outerShdw algn="tl" blurRad="50760" dir="2700000" dist="37674" rotWithShape="0">
              <a:srgbClr val="485033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9" name="椭圆形标注 9"/>
          <p:cNvSpPr/>
          <p:nvPr/>
        </p:nvSpPr>
        <p:spPr>
          <a:xfrm>
            <a:off x="4916520" y="2016000"/>
            <a:ext cx="3444480" cy="2341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3373a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60688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19256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14"/>
          <p:cNvSpPr/>
          <p:nvPr/>
        </p:nvSpPr>
        <p:spPr>
          <a:xfrm>
            <a:off x="5210280" y="2341440"/>
            <a:ext cx="2927160" cy="2873160"/>
          </a:xfrm>
          <a:prstGeom prst="roundRect">
            <a:avLst>
              <a:gd name="adj" fmla="val 3278"/>
            </a:avLst>
          </a:prstGeom>
          <a:solidFill>
            <a:schemeClr val="bg1">
              <a:alpha val="95000"/>
            </a:schemeClr>
          </a:solidFill>
          <a:ln w="25400">
            <a:solidFill>
              <a:srgbClr val="d3373a"/>
            </a:solidFill>
            <a:miter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14"/>
          <p:cNvSpPr/>
          <p:nvPr/>
        </p:nvSpPr>
        <p:spPr>
          <a:xfrm>
            <a:off x="1089000" y="2341440"/>
            <a:ext cx="2925360" cy="2873160"/>
          </a:xfrm>
          <a:prstGeom prst="roundRect">
            <a:avLst>
              <a:gd name="adj" fmla="val 3278"/>
            </a:avLst>
          </a:prstGeom>
          <a:solidFill>
            <a:schemeClr val="bg1">
              <a:alpha val="95000"/>
            </a:schemeClr>
          </a:solidFill>
          <a:ln w="25400">
            <a:solidFill>
              <a:srgbClr val="7b7777"/>
            </a:solidFill>
            <a:miter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5"/>
          <p:cNvGrpSpPr/>
          <p:nvPr/>
        </p:nvGrpSpPr>
        <p:grpSpPr>
          <a:xfrm>
            <a:off x="1000080" y="1765440"/>
            <a:ext cx="3131640" cy="748800"/>
            <a:chOff x="1000080" y="1765440"/>
            <a:chExt cx="3131640" cy="748800"/>
          </a:xfrm>
        </p:grpSpPr>
        <p:sp>
          <p:nvSpPr>
            <p:cNvPr id="190" name="AutoShape 3"/>
            <p:cNvSpPr/>
            <p:nvPr/>
          </p:nvSpPr>
          <p:spPr>
            <a:xfrm>
              <a:off x="1000080" y="1765440"/>
              <a:ext cx="3131640" cy="748800"/>
            </a:xfrm>
            <a:prstGeom prst="roundRect">
              <a:avLst>
                <a:gd name="adj" fmla="val 16667"/>
              </a:avLst>
            </a:prstGeom>
            <a:solidFill>
              <a:srgbClr val="7b7777"/>
            </a:solidFill>
            <a:ln w="9525"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c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91" name="AutoShape 3">
              <a:hlinkClick r:id="rId1"/>
            </p:cNvPr>
            <p:cNvSpPr/>
            <p:nvPr/>
          </p:nvSpPr>
          <p:spPr>
            <a:xfrm>
              <a:off x="1000080" y="1877040"/>
              <a:ext cx="3131640" cy="525600"/>
            </a:xfrm>
            <a:prstGeom prst="roundRect">
              <a:avLst>
                <a:gd name="adj" fmla="val 16667"/>
              </a:avLst>
            </a:prstGeom>
            <a:solidFill>
              <a:srgbClr val="7b7777"/>
            </a:solidFill>
            <a:ln w="9525"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92" name="组合 5"/>
          <p:cNvGrpSpPr/>
          <p:nvPr/>
        </p:nvGrpSpPr>
        <p:grpSpPr>
          <a:xfrm>
            <a:off x="5121360" y="1765440"/>
            <a:ext cx="3131640" cy="748800"/>
            <a:chOff x="5121360" y="1765440"/>
            <a:chExt cx="3131640" cy="748800"/>
          </a:xfrm>
        </p:grpSpPr>
        <p:sp>
          <p:nvSpPr>
            <p:cNvPr id="193" name="AutoShape 3"/>
            <p:cNvSpPr/>
            <p:nvPr/>
          </p:nvSpPr>
          <p:spPr>
            <a:xfrm>
              <a:off x="5121360" y="1765440"/>
              <a:ext cx="3131640" cy="74880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9525"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c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94" name="AutoShape 3">
              <a:hlinkClick r:id="rId2"/>
            </p:cNvPr>
            <p:cNvSpPr/>
            <p:nvPr/>
          </p:nvSpPr>
          <p:spPr>
            <a:xfrm>
              <a:off x="5121360" y="1877040"/>
              <a:ext cx="3131640" cy="525600"/>
            </a:xfrm>
            <a:prstGeom prst="roundRect">
              <a:avLst>
                <a:gd name="adj" fmla="val 16667"/>
              </a:avLst>
            </a:prstGeom>
            <a:solidFill>
              <a:srgbClr val="d3373a"/>
            </a:solidFill>
            <a:ln w="9525"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balanced">
                <a:rot lat="0" lon="0" rev="8700000"/>
              </a:lightRig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95" name="左右箭头 14"/>
          <p:cNvSpPr/>
          <p:nvPr/>
        </p:nvSpPr>
        <p:spPr>
          <a:xfrm>
            <a:off x="4131360" y="3395880"/>
            <a:ext cx="928440" cy="369360"/>
          </a:xfrm>
          <a:prstGeom prst="left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700"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fov="0" prst="perspectiveAbove">
              <a:rot lat="0" lon="0" rev="0"/>
            </a:camera>
            <a:lightRig dir="t" rig="flat"/>
          </a:scene3d>
          <a:sp3d extrusionH="184150" contourW="12700" z="6350" prstMaterial="plastic">
            <a:contourClr>
              <a:schemeClr val="bg1"/>
            </a:contour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6" name="矩形 13"/>
          <p:cNvSpPr/>
          <p:nvPr/>
        </p:nvSpPr>
        <p:spPr>
          <a:xfrm>
            <a:off x="6321600" y="3479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4"/>
          <p:cNvSpPr/>
          <p:nvPr/>
        </p:nvSpPr>
        <p:spPr>
          <a:xfrm>
            <a:off x="2036880" y="3479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0204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  <Words>292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09:26:31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