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FD41-6E7A-40AD-AB57-27574BC9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426708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5046-C462-4429-9557-86BA5D59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2670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800" y="42670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0984-471E-436E-BD3F-8EE97DB8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42670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1000" y="42670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080" y="42670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8D35-A512-4774-A4E9-F6058699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91DB-5C47-4567-B766-73033B59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7A76-7155-4FAF-B764-289439C1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CD38-BE1C-4284-9174-26573F11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AB61-87F5-41B6-83B4-BC91AB08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4698-01BE-4519-A29E-9A23BB0E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0520" y="151920"/>
            <a:ext cx="7170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502F-B94F-41F2-8454-F4FEC869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80" y="42670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7C8E-A89F-4A51-94AE-C8119276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C202-C3BE-4516-ABCF-C36D7DC7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800" y="42670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8220-7E89-4D39-8780-4641CFAC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426708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D878-9939-4648-AE8D-2B3207DE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80" y="426708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0B43-D0B8-4AB6-8018-982C0E82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42670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800" y="42670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6AAD-C8F0-4FFB-AF61-FD7106C2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80" y="42670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1000" y="42670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0080" y="4267080"/>
            <a:ext cx="2846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A824-46BB-461F-889C-AC882C27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4C6E-F23A-4693-A57C-5984E9A0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1937-23EE-4116-B802-B52B9515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C189-178C-4CB0-B460-A91D7C56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0520" y="151920"/>
            <a:ext cx="7170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723F-1159-4DD5-A1CC-023BB3AB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42670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40B2-02CF-425B-817E-7C6BDC04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800" y="426708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CDBD-40D9-403B-B027-3B4C022F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4267080"/>
            <a:ext cx="8839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6F3A-4EF1-4E7F-8C0E-541B56E7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AFCA-52C6-44D6-8364-9F30AC12F9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0520" y="151920"/>
            <a:ext cx="717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1b6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44B3-231E-486F-9A7A-2A23340798BA}" type="slidenum">
              <a:rPr b="0" lang="zh-CN" sz="1400" spc="-1" strike="noStrike">
                <a:solidFill>
                  <a:srgbClr val="00336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4876920"/>
            <a:ext cx="75438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ahoma"/>
                <a:ea typeface="宋体"/>
              </a:rPr>
              <a:t>文件繁多商务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宋体"/>
              </a:rPr>
              <a:t>PPT</a:t>
            </a:r>
            <a:r>
              <a:rPr b="0" lang="zh-CN" sz="4000" spc="-1" strike="noStrike">
                <a:solidFill>
                  <a:srgbClr val="003366"/>
                </a:solidFill>
                <a:latin typeface="Tahoma"/>
                <a:ea typeface="宋体"/>
              </a:rPr>
              <a:t>模板完整版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66680" y="5866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66"/>
              </a:solidFill>
              <a:latin typeface="Tahoma"/>
              <a:ea typeface="宋体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10:34:34Z</dcterms:created>
  <dc:creator>ppt宝藏</dc:creator>
  <dc:description/>
  <dc:language>en-US</dc:language>
  <cp:lastModifiedBy>a</cp:lastModifiedBy>
  <dcterms:modified xsi:type="dcterms:W3CDTF">2015-07-25T06:48:16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32052</vt:lpwstr>
  </property>
</Properties>
</file>