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198-C4FF-468C-8187-2DC8A81C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C40-F67F-4455-87C4-64C52A4C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E3C-D51D-46B9-B6DC-B7D233F6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CD2-1A03-46CF-A6A9-F192E455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862-6557-46E5-858F-D3A94C3B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024-F823-4DF5-98FA-8D91C93B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2DD-813C-496D-864D-F9794FCD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E92-0191-40A6-8AE6-2F8DD5EE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EA1-C28A-4358-92DB-97A28118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94A-402D-48ED-83B3-7CAB7F45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C62-FB5E-403F-8D35-673D49C6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CC8-0A29-48E9-9C7F-D1143009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F03C-7EAD-4800-A560-55B06BFB03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3813-A186-48A5-81DC-617A96DD4D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u=3878269170,1774242558&amp;fm=23&amp;gp=0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290600" y="15573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19000" y="1890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玩具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2360" y="1628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见过会爬的玩具吗？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Administrator\Desktop\u=1888815560,3914880644&amp;fm=21&amp;gp=0[1].jpg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dministrator\Desktop\u=4116949494,132607494&amp;fm=23&amp;gp=0[1].jpg"/>
          <p:cNvPicPr/>
          <p:nvPr/>
        </p:nvPicPr>
        <p:blipFill>
          <a:blip r:embed="rId1"/>
          <a:stretch/>
        </p:blipFill>
        <p:spPr>
          <a:xfrm>
            <a:off x="428760" y="379440"/>
            <a:ext cx="82566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dministrator\Desktop\u=3878269170,1774242558&amp;fm=23&amp;gp=0[1]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2426400" y="21430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会爬的玩具是怎么做出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1214280" y="2571840"/>
            <a:ext cx="650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动起手来做一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3"/>
          <p:cNvSpPr/>
          <p:nvPr/>
        </p:nvSpPr>
        <p:spPr>
          <a:xfrm>
            <a:off x="4352040" y="25002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制作一个会爬的玩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428120" y="11430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CD4-5600-42DB-9570-DB095E66EC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16:5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57:0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