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xiaoxuan Zeng" initials="xZ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14-08-23T16:42:25.641000000" idx="1">
    <p:pos x="0" y="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0D13B4-ED60-45B7-8B8B-FF0A375BC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2263E30-D1CA-4ECC-B17E-6804AEB1BA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763280-9855-4DCD-828D-FBC229B1691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B234-3729-47A8-914F-DC47CFB0D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1DC0-AEF6-42F9-A848-224130A5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2EAA-70D1-43BA-9A69-EF67980C3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751E-893F-4D0C-A0CB-F570777C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1F3-0AAD-47F2-BC16-099BDF13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3ED6-B4BC-4074-B3AB-E7D6B4155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950E-5B04-4240-8AFA-8043DECC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A7C-77C3-4DF0-A452-C8AB0AAB0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BDD-09B3-4B6A-82D4-30C24E08B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0936-7292-4821-B40E-0D2616E44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2518-9DA7-4257-9801-D83A52896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1BCF-8743-4331-A870-44FA4C30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6356520"/>
            <a:ext cx="20570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EFC986-C23C-418A-8706-00CC68A19BF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椭圆 6"/>
          <p:cNvSpPr/>
          <p:nvPr/>
        </p:nvSpPr>
        <p:spPr>
          <a:xfrm>
            <a:off x="1554120" y="21895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8" name="椭圆 38"/>
          <p:cNvSpPr/>
          <p:nvPr/>
        </p:nvSpPr>
        <p:spPr>
          <a:xfrm>
            <a:off x="2061000" y="26424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" name="椭圆 39"/>
          <p:cNvSpPr/>
          <p:nvPr/>
        </p:nvSpPr>
        <p:spPr>
          <a:xfrm>
            <a:off x="2244600" y="-32011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" name="椭圆 41"/>
          <p:cNvSpPr/>
          <p:nvPr/>
        </p:nvSpPr>
        <p:spPr>
          <a:xfrm>
            <a:off x="2567880" y="-1843920"/>
            <a:ext cx="8025480" cy="9292320"/>
          </a:xfrm>
          <a:prstGeom prst="ellipse">
            <a:avLst/>
          </a:prstGeom>
          <a:noFill/>
          <a:ln w="31750">
            <a:solidFill>
              <a:srgbClr val="000000"/>
            </a:solidFill>
            <a:prstDash val="sysDot"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0" y="3881160"/>
            <a:ext cx="9143640" cy="14054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52" name="组合 14"/>
          <p:cNvGrpSpPr/>
          <p:nvPr/>
        </p:nvGrpSpPr>
        <p:grpSpPr>
          <a:xfrm>
            <a:off x="906120" y="1757160"/>
            <a:ext cx="2987640" cy="2987640"/>
            <a:chOff x="906120" y="1757160"/>
            <a:chExt cx="2987640" cy="2987640"/>
          </a:xfrm>
        </p:grpSpPr>
        <p:grpSp>
          <p:nvGrpSpPr>
            <p:cNvPr id="53" name="组合 15"/>
            <p:cNvGrpSpPr/>
            <p:nvPr/>
          </p:nvGrpSpPr>
          <p:grpSpPr>
            <a:xfrm>
              <a:off x="906120" y="1757160"/>
              <a:ext cx="2987640" cy="2987640"/>
              <a:chOff x="906120" y="1757160"/>
              <a:chExt cx="2987640" cy="2987640"/>
            </a:xfrm>
          </p:grpSpPr>
          <p:sp>
            <p:nvSpPr>
              <p:cNvPr id="54" name="椭圆 20"/>
              <p:cNvSpPr/>
              <p:nvPr/>
            </p:nvSpPr>
            <p:spPr>
              <a:xfrm>
                <a:off x="906120" y="1757160"/>
                <a:ext cx="2987640" cy="298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" name="椭圆 21"/>
              <p:cNvSpPr/>
              <p:nvPr/>
            </p:nvSpPr>
            <p:spPr>
              <a:xfrm>
                <a:off x="960120" y="1811160"/>
                <a:ext cx="2879640" cy="28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" name="文本框 19"/>
            <p:cNvSpPr/>
            <p:nvPr/>
          </p:nvSpPr>
          <p:spPr>
            <a:xfrm>
              <a:off x="1486440" y="2679480"/>
              <a:ext cx="1827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升职记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2"/>
          <p:cNvGrpSpPr/>
          <p:nvPr/>
        </p:nvGrpSpPr>
        <p:grpSpPr>
          <a:xfrm>
            <a:off x="420120" y="368280"/>
            <a:ext cx="2267640" cy="2267640"/>
            <a:chOff x="420120" y="368280"/>
            <a:chExt cx="2267640" cy="2267640"/>
          </a:xfrm>
        </p:grpSpPr>
        <p:grpSp>
          <p:nvGrpSpPr>
            <p:cNvPr id="58" name="组合 22"/>
            <p:cNvGrpSpPr/>
            <p:nvPr/>
          </p:nvGrpSpPr>
          <p:grpSpPr>
            <a:xfrm>
              <a:off x="420120" y="368280"/>
              <a:ext cx="2267640" cy="2267640"/>
              <a:chOff x="420120" y="368280"/>
              <a:chExt cx="2267640" cy="2267640"/>
            </a:xfrm>
          </p:grpSpPr>
          <p:sp>
            <p:nvSpPr>
              <p:cNvPr id="59" name="椭圆 23"/>
              <p:cNvSpPr/>
              <p:nvPr/>
            </p:nvSpPr>
            <p:spPr>
              <a:xfrm>
                <a:off x="420120" y="368280"/>
                <a:ext cx="2267640" cy="226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" name="椭圆 24"/>
              <p:cNvSpPr/>
              <p:nvPr/>
            </p:nvSpPr>
            <p:spPr>
              <a:xfrm>
                <a:off x="474120" y="422280"/>
                <a:ext cx="2159640" cy="215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" name="文本框 25"/>
            <p:cNvSpPr/>
            <p:nvPr/>
          </p:nvSpPr>
          <p:spPr>
            <a:xfrm>
              <a:off x="528120" y="902160"/>
              <a:ext cx="205200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小强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56"/>
          <p:cNvGrpSpPr/>
          <p:nvPr/>
        </p:nvGrpSpPr>
        <p:grpSpPr>
          <a:xfrm>
            <a:off x="3642120" y="940680"/>
            <a:ext cx="395640" cy="395640"/>
            <a:chOff x="3642120" y="940680"/>
            <a:chExt cx="395640" cy="395640"/>
          </a:xfrm>
        </p:grpSpPr>
        <p:sp>
          <p:nvSpPr>
            <p:cNvPr id="63" name="椭圆 57"/>
            <p:cNvSpPr/>
            <p:nvPr/>
          </p:nvSpPr>
          <p:spPr>
            <a:xfrm>
              <a:off x="3642120" y="94068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椭圆 58"/>
            <p:cNvSpPr/>
            <p:nvPr/>
          </p:nvSpPr>
          <p:spPr>
            <a:xfrm>
              <a:off x="3660120" y="958680"/>
              <a:ext cx="359640" cy="35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5" name="文本框 1"/>
          <p:cNvSpPr/>
          <p:nvPr/>
        </p:nvSpPr>
        <p:spPr>
          <a:xfrm>
            <a:off x="4377600" y="4384080"/>
            <a:ext cx="80892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邹鑫 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7"/>
          <p:cNvGrpSpPr/>
          <p:nvPr/>
        </p:nvGrpSpPr>
        <p:grpSpPr>
          <a:xfrm>
            <a:off x="3894120" y="4994640"/>
            <a:ext cx="755640" cy="755640"/>
            <a:chOff x="3894120" y="4994640"/>
            <a:chExt cx="755640" cy="755640"/>
          </a:xfrm>
        </p:grpSpPr>
        <p:sp>
          <p:nvSpPr>
            <p:cNvPr id="67" name="椭圆 79"/>
            <p:cNvSpPr/>
            <p:nvPr/>
          </p:nvSpPr>
          <p:spPr>
            <a:xfrm>
              <a:off x="3894120" y="49946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椭圆 80"/>
            <p:cNvSpPr/>
            <p:nvPr/>
          </p:nvSpPr>
          <p:spPr>
            <a:xfrm>
              <a:off x="3912120" y="501264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文本框 81"/>
            <p:cNvSpPr/>
            <p:nvPr/>
          </p:nvSpPr>
          <p:spPr>
            <a:xfrm>
              <a:off x="4028760" y="51724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82"/>
          <p:cNvGrpSpPr/>
          <p:nvPr/>
        </p:nvGrpSpPr>
        <p:grpSpPr>
          <a:xfrm>
            <a:off x="6580800" y="81360"/>
            <a:ext cx="395640" cy="395640"/>
            <a:chOff x="6580800" y="81360"/>
            <a:chExt cx="395640" cy="395640"/>
          </a:xfrm>
        </p:grpSpPr>
        <p:sp>
          <p:nvSpPr>
            <p:cNvPr id="71" name="椭圆 83"/>
            <p:cNvSpPr/>
            <p:nvPr/>
          </p:nvSpPr>
          <p:spPr>
            <a:xfrm>
              <a:off x="6580800" y="8136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椭圆 84"/>
            <p:cNvSpPr/>
            <p:nvPr/>
          </p:nvSpPr>
          <p:spPr>
            <a:xfrm>
              <a:off x="6598800" y="99360"/>
              <a:ext cx="359640" cy="35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3" name="组合 85"/>
          <p:cNvGrpSpPr/>
          <p:nvPr/>
        </p:nvGrpSpPr>
        <p:grpSpPr>
          <a:xfrm>
            <a:off x="8326080" y="5860440"/>
            <a:ext cx="395640" cy="395640"/>
            <a:chOff x="8326080" y="5860440"/>
            <a:chExt cx="395640" cy="395640"/>
          </a:xfrm>
        </p:grpSpPr>
        <p:sp>
          <p:nvSpPr>
            <p:cNvPr id="74" name="椭圆 86"/>
            <p:cNvSpPr/>
            <p:nvPr/>
          </p:nvSpPr>
          <p:spPr>
            <a:xfrm>
              <a:off x="8326080" y="5860440"/>
              <a:ext cx="395640" cy="39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5" name="椭圆 87"/>
            <p:cNvSpPr/>
            <p:nvPr/>
          </p:nvSpPr>
          <p:spPr>
            <a:xfrm>
              <a:off x="8344080" y="5878440"/>
              <a:ext cx="359640" cy="35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6" name="组合 88"/>
          <p:cNvGrpSpPr/>
          <p:nvPr/>
        </p:nvGrpSpPr>
        <p:grpSpPr>
          <a:xfrm>
            <a:off x="6359040" y="3462480"/>
            <a:ext cx="755640" cy="755640"/>
            <a:chOff x="6359040" y="3462480"/>
            <a:chExt cx="755640" cy="755640"/>
          </a:xfrm>
        </p:grpSpPr>
        <p:sp>
          <p:nvSpPr>
            <p:cNvPr id="77" name="椭圆 89"/>
            <p:cNvSpPr/>
            <p:nvPr/>
          </p:nvSpPr>
          <p:spPr>
            <a:xfrm>
              <a:off x="6359040" y="3462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椭圆 90"/>
            <p:cNvSpPr/>
            <p:nvPr/>
          </p:nvSpPr>
          <p:spPr>
            <a:xfrm>
              <a:off x="6377040" y="3480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文本框 91"/>
            <p:cNvSpPr/>
            <p:nvPr/>
          </p:nvSpPr>
          <p:spPr>
            <a:xfrm>
              <a:off x="6493680" y="36406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管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组合 92"/>
          <p:cNvGrpSpPr/>
          <p:nvPr/>
        </p:nvGrpSpPr>
        <p:grpSpPr>
          <a:xfrm>
            <a:off x="7311960" y="5449680"/>
            <a:ext cx="755640" cy="755640"/>
            <a:chOff x="7311960" y="5449680"/>
            <a:chExt cx="755640" cy="755640"/>
          </a:xfrm>
        </p:grpSpPr>
        <p:sp>
          <p:nvSpPr>
            <p:cNvPr id="81" name="椭圆 93"/>
            <p:cNvSpPr/>
            <p:nvPr/>
          </p:nvSpPr>
          <p:spPr>
            <a:xfrm>
              <a:off x="7311960" y="54496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椭圆 94"/>
            <p:cNvSpPr/>
            <p:nvPr/>
          </p:nvSpPr>
          <p:spPr>
            <a:xfrm>
              <a:off x="7329960" y="54676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文本框 95"/>
            <p:cNvSpPr/>
            <p:nvPr/>
          </p:nvSpPr>
          <p:spPr>
            <a:xfrm>
              <a:off x="7446600" y="562752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故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矩形 3"/>
          <p:cNvSpPr/>
          <p:nvPr/>
        </p:nvSpPr>
        <p:spPr>
          <a:xfrm>
            <a:off x="1556280" y="392040"/>
            <a:ext cx="57661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微粒体风格读书笔记通用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组合 106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538" name="椭圆 108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9" name="椭圆 109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0" name="组合 85"/>
          <p:cNvGrpSpPr/>
          <p:nvPr/>
        </p:nvGrpSpPr>
        <p:grpSpPr>
          <a:xfrm>
            <a:off x="6914160" y="874440"/>
            <a:ext cx="1504440" cy="1790640"/>
            <a:chOff x="6914160" y="874440"/>
            <a:chExt cx="1504440" cy="1790640"/>
          </a:xfrm>
        </p:grpSpPr>
        <p:sp>
          <p:nvSpPr>
            <p:cNvPr id="541" name="任意多边形 92"/>
            <p:cNvSpPr/>
            <p:nvPr/>
          </p:nvSpPr>
          <p:spPr>
            <a:xfrm rot="3406200">
              <a:off x="6823440" y="1422360"/>
              <a:ext cx="1685880" cy="694080"/>
            </a:xfrm>
            <a:custGeom>
              <a:avLst/>
              <a:gdLst>
                <a:gd name="textAreaLeft" fmla="*/ 0 w 1685880"/>
                <a:gd name="textAreaRight" fmla="*/ 1686240 w 168588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42" name="任意多边形 93"/>
            <p:cNvSpPr/>
            <p:nvPr/>
          </p:nvSpPr>
          <p:spPr>
            <a:xfrm rot="3406200">
              <a:off x="6841440" y="1468800"/>
              <a:ext cx="1649880" cy="601560"/>
            </a:xfrm>
            <a:custGeom>
              <a:avLst/>
              <a:gdLst>
                <a:gd name="textAreaLeft" fmla="*/ 0 w 1649880"/>
                <a:gd name="textAreaRight" fmla="*/ 1650240 w 16498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43" name="组合 52"/>
          <p:cNvGrpSpPr/>
          <p:nvPr/>
        </p:nvGrpSpPr>
        <p:grpSpPr>
          <a:xfrm>
            <a:off x="6666840" y="3675960"/>
            <a:ext cx="1655640" cy="1811160"/>
            <a:chOff x="6666840" y="3675960"/>
            <a:chExt cx="1655640" cy="1811160"/>
          </a:xfrm>
        </p:grpSpPr>
        <p:sp>
          <p:nvSpPr>
            <p:cNvPr id="544" name="任意多边形 53"/>
            <p:cNvSpPr/>
            <p:nvPr/>
          </p:nvSpPr>
          <p:spPr>
            <a:xfrm rot="3051600">
              <a:off x="6609240" y="4234320"/>
              <a:ext cx="1770480" cy="694080"/>
            </a:xfrm>
            <a:custGeom>
              <a:avLst/>
              <a:gdLst>
                <a:gd name="textAreaLeft" fmla="*/ 0 w 1770480"/>
                <a:gd name="textAreaRight" fmla="*/ 1770840 w 177048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" name="任意多边形 54"/>
            <p:cNvSpPr/>
            <p:nvPr/>
          </p:nvSpPr>
          <p:spPr>
            <a:xfrm rot="3051600">
              <a:off x="6628320" y="4280760"/>
              <a:ext cx="1732680" cy="601560"/>
            </a:xfrm>
            <a:custGeom>
              <a:avLst/>
              <a:gdLst>
                <a:gd name="textAreaLeft" fmla="*/ 0 w 1732680"/>
                <a:gd name="textAreaRight" fmla="*/ 1733040 w 173268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6" name="组合 14"/>
          <p:cNvGrpSpPr/>
          <p:nvPr/>
        </p:nvGrpSpPr>
        <p:grpSpPr>
          <a:xfrm>
            <a:off x="907920" y="797400"/>
            <a:ext cx="1649520" cy="1227600"/>
            <a:chOff x="907920" y="797400"/>
            <a:chExt cx="1649520" cy="1227600"/>
          </a:xfrm>
        </p:grpSpPr>
        <p:sp>
          <p:nvSpPr>
            <p:cNvPr id="547" name="任意多边形 15"/>
            <p:cNvSpPr/>
            <p:nvPr/>
          </p:nvSpPr>
          <p:spPr>
            <a:xfrm rot="9408600">
              <a:off x="983880" y="1063800"/>
              <a:ext cx="1497240" cy="694080"/>
            </a:xfrm>
            <a:custGeom>
              <a:avLst/>
              <a:gdLst>
                <a:gd name="textAreaLeft" fmla="*/ 0 w 1497240"/>
                <a:gd name="textAreaRight" fmla="*/ 1497600 w 149724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8" name="任意多边形 16"/>
            <p:cNvSpPr/>
            <p:nvPr/>
          </p:nvSpPr>
          <p:spPr>
            <a:xfrm rot="9408600">
              <a:off x="999720" y="1110240"/>
              <a:ext cx="1465200" cy="601560"/>
            </a:xfrm>
            <a:custGeom>
              <a:avLst/>
              <a:gdLst>
                <a:gd name="textAreaLeft" fmla="*/ 0 w 1465200"/>
                <a:gd name="textAreaRight" fmla="*/ 1465560 w 146520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49" name="组合 44"/>
          <p:cNvGrpSpPr/>
          <p:nvPr/>
        </p:nvGrpSpPr>
        <p:grpSpPr>
          <a:xfrm>
            <a:off x="3018240" y="2480760"/>
            <a:ext cx="1235520" cy="2015640"/>
            <a:chOff x="3018240" y="2480760"/>
            <a:chExt cx="1235520" cy="2015640"/>
          </a:xfrm>
        </p:grpSpPr>
        <p:sp>
          <p:nvSpPr>
            <p:cNvPr id="550" name="任意多边形 45"/>
            <p:cNvSpPr/>
            <p:nvPr/>
          </p:nvSpPr>
          <p:spPr>
            <a:xfrm rot="4341600">
              <a:off x="2688840" y="3141360"/>
              <a:ext cx="1894320" cy="694080"/>
            </a:xfrm>
            <a:custGeom>
              <a:avLst/>
              <a:gdLst>
                <a:gd name="textAreaLeft" fmla="*/ 0 w 1894320"/>
                <a:gd name="textAreaRight" fmla="*/ 1894680 w 189432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2708132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2365664" y="0"/>
                  </a:lnTo>
                  <a:lnTo>
                    <a:pt x="2365664" y="3635"/>
                  </a:lnTo>
                  <a:lnTo>
                    <a:pt x="2394673" y="0"/>
                  </a:lnTo>
                  <a:cubicBezTo>
                    <a:pt x="2567792" y="0"/>
                    <a:pt x="2708132" y="174456"/>
                    <a:pt x="2708132" y="389659"/>
                  </a:cubicBezTo>
                  <a:cubicBezTo>
                    <a:pt x="2708132" y="604862"/>
                    <a:pt x="2567792" y="779318"/>
                    <a:pt x="2394673" y="779318"/>
                  </a:cubicBezTo>
                  <a:lnTo>
                    <a:pt x="2365664" y="775683"/>
                  </a:lnTo>
                  <a:lnTo>
                    <a:pt x="2365664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1" name="任意多边形 46"/>
            <p:cNvSpPr/>
            <p:nvPr/>
          </p:nvSpPr>
          <p:spPr>
            <a:xfrm rot="4341600">
              <a:off x="2708640" y="3187800"/>
              <a:ext cx="1854000" cy="601560"/>
            </a:xfrm>
            <a:custGeom>
              <a:avLst/>
              <a:gdLst>
                <a:gd name="textAreaLeft" fmla="*/ 0 w 1854000"/>
                <a:gd name="textAreaRight" fmla="*/ 1854360 w 1854000"/>
                <a:gd name="textAreaTop" fmla="*/ 0 h 601560"/>
                <a:gd name="textAreaBottom" fmla="*/ 601920 h 601560"/>
              </a:gdLst>
              <a:ahLst/>
              <a:rect l="textAreaLeft" t="textAreaTop" r="textAreaRight" b="textAreaBottom"/>
              <a:pathLst>
                <a:path w="2650116" h="675411">
                  <a:moveTo>
                    <a:pt x="268866" y="0"/>
                  </a:moveTo>
                  <a:lnTo>
                    <a:pt x="2336657" y="0"/>
                  </a:lnTo>
                  <a:lnTo>
                    <a:pt x="2336657" y="3473"/>
                  </a:lnTo>
                  <a:lnTo>
                    <a:pt x="2365665" y="1"/>
                  </a:lnTo>
                  <a:cubicBezTo>
                    <a:pt x="2522763" y="1"/>
                    <a:pt x="2650116" y="151197"/>
                    <a:pt x="2650116" y="337706"/>
                  </a:cubicBezTo>
                  <a:cubicBezTo>
                    <a:pt x="2650116" y="524215"/>
                    <a:pt x="2522763" y="675411"/>
                    <a:pt x="2365665" y="675411"/>
                  </a:cubicBezTo>
                  <a:lnTo>
                    <a:pt x="2336657" y="671940"/>
                  </a:lnTo>
                  <a:lnTo>
                    <a:pt x="2336657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6"/>
                  </a:lnTo>
                  <a:close/>
                </a:path>
              </a:pathLst>
            </a:custGeom>
            <a:gradFill rotWithShape="0">
              <a:gsLst>
                <a:gs pos="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52" name="文本框 8"/>
          <p:cNvSpPr/>
          <p:nvPr/>
        </p:nvSpPr>
        <p:spPr>
          <a:xfrm>
            <a:off x="302400" y="1582200"/>
            <a:ext cx="511920" cy="36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组合 20"/>
          <p:cNvGrpSpPr/>
          <p:nvPr/>
        </p:nvGrpSpPr>
        <p:grpSpPr>
          <a:xfrm>
            <a:off x="2067120" y="745920"/>
            <a:ext cx="3993120" cy="779040"/>
            <a:chOff x="2067120" y="745920"/>
            <a:chExt cx="3993120" cy="779040"/>
          </a:xfrm>
        </p:grpSpPr>
        <p:grpSp>
          <p:nvGrpSpPr>
            <p:cNvPr id="554" name="组合 11"/>
            <p:cNvGrpSpPr/>
            <p:nvPr/>
          </p:nvGrpSpPr>
          <p:grpSpPr>
            <a:xfrm>
              <a:off x="2067120" y="745920"/>
              <a:ext cx="3993120" cy="779040"/>
              <a:chOff x="2067120" y="745920"/>
              <a:chExt cx="3993120" cy="779040"/>
            </a:xfrm>
          </p:grpSpPr>
          <p:grpSp>
            <p:nvGrpSpPr>
              <p:cNvPr id="555" name="组合 35"/>
              <p:cNvGrpSpPr/>
              <p:nvPr/>
            </p:nvGrpSpPr>
            <p:grpSpPr>
              <a:xfrm>
                <a:off x="2067120" y="745920"/>
                <a:ext cx="3993120" cy="779040"/>
                <a:chOff x="2067120" y="745920"/>
                <a:chExt cx="3993120" cy="779040"/>
              </a:xfrm>
            </p:grpSpPr>
            <p:sp>
              <p:nvSpPr>
                <p:cNvPr id="556" name="任意多边形 36"/>
                <p:cNvSpPr/>
                <p:nvPr/>
              </p:nvSpPr>
              <p:spPr>
                <a:xfrm>
                  <a:off x="2067120" y="745920"/>
                  <a:ext cx="3993120" cy="779040"/>
                </a:xfrm>
                <a:custGeom>
                  <a:avLst/>
                  <a:gdLst>
                    <a:gd name="textAreaLeft" fmla="*/ 0 w 3993120"/>
                    <a:gd name="textAreaRight" fmla="*/ 3993480 w 399312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3993576" h="779318">
                      <a:moveTo>
                        <a:pt x="313459" y="0"/>
                      </a:moveTo>
                      <a:lnTo>
                        <a:pt x="342467" y="3635"/>
                      </a:lnTo>
                      <a:lnTo>
                        <a:pt x="342467" y="0"/>
                      </a:lnTo>
                      <a:lnTo>
                        <a:pt x="3680117" y="0"/>
                      </a:lnTo>
                      <a:lnTo>
                        <a:pt x="3680835" y="0"/>
                      </a:lnTo>
                      <a:lnTo>
                        <a:pt x="3680835" y="90"/>
                      </a:lnTo>
                      <a:lnTo>
                        <a:pt x="3743290" y="7917"/>
                      </a:lnTo>
                      <a:cubicBezTo>
                        <a:pt x="3886128" y="44251"/>
                        <a:pt x="3993576" y="201357"/>
                        <a:pt x="3993576" y="389659"/>
                      </a:cubicBezTo>
                      <a:cubicBezTo>
                        <a:pt x="3993576" y="577962"/>
                        <a:pt x="3886128" y="735067"/>
                        <a:pt x="3743290" y="771402"/>
                      </a:cubicBezTo>
                      <a:lnTo>
                        <a:pt x="3680835" y="779228"/>
                      </a:lnTo>
                      <a:lnTo>
                        <a:pt x="3680835" y="779318"/>
                      </a:lnTo>
                      <a:lnTo>
                        <a:pt x="3680117" y="779318"/>
                      </a:lnTo>
                      <a:lnTo>
                        <a:pt x="342467" y="779318"/>
                      </a:lnTo>
                      <a:lnTo>
                        <a:pt x="342467" y="775683"/>
                      </a:lnTo>
                      <a:lnTo>
                        <a:pt x="313459" y="779318"/>
                      </a:lnTo>
                      <a:cubicBezTo>
                        <a:pt x="140340" y="779318"/>
                        <a:pt x="0" y="604862"/>
                        <a:pt x="0" y="389659"/>
                      </a:cubicBezTo>
                      <a:cubicBezTo>
                        <a:pt x="0" y="174456"/>
                        <a:pt x="140340" y="0"/>
                        <a:pt x="31345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57" name="任意多边形 37"/>
                <p:cNvSpPr/>
                <p:nvPr/>
              </p:nvSpPr>
              <p:spPr>
                <a:xfrm>
                  <a:off x="2096280" y="797760"/>
                  <a:ext cx="3935160" cy="675000"/>
                </a:xfrm>
                <a:custGeom>
                  <a:avLst/>
                  <a:gdLst>
                    <a:gd name="textAreaLeft" fmla="*/ 0 w 3935160"/>
                    <a:gd name="textAreaRight" fmla="*/ 3935520 w 393516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3935560" h="675411">
                      <a:moveTo>
                        <a:pt x="268867" y="0"/>
                      </a:moveTo>
                      <a:lnTo>
                        <a:pt x="3653273" y="0"/>
                      </a:lnTo>
                      <a:lnTo>
                        <a:pt x="3653273" y="260"/>
                      </a:lnTo>
                      <a:lnTo>
                        <a:pt x="3708436" y="6862"/>
                      </a:lnTo>
                      <a:cubicBezTo>
                        <a:pt x="3838056" y="38352"/>
                        <a:pt x="3935560" y="174511"/>
                        <a:pt x="3935560" y="337706"/>
                      </a:cubicBezTo>
                      <a:cubicBezTo>
                        <a:pt x="3935560" y="500902"/>
                        <a:pt x="3838056" y="637060"/>
                        <a:pt x="3708436" y="668550"/>
                      </a:cubicBezTo>
                      <a:lnTo>
                        <a:pt x="3653273" y="675152"/>
                      </a:lnTo>
                      <a:lnTo>
                        <a:pt x="3653273" y="675409"/>
                      </a:lnTo>
                      <a:lnTo>
                        <a:pt x="3651126" y="675409"/>
                      </a:lnTo>
                      <a:lnTo>
                        <a:pt x="3651109" y="675411"/>
                      </a:lnTo>
                      <a:lnTo>
                        <a:pt x="3651093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7" y="675409"/>
                      </a:lnTo>
                      <a:lnTo>
                        <a:pt x="268867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2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7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58" name="椭圆 32"/>
              <p:cNvSpPr/>
              <p:nvPr/>
            </p:nvSpPr>
            <p:spPr>
              <a:xfrm>
                <a:off x="2108880" y="797760"/>
                <a:ext cx="676440" cy="6750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59" name="椭圆 41"/>
              <p:cNvSpPr/>
              <p:nvPr/>
            </p:nvSpPr>
            <p:spPr>
              <a:xfrm>
                <a:off x="5345640" y="797760"/>
                <a:ext cx="676440" cy="675000"/>
              </a:xfrm>
              <a:prstGeom prst="ellipse">
                <a:avLst/>
              </a:prstGeom>
              <a:solidFill>
                <a:schemeClr val="tx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60" name="文本框 3"/>
            <p:cNvSpPr/>
            <p:nvPr/>
          </p:nvSpPr>
          <p:spPr>
            <a:xfrm>
              <a:off x="3439800" y="93564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首先找到驱动力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1" name="组合 9"/>
          <p:cNvGrpSpPr/>
          <p:nvPr/>
        </p:nvGrpSpPr>
        <p:grpSpPr>
          <a:xfrm>
            <a:off x="3034440" y="1860840"/>
            <a:ext cx="5401440" cy="1479240"/>
            <a:chOff x="3034440" y="1860840"/>
            <a:chExt cx="5401440" cy="1479240"/>
          </a:xfrm>
        </p:grpSpPr>
        <p:grpSp>
          <p:nvGrpSpPr>
            <p:cNvPr id="562" name="组合 70"/>
            <p:cNvGrpSpPr/>
            <p:nvPr/>
          </p:nvGrpSpPr>
          <p:grpSpPr>
            <a:xfrm>
              <a:off x="3034440" y="1860840"/>
              <a:ext cx="5401440" cy="1479240"/>
              <a:chOff x="3034440" y="1860840"/>
              <a:chExt cx="5401440" cy="1479240"/>
            </a:xfrm>
          </p:grpSpPr>
          <p:grpSp>
            <p:nvGrpSpPr>
              <p:cNvPr id="563" name="组合 71"/>
              <p:cNvGrpSpPr/>
              <p:nvPr/>
            </p:nvGrpSpPr>
            <p:grpSpPr>
              <a:xfrm>
                <a:off x="3034440" y="1860840"/>
                <a:ext cx="5401440" cy="1479240"/>
                <a:chOff x="3034440" y="1860840"/>
                <a:chExt cx="5401440" cy="1479240"/>
              </a:xfrm>
            </p:grpSpPr>
            <p:sp>
              <p:nvSpPr>
                <p:cNvPr id="564" name="任意多边形 73"/>
                <p:cNvSpPr/>
                <p:nvPr/>
              </p:nvSpPr>
              <p:spPr>
                <a:xfrm rot="21144000">
                  <a:off x="3062160" y="2210760"/>
                  <a:ext cx="5345280" cy="779040"/>
                </a:xfrm>
                <a:custGeom>
                  <a:avLst/>
                  <a:gdLst>
                    <a:gd name="textAreaLeft" fmla="*/ 0 w 5345280"/>
                    <a:gd name="textAreaRight" fmla="*/ 5345640 w 534528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5703579" h="779319">
                      <a:moveTo>
                        <a:pt x="5390120" y="0"/>
                      </a:moveTo>
                      <a:cubicBezTo>
                        <a:pt x="5563239" y="0"/>
                        <a:pt x="5703579" y="174456"/>
                        <a:pt x="5703579" y="389659"/>
                      </a:cubicBezTo>
                      <a:cubicBezTo>
                        <a:pt x="5703579" y="604862"/>
                        <a:pt x="5563239" y="779318"/>
                        <a:pt x="5390120" y="779318"/>
                      </a:cubicBezTo>
                      <a:lnTo>
                        <a:pt x="5390119" y="779318"/>
                      </a:lnTo>
                      <a:lnTo>
                        <a:pt x="5390119" y="779319"/>
                      </a:lnTo>
                      <a:lnTo>
                        <a:pt x="342467" y="779319"/>
                      </a:lnTo>
                      <a:lnTo>
                        <a:pt x="342467" y="775684"/>
                      </a:lnTo>
                      <a:lnTo>
                        <a:pt x="313459" y="779319"/>
                      </a:lnTo>
                      <a:cubicBezTo>
                        <a:pt x="140340" y="779319"/>
                        <a:pt x="0" y="604863"/>
                        <a:pt x="0" y="389660"/>
                      </a:cubicBezTo>
                      <a:cubicBezTo>
                        <a:pt x="0" y="174457"/>
                        <a:pt x="140340" y="1"/>
                        <a:pt x="313459" y="1"/>
                      </a:cubicBezTo>
                      <a:lnTo>
                        <a:pt x="342467" y="3636"/>
                      </a:lnTo>
                      <a:lnTo>
                        <a:pt x="342467" y="1"/>
                      </a:lnTo>
                      <a:lnTo>
                        <a:pt x="5390112" y="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65" name="任意多边形 74"/>
                <p:cNvSpPr/>
                <p:nvPr/>
              </p:nvSpPr>
              <p:spPr>
                <a:xfrm rot="21144000">
                  <a:off x="3088080" y="2262600"/>
                  <a:ext cx="5290920" cy="675000"/>
                </a:xfrm>
                <a:custGeom>
                  <a:avLst/>
                  <a:gdLst>
                    <a:gd name="textAreaLeft" fmla="*/ 0 w 5290920"/>
                    <a:gd name="textAreaRight" fmla="*/ 5291280 w 529092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5645563" h="675411">
                      <a:moveTo>
                        <a:pt x="268866" y="0"/>
                      </a:moveTo>
                      <a:lnTo>
                        <a:pt x="5361112" y="0"/>
                      </a:lnTo>
                      <a:cubicBezTo>
                        <a:pt x="5518210" y="0"/>
                        <a:pt x="5645563" y="151196"/>
                        <a:pt x="5645563" y="337705"/>
                      </a:cubicBezTo>
                      <a:cubicBezTo>
                        <a:pt x="5645563" y="524214"/>
                        <a:pt x="5518210" y="675410"/>
                        <a:pt x="5361112" y="675410"/>
                      </a:cubicBezTo>
                      <a:lnTo>
                        <a:pt x="5361104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6" y="675409"/>
                      </a:lnTo>
                      <a:lnTo>
                        <a:pt x="268866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1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6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文本框 72"/>
              <p:cNvSpPr/>
              <p:nvPr/>
            </p:nvSpPr>
            <p:spPr>
              <a:xfrm rot="21144000">
                <a:off x="4303080" y="2453400"/>
                <a:ext cx="24670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再微不足道的的成就也要大肆庆祝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椭圆 80"/>
            <p:cNvSpPr/>
            <p:nvPr/>
          </p:nvSpPr>
          <p:spPr>
            <a:xfrm rot="21144000">
              <a:off x="3112200" y="254700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8" name="椭圆 81"/>
            <p:cNvSpPr/>
            <p:nvPr/>
          </p:nvSpPr>
          <p:spPr>
            <a:xfrm rot="21144000">
              <a:off x="7673400" y="196272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69" name="组合 4"/>
          <p:cNvGrpSpPr/>
          <p:nvPr/>
        </p:nvGrpSpPr>
        <p:grpSpPr>
          <a:xfrm>
            <a:off x="3465360" y="3781080"/>
            <a:ext cx="3993120" cy="779040"/>
            <a:chOff x="3465360" y="3781080"/>
            <a:chExt cx="3993120" cy="779040"/>
          </a:xfrm>
        </p:grpSpPr>
        <p:grpSp>
          <p:nvGrpSpPr>
            <p:cNvPr id="570" name="组合 75"/>
            <p:cNvGrpSpPr/>
            <p:nvPr/>
          </p:nvGrpSpPr>
          <p:grpSpPr>
            <a:xfrm>
              <a:off x="3465360" y="3781080"/>
              <a:ext cx="3993120" cy="779040"/>
              <a:chOff x="3465360" y="3781080"/>
              <a:chExt cx="3993120" cy="779040"/>
            </a:xfrm>
          </p:grpSpPr>
          <p:grpSp>
            <p:nvGrpSpPr>
              <p:cNvPr id="571" name="组合 76"/>
              <p:cNvGrpSpPr/>
              <p:nvPr/>
            </p:nvGrpSpPr>
            <p:grpSpPr>
              <a:xfrm>
                <a:off x="3465360" y="3781080"/>
                <a:ext cx="3993120" cy="779040"/>
                <a:chOff x="3465360" y="3781080"/>
                <a:chExt cx="3993120" cy="779040"/>
              </a:xfrm>
            </p:grpSpPr>
            <p:sp>
              <p:nvSpPr>
                <p:cNvPr id="572" name="任意多边形 78"/>
                <p:cNvSpPr/>
                <p:nvPr/>
              </p:nvSpPr>
              <p:spPr>
                <a:xfrm>
                  <a:off x="3465360" y="3781080"/>
                  <a:ext cx="3993120" cy="779040"/>
                </a:xfrm>
                <a:custGeom>
                  <a:avLst/>
                  <a:gdLst>
                    <a:gd name="textAreaLeft" fmla="*/ 0 w 3993120"/>
                    <a:gd name="textAreaRight" fmla="*/ 3993480 w 3993120"/>
                    <a:gd name="textAreaTop" fmla="*/ 0 h 779040"/>
                    <a:gd name="textAreaBottom" fmla="*/ 779400 h 779040"/>
                  </a:gdLst>
                  <a:ahLst/>
                  <a:rect l="textAreaLeft" t="textAreaTop" r="textAreaRight" b="textAreaBottom"/>
                  <a:pathLst>
                    <a:path w="3993576" h="779318">
                      <a:moveTo>
                        <a:pt x="313459" y="0"/>
                      </a:moveTo>
                      <a:lnTo>
                        <a:pt x="342467" y="3635"/>
                      </a:lnTo>
                      <a:lnTo>
                        <a:pt x="342467" y="0"/>
                      </a:lnTo>
                      <a:lnTo>
                        <a:pt x="3680117" y="0"/>
                      </a:lnTo>
                      <a:lnTo>
                        <a:pt x="3680835" y="0"/>
                      </a:lnTo>
                      <a:lnTo>
                        <a:pt x="3680835" y="90"/>
                      </a:lnTo>
                      <a:lnTo>
                        <a:pt x="3743290" y="7917"/>
                      </a:lnTo>
                      <a:cubicBezTo>
                        <a:pt x="3886128" y="44251"/>
                        <a:pt x="3993576" y="201357"/>
                        <a:pt x="3993576" y="389659"/>
                      </a:cubicBezTo>
                      <a:cubicBezTo>
                        <a:pt x="3993576" y="577962"/>
                        <a:pt x="3886128" y="735067"/>
                        <a:pt x="3743290" y="771402"/>
                      </a:cubicBezTo>
                      <a:lnTo>
                        <a:pt x="3680835" y="779228"/>
                      </a:lnTo>
                      <a:lnTo>
                        <a:pt x="3680835" y="779318"/>
                      </a:lnTo>
                      <a:lnTo>
                        <a:pt x="3680117" y="779318"/>
                      </a:lnTo>
                      <a:lnTo>
                        <a:pt x="342467" y="779318"/>
                      </a:lnTo>
                      <a:lnTo>
                        <a:pt x="342467" y="775683"/>
                      </a:lnTo>
                      <a:lnTo>
                        <a:pt x="313459" y="779318"/>
                      </a:lnTo>
                      <a:cubicBezTo>
                        <a:pt x="140340" y="779318"/>
                        <a:pt x="0" y="604862"/>
                        <a:pt x="0" y="389659"/>
                      </a:cubicBezTo>
                      <a:cubicBezTo>
                        <a:pt x="0" y="174456"/>
                        <a:pt x="140340" y="0"/>
                        <a:pt x="313459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8100000" dist="63130" rotWithShape="0">
                    <a:srgbClr val="000000">
                      <a:alpha val="40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73" name="任意多边形 79"/>
                <p:cNvSpPr/>
                <p:nvPr/>
              </p:nvSpPr>
              <p:spPr>
                <a:xfrm>
                  <a:off x="3494160" y="3832920"/>
                  <a:ext cx="3935160" cy="675000"/>
                </a:xfrm>
                <a:custGeom>
                  <a:avLst/>
                  <a:gdLst>
                    <a:gd name="textAreaLeft" fmla="*/ 0 w 3935160"/>
                    <a:gd name="textAreaRight" fmla="*/ 3935520 w 3935160"/>
                    <a:gd name="textAreaTop" fmla="*/ 0 h 675000"/>
                    <a:gd name="textAreaBottom" fmla="*/ 675360 h 675000"/>
                  </a:gdLst>
                  <a:ahLst/>
                  <a:rect l="textAreaLeft" t="textAreaTop" r="textAreaRight" b="textAreaBottom"/>
                  <a:pathLst>
                    <a:path w="3935560" h="675411">
                      <a:moveTo>
                        <a:pt x="268867" y="0"/>
                      </a:moveTo>
                      <a:lnTo>
                        <a:pt x="3653273" y="0"/>
                      </a:lnTo>
                      <a:lnTo>
                        <a:pt x="3653273" y="260"/>
                      </a:lnTo>
                      <a:lnTo>
                        <a:pt x="3708436" y="6862"/>
                      </a:lnTo>
                      <a:cubicBezTo>
                        <a:pt x="3838056" y="38352"/>
                        <a:pt x="3935560" y="174511"/>
                        <a:pt x="3935560" y="337706"/>
                      </a:cubicBezTo>
                      <a:cubicBezTo>
                        <a:pt x="3935560" y="500902"/>
                        <a:pt x="3838056" y="637060"/>
                        <a:pt x="3708436" y="668550"/>
                      </a:cubicBezTo>
                      <a:lnTo>
                        <a:pt x="3653273" y="675152"/>
                      </a:lnTo>
                      <a:lnTo>
                        <a:pt x="3653273" y="675409"/>
                      </a:lnTo>
                      <a:lnTo>
                        <a:pt x="3651126" y="675409"/>
                      </a:lnTo>
                      <a:lnTo>
                        <a:pt x="3651109" y="675411"/>
                      </a:lnTo>
                      <a:lnTo>
                        <a:pt x="3651093" y="675409"/>
                      </a:lnTo>
                      <a:lnTo>
                        <a:pt x="284468" y="675409"/>
                      </a:lnTo>
                      <a:lnTo>
                        <a:pt x="284451" y="675411"/>
                      </a:lnTo>
                      <a:lnTo>
                        <a:pt x="284435" y="675409"/>
                      </a:lnTo>
                      <a:lnTo>
                        <a:pt x="268867" y="675409"/>
                      </a:lnTo>
                      <a:lnTo>
                        <a:pt x="268867" y="673546"/>
                      </a:lnTo>
                      <a:lnTo>
                        <a:pt x="227124" y="668550"/>
                      </a:lnTo>
                      <a:cubicBezTo>
                        <a:pt x="97505" y="637060"/>
                        <a:pt x="0" y="500902"/>
                        <a:pt x="0" y="337706"/>
                      </a:cubicBezTo>
                      <a:cubicBezTo>
                        <a:pt x="0" y="174511"/>
                        <a:pt x="97505" y="38352"/>
                        <a:pt x="227124" y="6862"/>
                      </a:cubicBezTo>
                      <a:lnTo>
                        <a:pt x="268867" y="186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74" name="文本框 77"/>
              <p:cNvSpPr/>
              <p:nvPr/>
            </p:nvSpPr>
            <p:spPr>
              <a:xfrm>
                <a:off x="5244120" y="3970440"/>
                <a:ext cx="4356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不是一个人的事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5" name="椭圆 82"/>
            <p:cNvSpPr/>
            <p:nvPr/>
          </p:nvSpPr>
          <p:spPr>
            <a:xfrm>
              <a:off x="3505320" y="382788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6" name="椭圆 83"/>
            <p:cNvSpPr/>
            <p:nvPr/>
          </p:nvSpPr>
          <p:spPr>
            <a:xfrm>
              <a:off x="6760800" y="3845880"/>
              <a:ext cx="676440" cy="6750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77" name="组合 12"/>
          <p:cNvGrpSpPr/>
          <p:nvPr/>
        </p:nvGrpSpPr>
        <p:grpSpPr>
          <a:xfrm>
            <a:off x="6306120" y="4639320"/>
            <a:ext cx="2075040" cy="1372680"/>
            <a:chOff x="6306120" y="4639320"/>
            <a:chExt cx="2075040" cy="1372680"/>
          </a:xfrm>
        </p:grpSpPr>
        <p:grpSp>
          <p:nvGrpSpPr>
            <p:cNvPr id="578" name="组合 55"/>
            <p:cNvGrpSpPr/>
            <p:nvPr/>
          </p:nvGrpSpPr>
          <p:grpSpPr>
            <a:xfrm>
              <a:off x="6306120" y="4639320"/>
              <a:ext cx="2075040" cy="1372680"/>
              <a:chOff x="6306120" y="4639320"/>
              <a:chExt cx="2075040" cy="1372680"/>
            </a:xfrm>
          </p:grpSpPr>
          <p:sp>
            <p:nvSpPr>
              <p:cNvPr id="579" name="任意多边形 56"/>
              <p:cNvSpPr/>
              <p:nvPr/>
            </p:nvSpPr>
            <p:spPr>
              <a:xfrm rot="20288400">
                <a:off x="6364800" y="4978440"/>
                <a:ext cx="1957320" cy="694080"/>
              </a:xfrm>
              <a:custGeom>
                <a:avLst/>
                <a:gdLst>
                  <a:gd name="textAreaLeft" fmla="*/ 0 w 1957320"/>
                  <a:gd name="textAreaRight" fmla="*/ 1957680 w 1957320"/>
                  <a:gd name="textAreaTop" fmla="*/ 0 h 694080"/>
                  <a:gd name="textAreaBottom" fmla="*/ 694440 h 69408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0" name="任意多边形 57"/>
              <p:cNvSpPr/>
              <p:nvPr/>
            </p:nvSpPr>
            <p:spPr>
              <a:xfrm rot="20288400">
                <a:off x="6385680" y="5024880"/>
                <a:ext cx="1915560" cy="601560"/>
              </a:xfrm>
              <a:custGeom>
                <a:avLst/>
                <a:gdLst>
                  <a:gd name="textAreaLeft" fmla="*/ 0 w 1915560"/>
                  <a:gd name="textAreaRight" fmla="*/ 1915920 w 1915560"/>
                  <a:gd name="textAreaTop" fmla="*/ 0 h 601560"/>
                  <a:gd name="textAreaBottom" fmla="*/ 601920 h 60156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81" name="椭圆 95"/>
            <p:cNvSpPr/>
            <p:nvPr/>
          </p:nvSpPr>
          <p:spPr>
            <a:xfrm rot="20288400">
              <a:off x="7642080" y="4793040"/>
              <a:ext cx="600840" cy="60156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582" name="组合 94"/>
          <p:cNvGrpSpPr/>
          <p:nvPr/>
        </p:nvGrpSpPr>
        <p:grpSpPr>
          <a:xfrm>
            <a:off x="1822680" y="2581920"/>
            <a:ext cx="1115640" cy="1115640"/>
            <a:chOff x="1822680" y="2581920"/>
            <a:chExt cx="1115640" cy="1115640"/>
          </a:xfrm>
        </p:grpSpPr>
        <p:grpSp>
          <p:nvGrpSpPr>
            <p:cNvPr id="583" name="组合 96"/>
            <p:cNvGrpSpPr/>
            <p:nvPr/>
          </p:nvGrpSpPr>
          <p:grpSpPr>
            <a:xfrm>
              <a:off x="1822680" y="2581920"/>
              <a:ext cx="1115640" cy="1115640"/>
              <a:chOff x="1822680" y="2581920"/>
              <a:chExt cx="1115640" cy="1115640"/>
            </a:xfrm>
          </p:grpSpPr>
          <p:sp>
            <p:nvSpPr>
              <p:cNvPr id="584" name="椭圆 98"/>
              <p:cNvSpPr/>
              <p:nvPr/>
            </p:nvSpPr>
            <p:spPr>
              <a:xfrm>
                <a:off x="1822680" y="25819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85" name="椭圆 99"/>
              <p:cNvSpPr/>
              <p:nvPr/>
            </p:nvSpPr>
            <p:spPr>
              <a:xfrm>
                <a:off x="1840680" y="25999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86" name="文本框 97"/>
            <p:cNvSpPr/>
            <p:nvPr/>
          </p:nvSpPr>
          <p:spPr>
            <a:xfrm>
              <a:off x="1956240" y="2909160"/>
              <a:ext cx="8485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Wh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组合 86"/>
          <p:cNvGrpSpPr/>
          <p:nvPr/>
        </p:nvGrpSpPr>
        <p:grpSpPr>
          <a:xfrm>
            <a:off x="1611360" y="3881880"/>
            <a:ext cx="1115640" cy="1115640"/>
            <a:chOff x="1611360" y="3881880"/>
            <a:chExt cx="1115640" cy="1115640"/>
          </a:xfrm>
        </p:grpSpPr>
        <p:grpSp>
          <p:nvGrpSpPr>
            <p:cNvPr id="588" name="组合 87"/>
            <p:cNvGrpSpPr/>
            <p:nvPr/>
          </p:nvGrpSpPr>
          <p:grpSpPr>
            <a:xfrm>
              <a:off x="1611360" y="3881880"/>
              <a:ext cx="1115640" cy="1115640"/>
              <a:chOff x="1611360" y="3881880"/>
              <a:chExt cx="1115640" cy="1115640"/>
            </a:xfrm>
          </p:grpSpPr>
          <p:sp>
            <p:nvSpPr>
              <p:cNvPr id="589" name="椭圆 89"/>
              <p:cNvSpPr/>
              <p:nvPr/>
            </p:nvSpPr>
            <p:spPr>
              <a:xfrm>
                <a:off x="1611360" y="38818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0" name="椭圆 90"/>
              <p:cNvSpPr/>
              <p:nvPr/>
            </p:nvSpPr>
            <p:spPr>
              <a:xfrm>
                <a:off x="1629360" y="38998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1" name="文本框 88"/>
            <p:cNvSpPr/>
            <p:nvPr/>
          </p:nvSpPr>
          <p:spPr>
            <a:xfrm>
              <a:off x="1796400" y="4209120"/>
              <a:ext cx="744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Gif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组合 100"/>
          <p:cNvGrpSpPr/>
          <p:nvPr/>
        </p:nvGrpSpPr>
        <p:grpSpPr>
          <a:xfrm>
            <a:off x="699480" y="4901400"/>
            <a:ext cx="1115640" cy="1115640"/>
            <a:chOff x="699480" y="4901400"/>
            <a:chExt cx="1115640" cy="1115640"/>
          </a:xfrm>
        </p:grpSpPr>
        <p:grpSp>
          <p:nvGrpSpPr>
            <p:cNvPr id="593" name="组合 101"/>
            <p:cNvGrpSpPr/>
            <p:nvPr/>
          </p:nvGrpSpPr>
          <p:grpSpPr>
            <a:xfrm>
              <a:off x="699480" y="4901400"/>
              <a:ext cx="1115640" cy="1115640"/>
              <a:chOff x="699480" y="4901400"/>
              <a:chExt cx="1115640" cy="1115640"/>
            </a:xfrm>
          </p:grpSpPr>
          <p:sp>
            <p:nvSpPr>
              <p:cNvPr id="594" name="椭圆 103"/>
              <p:cNvSpPr/>
              <p:nvPr/>
            </p:nvSpPr>
            <p:spPr>
              <a:xfrm>
                <a:off x="699480" y="490140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95" name="椭圆 104"/>
              <p:cNvSpPr/>
              <p:nvPr/>
            </p:nvSpPr>
            <p:spPr>
              <a:xfrm>
                <a:off x="717480" y="491940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96" name="文本框 102"/>
            <p:cNvSpPr/>
            <p:nvPr/>
          </p:nvSpPr>
          <p:spPr>
            <a:xfrm>
              <a:off x="757440" y="5228640"/>
              <a:ext cx="999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Tea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组合 130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598" name="椭圆 131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9" name="椭圆 132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600" name="组合 123"/>
          <p:cNvGrpSpPr/>
          <p:nvPr/>
        </p:nvGrpSpPr>
        <p:grpSpPr>
          <a:xfrm>
            <a:off x="4712400" y="498960"/>
            <a:ext cx="2987640" cy="2987640"/>
            <a:chOff x="4712400" y="498960"/>
            <a:chExt cx="2987640" cy="2987640"/>
          </a:xfrm>
        </p:grpSpPr>
        <p:sp>
          <p:nvSpPr>
            <p:cNvPr id="601" name="椭圆 125"/>
            <p:cNvSpPr/>
            <p:nvPr/>
          </p:nvSpPr>
          <p:spPr>
            <a:xfrm>
              <a:off x="4712400" y="498960"/>
              <a:ext cx="2987640" cy="2987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2" name="椭圆 126"/>
            <p:cNvSpPr/>
            <p:nvPr/>
          </p:nvSpPr>
          <p:spPr>
            <a:xfrm>
              <a:off x="4766400" y="552960"/>
              <a:ext cx="2879640" cy="2879640"/>
            </a:xfrm>
            <a:prstGeom prst="ellipse">
              <a:avLst/>
            </a:pr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603" name="文本框 4"/>
          <p:cNvSpPr/>
          <p:nvPr/>
        </p:nvSpPr>
        <p:spPr>
          <a:xfrm>
            <a:off x="318960" y="1782360"/>
            <a:ext cx="37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组合 44"/>
          <p:cNvGrpSpPr/>
          <p:nvPr/>
        </p:nvGrpSpPr>
        <p:grpSpPr>
          <a:xfrm>
            <a:off x="1312920" y="1603440"/>
            <a:ext cx="3993120" cy="779040"/>
            <a:chOff x="1312920" y="1603440"/>
            <a:chExt cx="3993120" cy="779040"/>
          </a:xfrm>
        </p:grpSpPr>
        <p:grpSp>
          <p:nvGrpSpPr>
            <p:cNvPr id="605" name="组合 41"/>
            <p:cNvGrpSpPr/>
            <p:nvPr/>
          </p:nvGrpSpPr>
          <p:grpSpPr>
            <a:xfrm>
              <a:off x="1312920" y="1603440"/>
              <a:ext cx="3993120" cy="779040"/>
              <a:chOff x="1312920" y="1603440"/>
              <a:chExt cx="3993120" cy="779040"/>
            </a:xfrm>
          </p:grpSpPr>
          <p:sp>
            <p:nvSpPr>
              <p:cNvPr id="606" name="任意多边形 42"/>
              <p:cNvSpPr/>
              <p:nvPr/>
            </p:nvSpPr>
            <p:spPr>
              <a:xfrm>
                <a:off x="1312920" y="160344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7" name="任意多边形 43"/>
              <p:cNvSpPr/>
              <p:nvPr/>
            </p:nvSpPr>
            <p:spPr>
              <a:xfrm>
                <a:off x="1342080" y="165528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08" name="文本框 5"/>
            <p:cNvSpPr/>
            <p:nvPr/>
          </p:nvSpPr>
          <p:spPr>
            <a:xfrm>
              <a:off x="2052720" y="1793160"/>
              <a:ext cx="25138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en-US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S.M.A.R.T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法则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理清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组合 45"/>
          <p:cNvGrpSpPr/>
          <p:nvPr/>
        </p:nvGrpSpPr>
        <p:grpSpPr>
          <a:xfrm>
            <a:off x="1681560" y="2718360"/>
            <a:ext cx="2707920" cy="779040"/>
            <a:chOff x="1681560" y="2718360"/>
            <a:chExt cx="2707920" cy="779040"/>
          </a:xfrm>
        </p:grpSpPr>
        <p:grpSp>
          <p:nvGrpSpPr>
            <p:cNvPr id="610" name="组合 35"/>
            <p:cNvGrpSpPr/>
            <p:nvPr/>
          </p:nvGrpSpPr>
          <p:grpSpPr>
            <a:xfrm>
              <a:off x="1681560" y="2718360"/>
              <a:ext cx="2707920" cy="779040"/>
              <a:chOff x="1681560" y="2718360"/>
              <a:chExt cx="2707920" cy="779040"/>
            </a:xfrm>
          </p:grpSpPr>
          <p:sp>
            <p:nvSpPr>
              <p:cNvPr id="611" name="任意多边形 36"/>
              <p:cNvSpPr/>
              <p:nvPr/>
            </p:nvSpPr>
            <p:spPr>
              <a:xfrm>
                <a:off x="1681560" y="271836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2" name="任意多边形 37"/>
              <p:cNvSpPr/>
              <p:nvPr/>
            </p:nvSpPr>
            <p:spPr>
              <a:xfrm>
                <a:off x="1710720" y="277056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3" name="文本框 6"/>
            <p:cNvSpPr/>
            <p:nvPr/>
          </p:nvSpPr>
          <p:spPr>
            <a:xfrm>
              <a:off x="2259360" y="2908080"/>
              <a:ext cx="1552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思维导图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梳理计划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4" name="组合 46"/>
          <p:cNvGrpSpPr/>
          <p:nvPr/>
        </p:nvGrpSpPr>
        <p:grpSpPr>
          <a:xfrm>
            <a:off x="1511280" y="3833640"/>
            <a:ext cx="2707920" cy="779040"/>
            <a:chOff x="1511280" y="3833640"/>
            <a:chExt cx="2707920" cy="779040"/>
          </a:xfrm>
        </p:grpSpPr>
        <p:grpSp>
          <p:nvGrpSpPr>
            <p:cNvPr id="615" name="组合 29"/>
            <p:cNvGrpSpPr/>
            <p:nvPr/>
          </p:nvGrpSpPr>
          <p:grpSpPr>
            <a:xfrm>
              <a:off x="1511280" y="3833640"/>
              <a:ext cx="2707920" cy="779040"/>
              <a:chOff x="1511280" y="3833640"/>
              <a:chExt cx="2707920" cy="779040"/>
            </a:xfrm>
          </p:grpSpPr>
          <p:sp>
            <p:nvSpPr>
              <p:cNvPr id="616" name="任意多边形 30"/>
              <p:cNvSpPr/>
              <p:nvPr/>
            </p:nvSpPr>
            <p:spPr>
              <a:xfrm>
                <a:off x="1511280" y="38336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17" name="任意多边形 31"/>
              <p:cNvSpPr/>
              <p:nvPr/>
            </p:nvSpPr>
            <p:spPr>
              <a:xfrm>
                <a:off x="1540440" y="38854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18" name="文本框 7"/>
            <p:cNvSpPr/>
            <p:nvPr/>
          </p:nvSpPr>
          <p:spPr>
            <a:xfrm>
              <a:off x="2165040" y="4023360"/>
              <a:ext cx="1400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甘特图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掌控进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9" name="组合 25"/>
          <p:cNvGrpSpPr/>
          <p:nvPr/>
        </p:nvGrpSpPr>
        <p:grpSpPr>
          <a:xfrm>
            <a:off x="5540040" y="891360"/>
            <a:ext cx="1722960" cy="745560"/>
            <a:chOff x="5540040" y="891360"/>
            <a:chExt cx="1722960" cy="745560"/>
          </a:xfrm>
        </p:grpSpPr>
        <p:sp>
          <p:nvSpPr>
            <p:cNvPr id="620" name="任意多边形 20"/>
            <p:cNvSpPr/>
            <p:nvPr/>
          </p:nvSpPr>
          <p:spPr>
            <a:xfrm rot="21013200">
              <a:off x="5567400" y="102960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1" name="文本框 9"/>
            <p:cNvSpPr/>
            <p:nvPr/>
          </p:nvSpPr>
          <p:spPr>
            <a:xfrm rot="21013200">
              <a:off x="5858280" y="1062360"/>
              <a:ext cx="1084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Spe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" name="组合 27"/>
          <p:cNvGrpSpPr/>
          <p:nvPr/>
        </p:nvGrpSpPr>
        <p:grpSpPr>
          <a:xfrm>
            <a:off x="5412240" y="2014560"/>
            <a:ext cx="1728000" cy="1002240"/>
            <a:chOff x="5412240" y="2014560"/>
            <a:chExt cx="1728000" cy="1002240"/>
          </a:xfrm>
        </p:grpSpPr>
        <p:sp>
          <p:nvSpPr>
            <p:cNvPr id="623" name="任意多边形 23"/>
            <p:cNvSpPr/>
            <p:nvPr/>
          </p:nvSpPr>
          <p:spPr>
            <a:xfrm rot="1179600">
              <a:off x="5442120" y="228132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4" name="文本框 12"/>
            <p:cNvSpPr/>
            <p:nvPr/>
          </p:nvSpPr>
          <p:spPr>
            <a:xfrm rot="1179600">
              <a:off x="5672520" y="2315520"/>
              <a:ext cx="1208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eleva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5" name="组合 21"/>
          <p:cNvGrpSpPr/>
          <p:nvPr/>
        </p:nvGrpSpPr>
        <p:grpSpPr>
          <a:xfrm>
            <a:off x="5683680" y="1433160"/>
            <a:ext cx="1667520" cy="468720"/>
            <a:chOff x="5683680" y="1433160"/>
            <a:chExt cx="1667520" cy="468720"/>
          </a:xfrm>
        </p:grpSpPr>
        <p:sp>
          <p:nvSpPr>
            <p:cNvPr id="626" name="任意多边形 19"/>
            <p:cNvSpPr/>
            <p:nvPr/>
          </p:nvSpPr>
          <p:spPr>
            <a:xfrm>
              <a:off x="5683680" y="1433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27" name="文本框 10"/>
            <p:cNvSpPr/>
            <p:nvPr/>
          </p:nvSpPr>
          <p:spPr>
            <a:xfrm>
              <a:off x="5724360" y="1467720"/>
              <a:ext cx="15861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Measur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组合 26"/>
          <p:cNvGrpSpPr/>
          <p:nvPr/>
        </p:nvGrpSpPr>
        <p:grpSpPr>
          <a:xfrm>
            <a:off x="5249160" y="1784160"/>
            <a:ext cx="1667520" cy="468720"/>
            <a:chOff x="5249160" y="1784160"/>
            <a:chExt cx="1667520" cy="468720"/>
          </a:xfrm>
        </p:grpSpPr>
        <p:sp>
          <p:nvSpPr>
            <p:cNvPr id="629" name="任意多边形 22"/>
            <p:cNvSpPr/>
            <p:nvPr/>
          </p:nvSpPr>
          <p:spPr>
            <a:xfrm>
              <a:off x="5249160" y="1784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0" name="文本框 11"/>
            <p:cNvSpPr/>
            <p:nvPr/>
          </p:nvSpPr>
          <p:spPr>
            <a:xfrm>
              <a:off x="5382000" y="1818360"/>
              <a:ext cx="1401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ttain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1" name="组合 28"/>
          <p:cNvGrpSpPr/>
          <p:nvPr/>
        </p:nvGrpSpPr>
        <p:grpSpPr>
          <a:xfrm>
            <a:off x="5269680" y="2621880"/>
            <a:ext cx="1711440" cy="665640"/>
            <a:chOff x="5269680" y="2621880"/>
            <a:chExt cx="1711440" cy="665640"/>
          </a:xfrm>
        </p:grpSpPr>
        <p:sp>
          <p:nvSpPr>
            <p:cNvPr id="632" name="任意多边形 24"/>
            <p:cNvSpPr/>
            <p:nvPr/>
          </p:nvSpPr>
          <p:spPr>
            <a:xfrm rot="414000">
              <a:off x="5291640" y="2720160"/>
              <a:ext cx="1667520" cy="468720"/>
            </a:xfrm>
            <a:custGeom>
              <a:avLst/>
              <a:gdLst>
                <a:gd name="textAreaLeft" fmla="*/ 0 w 1667520"/>
                <a:gd name="textAreaRight" fmla="*/ 1667880 w 166752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3" name="文本框 13"/>
            <p:cNvSpPr/>
            <p:nvPr/>
          </p:nvSpPr>
          <p:spPr>
            <a:xfrm rot="414000">
              <a:off x="5350320" y="2755800"/>
              <a:ext cx="15739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me-bas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4" name="组合 17"/>
          <p:cNvGrpSpPr/>
          <p:nvPr/>
        </p:nvGrpSpPr>
        <p:grpSpPr>
          <a:xfrm>
            <a:off x="2660040" y="4029120"/>
            <a:ext cx="4395960" cy="2259000"/>
            <a:chOff x="2660040" y="4029120"/>
            <a:chExt cx="4395960" cy="2259000"/>
          </a:xfrm>
        </p:grpSpPr>
        <p:sp>
          <p:nvSpPr>
            <p:cNvPr id="635" name="任意多边形 84"/>
            <p:cNvSpPr/>
            <p:nvPr/>
          </p:nvSpPr>
          <p:spPr>
            <a:xfrm rot="16200000">
              <a:off x="3194640" y="3872520"/>
              <a:ext cx="1512720" cy="2582280"/>
            </a:xfrm>
            <a:custGeom>
              <a:avLst/>
              <a:gdLst>
                <a:gd name="textAreaLeft" fmla="*/ 0 w 1512720"/>
                <a:gd name="textAreaRight" fmla="*/ 1513080 w 1512720"/>
                <a:gd name="textAreaTop" fmla="*/ 0 h 2582280"/>
                <a:gd name="textAreaBottom" fmla="*/ 2582640 h 2582280"/>
              </a:gdLst>
              <a:ahLst/>
              <a:rect l="textAreaLeft" t="textAreaTop" r="textAreaRight" b="textAreaBottom"/>
              <a:pathLst>
                <a:path w="1815530" h="2582627">
                  <a:moveTo>
                    <a:pt x="914568" y="19356"/>
                  </a:moveTo>
                  <a:lnTo>
                    <a:pt x="875894" y="90673"/>
                  </a:lnTo>
                  <a:lnTo>
                    <a:pt x="907765" y="0"/>
                  </a:lnTo>
                  <a:close/>
                  <a:moveTo>
                    <a:pt x="1815530" y="2582627"/>
                  </a:moveTo>
                  <a:lnTo>
                    <a:pt x="0" y="2582627"/>
                  </a:lnTo>
                  <a:lnTo>
                    <a:pt x="699843" y="591547"/>
                  </a:lnTo>
                  <a:lnTo>
                    <a:pt x="683344" y="682029"/>
                  </a:lnTo>
                  <a:cubicBezTo>
                    <a:pt x="581998" y="1476408"/>
                    <a:pt x="1050726" y="2219321"/>
                    <a:pt x="1785804" y="2540888"/>
                  </a:cubicBezTo>
                  <a:lnTo>
                    <a:pt x="1803194" y="254753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6" name="矩形 15"/>
            <p:cNvSpPr/>
            <p:nvPr/>
          </p:nvSpPr>
          <p:spPr>
            <a:xfrm>
              <a:off x="5217120" y="4398480"/>
              <a:ext cx="1511640" cy="1511640"/>
            </a:xfrm>
            <a:prstGeom prst="rect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7" name="组合 85"/>
            <p:cNvGrpSpPr/>
            <p:nvPr/>
          </p:nvGrpSpPr>
          <p:grpSpPr>
            <a:xfrm>
              <a:off x="4812480" y="4029120"/>
              <a:ext cx="755640" cy="755640"/>
              <a:chOff x="4812480" y="4029120"/>
              <a:chExt cx="755640" cy="755640"/>
            </a:xfrm>
          </p:grpSpPr>
          <p:sp>
            <p:nvSpPr>
              <p:cNvPr id="638" name="椭圆 86"/>
              <p:cNvSpPr/>
              <p:nvPr/>
            </p:nvSpPr>
            <p:spPr>
              <a:xfrm>
                <a:off x="481248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39" name="椭圆 87"/>
              <p:cNvSpPr/>
              <p:nvPr/>
            </p:nvSpPr>
            <p:spPr>
              <a:xfrm>
                <a:off x="483048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0" name="文本框 88"/>
              <p:cNvSpPr/>
              <p:nvPr/>
            </p:nvSpPr>
            <p:spPr>
              <a:xfrm>
                <a:off x="494712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心灵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组合 89"/>
            <p:cNvGrpSpPr/>
            <p:nvPr/>
          </p:nvGrpSpPr>
          <p:grpSpPr>
            <a:xfrm>
              <a:off x="4812480" y="4779000"/>
              <a:ext cx="755640" cy="755640"/>
              <a:chOff x="4812480" y="4779000"/>
              <a:chExt cx="755640" cy="755640"/>
            </a:xfrm>
          </p:grpSpPr>
          <p:sp>
            <p:nvSpPr>
              <p:cNvPr id="642" name="椭圆 90"/>
              <p:cNvSpPr/>
              <p:nvPr/>
            </p:nvSpPr>
            <p:spPr>
              <a:xfrm>
                <a:off x="4812480" y="477900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3" name="椭圆 91"/>
              <p:cNvSpPr/>
              <p:nvPr/>
            </p:nvSpPr>
            <p:spPr>
              <a:xfrm>
                <a:off x="4830480" y="479700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4" name="文本框 92"/>
              <p:cNvSpPr/>
              <p:nvPr/>
            </p:nvSpPr>
            <p:spPr>
              <a:xfrm>
                <a:off x="4947120" y="495684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健康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5" name="组合 93"/>
            <p:cNvGrpSpPr/>
            <p:nvPr/>
          </p:nvGrpSpPr>
          <p:grpSpPr>
            <a:xfrm>
              <a:off x="4812480" y="5532480"/>
              <a:ext cx="755640" cy="755640"/>
              <a:chOff x="4812480" y="5532480"/>
              <a:chExt cx="755640" cy="755640"/>
            </a:xfrm>
          </p:grpSpPr>
          <p:sp>
            <p:nvSpPr>
              <p:cNvPr id="646" name="椭圆 94"/>
              <p:cNvSpPr/>
              <p:nvPr/>
            </p:nvSpPr>
            <p:spPr>
              <a:xfrm>
                <a:off x="481248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7" name="椭圆 95"/>
              <p:cNvSpPr/>
              <p:nvPr/>
            </p:nvSpPr>
            <p:spPr>
              <a:xfrm>
                <a:off x="483048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48" name="文本框 96"/>
              <p:cNvSpPr/>
              <p:nvPr/>
            </p:nvSpPr>
            <p:spPr>
              <a:xfrm>
                <a:off x="494712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心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9" name="组合 97"/>
            <p:cNvGrpSpPr/>
            <p:nvPr/>
          </p:nvGrpSpPr>
          <p:grpSpPr>
            <a:xfrm>
              <a:off x="5556600" y="5532480"/>
              <a:ext cx="755640" cy="755640"/>
              <a:chOff x="5556600" y="5532480"/>
              <a:chExt cx="755640" cy="755640"/>
            </a:xfrm>
          </p:grpSpPr>
          <p:sp>
            <p:nvSpPr>
              <p:cNvPr id="650" name="椭圆 98"/>
              <p:cNvSpPr/>
              <p:nvPr/>
            </p:nvSpPr>
            <p:spPr>
              <a:xfrm>
                <a:off x="555660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1" name="椭圆 99"/>
              <p:cNvSpPr/>
              <p:nvPr/>
            </p:nvSpPr>
            <p:spPr>
              <a:xfrm>
                <a:off x="557460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2" name="文本框 100"/>
              <p:cNvSpPr/>
              <p:nvPr/>
            </p:nvSpPr>
            <p:spPr>
              <a:xfrm>
                <a:off x="569124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财务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组合 101"/>
            <p:cNvGrpSpPr/>
            <p:nvPr/>
          </p:nvGrpSpPr>
          <p:grpSpPr>
            <a:xfrm>
              <a:off x="6300360" y="5532480"/>
              <a:ext cx="755640" cy="755640"/>
              <a:chOff x="6300360" y="5532480"/>
              <a:chExt cx="755640" cy="755640"/>
            </a:xfrm>
          </p:grpSpPr>
          <p:sp>
            <p:nvSpPr>
              <p:cNvPr id="654" name="椭圆 102"/>
              <p:cNvSpPr/>
              <p:nvPr/>
            </p:nvSpPr>
            <p:spPr>
              <a:xfrm>
                <a:off x="6300360" y="553248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5" name="椭圆 103"/>
              <p:cNvSpPr/>
              <p:nvPr/>
            </p:nvSpPr>
            <p:spPr>
              <a:xfrm>
                <a:off x="6318360" y="555048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6" name="文本框 104"/>
              <p:cNvSpPr/>
              <p:nvPr/>
            </p:nvSpPr>
            <p:spPr>
              <a:xfrm>
                <a:off x="6435000" y="571032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家庭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7" name="组合 105"/>
            <p:cNvGrpSpPr/>
            <p:nvPr/>
          </p:nvGrpSpPr>
          <p:grpSpPr>
            <a:xfrm>
              <a:off x="6300360" y="4773960"/>
              <a:ext cx="755640" cy="755640"/>
              <a:chOff x="6300360" y="4773960"/>
              <a:chExt cx="755640" cy="755640"/>
            </a:xfrm>
          </p:grpSpPr>
          <p:sp>
            <p:nvSpPr>
              <p:cNvPr id="658" name="椭圆 106"/>
              <p:cNvSpPr/>
              <p:nvPr/>
            </p:nvSpPr>
            <p:spPr>
              <a:xfrm>
                <a:off x="6300360" y="477396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59" name="椭圆 107"/>
              <p:cNvSpPr/>
              <p:nvPr/>
            </p:nvSpPr>
            <p:spPr>
              <a:xfrm>
                <a:off x="6318360" y="479196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0" name="文本框 108"/>
              <p:cNvSpPr/>
              <p:nvPr/>
            </p:nvSpPr>
            <p:spPr>
              <a:xfrm>
                <a:off x="6435000" y="495180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人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1" name="组合 109"/>
            <p:cNvGrpSpPr/>
            <p:nvPr/>
          </p:nvGrpSpPr>
          <p:grpSpPr>
            <a:xfrm>
              <a:off x="6300360" y="4029120"/>
              <a:ext cx="755640" cy="755640"/>
              <a:chOff x="6300360" y="4029120"/>
              <a:chExt cx="755640" cy="755640"/>
            </a:xfrm>
          </p:grpSpPr>
          <p:sp>
            <p:nvSpPr>
              <p:cNvPr id="662" name="椭圆 110"/>
              <p:cNvSpPr/>
              <p:nvPr/>
            </p:nvSpPr>
            <p:spPr>
              <a:xfrm>
                <a:off x="630036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3" name="椭圆 111"/>
              <p:cNvSpPr/>
              <p:nvPr/>
            </p:nvSpPr>
            <p:spPr>
              <a:xfrm>
                <a:off x="631836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4" name="文本框 112"/>
              <p:cNvSpPr/>
              <p:nvPr/>
            </p:nvSpPr>
            <p:spPr>
              <a:xfrm>
                <a:off x="643500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梦想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5" name="组合 113"/>
            <p:cNvGrpSpPr/>
            <p:nvPr/>
          </p:nvGrpSpPr>
          <p:grpSpPr>
            <a:xfrm>
              <a:off x="5556600" y="4029120"/>
              <a:ext cx="755640" cy="755640"/>
              <a:chOff x="5556600" y="4029120"/>
              <a:chExt cx="755640" cy="755640"/>
            </a:xfrm>
          </p:grpSpPr>
          <p:sp>
            <p:nvSpPr>
              <p:cNvPr id="666" name="椭圆 114"/>
              <p:cNvSpPr/>
              <p:nvPr/>
            </p:nvSpPr>
            <p:spPr>
              <a:xfrm>
                <a:off x="5556600" y="4029120"/>
                <a:ext cx="755640" cy="75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7" name="椭圆 115"/>
              <p:cNvSpPr/>
              <p:nvPr/>
            </p:nvSpPr>
            <p:spPr>
              <a:xfrm>
                <a:off x="5574600" y="4047120"/>
                <a:ext cx="719640" cy="719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8" name="文本框 116"/>
              <p:cNvSpPr/>
              <p:nvPr/>
            </p:nvSpPr>
            <p:spPr>
              <a:xfrm>
                <a:off x="5691240" y="4206960"/>
                <a:ext cx="48600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事业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9" name="组合 47"/>
          <p:cNvGrpSpPr/>
          <p:nvPr/>
        </p:nvGrpSpPr>
        <p:grpSpPr>
          <a:xfrm>
            <a:off x="946080" y="4948560"/>
            <a:ext cx="2707920" cy="779040"/>
            <a:chOff x="946080" y="4948560"/>
            <a:chExt cx="2707920" cy="779040"/>
          </a:xfrm>
        </p:grpSpPr>
        <p:grpSp>
          <p:nvGrpSpPr>
            <p:cNvPr id="670" name="组合 32"/>
            <p:cNvGrpSpPr/>
            <p:nvPr/>
          </p:nvGrpSpPr>
          <p:grpSpPr>
            <a:xfrm>
              <a:off x="946080" y="4948560"/>
              <a:ext cx="2707920" cy="779040"/>
              <a:chOff x="946080" y="4948560"/>
              <a:chExt cx="2707920" cy="779040"/>
            </a:xfrm>
          </p:grpSpPr>
          <p:sp>
            <p:nvSpPr>
              <p:cNvPr id="671" name="任意多边形 33"/>
              <p:cNvSpPr/>
              <p:nvPr/>
            </p:nvSpPr>
            <p:spPr>
              <a:xfrm>
                <a:off x="946080" y="494856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72" name="任意多边形 34"/>
              <p:cNvSpPr/>
              <p:nvPr/>
            </p:nvSpPr>
            <p:spPr>
              <a:xfrm>
                <a:off x="975240" y="500076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673" name="文本框 8"/>
            <p:cNvSpPr/>
            <p:nvPr/>
          </p:nvSpPr>
          <p:spPr>
            <a:xfrm>
              <a:off x="1599840" y="5138280"/>
              <a:ext cx="14000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用</a:t>
              </a: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九宫格</a:t>
              </a: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平衡人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组合 14"/>
          <p:cNvGrpSpPr/>
          <p:nvPr/>
        </p:nvGrpSpPr>
        <p:grpSpPr>
          <a:xfrm>
            <a:off x="3158280" y="5117760"/>
            <a:ext cx="2827080" cy="468720"/>
            <a:chOff x="3158280" y="5117760"/>
            <a:chExt cx="2827080" cy="468720"/>
          </a:xfrm>
        </p:grpSpPr>
        <p:sp>
          <p:nvSpPr>
            <p:cNvPr id="675" name="任意多边形 12"/>
            <p:cNvSpPr/>
            <p:nvPr/>
          </p:nvSpPr>
          <p:spPr>
            <a:xfrm>
              <a:off x="3158280" y="5117760"/>
              <a:ext cx="2827080" cy="468720"/>
            </a:xfrm>
            <a:custGeom>
              <a:avLst/>
              <a:gdLst>
                <a:gd name="textAreaLeft" fmla="*/ 0 w 2827080"/>
                <a:gd name="textAreaRight" fmla="*/ 2827440 w 282708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760032" h="675411">
                  <a:moveTo>
                    <a:pt x="268866" y="0"/>
                  </a:moveTo>
                  <a:lnTo>
                    <a:pt x="1449135" y="0"/>
                  </a:lnTo>
                  <a:lnTo>
                    <a:pt x="1449135" y="3165"/>
                  </a:lnTo>
                  <a:lnTo>
                    <a:pt x="1475581" y="0"/>
                  </a:lnTo>
                  <a:cubicBezTo>
                    <a:pt x="1632679" y="0"/>
                    <a:pt x="1760032" y="151196"/>
                    <a:pt x="1760032" y="337705"/>
                  </a:cubicBezTo>
                  <a:cubicBezTo>
                    <a:pt x="1760032" y="524214"/>
                    <a:pt x="1632679" y="675410"/>
                    <a:pt x="1475581" y="675410"/>
                  </a:cubicBezTo>
                  <a:lnTo>
                    <a:pt x="1449135" y="672245"/>
                  </a:lnTo>
                  <a:lnTo>
                    <a:pt x="1449135" y="675409"/>
                  </a:lnTo>
                  <a:lnTo>
                    <a:pt x="284468" y="675409"/>
                  </a:lnTo>
                  <a:lnTo>
                    <a:pt x="284451" y="675411"/>
                  </a:lnTo>
                  <a:lnTo>
                    <a:pt x="284434" y="675409"/>
                  </a:lnTo>
                  <a:lnTo>
                    <a:pt x="268866" y="675409"/>
                  </a:lnTo>
                  <a:lnTo>
                    <a:pt x="268866" y="673546"/>
                  </a:lnTo>
                  <a:lnTo>
                    <a:pt x="227124" y="668550"/>
                  </a:lnTo>
                  <a:cubicBezTo>
                    <a:pt x="97505" y="637060"/>
                    <a:pt x="0" y="500902"/>
                    <a:pt x="0" y="337706"/>
                  </a:cubicBezTo>
                  <a:cubicBezTo>
                    <a:pt x="0" y="174511"/>
                    <a:pt x="97505" y="38352"/>
                    <a:pt x="227124" y="6862"/>
                  </a:cubicBezTo>
                  <a:lnTo>
                    <a:pt x="268866" y="1867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6" name="文本框 13"/>
            <p:cNvSpPr/>
            <p:nvPr/>
          </p:nvSpPr>
          <p:spPr>
            <a:xfrm>
              <a:off x="3363480" y="5152320"/>
              <a:ext cx="2416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 design by Ac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7" name="组合 11"/>
          <p:cNvGrpSpPr/>
          <p:nvPr/>
        </p:nvGrpSpPr>
        <p:grpSpPr>
          <a:xfrm>
            <a:off x="3078000" y="1935000"/>
            <a:ext cx="2987640" cy="2987640"/>
            <a:chOff x="3078000" y="1935000"/>
            <a:chExt cx="2987640" cy="2987640"/>
          </a:xfrm>
        </p:grpSpPr>
        <p:grpSp>
          <p:nvGrpSpPr>
            <p:cNvPr id="678" name="组合 15"/>
            <p:cNvGrpSpPr/>
            <p:nvPr/>
          </p:nvGrpSpPr>
          <p:grpSpPr>
            <a:xfrm>
              <a:off x="3078000" y="1935000"/>
              <a:ext cx="2987640" cy="2987640"/>
              <a:chOff x="3078000" y="1935000"/>
              <a:chExt cx="2987640" cy="2987640"/>
            </a:xfrm>
          </p:grpSpPr>
          <p:sp>
            <p:nvSpPr>
              <p:cNvPr id="679" name="椭圆 17"/>
              <p:cNvSpPr/>
              <p:nvPr/>
            </p:nvSpPr>
            <p:spPr>
              <a:xfrm>
                <a:off x="3078000" y="1935000"/>
                <a:ext cx="2987640" cy="298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680" name="椭圆 18"/>
              <p:cNvSpPr/>
              <p:nvPr/>
            </p:nvSpPr>
            <p:spPr>
              <a:xfrm>
                <a:off x="3132000" y="1989000"/>
                <a:ext cx="2879640" cy="28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681" name="文本框 16"/>
            <p:cNvSpPr/>
            <p:nvPr/>
          </p:nvSpPr>
          <p:spPr>
            <a:xfrm>
              <a:off x="3932640" y="2857320"/>
              <a:ext cx="1278360" cy="11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72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谢谢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6" name="直接连接符 11"/>
          <p:cNvCxnSpPr>
            <a:endCxn id="87" idx="1"/>
          </p:cNvCxnSpPr>
          <p:nvPr/>
        </p:nvCxnSpPr>
        <p:spPr>
          <a:xfrm>
            <a:off x="4198680" y="4499640"/>
            <a:ext cx="474480" cy="129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88" name="直接连接符 63"/>
          <p:cNvCxnSpPr/>
          <p:nvPr/>
        </p:nvCxnSpPr>
        <p:spPr>
          <a:xfrm>
            <a:off x="4215240" y="5757120"/>
            <a:ext cx="474480" cy="13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89" name="椭圆 69"/>
          <p:cNvSpPr/>
          <p:nvPr/>
        </p:nvSpPr>
        <p:spPr>
          <a:xfrm>
            <a:off x="2076120" y="1850400"/>
            <a:ext cx="1582200" cy="623160"/>
          </a:xfrm>
          <a:prstGeom prst="ellipse">
            <a:avLst/>
          </a:prstGeom>
          <a:solidFill>
            <a:schemeClr val="tx1"/>
          </a:solidFill>
          <a:ln w="317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0" name="椭圆 3"/>
          <p:cNvSpPr/>
          <p:nvPr/>
        </p:nvSpPr>
        <p:spPr>
          <a:xfrm>
            <a:off x="3918960" y="1186920"/>
            <a:ext cx="1943640" cy="1941840"/>
          </a:xfrm>
          <a:prstGeom prst="ellipse">
            <a:avLst/>
          </a:prstGeom>
          <a:noFill/>
          <a:ln w="254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91" name="组合 43"/>
          <p:cNvGrpSpPr/>
          <p:nvPr/>
        </p:nvGrpSpPr>
        <p:grpSpPr>
          <a:xfrm>
            <a:off x="2991240" y="1388160"/>
            <a:ext cx="1547640" cy="1547640"/>
            <a:chOff x="2991240" y="1388160"/>
            <a:chExt cx="1547640" cy="1547640"/>
          </a:xfrm>
        </p:grpSpPr>
        <p:grpSp>
          <p:nvGrpSpPr>
            <p:cNvPr id="92" name="组合 27"/>
            <p:cNvGrpSpPr/>
            <p:nvPr/>
          </p:nvGrpSpPr>
          <p:grpSpPr>
            <a:xfrm>
              <a:off x="2991240" y="1388160"/>
              <a:ext cx="1547640" cy="1547640"/>
              <a:chOff x="2991240" y="1388160"/>
              <a:chExt cx="1547640" cy="1547640"/>
            </a:xfrm>
          </p:grpSpPr>
          <p:sp>
            <p:nvSpPr>
              <p:cNvPr id="93" name="椭圆 28"/>
              <p:cNvSpPr/>
              <p:nvPr/>
            </p:nvSpPr>
            <p:spPr>
              <a:xfrm>
                <a:off x="2991240" y="138816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4" name="椭圆 29"/>
              <p:cNvSpPr/>
              <p:nvPr/>
            </p:nvSpPr>
            <p:spPr>
              <a:xfrm>
                <a:off x="3045240" y="144216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95" name="文本框 25"/>
            <p:cNvSpPr/>
            <p:nvPr/>
          </p:nvSpPr>
          <p:spPr>
            <a:xfrm>
              <a:off x="3369600" y="17748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网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组合 39"/>
          <p:cNvGrpSpPr/>
          <p:nvPr/>
        </p:nvGrpSpPr>
        <p:grpSpPr>
          <a:xfrm>
            <a:off x="406800" y="1199520"/>
            <a:ext cx="2267640" cy="2267640"/>
            <a:chOff x="406800" y="1199520"/>
            <a:chExt cx="2267640" cy="2267640"/>
          </a:xfrm>
        </p:grpSpPr>
        <p:grpSp>
          <p:nvGrpSpPr>
            <p:cNvPr id="97" name="组合 6"/>
            <p:cNvGrpSpPr/>
            <p:nvPr/>
          </p:nvGrpSpPr>
          <p:grpSpPr>
            <a:xfrm>
              <a:off x="406800" y="1199520"/>
              <a:ext cx="2267640" cy="2267640"/>
              <a:chOff x="406800" y="1199520"/>
              <a:chExt cx="2267640" cy="2267640"/>
            </a:xfrm>
          </p:grpSpPr>
          <p:sp>
            <p:nvSpPr>
              <p:cNvPr id="98" name="椭圆 5"/>
              <p:cNvSpPr/>
              <p:nvPr/>
            </p:nvSpPr>
            <p:spPr>
              <a:xfrm>
                <a:off x="406800" y="1199520"/>
                <a:ext cx="2267640" cy="226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99" name="椭圆 4"/>
              <p:cNvSpPr/>
              <p:nvPr/>
            </p:nvSpPr>
            <p:spPr>
              <a:xfrm>
                <a:off x="460800" y="1253520"/>
                <a:ext cx="2159640" cy="215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00" name="文本框 22"/>
            <p:cNvSpPr/>
            <p:nvPr/>
          </p:nvSpPr>
          <p:spPr>
            <a:xfrm>
              <a:off x="1251720" y="1688040"/>
              <a:ext cx="577440" cy="12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认识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时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6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黑洞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3"/>
          <p:cNvGrpSpPr/>
          <p:nvPr/>
        </p:nvGrpSpPr>
        <p:grpSpPr>
          <a:xfrm>
            <a:off x="4642200" y="5365080"/>
            <a:ext cx="2707920" cy="779040"/>
            <a:chOff x="4642200" y="5365080"/>
            <a:chExt cx="2707920" cy="779040"/>
          </a:xfrm>
        </p:grpSpPr>
        <p:grpSp>
          <p:nvGrpSpPr>
            <p:cNvPr id="102" name="组合 35"/>
            <p:cNvGrpSpPr/>
            <p:nvPr/>
          </p:nvGrpSpPr>
          <p:grpSpPr>
            <a:xfrm>
              <a:off x="4642200" y="5365080"/>
              <a:ext cx="2707920" cy="779040"/>
              <a:chOff x="4642200" y="5365080"/>
              <a:chExt cx="2707920" cy="779040"/>
            </a:xfrm>
          </p:grpSpPr>
          <p:sp>
            <p:nvSpPr>
              <p:cNvPr id="103" name="任意多边形 37"/>
              <p:cNvSpPr/>
              <p:nvPr/>
            </p:nvSpPr>
            <p:spPr>
              <a:xfrm>
                <a:off x="4642200" y="53650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4" name="任意多边形 38"/>
              <p:cNvSpPr/>
              <p:nvPr/>
            </p:nvSpPr>
            <p:spPr>
              <a:xfrm>
                <a:off x="4671360" y="54169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05" name="文本框 36"/>
            <p:cNvSpPr/>
            <p:nvPr/>
          </p:nvSpPr>
          <p:spPr>
            <a:xfrm>
              <a:off x="5173920" y="55238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找到自己的价值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41"/>
          <p:cNvGrpSpPr/>
          <p:nvPr/>
        </p:nvGrpSpPr>
        <p:grpSpPr>
          <a:xfrm>
            <a:off x="349920" y="5303520"/>
            <a:ext cx="3993120" cy="779040"/>
            <a:chOff x="349920" y="5303520"/>
            <a:chExt cx="3993120" cy="779040"/>
          </a:xfrm>
        </p:grpSpPr>
        <p:grpSp>
          <p:nvGrpSpPr>
            <p:cNvPr id="107" name="组合 45"/>
            <p:cNvGrpSpPr/>
            <p:nvPr/>
          </p:nvGrpSpPr>
          <p:grpSpPr>
            <a:xfrm>
              <a:off x="349920" y="5303520"/>
              <a:ext cx="3993120" cy="779040"/>
              <a:chOff x="349920" y="5303520"/>
              <a:chExt cx="3993120" cy="779040"/>
            </a:xfrm>
          </p:grpSpPr>
          <p:sp>
            <p:nvSpPr>
              <p:cNvPr id="108" name="任意多边形 47"/>
              <p:cNvSpPr/>
              <p:nvPr/>
            </p:nvSpPr>
            <p:spPr>
              <a:xfrm>
                <a:off x="349920" y="530352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任意多边形 48"/>
              <p:cNvSpPr/>
              <p:nvPr/>
            </p:nvSpPr>
            <p:spPr>
              <a:xfrm>
                <a:off x="379080" y="535536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0" name="矩形 46"/>
            <p:cNvSpPr/>
            <p:nvPr/>
          </p:nvSpPr>
          <p:spPr>
            <a:xfrm>
              <a:off x="1432800" y="5462280"/>
              <a:ext cx="1827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职业价值观自测量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49"/>
          <p:cNvGrpSpPr/>
          <p:nvPr/>
        </p:nvGrpSpPr>
        <p:grpSpPr>
          <a:xfrm>
            <a:off x="4642200" y="4122720"/>
            <a:ext cx="2707920" cy="779040"/>
            <a:chOff x="4642200" y="4122720"/>
            <a:chExt cx="2707920" cy="779040"/>
          </a:xfrm>
        </p:grpSpPr>
        <p:grpSp>
          <p:nvGrpSpPr>
            <p:cNvPr id="112" name="组合 50"/>
            <p:cNvGrpSpPr/>
            <p:nvPr/>
          </p:nvGrpSpPr>
          <p:grpSpPr>
            <a:xfrm>
              <a:off x="4642200" y="4122720"/>
              <a:ext cx="2707920" cy="779040"/>
              <a:chOff x="4642200" y="4122720"/>
              <a:chExt cx="2707920" cy="779040"/>
            </a:xfrm>
          </p:grpSpPr>
          <p:sp>
            <p:nvSpPr>
              <p:cNvPr id="113" name="任意多边形 52"/>
              <p:cNvSpPr/>
              <p:nvPr/>
            </p:nvSpPr>
            <p:spPr>
              <a:xfrm>
                <a:off x="4642200" y="412272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4" name="任意多边形 53"/>
              <p:cNvSpPr/>
              <p:nvPr/>
            </p:nvSpPr>
            <p:spPr>
              <a:xfrm>
                <a:off x="4671360" y="41749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87" name="文本框 51"/>
            <p:cNvSpPr/>
            <p:nvPr/>
          </p:nvSpPr>
          <p:spPr>
            <a:xfrm>
              <a:off x="5173920" y="4281840"/>
              <a:ext cx="1644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寻找你的高效时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54"/>
          <p:cNvGrpSpPr/>
          <p:nvPr/>
        </p:nvGrpSpPr>
        <p:grpSpPr>
          <a:xfrm>
            <a:off x="349920" y="4106880"/>
            <a:ext cx="3993120" cy="779040"/>
            <a:chOff x="349920" y="4106880"/>
            <a:chExt cx="3993120" cy="779040"/>
          </a:xfrm>
        </p:grpSpPr>
        <p:grpSp>
          <p:nvGrpSpPr>
            <p:cNvPr id="116" name="组合 55"/>
            <p:cNvGrpSpPr/>
            <p:nvPr/>
          </p:nvGrpSpPr>
          <p:grpSpPr>
            <a:xfrm>
              <a:off x="349920" y="4106880"/>
              <a:ext cx="3993120" cy="779040"/>
              <a:chOff x="349920" y="4106880"/>
              <a:chExt cx="3993120" cy="779040"/>
            </a:xfrm>
          </p:grpSpPr>
          <p:sp>
            <p:nvSpPr>
              <p:cNvPr id="117" name="任意多边形 57"/>
              <p:cNvSpPr/>
              <p:nvPr/>
            </p:nvSpPr>
            <p:spPr>
              <a:xfrm>
                <a:off x="349920" y="410688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18" name="任意多边形 58"/>
              <p:cNvSpPr/>
              <p:nvPr/>
            </p:nvSpPr>
            <p:spPr>
              <a:xfrm>
                <a:off x="379080" y="415872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19" name="矩形 56"/>
            <p:cNvSpPr/>
            <p:nvPr/>
          </p:nvSpPr>
          <p:spPr>
            <a:xfrm>
              <a:off x="1432800" y="4265640"/>
              <a:ext cx="1827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记录和分析时间日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59"/>
          <p:cNvGrpSpPr/>
          <p:nvPr/>
        </p:nvGrpSpPr>
        <p:grpSpPr>
          <a:xfrm>
            <a:off x="4825080" y="403200"/>
            <a:ext cx="1547640" cy="1547640"/>
            <a:chOff x="4825080" y="403200"/>
            <a:chExt cx="1547640" cy="1547640"/>
          </a:xfrm>
        </p:grpSpPr>
        <p:grpSp>
          <p:nvGrpSpPr>
            <p:cNvPr id="121" name="组合 60"/>
            <p:cNvGrpSpPr/>
            <p:nvPr/>
          </p:nvGrpSpPr>
          <p:grpSpPr>
            <a:xfrm>
              <a:off x="4825080" y="403200"/>
              <a:ext cx="1547640" cy="1547640"/>
              <a:chOff x="4825080" y="403200"/>
              <a:chExt cx="1547640" cy="1547640"/>
            </a:xfrm>
          </p:grpSpPr>
          <p:sp>
            <p:nvSpPr>
              <p:cNvPr id="122" name="椭圆 62"/>
              <p:cNvSpPr/>
              <p:nvPr/>
            </p:nvSpPr>
            <p:spPr>
              <a:xfrm>
                <a:off x="4825080" y="4032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3" name="椭圆 64"/>
              <p:cNvSpPr/>
              <p:nvPr/>
            </p:nvSpPr>
            <p:spPr>
              <a:xfrm>
                <a:off x="4879080" y="4572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24" name="文本框 61"/>
            <p:cNvSpPr/>
            <p:nvPr/>
          </p:nvSpPr>
          <p:spPr>
            <a:xfrm>
              <a:off x="5203440" y="78984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电视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65"/>
          <p:cNvGrpSpPr/>
          <p:nvPr/>
        </p:nvGrpSpPr>
        <p:grpSpPr>
          <a:xfrm>
            <a:off x="4879080" y="2373120"/>
            <a:ext cx="1547640" cy="1547640"/>
            <a:chOff x="4879080" y="2373120"/>
            <a:chExt cx="1547640" cy="1547640"/>
          </a:xfrm>
        </p:grpSpPr>
        <p:grpSp>
          <p:nvGrpSpPr>
            <p:cNvPr id="126" name="组合 66"/>
            <p:cNvGrpSpPr/>
            <p:nvPr/>
          </p:nvGrpSpPr>
          <p:grpSpPr>
            <a:xfrm>
              <a:off x="4879080" y="2373120"/>
              <a:ext cx="1547640" cy="1547640"/>
              <a:chOff x="4879080" y="2373120"/>
              <a:chExt cx="1547640" cy="1547640"/>
            </a:xfrm>
          </p:grpSpPr>
          <p:sp>
            <p:nvSpPr>
              <p:cNvPr id="127" name="椭圆 68"/>
              <p:cNvSpPr/>
              <p:nvPr/>
            </p:nvSpPr>
            <p:spPr>
              <a:xfrm>
                <a:off x="4879080" y="237312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28" name="椭圆 70"/>
              <p:cNvSpPr/>
              <p:nvPr/>
            </p:nvSpPr>
            <p:spPr>
              <a:xfrm>
                <a:off x="4933080" y="242712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29" name="文本框 67"/>
            <p:cNvSpPr/>
            <p:nvPr/>
          </p:nvSpPr>
          <p:spPr>
            <a:xfrm>
              <a:off x="5257440" y="2759400"/>
              <a:ext cx="79056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超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黑洞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32"/>
          <p:cNvSpPr/>
          <p:nvPr/>
        </p:nvSpPr>
        <p:spPr>
          <a:xfrm>
            <a:off x="649080" y="375120"/>
            <a:ext cx="11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四象限法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4"/>
          <p:cNvSpPr/>
          <p:nvPr/>
        </p:nvSpPr>
        <p:spPr>
          <a:xfrm>
            <a:off x="4763880" y="2159280"/>
            <a:ext cx="3733200" cy="24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400" spc="-1" strike="noStrike">
                <a:solidFill>
                  <a:srgbClr val="c30d23"/>
                </a:solidFill>
                <a:latin typeface="微软雅黑"/>
                <a:ea typeface="微软雅黑"/>
              </a:rPr>
              <a:t>先轻重，再缓急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将日常所有事项分别放入四个象限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估轻重标准—职业价值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判断缓急标准—截止的日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972000" y="2054520"/>
            <a:ext cx="2159640" cy="2159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文本框 28"/>
          <p:cNvSpPr/>
          <p:nvPr/>
        </p:nvSpPr>
        <p:spPr>
          <a:xfrm>
            <a:off x="1554120" y="2489040"/>
            <a:ext cx="1027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Ⅰ  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Ⅲ  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直接连接符 29"/>
          <p:cNvCxnSpPr/>
          <p:nvPr/>
        </p:nvCxnSpPr>
        <p:spPr>
          <a:xfrm>
            <a:off x="252360" y="3141360"/>
            <a:ext cx="359928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35" name="直接连接符 30"/>
          <p:cNvCxnSpPr/>
          <p:nvPr/>
        </p:nvCxnSpPr>
        <p:spPr>
          <a:xfrm flipH="1">
            <a:off x="2052000" y="-81000"/>
            <a:ext cx="7560" cy="710424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grpSp>
        <p:nvGrpSpPr>
          <p:cNvPr id="136" name="组合 31"/>
          <p:cNvGrpSpPr/>
          <p:nvPr/>
        </p:nvGrpSpPr>
        <p:grpSpPr>
          <a:xfrm>
            <a:off x="355320" y="1185480"/>
            <a:ext cx="1547640" cy="1547640"/>
            <a:chOff x="355320" y="1185480"/>
            <a:chExt cx="1547640" cy="1547640"/>
          </a:xfrm>
        </p:grpSpPr>
        <p:grpSp>
          <p:nvGrpSpPr>
            <p:cNvPr id="137" name="组合 58"/>
            <p:cNvGrpSpPr/>
            <p:nvPr/>
          </p:nvGrpSpPr>
          <p:grpSpPr>
            <a:xfrm>
              <a:off x="355320" y="1185480"/>
              <a:ext cx="1547640" cy="1547640"/>
              <a:chOff x="355320" y="1185480"/>
              <a:chExt cx="1547640" cy="1547640"/>
            </a:xfrm>
          </p:grpSpPr>
          <p:sp>
            <p:nvSpPr>
              <p:cNvPr id="138" name="椭圆 60"/>
              <p:cNvSpPr/>
              <p:nvPr/>
            </p:nvSpPr>
            <p:spPr>
              <a:xfrm>
                <a:off x="35532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39" name="椭圆 61"/>
              <p:cNvSpPr/>
              <p:nvPr/>
            </p:nvSpPr>
            <p:spPr>
              <a:xfrm>
                <a:off x="40932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0" name="文本框 59"/>
            <p:cNvSpPr/>
            <p:nvPr/>
          </p:nvSpPr>
          <p:spPr>
            <a:xfrm>
              <a:off x="855360" y="154404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62"/>
          <p:cNvGrpSpPr/>
          <p:nvPr/>
        </p:nvGrpSpPr>
        <p:grpSpPr>
          <a:xfrm>
            <a:off x="2190960" y="1185480"/>
            <a:ext cx="1547640" cy="1547640"/>
            <a:chOff x="2190960" y="1185480"/>
            <a:chExt cx="1547640" cy="1547640"/>
          </a:xfrm>
        </p:grpSpPr>
        <p:grpSp>
          <p:nvGrpSpPr>
            <p:cNvPr id="142" name="组合 63"/>
            <p:cNvGrpSpPr/>
            <p:nvPr/>
          </p:nvGrpSpPr>
          <p:grpSpPr>
            <a:xfrm>
              <a:off x="2190960" y="1185480"/>
              <a:ext cx="1547640" cy="1547640"/>
              <a:chOff x="2190960" y="1185480"/>
              <a:chExt cx="1547640" cy="1547640"/>
            </a:xfrm>
          </p:grpSpPr>
          <p:sp>
            <p:nvSpPr>
              <p:cNvPr id="143" name="椭圆 65"/>
              <p:cNvSpPr/>
              <p:nvPr/>
            </p:nvSpPr>
            <p:spPr>
              <a:xfrm>
                <a:off x="219096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4" name="椭圆 66"/>
              <p:cNvSpPr/>
              <p:nvPr/>
            </p:nvSpPr>
            <p:spPr>
              <a:xfrm>
                <a:off x="224496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45" name="文本框 64"/>
            <p:cNvSpPr/>
            <p:nvPr/>
          </p:nvSpPr>
          <p:spPr>
            <a:xfrm>
              <a:off x="2600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组合 67"/>
          <p:cNvGrpSpPr/>
          <p:nvPr/>
        </p:nvGrpSpPr>
        <p:grpSpPr>
          <a:xfrm>
            <a:off x="355320" y="3549600"/>
            <a:ext cx="1547640" cy="1547640"/>
            <a:chOff x="355320" y="3549600"/>
            <a:chExt cx="1547640" cy="1547640"/>
          </a:xfrm>
        </p:grpSpPr>
        <p:grpSp>
          <p:nvGrpSpPr>
            <p:cNvPr id="147" name="组合 68"/>
            <p:cNvGrpSpPr/>
            <p:nvPr/>
          </p:nvGrpSpPr>
          <p:grpSpPr>
            <a:xfrm>
              <a:off x="355320" y="3549600"/>
              <a:ext cx="1547640" cy="1547640"/>
              <a:chOff x="355320" y="3549600"/>
              <a:chExt cx="1547640" cy="1547640"/>
            </a:xfrm>
          </p:grpSpPr>
          <p:sp>
            <p:nvSpPr>
              <p:cNvPr id="148" name="椭圆 70"/>
              <p:cNvSpPr/>
              <p:nvPr/>
            </p:nvSpPr>
            <p:spPr>
              <a:xfrm>
                <a:off x="35532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49" name="椭圆 71"/>
              <p:cNvSpPr/>
              <p:nvPr/>
            </p:nvSpPr>
            <p:spPr>
              <a:xfrm>
                <a:off x="40932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50" name="文本框 69"/>
            <p:cNvSpPr/>
            <p:nvPr/>
          </p:nvSpPr>
          <p:spPr>
            <a:xfrm>
              <a:off x="76428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72"/>
          <p:cNvGrpSpPr/>
          <p:nvPr/>
        </p:nvGrpSpPr>
        <p:grpSpPr>
          <a:xfrm>
            <a:off x="2172240" y="3549600"/>
            <a:ext cx="1547640" cy="1547640"/>
            <a:chOff x="2172240" y="3549600"/>
            <a:chExt cx="1547640" cy="1547640"/>
          </a:xfrm>
        </p:grpSpPr>
        <p:grpSp>
          <p:nvGrpSpPr>
            <p:cNvPr id="152" name="组合 73"/>
            <p:cNvGrpSpPr/>
            <p:nvPr/>
          </p:nvGrpSpPr>
          <p:grpSpPr>
            <a:xfrm>
              <a:off x="2172240" y="3549600"/>
              <a:ext cx="1547640" cy="1547640"/>
              <a:chOff x="2172240" y="3549600"/>
              <a:chExt cx="1547640" cy="1547640"/>
            </a:xfrm>
          </p:grpSpPr>
          <p:sp>
            <p:nvSpPr>
              <p:cNvPr id="153" name="椭圆 75"/>
              <p:cNvSpPr/>
              <p:nvPr/>
            </p:nvSpPr>
            <p:spPr>
              <a:xfrm>
                <a:off x="217224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54" name="椭圆 76"/>
              <p:cNvSpPr/>
              <p:nvPr/>
            </p:nvSpPr>
            <p:spPr>
              <a:xfrm>
                <a:off x="222624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55" name="文本框 74"/>
            <p:cNvSpPr/>
            <p:nvPr/>
          </p:nvSpPr>
          <p:spPr>
            <a:xfrm>
              <a:off x="258120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重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不紧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Text Box 3"/>
          <p:cNvSpPr/>
          <p:nvPr/>
        </p:nvSpPr>
        <p:spPr>
          <a:xfrm>
            <a:off x="228960" y="6432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椭圆 46"/>
          <p:cNvSpPr/>
          <p:nvPr/>
        </p:nvSpPr>
        <p:spPr>
          <a:xfrm>
            <a:off x="3503520" y="1291680"/>
            <a:ext cx="447480" cy="52092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8" name="椭圆 49"/>
          <p:cNvSpPr/>
          <p:nvPr/>
        </p:nvSpPr>
        <p:spPr>
          <a:xfrm>
            <a:off x="918720" y="5007960"/>
            <a:ext cx="359640" cy="4312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59" name="组合 1"/>
          <p:cNvGrpSpPr/>
          <p:nvPr/>
        </p:nvGrpSpPr>
        <p:grpSpPr>
          <a:xfrm>
            <a:off x="3678120" y="314280"/>
            <a:ext cx="2817720" cy="1499040"/>
            <a:chOff x="3678120" y="314280"/>
            <a:chExt cx="2817720" cy="1499040"/>
          </a:xfrm>
        </p:grpSpPr>
        <p:grpSp>
          <p:nvGrpSpPr>
            <p:cNvPr id="160" name="组合 31"/>
            <p:cNvGrpSpPr/>
            <p:nvPr/>
          </p:nvGrpSpPr>
          <p:grpSpPr>
            <a:xfrm>
              <a:off x="3678120" y="314280"/>
              <a:ext cx="2817720" cy="1499040"/>
              <a:chOff x="3678120" y="314280"/>
              <a:chExt cx="2817720" cy="1499040"/>
            </a:xfrm>
          </p:grpSpPr>
          <p:sp>
            <p:nvSpPr>
              <p:cNvPr id="161" name="任意多边形 32"/>
              <p:cNvSpPr/>
              <p:nvPr/>
            </p:nvSpPr>
            <p:spPr>
              <a:xfrm rot="20634600">
                <a:off x="3732840" y="6742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2" name="任意多边形 33"/>
              <p:cNvSpPr/>
              <p:nvPr/>
            </p:nvSpPr>
            <p:spPr>
              <a:xfrm rot="20634600">
                <a:off x="3761640" y="7261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3" name="矩形 5"/>
            <p:cNvSpPr/>
            <p:nvPr/>
          </p:nvSpPr>
          <p:spPr>
            <a:xfrm rot="20634600">
              <a:off x="4354920" y="833400"/>
              <a:ext cx="14612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第二象限工作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文本框 2"/>
          <p:cNvSpPr/>
          <p:nvPr/>
        </p:nvSpPr>
        <p:spPr>
          <a:xfrm>
            <a:off x="4328640" y="1878120"/>
            <a:ext cx="4568040" cy="43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TIP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走出第一象限的方法就是集中精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好第二象限的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第二象限的事务进行目标描述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任务分解，消除时间管理三大杀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工作忙碌但盲目的原因就是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的工作主要集中在第三象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能再第四象限里投入过多的精力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否则就是在浪费生命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组合 4"/>
          <p:cNvGrpSpPr/>
          <p:nvPr/>
        </p:nvGrpSpPr>
        <p:grpSpPr>
          <a:xfrm>
            <a:off x="355320" y="5214240"/>
            <a:ext cx="1817640" cy="779040"/>
            <a:chOff x="355320" y="5214240"/>
            <a:chExt cx="1817640" cy="779040"/>
          </a:xfrm>
        </p:grpSpPr>
        <p:grpSp>
          <p:nvGrpSpPr>
            <p:cNvPr id="166" name="组合 50"/>
            <p:cNvGrpSpPr/>
            <p:nvPr/>
          </p:nvGrpSpPr>
          <p:grpSpPr>
            <a:xfrm>
              <a:off x="355320" y="5214240"/>
              <a:ext cx="1817640" cy="779040"/>
              <a:chOff x="355320" y="5214240"/>
              <a:chExt cx="1817640" cy="779040"/>
            </a:xfrm>
          </p:grpSpPr>
          <p:sp>
            <p:nvSpPr>
              <p:cNvPr id="167" name="任意多边形 51"/>
              <p:cNvSpPr/>
              <p:nvPr/>
            </p:nvSpPr>
            <p:spPr>
              <a:xfrm>
                <a:off x="355320" y="52142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68" name="任意多边形 52"/>
              <p:cNvSpPr/>
              <p:nvPr/>
            </p:nvSpPr>
            <p:spPr>
              <a:xfrm>
                <a:off x="384120" y="526644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69" name="矩形 6"/>
            <p:cNvSpPr/>
            <p:nvPr/>
          </p:nvSpPr>
          <p:spPr>
            <a:xfrm rot="21516000">
              <a:off x="807840" y="53733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猴子法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矩形 7"/>
          <p:cNvSpPr/>
          <p:nvPr/>
        </p:nvSpPr>
        <p:spPr>
          <a:xfrm>
            <a:off x="972000" y="2054520"/>
            <a:ext cx="2159640" cy="2159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文本框 28"/>
          <p:cNvSpPr/>
          <p:nvPr/>
        </p:nvSpPr>
        <p:spPr>
          <a:xfrm>
            <a:off x="1554120" y="2489040"/>
            <a:ext cx="102708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Ⅰ  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Ⅲ  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直接连接符 29"/>
          <p:cNvCxnSpPr/>
          <p:nvPr/>
        </p:nvCxnSpPr>
        <p:spPr>
          <a:xfrm>
            <a:off x="252360" y="3141360"/>
            <a:ext cx="3599280" cy="36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cxnSp>
        <p:nvCxnSpPr>
          <p:cNvPr id="173" name="直接连接符 30"/>
          <p:cNvCxnSpPr/>
          <p:nvPr/>
        </p:nvCxnSpPr>
        <p:spPr>
          <a:xfrm>
            <a:off x="2052000" y="-81000"/>
            <a:ext cx="24840" cy="5124600"/>
          </a:xfrm>
          <a:prstGeom prst="straightConnector1">
            <a:avLst/>
          </a:prstGeom>
          <a:ln w="25400">
            <a:solidFill>
              <a:srgbClr val="ffffff"/>
            </a:solidFill>
          </a:ln>
        </p:spPr>
      </p:cxnSp>
      <p:grpSp>
        <p:nvGrpSpPr>
          <p:cNvPr id="174" name="组合 37"/>
          <p:cNvGrpSpPr/>
          <p:nvPr/>
        </p:nvGrpSpPr>
        <p:grpSpPr>
          <a:xfrm>
            <a:off x="355320" y="1185480"/>
            <a:ext cx="1547640" cy="1547640"/>
            <a:chOff x="355320" y="1185480"/>
            <a:chExt cx="1547640" cy="1547640"/>
          </a:xfrm>
        </p:grpSpPr>
        <p:grpSp>
          <p:nvGrpSpPr>
            <p:cNvPr id="175" name="组合 38"/>
            <p:cNvGrpSpPr/>
            <p:nvPr/>
          </p:nvGrpSpPr>
          <p:grpSpPr>
            <a:xfrm>
              <a:off x="355320" y="1185480"/>
              <a:ext cx="1547640" cy="1547640"/>
              <a:chOff x="355320" y="1185480"/>
              <a:chExt cx="1547640" cy="1547640"/>
            </a:xfrm>
          </p:grpSpPr>
          <p:sp>
            <p:nvSpPr>
              <p:cNvPr id="176" name="椭圆 40"/>
              <p:cNvSpPr/>
              <p:nvPr/>
            </p:nvSpPr>
            <p:spPr>
              <a:xfrm>
                <a:off x="35532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77" name="椭圆 41"/>
              <p:cNvSpPr/>
              <p:nvPr/>
            </p:nvSpPr>
            <p:spPr>
              <a:xfrm>
                <a:off x="40932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78" name="文本框 39"/>
            <p:cNvSpPr/>
            <p:nvPr/>
          </p:nvSpPr>
          <p:spPr>
            <a:xfrm>
              <a:off x="764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立即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42"/>
          <p:cNvGrpSpPr/>
          <p:nvPr/>
        </p:nvGrpSpPr>
        <p:grpSpPr>
          <a:xfrm>
            <a:off x="2190960" y="1185480"/>
            <a:ext cx="1547640" cy="1547640"/>
            <a:chOff x="2190960" y="1185480"/>
            <a:chExt cx="1547640" cy="1547640"/>
          </a:xfrm>
        </p:grpSpPr>
        <p:grpSp>
          <p:nvGrpSpPr>
            <p:cNvPr id="180" name="组合 43"/>
            <p:cNvGrpSpPr/>
            <p:nvPr/>
          </p:nvGrpSpPr>
          <p:grpSpPr>
            <a:xfrm>
              <a:off x="2190960" y="1185480"/>
              <a:ext cx="1547640" cy="1547640"/>
              <a:chOff x="2190960" y="1185480"/>
              <a:chExt cx="1547640" cy="1547640"/>
            </a:xfrm>
          </p:grpSpPr>
          <p:sp>
            <p:nvSpPr>
              <p:cNvPr id="181" name="椭圆 45"/>
              <p:cNvSpPr/>
              <p:nvPr/>
            </p:nvSpPr>
            <p:spPr>
              <a:xfrm>
                <a:off x="2190960" y="118548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2" name="椭圆 47"/>
              <p:cNvSpPr/>
              <p:nvPr/>
            </p:nvSpPr>
            <p:spPr>
              <a:xfrm>
                <a:off x="2244960" y="123948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3" name="文本框 44"/>
            <p:cNvSpPr/>
            <p:nvPr/>
          </p:nvSpPr>
          <p:spPr>
            <a:xfrm>
              <a:off x="2600280" y="154404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计划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地去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48"/>
          <p:cNvGrpSpPr/>
          <p:nvPr/>
        </p:nvGrpSpPr>
        <p:grpSpPr>
          <a:xfrm>
            <a:off x="355320" y="3549600"/>
            <a:ext cx="1547640" cy="1547640"/>
            <a:chOff x="355320" y="3549600"/>
            <a:chExt cx="1547640" cy="1547640"/>
          </a:xfrm>
        </p:grpSpPr>
        <p:grpSp>
          <p:nvGrpSpPr>
            <p:cNvPr id="185" name="组合 53"/>
            <p:cNvGrpSpPr/>
            <p:nvPr/>
          </p:nvGrpSpPr>
          <p:grpSpPr>
            <a:xfrm>
              <a:off x="355320" y="3549600"/>
              <a:ext cx="1547640" cy="1547640"/>
              <a:chOff x="355320" y="3549600"/>
              <a:chExt cx="1547640" cy="1547640"/>
            </a:xfrm>
          </p:grpSpPr>
          <p:sp>
            <p:nvSpPr>
              <p:cNvPr id="186" name="椭圆 55"/>
              <p:cNvSpPr/>
              <p:nvPr/>
            </p:nvSpPr>
            <p:spPr>
              <a:xfrm>
                <a:off x="35532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87" name="椭圆 56"/>
              <p:cNvSpPr/>
              <p:nvPr/>
            </p:nvSpPr>
            <p:spPr>
              <a:xfrm>
                <a:off x="40932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88" name="文本框 54"/>
            <p:cNvSpPr/>
            <p:nvPr/>
          </p:nvSpPr>
          <p:spPr>
            <a:xfrm>
              <a:off x="76428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别人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组合 57"/>
          <p:cNvGrpSpPr/>
          <p:nvPr/>
        </p:nvGrpSpPr>
        <p:grpSpPr>
          <a:xfrm>
            <a:off x="2172240" y="3549600"/>
            <a:ext cx="1547640" cy="1547640"/>
            <a:chOff x="2172240" y="3549600"/>
            <a:chExt cx="1547640" cy="1547640"/>
          </a:xfrm>
        </p:grpSpPr>
        <p:grpSp>
          <p:nvGrpSpPr>
            <p:cNvPr id="190" name="组合 58"/>
            <p:cNvGrpSpPr/>
            <p:nvPr/>
          </p:nvGrpSpPr>
          <p:grpSpPr>
            <a:xfrm>
              <a:off x="2172240" y="3549600"/>
              <a:ext cx="1547640" cy="1547640"/>
              <a:chOff x="2172240" y="3549600"/>
              <a:chExt cx="1547640" cy="1547640"/>
            </a:xfrm>
          </p:grpSpPr>
          <p:sp>
            <p:nvSpPr>
              <p:cNvPr id="191" name="椭圆 60"/>
              <p:cNvSpPr/>
              <p:nvPr/>
            </p:nvSpPr>
            <p:spPr>
              <a:xfrm>
                <a:off x="2172240" y="35496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192" name="椭圆 61"/>
              <p:cNvSpPr/>
              <p:nvPr/>
            </p:nvSpPr>
            <p:spPr>
              <a:xfrm>
                <a:off x="2226240" y="36036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193" name="文本框 59"/>
            <p:cNvSpPr/>
            <p:nvPr/>
          </p:nvSpPr>
          <p:spPr>
            <a:xfrm>
              <a:off x="2581200" y="3908160"/>
              <a:ext cx="72972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别去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7000">
              <a:srgbClr val="f7fafd"/>
            </a:gs>
            <a:gs pos="100000">
              <a:srgbClr val="bfbfb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4" name="直接连接符 214"/>
          <p:cNvCxnSpPr/>
          <p:nvPr/>
        </p:nvCxnSpPr>
        <p:spPr>
          <a:xfrm flipH="1">
            <a:off x="5222520" y="2678040"/>
            <a:ext cx="1137240" cy="4068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5" name="直接连接符 219"/>
          <p:cNvCxnSpPr/>
          <p:nvPr/>
        </p:nvCxnSpPr>
        <p:spPr>
          <a:xfrm flipH="1" flipV="1">
            <a:off x="5135400" y="3146400"/>
            <a:ext cx="1860120" cy="4197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6" name="直接连接符 220"/>
          <p:cNvCxnSpPr/>
          <p:nvPr/>
        </p:nvCxnSpPr>
        <p:spPr>
          <a:xfrm flipH="1" flipV="1">
            <a:off x="5276520" y="3490560"/>
            <a:ext cx="412920" cy="70848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7" name="直接连接符 195"/>
          <p:cNvCxnSpPr/>
          <p:nvPr/>
        </p:nvCxnSpPr>
        <p:spPr>
          <a:xfrm flipV="1">
            <a:off x="1436400" y="4724280"/>
            <a:ext cx="866520" cy="490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8" name="直接连接符 196"/>
          <p:cNvCxnSpPr/>
          <p:nvPr/>
        </p:nvCxnSpPr>
        <p:spPr>
          <a:xfrm flipV="1">
            <a:off x="1957680" y="4941720"/>
            <a:ext cx="506880" cy="9612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199" name="直接连接符 197"/>
          <p:cNvCxnSpPr/>
          <p:nvPr/>
        </p:nvCxnSpPr>
        <p:spPr>
          <a:xfrm flipH="1" flipV="1">
            <a:off x="2749320" y="4821120"/>
            <a:ext cx="1440" cy="111420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0" name="直接连接符 200"/>
          <p:cNvCxnSpPr/>
          <p:nvPr/>
        </p:nvCxnSpPr>
        <p:spPr>
          <a:xfrm flipH="1" flipV="1">
            <a:off x="3039120" y="4449600"/>
            <a:ext cx="1086120" cy="1857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1" name="直接连接符 210"/>
          <p:cNvCxnSpPr/>
          <p:nvPr/>
        </p:nvCxnSpPr>
        <p:spPr>
          <a:xfrm flipH="1" flipV="1">
            <a:off x="3106440" y="4821120"/>
            <a:ext cx="603000" cy="9439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2" name="直接连接符 23"/>
          <p:cNvCxnSpPr/>
          <p:nvPr/>
        </p:nvCxnSpPr>
        <p:spPr>
          <a:xfrm>
            <a:off x="1402920" y="4490280"/>
            <a:ext cx="836640" cy="216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cxnSp>
        <p:nvCxnSpPr>
          <p:cNvPr id="203" name="直接连接符 7"/>
          <p:cNvCxnSpPr/>
          <p:nvPr/>
        </p:nvCxnSpPr>
        <p:spPr>
          <a:xfrm>
            <a:off x="2736000" y="6459480"/>
            <a:ext cx="13680" cy="6343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sp>
        <p:nvSpPr>
          <p:cNvPr id="204" name="椭圆 217"/>
          <p:cNvSpPr/>
          <p:nvPr/>
        </p:nvSpPr>
        <p:spPr>
          <a:xfrm>
            <a:off x="1471680" y="1503720"/>
            <a:ext cx="1052640" cy="433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5" name="椭圆 213"/>
          <p:cNvSpPr/>
          <p:nvPr/>
        </p:nvSpPr>
        <p:spPr>
          <a:xfrm>
            <a:off x="2216520" y="2990880"/>
            <a:ext cx="1052640" cy="43380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6" name="弧形 211"/>
          <p:cNvSpPr/>
          <p:nvPr/>
        </p:nvSpPr>
        <p:spPr>
          <a:xfrm rot="8068800">
            <a:off x="3051360" y="1396440"/>
            <a:ext cx="1808280" cy="2052360"/>
          </a:xfrm>
          <a:prstGeom prst="arc">
            <a:avLst>
              <a:gd name="adj1" fmla="val 16409349"/>
              <a:gd name="adj2" fmla="val 19864404"/>
            </a:avLst>
          </a:prstGeom>
          <a:noFill/>
          <a:ln w="2540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弧形 212"/>
          <p:cNvSpPr/>
          <p:nvPr/>
        </p:nvSpPr>
        <p:spPr>
          <a:xfrm rot="5400000">
            <a:off x="1489320" y="2342160"/>
            <a:ext cx="1808280" cy="2052360"/>
          </a:xfrm>
          <a:prstGeom prst="arc">
            <a:avLst>
              <a:gd name="adj1" fmla="val 16409349"/>
              <a:gd name="adj2" fmla="val 20138332"/>
            </a:avLst>
          </a:prstGeom>
          <a:noFill/>
          <a:ln w="25400">
            <a:solidFill>
              <a:srgbClr val="000000"/>
            </a:solidFill>
          </a:ln>
        </p:spPr>
        <p:style>
          <a:lnRef idx="1">
            <a:schemeClr val="accent1"/>
          </a:lnRef>
          <a:fillRef idx="0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文本框 2"/>
          <p:cNvSpPr/>
          <p:nvPr/>
        </p:nvSpPr>
        <p:spPr>
          <a:xfrm>
            <a:off x="1347120" y="396000"/>
            <a:ext cx="37472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600" spc="-1" strike="noStrike">
                <a:solidFill>
                  <a:srgbClr val="c30d23"/>
                </a:solidFill>
                <a:latin typeface="微软雅黑"/>
                <a:ea typeface="微软雅黑"/>
              </a:rPr>
              <a:t>绝招：衣柜整理法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更好地解决第二象限事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组合 218"/>
          <p:cNvGrpSpPr/>
          <p:nvPr/>
        </p:nvGrpSpPr>
        <p:grpSpPr>
          <a:xfrm>
            <a:off x="2302560" y="1308960"/>
            <a:ext cx="4279680" cy="779040"/>
            <a:chOff x="2302560" y="1308960"/>
            <a:chExt cx="4279680" cy="779040"/>
          </a:xfrm>
        </p:grpSpPr>
        <p:sp>
          <p:nvSpPr>
            <p:cNvPr id="210" name="任意多边形 215"/>
            <p:cNvSpPr/>
            <p:nvPr/>
          </p:nvSpPr>
          <p:spPr>
            <a:xfrm>
              <a:off x="2302560" y="1308960"/>
              <a:ext cx="4279680" cy="779040"/>
            </a:xfrm>
            <a:custGeom>
              <a:avLst/>
              <a:gdLst>
                <a:gd name="textAreaLeft" fmla="*/ 0 w 4279680"/>
                <a:gd name="textAreaRight" fmla="*/ 4280040 w 4279680"/>
                <a:gd name="textAreaTop" fmla="*/ 0 h 779040"/>
                <a:gd name="textAreaBottom" fmla="*/ 779400 h 779040"/>
              </a:gdLst>
              <a:ahLst/>
              <a:rect l="textAreaLeft" t="textAreaTop" r="textAreaRight" b="textAreaBottom"/>
              <a:pathLst>
                <a:path w="4280190" h="779318">
                  <a:moveTo>
                    <a:pt x="313459" y="0"/>
                  </a:moveTo>
                  <a:lnTo>
                    <a:pt x="342467" y="3635"/>
                  </a:lnTo>
                  <a:lnTo>
                    <a:pt x="342467" y="0"/>
                  </a:lnTo>
                  <a:lnTo>
                    <a:pt x="3937721" y="0"/>
                  </a:lnTo>
                  <a:lnTo>
                    <a:pt x="3937721" y="3635"/>
                  </a:lnTo>
                  <a:lnTo>
                    <a:pt x="3966731" y="0"/>
                  </a:lnTo>
                  <a:cubicBezTo>
                    <a:pt x="4139850" y="0"/>
                    <a:pt x="4280190" y="174456"/>
                    <a:pt x="4280190" y="389659"/>
                  </a:cubicBezTo>
                  <a:cubicBezTo>
                    <a:pt x="4280190" y="604862"/>
                    <a:pt x="4139850" y="779318"/>
                    <a:pt x="3966731" y="779318"/>
                  </a:cubicBezTo>
                  <a:lnTo>
                    <a:pt x="3937721" y="775683"/>
                  </a:lnTo>
                  <a:lnTo>
                    <a:pt x="3937721" y="779318"/>
                  </a:lnTo>
                  <a:lnTo>
                    <a:pt x="342467" y="779318"/>
                  </a:lnTo>
                  <a:lnTo>
                    <a:pt x="342467" y="775683"/>
                  </a:lnTo>
                  <a:lnTo>
                    <a:pt x="313459" y="779318"/>
                  </a:lnTo>
                  <a:cubicBezTo>
                    <a:pt x="140340" y="779318"/>
                    <a:pt x="0" y="604862"/>
                    <a:pt x="0" y="389659"/>
                  </a:cubicBezTo>
                  <a:cubicBezTo>
                    <a:pt x="0" y="174456"/>
                    <a:pt x="140340" y="0"/>
                    <a:pt x="313459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8100000" dist="63130" rotWithShape="0">
                <a:srgbClr val="000000">
                  <a:alpha val="40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1" name="任意多边形 216"/>
            <p:cNvSpPr/>
            <p:nvPr/>
          </p:nvSpPr>
          <p:spPr>
            <a:xfrm>
              <a:off x="2331720" y="1360800"/>
              <a:ext cx="4221720" cy="675000"/>
            </a:xfrm>
            <a:custGeom>
              <a:avLst/>
              <a:gdLst>
                <a:gd name="textAreaLeft" fmla="*/ 0 w 4221720"/>
                <a:gd name="textAreaRight" fmla="*/ 4222080 w 4221720"/>
                <a:gd name="textAreaTop" fmla="*/ 0 h 675000"/>
                <a:gd name="textAreaBottom" fmla="*/ 675360 h 675000"/>
              </a:gdLst>
              <a:ahLst/>
              <a:rect l="textAreaLeft" t="textAreaTop" r="textAreaRight" b="textAreaBottom"/>
              <a:pathLst>
                <a:path w="4222174" h="675411">
                  <a:moveTo>
                    <a:pt x="284451" y="0"/>
                  </a:moveTo>
                  <a:lnTo>
                    <a:pt x="303791" y="2315"/>
                  </a:lnTo>
                  <a:lnTo>
                    <a:pt x="303791" y="0"/>
                  </a:lnTo>
                  <a:lnTo>
                    <a:pt x="3940753" y="0"/>
                  </a:lnTo>
                  <a:lnTo>
                    <a:pt x="3940753" y="364"/>
                  </a:lnTo>
                  <a:lnTo>
                    <a:pt x="3995050" y="6862"/>
                  </a:lnTo>
                  <a:cubicBezTo>
                    <a:pt x="4124670" y="38352"/>
                    <a:pt x="4222174" y="174511"/>
                    <a:pt x="4222174" y="337706"/>
                  </a:cubicBezTo>
                  <a:cubicBezTo>
                    <a:pt x="4222174" y="500902"/>
                    <a:pt x="4124670" y="637060"/>
                    <a:pt x="3995050" y="668550"/>
                  </a:cubicBezTo>
                  <a:lnTo>
                    <a:pt x="3940753" y="675048"/>
                  </a:lnTo>
                  <a:lnTo>
                    <a:pt x="3940753" y="675409"/>
                  </a:lnTo>
                  <a:lnTo>
                    <a:pt x="3937740" y="675409"/>
                  </a:lnTo>
                  <a:lnTo>
                    <a:pt x="3937723" y="675411"/>
                  </a:lnTo>
                  <a:lnTo>
                    <a:pt x="3937707" y="675409"/>
                  </a:lnTo>
                  <a:lnTo>
                    <a:pt x="303791" y="675409"/>
                  </a:lnTo>
                  <a:lnTo>
                    <a:pt x="303791" y="673095"/>
                  </a:lnTo>
                  <a:lnTo>
                    <a:pt x="284451" y="675410"/>
                  </a:lnTo>
                  <a:cubicBezTo>
                    <a:pt x="127353" y="675410"/>
                    <a:pt x="0" y="524214"/>
                    <a:pt x="0" y="337705"/>
                  </a:cubicBezTo>
                  <a:cubicBezTo>
                    <a:pt x="0" y="151196"/>
                    <a:pt x="127353" y="0"/>
                    <a:pt x="284451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2" name="文本框 3"/>
            <p:cNvSpPr/>
            <p:nvPr/>
          </p:nvSpPr>
          <p:spPr>
            <a:xfrm>
              <a:off x="4252320" y="1488240"/>
              <a:ext cx="435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收集篮：一切引起我们注意的事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组合 70"/>
          <p:cNvGrpSpPr/>
          <p:nvPr/>
        </p:nvGrpSpPr>
        <p:grpSpPr>
          <a:xfrm>
            <a:off x="3021120" y="2829960"/>
            <a:ext cx="755640" cy="755640"/>
            <a:chOff x="3021120" y="2829960"/>
            <a:chExt cx="755640" cy="755640"/>
          </a:xfrm>
        </p:grpSpPr>
        <p:sp>
          <p:nvSpPr>
            <p:cNvPr id="214" name="椭圆 71"/>
            <p:cNvSpPr/>
            <p:nvPr/>
          </p:nvSpPr>
          <p:spPr>
            <a:xfrm>
              <a:off x="3021120" y="282996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5" name="椭圆 72"/>
            <p:cNvSpPr/>
            <p:nvPr/>
          </p:nvSpPr>
          <p:spPr>
            <a:xfrm>
              <a:off x="3039120" y="284796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6" name="文本框 73"/>
            <p:cNvSpPr/>
            <p:nvPr/>
          </p:nvSpPr>
          <p:spPr>
            <a:xfrm>
              <a:off x="3155760" y="300780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辨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74"/>
          <p:cNvGrpSpPr/>
          <p:nvPr/>
        </p:nvGrpSpPr>
        <p:grpSpPr>
          <a:xfrm>
            <a:off x="5981400" y="2257560"/>
            <a:ext cx="755640" cy="755640"/>
            <a:chOff x="5981400" y="2257560"/>
            <a:chExt cx="755640" cy="755640"/>
          </a:xfrm>
        </p:grpSpPr>
        <p:sp>
          <p:nvSpPr>
            <p:cNvPr id="218" name="椭圆 76"/>
            <p:cNvSpPr/>
            <p:nvPr/>
          </p:nvSpPr>
          <p:spPr>
            <a:xfrm>
              <a:off x="5981400" y="225756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19" name="椭圆 77"/>
            <p:cNvSpPr/>
            <p:nvPr/>
          </p:nvSpPr>
          <p:spPr>
            <a:xfrm>
              <a:off x="5999400" y="227556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20" name="文本框 78"/>
            <p:cNvSpPr/>
            <p:nvPr/>
          </p:nvSpPr>
          <p:spPr>
            <a:xfrm>
              <a:off x="6116040" y="243576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辨别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组合 88"/>
          <p:cNvGrpSpPr/>
          <p:nvPr/>
        </p:nvGrpSpPr>
        <p:grpSpPr>
          <a:xfrm>
            <a:off x="5416560" y="3932640"/>
            <a:ext cx="1115640" cy="1115640"/>
            <a:chOff x="5416560" y="3932640"/>
            <a:chExt cx="1115640" cy="1115640"/>
          </a:xfrm>
        </p:grpSpPr>
        <p:grpSp>
          <p:nvGrpSpPr>
            <p:cNvPr id="222" name="组合 89"/>
            <p:cNvGrpSpPr/>
            <p:nvPr/>
          </p:nvGrpSpPr>
          <p:grpSpPr>
            <a:xfrm>
              <a:off x="5416560" y="3932640"/>
              <a:ext cx="1115640" cy="1115640"/>
              <a:chOff x="5416560" y="3932640"/>
              <a:chExt cx="1115640" cy="1115640"/>
            </a:xfrm>
          </p:grpSpPr>
          <p:sp>
            <p:nvSpPr>
              <p:cNvPr id="223" name="椭圆 91"/>
              <p:cNvSpPr/>
              <p:nvPr/>
            </p:nvSpPr>
            <p:spPr>
              <a:xfrm>
                <a:off x="5416560" y="39326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4" name="椭圆 92"/>
              <p:cNvSpPr/>
              <p:nvPr/>
            </p:nvSpPr>
            <p:spPr>
              <a:xfrm>
                <a:off x="5434560" y="39506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25" name="文本框 90"/>
            <p:cNvSpPr/>
            <p:nvPr/>
          </p:nvSpPr>
          <p:spPr>
            <a:xfrm>
              <a:off x="5731200" y="4136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参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资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93"/>
          <p:cNvGrpSpPr/>
          <p:nvPr/>
        </p:nvGrpSpPr>
        <p:grpSpPr>
          <a:xfrm>
            <a:off x="6486480" y="2986560"/>
            <a:ext cx="1115640" cy="1115640"/>
            <a:chOff x="6486480" y="2986560"/>
            <a:chExt cx="1115640" cy="1115640"/>
          </a:xfrm>
        </p:grpSpPr>
        <p:grpSp>
          <p:nvGrpSpPr>
            <p:cNvPr id="227" name="组合 94"/>
            <p:cNvGrpSpPr/>
            <p:nvPr/>
          </p:nvGrpSpPr>
          <p:grpSpPr>
            <a:xfrm>
              <a:off x="6486480" y="2986560"/>
              <a:ext cx="1115640" cy="1115640"/>
              <a:chOff x="6486480" y="2986560"/>
              <a:chExt cx="1115640" cy="1115640"/>
            </a:xfrm>
          </p:grpSpPr>
          <p:sp>
            <p:nvSpPr>
              <p:cNvPr id="228" name="椭圆 96"/>
              <p:cNvSpPr/>
              <p:nvPr/>
            </p:nvSpPr>
            <p:spPr>
              <a:xfrm>
                <a:off x="6486480" y="29865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29" name="椭圆 97"/>
              <p:cNvSpPr/>
              <p:nvPr/>
            </p:nvSpPr>
            <p:spPr>
              <a:xfrm>
                <a:off x="6504480" y="30045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0" name="文本框 95"/>
            <p:cNvSpPr/>
            <p:nvPr/>
          </p:nvSpPr>
          <p:spPr>
            <a:xfrm>
              <a:off x="6801120" y="31906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98"/>
          <p:cNvGrpSpPr/>
          <p:nvPr/>
        </p:nvGrpSpPr>
        <p:grpSpPr>
          <a:xfrm>
            <a:off x="4560840" y="2556720"/>
            <a:ext cx="1115640" cy="1115640"/>
            <a:chOff x="4560840" y="2556720"/>
            <a:chExt cx="1115640" cy="1115640"/>
          </a:xfrm>
        </p:grpSpPr>
        <p:grpSp>
          <p:nvGrpSpPr>
            <p:cNvPr id="232" name="组合 99"/>
            <p:cNvGrpSpPr/>
            <p:nvPr/>
          </p:nvGrpSpPr>
          <p:grpSpPr>
            <a:xfrm>
              <a:off x="4560840" y="2556720"/>
              <a:ext cx="1115640" cy="1115640"/>
              <a:chOff x="4560840" y="2556720"/>
              <a:chExt cx="1115640" cy="1115640"/>
            </a:xfrm>
          </p:grpSpPr>
          <p:sp>
            <p:nvSpPr>
              <p:cNvPr id="233" name="椭圆 101"/>
              <p:cNvSpPr/>
              <p:nvPr/>
            </p:nvSpPr>
            <p:spPr>
              <a:xfrm>
                <a:off x="4560840" y="25567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4" name="椭圆 102"/>
              <p:cNvSpPr/>
              <p:nvPr/>
            </p:nvSpPr>
            <p:spPr>
              <a:xfrm>
                <a:off x="4578840" y="25747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35" name="文本框 100"/>
            <p:cNvSpPr/>
            <p:nvPr/>
          </p:nvSpPr>
          <p:spPr>
            <a:xfrm>
              <a:off x="4875480" y="2760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不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103"/>
          <p:cNvGrpSpPr/>
          <p:nvPr/>
        </p:nvGrpSpPr>
        <p:grpSpPr>
          <a:xfrm>
            <a:off x="2122920" y="3914280"/>
            <a:ext cx="1115640" cy="1115640"/>
            <a:chOff x="2122920" y="3914280"/>
            <a:chExt cx="1115640" cy="1115640"/>
          </a:xfrm>
        </p:grpSpPr>
        <p:grpSp>
          <p:nvGrpSpPr>
            <p:cNvPr id="237" name="组合 104"/>
            <p:cNvGrpSpPr/>
            <p:nvPr/>
          </p:nvGrpSpPr>
          <p:grpSpPr>
            <a:xfrm>
              <a:off x="2122920" y="3914280"/>
              <a:ext cx="1115640" cy="1115640"/>
              <a:chOff x="2122920" y="3914280"/>
              <a:chExt cx="1115640" cy="1115640"/>
            </a:xfrm>
          </p:grpSpPr>
          <p:sp>
            <p:nvSpPr>
              <p:cNvPr id="238" name="椭圆 106"/>
              <p:cNvSpPr/>
              <p:nvPr/>
            </p:nvSpPr>
            <p:spPr>
              <a:xfrm>
                <a:off x="2122920" y="39142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39" name="椭圆 107"/>
              <p:cNvSpPr/>
              <p:nvPr/>
            </p:nvSpPr>
            <p:spPr>
              <a:xfrm>
                <a:off x="2140920" y="39322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40" name="文本框 105"/>
            <p:cNvSpPr/>
            <p:nvPr/>
          </p:nvSpPr>
          <p:spPr>
            <a:xfrm>
              <a:off x="2437560" y="4118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可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08"/>
          <p:cNvGrpSpPr/>
          <p:nvPr/>
        </p:nvGrpSpPr>
        <p:grpSpPr>
          <a:xfrm>
            <a:off x="727200" y="4128480"/>
            <a:ext cx="755640" cy="755640"/>
            <a:chOff x="727200" y="4128480"/>
            <a:chExt cx="755640" cy="755640"/>
          </a:xfrm>
        </p:grpSpPr>
        <p:sp>
          <p:nvSpPr>
            <p:cNvPr id="242" name="椭圆 109"/>
            <p:cNvSpPr/>
            <p:nvPr/>
          </p:nvSpPr>
          <p:spPr>
            <a:xfrm>
              <a:off x="727200" y="4128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3" name="椭圆 110"/>
            <p:cNvSpPr/>
            <p:nvPr/>
          </p:nvSpPr>
          <p:spPr>
            <a:xfrm>
              <a:off x="745200" y="4146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4" name="文本框 112"/>
            <p:cNvSpPr/>
            <p:nvPr/>
          </p:nvSpPr>
          <p:spPr>
            <a:xfrm>
              <a:off x="758520" y="4306320"/>
              <a:ext cx="693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组合 119"/>
          <p:cNvGrpSpPr/>
          <p:nvPr/>
        </p:nvGrpSpPr>
        <p:grpSpPr>
          <a:xfrm>
            <a:off x="836640" y="5009040"/>
            <a:ext cx="755640" cy="755640"/>
            <a:chOff x="836640" y="5009040"/>
            <a:chExt cx="755640" cy="755640"/>
          </a:xfrm>
        </p:grpSpPr>
        <p:sp>
          <p:nvSpPr>
            <p:cNvPr id="246" name="椭圆 120"/>
            <p:cNvSpPr/>
            <p:nvPr/>
          </p:nvSpPr>
          <p:spPr>
            <a:xfrm>
              <a:off x="836640" y="50090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7" name="椭圆 121"/>
            <p:cNvSpPr/>
            <p:nvPr/>
          </p:nvSpPr>
          <p:spPr>
            <a:xfrm>
              <a:off x="854640" y="502704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48" name="文本框 122"/>
            <p:cNvSpPr/>
            <p:nvPr/>
          </p:nvSpPr>
          <p:spPr>
            <a:xfrm>
              <a:off x="971280" y="51868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组合 125"/>
          <p:cNvGrpSpPr/>
          <p:nvPr/>
        </p:nvGrpSpPr>
        <p:grpSpPr>
          <a:xfrm>
            <a:off x="1441800" y="5721480"/>
            <a:ext cx="755640" cy="755640"/>
            <a:chOff x="1441800" y="5721480"/>
            <a:chExt cx="755640" cy="755640"/>
          </a:xfrm>
        </p:grpSpPr>
        <p:sp>
          <p:nvSpPr>
            <p:cNvPr id="250" name="椭圆 126"/>
            <p:cNvSpPr/>
            <p:nvPr/>
          </p:nvSpPr>
          <p:spPr>
            <a:xfrm>
              <a:off x="1441800" y="572148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1" name="椭圆 127"/>
            <p:cNvSpPr/>
            <p:nvPr/>
          </p:nvSpPr>
          <p:spPr>
            <a:xfrm>
              <a:off x="1459800" y="573948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2" name="文本框 128"/>
            <p:cNvSpPr/>
            <p:nvPr/>
          </p:nvSpPr>
          <p:spPr>
            <a:xfrm>
              <a:off x="1576440" y="58996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29"/>
          <p:cNvGrpSpPr/>
          <p:nvPr/>
        </p:nvGrpSpPr>
        <p:grpSpPr>
          <a:xfrm>
            <a:off x="2331720" y="5765040"/>
            <a:ext cx="755640" cy="755640"/>
            <a:chOff x="2331720" y="5765040"/>
            <a:chExt cx="755640" cy="755640"/>
          </a:xfrm>
        </p:grpSpPr>
        <p:sp>
          <p:nvSpPr>
            <p:cNvPr id="254" name="椭圆 130"/>
            <p:cNvSpPr/>
            <p:nvPr/>
          </p:nvSpPr>
          <p:spPr>
            <a:xfrm>
              <a:off x="2331720" y="5765040"/>
              <a:ext cx="755640" cy="755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5" name="椭圆 131"/>
            <p:cNvSpPr/>
            <p:nvPr/>
          </p:nvSpPr>
          <p:spPr>
            <a:xfrm>
              <a:off x="2349720" y="5783040"/>
              <a:ext cx="719640" cy="719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56" name="文本框 132"/>
            <p:cNvSpPr/>
            <p:nvPr/>
          </p:nvSpPr>
          <p:spPr>
            <a:xfrm>
              <a:off x="2466360" y="59428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组合 133"/>
          <p:cNvGrpSpPr/>
          <p:nvPr/>
        </p:nvGrpSpPr>
        <p:grpSpPr>
          <a:xfrm>
            <a:off x="3238920" y="5290920"/>
            <a:ext cx="1115640" cy="1115640"/>
            <a:chOff x="3238920" y="5290920"/>
            <a:chExt cx="1115640" cy="1115640"/>
          </a:xfrm>
        </p:grpSpPr>
        <p:grpSp>
          <p:nvGrpSpPr>
            <p:cNvPr id="258" name="组合 134"/>
            <p:cNvGrpSpPr/>
            <p:nvPr/>
          </p:nvGrpSpPr>
          <p:grpSpPr>
            <a:xfrm>
              <a:off x="3238920" y="5290920"/>
              <a:ext cx="1115640" cy="1115640"/>
              <a:chOff x="3238920" y="5290920"/>
              <a:chExt cx="1115640" cy="1115640"/>
            </a:xfrm>
          </p:grpSpPr>
          <p:sp>
            <p:nvSpPr>
              <p:cNvPr id="259" name="椭圆 136"/>
              <p:cNvSpPr/>
              <p:nvPr/>
            </p:nvSpPr>
            <p:spPr>
              <a:xfrm>
                <a:off x="3238920" y="52909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0" name="椭圆 137"/>
              <p:cNvSpPr/>
              <p:nvPr/>
            </p:nvSpPr>
            <p:spPr>
              <a:xfrm>
                <a:off x="3256920" y="53089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61" name="文本框 135"/>
            <p:cNvSpPr/>
            <p:nvPr/>
          </p:nvSpPr>
          <p:spPr>
            <a:xfrm>
              <a:off x="3553560" y="54946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39"/>
          <p:cNvGrpSpPr/>
          <p:nvPr/>
        </p:nvGrpSpPr>
        <p:grpSpPr>
          <a:xfrm>
            <a:off x="3601440" y="4060080"/>
            <a:ext cx="1115640" cy="1115640"/>
            <a:chOff x="3601440" y="4060080"/>
            <a:chExt cx="1115640" cy="1115640"/>
          </a:xfrm>
        </p:grpSpPr>
        <p:grpSp>
          <p:nvGrpSpPr>
            <p:cNvPr id="263" name="组合 140"/>
            <p:cNvGrpSpPr/>
            <p:nvPr/>
          </p:nvGrpSpPr>
          <p:grpSpPr>
            <a:xfrm>
              <a:off x="3601440" y="4060080"/>
              <a:ext cx="1115640" cy="1115640"/>
              <a:chOff x="3601440" y="4060080"/>
              <a:chExt cx="1115640" cy="1115640"/>
            </a:xfrm>
          </p:grpSpPr>
          <p:sp>
            <p:nvSpPr>
              <p:cNvPr id="264" name="椭圆 142"/>
              <p:cNvSpPr/>
              <p:nvPr/>
            </p:nvSpPr>
            <p:spPr>
              <a:xfrm>
                <a:off x="3601440" y="40600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65" name="椭圆 143"/>
              <p:cNvSpPr/>
              <p:nvPr/>
            </p:nvSpPr>
            <p:spPr>
              <a:xfrm>
                <a:off x="3619440" y="40780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66" name="文本框 141"/>
            <p:cNvSpPr/>
            <p:nvPr/>
          </p:nvSpPr>
          <p:spPr>
            <a:xfrm>
              <a:off x="3916440" y="42642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特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某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21"/>
          <p:cNvGrpSpPr/>
          <p:nvPr/>
        </p:nvGrpSpPr>
        <p:grpSpPr>
          <a:xfrm>
            <a:off x="336600" y="1310760"/>
            <a:ext cx="1804320" cy="755640"/>
            <a:chOff x="336600" y="1310760"/>
            <a:chExt cx="1804320" cy="755640"/>
          </a:xfrm>
        </p:grpSpPr>
        <p:sp>
          <p:nvSpPr>
            <p:cNvPr id="268" name="任意多边形 188"/>
            <p:cNvSpPr/>
            <p:nvPr/>
          </p:nvSpPr>
          <p:spPr>
            <a:xfrm>
              <a:off x="336600" y="131076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" name="椭圆 146"/>
            <p:cNvSpPr/>
            <p:nvPr/>
          </p:nvSpPr>
          <p:spPr>
            <a:xfrm>
              <a:off x="1402920" y="132876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" name="文本框 147"/>
            <p:cNvSpPr/>
            <p:nvPr/>
          </p:nvSpPr>
          <p:spPr>
            <a:xfrm>
              <a:off x="1508040" y="144792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辨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椭圆 150"/>
            <p:cNvSpPr/>
            <p:nvPr/>
          </p:nvSpPr>
          <p:spPr>
            <a:xfrm>
              <a:off x="444600" y="141876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" name="文本框 151"/>
            <p:cNvSpPr/>
            <p:nvPr/>
          </p:nvSpPr>
          <p:spPr>
            <a:xfrm>
              <a:off x="558720" y="148860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组合 189"/>
          <p:cNvGrpSpPr/>
          <p:nvPr/>
        </p:nvGrpSpPr>
        <p:grpSpPr>
          <a:xfrm>
            <a:off x="327600" y="2743200"/>
            <a:ext cx="2282760" cy="929160"/>
            <a:chOff x="327600" y="2743200"/>
            <a:chExt cx="2282760" cy="929160"/>
          </a:xfrm>
        </p:grpSpPr>
        <p:sp>
          <p:nvSpPr>
            <p:cNvPr id="274" name="任意多边形 190"/>
            <p:cNvSpPr/>
            <p:nvPr/>
          </p:nvSpPr>
          <p:spPr>
            <a:xfrm>
              <a:off x="327600" y="2743200"/>
              <a:ext cx="2282760" cy="929160"/>
            </a:xfrm>
            <a:custGeom>
              <a:avLst/>
              <a:gdLst>
                <a:gd name="textAreaLeft" fmla="*/ 0 w 2282760"/>
                <a:gd name="textAreaRight" fmla="*/ 2283120 w 22827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2282989" h="929370">
                  <a:moveTo>
                    <a:pt x="1895078" y="0"/>
                  </a:moveTo>
                  <a:cubicBezTo>
                    <a:pt x="2109315" y="0"/>
                    <a:pt x="2282989" y="206658"/>
                    <a:pt x="2282989" y="461584"/>
                  </a:cubicBezTo>
                  <a:cubicBezTo>
                    <a:pt x="2282989" y="716510"/>
                    <a:pt x="2109315" y="923168"/>
                    <a:pt x="1895078" y="923168"/>
                  </a:cubicBezTo>
                  <a:lnTo>
                    <a:pt x="1863674" y="919401"/>
                  </a:lnTo>
                  <a:lnTo>
                    <a:pt x="1863674" y="922846"/>
                  </a:lnTo>
                  <a:lnTo>
                    <a:pt x="1215126" y="922846"/>
                  </a:lnTo>
                  <a:lnTo>
                    <a:pt x="1160739" y="929370"/>
                  </a:lnTo>
                  <a:cubicBezTo>
                    <a:pt x="1026841" y="929370"/>
                    <a:pt x="908788" y="848644"/>
                    <a:pt x="839077" y="725862"/>
                  </a:cubicBezTo>
                  <a:lnTo>
                    <a:pt x="823392" y="691477"/>
                  </a:lnTo>
                  <a:lnTo>
                    <a:pt x="794146" y="680560"/>
                  </a:lnTo>
                  <a:cubicBezTo>
                    <a:pt x="770770" y="674809"/>
                    <a:pt x="746567" y="671788"/>
                    <a:pt x="721777" y="671788"/>
                  </a:cubicBezTo>
                  <a:lnTo>
                    <a:pt x="691771" y="675425"/>
                  </a:lnTo>
                  <a:lnTo>
                    <a:pt x="691444" y="676029"/>
                  </a:lnTo>
                  <a:cubicBezTo>
                    <a:pt x="623514" y="776577"/>
                    <a:pt x="508478" y="842685"/>
                    <a:pt x="378000" y="842685"/>
                  </a:cubicBezTo>
                  <a:cubicBezTo>
                    <a:pt x="169236" y="842685"/>
                    <a:pt x="0" y="673449"/>
                    <a:pt x="0" y="464685"/>
                  </a:cubicBezTo>
                  <a:cubicBezTo>
                    <a:pt x="0" y="255921"/>
                    <a:pt x="169236" y="86685"/>
                    <a:pt x="378000" y="86685"/>
                  </a:cubicBezTo>
                  <a:cubicBezTo>
                    <a:pt x="482382" y="86685"/>
                    <a:pt x="576882" y="128994"/>
                    <a:pt x="645287" y="197399"/>
                  </a:cubicBezTo>
                  <a:lnTo>
                    <a:pt x="686222" y="247013"/>
                  </a:lnTo>
                  <a:lnTo>
                    <a:pt x="698309" y="248478"/>
                  </a:lnTo>
                  <a:cubicBezTo>
                    <a:pt x="723099" y="248478"/>
                    <a:pt x="747302" y="245458"/>
                    <a:pt x="770678" y="239706"/>
                  </a:cubicBezTo>
                  <a:lnTo>
                    <a:pt x="837846" y="214636"/>
                  </a:lnTo>
                  <a:lnTo>
                    <a:pt x="861408" y="174176"/>
                  </a:lnTo>
                  <a:cubicBezTo>
                    <a:pt x="916746" y="94387"/>
                    <a:pt x="994179" y="37101"/>
                    <a:pt x="1082561" y="15580"/>
                  </a:cubicBezTo>
                  <a:lnTo>
                    <a:pt x="1129449" y="9956"/>
                  </a:lnTo>
                  <a:lnTo>
                    <a:pt x="1129449" y="7828"/>
                  </a:lnTo>
                  <a:lnTo>
                    <a:pt x="1147184" y="7828"/>
                  </a:lnTo>
                  <a:lnTo>
                    <a:pt x="1160739" y="6202"/>
                  </a:lnTo>
                  <a:lnTo>
                    <a:pt x="1174294" y="7828"/>
                  </a:lnTo>
                  <a:lnTo>
                    <a:pt x="1829820" y="7828"/>
                  </a:ln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" name="任意多边形 191"/>
            <p:cNvSpPr/>
            <p:nvPr/>
          </p:nvSpPr>
          <p:spPr>
            <a:xfrm>
              <a:off x="1185120" y="2786760"/>
              <a:ext cx="1389960" cy="842040"/>
            </a:xfrm>
            <a:custGeom>
              <a:avLst/>
              <a:gdLst>
                <a:gd name="textAreaLeft" fmla="*/ 0 w 1389960"/>
                <a:gd name="textAreaRight" fmla="*/ 1390320 w 138996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390436" h="842499">
                  <a:moveTo>
                    <a:pt x="347608" y="0"/>
                  </a:moveTo>
                  <a:lnTo>
                    <a:pt x="1075798" y="0"/>
                  </a:lnTo>
                  <a:lnTo>
                    <a:pt x="1075798" y="4029"/>
                  </a:lnTo>
                  <a:lnTo>
                    <a:pt x="1112882" y="8559"/>
                  </a:lnTo>
                  <a:cubicBezTo>
                    <a:pt x="1271282" y="47839"/>
                    <a:pt x="1390436" y="217682"/>
                    <a:pt x="1390436" y="421250"/>
                  </a:cubicBezTo>
                  <a:cubicBezTo>
                    <a:pt x="1390436" y="624818"/>
                    <a:pt x="1271282" y="794661"/>
                    <a:pt x="1112882" y="833941"/>
                  </a:cubicBezTo>
                  <a:lnTo>
                    <a:pt x="1075798" y="838471"/>
                  </a:lnTo>
                  <a:lnTo>
                    <a:pt x="1075798" y="842497"/>
                  </a:lnTo>
                  <a:lnTo>
                    <a:pt x="1042843" y="842497"/>
                  </a:lnTo>
                  <a:lnTo>
                    <a:pt x="1042827" y="842499"/>
                  </a:lnTo>
                  <a:lnTo>
                    <a:pt x="1042811" y="842497"/>
                  </a:lnTo>
                  <a:lnTo>
                    <a:pt x="347625" y="842497"/>
                  </a:lnTo>
                  <a:lnTo>
                    <a:pt x="347609" y="842499"/>
                  </a:lnTo>
                  <a:cubicBezTo>
                    <a:pt x="155630" y="842499"/>
                    <a:pt x="0" y="653899"/>
                    <a:pt x="0" y="421250"/>
                  </a:cubicBezTo>
                  <a:cubicBezTo>
                    <a:pt x="0" y="217682"/>
                    <a:pt x="119154" y="47839"/>
                    <a:pt x="277554" y="8559"/>
                  </a:cubicBezTo>
                  <a:lnTo>
                    <a:pt x="347608" y="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76" name="文本框 192"/>
            <p:cNvSpPr/>
            <p:nvPr/>
          </p:nvSpPr>
          <p:spPr>
            <a:xfrm>
              <a:off x="1422720" y="297720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确意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椭圆 193"/>
            <p:cNvSpPr/>
            <p:nvPr/>
          </p:nvSpPr>
          <p:spPr>
            <a:xfrm>
              <a:off x="435600" y="293796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" name="文本框 194"/>
            <p:cNvSpPr/>
            <p:nvPr/>
          </p:nvSpPr>
          <p:spPr>
            <a:xfrm>
              <a:off x="549720" y="300780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组合 55"/>
          <p:cNvGrpSpPr/>
          <p:nvPr/>
        </p:nvGrpSpPr>
        <p:grpSpPr>
          <a:xfrm>
            <a:off x="3281400" y="1135440"/>
            <a:ext cx="1115640" cy="1115640"/>
            <a:chOff x="3281400" y="1135440"/>
            <a:chExt cx="1115640" cy="1115640"/>
          </a:xfrm>
        </p:grpSpPr>
        <p:grpSp>
          <p:nvGrpSpPr>
            <p:cNvPr id="280" name="组合 56"/>
            <p:cNvGrpSpPr/>
            <p:nvPr/>
          </p:nvGrpSpPr>
          <p:grpSpPr>
            <a:xfrm>
              <a:off x="3281400" y="1135440"/>
              <a:ext cx="1115640" cy="1115640"/>
              <a:chOff x="3281400" y="1135440"/>
              <a:chExt cx="1115640" cy="1115640"/>
            </a:xfrm>
          </p:grpSpPr>
          <p:sp>
            <p:nvSpPr>
              <p:cNvPr id="281" name="椭圆 58"/>
              <p:cNvSpPr/>
              <p:nvPr/>
            </p:nvSpPr>
            <p:spPr>
              <a:xfrm>
                <a:off x="3281400" y="11354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82" name="椭圆 59"/>
              <p:cNvSpPr/>
              <p:nvPr/>
            </p:nvSpPr>
            <p:spPr>
              <a:xfrm>
                <a:off x="3299400" y="11534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83" name="文本框 57"/>
            <p:cNvSpPr/>
            <p:nvPr/>
          </p:nvSpPr>
          <p:spPr>
            <a:xfrm>
              <a:off x="3596040" y="13395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周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4" name="直接连接符 91"/>
          <p:cNvCxnSpPr/>
          <p:nvPr/>
        </p:nvCxnSpPr>
        <p:spPr>
          <a:xfrm>
            <a:off x="2736000" y="-60480"/>
            <a:ext cx="9360" cy="1195920"/>
          </a:xfrm>
          <a:prstGeom prst="straightConnector1">
            <a:avLst/>
          </a:prstGeom>
          <a:ln w="25400">
            <a:solidFill>
              <a:srgbClr val="000000"/>
            </a:solidFill>
          </a:ln>
        </p:spPr>
      </p:cxnSp>
      <p:grpSp>
        <p:nvGrpSpPr>
          <p:cNvPr id="285" name="组合 15"/>
          <p:cNvGrpSpPr/>
          <p:nvPr/>
        </p:nvGrpSpPr>
        <p:grpSpPr>
          <a:xfrm>
            <a:off x="2462400" y="3576600"/>
            <a:ext cx="4370760" cy="2456280"/>
            <a:chOff x="2462400" y="3576600"/>
            <a:chExt cx="4370760" cy="2456280"/>
          </a:xfrm>
        </p:grpSpPr>
        <p:sp>
          <p:nvSpPr>
            <p:cNvPr id="286" name="任意多边形 105"/>
            <p:cNvSpPr/>
            <p:nvPr/>
          </p:nvSpPr>
          <p:spPr>
            <a:xfrm rot="21292800">
              <a:off x="2519640" y="3763440"/>
              <a:ext cx="4255920" cy="1476720"/>
            </a:xfrm>
            <a:custGeom>
              <a:avLst/>
              <a:gdLst>
                <a:gd name="textAreaLeft" fmla="*/ 0 w 4255920"/>
                <a:gd name="textAreaRight" fmla="*/ 4256280 w 4255920"/>
                <a:gd name="textAreaTop" fmla="*/ 0 h 1476720"/>
                <a:gd name="textAreaBottom" fmla="*/ 1477080 h 1476720"/>
              </a:gdLst>
              <a:ahLst/>
              <a:rect l="textAreaLeft" t="textAreaTop" r="textAreaRight" b="textAreaBottom"/>
              <a:pathLst>
                <a:path w="4780345" h="1851949">
                  <a:moveTo>
                    <a:pt x="0" y="1851949"/>
                  </a:moveTo>
                  <a:cubicBezTo>
                    <a:pt x="932727" y="1826870"/>
                    <a:pt x="1865454" y="1801792"/>
                    <a:pt x="2662178" y="1493134"/>
                  </a:cubicBezTo>
                  <a:cubicBezTo>
                    <a:pt x="3458902" y="1184476"/>
                    <a:pt x="4780345" y="0"/>
                    <a:pt x="4780345" y="0"/>
                  </a:cubicBezTo>
                  <a:lnTo>
                    <a:pt x="4780345" y="0"/>
                  </a:ln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任意多边形 106"/>
            <p:cNvSpPr/>
            <p:nvPr/>
          </p:nvSpPr>
          <p:spPr>
            <a:xfrm rot="21152400">
              <a:off x="2595960" y="5271120"/>
              <a:ext cx="2636280" cy="592920"/>
            </a:xfrm>
            <a:custGeom>
              <a:avLst/>
              <a:gdLst>
                <a:gd name="textAreaLeft" fmla="*/ 0 w 2636280"/>
                <a:gd name="textAreaRight" fmla="*/ 2636640 w 2636280"/>
                <a:gd name="textAreaTop" fmla="*/ 0 h 592920"/>
                <a:gd name="textAreaBottom" fmla="*/ 593280 h 592920"/>
              </a:gdLst>
              <a:ahLst/>
              <a:rect l="textAreaLeft" t="textAreaTop" r="textAreaRight" b="textAreaBottom"/>
              <a:pathLst>
                <a:path w="3222844" h="193534">
                  <a:moveTo>
                    <a:pt x="0" y="0"/>
                  </a:moveTo>
                  <a:lnTo>
                    <a:pt x="2419109" y="11574"/>
                  </a:lnTo>
                  <a:cubicBezTo>
                    <a:pt x="2941899" y="40511"/>
                    <a:pt x="3009417" y="144683"/>
                    <a:pt x="3136739" y="173620"/>
                  </a:cubicBezTo>
                  <a:cubicBezTo>
                    <a:pt x="3264061" y="202557"/>
                    <a:pt x="3223549" y="193875"/>
                    <a:pt x="3183038" y="185194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任意多边形 107"/>
            <p:cNvSpPr/>
            <p:nvPr/>
          </p:nvSpPr>
          <p:spPr>
            <a:xfrm rot="21358200">
              <a:off x="2580840" y="4726800"/>
              <a:ext cx="3944160" cy="597960"/>
            </a:xfrm>
            <a:custGeom>
              <a:avLst/>
              <a:gdLst>
                <a:gd name="textAreaLeft" fmla="*/ 0 w 3944160"/>
                <a:gd name="textAreaRight" fmla="*/ 3944520 w 3944160"/>
                <a:gd name="textAreaTop" fmla="*/ 0 h 597960"/>
                <a:gd name="textAreaBottom" fmla="*/ 598320 h 597960"/>
              </a:gdLst>
              <a:ahLst/>
              <a:rect l="textAreaLeft" t="textAreaTop" r="textAreaRight" b="textAreaBottom"/>
              <a:pathLst>
                <a:path w="4740444" h="525760">
                  <a:moveTo>
                    <a:pt x="0" y="525760"/>
                  </a:moveTo>
                  <a:cubicBezTo>
                    <a:pt x="723418" y="495858"/>
                    <a:pt x="1479407" y="460738"/>
                    <a:pt x="2106593" y="375289"/>
                  </a:cubicBezTo>
                  <a:cubicBezTo>
                    <a:pt x="2733779" y="289840"/>
                    <a:pt x="3516024" y="43343"/>
                    <a:pt x="3763114" y="13065"/>
                  </a:cubicBezTo>
                  <a:cubicBezTo>
                    <a:pt x="4252129" y="-41007"/>
                    <a:pt x="4566823" y="87836"/>
                    <a:pt x="4740444" y="125454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任意多边形 108"/>
            <p:cNvSpPr/>
            <p:nvPr/>
          </p:nvSpPr>
          <p:spPr>
            <a:xfrm rot="21084600">
              <a:off x="2526480" y="4730040"/>
              <a:ext cx="1731960" cy="591840"/>
            </a:xfrm>
            <a:custGeom>
              <a:avLst/>
              <a:gdLst>
                <a:gd name="textAreaLeft" fmla="*/ 0 w 1731960"/>
                <a:gd name="textAreaRight" fmla="*/ 1732320 w 1731960"/>
                <a:gd name="textAreaTop" fmla="*/ 0 h 591840"/>
                <a:gd name="textAreaBottom" fmla="*/ 592200 h 591840"/>
              </a:gdLst>
              <a:ahLst/>
              <a:rect l="textAreaLeft" t="textAreaTop" r="textAreaRight" b="textAreaBottom"/>
              <a:pathLst>
                <a:path w="2296924" h="1013197">
                  <a:moveTo>
                    <a:pt x="0" y="1013197"/>
                  </a:moveTo>
                  <a:cubicBezTo>
                    <a:pt x="470704" y="1005480"/>
                    <a:pt x="762612" y="994542"/>
                    <a:pt x="1059126" y="947074"/>
                  </a:cubicBezTo>
                  <a:cubicBezTo>
                    <a:pt x="1355640" y="899606"/>
                    <a:pt x="1566690" y="842605"/>
                    <a:pt x="1779084" y="728386"/>
                  </a:cubicBezTo>
                  <a:cubicBezTo>
                    <a:pt x="1962350" y="575986"/>
                    <a:pt x="2226511" y="195804"/>
                    <a:pt x="2296924" y="-1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任意多边形 109"/>
            <p:cNvSpPr/>
            <p:nvPr/>
          </p:nvSpPr>
          <p:spPr>
            <a:xfrm rot="21247800">
              <a:off x="2606040" y="3782520"/>
              <a:ext cx="2904480" cy="1507320"/>
            </a:xfrm>
            <a:custGeom>
              <a:avLst/>
              <a:gdLst>
                <a:gd name="textAreaLeft" fmla="*/ 0 w 2904480"/>
                <a:gd name="textAreaRight" fmla="*/ 2904840 w 2904480"/>
                <a:gd name="textAreaTop" fmla="*/ 0 h 1507320"/>
                <a:gd name="textAreaBottom" fmla="*/ 1507680 h 1507320"/>
              </a:gdLst>
              <a:ahLst/>
              <a:rect l="textAreaLeft" t="textAreaTop" r="textAreaRight" b="textAreaBottom"/>
              <a:pathLst>
                <a:path w="3611301" h="2002420">
                  <a:moveTo>
                    <a:pt x="0" y="2002420"/>
                  </a:moveTo>
                  <a:cubicBezTo>
                    <a:pt x="462022" y="1999526"/>
                    <a:pt x="924045" y="1996632"/>
                    <a:pt x="1331088" y="1921397"/>
                  </a:cubicBezTo>
                  <a:cubicBezTo>
                    <a:pt x="1738131" y="1846162"/>
                    <a:pt x="2125883" y="1734273"/>
                    <a:pt x="2442258" y="1551007"/>
                  </a:cubicBezTo>
                  <a:cubicBezTo>
                    <a:pt x="2758633" y="1367741"/>
                    <a:pt x="3034496" y="1080303"/>
                    <a:pt x="3229336" y="821802"/>
                  </a:cubicBezTo>
                  <a:cubicBezTo>
                    <a:pt x="3343154" y="626961"/>
                    <a:pt x="3477227" y="313480"/>
                    <a:pt x="3611301" y="0"/>
                  </a:cubicBezTo>
                </a:path>
              </a:pathLst>
            </a:custGeom>
            <a:noFill/>
            <a:ln cap="rnd" w="25400">
              <a:solidFill>
                <a:srgbClr val="000000"/>
              </a:solidFill>
              <a:round/>
              <a:tailEnd len="lg" type="oval" w="lg"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291" name="组合 86"/>
          <p:cNvGrpSpPr/>
          <p:nvPr/>
        </p:nvGrpSpPr>
        <p:grpSpPr>
          <a:xfrm>
            <a:off x="6159600" y="2556000"/>
            <a:ext cx="1547640" cy="1547640"/>
            <a:chOff x="6159600" y="2556000"/>
            <a:chExt cx="1547640" cy="1547640"/>
          </a:xfrm>
        </p:grpSpPr>
        <p:grpSp>
          <p:nvGrpSpPr>
            <p:cNvPr id="292" name="组合 87"/>
            <p:cNvGrpSpPr/>
            <p:nvPr/>
          </p:nvGrpSpPr>
          <p:grpSpPr>
            <a:xfrm>
              <a:off x="6159600" y="2556000"/>
              <a:ext cx="1547640" cy="1547640"/>
              <a:chOff x="6159600" y="2556000"/>
              <a:chExt cx="1547640" cy="1547640"/>
            </a:xfrm>
          </p:grpSpPr>
          <p:sp>
            <p:nvSpPr>
              <p:cNvPr id="293" name="椭圆 89"/>
              <p:cNvSpPr/>
              <p:nvPr/>
            </p:nvSpPr>
            <p:spPr>
              <a:xfrm>
                <a:off x="6159600" y="25560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4" name="椭圆 90"/>
              <p:cNvSpPr/>
              <p:nvPr/>
            </p:nvSpPr>
            <p:spPr>
              <a:xfrm>
                <a:off x="6213600" y="26100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295" name="文本框 88"/>
            <p:cNvSpPr/>
            <p:nvPr/>
          </p:nvSpPr>
          <p:spPr>
            <a:xfrm>
              <a:off x="6446520" y="2914200"/>
              <a:ext cx="97380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“</a:t>
              </a:r>
              <a:r>
                <a:rPr b="1" lang="en-US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3+1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清单系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92"/>
          <p:cNvGrpSpPr/>
          <p:nvPr/>
        </p:nvGrpSpPr>
        <p:grpSpPr>
          <a:xfrm>
            <a:off x="4809240" y="3005280"/>
            <a:ext cx="1115640" cy="1115640"/>
            <a:chOff x="4809240" y="3005280"/>
            <a:chExt cx="1115640" cy="1115640"/>
          </a:xfrm>
        </p:grpSpPr>
        <p:grpSp>
          <p:nvGrpSpPr>
            <p:cNvPr id="297" name="组合 93"/>
            <p:cNvGrpSpPr/>
            <p:nvPr/>
          </p:nvGrpSpPr>
          <p:grpSpPr>
            <a:xfrm>
              <a:off x="4809240" y="3005280"/>
              <a:ext cx="1115640" cy="1115640"/>
              <a:chOff x="4809240" y="3005280"/>
              <a:chExt cx="1115640" cy="1115640"/>
            </a:xfrm>
          </p:grpSpPr>
          <p:sp>
            <p:nvSpPr>
              <p:cNvPr id="298" name="椭圆 95"/>
              <p:cNvSpPr/>
              <p:nvPr/>
            </p:nvSpPr>
            <p:spPr>
              <a:xfrm>
                <a:off x="4809240" y="300528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299" name="椭圆 96"/>
              <p:cNvSpPr/>
              <p:nvPr/>
            </p:nvSpPr>
            <p:spPr>
              <a:xfrm>
                <a:off x="4827240" y="302328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00" name="文本框 94"/>
            <p:cNvSpPr/>
            <p:nvPr/>
          </p:nvSpPr>
          <p:spPr>
            <a:xfrm>
              <a:off x="5123880" y="320940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将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97"/>
          <p:cNvGrpSpPr/>
          <p:nvPr/>
        </p:nvGrpSpPr>
        <p:grpSpPr>
          <a:xfrm>
            <a:off x="3599280" y="3857760"/>
            <a:ext cx="1115640" cy="1115640"/>
            <a:chOff x="3599280" y="3857760"/>
            <a:chExt cx="1115640" cy="1115640"/>
          </a:xfrm>
        </p:grpSpPr>
        <p:grpSp>
          <p:nvGrpSpPr>
            <p:cNvPr id="302" name="组合 98"/>
            <p:cNvGrpSpPr/>
            <p:nvPr/>
          </p:nvGrpSpPr>
          <p:grpSpPr>
            <a:xfrm>
              <a:off x="3599280" y="3857760"/>
              <a:ext cx="1115640" cy="1115640"/>
              <a:chOff x="3599280" y="3857760"/>
              <a:chExt cx="1115640" cy="1115640"/>
            </a:xfrm>
          </p:grpSpPr>
          <p:sp>
            <p:nvSpPr>
              <p:cNvPr id="303" name="椭圆 100"/>
              <p:cNvSpPr/>
              <p:nvPr/>
            </p:nvSpPr>
            <p:spPr>
              <a:xfrm>
                <a:off x="3599280" y="38577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4" name="椭圆 101"/>
              <p:cNvSpPr/>
              <p:nvPr/>
            </p:nvSpPr>
            <p:spPr>
              <a:xfrm>
                <a:off x="3617280" y="38757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05" name="文本框 99"/>
            <p:cNvSpPr/>
            <p:nvPr/>
          </p:nvSpPr>
          <p:spPr>
            <a:xfrm>
              <a:off x="3913920" y="40618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日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组合 102"/>
          <p:cNvGrpSpPr/>
          <p:nvPr/>
        </p:nvGrpSpPr>
        <p:grpSpPr>
          <a:xfrm>
            <a:off x="6245280" y="4389120"/>
            <a:ext cx="1115640" cy="1115640"/>
            <a:chOff x="6245280" y="4389120"/>
            <a:chExt cx="1115640" cy="1115640"/>
          </a:xfrm>
        </p:grpSpPr>
        <p:grpSp>
          <p:nvGrpSpPr>
            <p:cNvPr id="307" name="组合 103"/>
            <p:cNvGrpSpPr/>
            <p:nvPr/>
          </p:nvGrpSpPr>
          <p:grpSpPr>
            <a:xfrm>
              <a:off x="6245280" y="4389120"/>
              <a:ext cx="1115640" cy="1115640"/>
              <a:chOff x="6245280" y="4389120"/>
              <a:chExt cx="1115640" cy="1115640"/>
            </a:xfrm>
          </p:grpSpPr>
          <p:sp>
            <p:nvSpPr>
              <p:cNvPr id="308" name="椭圆 110"/>
              <p:cNvSpPr/>
              <p:nvPr/>
            </p:nvSpPr>
            <p:spPr>
              <a:xfrm>
                <a:off x="6245280" y="43891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09" name="椭圆 111"/>
              <p:cNvSpPr/>
              <p:nvPr/>
            </p:nvSpPr>
            <p:spPr>
              <a:xfrm>
                <a:off x="6263280" y="44071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0" name="文本框 104"/>
            <p:cNvSpPr/>
            <p:nvPr/>
          </p:nvSpPr>
          <p:spPr>
            <a:xfrm>
              <a:off x="6559920" y="45932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项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112"/>
          <p:cNvGrpSpPr/>
          <p:nvPr/>
        </p:nvGrpSpPr>
        <p:grpSpPr>
          <a:xfrm>
            <a:off x="4919760" y="5116320"/>
            <a:ext cx="1115640" cy="1115640"/>
            <a:chOff x="4919760" y="5116320"/>
            <a:chExt cx="1115640" cy="1115640"/>
          </a:xfrm>
        </p:grpSpPr>
        <p:grpSp>
          <p:nvGrpSpPr>
            <p:cNvPr id="312" name="组合 113"/>
            <p:cNvGrpSpPr/>
            <p:nvPr/>
          </p:nvGrpSpPr>
          <p:grpSpPr>
            <a:xfrm>
              <a:off x="4919760" y="5116320"/>
              <a:ext cx="1115640" cy="1115640"/>
              <a:chOff x="4919760" y="5116320"/>
              <a:chExt cx="1115640" cy="1115640"/>
            </a:xfrm>
          </p:grpSpPr>
          <p:sp>
            <p:nvSpPr>
              <p:cNvPr id="313" name="椭圆 115"/>
              <p:cNvSpPr/>
              <p:nvPr/>
            </p:nvSpPr>
            <p:spPr>
              <a:xfrm>
                <a:off x="4919760" y="51163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4" name="椭圆 116"/>
              <p:cNvSpPr/>
              <p:nvPr/>
            </p:nvSpPr>
            <p:spPr>
              <a:xfrm>
                <a:off x="4937760" y="51343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15" name="文本框 114"/>
            <p:cNvSpPr/>
            <p:nvPr/>
          </p:nvSpPr>
          <p:spPr>
            <a:xfrm>
              <a:off x="5234400" y="53204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117"/>
          <p:cNvGrpSpPr/>
          <p:nvPr/>
        </p:nvGrpSpPr>
        <p:grpSpPr>
          <a:xfrm>
            <a:off x="3007800" y="2018160"/>
            <a:ext cx="1115640" cy="1115640"/>
            <a:chOff x="3007800" y="2018160"/>
            <a:chExt cx="1115640" cy="1115640"/>
          </a:xfrm>
        </p:grpSpPr>
        <p:grpSp>
          <p:nvGrpSpPr>
            <p:cNvPr id="317" name="组合 118"/>
            <p:cNvGrpSpPr/>
            <p:nvPr/>
          </p:nvGrpSpPr>
          <p:grpSpPr>
            <a:xfrm>
              <a:off x="3007800" y="2018160"/>
              <a:ext cx="1115640" cy="1115640"/>
              <a:chOff x="3007800" y="2018160"/>
              <a:chExt cx="1115640" cy="1115640"/>
            </a:xfrm>
          </p:grpSpPr>
          <p:sp>
            <p:nvSpPr>
              <p:cNvPr id="318" name="椭圆 120"/>
              <p:cNvSpPr/>
              <p:nvPr/>
            </p:nvSpPr>
            <p:spPr>
              <a:xfrm>
                <a:off x="3007800" y="2018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19" name="椭圆 121"/>
              <p:cNvSpPr/>
              <p:nvPr/>
            </p:nvSpPr>
            <p:spPr>
              <a:xfrm>
                <a:off x="3025800" y="2036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20" name="文本框 119"/>
            <p:cNvSpPr/>
            <p:nvPr/>
          </p:nvSpPr>
          <p:spPr>
            <a:xfrm>
              <a:off x="3322440" y="22222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时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122"/>
          <p:cNvGrpSpPr/>
          <p:nvPr/>
        </p:nvGrpSpPr>
        <p:grpSpPr>
          <a:xfrm>
            <a:off x="2127600" y="2426040"/>
            <a:ext cx="1115640" cy="1115640"/>
            <a:chOff x="2127600" y="2426040"/>
            <a:chExt cx="1115640" cy="1115640"/>
          </a:xfrm>
        </p:grpSpPr>
        <p:grpSp>
          <p:nvGrpSpPr>
            <p:cNvPr id="322" name="组合 123"/>
            <p:cNvGrpSpPr/>
            <p:nvPr/>
          </p:nvGrpSpPr>
          <p:grpSpPr>
            <a:xfrm>
              <a:off x="2127600" y="2426040"/>
              <a:ext cx="1115640" cy="1115640"/>
              <a:chOff x="2127600" y="2426040"/>
              <a:chExt cx="1115640" cy="1115640"/>
            </a:xfrm>
          </p:grpSpPr>
          <p:sp>
            <p:nvSpPr>
              <p:cNvPr id="323" name="椭圆 125"/>
              <p:cNvSpPr/>
              <p:nvPr/>
            </p:nvSpPr>
            <p:spPr>
              <a:xfrm>
                <a:off x="2127600" y="24260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4" name="椭圆 126"/>
              <p:cNvSpPr/>
              <p:nvPr/>
            </p:nvSpPr>
            <p:spPr>
              <a:xfrm>
                <a:off x="2145600" y="24440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25" name="文本框 124"/>
            <p:cNvSpPr/>
            <p:nvPr/>
          </p:nvSpPr>
          <p:spPr>
            <a:xfrm>
              <a:off x="2442240" y="26301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描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结果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6" name="组合 127"/>
          <p:cNvGrpSpPr/>
          <p:nvPr/>
        </p:nvGrpSpPr>
        <p:grpSpPr>
          <a:xfrm>
            <a:off x="1238040" y="2072520"/>
            <a:ext cx="1115640" cy="1115640"/>
            <a:chOff x="1238040" y="2072520"/>
            <a:chExt cx="1115640" cy="1115640"/>
          </a:xfrm>
        </p:grpSpPr>
        <p:grpSp>
          <p:nvGrpSpPr>
            <p:cNvPr id="327" name="组合 128"/>
            <p:cNvGrpSpPr/>
            <p:nvPr/>
          </p:nvGrpSpPr>
          <p:grpSpPr>
            <a:xfrm>
              <a:off x="1238040" y="2072520"/>
              <a:ext cx="1115640" cy="1115640"/>
              <a:chOff x="1238040" y="2072520"/>
              <a:chExt cx="1115640" cy="1115640"/>
            </a:xfrm>
          </p:grpSpPr>
          <p:sp>
            <p:nvSpPr>
              <p:cNvPr id="328" name="椭圆 130"/>
              <p:cNvSpPr/>
              <p:nvPr/>
            </p:nvSpPr>
            <p:spPr>
              <a:xfrm>
                <a:off x="1238040" y="20725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29" name="椭圆 131"/>
              <p:cNvSpPr/>
              <p:nvPr/>
            </p:nvSpPr>
            <p:spPr>
              <a:xfrm>
                <a:off x="1256040" y="20905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30" name="文本框 129"/>
            <p:cNvSpPr/>
            <p:nvPr/>
          </p:nvSpPr>
          <p:spPr>
            <a:xfrm>
              <a:off x="1552680" y="2276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132"/>
          <p:cNvGrpSpPr/>
          <p:nvPr/>
        </p:nvGrpSpPr>
        <p:grpSpPr>
          <a:xfrm>
            <a:off x="1072080" y="1181160"/>
            <a:ext cx="1115640" cy="1115640"/>
            <a:chOff x="1072080" y="1181160"/>
            <a:chExt cx="1115640" cy="1115640"/>
          </a:xfrm>
        </p:grpSpPr>
        <p:grpSp>
          <p:nvGrpSpPr>
            <p:cNvPr id="332" name="组合 133"/>
            <p:cNvGrpSpPr/>
            <p:nvPr/>
          </p:nvGrpSpPr>
          <p:grpSpPr>
            <a:xfrm>
              <a:off x="1072080" y="1181160"/>
              <a:ext cx="1115640" cy="1115640"/>
              <a:chOff x="1072080" y="1181160"/>
              <a:chExt cx="1115640" cy="1115640"/>
            </a:xfrm>
          </p:grpSpPr>
          <p:sp>
            <p:nvSpPr>
              <p:cNvPr id="333" name="椭圆 135"/>
              <p:cNvSpPr/>
              <p:nvPr/>
            </p:nvSpPr>
            <p:spPr>
              <a:xfrm>
                <a:off x="1072080" y="1181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4" name="椭圆 136"/>
              <p:cNvSpPr/>
              <p:nvPr/>
            </p:nvSpPr>
            <p:spPr>
              <a:xfrm>
                <a:off x="1090080" y="1199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35" name="文本框 134"/>
            <p:cNvSpPr/>
            <p:nvPr/>
          </p:nvSpPr>
          <p:spPr>
            <a:xfrm>
              <a:off x="1386720" y="13852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动词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开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组合 81"/>
          <p:cNvGrpSpPr/>
          <p:nvPr/>
        </p:nvGrpSpPr>
        <p:grpSpPr>
          <a:xfrm>
            <a:off x="1969560" y="1008000"/>
            <a:ext cx="1547640" cy="1547640"/>
            <a:chOff x="1969560" y="1008000"/>
            <a:chExt cx="1547640" cy="1547640"/>
          </a:xfrm>
        </p:grpSpPr>
        <p:grpSp>
          <p:nvGrpSpPr>
            <p:cNvPr id="337" name="组合 82"/>
            <p:cNvGrpSpPr/>
            <p:nvPr/>
          </p:nvGrpSpPr>
          <p:grpSpPr>
            <a:xfrm>
              <a:off x="1969560" y="1008000"/>
              <a:ext cx="1547640" cy="1547640"/>
              <a:chOff x="1969560" y="1008000"/>
              <a:chExt cx="1547640" cy="1547640"/>
            </a:xfrm>
          </p:grpSpPr>
          <p:sp>
            <p:nvSpPr>
              <p:cNvPr id="338" name="椭圆 84"/>
              <p:cNvSpPr/>
              <p:nvPr/>
            </p:nvSpPr>
            <p:spPr>
              <a:xfrm>
                <a:off x="1969560" y="1008000"/>
                <a:ext cx="1547640" cy="1547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96786" dist="253851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39" name="椭圆 85"/>
              <p:cNvSpPr/>
              <p:nvPr/>
            </p:nvSpPr>
            <p:spPr>
              <a:xfrm>
                <a:off x="2023560" y="1062000"/>
                <a:ext cx="1439640" cy="143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40" name="文本框 83"/>
            <p:cNvSpPr/>
            <p:nvPr/>
          </p:nvSpPr>
          <p:spPr>
            <a:xfrm>
              <a:off x="2469960" y="1366200"/>
              <a:ext cx="5468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下一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组合 8"/>
          <p:cNvGrpSpPr/>
          <p:nvPr/>
        </p:nvGrpSpPr>
        <p:grpSpPr>
          <a:xfrm>
            <a:off x="349920" y="4909320"/>
            <a:ext cx="2282760" cy="929160"/>
            <a:chOff x="349920" y="4909320"/>
            <a:chExt cx="2282760" cy="929160"/>
          </a:xfrm>
        </p:grpSpPr>
        <p:sp>
          <p:nvSpPr>
            <p:cNvPr id="342" name="任意多边形 80"/>
            <p:cNvSpPr/>
            <p:nvPr/>
          </p:nvSpPr>
          <p:spPr>
            <a:xfrm>
              <a:off x="349920" y="4909320"/>
              <a:ext cx="2282760" cy="929160"/>
            </a:xfrm>
            <a:custGeom>
              <a:avLst/>
              <a:gdLst>
                <a:gd name="textAreaLeft" fmla="*/ 0 w 2282760"/>
                <a:gd name="textAreaRight" fmla="*/ 2283120 w 2282760"/>
                <a:gd name="textAreaTop" fmla="*/ 0 h 929160"/>
                <a:gd name="textAreaBottom" fmla="*/ 929520 h 929160"/>
              </a:gdLst>
              <a:ahLst/>
              <a:rect l="textAreaLeft" t="textAreaTop" r="textAreaRight" b="textAreaBottom"/>
              <a:pathLst>
                <a:path w="2282989" h="929370">
                  <a:moveTo>
                    <a:pt x="1895078" y="0"/>
                  </a:moveTo>
                  <a:cubicBezTo>
                    <a:pt x="2109315" y="0"/>
                    <a:pt x="2282989" y="206658"/>
                    <a:pt x="2282989" y="461584"/>
                  </a:cubicBezTo>
                  <a:cubicBezTo>
                    <a:pt x="2282989" y="716510"/>
                    <a:pt x="2109315" y="923168"/>
                    <a:pt x="1895078" y="923168"/>
                  </a:cubicBezTo>
                  <a:lnTo>
                    <a:pt x="1863674" y="919401"/>
                  </a:lnTo>
                  <a:lnTo>
                    <a:pt x="1863674" y="922846"/>
                  </a:lnTo>
                  <a:lnTo>
                    <a:pt x="1215126" y="922846"/>
                  </a:lnTo>
                  <a:lnTo>
                    <a:pt x="1160739" y="929370"/>
                  </a:lnTo>
                  <a:cubicBezTo>
                    <a:pt x="1026841" y="929370"/>
                    <a:pt x="908788" y="848644"/>
                    <a:pt x="839077" y="725862"/>
                  </a:cubicBezTo>
                  <a:lnTo>
                    <a:pt x="823392" y="691477"/>
                  </a:lnTo>
                  <a:lnTo>
                    <a:pt x="794146" y="680560"/>
                  </a:lnTo>
                  <a:cubicBezTo>
                    <a:pt x="770770" y="674809"/>
                    <a:pt x="746567" y="671788"/>
                    <a:pt x="721777" y="671788"/>
                  </a:cubicBezTo>
                  <a:lnTo>
                    <a:pt x="691771" y="675425"/>
                  </a:lnTo>
                  <a:lnTo>
                    <a:pt x="691444" y="676029"/>
                  </a:lnTo>
                  <a:cubicBezTo>
                    <a:pt x="623514" y="776577"/>
                    <a:pt x="508478" y="842685"/>
                    <a:pt x="378000" y="842685"/>
                  </a:cubicBezTo>
                  <a:cubicBezTo>
                    <a:pt x="169236" y="842685"/>
                    <a:pt x="0" y="673449"/>
                    <a:pt x="0" y="464685"/>
                  </a:cubicBezTo>
                  <a:cubicBezTo>
                    <a:pt x="0" y="255921"/>
                    <a:pt x="169236" y="86685"/>
                    <a:pt x="378000" y="86685"/>
                  </a:cubicBezTo>
                  <a:cubicBezTo>
                    <a:pt x="482382" y="86685"/>
                    <a:pt x="576882" y="128994"/>
                    <a:pt x="645287" y="197399"/>
                  </a:cubicBezTo>
                  <a:lnTo>
                    <a:pt x="686222" y="247013"/>
                  </a:lnTo>
                  <a:lnTo>
                    <a:pt x="698309" y="248478"/>
                  </a:lnTo>
                  <a:cubicBezTo>
                    <a:pt x="723099" y="248478"/>
                    <a:pt x="747302" y="245458"/>
                    <a:pt x="770678" y="239706"/>
                  </a:cubicBezTo>
                  <a:lnTo>
                    <a:pt x="837846" y="214636"/>
                  </a:lnTo>
                  <a:lnTo>
                    <a:pt x="861408" y="174176"/>
                  </a:lnTo>
                  <a:cubicBezTo>
                    <a:pt x="916746" y="94387"/>
                    <a:pt x="994179" y="37101"/>
                    <a:pt x="1082561" y="15580"/>
                  </a:cubicBezTo>
                  <a:lnTo>
                    <a:pt x="1129449" y="9956"/>
                  </a:lnTo>
                  <a:lnTo>
                    <a:pt x="1129449" y="7828"/>
                  </a:lnTo>
                  <a:lnTo>
                    <a:pt x="1147184" y="7828"/>
                  </a:lnTo>
                  <a:lnTo>
                    <a:pt x="1160739" y="6202"/>
                  </a:lnTo>
                  <a:lnTo>
                    <a:pt x="1174294" y="7828"/>
                  </a:lnTo>
                  <a:lnTo>
                    <a:pt x="1829820" y="7828"/>
                  </a:ln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3" name="任意多边形 3"/>
            <p:cNvSpPr/>
            <p:nvPr/>
          </p:nvSpPr>
          <p:spPr>
            <a:xfrm>
              <a:off x="1207080" y="4952880"/>
              <a:ext cx="1389960" cy="842040"/>
            </a:xfrm>
            <a:custGeom>
              <a:avLst/>
              <a:gdLst>
                <a:gd name="textAreaLeft" fmla="*/ 0 w 1389960"/>
                <a:gd name="textAreaRight" fmla="*/ 1390320 w 1389960"/>
                <a:gd name="textAreaTop" fmla="*/ 0 h 842040"/>
                <a:gd name="textAreaBottom" fmla="*/ 842400 h 842040"/>
              </a:gdLst>
              <a:ahLst/>
              <a:rect l="textAreaLeft" t="textAreaTop" r="textAreaRight" b="textAreaBottom"/>
              <a:pathLst>
                <a:path w="1390436" h="842499">
                  <a:moveTo>
                    <a:pt x="347608" y="0"/>
                  </a:moveTo>
                  <a:lnTo>
                    <a:pt x="1075798" y="0"/>
                  </a:lnTo>
                  <a:lnTo>
                    <a:pt x="1075798" y="4029"/>
                  </a:lnTo>
                  <a:lnTo>
                    <a:pt x="1112882" y="8559"/>
                  </a:lnTo>
                  <a:cubicBezTo>
                    <a:pt x="1271282" y="47839"/>
                    <a:pt x="1390436" y="217682"/>
                    <a:pt x="1390436" y="421250"/>
                  </a:cubicBezTo>
                  <a:cubicBezTo>
                    <a:pt x="1390436" y="624818"/>
                    <a:pt x="1271282" y="794661"/>
                    <a:pt x="1112882" y="833941"/>
                  </a:cubicBezTo>
                  <a:lnTo>
                    <a:pt x="1075798" y="838471"/>
                  </a:lnTo>
                  <a:lnTo>
                    <a:pt x="1075798" y="842497"/>
                  </a:lnTo>
                  <a:lnTo>
                    <a:pt x="1042843" y="842497"/>
                  </a:lnTo>
                  <a:lnTo>
                    <a:pt x="1042827" y="842499"/>
                  </a:lnTo>
                  <a:lnTo>
                    <a:pt x="1042811" y="842497"/>
                  </a:lnTo>
                  <a:lnTo>
                    <a:pt x="347625" y="842497"/>
                  </a:lnTo>
                  <a:lnTo>
                    <a:pt x="347609" y="842499"/>
                  </a:lnTo>
                  <a:cubicBezTo>
                    <a:pt x="155630" y="842499"/>
                    <a:pt x="0" y="653899"/>
                    <a:pt x="0" y="421250"/>
                  </a:cubicBezTo>
                  <a:cubicBezTo>
                    <a:pt x="0" y="217682"/>
                    <a:pt x="119154" y="47839"/>
                    <a:pt x="277554" y="8559"/>
                  </a:cubicBezTo>
                  <a:lnTo>
                    <a:pt x="347608" y="1"/>
                  </a:lnTo>
                  <a:close/>
                </a:path>
              </a:pathLst>
            </a:cu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4" name="文本框 6"/>
            <p:cNvSpPr/>
            <p:nvPr/>
          </p:nvSpPr>
          <p:spPr>
            <a:xfrm>
              <a:off x="1445040" y="514332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组织整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椭圆 78"/>
            <p:cNvSpPr/>
            <p:nvPr/>
          </p:nvSpPr>
          <p:spPr>
            <a:xfrm>
              <a:off x="457920" y="510408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46" name="文本框 79"/>
            <p:cNvSpPr/>
            <p:nvPr/>
          </p:nvSpPr>
          <p:spPr>
            <a:xfrm>
              <a:off x="572040" y="5174280"/>
              <a:ext cx="3272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d9d9d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椭圆 12"/>
          <p:cNvSpPr/>
          <p:nvPr/>
        </p:nvSpPr>
        <p:spPr>
          <a:xfrm rot="19503000">
            <a:off x="3198240" y="2476440"/>
            <a:ext cx="1209960" cy="2549160"/>
          </a:xfrm>
          <a:prstGeom prst="ellipse">
            <a:avLst/>
          </a:prstGeom>
          <a:noFill/>
          <a:ln w="25400">
            <a:solidFill>
              <a:srgbClr val="000000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48" name="组合 59"/>
          <p:cNvGrpSpPr/>
          <p:nvPr/>
        </p:nvGrpSpPr>
        <p:grpSpPr>
          <a:xfrm>
            <a:off x="2403360" y="4538880"/>
            <a:ext cx="2813400" cy="1629000"/>
            <a:chOff x="2403360" y="4538880"/>
            <a:chExt cx="2813400" cy="1629000"/>
          </a:xfrm>
        </p:grpSpPr>
        <p:grpSp>
          <p:nvGrpSpPr>
            <p:cNvPr id="349" name="组合 35"/>
            <p:cNvGrpSpPr/>
            <p:nvPr/>
          </p:nvGrpSpPr>
          <p:grpSpPr>
            <a:xfrm>
              <a:off x="2403360" y="4538880"/>
              <a:ext cx="2813400" cy="1629000"/>
              <a:chOff x="2403360" y="4538880"/>
              <a:chExt cx="2813400" cy="1629000"/>
            </a:xfrm>
          </p:grpSpPr>
          <p:sp>
            <p:nvSpPr>
              <p:cNvPr id="350" name="任意多边形 36"/>
              <p:cNvSpPr/>
              <p:nvPr/>
            </p:nvSpPr>
            <p:spPr>
              <a:xfrm rot="20443800">
                <a:off x="2455920" y="496368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1" name="任意多边形 37"/>
              <p:cNvSpPr/>
              <p:nvPr/>
            </p:nvSpPr>
            <p:spPr>
              <a:xfrm rot="20443800">
                <a:off x="2484720" y="50158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2" name="文本框 14"/>
            <p:cNvSpPr/>
            <p:nvPr/>
          </p:nvSpPr>
          <p:spPr>
            <a:xfrm rot="20443800">
              <a:off x="2855880" y="5303880"/>
              <a:ext cx="9432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空收集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组合 61"/>
          <p:cNvGrpSpPr/>
          <p:nvPr/>
        </p:nvGrpSpPr>
        <p:grpSpPr>
          <a:xfrm>
            <a:off x="4393800" y="4709520"/>
            <a:ext cx="2811600" cy="1652400"/>
            <a:chOff x="4393800" y="4709520"/>
            <a:chExt cx="2811600" cy="1652400"/>
          </a:xfrm>
        </p:grpSpPr>
        <p:grpSp>
          <p:nvGrpSpPr>
            <p:cNvPr id="354" name="组合 44"/>
            <p:cNvGrpSpPr/>
            <p:nvPr/>
          </p:nvGrpSpPr>
          <p:grpSpPr>
            <a:xfrm>
              <a:off x="4393800" y="4709520"/>
              <a:ext cx="2811600" cy="1652400"/>
              <a:chOff x="4393800" y="4709520"/>
              <a:chExt cx="2811600" cy="1652400"/>
            </a:xfrm>
          </p:grpSpPr>
          <p:sp>
            <p:nvSpPr>
              <p:cNvPr id="355" name="任意多边形 45"/>
              <p:cNvSpPr/>
              <p:nvPr/>
            </p:nvSpPr>
            <p:spPr>
              <a:xfrm rot="1191000">
                <a:off x="4445640" y="51458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56" name="任意多边形 46"/>
              <p:cNvSpPr/>
              <p:nvPr/>
            </p:nvSpPr>
            <p:spPr>
              <a:xfrm rot="1191000">
                <a:off x="4474440" y="51976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57" name="文本框 17"/>
            <p:cNvSpPr/>
            <p:nvPr/>
          </p:nvSpPr>
          <p:spPr>
            <a:xfrm rot="1191000">
              <a:off x="5313600" y="5412600"/>
              <a:ext cx="14004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整理收集到的资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57"/>
          <p:cNvGrpSpPr/>
          <p:nvPr/>
        </p:nvGrpSpPr>
        <p:grpSpPr>
          <a:xfrm>
            <a:off x="364320" y="2406960"/>
            <a:ext cx="2808720" cy="1302480"/>
            <a:chOff x="364320" y="2406960"/>
            <a:chExt cx="2808720" cy="1302480"/>
          </a:xfrm>
        </p:grpSpPr>
        <p:grpSp>
          <p:nvGrpSpPr>
            <p:cNvPr id="359" name="组合 38"/>
            <p:cNvGrpSpPr/>
            <p:nvPr/>
          </p:nvGrpSpPr>
          <p:grpSpPr>
            <a:xfrm>
              <a:off x="364320" y="2406960"/>
              <a:ext cx="2808720" cy="1302480"/>
              <a:chOff x="364320" y="2406960"/>
              <a:chExt cx="2808720" cy="1302480"/>
            </a:xfrm>
          </p:grpSpPr>
          <p:sp>
            <p:nvSpPr>
              <p:cNvPr id="360" name="任意多边形 39"/>
              <p:cNvSpPr/>
              <p:nvPr/>
            </p:nvSpPr>
            <p:spPr>
              <a:xfrm rot="20911200">
                <a:off x="414720" y="266832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1" name="任意多边形 40"/>
              <p:cNvSpPr/>
              <p:nvPr/>
            </p:nvSpPr>
            <p:spPr>
              <a:xfrm rot="20911200">
                <a:off x="443520" y="272052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2" name="文本框 11"/>
            <p:cNvSpPr/>
            <p:nvPr/>
          </p:nvSpPr>
          <p:spPr>
            <a:xfrm rot="20911200">
              <a:off x="907920" y="2875320"/>
              <a:ext cx="15526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明天的规划是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组合 56"/>
          <p:cNvGrpSpPr/>
          <p:nvPr/>
        </p:nvGrpSpPr>
        <p:grpSpPr>
          <a:xfrm>
            <a:off x="601920" y="1675440"/>
            <a:ext cx="2781000" cy="1092960"/>
            <a:chOff x="601920" y="1675440"/>
            <a:chExt cx="2781000" cy="1092960"/>
          </a:xfrm>
        </p:grpSpPr>
        <p:grpSp>
          <p:nvGrpSpPr>
            <p:cNvPr id="364" name="组合 47"/>
            <p:cNvGrpSpPr/>
            <p:nvPr/>
          </p:nvGrpSpPr>
          <p:grpSpPr>
            <a:xfrm>
              <a:off x="601920" y="1675440"/>
              <a:ext cx="2781000" cy="1092960"/>
              <a:chOff x="601920" y="1675440"/>
              <a:chExt cx="2781000" cy="1092960"/>
            </a:xfrm>
          </p:grpSpPr>
          <p:sp>
            <p:nvSpPr>
              <p:cNvPr id="365" name="任意多边形 48"/>
              <p:cNvSpPr/>
              <p:nvPr/>
            </p:nvSpPr>
            <p:spPr>
              <a:xfrm rot="406200">
                <a:off x="638280" y="18320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66" name="任意多边形 49"/>
              <p:cNvSpPr/>
              <p:nvPr/>
            </p:nvSpPr>
            <p:spPr>
              <a:xfrm rot="406200">
                <a:off x="667080" y="188424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67" name="文本框 8"/>
            <p:cNvSpPr/>
            <p:nvPr/>
          </p:nvSpPr>
          <p:spPr>
            <a:xfrm rot="406200">
              <a:off x="1065600" y="1994760"/>
              <a:ext cx="14004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今天做了些什么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55"/>
          <p:cNvGrpSpPr/>
          <p:nvPr/>
        </p:nvGrpSpPr>
        <p:grpSpPr>
          <a:xfrm>
            <a:off x="3174840" y="2279160"/>
            <a:ext cx="3993120" cy="779040"/>
            <a:chOff x="3174840" y="2279160"/>
            <a:chExt cx="3993120" cy="779040"/>
          </a:xfrm>
        </p:grpSpPr>
        <p:grpSp>
          <p:nvGrpSpPr>
            <p:cNvPr id="369" name="组合 51"/>
            <p:cNvGrpSpPr/>
            <p:nvPr/>
          </p:nvGrpSpPr>
          <p:grpSpPr>
            <a:xfrm>
              <a:off x="3174840" y="2279160"/>
              <a:ext cx="3993120" cy="779040"/>
              <a:chOff x="3174840" y="2279160"/>
              <a:chExt cx="3993120" cy="779040"/>
            </a:xfrm>
          </p:grpSpPr>
          <p:sp>
            <p:nvSpPr>
              <p:cNvPr id="370" name="任意多边形 53"/>
              <p:cNvSpPr/>
              <p:nvPr/>
            </p:nvSpPr>
            <p:spPr>
              <a:xfrm>
                <a:off x="3174840" y="227916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1" name="任意多边形 54"/>
              <p:cNvSpPr/>
              <p:nvPr/>
            </p:nvSpPr>
            <p:spPr>
              <a:xfrm>
                <a:off x="3204000" y="233100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72" name="文本框 10"/>
            <p:cNvSpPr/>
            <p:nvPr/>
          </p:nvSpPr>
          <p:spPr>
            <a:xfrm>
              <a:off x="4962240" y="2489040"/>
              <a:ext cx="17049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推进了哪些重要的事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29"/>
          <p:cNvGrpSpPr/>
          <p:nvPr/>
        </p:nvGrpSpPr>
        <p:grpSpPr>
          <a:xfrm>
            <a:off x="3337920" y="911520"/>
            <a:ext cx="4050000" cy="1879200"/>
            <a:chOff x="3337920" y="911520"/>
            <a:chExt cx="4050000" cy="1879200"/>
          </a:xfrm>
        </p:grpSpPr>
        <p:grpSp>
          <p:nvGrpSpPr>
            <p:cNvPr id="374" name="组合 18"/>
            <p:cNvGrpSpPr/>
            <p:nvPr/>
          </p:nvGrpSpPr>
          <p:grpSpPr>
            <a:xfrm>
              <a:off x="3337920" y="911520"/>
              <a:ext cx="4050000" cy="1879200"/>
              <a:chOff x="3337920" y="911520"/>
              <a:chExt cx="4050000" cy="1879200"/>
            </a:xfrm>
          </p:grpSpPr>
          <p:sp>
            <p:nvSpPr>
              <p:cNvPr id="375" name="任意多边形 19"/>
              <p:cNvSpPr/>
              <p:nvPr/>
            </p:nvSpPr>
            <p:spPr>
              <a:xfrm rot="20611800">
                <a:off x="3366360" y="1461600"/>
                <a:ext cx="3993120" cy="779040"/>
              </a:xfrm>
              <a:custGeom>
                <a:avLst/>
                <a:gdLst>
                  <a:gd name="textAreaLeft" fmla="*/ 0 w 3993120"/>
                  <a:gd name="textAreaRight" fmla="*/ 3993480 w 39931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3993576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3680117" y="0"/>
                    </a:lnTo>
                    <a:lnTo>
                      <a:pt x="3680835" y="0"/>
                    </a:lnTo>
                    <a:lnTo>
                      <a:pt x="3680835" y="90"/>
                    </a:lnTo>
                    <a:lnTo>
                      <a:pt x="3743290" y="7917"/>
                    </a:lnTo>
                    <a:cubicBezTo>
                      <a:pt x="3886128" y="44251"/>
                      <a:pt x="3993576" y="201357"/>
                      <a:pt x="3993576" y="389659"/>
                    </a:cubicBezTo>
                    <a:cubicBezTo>
                      <a:pt x="3993576" y="577962"/>
                      <a:pt x="3886128" y="735067"/>
                      <a:pt x="3743290" y="771402"/>
                    </a:cubicBezTo>
                    <a:lnTo>
                      <a:pt x="3680835" y="779228"/>
                    </a:lnTo>
                    <a:lnTo>
                      <a:pt x="3680835" y="779318"/>
                    </a:lnTo>
                    <a:lnTo>
                      <a:pt x="3680117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76" name="任意多边形 20"/>
              <p:cNvSpPr/>
              <p:nvPr/>
            </p:nvSpPr>
            <p:spPr>
              <a:xfrm rot="20611800">
                <a:off x="3395160" y="1513080"/>
                <a:ext cx="3935160" cy="675000"/>
              </a:xfrm>
              <a:custGeom>
                <a:avLst/>
                <a:gdLst>
                  <a:gd name="textAreaLeft" fmla="*/ 0 w 3935160"/>
                  <a:gd name="textAreaRight" fmla="*/ 3935520 w 393516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3935560" h="675411">
                    <a:moveTo>
                      <a:pt x="268867" y="0"/>
                    </a:moveTo>
                    <a:lnTo>
                      <a:pt x="3653273" y="0"/>
                    </a:lnTo>
                    <a:lnTo>
                      <a:pt x="3653273" y="260"/>
                    </a:lnTo>
                    <a:lnTo>
                      <a:pt x="3708436" y="6862"/>
                    </a:lnTo>
                    <a:cubicBezTo>
                      <a:pt x="3838056" y="38352"/>
                      <a:pt x="3935560" y="174511"/>
                      <a:pt x="3935560" y="337706"/>
                    </a:cubicBezTo>
                    <a:cubicBezTo>
                      <a:pt x="3935560" y="500902"/>
                      <a:pt x="3838056" y="637060"/>
                      <a:pt x="3708436" y="668550"/>
                    </a:cubicBezTo>
                    <a:lnTo>
                      <a:pt x="3653273" y="675152"/>
                    </a:lnTo>
                    <a:lnTo>
                      <a:pt x="3653273" y="675409"/>
                    </a:lnTo>
                    <a:lnTo>
                      <a:pt x="3651126" y="675409"/>
                    </a:lnTo>
                    <a:lnTo>
                      <a:pt x="3651109" y="675411"/>
                    </a:lnTo>
                    <a:lnTo>
                      <a:pt x="3651093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5" y="675409"/>
                    </a:lnTo>
                    <a:lnTo>
                      <a:pt x="268867" y="675409"/>
                    </a:lnTo>
                    <a:lnTo>
                      <a:pt x="268867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7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77" name="文本框 9"/>
            <p:cNvSpPr/>
            <p:nvPr/>
          </p:nvSpPr>
          <p:spPr>
            <a:xfrm rot="20611800">
              <a:off x="4398120" y="1610640"/>
              <a:ext cx="23148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哪些比较满意，哪些不满意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58"/>
          <p:cNvGrpSpPr/>
          <p:nvPr/>
        </p:nvGrpSpPr>
        <p:grpSpPr>
          <a:xfrm>
            <a:off x="2080440" y="3910320"/>
            <a:ext cx="2817720" cy="1483200"/>
            <a:chOff x="2080440" y="3910320"/>
            <a:chExt cx="2817720" cy="1483200"/>
          </a:xfrm>
        </p:grpSpPr>
        <p:grpSp>
          <p:nvGrpSpPr>
            <p:cNvPr id="379" name="组合 21"/>
            <p:cNvGrpSpPr/>
            <p:nvPr/>
          </p:nvGrpSpPr>
          <p:grpSpPr>
            <a:xfrm>
              <a:off x="2080440" y="3910320"/>
              <a:ext cx="2817720" cy="1483200"/>
              <a:chOff x="2080440" y="3910320"/>
              <a:chExt cx="2817720" cy="1483200"/>
            </a:xfrm>
          </p:grpSpPr>
          <p:sp>
            <p:nvSpPr>
              <p:cNvPr id="380" name="任意多边形 22"/>
              <p:cNvSpPr/>
              <p:nvPr/>
            </p:nvSpPr>
            <p:spPr>
              <a:xfrm rot="942600">
                <a:off x="2135160" y="42620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1" name="任意多边形 23"/>
              <p:cNvSpPr/>
              <p:nvPr/>
            </p:nvSpPr>
            <p:spPr>
              <a:xfrm rot="942600">
                <a:off x="2163960" y="431424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2" name="文本框 16"/>
            <p:cNvSpPr/>
            <p:nvPr/>
          </p:nvSpPr>
          <p:spPr>
            <a:xfrm rot="942600">
              <a:off x="2563560" y="4345200"/>
              <a:ext cx="109548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视年度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组合 60"/>
          <p:cNvGrpSpPr/>
          <p:nvPr/>
        </p:nvGrpSpPr>
        <p:grpSpPr>
          <a:xfrm>
            <a:off x="4416840" y="3813840"/>
            <a:ext cx="2815560" cy="1402200"/>
            <a:chOff x="4416840" y="3813840"/>
            <a:chExt cx="2815560" cy="1402200"/>
          </a:xfrm>
        </p:grpSpPr>
        <p:grpSp>
          <p:nvGrpSpPr>
            <p:cNvPr id="384" name="组合 41"/>
            <p:cNvGrpSpPr/>
            <p:nvPr/>
          </p:nvGrpSpPr>
          <p:grpSpPr>
            <a:xfrm>
              <a:off x="4416840" y="3813840"/>
              <a:ext cx="2815560" cy="1402200"/>
              <a:chOff x="4416840" y="3813840"/>
              <a:chExt cx="2815560" cy="1402200"/>
            </a:xfrm>
          </p:grpSpPr>
          <p:sp>
            <p:nvSpPr>
              <p:cNvPr id="385" name="任意多边形 42"/>
              <p:cNvSpPr/>
              <p:nvPr/>
            </p:nvSpPr>
            <p:spPr>
              <a:xfrm rot="20772600">
                <a:off x="4470480" y="4125240"/>
                <a:ext cx="2707920" cy="779040"/>
              </a:xfrm>
              <a:custGeom>
                <a:avLst/>
                <a:gdLst>
                  <a:gd name="textAreaLeft" fmla="*/ 0 w 2707920"/>
                  <a:gd name="textAreaRight" fmla="*/ 2708280 w 270792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2708132" h="779318">
                    <a:moveTo>
                      <a:pt x="313459" y="0"/>
                    </a:moveTo>
                    <a:lnTo>
                      <a:pt x="342467" y="3635"/>
                    </a:lnTo>
                    <a:lnTo>
                      <a:pt x="342467" y="0"/>
                    </a:lnTo>
                    <a:lnTo>
                      <a:pt x="2365664" y="0"/>
                    </a:lnTo>
                    <a:lnTo>
                      <a:pt x="2365664" y="3635"/>
                    </a:lnTo>
                    <a:lnTo>
                      <a:pt x="2394673" y="0"/>
                    </a:lnTo>
                    <a:cubicBezTo>
                      <a:pt x="2567792" y="0"/>
                      <a:pt x="2708132" y="174456"/>
                      <a:pt x="2708132" y="389659"/>
                    </a:cubicBezTo>
                    <a:cubicBezTo>
                      <a:pt x="2708132" y="604862"/>
                      <a:pt x="2567792" y="779318"/>
                      <a:pt x="2394673" y="779318"/>
                    </a:cubicBezTo>
                    <a:lnTo>
                      <a:pt x="2365664" y="775683"/>
                    </a:lnTo>
                    <a:lnTo>
                      <a:pt x="2365664" y="779318"/>
                    </a:lnTo>
                    <a:lnTo>
                      <a:pt x="342467" y="779318"/>
                    </a:lnTo>
                    <a:lnTo>
                      <a:pt x="342467" y="775683"/>
                    </a:lnTo>
                    <a:lnTo>
                      <a:pt x="313459" y="779318"/>
                    </a:lnTo>
                    <a:cubicBezTo>
                      <a:pt x="140340" y="779318"/>
                      <a:pt x="0" y="604862"/>
                      <a:pt x="0" y="389659"/>
                    </a:cubicBezTo>
                    <a:cubicBezTo>
                      <a:pt x="0" y="174456"/>
                      <a:pt x="140340" y="0"/>
                      <a:pt x="3134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86" name="任意多边形 43"/>
              <p:cNvSpPr/>
              <p:nvPr/>
            </p:nvSpPr>
            <p:spPr>
              <a:xfrm rot="20772600">
                <a:off x="4499640" y="4177080"/>
                <a:ext cx="2649600" cy="675000"/>
              </a:xfrm>
              <a:custGeom>
                <a:avLst/>
                <a:gdLst>
                  <a:gd name="textAreaLeft" fmla="*/ 0 w 2649600"/>
                  <a:gd name="textAreaRight" fmla="*/ 2649960 w 264960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2650116" h="675411">
                    <a:moveTo>
                      <a:pt x="268866" y="0"/>
                    </a:moveTo>
                    <a:lnTo>
                      <a:pt x="2336657" y="0"/>
                    </a:lnTo>
                    <a:lnTo>
                      <a:pt x="2336657" y="3473"/>
                    </a:lnTo>
                    <a:lnTo>
                      <a:pt x="2365665" y="1"/>
                    </a:lnTo>
                    <a:cubicBezTo>
                      <a:pt x="2522763" y="1"/>
                      <a:pt x="2650116" y="151197"/>
                      <a:pt x="2650116" y="337706"/>
                    </a:cubicBezTo>
                    <a:cubicBezTo>
                      <a:pt x="2650116" y="524215"/>
                      <a:pt x="2522763" y="675411"/>
                      <a:pt x="2365665" y="675411"/>
                    </a:cubicBezTo>
                    <a:lnTo>
                      <a:pt x="2336657" y="671940"/>
                    </a:lnTo>
                    <a:lnTo>
                      <a:pt x="2336657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87" name="文本框 15"/>
            <p:cNvSpPr/>
            <p:nvPr/>
          </p:nvSpPr>
          <p:spPr>
            <a:xfrm rot="20772600">
              <a:off x="5173920" y="4286520"/>
              <a:ext cx="15343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检视“</a:t>
              </a: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3+1”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清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64"/>
          <p:cNvGrpSpPr/>
          <p:nvPr/>
        </p:nvGrpSpPr>
        <p:grpSpPr>
          <a:xfrm>
            <a:off x="2698200" y="1994760"/>
            <a:ext cx="1115640" cy="1115640"/>
            <a:chOff x="2698200" y="1994760"/>
            <a:chExt cx="1115640" cy="1115640"/>
          </a:xfrm>
        </p:grpSpPr>
        <p:grpSp>
          <p:nvGrpSpPr>
            <p:cNvPr id="389" name="组合 65"/>
            <p:cNvGrpSpPr/>
            <p:nvPr/>
          </p:nvGrpSpPr>
          <p:grpSpPr>
            <a:xfrm>
              <a:off x="2698200" y="1994760"/>
              <a:ext cx="1115640" cy="1115640"/>
              <a:chOff x="2698200" y="1994760"/>
              <a:chExt cx="1115640" cy="1115640"/>
            </a:xfrm>
          </p:grpSpPr>
          <p:sp>
            <p:nvSpPr>
              <p:cNvPr id="390" name="椭圆 67"/>
              <p:cNvSpPr/>
              <p:nvPr/>
            </p:nvSpPr>
            <p:spPr>
              <a:xfrm>
                <a:off x="2698200" y="19947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1" name="椭圆 68"/>
              <p:cNvSpPr/>
              <p:nvPr/>
            </p:nvSpPr>
            <p:spPr>
              <a:xfrm>
                <a:off x="2716200" y="20127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92" name="文本框 66"/>
            <p:cNvSpPr/>
            <p:nvPr/>
          </p:nvSpPr>
          <p:spPr>
            <a:xfrm>
              <a:off x="3012840" y="21988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每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四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" name="组合 77"/>
          <p:cNvGrpSpPr/>
          <p:nvPr/>
        </p:nvGrpSpPr>
        <p:grpSpPr>
          <a:xfrm>
            <a:off x="3869640" y="4432320"/>
            <a:ext cx="1115640" cy="1115640"/>
            <a:chOff x="3869640" y="4432320"/>
            <a:chExt cx="1115640" cy="1115640"/>
          </a:xfrm>
        </p:grpSpPr>
        <p:grpSp>
          <p:nvGrpSpPr>
            <p:cNvPr id="394" name="组合 78"/>
            <p:cNvGrpSpPr/>
            <p:nvPr/>
          </p:nvGrpSpPr>
          <p:grpSpPr>
            <a:xfrm>
              <a:off x="3869640" y="4432320"/>
              <a:ext cx="1115640" cy="1115640"/>
              <a:chOff x="3869640" y="4432320"/>
              <a:chExt cx="1115640" cy="1115640"/>
            </a:xfrm>
          </p:grpSpPr>
          <p:sp>
            <p:nvSpPr>
              <p:cNvPr id="395" name="椭圆 80"/>
              <p:cNvSpPr/>
              <p:nvPr/>
            </p:nvSpPr>
            <p:spPr>
              <a:xfrm>
                <a:off x="3869640" y="443232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396" name="椭圆 81"/>
              <p:cNvSpPr/>
              <p:nvPr/>
            </p:nvSpPr>
            <p:spPr>
              <a:xfrm>
                <a:off x="3887640" y="445032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97" name="文本框 79"/>
            <p:cNvSpPr/>
            <p:nvPr/>
          </p:nvSpPr>
          <p:spPr>
            <a:xfrm>
              <a:off x="4184280" y="46364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每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回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24"/>
          <p:cNvGrpSpPr/>
          <p:nvPr/>
        </p:nvGrpSpPr>
        <p:grpSpPr>
          <a:xfrm>
            <a:off x="1140840" y="736200"/>
            <a:ext cx="2215080" cy="2604600"/>
            <a:chOff x="1140840" y="736200"/>
            <a:chExt cx="2215080" cy="2604600"/>
          </a:xfrm>
        </p:grpSpPr>
        <p:sp>
          <p:nvSpPr>
            <p:cNvPr id="399" name="弧形 13"/>
            <p:cNvSpPr/>
            <p:nvPr/>
          </p:nvSpPr>
          <p:spPr>
            <a:xfrm>
              <a:off x="1140840" y="736200"/>
              <a:ext cx="2114280" cy="2604600"/>
            </a:xfrm>
            <a:prstGeom prst="arc">
              <a:avLst>
                <a:gd name="adj1" fmla="val 16200000"/>
                <a:gd name="adj2" fmla="val 101520"/>
              </a:avLst>
            </a:prstGeom>
            <a:noFill/>
            <a:ln cap="rnd" w="25400">
              <a:solidFill>
                <a:srgbClr val="000000"/>
              </a:solidFill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椭圆 30"/>
            <p:cNvSpPr/>
            <p:nvPr/>
          </p:nvSpPr>
          <p:spPr>
            <a:xfrm>
              <a:off x="3179880" y="1975680"/>
              <a:ext cx="176040" cy="17460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01" name="组合 62"/>
          <p:cNvGrpSpPr/>
          <p:nvPr/>
        </p:nvGrpSpPr>
        <p:grpSpPr>
          <a:xfrm>
            <a:off x="364320" y="471600"/>
            <a:ext cx="1804320" cy="755640"/>
            <a:chOff x="364320" y="471600"/>
            <a:chExt cx="1804320" cy="755640"/>
          </a:xfrm>
        </p:grpSpPr>
        <p:sp>
          <p:nvSpPr>
            <p:cNvPr id="402" name="任意多边形 63"/>
            <p:cNvSpPr/>
            <p:nvPr/>
          </p:nvSpPr>
          <p:spPr>
            <a:xfrm>
              <a:off x="364320" y="47160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3" name="椭圆 69"/>
            <p:cNvSpPr/>
            <p:nvPr/>
          </p:nvSpPr>
          <p:spPr>
            <a:xfrm>
              <a:off x="1431000" y="48960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4" name="文本框 70"/>
            <p:cNvSpPr/>
            <p:nvPr/>
          </p:nvSpPr>
          <p:spPr>
            <a:xfrm>
              <a:off x="1519200" y="62856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深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椭圆 71"/>
            <p:cNvSpPr/>
            <p:nvPr/>
          </p:nvSpPr>
          <p:spPr>
            <a:xfrm>
              <a:off x="472320" y="57960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06" name="文本框 72"/>
            <p:cNvSpPr/>
            <p:nvPr/>
          </p:nvSpPr>
          <p:spPr>
            <a:xfrm>
              <a:off x="561240" y="628560"/>
              <a:ext cx="354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3"/>
          <p:cNvSpPr/>
          <p:nvPr/>
        </p:nvSpPr>
        <p:spPr>
          <a:xfrm>
            <a:off x="228960" y="64321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116"/>
          <p:cNvSpPr/>
          <p:nvPr/>
        </p:nvSpPr>
        <p:spPr>
          <a:xfrm>
            <a:off x="900360" y="2545200"/>
            <a:ext cx="2504160" cy="12852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09" name="组合 121"/>
          <p:cNvGrpSpPr/>
          <p:nvPr/>
        </p:nvGrpSpPr>
        <p:grpSpPr>
          <a:xfrm>
            <a:off x="1671480" y="1945440"/>
            <a:ext cx="1115640" cy="1115640"/>
            <a:chOff x="1671480" y="1945440"/>
            <a:chExt cx="1115640" cy="1115640"/>
          </a:xfrm>
        </p:grpSpPr>
        <p:grpSp>
          <p:nvGrpSpPr>
            <p:cNvPr id="410" name="组合 122"/>
            <p:cNvGrpSpPr/>
            <p:nvPr/>
          </p:nvGrpSpPr>
          <p:grpSpPr>
            <a:xfrm>
              <a:off x="1671480" y="1945440"/>
              <a:ext cx="1115640" cy="1115640"/>
              <a:chOff x="1671480" y="1945440"/>
              <a:chExt cx="1115640" cy="1115640"/>
            </a:xfrm>
          </p:grpSpPr>
          <p:sp>
            <p:nvSpPr>
              <p:cNvPr id="411" name="椭圆 124"/>
              <p:cNvSpPr/>
              <p:nvPr/>
            </p:nvSpPr>
            <p:spPr>
              <a:xfrm>
                <a:off x="1671480" y="194544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2" name="椭圆 125"/>
              <p:cNvSpPr/>
              <p:nvPr/>
            </p:nvSpPr>
            <p:spPr>
              <a:xfrm>
                <a:off x="1689480" y="196344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13" name="文本框 123"/>
            <p:cNvSpPr/>
            <p:nvPr/>
          </p:nvSpPr>
          <p:spPr>
            <a:xfrm>
              <a:off x="1986120" y="214956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下一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组合 163"/>
          <p:cNvGrpSpPr/>
          <p:nvPr/>
        </p:nvGrpSpPr>
        <p:grpSpPr>
          <a:xfrm>
            <a:off x="2516040" y="1945800"/>
            <a:ext cx="1470600" cy="1115640"/>
            <a:chOff x="2516040" y="1945800"/>
            <a:chExt cx="1470600" cy="1115640"/>
          </a:xfrm>
        </p:grpSpPr>
        <p:grpSp>
          <p:nvGrpSpPr>
            <p:cNvPr id="415" name="组合 164"/>
            <p:cNvGrpSpPr/>
            <p:nvPr/>
          </p:nvGrpSpPr>
          <p:grpSpPr>
            <a:xfrm>
              <a:off x="2516040" y="1945800"/>
              <a:ext cx="1470600" cy="1115640"/>
              <a:chOff x="2516040" y="1945800"/>
              <a:chExt cx="1470600" cy="1115640"/>
            </a:xfrm>
          </p:grpSpPr>
          <p:sp>
            <p:nvSpPr>
              <p:cNvPr id="416" name="任意多边形 167"/>
              <p:cNvSpPr/>
              <p:nvPr/>
            </p:nvSpPr>
            <p:spPr>
              <a:xfrm rot="10800000">
                <a:off x="2516040" y="194580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7" name="任意多边形 168"/>
              <p:cNvSpPr/>
              <p:nvPr/>
            </p:nvSpPr>
            <p:spPr>
              <a:xfrm rot="10800000">
                <a:off x="2533680" y="196380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18" name="文本框 169"/>
              <p:cNvSpPr/>
              <p:nvPr/>
            </p:nvSpPr>
            <p:spPr>
              <a:xfrm rot="10800000">
                <a:off x="3186720" y="230904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" name="任意多边形 165"/>
            <p:cNvSpPr/>
            <p:nvPr/>
          </p:nvSpPr>
          <p:spPr>
            <a:xfrm rot="10800000">
              <a:off x="2526840" y="196380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文本框 166"/>
            <p:cNvSpPr/>
            <p:nvPr/>
          </p:nvSpPr>
          <p:spPr>
            <a:xfrm>
              <a:off x="3195360" y="22856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159"/>
          <p:cNvGrpSpPr/>
          <p:nvPr/>
        </p:nvGrpSpPr>
        <p:grpSpPr>
          <a:xfrm>
            <a:off x="2889000" y="2829600"/>
            <a:ext cx="1115640" cy="1506600"/>
            <a:chOff x="2889000" y="2829600"/>
            <a:chExt cx="1115640" cy="1506600"/>
          </a:xfrm>
        </p:grpSpPr>
        <p:sp>
          <p:nvSpPr>
            <p:cNvPr id="422" name="任意多边形 160"/>
            <p:cNvSpPr/>
            <p:nvPr/>
          </p:nvSpPr>
          <p:spPr>
            <a:xfrm rot="10800000">
              <a:off x="2889000" y="282960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任意多边形 161"/>
            <p:cNvSpPr/>
            <p:nvPr/>
          </p:nvSpPr>
          <p:spPr>
            <a:xfrm rot="10800000">
              <a:off x="2907000" y="284724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4" name="文本框 162"/>
            <p:cNvSpPr/>
            <p:nvPr/>
          </p:nvSpPr>
          <p:spPr>
            <a:xfrm>
              <a:off x="3223080" y="3464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责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范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文本框 114"/>
          <p:cNvSpPr/>
          <p:nvPr/>
        </p:nvSpPr>
        <p:spPr>
          <a:xfrm>
            <a:off x="1500120" y="5255640"/>
            <a:ext cx="1377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30d23"/>
                </a:solidFill>
                <a:latin typeface="微软雅黑"/>
                <a:ea typeface="微软雅黑"/>
              </a:rPr>
              <a:t>自上而下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职业规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115"/>
          <p:cNvSpPr/>
          <p:nvPr/>
        </p:nvSpPr>
        <p:spPr>
          <a:xfrm>
            <a:off x="6281640" y="5183640"/>
            <a:ext cx="1377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buClr>
                <a:srgbClr val="c30d23"/>
              </a:buClr>
              <a:buFont typeface="Wingdings" charset="2"/>
              <a:buChar char=""/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2000" spc="-1" strike="noStrike">
                <a:solidFill>
                  <a:srgbClr val="c30d23"/>
                </a:solidFill>
                <a:latin typeface="微软雅黑"/>
                <a:ea typeface="微软雅黑"/>
              </a:rPr>
              <a:t>自下而上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搞定自己的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组合 73"/>
          <p:cNvGrpSpPr/>
          <p:nvPr/>
        </p:nvGrpSpPr>
        <p:grpSpPr>
          <a:xfrm>
            <a:off x="364320" y="471600"/>
            <a:ext cx="1804320" cy="755640"/>
            <a:chOff x="364320" y="471600"/>
            <a:chExt cx="1804320" cy="755640"/>
          </a:xfrm>
        </p:grpSpPr>
        <p:sp>
          <p:nvSpPr>
            <p:cNvPr id="428" name="任意多边形 74"/>
            <p:cNvSpPr/>
            <p:nvPr/>
          </p:nvSpPr>
          <p:spPr>
            <a:xfrm>
              <a:off x="364320" y="471600"/>
              <a:ext cx="1804320" cy="755640"/>
            </a:xfrm>
            <a:custGeom>
              <a:avLst/>
              <a:gdLst>
                <a:gd name="textAreaLeft" fmla="*/ 0 w 1804320"/>
                <a:gd name="textAreaRight" fmla="*/ 1804680 w 1804320"/>
                <a:gd name="textAreaTop" fmla="*/ 0 h 755640"/>
                <a:gd name="textAreaBottom" fmla="*/ 756000 h 755640"/>
              </a:gdLst>
              <a:ahLst/>
              <a:rect l="textAreaLeft" t="textAreaTop" r="textAreaRight" b="textAreaBottom"/>
              <a:pathLst>
                <a:path w="1804559" h="756000">
                  <a:moveTo>
                    <a:pt x="378000" y="0"/>
                  </a:moveTo>
                  <a:cubicBezTo>
                    <a:pt x="534573" y="0"/>
                    <a:pt x="668912" y="95195"/>
                    <a:pt x="726295" y="230865"/>
                  </a:cubicBezTo>
                  <a:lnTo>
                    <a:pt x="729306" y="245778"/>
                  </a:lnTo>
                  <a:lnTo>
                    <a:pt x="769190" y="245778"/>
                  </a:lnTo>
                  <a:lnTo>
                    <a:pt x="794289" y="258270"/>
                  </a:lnTo>
                  <a:cubicBezTo>
                    <a:pt x="832040" y="272910"/>
                    <a:pt x="873545" y="281007"/>
                    <a:pt x="917112" y="281007"/>
                  </a:cubicBezTo>
                  <a:cubicBezTo>
                    <a:pt x="960679" y="281007"/>
                    <a:pt x="1002184" y="272910"/>
                    <a:pt x="1039935" y="258270"/>
                  </a:cubicBezTo>
                  <a:lnTo>
                    <a:pt x="1065034" y="245778"/>
                  </a:lnTo>
                  <a:lnTo>
                    <a:pt x="1075254" y="245778"/>
                  </a:lnTo>
                  <a:lnTo>
                    <a:pt x="1078264" y="230865"/>
                  </a:lnTo>
                  <a:cubicBezTo>
                    <a:pt x="1135648" y="95195"/>
                    <a:pt x="1269986" y="0"/>
                    <a:pt x="1426559" y="0"/>
                  </a:cubicBezTo>
                  <a:cubicBezTo>
                    <a:pt x="1635323" y="0"/>
                    <a:pt x="1804559" y="169236"/>
                    <a:pt x="1804559" y="378000"/>
                  </a:cubicBezTo>
                  <a:cubicBezTo>
                    <a:pt x="1804559" y="586764"/>
                    <a:pt x="1635323" y="756000"/>
                    <a:pt x="1426559" y="756000"/>
                  </a:cubicBezTo>
                  <a:cubicBezTo>
                    <a:pt x="1296081" y="756000"/>
                    <a:pt x="1181045" y="689892"/>
                    <a:pt x="1113116" y="589344"/>
                  </a:cubicBezTo>
                  <a:lnTo>
                    <a:pt x="1082956" y="533778"/>
                  </a:lnTo>
                  <a:lnTo>
                    <a:pt x="1080471" y="533778"/>
                  </a:lnTo>
                  <a:lnTo>
                    <a:pt x="1039935" y="513604"/>
                  </a:lnTo>
                  <a:cubicBezTo>
                    <a:pt x="1002184" y="498963"/>
                    <a:pt x="960679" y="490867"/>
                    <a:pt x="917112" y="490867"/>
                  </a:cubicBezTo>
                  <a:cubicBezTo>
                    <a:pt x="873545" y="490867"/>
                    <a:pt x="832040" y="498963"/>
                    <a:pt x="794289" y="513604"/>
                  </a:cubicBezTo>
                  <a:lnTo>
                    <a:pt x="753753" y="533778"/>
                  </a:lnTo>
                  <a:lnTo>
                    <a:pt x="721604" y="533778"/>
                  </a:lnTo>
                  <a:lnTo>
                    <a:pt x="691444" y="589344"/>
                  </a:lnTo>
                  <a:cubicBezTo>
                    <a:pt x="623515" y="689892"/>
                    <a:pt x="508478" y="756000"/>
                    <a:pt x="378000" y="756000"/>
                  </a:cubicBezTo>
                  <a:cubicBezTo>
                    <a:pt x="169236" y="756000"/>
                    <a:pt x="0" y="586764"/>
                    <a:pt x="0" y="378000"/>
                  </a:cubicBezTo>
                  <a:cubicBezTo>
                    <a:pt x="0" y="169236"/>
                    <a:pt x="169236" y="0"/>
                    <a:pt x="37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29" name="椭圆 75"/>
            <p:cNvSpPr/>
            <p:nvPr/>
          </p:nvSpPr>
          <p:spPr>
            <a:xfrm>
              <a:off x="1431000" y="489600"/>
              <a:ext cx="719640" cy="71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0" name="文本框 76"/>
            <p:cNvSpPr/>
            <p:nvPr/>
          </p:nvSpPr>
          <p:spPr>
            <a:xfrm>
              <a:off x="1517400" y="617400"/>
              <a:ext cx="546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行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椭圆 77"/>
            <p:cNvSpPr/>
            <p:nvPr/>
          </p:nvSpPr>
          <p:spPr>
            <a:xfrm>
              <a:off x="472320" y="579600"/>
              <a:ext cx="539640" cy="53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2" name="文本框 78"/>
            <p:cNvSpPr/>
            <p:nvPr/>
          </p:nvSpPr>
          <p:spPr>
            <a:xfrm>
              <a:off x="563400" y="617400"/>
              <a:ext cx="3549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ffffff"/>
                  </a:solidFill>
                  <a:latin typeface="Broadway"/>
                  <a:ea typeface="微软雅黑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24"/>
          <p:cNvGrpSpPr/>
          <p:nvPr/>
        </p:nvGrpSpPr>
        <p:grpSpPr>
          <a:xfrm>
            <a:off x="1661400" y="3220200"/>
            <a:ext cx="1470600" cy="1115640"/>
            <a:chOff x="1661400" y="3220200"/>
            <a:chExt cx="1470600" cy="1115640"/>
          </a:xfrm>
        </p:grpSpPr>
        <p:sp>
          <p:nvSpPr>
            <p:cNvPr id="434" name="任意多边形 141"/>
            <p:cNvSpPr/>
            <p:nvPr/>
          </p:nvSpPr>
          <p:spPr>
            <a:xfrm>
              <a:off x="1661400" y="322020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5" name="任意多边形 142"/>
            <p:cNvSpPr/>
            <p:nvPr/>
          </p:nvSpPr>
          <p:spPr>
            <a:xfrm>
              <a:off x="1679400" y="323820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6" name="文本框 86"/>
            <p:cNvSpPr/>
            <p:nvPr/>
          </p:nvSpPr>
          <p:spPr>
            <a:xfrm>
              <a:off x="1976040" y="35780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组合 153"/>
          <p:cNvGrpSpPr/>
          <p:nvPr/>
        </p:nvGrpSpPr>
        <p:grpSpPr>
          <a:xfrm>
            <a:off x="382320" y="3220200"/>
            <a:ext cx="1470600" cy="1115640"/>
            <a:chOff x="382320" y="3220200"/>
            <a:chExt cx="1470600" cy="1115640"/>
          </a:xfrm>
        </p:grpSpPr>
        <p:sp>
          <p:nvSpPr>
            <p:cNvPr id="438" name="任意多边形 156"/>
            <p:cNvSpPr/>
            <p:nvPr/>
          </p:nvSpPr>
          <p:spPr>
            <a:xfrm>
              <a:off x="382320" y="322020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9" name="任意多边形 157"/>
            <p:cNvSpPr/>
            <p:nvPr/>
          </p:nvSpPr>
          <p:spPr>
            <a:xfrm>
              <a:off x="400320" y="323820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0" name="文本框 158"/>
            <p:cNvSpPr/>
            <p:nvPr/>
          </p:nvSpPr>
          <p:spPr>
            <a:xfrm>
              <a:off x="696960" y="35780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组合 23"/>
          <p:cNvGrpSpPr/>
          <p:nvPr/>
        </p:nvGrpSpPr>
        <p:grpSpPr>
          <a:xfrm>
            <a:off x="377640" y="1945440"/>
            <a:ext cx="1115640" cy="1506600"/>
            <a:chOff x="377640" y="1945440"/>
            <a:chExt cx="1115640" cy="1506600"/>
          </a:xfrm>
        </p:grpSpPr>
        <p:sp>
          <p:nvSpPr>
            <p:cNvPr id="442" name="任意多边形 129"/>
            <p:cNvSpPr/>
            <p:nvPr/>
          </p:nvSpPr>
          <p:spPr>
            <a:xfrm>
              <a:off x="377640" y="194544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任意多边形 130"/>
            <p:cNvSpPr/>
            <p:nvPr/>
          </p:nvSpPr>
          <p:spPr>
            <a:xfrm>
              <a:off x="395640" y="196344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文本框 81"/>
            <p:cNvSpPr/>
            <p:nvPr/>
          </p:nvSpPr>
          <p:spPr>
            <a:xfrm>
              <a:off x="692280" y="230364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原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矩形 176"/>
          <p:cNvSpPr/>
          <p:nvPr/>
        </p:nvSpPr>
        <p:spPr>
          <a:xfrm>
            <a:off x="5688360" y="2580840"/>
            <a:ext cx="2504160" cy="128520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446" name="组合 145"/>
          <p:cNvGrpSpPr/>
          <p:nvPr/>
        </p:nvGrpSpPr>
        <p:grpSpPr>
          <a:xfrm>
            <a:off x="5140800" y="2036160"/>
            <a:ext cx="1115640" cy="1115640"/>
            <a:chOff x="5140800" y="2036160"/>
            <a:chExt cx="1115640" cy="1115640"/>
          </a:xfrm>
        </p:grpSpPr>
        <p:grpSp>
          <p:nvGrpSpPr>
            <p:cNvPr id="447" name="组合 146"/>
            <p:cNvGrpSpPr/>
            <p:nvPr/>
          </p:nvGrpSpPr>
          <p:grpSpPr>
            <a:xfrm>
              <a:off x="5140800" y="2036160"/>
              <a:ext cx="1115640" cy="1115640"/>
              <a:chOff x="5140800" y="2036160"/>
              <a:chExt cx="1115640" cy="1115640"/>
            </a:xfrm>
          </p:grpSpPr>
          <p:sp>
            <p:nvSpPr>
              <p:cNvPr id="448" name="椭圆 148"/>
              <p:cNvSpPr/>
              <p:nvPr/>
            </p:nvSpPr>
            <p:spPr>
              <a:xfrm>
                <a:off x="5140800" y="2036160"/>
                <a:ext cx="1115640" cy="1115640"/>
              </a:xfrm>
              <a:prstGeom prst="ellipse">
                <a:avLst/>
              </a:pr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49" name="椭圆 149"/>
              <p:cNvSpPr/>
              <p:nvPr/>
            </p:nvSpPr>
            <p:spPr>
              <a:xfrm>
                <a:off x="5158800" y="2054160"/>
                <a:ext cx="1079640" cy="1079640"/>
              </a:xfrm>
              <a:prstGeom prst="ellipse">
                <a:avLst/>
              </a:pr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50" name="文本框 147"/>
            <p:cNvSpPr/>
            <p:nvPr/>
          </p:nvSpPr>
          <p:spPr>
            <a:xfrm>
              <a:off x="5455440" y="241956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原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110"/>
          <p:cNvGrpSpPr/>
          <p:nvPr/>
        </p:nvGrpSpPr>
        <p:grpSpPr>
          <a:xfrm>
            <a:off x="5141160" y="2933280"/>
            <a:ext cx="1115640" cy="1506600"/>
            <a:chOff x="5141160" y="2933280"/>
            <a:chExt cx="1115640" cy="1506600"/>
          </a:xfrm>
        </p:grpSpPr>
        <p:sp>
          <p:nvSpPr>
            <p:cNvPr id="452" name="任意多边形 111"/>
            <p:cNvSpPr/>
            <p:nvPr/>
          </p:nvSpPr>
          <p:spPr>
            <a:xfrm rot="10800000">
              <a:off x="5141160" y="293328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62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3" name="任意多边形 112"/>
            <p:cNvSpPr/>
            <p:nvPr/>
          </p:nvSpPr>
          <p:spPr>
            <a:xfrm rot="10800000">
              <a:off x="5159160" y="295092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4" name="文本框 113"/>
            <p:cNvSpPr/>
            <p:nvPr/>
          </p:nvSpPr>
          <p:spPr>
            <a:xfrm>
              <a:off x="5446800" y="365292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愿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" name="组合 96"/>
          <p:cNvGrpSpPr/>
          <p:nvPr/>
        </p:nvGrpSpPr>
        <p:grpSpPr>
          <a:xfrm>
            <a:off x="6085080" y="3324240"/>
            <a:ext cx="1470600" cy="1115640"/>
            <a:chOff x="6085080" y="3324240"/>
            <a:chExt cx="1470600" cy="1115640"/>
          </a:xfrm>
        </p:grpSpPr>
        <p:grpSp>
          <p:nvGrpSpPr>
            <p:cNvPr id="456" name="组合 97"/>
            <p:cNvGrpSpPr/>
            <p:nvPr/>
          </p:nvGrpSpPr>
          <p:grpSpPr>
            <a:xfrm>
              <a:off x="6085080" y="3324240"/>
              <a:ext cx="1470600" cy="1115640"/>
              <a:chOff x="6085080" y="3324240"/>
              <a:chExt cx="1470600" cy="1115640"/>
            </a:xfrm>
          </p:grpSpPr>
          <p:sp>
            <p:nvSpPr>
              <p:cNvPr id="457" name="任意多边形 107"/>
              <p:cNvSpPr/>
              <p:nvPr/>
            </p:nvSpPr>
            <p:spPr>
              <a:xfrm rot="10800000">
                <a:off x="6085080" y="332424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8" name="任意多边形 108"/>
              <p:cNvSpPr/>
              <p:nvPr/>
            </p:nvSpPr>
            <p:spPr>
              <a:xfrm rot="10800000">
                <a:off x="6102720" y="334224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59" name="文本框 109"/>
              <p:cNvSpPr/>
              <p:nvPr/>
            </p:nvSpPr>
            <p:spPr>
              <a:xfrm rot="10800000">
                <a:off x="6755400" y="368748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" name="任意多边形 98"/>
            <p:cNvSpPr/>
            <p:nvPr/>
          </p:nvSpPr>
          <p:spPr>
            <a:xfrm rot="10800000">
              <a:off x="6095880" y="334224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1" name="文本框 105"/>
            <p:cNvSpPr/>
            <p:nvPr/>
          </p:nvSpPr>
          <p:spPr>
            <a:xfrm>
              <a:off x="6764040" y="366408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组合 88"/>
          <p:cNvGrpSpPr/>
          <p:nvPr/>
        </p:nvGrpSpPr>
        <p:grpSpPr>
          <a:xfrm>
            <a:off x="7330320" y="3324240"/>
            <a:ext cx="1470600" cy="1115640"/>
            <a:chOff x="7330320" y="3324240"/>
            <a:chExt cx="1470600" cy="1115640"/>
          </a:xfrm>
        </p:grpSpPr>
        <p:grpSp>
          <p:nvGrpSpPr>
            <p:cNvPr id="463" name="组合 89"/>
            <p:cNvGrpSpPr/>
            <p:nvPr/>
          </p:nvGrpSpPr>
          <p:grpSpPr>
            <a:xfrm>
              <a:off x="7330320" y="3324240"/>
              <a:ext cx="1470600" cy="1115640"/>
              <a:chOff x="7330320" y="3324240"/>
              <a:chExt cx="1470600" cy="1115640"/>
            </a:xfrm>
          </p:grpSpPr>
          <p:sp>
            <p:nvSpPr>
              <p:cNvPr id="464" name="任意多边形 93"/>
              <p:cNvSpPr/>
              <p:nvPr/>
            </p:nvSpPr>
            <p:spPr>
              <a:xfrm rot="10800000">
                <a:off x="7330320" y="3324240"/>
                <a:ext cx="1470600" cy="1115640"/>
              </a:xfrm>
              <a:custGeom>
                <a:avLst/>
                <a:gdLst>
                  <a:gd name="textAreaLeft" fmla="*/ 0 w 1470600"/>
                  <a:gd name="textAreaRight" fmla="*/ 1470960 w 1470600"/>
                  <a:gd name="textAreaTop" fmla="*/ 0 h 1115640"/>
                  <a:gd name="textAreaBottom" fmla="*/ 1116000 h 1115640"/>
                </a:gdLst>
                <a:ahLst/>
                <a:rect l="textAreaLeft" t="textAreaTop" r="textAreaRight" b="textAreaBottom"/>
                <a:pathLst>
                  <a:path w="1471124" h="1116000">
                    <a:moveTo>
                      <a:pt x="558000" y="0"/>
                    </a:moveTo>
                    <a:cubicBezTo>
                      <a:pt x="789131" y="0"/>
                      <a:pt x="987441" y="140527"/>
                      <a:pt x="1072150" y="340801"/>
                    </a:cubicBezTo>
                    <a:lnTo>
                      <a:pt x="1095395" y="415684"/>
                    </a:lnTo>
                    <a:lnTo>
                      <a:pt x="1208443" y="415684"/>
                    </a:lnTo>
                    <a:lnTo>
                      <a:pt x="1208443" y="273369"/>
                    </a:lnTo>
                    <a:lnTo>
                      <a:pt x="1471124" y="558000"/>
                    </a:lnTo>
                    <a:lnTo>
                      <a:pt x="1208443" y="842631"/>
                    </a:lnTo>
                    <a:lnTo>
                      <a:pt x="1208443" y="700315"/>
                    </a:lnTo>
                    <a:lnTo>
                      <a:pt x="1095395" y="700315"/>
                    </a:lnTo>
                    <a:lnTo>
                      <a:pt x="1072150" y="775199"/>
                    </a:lnTo>
                    <a:cubicBezTo>
                      <a:pt x="987441" y="975474"/>
                      <a:pt x="789131" y="1116000"/>
                      <a:pt x="558000" y="1116000"/>
                    </a:cubicBezTo>
                    <a:cubicBezTo>
                      <a:pt x="249825" y="1116000"/>
                      <a:pt x="0" y="866175"/>
                      <a:pt x="0" y="558000"/>
                    </a:cubicBezTo>
                    <a:cubicBezTo>
                      <a:pt x="0" y="249825"/>
                      <a:pt x="249825" y="0"/>
                      <a:pt x="558000" y="0"/>
                    </a:cubicBezTo>
                    <a:close/>
                  </a:path>
                </a:pathLst>
              </a:custGeom>
              <a:gradFill rotWithShape="0">
                <a:gsLst>
                  <a:gs pos="57000">
                    <a:srgbClr val="f7fafd"/>
                  </a:gs>
                  <a:gs pos="100000">
                    <a:srgbClr val="bfbfbf"/>
                  </a:gs>
                </a:gsLst>
                <a:lin ang="18900000"/>
              </a:gradFill>
              <a:ln>
                <a:noFill/>
              </a:ln>
              <a:effectLst>
                <a:outerShdw algn="tr" blurRad="127080" dir="7187127" dist="63049" rotWithShape="0" sx="99000" sy="99000">
                  <a:srgbClr val="000000">
                    <a:alpha val="31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5" name="任意多边形 94"/>
              <p:cNvSpPr/>
              <p:nvPr/>
            </p:nvSpPr>
            <p:spPr>
              <a:xfrm rot="10800000">
                <a:off x="7347960" y="3342240"/>
                <a:ext cx="1434960" cy="1079640"/>
              </a:xfrm>
              <a:custGeom>
                <a:avLst/>
                <a:gdLst>
                  <a:gd name="textAreaLeft" fmla="*/ 0 w 1434960"/>
                  <a:gd name="textAreaRight" fmla="*/ 1435320 w 1434960"/>
                  <a:gd name="textAreaTop" fmla="*/ 0 h 1079640"/>
                  <a:gd name="textAreaBottom" fmla="*/ 1080000 h 1079640"/>
                </a:gdLst>
                <a:ahLst/>
                <a:rect l="textAreaLeft" t="textAreaTop" r="textAreaRight" b="textAreaBottom"/>
                <a:pathLst>
                  <a:path w="1435242" h="1080000">
                    <a:moveTo>
                      <a:pt x="540000" y="0"/>
                    </a:moveTo>
                    <a:cubicBezTo>
                      <a:pt x="763676" y="0"/>
                      <a:pt x="955588" y="135994"/>
                      <a:pt x="1037564" y="329808"/>
                    </a:cubicBezTo>
                    <a:lnTo>
                      <a:pt x="1061464" y="406799"/>
                    </a:lnTo>
                    <a:lnTo>
                      <a:pt x="1190442" y="406799"/>
                    </a:lnTo>
                    <a:lnTo>
                      <a:pt x="1190442" y="273599"/>
                    </a:lnTo>
                    <a:lnTo>
                      <a:pt x="1435242" y="539999"/>
                    </a:lnTo>
                    <a:lnTo>
                      <a:pt x="1190442" y="806399"/>
                    </a:lnTo>
                    <a:lnTo>
                      <a:pt x="1190442" y="673199"/>
                    </a:lnTo>
                    <a:lnTo>
                      <a:pt x="1061464" y="673199"/>
                    </a:lnTo>
                    <a:lnTo>
                      <a:pt x="1037564" y="750193"/>
                    </a:lnTo>
                    <a:cubicBezTo>
                      <a:pt x="955588" y="944007"/>
                      <a:pt x="763676" y="1080000"/>
                      <a:pt x="540000" y="1080000"/>
                    </a:cubicBezTo>
                    <a:cubicBezTo>
                      <a:pt x="241766" y="1080000"/>
                      <a:pt x="0" y="838234"/>
                      <a:pt x="0" y="540000"/>
                    </a:cubicBezTo>
                    <a:cubicBezTo>
                      <a:pt x="0" y="241766"/>
                      <a:pt x="241766" y="0"/>
                      <a:pt x="540000" y="0"/>
                    </a:cubicBezTo>
                    <a:close/>
                  </a:path>
                </a:pathLst>
              </a:custGeom>
              <a:gradFill rotWithShape="0">
                <a:gsLst>
                  <a:gs pos="4900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66" name="文本框 95"/>
              <p:cNvSpPr/>
              <p:nvPr/>
            </p:nvSpPr>
            <p:spPr>
              <a:xfrm rot="10800000">
                <a:off x="8001000" y="3687480"/>
                <a:ext cx="485280" cy="39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愿景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" name="任意多边形 90"/>
            <p:cNvSpPr/>
            <p:nvPr/>
          </p:nvSpPr>
          <p:spPr>
            <a:xfrm rot="10800000">
              <a:off x="7341120" y="3342240"/>
              <a:ext cx="1448640" cy="1079640"/>
            </a:xfrm>
            <a:custGeom>
              <a:avLst/>
              <a:gdLst>
                <a:gd name="textAreaLeft" fmla="*/ 0 w 1448640"/>
                <a:gd name="textAreaRight" fmla="*/ 1449000 w 144864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48965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204165" y="406799"/>
                  </a:lnTo>
                  <a:lnTo>
                    <a:pt x="1204165" y="273599"/>
                  </a:lnTo>
                  <a:lnTo>
                    <a:pt x="1448965" y="539999"/>
                  </a:lnTo>
                  <a:lnTo>
                    <a:pt x="1204165" y="806399"/>
                  </a:lnTo>
                  <a:lnTo>
                    <a:pt x="1204165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81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文本框 92"/>
            <p:cNvSpPr/>
            <p:nvPr/>
          </p:nvSpPr>
          <p:spPr>
            <a:xfrm>
              <a:off x="8008920" y="349164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责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范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126"/>
          <p:cNvGrpSpPr/>
          <p:nvPr/>
        </p:nvGrpSpPr>
        <p:grpSpPr>
          <a:xfrm>
            <a:off x="7684920" y="2036160"/>
            <a:ext cx="1115640" cy="1506600"/>
            <a:chOff x="7684920" y="2036160"/>
            <a:chExt cx="1115640" cy="1506600"/>
          </a:xfrm>
        </p:grpSpPr>
        <p:sp>
          <p:nvSpPr>
            <p:cNvPr id="470" name="任意多边形 131"/>
            <p:cNvSpPr/>
            <p:nvPr/>
          </p:nvSpPr>
          <p:spPr>
            <a:xfrm>
              <a:off x="7684920" y="2036160"/>
              <a:ext cx="1115640" cy="1506600"/>
            </a:xfrm>
            <a:custGeom>
              <a:avLst/>
              <a:gdLst>
                <a:gd name="textAreaLeft" fmla="*/ 0 w 1115640"/>
                <a:gd name="textAreaRight" fmla="*/ 1116000 w 1115640"/>
                <a:gd name="textAreaTop" fmla="*/ 0 h 1506600"/>
                <a:gd name="textAreaBottom" fmla="*/ 1506960 h 1506600"/>
              </a:gdLst>
              <a:ahLst/>
              <a:rect l="textAreaLeft" t="textAreaTop" r="textAreaRight" b="textAreaBottom"/>
              <a:pathLst>
                <a:path w="1116000" h="1507122">
                  <a:moveTo>
                    <a:pt x="558000" y="0"/>
                  </a:moveTo>
                  <a:cubicBezTo>
                    <a:pt x="866175" y="0"/>
                    <a:pt x="1116000" y="249825"/>
                    <a:pt x="1116000" y="558000"/>
                  </a:cubicBezTo>
                  <a:cubicBezTo>
                    <a:pt x="1116000" y="789131"/>
                    <a:pt x="975474" y="987441"/>
                    <a:pt x="775199" y="1072150"/>
                  </a:cubicBezTo>
                  <a:lnTo>
                    <a:pt x="700316" y="1095395"/>
                  </a:lnTo>
                  <a:lnTo>
                    <a:pt x="700316" y="1244441"/>
                  </a:lnTo>
                  <a:lnTo>
                    <a:pt x="842631" y="1244441"/>
                  </a:lnTo>
                  <a:lnTo>
                    <a:pt x="558000" y="1507122"/>
                  </a:lnTo>
                  <a:lnTo>
                    <a:pt x="273369" y="1244441"/>
                  </a:lnTo>
                  <a:lnTo>
                    <a:pt x="415685" y="1244441"/>
                  </a:lnTo>
                  <a:lnTo>
                    <a:pt x="415685" y="1095395"/>
                  </a:lnTo>
                  <a:lnTo>
                    <a:pt x="340801" y="1072150"/>
                  </a:lnTo>
                  <a:cubicBezTo>
                    <a:pt x="140527" y="987441"/>
                    <a:pt x="0" y="789131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1" name="任意多边形 132"/>
            <p:cNvSpPr/>
            <p:nvPr/>
          </p:nvSpPr>
          <p:spPr>
            <a:xfrm>
              <a:off x="7702920" y="2054160"/>
              <a:ext cx="1079640" cy="1470960"/>
            </a:xfrm>
            <a:custGeom>
              <a:avLst/>
              <a:gdLst>
                <a:gd name="textAreaLeft" fmla="*/ 0 w 1079640"/>
                <a:gd name="textAreaRight" fmla="*/ 1080000 w 1079640"/>
                <a:gd name="textAreaTop" fmla="*/ 0 h 1470960"/>
                <a:gd name="textAreaBottom" fmla="*/ 1471320 h 1470960"/>
              </a:gdLst>
              <a:ahLst/>
              <a:rect l="textAreaLeft" t="textAreaTop" r="textAreaRight" b="textAreaBottom"/>
              <a:pathLst>
                <a:path w="1080000" h="1471240">
                  <a:moveTo>
                    <a:pt x="540000" y="0"/>
                  </a:moveTo>
                  <a:cubicBezTo>
                    <a:pt x="838234" y="0"/>
                    <a:pt x="1080000" y="241766"/>
                    <a:pt x="1080000" y="540000"/>
                  </a:cubicBezTo>
                  <a:cubicBezTo>
                    <a:pt x="1080000" y="763676"/>
                    <a:pt x="944007" y="955588"/>
                    <a:pt x="750193" y="1037564"/>
                  </a:cubicBezTo>
                  <a:lnTo>
                    <a:pt x="673199" y="1061464"/>
                  </a:lnTo>
                  <a:lnTo>
                    <a:pt x="673199" y="1226440"/>
                  </a:lnTo>
                  <a:lnTo>
                    <a:pt x="806399" y="1226440"/>
                  </a:lnTo>
                  <a:lnTo>
                    <a:pt x="539999" y="1471240"/>
                  </a:lnTo>
                  <a:lnTo>
                    <a:pt x="273599" y="1226440"/>
                  </a:lnTo>
                  <a:lnTo>
                    <a:pt x="406799" y="1226440"/>
                  </a:lnTo>
                  <a:lnTo>
                    <a:pt x="406799" y="1061464"/>
                  </a:lnTo>
                  <a:lnTo>
                    <a:pt x="329808" y="1037564"/>
                  </a:lnTo>
                  <a:cubicBezTo>
                    <a:pt x="135993" y="955588"/>
                    <a:pt x="0" y="763676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189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2" name="文本框 133"/>
            <p:cNvSpPr/>
            <p:nvPr/>
          </p:nvSpPr>
          <p:spPr>
            <a:xfrm>
              <a:off x="7999560" y="2394000"/>
              <a:ext cx="4860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任务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组合 191"/>
          <p:cNvGrpSpPr/>
          <p:nvPr/>
        </p:nvGrpSpPr>
        <p:grpSpPr>
          <a:xfrm>
            <a:off x="6475320" y="2054880"/>
            <a:ext cx="1470600" cy="1115640"/>
            <a:chOff x="6475320" y="2054880"/>
            <a:chExt cx="1470600" cy="1115640"/>
          </a:xfrm>
        </p:grpSpPr>
        <p:sp>
          <p:nvSpPr>
            <p:cNvPr id="474" name="任意多边形 192"/>
            <p:cNvSpPr/>
            <p:nvPr/>
          </p:nvSpPr>
          <p:spPr>
            <a:xfrm>
              <a:off x="6475320" y="2054880"/>
              <a:ext cx="1470600" cy="1115640"/>
            </a:xfrm>
            <a:custGeom>
              <a:avLst/>
              <a:gdLst>
                <a:gd name="textAreaLeft" fmla="*/ 0 w 1470600"/>
                <a:gd name="textAreaRight" fmla="*/ 1470960 w 14706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1471124" h="1116000"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95395" y="415684"/>
                  </a:lnTo>
                  <a:lnTo>
                    <a:pt x="1208443" y="415684"/>
                  </a:lnTo>
                  <a:lnTo>
                    <a:pt x="1208443" y="273369"/>
                  </a:lnTo>
                  <a:lnTo>
                    <a:pt x="1471124" y="558000"/>
                  </a:lnTo>
                  <a:lnTo>
                    <a:pt x="1208443" y="842631"/>
                  </a:lnTo>
                  <a:lnTo>
                    <a:pt x="1208443" y="700315"/>
                  </a:lnTo>
                  <a:lnTo>
                    <a:pt x="1095395" y="700315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108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5" name="任意多边形 193"/>
            <p:cNvSpPr/>
            <p:nvPr/>
          </p:nvSpPr>
          <p:spPr>
            <a:xfrm>
              <a:off x="6493320" y="2072880"/>
              <a:ext cx="1434960" cy="1079640"/>
            </a:xfrm>
            <a:custGeom>
              <a:avLst/>
              <a:gdLst>
                <a:gd name="textAreaLeft" fmla="*/ 0 w 1434960"/>
                <a:gd name="textAreaRight" fmla="*/ 1435320 w 14349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1435242" h="1080000">
                  <a:moveTo>
                    <a:pt x="540000" y="0"/>
                  </a:moveTo>
                  <a:cubicBezTo>
                    <a:pt x="763676" y="0"/>
                    <a:pt x="955588" y="135994"/>
                    <a:pt x="1037564" y="329808"/>
                  </a:cubicBezTo>
                  <a:lnTo>
                    <a:pt x="1061464" y="406799"/>
                  </a:lnTo>
                  <a:lnTo>
                    <a:pt x="1190442" y="406799"/>
                  </a:lnTo>
                  <a:lnTo>
                    <a:pt x="1190442" y="273599"/>
                  </a:lnTo>
                  <a:lnTo>
                    <a:pt x="1435242" y="539999"/>
                  </a:lnTo>
                  <a:lnTo>
                    <a:pt x="1190442" y="806399"/>
                  </a:lnTo>
                  <a:lnTo>
                    <a:pt x="1190442" y="673199"/>
                  </a:lnTo>
                  <a:lnTo>
                    <a:pt x="1061464" y="673199"/>
                  </a:lnTo>
                  <a:lnTo>
                    <a:pt x="1037564" y="750193"/>
                  </a:lnTo>
                  <a:cubicBezTo>
                    <a:pt x="955588" y="944007"/>
                    <a:pt x="763676" y="1080000"/>
                    <a:pt x="540000" y="1080000"/>
                  </a:cubicBezTo>
                  <a:cubicBezTo>
                    <a:pt x="241766" y="1080000"/>
                    <a:pt x="0" y="838234"/>
                    <a:pt x="0" y="540000"/>
                  </a:cubicBezTo>
                  <a:cubicBezTo>
                    <a:pt x="0" y="241766"/>
                    <a:pt x="241766" y="0"/>
                    <a:pt x="540000" y="0"/>
                  </a:cubicBezTo>
                  <a:close/>
                </a:path>
              </a:pathLst>
            </a:custGeom>
            <a:gradFill rotWithShape="0">
              <a:gsLst>
                <a:gs pos="49000">
                  <a:srgbClr val="f7fafd"/>
                </a:gs>
                <a:gs pos="100000">
                  <a:srgbClr val="d9d9d9"/>
                </a:gs>
              </a:gsLst>
              <a:lin ang="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6" name="文本框 194"/>
            <p:cNvSpPr/>
            <p:nvPr/>
          </p:nvSpPr>
          <p:spPr>
            <a:xfrm>
              <a:off x="6788160" y="227412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下一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行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组合 70"/>
          <p:cNvGrpSpPr/>
          <p:nvPr/>
        </p:nvGrpSpPr>
        <p:grpSpPr>
          <a:xfrm>
            <a:off x="-2437920" y="999000"/>
            <a:ext cx="4859640" cy="4859640"/>
            <a:chOff x="-2437920" y="999000"/>
            <a:chExt cx="4859640" cy="4859640"/>
          </a:xfrm>
        </p:grpSpPr>
        <p:sp>
          <p:nvSpPr>
            <p:cNvPr id="478" name="椭圆 71"/>
            <p:cNvSpPr/>
            <p:nvPr/>
          </p:nvSpPr>
          <p:spPr>
            <a:xfrm>
              <a:off x="-2437920" y="999000"/>
              <a:ext cx="4859640" cy="4859640"/>
            </a:xfrm>
            <a:prstGeom prst="ellipse">
              <a:avLst/>
            </a:pr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96786" dist="253851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9" name="椭圆 77"/>
            <p:cNvSpPr/>
            <p:nvPr/>
          </p:nvSpPr>
          <p:spPr>
            <a:xfrm>
              <a:off x="-2347920" y="1089000"/>
              <a:ext cx="4679640" cy="46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grpSp>
        <p:nvGrpSpPr>
          <p:cNvPr id="480" name="组合 46"/>
          <p:cNvGrpSpPr/>
          <p:nvPr/>
        </p:nvGrpSpPr>
        <p:grpSpPr>
          <a:xfrm>
            <a:off x="1112040" y="1523520"/>
            <a:ext cx="1817640" cy="779040"/>
            <a:chOff x="1112040" y="1523520"/>
            <a:chExt cx="1817640" cy="779040"/>
          </a:xfrm>
        </p:grpSpPr>
        <p:grpSp>
          <p:nvGrpSpPr>
            <p:cNvPr id="481" name="组合 42"/>
            <p:cNvGrpSpPr/>
            <p:nvPr/>
          </p:nvGrpSpPr>
          <p:grpSpPr>
            <a:xfrm>
              <a:off x="1112040" y="1523520"/>
              <a:ext cx="1817640" cy="779040"/>
              <a:chOff x="1112040" y="1523520"/>
              <a:chExt cx="1817640" cy="779040"/>
            </a:xfrm>
          </p:grpSpPr>
          <p:sp>
            <p:nvSpPr>
              <p:cNvPr id="482" name="任意多边形 43"/>
              <p:cNvSpPr/>
              <p:nvPr/>
            </p:nvSpPr>
            <p:spPr>
              <a:xfrm>
                <a:off x="1112040" y="152352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3" name="任意多边形 44"/>
              <p:cNvSpPr/>
              <p:nvPr/>
            </p:nvSpPr>
            <p:spPr>
              <a:xfrm>
                <a:off x="1140840" y="157536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84" name="文本框 45"/>
            <p:cNvSpPr/>
            <p:nvPr/>
          </p:nvSpPr>
          <p:spPr>
            <a:xfrm>
              <a:off x="1564200" y="168228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战胜拖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组合 47"/>
          <p:cNvGrpSpPr/>
          <p:nvPr/>
        </p:nvGrpSpPr>
        <p:grpSpPr>
          <a:xfrm>
            <a:off x="1130040" y="3786840"/>
            <a:ext cx="1817640" cy="779040"/>
            <a:chOff x="1130040" y="3786840"/>
            <a:chExt cx="1817640" cy="779040"/>
          </a:xfrm>
        </p:grpSpPr>
        <p:grpSp>
          <p:nvGrpSpPr>
            <p:cNvPr id="486" name="组合 48"/>
            <p:cNvGrpSpPr/>
            <p:nvPr/>
          </p:nvGrpSpPr>
          <p:grpSpPr>
            <a:xfrm>
              <a:off x="1130040" y="3786840"/>
              <a:ext cx="1817640" cy="779040"/>
              <a:chOff x="1130040" y="3786840"/>
              <a:chExt cx="1817640" cy="779040"/>
            </a:xfrm>
          </p:grpSpPr>
          <p:sp>
            <p:nvSpPr>
              <p:cNvPr id="487" name="任意多边形 50"/>
              <p:cNvSpPr/>
              <p:nvPr/>
            </p:nvSpPr>
            <p:spPr>
              <a:xfrm>
                <a:off x="1130040" y="37868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88" name="任意多边形 51"/>
              <p:cNvSpPr/>
              <p:nvPr/>
            </p:nvSpPr>
            <p:spPr>
              <a:xfrm>
                <a:off x="1159200" y="383868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89" name="文本框 49"/>
            <p:cNvSpPr/>
            <p:nvPr/>
          </p:nvSpPr>
          <p:spPr>
            <a:xfrm>
              <a:off x="1796040" y="3945600"/>
              <a:ext cx="4860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要事第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组合 72"/>
          <p:cNvGrpSpPr/>
          <p:nvPr/>
        </p:nvGrpSpPr>
        <p:grpSpPr>
          <a:xfrm>
            <a:off x="714240" y="5183640"/>
            <a:ext cx="1817640" cy="779040"/>
            <a:chOff x="714240" y="5183640"/>
            <a:chExt cx="1817640" cy="779040"/>
          </a:xfrm>
        </p:grpSpPr>
        <p:grpSp>
          <p:nvGrpSpPr>
            <p:cNvPr id="491" name="组合 73"/>
            <p:cNvGrpSpPr/>
            <p:nvPr/>
          </p:nvGrpSpPr>
          <p:grpSpPr>
            <a:xfrm>
              <a:off x="714240" y="5183640"/>
              <a:ext cx="1817640" cy="779040"/>
              <a:chOff x="714240" y="5183640"/>
              <a:chExt cx="1817640" cy="779040"/>
            </a:xfrm>
          </p:grpSpPr>
          <p:sp>
            <p:nvSpPr>
              <p:cNvPr id="492" name="任意多边形 75"/>
              <p:cNvSpPr/>
              <p:nvPr/>
            </p:nvSpPr>
            <p:spPr>
              <a:xfrm>
                <a:off x="714240" y="5183640"/>
                <a:ext cx="1817640" cy="779040"/>
              </a:xfrm>
              <a:custGeom>
                <a:avLst/>
                <a:gdLst>
                  <a:gd name="textAreaLeft" fmla="*/ 0 w 1817640"/>
                  <a:gd name="textAreaRight" fmla="*/ 1818000 w 181764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818048" h="779319">
                    <a:moveTo>
                      <a:pt x="1504589" y="0"/>
                    </a:moveTo>
                    <a:cubicBezTo>
                      <a:pt x="1677708" y="0"/>
                      <a:pt x="1818048" y="174456"/>
                      <a:pt x="1818048" y="389659"/>
                    </a:cubicBezTo>
                    <a:cubicBezTo>
                      <a:pt x="1818048" y="604862"/>
                      <a:pt x="1677708" y="779318"/>
                      <a:pt x="1504589" y="779318"/>
                    </a:cubicBezTo>
                    <a:lnTo>
                      <a:pt x="1478142" y="776004"/>
                    </a:lnTo>
                    <a:lnTo>
                      <a:pt x="1478142" y="779319"/>
                    </a:lnTo>
                    <a:lnTo>
                      <a:pt x="342467" y="779319"/>
                    </a:lnTo>
                    <a:lnTo>
                      <a:pt x="342467" y="775684"/>
                    </a:lnTo>
                    <a:lnTo>
                      <a:pt x="313459" y="779319"/>
                    </a:lnTo>
                    <a:cubicBezTo>
                      <a:pt x="140340" y="779319"/>
                      <a:pt x="0" y="604863"/>
                      <a:pt x="0" y="389660"/>
                    </a:cubicBezTo>
                    <a:cubicBezTo>
                      <a:pt x="0" y="174457"/>
                      <a:pt x="140340" y="1"/>
                      <a:pt x="313459" y="1"/>
                    </a:cubicBezTo>
                    <a:lnTo>
                      <a:pt x="342467" y="3636"/>
                    </a:lnTo>
                    <a:lnTo>
                      <a:pt x="342467" y="1"/>
                    </a:lnTo>
                    <a:lnTo>
                      <a:pt x="1478142" y="1"/>
                    </a:lnTo>
                    <a:lnTo>
                      <a:pt x="1478142" y="33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3" name="任意多边形 76"/>
              <p:cNvSpPr/>
              <p:nvPr/>
            </p:nvSpPr>
            <p:spPr>
              <a:xfrm>
                <a:off x="743400" y="5235840"/>
                <a:ext cx="1759680" cy="675000"/>
              </a:xfrm>
              <a:custGeom>
                <a:avLst/>
                <a:gdLst>
                  <a:gd name="textAreaLeft" fmla="*/ 0 w 1759680"/>
                  <a:gd name="textAreaRight" fmla="*/ 1760040 w 175968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760032" h="675411">
                    <a:moveTo>
                      <a:pt x="268866" y="0"/>
                    </a:moveTo>
                    <a:lnTo>
                      <a:pt x="1449135" y="0"/>
                    </a:lnTo>
                    <a:lnTo>
                      <a:pt x="1449135" y="3165"/>
                    </a:lnTo>
                    <a:lnTo>
                      <a:pt x="1475581" y="0"/>
                    </a:lnTo>
                    <a:cubicBezTo>
                      <a:pt x="1632679" y="0"/>
                      <a:pt x="1760032" y="151196"/>
                      <a:pt x="1760032" y="337705"/>
                    </a:cubicBezTo>
                    <a:cubicBezTo>
                      <a:pt x="1760032" y="524214"/>
                      <a:pt x="1632679" y="675410"/>
                      <a:pt x="1475581" y="675410"/>
                    </a:cubicBezTo>
                    <a:lnTo>
                      <a:pt x="1449135" y="672245"/>
                    </a:lnTo>
                    <a:lnTo>
                      <a:pt x="1449135" y="675409"/>
                    </a:lnTo>
                    <a:lnTo>
                      <a:pt x="284468" y="675409"/>
                    </a:lnTo>
                    <a:lnTo>
                      <a:pt x="284451" y="675411"/>
                    </a:lnTo>
                    <a:lnTo>
                      <a:pt x="284434" y="675409"/>
                    </a:lnTo>
                    <a:lnTo>
                      <a:pt x="268866" y="675409"/>
                    </a:lnTo>
                    <a:lnTo>
                      <a:pt x="268866" y="673546"/>
                    </a:lnTo>
                    <a:lnTo>
                      <a:pt x="227124" y="668550"/>
                    </a:lnTo>
                    <a:cubicBezTo>
                      <a:pt x="97505" y="637060"/>
                      <a:pt x="0" y="500902"/>
                      <a:pt x="0" y="337706"/>
                    </a:cubicBezTo>
                    <a:cubicBezTo>
                      <a:pt x="0" y="174511"/>
                      <a:pt x="97505" y="38352"/>
                      <a:pt x="227124" y="6862"/>
                    </a:cubicBezTo>
                    <a:lnTo>
                      <a:pt x="268866" y="18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494" name="文本框 74"/>
            <p:cNvSpPr/>
            <p:nvPr/>
          </p:nvSpPr>
          <p:spPr>
            <a:xfrm>
              <a:off x="1166760" y="5342760"/>
              <a:ext cx="912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突发事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文本框 37"/>
          <p:cNvSpPr/>
          <p:nvPr/>
        </p:nvSpPr>
        <p:spPr>
          <a:xfrm>
            <a:off x="5208840" y="1251360"/>
            <a:ext cx="76320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微软雅黑"/>
                <a:ea typeface="微软雅黑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7"/>
          <p:cNvGrpSpPr/>
          <p:nvPr/>
        </p:nvGrpSpPr>
        <p:grpSpPr>
          <a:xfrm>
            <a:off x="2518560" y="5102640"/>
            <a:ext cx="3281400" cy="941040"/>
            <a:chOff x="2518560" y="5102640"/>
            <a:chExt cx="3281400" cy="941040"/>
          </a:xfrm>
        </p:grpSpPr>
        <p:grpSp>
          <p:nvGrpSpPr>
            <p:cNvPr id="497" name="组合 88"/>
            <p:cNvGrpSpPr/>
            <p:nvPr/>
          </p:nvGrpSpPr>
          <p:grpSpPr>
            <a:xfrm>
              <a:off x="2518560" y="5102640"/>
              <a:ext cx="3281400" cy="941040"/>
              <a:chOff x="2518560" y="5102640"/>
              <a:chExt cx="3281400" cy="941040"/>
            </a:xfrm>
          </p:grpSpPr>
          <p:sp>
            <p:nvSpPr>
              <p:cNvPr id="498" name="任意多边形 90"/>
              <p:cNvSpPr/>
              <p:nvPr/>
            </p:nvSpPr>
            <p:spPr>
              <a:xfrm>
                <a:off x="2518560" y="5102640"/>
                <a:ext cx="3281400" cy="941040"/>
              </a:xfrm>
              <a:custGeom>
                <a:avLst/>
                <a:gdLst>
                  <a:gd name="textAreaLeft" fmla="*/ 0 w 3281400"/>
                  <a:gd name="textAreaRight" fmla="*/ 3281760 w 3281400"/>
                  <a:gd name="textAreaTop" fmla="*/ 0 h 941040"/>
                  <a:gd name="textAreaBottom" fmla="*/ 941400 h 941040"/>
                </a:gdLst>
                <a:ahLst/>
                <a:rect l="textAreaLeft" t="textAreaTop" r="textAreaRight" b="textAreaBottom"/>
                <a:pathLst>
                  <a:path w="1584448" h="779318">
                    <a:moveTo>
                      <a:pt x="0" y="0"/>
                    </a:moveTo>
                    <a:lnTo>
                      <a:pt x="1270989" y="0"/>
                    </a:lnTo>
                    <a:lnTo>
                      <a:pt x="1299997" y="0"/>
                    </a:lnTo>
                    <a:lnTo>
                      <a:pt x="1299997" y="3635"/>
                    </a:lnTo>
                    <a:lnTo>
                      <a:pt x="1334162" y="7917"/>
                    </a:lnTo>
                    <a:cubicBezTo>
                      <a:pt x="1477000" y="44251"/>
                      <a:pt x="1584448" y="201357"/>
                      <a:pt x="1584448" y="389659"/>
                    </a:cubicBezTo>
                    <a:cubicBezTo>
                      <a:pt x="1584448" y="577962"/>
                      <a:pt x="1477000" y="735068"/>
                      <a:pt x="1334162" y="771402"/>
                    </a:cubicBezTo>
                    <a:lnTo>
                      <a:pt x="1299997" y="775683"/>
                    </a:lnTo>
                    <a:lnTo>
                      <a:pt x="1299997" y="779318"/>
                    </a:lnTo>
                    <a:lnTo>
                      <a:pt x="1270989" y="779318"/>
                    </a:lnTo>
                    <a:lnTo>
                      <a:pt x="0" y="779318"/>
                    </a:lnTo>
                    <a:lnTo>
                      <a:pt x="0" y="766515"/>
                    </a:lnTo>
                    <a:lnTo>
                      <a:pt x="16698" y="748696"/>
                    </a:lnTo>
                    <a:cubicBezTo>
                      <a:pt x="57378" y="689543"/>
                      <a:pt x="85922" y="551061"/>
                      <a:pt x="85922" y="389658"/>
                    </a:cubicBezTo>
                    <a:cubicBezTo>
                      <a:pt x="85922" y="228256"/>
                      <a:pt x="57378" y="89774"/>
                      <a:pt x="16698" y="30621"/>
                    </a:cubicBezTo>
                    <a:lnTo>
                      <a:pt x="0" y="128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499" name="任意多边形 91"/>
              <p:cNvSpPr/>
              <p:nvPr/>
            </p:nvSpPr>
            <p:spPr>
              <a:xfrm>
                <a:off x="2644200" y="5165640"/>
                <a:ext cx="3096000" cy="815400"/>
              </a:xfrm>
              <a:custGeom>
                <a:avLst/>
                <a:gdLst>
                  <a:gd name="textAreaLeft" fmla="*/ 0 w 3096000"/>
                  <a:gd name="textAreaRight" fmla="*/ 3096360 w 3096000"/>
                  <a:gd name="textAreaTop" fmla="*/ 0 h 815400"/>
                  <a:gd name="textAreaBottom" fmla="*/ 815760 h 815400"/>
                </a:gdLst>
                <a:ahLst/>
                <a:rect l="textAreaLeft" t="textAreaTop" r="textAreaRight" b="textAreaBottom"/>
                <a:pathLst>
                  <a:path w="1459826" h="675411">
                    <a:moveTo>
                      <a:pt x="0" y="0"/>
                    </a:moveTo>
                    <a:lnTo>
                      <a:pt x="1175375" y="0"/>
                    </a:lnTo>
                    <a:lnTo>
                      <a:pt x="1175375" y="1"/>
                    </a:lnTo>
                    <a:cubicBezTo>
                      <a:pt x="1332473" y="1"/>
                      <a:pt x="1459826" y="151197"/>
                      <a:pt x="1459826" y="337706"/>
                    </a:cubicBezTo>
                    <a:cubicBezTo>
                      <a:pt x="1459826" y="524215"/>
                      <a:pt x="1332473" y="675411"/>
                      <a:pt x="1175375" y="675411"/>
                    </a:cubicBezTo>
                    <a:lnTo>
                      <a:pt x="1175359" y="675409"/>
                    </a:lnTo>
                    <a:lnTo>
                      <a:pt x="0" y="675409"/>
                    </a:lnTo>
                    <a:lnTo>
                      <a:pt x="7773" y="660817"/>
                    </a:lnTo>
                    <a:cubicBezTo>
                      <a:pt x="37742" y="590792"/>
                      <a:pt x="57446" y="472207"/>
                      <a:pt x="57446" y="337705"/>
                    </a:cubicBezTo>
                    <a:cubicBezTo>
                      <a:pt x="57446" y="203203"/>
                      <a:pt x="37742" y="84618"/>
                      <a:pt x="7773" y="145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00" name="文本框 62"/>
            <p:cNvSpPr/>
            <p:nvPr/>
          </p:nvSpPr>
          <p:spPr>
            <a:xfrm>
              <a:off x="3312720" y="5373360"/>
              <a:ext cx="185760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做事靠系统，不是靠感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文本框 92"/>
          <p:cNvSpPr/>
          <p:nvPr/>
        </p:nvSpPr>
        <p:spPr>
          <a:xfrm>
            <a:off x="318960" y="1782360"/>
            <a:ext cx="379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题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办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zh-CN" sz="2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41"/>
          <p:cNvGrpSpPr/>
          <p:nvPr/>
        </p:nvGrpSpPr>
        <p:grpSpPr>
          <a:xfrm>
            <a:off x="2874960" y="1523520"/>
            <a:ext cx="2497680" cy="779040"/>
            <a:chOff x="2874960" y="1523520"/>
            <a:chExt cx="2497680" cy="779040"/>
          </a:xfrm>
        </p:grpSpPr>
        <p:grpSp>
          <p:nvGrpSpPr>
            <p:cNvPr id="503" name="组合 38"/>
            <p:cNvGrpSpPr/>
            <p:nvPr/>
          </p:nvGrpSpPr>
          <p:grpSpPr>
            <a:xfrm>
              <a:off x="2874960" y="1523520"/>
              <a:ext cx="2497680" cy="779040"/>
              <a:chOff x="2874960" y="1523520"/>
              <a:chExt cx="2497680" cy="779040"/>
            </a:xfrm>
          </p:grpSpPr>
          <p:sp>
            <p:nvSpPr>
              <p:cNvPr id="504" name="任意多边形 39"/>
              <p:cNvSpPr/>
              <p:nvPr/>
            </p:nvSpPr>
            <p:spPr>
              <a:xfrm>
                <a:off x="2874960" y="1523520"/>
                <a:ext cx="2497680" cy="779040"/>
              </a:xfrm>
              <a:custGeom>
                <a:avLst/>
                <a:gdLst>
                  <a:gd name="textAreaLeft" fmla="*/ 0 w 2497680"/>
                  <a:gd name="textAreaRight" fmla="*/ 2498040 w 2497680"/>
                  <a:gd name="textAreaTop" fmla="*/ 0 h 779040"/>
                  <a:gd name="textAreaBottom" fmla="*/ 779400 h 779040"/>
                </a:gdLst>
                <a:ahLst/>
                <a:rect l="textAreaLeft" t="textAreaTop" r="textAreaRight" b="textAreaBottom"/>
                <a:pathLst>
                  <a:path w="1584448" h="779318">
                    <a:moveTo>
                      <a:pt x="0" y="0"/>
                    </a:moveTo>
                    <a:lnTo>
                      <a:pt x="1270989" y="0"/>
                    </a:lnTo>
                    <a:lnTo>
                      <a:pt x="1299997" y="0"/>
                    </a:lnTo>
                    <a:lnTo>
                      <a:pt x="1299997" y="3635"/>
                    </a:lnTo>
                    <a:lnTo>
                      <a:pt x="1334162" y="7917"/>
                    </a:lnTo>
                    <a:cubicBezTo>
                      <a:pt x="1477000" y="44251"/>
                      <a:pt x="1584448" y="201357"/>
                      <a:pt x="1584448" y="389659"/>
                    </a:cubicBezTo>
                    <a:cubicBezTo>
                      <a:pt x="1584448" y="577962"/>
                      <a:pt x="1477000" y="735068"/>
                      <a:pt x="1334162" y="771402"/>
                    </a:cubicBezTo>
                    <a:lnTo>
                      <a:pt x="1299997" y="775683"/>
                    </a:lnTo>
                    <a:lnTo>
                      <a:pt x="1299997" y="779318"/>
                    </a:lnTo>
                    <a:lnTo>
                      <a:pt x="1270989" y="779318"/>
                    </a:lnTo>
                    <a:lnTo>
                      <a:pt x="0" y="779318"/>
                    </a:lnTo>
                    <a:lnTo>
                      <a:pt x="0" y="766515"/>
                    </a:lnTo>
                    <a:lnTo>
                      <a:pt x="16698" y="748696"/>
                    </a:lnTo>
                    <a:cubicBezTo>
                      <a:pt x="57378" y="689543"/>
                      <a:pt x="85922" y="551061"/>
                      <a:pt x="85922" y="389658"/>
                    </a:cubicBezTo>
                    <a:cubicBezTo>
                      <a:pt x="85922" y="228256"/>
                      <a:pt x="57378" y="89774"/>
                      <a:pt x="16698" y="30621"/>
                    </a:cubicBezTo>
                    <a:lnTo>
                      <a:pt x="0" y="128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8100000"/>
              </a:gradFill>
              <a:ln>
                <a:noFill/>
              </a:ln>
              <a:effectLst>
                <a:outerShdw algn="tr" blurRad="127080" dir="8100000" dist="63130" rotWithShape="0">
                  <a:srgbClr val="000000">
                    <a:alpha val="40000"/>
                  </a:srgbClr>
                </a:outerShd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  <p:sp>
            <p:nvSpPr>
              <p:cNvPr id="505" name="任意多边形 40"/>
              <p:cNvSpPr/>
              <p:nvPr/>
            </p:nvSpPr>
            <p:spPr>
              <a:xfrm>
                <a:off x="2971800" y="1575360"/>
                <a:ext cx="2355120" cy="675000"/>
              </a:xfrm>
              <a:custGeom>
                <a:avLst/>
                <a:gdLst>
                  <a:gd name="textAreaLeft" fmla="*/ 0 w 2355120"/>
                  <a:gd name="textAreaRight" fmla="*/ 2355480 w 2355120"/>
                  <a:gd name="textAreaTop" fmla="*/ 0 h 675000"/>
                  <a:gd name="textAreaBottom" fmla="*/ 675360 h 675000"/>
                </a:gdLst>
                <a:ahLst/>
                <a:rect l="textAreaLeft" t="textAreaTop" r="textAreaRight" b="textAreaBottom"/>
                <a:pathLst>
                  <a:path w="1459826" h="675411">
                    <a:moveTo>
                      <a:pt x="0" y="0"/>
                    </a:moveTo>
                    <a:lnTo>
                      <a:pt x="1175375" y="0"/>
                    </a:lnTo>
                    <a:lnTo>
                      <a:pt x="1175375" y="1"/>
                    </a:lnTo>
                    <a:cubicBezTo>
                      <a:pt x="1332473" y="1"/>
                      <a:pt x="1459826" y="151197"/>
                      <a:pt x="1459826" y="337706"/>
                    </a:cubicBezTo>
                    <a:cubicBezTo>
                      <a:pt x="1459826" y="524215"/>
                      <a:pt x="1332473" y="675411"/>
                      <a:pt x="1175375" y="675411"/>
                    </a:cubicBezTo>
                    <a:lnTo>
                      <a:pt x="1175359" y="675409"/>
                    </a:lnTo>
                    <a:lnTo>
                      <a:pt x="0" y="675409"/>
                    </a:lnTo>
                    <a:lnTo>
                      <a:pt x="7773" y="660817"/>
                    </a:lnTo>
                    <a:cubicBezTo>
                      <a:pt x="37742" y="590792"/>
                      <a:pt x="57446" y="472207"/>
                      <a:pt x="57446" y="337705"/>
                    </a:cubicBezTo>
                    <a:cubicBezTo>
                      <a:pt x="57446" y="203203"/>
                      <a:pt x="37742" y="84618"/>
                      <a:pt x="7773" y="1459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7fafd"/>
                  </a:gs>
                  <a:gs pos="100000">
                    <a:srgbClr val="d9d9d9"/>
                  </a:gs>
                </a:gsLst>
                <a:lin ang="18900000"/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506" name="文本框 23"/>
            <p:cNvSpPr/>
            <p:nvPr/>
          </p:nvSpPr>
          <p:spPr>
            <a:xfrm>
              <a:off x="3499560" y="1712880"/>
              <a:ext cx="124776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000" spc="-1" strike="noStrike">
                  <a:solidFill>
                    <a:srgbClr val="c30d23"/>
                  </a:solidFill>
                  <a:latin typeface="微软雅黑"/>
                  <a:ea typeface="微软雅黑"/>
                </a:rPr>
                <a:t>找到自己的使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7" name="组合 3"/>
          <p:cNvGrpSpPr/>
          <p:nvPr/>
        </p:nvGrpSpPr>
        <p:grpSpPr>
          <a:xfrm>
            <a:off x="3184200" y="3618360"/>
            <a:ext cx="4201200" cy="1115640"/>
            <a:chOff x="3184200" y="3618360"/>
            <a:chExt cx="4201200" cy="1115640"/>
          </a:xfrm>
        </p:grpSpPr>
        <p:sp>
          <p:nvSpPr>
            <p:cNvPr id="508" name="任意多边形 114"/>
            <p:cNvSpPr/>
            <p:nvPr/>
          </p:nvSpPr>
          <p:spPr>
            <a:xfrm>
              <a:off x="3184200" y="3618360"/>
              <a:ext cx="4201200" cy="1115640"/>
            </a:xfrm>
            <a:custGeom>
              <a:avLst/>
              <a:gdLst>
                <a:gd name="textAreaLeft" fmla="*/ 0 w 4201200"/>
                <a:gd name="textAreaRight" fmla="*/ 4201560 w 4201200"/>
                <a:gd name="textAreaTop" fmla="*/ 0 h 1115640"/>
                <a:gd name="textAreaBottom" fmla="*/ 1116000 h 1115640"/>
              </a:gdLst>
              <a:ahLst/>
              <a:rect l="textAreaLeft" t="textAreaTop" r="textAreaRight" b="textAreaBottom"/>
              <a:pathLst>
                <a:path w="4201415" h="1116000">
                  <a:moveTo>
                    <a:pt x="1584542" y="761831"/>
                  </a:moveTo>
                  <a:lnTo>
                    <a:pt x="2621140" y="761831"/>
                  </a:lnTo>
                  <a:lnTo>
                    <a:pt x="2616991" y="775199"/>
                  </a:lnTo>
                  <a:cubicBezTo>
                    <a:pt x="2532282" y="975474"/>
                    <a:pt x="2333972" y="1116000"/>
                    <a:pt x="2102841" y="1116000"/>
                  </a:cubicBezTo>
                  <a:cubicBezTo>
                    <a:pt x="1871710" y="1116000"/>
                    <a:pt x="1673401" y="975474"/>
                    <a:pt x="1588692" y="775199"/>
                  </a:cubicBezTo>
                  <a:close/>
                  <a:moveTo>
                    <a:pt x="2626728" y="372170"/>
                  </a:moveTo>
                  <a:lnTo>
                    <a:pt x="3119528" y="372170"/>
                  </a:lnTo>
                  <a:lnTo>
                    <a:pt x="3096752" y="445544"/>
                  </a:lnTo>
                  <a:cubicBezTo>
                    <a:pt x="3089319" y="481868"/>
                    <a:pt x="3085415" y="519478"/>
                    <a:pt x="3085415" y="558000"/>
                  </a:cubicBezTo>
                  <a:cubicBezTo>
                    <a:pt x="3085415" y="596522"/>
                    <a:pt x="3089319" y="634132"/>
                    <a:pt x="3096752" y="670457"/>
                  </a:cubicBezTo>
                  <a:lnTo>
                    <a:pt x="3125116" y="761831"/>
                  </a:lnTo>
                  <a:lnTo>
                    <a:pt x="2621140" y="761831"/>
                  </a:lnTo>
                  <a:lnTo>
                    <a:pt x="2649505" y="670457"/>
                  </a:lnTo>
                  <a:cubicBezTo>
                    <a:pt x="2656938" y="634132"/>
                    <a:pt x="2660841" y="596522"/>
                    <a:pt x="2660841" y="558000"/>
                  </a:cubicBezTo>
                  <a:cubicBezTo>
                    <a:pt x="2660841" y="519478"/>
                    <a:pt x="2656938" y="481868"/>
                    <a:pt x="2649505" y="445544"/>
                  </a:cubicBezTo>
                  <a:close/>
                  <a:moveTo>
                    <a:pt x="1081887" y="372170"/>
                  </a:moveTo>
                  <a:lnTo>
                    <a:pt x="1578954" y="372170"/>
                  </a:lnTo>
                  <a:lnTo>
                    <a:pt x="1556178" y="445544"/>
                  </a:lnTo>
                  <a:cubicBezTo>
                    <a:pt x="1548745" y="481868"/>
                    <a:pt x="1544841" y="519478"/>
                    <a:pt x="1544841" y="558000"/>
                  </a:cubicBezTo>
                  <a:cubicBezTo>
                    <a:pt x="1544841" y="596522"/>
                    <a:pt x="1548745" y="634132"/>
                    <a:pt x="1556178" y="670457"/>
                  </a:cubicBezTo>
                  <a:lnTo>
                    <a:pt x="1584542" y="761831"/>
                  </a:lnTo>
                  <a:lnTo>
                    <a:pt x="1076300" y="761831"/>
                  </a:lnTo>
                  <a:lnTo>
                    <a:pt x="1104664" y="670457"/>
                  </a:lnTo>
                  <a:cubicBezTo>
                    <a:pt x="1112097" y="634132"/>
                    <a:pt x="1116000" y="596522"/>
                    <a:pt x="1116000" y="558000"/>
                  </a:cubicBezTo>
                  <a:cubicBezTo>
                    <a:pt x="1116000" y="519478"/>
                    <a:pt x="1112097" y="481868"/>
                    <a:pt x="1104664" y="445544"/>
                  </a:cubicBezTo>
                  <a:close/>
                  <a:moveTo>
                    <a:pt x="3643415" y="0"/>
                  </a:moveTo>
                  <a:cubicBezTo>
                    <a:pt x="3951590" y="0"/>
                    <a:pt x="4201415" y="249825"/>
                    <a:pt x="4201415" y="558000"/>
                  </a:cubicBezTo>
                  <a:cubicBezTo>
                    <a:pt x="4201415" y="866175"/>
                    <a:pt x="3951590" y="1116000"/>
                    <a:pt x="3643415" y="1116000"/>
                  </a:cubicBezTo>
                  <a:cubicBezTo>
                    <a:pt x="3412284" y="1116000"/>
                    <a:pt x="3213975" y="975474"/>
                    <a:pt x="3129266" y="775199"/>
                  </a:cubicBezTo>
                  <a:lnTo>
                    <a:pt x="3125116" y="761831"/>
                  </a:lnTo>
                  <a:lnTo>
                    <a:pt x="3819996" y="761831"/>
                  </a:lnTo>
                  <a:lnTo>
                    <a:pt x="3819996" y="372170"/>
                  </a:lnTo>
                  <a:lnTo>
                    <a:pt x="3119528" y="372170"/>
                  </a:lnTo>
                  <a:lnTo>
                    <a:pt x="3129266" y="340801"/>
                  </a:lnTo>
                  <a:cubicBezTo>
                    <a:pt x="3213975" y="140527"/>
                    <a:pt x="3412284" y="0"/>
                    <a:pt x="3643415" y="0"/>
                  </a:cubicBezTo>
                  <a:close/>
                  <a:moveTo>
                    <a:pt x="2102841" y="0"/>
                  </a:moveTo>
                  <a:cubicBezTo>
                    <a:pt x="2333972" y="0"/>
                    <a:pt x="2532282" y="140527"/>
                    <a:pt x="2616991" y="340801"/>
                  </a:cubicBezTo>
                  <a:lnTo>
                    <a:pt x="2626728" y="372170"/>
                  </a:lnTo>
                  <a:lnTo>
                    <a:pt x="1578954" y="372170"/>
                  </a:lnTo>
                  <a:lnTo>
                    <a:pt x="1588692" y="340801"/>
                  </a:lnTo>
                  <a:cubicBezTo>
                    <a:pt x="1673401" y="140527"/>
                    <a:pt x="1871710" y="0"/>
                    <a:pt x="2102841" y="0"/>
                  </a:cubicBezTo>
                  <a:close/>
                  <a:moveTo>
                    <a:pt x="558000" y="0"/>
                  </a:moveTo>
                  <a:cubicBezTo>
                    <a:pt x="789131" y="0"/>
                    <a:pt x="987441" y="140527"/>
                    <a:pt x="1072150" y="340801"/>
                  </a:cubicBezTo>
                  <a:lnTo>
                    <a:pt x="1081887" y="372170"/>
                  </a:lnTo>
                  <a:lnTo>
                    <a:pt x="492000" y="372170"/>
                  </a:lnTo>
                  <a:lnTo>
                    <a:pt x="492000" y="761831"/>
                  </a:lnTo>
                  <a:lnTo>
                    <a:pt x="1076300" y="761831"/>
                  </a:lnTo>
                  <a:lnTo>
                    <a:pt x="1072150" y="775199"/>
                  </a:lnTo>
                  <a:cubicBezTo>
                    <a:pt x="987441" y="975474"/>
                    <a:pt x="789131" y="1116000"/>
                    <a:pt x="558000" y="1116000"/>
                  </a:cubicBezTo>
                  <a:cubicBezTo>
                    <a:pt x="249825" y="1116000"/>
                    <a:pt x="0" y="866175"/>
                    <a:pt x="0" y="558000"/>
                  </a:cubicBezTo>
                  <a:cubicBezTo>
                    <a:pt x="0" y="249825"/>
                    <a:pt x="249825" y="0"/>
                    <a:pt x="558000" y="0"/>
                  </a:cubicBezTo>
                  <a:close/>
                </a:path>
              </a:pathLst>
            </a:custGeom>
            <a:gradFill rotWithShape="0">
              <a:gsLst>
                <a:gs pos="57000">
                  <a:srgbClr val="f7fafd"/>
                </a:gs>
                <a:gs pos="100000">
                  <a:srgbClr val="bfbfbf"/>
                </a:gs>
              </a:gsLst>
              <a:lin ang="8100000"/>
            </a:gradFill>
            <a:ln>
              <a:noFill/>
            </a:ln>
            <a:effectLst>
              <a:outerShdw algn="tr" blurRad="127080" dir="7187127" dist="63049" rotWithShape="0" sx="99000" sy="99000">
                <a:srgbClr val="000000">
                  <a:alpha val="31000"/>
                </a:srgbClr>
              </a:out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" name="椭圆 89"/>
            <p:cNvSpPr/>
            <p:nvPr/>
          </p:nvSpPr>
          <p:spPr>
            <a:xfrm>
              <a:off x="320220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0" name="文本框 86"/>
            <p:cNvSpPr/>
            <p:nvPr/>
          </p:nvSpPr>
          <p:spPr>
            <a:xfrm>
              <a:off x="349884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简单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明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椭圆 108"/>
            <p:cNvSpPr/>
            <p:nvPr/>
          </p:nvSpPr>
          <p:spPr>
            <a:xfrm>
              <a:off x="474732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2" name="文本框 106"/>
            <p:cNvSpPr/>
            <p:nvPr/>
          </p:nvSpPr>
          <p:spPr>
            <a:xfrm>
              <a:off x="504396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即时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椭圆 113"/>
            <p:cNvSpPr/>
            <p:nvPr/>
          </p:nvSpPr>
          <p:spPr>
            <a:xfrm>
              <a:off x="6287760" y="3636360"/>
              <a:ext cx="1079640" cy="1079640"/>
            </a:xfrm>
            <a:prstGeom prst="ellipse">
              <a:avLst/>
            </a:prstGeom>
            <a:solidFill>
              <a:schemeClr val="tx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4" name="文本框 111"/>
            <p:cNvSpPr/>
            <p:nvPr/>
          </p:nvSpPr>
          <p:spPr>
            <a:xfrm>
              <a:off x="6584400" y="3822480"/>
              <a:ext cx="48600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不愿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8"/>
          <p:cNvGrpSpPr/>
          <p:nvPr/>
        </p:nvGrpSpPr>
        <p:grpSpPr>
          <a:xfrm>
            <a:off x="5832360" y="479160"/>
            <a:ext cx="2952000" cy="2867400"/>
            <a:chOff x="5832360" y="479160"/>
            <a:chExt cx="2952000" cy="2867400"/>
          </a:xfrm>
        </p:grpSpPr>
        <p:sp>
          <p:nvSpPr>
            <p:cNvPr id="516" name="椭圆 4"/>
            <p:cNvSpPr/>
            <p:nvPr/>
          </p:nvSpPr>
          <p:spPr>
            <a:xfrm>
              <a:off x="6568920" y="1186200"/>
              <a:ext cx="1439640" cy="1439640"/>
            </a:xfrm>
            <a:prstGeom prst="ellipse">
              <a:avLst/>
            </a:prstGeom>
            <a:solidFill>
              <a:schemeClr val="tx1"/>
            </a:solidFill>
            <a:ln w="31750"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517" name="组合 127"/>
            <p:cNvGrpSpPr/>
            <p:nvPr/>
          </p:nvGrpSpPr>
          <p:grpSpPr>
            <a:xfrm>
              <a:off x="6739200" y="2230920"/>
              <a:ext cx="1115640" cy="1115640"/>
              <a:chOff x="6739200" y="2230920"/>
              <a:chExt cx="1115640" cy="1115640"/>
            </a:xfrm>
          </p:grpSpPr>
          <p:grpSp>
            <p:nvGrpSpPr>
              <p:cNvPr id="518" name="组合 128"/>
              <p:cNvGrpSpPr/>
              <p:nvPr/>
            </p:nvGrpSpPr>
            <p:grpSpPr>
              <a:xfrm>
                <a:off x="6739200" y="2230920"/>
                <a:ext cx="1115640" cy="1115640"/>
                <a:chOff x="6739200" y="2230920"/>
                <a:chExt cx="1115640" cy="1115640"/>
              </a:xfrm>
            </p:grpSpPr>
            <p:sp>
              <p:nvSpPr>
                <p:cNvPr id="519" name="椭圆 130"/>
                <p:cNvSpPr/>
                <p:nvPr/>
              </p:nvSpPr>
              <p:spPr>
                <a:xfrm>
                  <a:off x="6739200" y="223092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20" name="椭圆 131"/>
                <p:cNvSpPr/>
                <p:nvPr/>
              </p:nvSpPr>
              <p:spPr>
                <a:xfrm>
                  <a:off x="6757200" y="224892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1" name="文本框 129"/>
              <p:cNvSpPr/>
              <p:nvPr/>
            </p:nvSpPr>
            <p:spPr>
              <a:xfrm>
                <a:off x="7053840" y="243504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性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组合 132"/>
            <p:cNvGrpSpPr/>
            <p:nvPr/>
          </p:nvGrpSpPr>
          <p:grpSpPr>
            <a:xfrm>
              <a:off x="5832360" y="1397520"/>
              <a:ext cx="1115640" cy="1115640"/>
              <a:chOff x="5832360" y="1397520"/>
              <a:chExt cx="1115640" cy="1115640"/>
            </a:xfrm>
          </p:grpSpPr>
          <p:grpSp>
            <p:nvGrpSpPr>
              <p:cNvPr id="523" name="组合 133"/>
              <p:cNvGrpSpPr/>
              <p:nvPr/>
            </p:nvGrpSpPr>
            <p:grpSpPr>
              <a:xfrm>
                <a:off x="5832360" y="1397520"/>
                <a:ext cx="1115640" cy="1115640"/>
                <a:chOff x="5832360" y="1397520"/>
                <a:chExt cx="1115640" cy="1115640"/>
              </a:xfrm>
            </p:grpSpPr>
            <p:sp>
              <p:nvSpPr>
                <p:cNvPr id="524" name="椭圆 135"/>
                <p:cNvSpPr/>
                <p:nvPr/>
              </p:nvSpPr>
              <p:spPr>
                <a:xfrm>
                  <a:off x="5832360" y="139752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25" name="椭圆 136"/>
                <p:cNvSpPr/>
                <p:nvPr/>
              </p:nvSpPr>
              <p:spPr>
                <a:xfrm>
                  <a:off x="5850360" y="141552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26" name="文本框 134"/>
              <p:cNvSpPr/>
              <p:nvPr/>
            </p:nvSpPr>
            <p:spPr>
              <a:xfrm>
                <a:off x="6071040" y="1601640"/>
                <a:ext cx="63828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c30d23"/>
                    </a:solidFill>
                    <a:latin typeface="微软雅黑"/>
                    <a:ea typeface="微软雅黑"/>
                  </a:rPr>
                  <a:t>番茄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zh-CN" sz="2000" spc="-1" strike="noStrike">
                    <a:solidFill>
                      <a:srgbClr val="c30d23"/>
                    </a:solidFill>
                    <a:latin typeface="微软雅黑"/>
                    <a:ea typeface="微软雅黑"/>
                  </a:rPr>
                  <a:t>工作法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7" name="组合 137"/>
            <p:cNvGrpSpPr/>
            <p:nvPr/>
          </p:nvGrpSpPr>
          <p:grpSpPr>
            <a:xfrm>
              <a:off x="7668720" y="1425240"/>
              <a:ext cx="1115640" cy="1115640"/>
              <a:chOff x="7668720" y="1425240"/>
              <a:chExt cx="1115640" cy="1115640"/>
            </a:xfrm>
          </p:grpSpPr>
          <p:grpSp>
            <p:nvGrpSpPr>
              <p:cNvPr id="528" name="组合 138"/>
              <p:cNvGrpSpPr/>
              <p:nvPr/>
            </p:nvGrpSpPr>
            <p:grpSpPr>
              <a:xfrm>
                <a:off x="7668720" y="1425240"/>
                <a:ext cx="1115640" cy="1115640"/>
                <a:chOff x="7668720" y="1425240"/>
                <a:chExt cx="1115640" cy="1115640"/>
              </a:xfrm>
            </p:grpSpPr>
            <p:sp>
              <p:nvSpPr>
                <p:cNvPr id="529" name="椭圆 140"/>
                <p:cNvSpPr/>
                <p:nvPr/>
              </p:nvSpPr>
              <p:spPr>
                <a:xfrm>
                  <a:off x="7668720" y="142524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30" name="椭圆 141"/>
                <p:cNvSpPr/>
                <p:nvPr/>
              </p:nvSpPr>
              <p:spPr>
                <a:xfrm>
                  <a:off x="7686720" y="144324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1" name="文本框 139"/>
              <p:cNvSpPr/>
              <p:nvPr/>
            </p:nvSpPr>
            <p:spPr>
              <a:xfrm>
                <a:off x="7983360" y="162936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精力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组合 142"/>
            <p:cNvGrpSpPr/>
            <p:nvPr/>
          </p:nvGrpSpPr>
          <p:grpSpPr>
            <a:xfrm>
              <a:off x="6761880" y="479160"/>
              <a:ext cx="1115640" cy="1115640"/>
              <a:chOff x="6761880" y="479160"/>
              <a:chExt cx="1115640" cy="1115640"/>
            </a:xfrm>
          </p:grpSpPr>
          <p:grpSp>
            <p:nvGrpSpPr>
              <p:cNvPr id="533" name="组合 143"/>
              <p:cNvGrpSpPr/>
              <p:nvPr/>
            </p:nvGrpSpPr>
            <p:grpSpPr>
              <a:xfrm>
                <a:off x="6761880" y="479160"/>
                <a:ext cx="1115640" cy="1115640"/>
                <a:chOff x="6761880" y="479160"/>
                <a:chExt cx="1115640" cy="1115640"/>
              </a:xfrm>
            </p:grpSpPr>
            <p:sp>
              <p:nvSpPr>
                <p:cNvPr id="534" name="椭圆 145"/>
                <p:cNvSpPr/>
                <p:nvPr/>
              </p:nvSpPr>
              <p:spPr>
                <a:xfrm>
                  <a:off x="6761880" y="479160"/>
                  <a:ext cx="1115640" cy="1115640"/>
                </a:xfrm>
                <a:prstGeom prst="ellipse">
                  <a:avLst/>
                </a:prstGeom>
                <a:gradFill rotWithShape="0">
                  <a:gsLst>
                    <a:gs pos="57000">
                      <a:srgbClr val="f7fafd"/>
                    </a:gs>
                    <a:gs pos="100000">
                      <a:srgbClr val="bfbfbf"/>
                    </a:gs>
                  </a:gsLst>
                  <a:lin ang="8100000"/>
                </a:gradFill>
                <a:ln>
                  <a:noFill/>
                </a:ln>
                <a:effectLst>
                  <a:outerShdw algn="tr" blurRad="127080" dir="7187127" dist="63049" rotWithShape="0" sx="99000" sy="99000">
                    <a:srgbClr val="000000">
                      <a:alpha val="31000"/>
                    </a:srgbClr>
                  </a:outerShdw>
                </a:effectLst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  <p:sp>
              <p:nvSpPr>
                <p:cNvPr id="535" name="椭圆 146"/>
                <p:cNvSpPr/>
                <p:nvPr/>
              </p:nvSpPr>
              <p:spPr>
                <a:xfrm>
                  <a:off x="6779880" y="497160"/>
                  <a:ext cx="1079640" cy="1079640"/>
                </a:xfrm>
                <a:prstGeom prst="ellipse">
                  <a:avLst/>
                </a:prstGeom>
                <a:gradFill rotWithShape="0">
                  <a:gsLst>
                    <a:gs pos="49000">
                      <a:srgbClr val="f7fafd"/>
                    </a:gs>
                    <a:gs pos="100000">
                      <a:srgbClr val="d9d9d9"/>
                    </a:gs>
                  </a:gsLst>
                  <a:lin ang="18900000"/>
                </a:gra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45000" bIns="4500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ffffff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36" name="文本框 144"/>
              <p:cNvSpPr/>
              <p:nvPr/>
            </p:nvSpPr>
            <p:spPr>
              <a:xfrm>
                <a:off x="7076520" y="683280"/>
                <a:ext cx="486000" cy="69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臣服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环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 主题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ffice Theme</Template>
  <TotalTime>1464</TotalTime>
  <Application>LibreOffice/7.4.7.2$Linux_X86_64 LibreOffice_project/40$Build-2</Application>
  <AppVersion>15.0000</AppVersion>
  <Words>510</Words>
  <Paragraphs>21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3T03:40:54Z</dcterms:created>
  <dc:creator>xiaoxuan Zeng</dc:creator>
  <dc:description/>
  <dc:language>en-US</dc:language>
  <cp:lastModifiedBy>王玉清</cp:lastModifiedBy>
  <dcterms:modified xsi:type="dcterms:W3CDTF">2016-02-23T02:40:25Z</dcterms:modified>
  <cp:revision>16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