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1DA9-E6EC-4388-AABD-B7814D45D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0AA9-A546-440A-94E3-53862F55A39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35D1-9FF4-4C7D-ABB8-C5A0E3657AD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339-1CA2-4FD2-83B1-38ACE4F0338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A01-9267-4685-A9FB-321DB205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353-2C83-4405-85A9-E5C153ED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07E-AD15-4081-8779-34858DB3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EC7-CA26-41E3-881C-3EF51523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2A79-6BD7-40C8-BF64-84DE3124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11F8-2C87-4E54-A332-DBDE58BE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6850-6C75-492F-AD02-7C24FE78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D1D-5AEC-479F-92B9-23A0EB4A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0B9F-994F-4B9D-97CF-8A5F74F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E70E-2586-4E9A-8A0B-FF701B38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F5BA-0646-4D90-A407-5A441A5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14B-C231-42FC-899E-328039A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6030-D6A0-4B0D-9A1A-87E6CC47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743B-45C1-4119-B163-0EFF2774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B877-E072-4A9C-B280-05BF4D6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35B4-65ED-47E7-80AC-76CF1EF4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9FF1-6F92-4824-9B00-107B9A33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9F7-2504-47F7-992E-543CD6B3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69A-3B66-4048-B0ED-AA5BD3BC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C97-98A2-4771-919F-09AA8E6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BD8-B6CF-46DE-BCE8-4F8D13AC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846-D9EA-4D81-ADF3-3B65948C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E43-A28F-477D-9B84-A6BF8BF7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382-C558-4083-927E-24F3C33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2479680" cy="4738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"/>
          <p:cNvSpPr/>
          <p:nvPr/>
        </p:nvSpPr>
        <p:spPr>
          <a:xfrm>
            <a:off x="0" y="0"/>
            <a:ext cx="247968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811-C5E0-4291-9DF6-83303F0DA63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0" y="2133720"/>
            <a:ext cx="2479680" cy="4738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0" y="0"/>
            <a:ext cx="247968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0" y="213372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ab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870-6C59-4E17-BC83-D0D672C4E28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2800" y="31608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弯嘴鸟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59000" y="103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00360" y="1663560"/>
            <a:ext cx="59356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03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618080" y="300672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694480" y="300672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565440" y="4621320"/>
            <a:ext cx="827280" cy="610920"/>
          </a:xfrm>
          <a:prstGeom prst="rect">
            <a:avLst/>
          </a:prstGeom>
          <a:solidFill>
            <a:srgbClr val="f0c5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4633920" y="4621320"/>
            <a:ext cx="826920" cy="61092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702400" y="4621320"/>
            <a:ext cx="826920" cy="61092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772320" y="4621320"/>
            <a:ext cx="826920" cy="61092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754680" y="300672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549600" y="300672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331800" y="2367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650120" y="224460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99800" y="236700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880680" y="224460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708000" y="398160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655520" y="3981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5589720" y="385920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6670800" y="38577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16360" y="1628640"/>
            <a:ext cx="200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MG_9271"/>
          <p:cNvPicPr/>
          <p:nvPr/>
        </p:nvPicPr>
        <p:blipFill>
          <a:blip r:embed="rId1"/>
          <a:stretch/>
        </p:blipFill>
        <p:spPr>
          <a:xfrm>
            <a:off x="5651640" y="1773360"/>
            <a:ext cx="3097080" cy="3852720"/>
          </a:xfrm>
          <a:prstGeom prst="rect">
            <a:avLst/>
          </a:prstGeom>
          <a:ln w="57240">
            <a:solidFill>
              <a:srgbClr val="f0c5d4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07:28:14Z</dcterms:modified>
  <cp:revision>14</cp:revision>
  <dc:subject/>
  <dc:title>PowerPoint Presentation</dc:title>
</cp:coreProperties>
</file>