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86C-B329-4A7C-83FB-7AD9B28B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ADB-C48B-42AF-9995-37EE2F17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9A2-D461-4BE6-AC6D-72E92C9F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873-0179-40CD-9ACB-814B6ECF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547-17E7-4832-8A41-3BB7AF3F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593-2D0F-4BF5-A8DA-9517420C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5AF-B4BE-4C47-8913-27825EC5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67E-3644-4639-8267-DCD747CB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894-4D5F-4D87-BAC1-9EEE9DCE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D0D-641F-417B-B730-A34C113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0D3-90EB-4C54-8C3A-1C1E334E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DF7-168B-4256-AECA-9FD94EFF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C740CB-0B6F-4EF7-9534-A70CEDE19F3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5214960" y="857160"/>
            <a:ext cx="4857480" cy="112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9"/>
          <p:cNvCxnSpPr/>
          <p:nvPr/>
        </p:nvCxnSpPr>
        <p:spPr>
          <a:xfrm>
            <a:off x="5286240" y="135720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2550960" y="1825920"/>
            <a:ext cx="467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子棋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2514600" y="2295360"/>
            <a:ext cx="4557240" cy="70920"/>
          </a:xfrm>
          <a:prstGeom prst="rect">
            <a:avLst/>
          </a:prstGeom>
          <a:solidFill>
            <a:srgbClr val="a17745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533680" y="1836720"/>
            <a:ext cx="4538160" cy="429840"/>
          </a:xfrm>
          <a:prstGeom prst="rect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2514600" y="2968560"/>
            <a:ext cx="4557240" cy="72720"/>
          </a:xfrm>
          <a:prstGeom prst="rect">
            <a:avLst/>
          </a:prstGeom>
          <a:solidFill>
            <a:srgbClr val="ecd39b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33680" y="2509920"/>
            <a:ext cx="4538160" cy="431280"/>
          </a:xfrm>
          <a:prstGeom prst="rect">
            <a:avLst/>
          </a:prstGeom>
          <a:solidFill>
            <a:srgbClr val="ecd39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514600" y="3683160"/>
            <a:ext cx="4557240" cy="72720"/>
          </a:xfrm>
          <a:prstGeom prst="rect">
            <a:avLst/>
          </a:prstGeom>
          <a:solidFill>
            <a:srgbClr val="a17745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533680" y="3224160"/>
            <a:ext cx="4538160" cy="431280"/>
          </a:xfrm>
          <a:prstGeom prst="rect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2514600" y="4357800"/>
            <a:ext cx="4557240" cy="70920"/>
          </a:xfrm>
          <a:prstGeom prst="rect">
            <a:avLst/>
          </a:prstGeom>
          <a:solidFill>
            <a:srgbClr val="ecd39b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33680" y="3898800"/>
            <a:ext cx="4538160" cy="429840"/>
          </a:xfrm>
          <a:prstGeom prst="rect">
            <a:avLst/>
          </a:prstGeom>
          <a:solidFill>
            <a:srgbClr val="ecd39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2832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2832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2832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2832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"/>
          <p:cNvSpPr/>
          <p:nvPr/>
        </p:nvSpPr>
        <p:spPr>
          <a:xfrm>
            <a:off x="3989520" y="2725560"/>
            <a:ext cx="1542600" cy="1423800"/>
          </a:xfrm>
          <a:prstGeom prst="ellipse">
            <a:avLst/>
          </a:prstGeom>
          <a:solidFill>
            <a:srgbClr val="ecd39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444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9" name="Oval 2"/>
          <p:cNvSpPr/>
          <p:nvPr/>
        </p:nvSpPr>
        <p:spPr>
          <a:xfrm>
            <a:off x="4218120" y="1359000"/>
            <a:ext cx="1117080" cy="1029960"/>
          </a:xfrm>
          <a:prstGeom prst="ellipse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0" name="Oval 3"/>
          <p:cNvSpPr/>
          <p:nvPr/>
        </p:nvSpPr>
        <p:spPr>
          <a:xfrm>
            <a:off x="5902200" y="3898800"/>
            <a:ext cx="1117080" cy="1029960"/>
          </a:xfrm>
          <a:prstGeom prst="ellipse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428920" y="3898800"/>
            <a:ext cx="1115640" cy="1029960"/>
          </a:xfrm>
          <a:prstGeom prst="ellipse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cxnSp>
        <p:nvCxnSpPr>
          <p:cNvPr id="72" name="AutoShape 5"/>
          <p:cNvCxnSpPr>
            <a:stCxn id="71" idx="0"/>
            <a:endCxn id="69" idx="3"/>
          </p:cNvCxnSpPr>
          <p:nvPr/>
        </p:nvCxnSpPr>
        <p:spPr>
          <a:xfrm flipV="1">
            <a:off x="2985840" y="2238120"/>
            <a:ext cx="1395720" cy="16610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3" name="AutoShape 6"/>
          <p:cNvCxnSpPr>
            <a:stCxn id="69" idx="5"/>
            <a:endCxn id="70" idx="0"/>
          </p:cNvCxnSpPr>
          <p:nvPr/>
        </p:nvCxnSpPr>
        <p:spPr>
          <a:xfrm>
            <a:off x="5168880" y="2236680"/>
            <a:ext cx="1292400" cy="16624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4" name="AutoShape 7"/>
          <p:cNvCxnSpPr/>
          <p:nvPr/>
        </p:nvCxnSpPr>
        <p:spPr>
          <a:xfrm flipH="1">
            <a:off x="3531960" y="4516200"/>
            <a:ext cx="2383200" cy="21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5" name="矩形 12"/>
          <p:cNvSpPr/>
          <p:nvPr/>
        </p:nvSpPr>
        <p:spPr>
          <a:xfrm>
            <a:off x="4284720" y="171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997600" y="4216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2425680" y="4203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4284720" y="3287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5"/>
          <p:cNvSpPr/>
          <p:nvPr/>
        </p:nvSpPr>
        <p:spPr>
          <a:xfrm>
            <a:off x="1992240" y="2376360"/>
            <a:ext cx="5290920" cy="1800000"/>
          </a:xfrm>
          <a:prstGeom prst="downArrow">
            <a:avLst>
              <a:gd name="adj1" fmla="val 80356"/>
              <a:gd name="adj2" fmla="val 54167"/>
            </a:avLst>
          </a:prstGeom>
          <a:solidFill>
            <a:srgbClr val="a1774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929040" y="1571760"/>
            <a:ext cx="1323720" cy="1368000"/>
          </a:xfrm>
          <a:prstGeom prst="ellipse">
            <a:avLst/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" name="Oval 2"/>
          <p:cNvSpPr/>
          <p:nvPr/>
        </p:nvSpPr>
        <p:spPr>
          <a:xfrm>
            <a:off x="5929200" y="1643040"/>
            <a:ext cx="1361880" cy="1368000"/>
          </a:xfrm>
          <a:prstGeom prst="ellipse">
            <a:avLst/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7" name="Oval 2"/>
          <p:cNvSpPr/>
          <p:nvPr/>
        </p:nvSpPr>
        <p:spPr>
          <a:xfrm>
            <a:off x="1709640" y="1714680"/>
            <a:ext cx="1361880" cy="1368000"/>
          </a:xfrm>
          <a:prstGeom prst="ellipse">
            <a:avLst/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14052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40687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1927080" y="2273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1"/>
          <p:cNvSpPr/>
          <p:nvPr/>
        </p:nvSpPr>
        <p:spPr>
          <a:xfrm>
            <a:off x="1387800" y="4302000"/>
            <a:ext cx="1979640" cy="1079640"/>
          </a:xfrm>
          <a:prstGeom prst="roundRect">
            <a:avLst>
              <a:gd name="adj" fmla="val 8789"/>
            </a:avLst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2"/>
          <p:cNvSpPr/>
          <p:nvPr/>
        </p:nvSpPr>
        <p:spPr>
          <a:xfrm>
            <a:off x="3647880" y="4302000"/>
            <a:ext cx="1979640" cy="1079640"/>
          </a:xfrm>
          <a:prstGeom prst="roundRect">
            <a:avLst>
              <a:gd name="adj" fmla="val 10212"/>
            </a:avLst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3"/>
          <p:cNvSpPr/>
          <p:nvPr/>
        </p:nvSpPr>
        <p:spPr>
          <a:xfrm>
            <a:off x="5906160" y="4302000"/>
            <a:ext cx="1979640" cy="1079640"/>
          </a:xfrm>
          <a:prstGeom prst="roundRect">
            <a:avLst>
              <a:gd name="adj" fmla="val 11948"/>
            </a:avLst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曲线 329"/>
          <p:cNvSpPr/>
          <p:nvPr/>
        </p:nvSpPr>
        <p:spPr>
          <a:xfrm>
            <a:off x="1368360" y="1785960"/>
            <a:ext cx="7033680" cy="655200"/>
          </a:xfrm>
          <a:custGeom>
            <a:avLst/>
            <a:gdLst>
              <a:gd name="textAreaLeft" fmla="*/ 0 w 7033680"/>
              <a:gd name="textAreaRight" fmla="*/ 7034040 w 7033680"/>
              <a:gd name="textAreaTop" fmla="*/ 0 h 655200"/>
              <a:gd name="textAreaBottom" fmla="*/ 655560 h 65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407" y="4479"/>
                  <a:pt x="895" y="19925"/>
                  <a:pt x="2650" y="20762"/>
                </a:cubicBezTo>
                <a:cubicBezTo>
                  <a:pt x="4405" y="21600"/>
                  <a:pt x="6677" y="4772"/>
                  <a:pt x="8775" y="4227"/>
                </a:cubicBezTo>
                <a:cubicBezTo>
                  <a:pt x="10874" y="3683"/>
                  <a:pt x="11254" y="17853"/>
                  <a:pt x="13146" y="18083"/>
                </a:cubicBezTo>
                <a:cubicBezTo>
                  <a:pt x="15037" y="18313"/>
                  <a:pt x="16541" y="6990"/>
                  <a:pt x="18232" y="5379"/>
                </a:cubicBezTo>
                <a:cubicBezTo>
                  <a:pt x="19922" y="3767"/>
                  <a:pt x="21028" y="8832"/>
                  <a:pt x="21600" y="10004"/>
                </a:cubicBezTo>
              </a:path>
            </a:pathLst>
          </a:custGeom>
          <a:noFill/>
          <a:ln w="34925">
            <a:solidFill>
              <a:srgbClr val="a1774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0" name="AutoShape 10"/>
          <p:cNvSpPr/>
          <p:nvPr/>
        </p:nvSpPr>
        <p:spPr>
          <a:xfrm rot="540000">
            <a:off x="787320" y="2705040"/>
            <a:ext cx="2222280" cy="171432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1" name="AutoShape 11"/>
          <p:cNvSpPr/>
          <p:nvPr/>
        </p:nvSpPr>
        <p:spPr>
          <a:xfrm rot="540000">
            <a:off x="830160" y="2746080"/>
            <a:ext cx="2133360" cy="1622160"/>
          </a:xfrm>
          <a:prstGeom prst="roundRect">
            <a:avLst>
              <a:gd name="adj" fmla="val 16667"/>
            </a:avLst>
          </a:prstGeom>
          <a:solidFill>
            <a:srgbClr val="ecd39b"/>
          </a:solidFill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02" name="AutoShape 12"/>
          <p:cNvSpPr/>
          <p:nvPr/>
        </p:nvSpPr>
        <p:spPr>
          <a:xfrm rot="480000">
            <a:off x="3595320" y="2560320"/>
            <a:ext cx="2222280" cy="1714320"/>
          </a:xfrm>
          <a:prstGeom prst="roundRect">
            <a:avLst>
              <a:gd name="adj" fmla="val 16667"/>
            </a:avLst>
          </a:prstGeom>
          <a:solidFill>
            <a:srgbClr val="ecd39b"/>
          </a:solidFill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3" name="AutoShape 13"/>
          <p:cNvSpPr/>
          <p:nvPr/>
        </p:nvSpPr>
        <p:spPr>
          <a:xfrm rot="480000">
            <a:off x="3638520" y="2601720"/>
            <a:ext cx="2133360" cy="162216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04" name="AutoShape 14"/>
          <p:cNvSpPr/>
          <p:nvPr/>
        </p:nvSpPr>
        <p:spPr>
          <a:xfrm rot="480000">
            <a:off x="6313320" y="2525400"/>
            <a:ext cx="2222280" cy="1714320"/>
          </a:xfrm>
          <a:prstGeom prst="roundRect">
            <a:avLst>
              <a:gd name="adj" fmla="val 16667"/>
            </a:avLst>
          </a:prstGeom>
          <a:solidFill>
            <a:srgbClr val="ecd39b"/>
          </a:solidFill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5" name="AutoShape 15"/>
          <p:cNvSpPr/>
          <p:nvPr/>
        </p:nvSpPr>
        <p:spPr>
          <a:xfrm rot="480000">
            <a:off x="6357600" y="2566800"/>
            <a:ext cx="2133360" cy="162216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06" name="Line 16"/>
          <p:cNvSpPr/>
          <p:nvPr/>
        </p:nvSpPr>
        <p:spPr>
          <a:xfrm flipH="1">
            <a:off x="1103040" y="2368440"/>
            <a:ext cx="924120" cy="21888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7" name="Line 17"/>
          <p:cNvSpPr/>
          <p:nvPr/>
        </p:nvSpPr>
        <p:spPr>
          <a:xfrm flipH="1" flipV="1">
            <a:off x="2103120" y="2376360"/>
            <a:ext cx="803520" cy="48096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Line 18"/>
          <p:cNvSpPr/>
          <p:nvPr/>
        </p:nvSpPr>
        <p:spPr>
          <a:xfrm flipH="1">
            <a:off x="3881160" y="2082600"/>
            <a:ext cx="1035000" cy="36828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4971960" y="2089080"/>
            <a:ext cx="787320" cy="63504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0" name="Line 20"/>
          <p:cNvSpPr/>
          <p:nvPr/>
        </p:nvSpPr>
        <p:spPr>
          <a:xfrm flipH="1">
            <a:off x="6608520" y="1928520"/>
            <a:ext cx="1041480" cy="48924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7764120" y="1949400"/>
            <a:ext cx="692280" cy="71892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4862520" y="2075040"/>
            <a:ext cx="142560" cy="144000"/>
          </a:xfrm>
          <a:custGeom>
            <a:avLst/>
            <a:gdLst>
              <a:gd name="textAreaLeft" fmla="*/ 20880 w 142560"/>
              <a:gd name="textAreaRight" fmla="*/ 121680 w 142560"/>
              <a:gd name="textAreaTop" fmla="*/ 20880 h 144000"/>
              <a:gd name="textAreaBottom" fmla="*/ 123120 h 14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525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3" name="AutoShape 23"/>
          <p:cNvSpPr/>
          <p:nvPr/>
        </p:nvSpPr>
        <p:spPr>
          <a:xfrm>
            <a:off x="7628040" y="1917720"/>
            <a:ext cx="144000" cy="144000"/>
          </a:xfrm>
          <a:custGeom>
            <a:avLst/>
            <a:gdLst>
              <a:gd name="textAreaLeft" fmla="*/ 20880 w 144000"/>
              <a:gd name="textAreaRight" fmla="*/ 123120 w 144000"/>
              <a:gd name="textAreaTop" fmla="*/ 20880 h 144000"/>
              <a:gd name="textAreaBottom" fmla="*/ 123120 h 14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525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4" name="AutoShape 24"/>
          <p:cNvSpPr/>
          <p:nvPr/>
        </p:nvSpPr>
        <p:spPr>
          <a:xfrm>
            <a:off x="1982880" y="2360520"/>
            <a:ext cx="144000" cy="142560"/>
          </a:xfrm>
          <a:custGeom>
            <a:avLst/>
            <a:gdLst>
              <a:gd name="textAreaLeft" fmla="*/ 20880 w 144000"/>
              <a:gd name="textAreaRight" fmla="*/ 123120 w 144000"/>
              <a:gd name="textAreaTop" fmla="*/ 20880 h 142560"/>
              <a:gd name="textAreaBottom" fmla="*/ 121680 h 14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525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13543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69976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211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-2232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2058840" y="1467000"/>
            <a:ext cx="1491840" cy="1199880"/>
          </a:xfrm>
          <a:prstGeom prst="hexagon">
            <a:avLst>
              <a:gd name="adj" fmla="val 28696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857160" y="2087640"/>
            <a:ext cx="1490400" cy="119988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857160" y="3360600"/>
            <a:ext cx="1490400" cy="119988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262320" y="2087640"/>
            <a:ext cx="1490400" cy="119988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058840" y="2739960"/>
            <a:ext cx="1491840" cy="1199880"/>
          </a:xfrm>
          <a:prstGeom prst="hexagon">
            <a:avLst>
              <a:gd name="adj" fmla="val 28696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2058840" y="4013280"/>
            <a:ext cx="1491840" cy="1201320"/>
          </a:xfrm>
          <a:prstGeom prst="hexagon">
            <a:avLst>
              <a:gd name="adj" fmla="val 28658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260880" y="3360600"/>
            <a:ext cx="1490400" cy="1199880"/>
          </a:xfrm>
          <a:prstGeom prst="hexagon">
            <a:avLst>
              <a:gd name="adj" fmla="val 28665"/>
              <a:gd name="vf" fmla="val 115470"/>
            </a:avLst>
          </a:prstGeom>
          <a:noFill/>
          <a:ln w="254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5796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5781600" y="2951280"/>
            <a:ext cx="2553840" cy="2009520"/>
          </a:xfrm>
          <a:prstGeom prst="hexagon">
            <a:avLst>
              <a:gd name="adj" fmla="val 29331"/>
              <a:gd name="vf" fmla="val 115470"/>
            </a:avLst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6444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  <a:tab algn="l" pos="206388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cxnSp>
        <p:nvCxnSpPr>
          <p:cNvPr id="132" name="AutoShape 9"/>
          <p:cNvCxnSpPr>
            <a:stCxn id="130" idx="2"/>
            <a:endCxn id="131" idx="2"/>
          </p:cNvCxnSpPr>
          <p:nvPr/>
        </p:nvCxnSpPr>
        <p:spPr>
          <a:xfrm>
            <a:off x="3995640" y="3949560"/>
            <a:ext cx="1787760" cy="68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矩形 12"/>
          <p:cNvSpPr/>
          <p:nvPr/>
        </p:nvSpPr>
        <p:spPr>
          <a:xfrm>
            <a:off x="1379520" y="3778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2594160" y="1992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6523200" y="3706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6"/>
          <p:cNvSpPr/>
          <p:nvPr/>
        </p:nvSpPr>
        <p:spPr>
          <a:xfrm>
            <a:off x="5175360" y="3997440"/>
            <a:ext cx="3611160" cy="1503000"/>
          </a:xfrm>
          <a:custGeom>
            <a:avLst/>
            <a:gdLst>
              <a:gd name="textAreaLeft" fmla="*/ 0 w 3611160"/>
              <a:gd name="textAreaRight" fmla="*/ 3611520 w 3611160"/>
              <a:gd name="textAreaTop" fmla="*/ 0 h 1503000"/>
              <a:gd name="textAreaBottom" fmla="*/ 1503360 h 1503000"/>
            </a:gdLst>
            <a:ahLst/>
            <a:rect l="textAreaLeft" t="textAreaTop" r="textAreaRight" b="textAreaBottom"/>
            <a:pathLst>
              <a:path w="2676821" h="1733973">
                <a:moveTo>
                  <a:pt x="0" y="173397"/>
                </a:moveTo>
                <a:cubicBezTo>
                  <a:pt x="0" y="77632"/>
                  <a:pt x="77632" y="0"/>
                  <a:pt x="173397" y="0"/>
                </a:cubicBezTo>
                <a:lnTo>
                  <a:pt x="2503424" y="0"/>
                </a:lnTo>
                <a:cubicBezTo>
                  <a:pt x="2599189" y="0"/>
                  <a:pt x="2676821" y="77632"/>
                  <a:pt x="2676821" y="173397"/>
                </a:cubicBezTo>
                <a:lnTo>
                  <a:pt x="2676821" y="1560576"/>
                </a:lnTo>
                <a:cubicBezTo>
                  <a:pt x="2676821" y="1656341"/>
                  <a:pt x="2599189" y="1733973"/>
                  <a:pt x="2503424" y="1733973"/>
                </a:cubicBezTo>
                <a:lnTo>
                  <a:pt x="173397" y="1733973"/>
                </a:lnTo>
                <a:cubicBezTo>
                  <a:pt x="77632" y="1733973"/>
                  <a:pt x="0" y="1656341"/>
                  <a:pt x="0" y="1560576"/>
                </a:cubicBezTo>
                <a:lnTo>
                  <a:pt x="0" y="173397"/>
                </a:lnTo>
                <a:close/>
              </a:path>
            </a:pathLst>
          </a:custGeom>
          <a:solidFill>
            <a:srgbClr val="a17745">
              <a:alpha val="90000"/>
            </a:srgbClr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027800" rIns="224640" tIns="658440" bIns="224640" anchor="t">
            <a:noAutofit/>
          </a:bodyPr>
          <a:p>
            <a:pPr>
              <a:lnSpc>
                <a:spcPct val="90000"/>
              </a:lnSpc>
              <a:spcAft>
                <a:spcPts val="181"/>
              </a:spcAft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142" name="任意多边形 7"/>
          <p:cNvSpPr/>
          <p:nvPr/>
        </p:nvSpPr>
        <p:spPr>
          <a:xfrm>
            <a:off x="453960" y="3981600"/>
            <a:ext cx="3404880" cy="1504440"/>
          </a:xfrm>
          <a:custGeom>
            <a:avLst/>
            <a:gdLst>
              <a:gd name="textAreaLeft" fmla="*/ 0 w 3404880"/>
              <a:gd name="textAreaRight" fmla="*/ 3405240 w 3404880"/>
              <a:gd name="textAreaTop" fmla="*/ 0 h 1504440"/>
              <a:gd name="textAreaBottom" fmla="*/ 1504800 h 1504440"/>
            </a:gdLst>
            <a:ahLst/>
            <a:rect l="textAreaLeft" t="textAreaTop" r="textAreaRight" b="textAreaBottom"/>
            <a:pathLst>
              <a:path w="2676821" h="1733973">
                <a:moveTo>
                  <a:pt x="0" y="173397"/>
                </a:moveTo>
                <a:cubicBezTo>
                  <a:pt x="0" y="77632"/>
                  <a:pt x="77632" y="0"/>
                  <a:pt x="173397" y="0"/>
                </a:cubicBezTo>
                <a:lnTo>
                  <a:pt x="2503424" y="0"/>
                </a:lnTo>
                <a:cubicBezTo>
                  <a:pt x="2599189" y="0"/>
                  <a:pt x="2676821" y="77632"/>
                  <a:pt x="2676821" y="173397"/>
                </a:cubicBezTo>
                <a:lnTo>
                  <a:pt x="2676821" y="1560576"/>
                </a:lnTo>
                <a:cubicBezTo>
                  <a:pt x="2676821" y="1656341"/>
                  <a:pt x="2599189" y="1733973"/>
                  <a:pt x="2503424" y="1733973"/>
                </a:cubicBezTo>
                <a:lnTo>
                  <a:pt x="173397" y="1733973"/>
                </a:lnTo>
                <a:cubicBezTo>
                  <a:pt x="77632" y="1733973"/>
                  <a:pt x="0" y="1656341"/>
                  <a:pt x="0" y="1560576"/>
                </a:cubicBezTo>
                <a:lnTo>
                  <a:pt x="0" y="173397"/>
                </a:lnTo>
                <a:close/>
              </a:path>
            </a:pathLst>
          </a:custGeom>
          <a:solidFill>
            <a:srgbClr val="a17745">
              <a:alpha val="90000"/>
            </a:srgbClr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24640" rIns="1027800" tIns="658440" bIns="224640" anchor="t">
            <a:noAutofit/>
          </a:bodyPr>
          <a:p>
            <a:pPr>
              <a:lnSpc>
                <a:spcPct val="90000"/>
              </a:lnSpc>
              <a:spcAft>
                <a:spcPts val="181"/>
              </a:spcAft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143" name="任意多边形 8"/>
          <p:cNvSpPr/>
          <p:nvPr/>
        </p:nvSpPr>
        <p:spPr>
          <a:xfrm>
            <a:off x="5175360" y="1312920"/>
            <a:ext cx="3611160" cy="1526760"/>
          </a:xfrm>
          <a:custGeom>
            <a:avLst/>
            <a:gdLst>
              <a:gd name="textAreaLeft" fmla="*/ 0 w 3611160"/>
              <a:gd name="textAreaRight" fmla="*/ 3611520 w 3611160"/>
              <a:gd name="textAreaTop" fmla="*/ 0 h 1526760"/>
              <a:gd name="textAreaBottom" fmla="*/ 1527120 h 1526760"/>
            </a:gdLst>
            <a:ahLst/>
            <a:rect l="textAreaLeft" t="textAreaTop" r="textAreaRight" b="textAreaBottom"/>
            <a:pathLst>
              <a:path w="2676821" h="1733973">
                <a:moveTo>
                  <a:pt x="0" y="173397"/>
                </a:moveTo>
                <a:cubicBezTo>
                  <a:pt x="0" y="77632"/>
                  <a:pt x="77632" y="0"/>
                  <a:pt x="173397" y="0"/>
                </a:cubicBezTo>
                <a:lnTo>
                  <a:pt x="2503424" y="0"/>
                </a:lnTo>
                <a:cubicBezTo>
                  <a:pt x="2599189" y="0"/>
                  <a:pt x="2676821" y="77632"/>
                  <a:pt x="2676821" y="173397"/>
                </a:cubicBezTo>
                <a:lnTo>
                  <a:pt x="2676821" y="1560576"/>
                </a:lnTo>
                <a:cubicBezTo>
                  <a:pt x="2676821" y="1656341"/>
                  <a:pt x="2599189" y="1733973"/>
                  <a:pt x="2503424" y="1733973"/>
                </a:cubicBezTo>
                <a:lnTo>
                  <a:pt x="173397" y="1733973"/>
                </a:lnTo>
                <a:cubicBezTo>
                  <a:pt x="77632" y="1733973"/>
                  <a:pt x="0" y="1656341"/>
                  <a:pt x="0" y="1560576"/>
                </a:cubicBezTo>
                <a:lnTo>
                  <a:pt x="0" y="173397"/>
                </a:lnTo>
                <a:close/>
              </a:path>
            </a:pathLst>
          </a:custGeom>
          <a:solidFill>
            <a:srgbClr val="a17745">
              <a:alpha val="90000"/>
            </a:srgbClr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24640" rIns="1027800" tIns="224640" bIns="658440" anchor="t">
            <a:noAutofit/>
          </a:bodyPr>
          <a:p>
            <a:pPr>
              <a:lnSpc>
                <a:spcPct val="90000"/>
              </a:lnSpc>
              <a:spcAft>
                <a:spcPts val="181"/>
              </a:spcAft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144" name="任意多边形 9"/>
          <p:cNvSpPr/>
          <p:nvPr/>
        </p:nvSpPr>
        <p:spPr>
          <a:xfrm>
            <a:off x="453960" y="1312920"/>
            <a:ext cx="3404880" cy="1526760"/>
          </a:xfrm>
          <a:custGeom>
            <a:avLst/>
            <a:gdLst>
              <a:gd name="textAreaLeft" fmla="*/ 0 w 3404880"/>
              <a:gd name="textAreaRight" fmla="*/ 3405240 w 3404880"/>
              <a:gd name="textAreaTop" fmla="*/ 0 h 1526760"/>
              <a:gd name="textAreaBottom" fmla="*/ 1527120 h 1526760"/>
            </a:gdLst>
            <a:ahLst/>
            <a:rect l="textAreaLeft" t="textAreaTop" r="textAreaRight" b="textAreaBottom"/>
            <a:pathLst>
              <a:path w="2676821" h="1733973">
                <a:moveTo>
                  <a:pt x="0" y="173397"/>
                </a:moveTo>
                <a:cubicBezTo>
                  <a:pt x="0" y="77632"/>
                  <a:pt x="77632" y="0"/>
                  <a:pt x="173397" y="0"/>
                </a:cubicBezTo>
                <a:lnTo>
                  <a:pt x="2503424" y="0"/>
                </a:lnTo>
                <a:cubicBezTo>
                  <a:pt x="2599189" y="0"/>
                  <a:pt x="2676821" y="77632"/>
                  <a:pt x="2676821" y="173397"/>
                </a:cubicBezTo>
                <a:lnTo>
                  <a:pt x="2676821" y="1560576"/>
                </a:lnTo>
                <a:cubicBezTo>
                  <a:pt x="2676821" y="1656341"/>
                  <a:pt x="2599189" y="1733973"/>
                  <a:pt x="2503424" y="1733973"/>
                </a:cubicBezTo>
                <a:lnTo>
                  <a:pt x="173397" y="1733973"/>
                </a:lnTo>
                <a:cubicBezTo>
                  <a:pt x="77632" y="1733973"/>
                  <a:pt x="0" y="1656341"/>
                  <a:pt x="0" y="1560576"/>
                </a:cubicBezTo>
                <a:lnTo>
                  <a:pt x="0" y="173397"/>
                </a:lnTo>
                <a:close/>
              </a:path>
            </a:pathLst>
          </a:custGeom>
          <a:solidFill>
            <a:srgbClr val="a17745">
              <a:alpha val="90000"/>
            </a:srgbClr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24640" rIns="1027800" tIns="224640" bIns="658440" anchor="t">
            <a:noAutofit/>
          </a:bodyPr>
          <a:p>
            <a:pPr>
              <a:lnSpc>
                <a:spcPct val="90000"/>
              </a:lnSpc>
              <a:spcAft>
                <a:spcPts val="181"/>
              </a:spcAft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145" name="任意多边形 10"/>
          <p:cNvSpPr/>
          <p:nvPr/>
        </p:nvSpPr>
        <p:spPr>
          <a:xfrm>
            <a:off x="2647800" y="1554120"/>
            <a:ext cx="1827000" cy="1825200"/>
          </a:xfrm>
          <a:custGeom>
            <a:avLst/>
            <a:gdLst>
              <a:gd name="textAreaLeft" fmla="*/ 0 w 1827000"/>
              <a:gd name="textAreaRight" fmla="*/ 1827360 w 1827000"/>
              <a:gd name="textAreaTop" fmla="*/ 0 h 1825200"/>
              <a:gd name="textAreaBottom" fmla="*/ 1825560 h 1825200"/>
            </a:gdLst>
            <a:ahLst/>
            <a:rect l="textAreaLeft" t="textAreaTop" r="textAreaRight" b="textAreaBottom"/>
            <a:pathLst>
              <a:path w="2346282" h="2346282">
                <a:moveTo>
                  <a:pt x="0" y="2346282"/>
                </a:moveTo>
                <a:cubicBezTo>
                  <a:pt x="0" y="1050466"/>
                  <a:pt x="1050466" y="0"/>
                  <a:pt x="2346282" y="0"/>
                </a:cubicBezTo>
                <a:lnTo>
                  <a:pt x="2346282" y="2346282"/>
                </a:lnTo>
                <a:lnTo>
                  <a:pt x="0" y="2346282"/>
                </a:lnTo>
                <a:close/>
              </a:path>
            </a:pathLst>
          </a:custGeom>
          <a:solidFill>
            <a:srgbClr val="ecd39b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57600" rIns="270360" tIns="957600" bIns="27036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559400" y="1554120"/>
            <a:ext cx="1825200" cy="182520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1825200"/>
              <a:gd name="textAreaBottom" fmla="*/ 1825560 h 1825200"/>
            </a:gdLst>
            <a:ahLst/>
            <a:rect l="textAreaLeft" t="textAreaTop" r="textAreaRight" b="textAreaBottom"/>
            <a:pathLst>
              <a:path w="2346282" h="2346282">
                <a:moveTo>
                  <a:pt x="0" y="0"/>
                </a:moveTo>
                <a:cubicBezTo>
                  <a:pt x="1295816" y="0"/>
                  <a:pt x="2346282" y="1050466"/>
                  <a:pt x="2346282" y="2346282"/>
                </a:cubicBezTo>
                <a:lnTo>
                  <a:pt x="0" y="2346282"/>
                </a:lnTo>
                <a:lnTo>
                  <a:pt x="0" y="0"/>
                </a:lnTo>
                <a:close/>
              </a:path>
            </a:pathLst>
          </a:custGeom>
          <a:solidFill>
            <a:srgbClr val="ecd39b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70360" rIns="957600" tIns="957600" bIns="27036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任意多边形 12"/>
          <p:cNvSpPr/>
          <p:nvPr/>
        </p:nvSpPr>
        <p:spPr>
          <a:xfrm>
            <a:off x="4559400" y="3463920"/>
            <a:ext cx="1825200" cy="182520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1825200"/>
              <a:gd name="textAreaBottom" fmla="*/ 1825560 h 1825200"/>
            </a:gdLst>
            <a:ahLst/>
            <a:rect l="textAreaLeft" t="textAreaTop" r="textAreaRight" b="textAreaBottom"/>
            <a:pathLst>
              <a:path w="2346282" h="2346282">
                <a:moveTo>
                  <a:pt x="2346282" y="0"/>
                </a:moveTo>
                <a:cubicBezTo>
                  <a:pt x="2346282" y="1295816"/>
                  <a:pt x="1295816" y="2346282"/>
                  <a:pt x="0" y="2346282"/>
                </a:cubicBezTo>
                <a:lnTo>
                  <a:pt x="0" y="0"/>
                </a:lnTo>
                <a:lnTo>
                  <a:pt x="2346282" y="0"/>
                </a:lnTo>
                <a:close/>
              </a:path>
            </a:pathLst>
          </a:custGeom>
          <a:solidFill>
            <a:srgbClr val="ecd39b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70360" rIns="957600" tIns="270360" bIns="95760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任意多边形 13"/>
          <p:cNvSpPr/>
          <p:nvPr/>
        </p:nvSpPr>
        <p:spPr>
          <a:xfrm>
            <a:off x="2647800" y="3463920"/>
            <a:ext cx="1827000" cy="1825200"/>
          </a:xfrm>
          <a:custGeom>
            <a:avLst/>
            <a:gdLst>
              <a:gd name="textAreaLeft" fmla="*/ 0 w 1827000"/>
              <a:gd name="textAreaRight" fmla="*/ 1827360 w 1827000"/>
              <a:gd name="textAreaTop" fmla="*/ 0 h 1825200"/>
              <a:gd name="textAreaBottom" fmla="*/ 1825560 h 1825200"/>
            </a:gdLst>
            <a:ahLst/>
            <a:rect l="textAreaLeft" t="textAreaTop" r="textAreaRight" b="textAreaBottom"/>
            <a:pathLst>
              <a:path w="2346282" h="2346282">
                <a:moveTo>
                  <a:pt x="2346282" y="2346282"/>
                </a:moveTo>
                <a:cubicBezTo>
                  <a:pt x="1050466" y="2346282"/>
                  <a:pt x="0" y="1295816"/>
                  <a:pt x="0" y="0"/>
                </a:cubicBezTo>
                <a:lnTo>
                  <a:pt x="2346282" y="0"/>
                </a:lnTo>
                <a:lnTo>
                  <a:pt x="2346282" y="2346282"/>
                </a:lnTo>
                <a:close/>
              </a:path>
            </a:pathLst>
          </a:custGeom>
          <a:solidFill>
            <a:srgbClr val="ecd39b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57600" rIns="270360" tIns="270360" bIns="95760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1425600" y="1812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6854760" y="467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926400" y="1955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1425600" y="445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-2232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  <Words>223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28:21Z</dcterms:modified>
  <cp:revision>2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