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89F8-96FE-452D-A4FF-EE37807599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F0D0-4A0A-4F29-B026-AF382C203C7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658-BA66-46D1-BB13-6A2A58D07C0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4429-DB9D-42BB-B941-DB0B3C9CD0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637-6D10-4573-B3F3-96F77BA5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5D5-0A2E-4C8E-AFBF-BEBB6DC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1BB-D8AF-46A7-9F2E-07034F30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59C-2C60-4DE8-A34F-E1746D8E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D6CF-93F5-4262-B919-F1DC98B4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EBC-17D6-4959-9E26-F7E0360F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F73F-1099-435B-AFAD-4FB657AB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1E82-AF9C-4D94-956E-3E0E6A5B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5923-41C3-4CF2-AEC1-C1DB5BB5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901-6DA5-4D19-95AF-9855A0E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FF97-3E33-420B-AA18-8B768944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2B5-7D78-465C-A22B-B1FEA5F4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69F5-167B-4818-BF6F-241708F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C7C4-C767-4CDF-A04E-CC42485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9EF2-D230-4280-9AF6-5AAEBD69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71FF-EC37-4B07-A3FA-1414A8A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6C9-963B-4BB3-8631-CD0EE127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B14-E2DE-4CC5-95A7-146BC35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8EA-FDA2-4B4F-9E9E-71BE9DA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79C-BBF0-4C63-AD8A-9FF3BAF4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4B2-EC9C-481D-9E3C-80DAEEF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899-E99A-4238-A4A4-38EA6584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3C5-A1EE-4257-939B-EEEF5B3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318-AF49-4379-A529-5AB5FE6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dcedfd">
                  <a:alpha val="85098"/>
                </a:srgbClr>
              </a:gs>
              <a:gs pos="100000">
                <a:srgbClr val="dcedfd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500-F7AA-4C6E-9E39-59CF71D42A8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96240" y="-22320"/>
            <a:ext cx="2165400" cy="14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dcedfd">
                  <a:alpha val="85098"/>
                </a:srgbClr>
              </a:gs>
              <a:gs pos="100000">
                <a:srgbClr val="dcedfd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96240" y="-22320"/>
            <a:ext cx="2165400" cy="14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rcRect l="1174" t="0" r="0" b="103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24000" y="444600"/>
            <a:ext cx="8569080" cy="1368360"/>
          </a:xfrm>
          <a:prstGeom prst="rect">
            <a:avLst/>
          </a:prstGeom>
          <a:gradFill rotWithShape="0">
            <a:gsLst>
              <a:gs pos="0">
                <a:srgbClr val="dcedfd">
                  <a:alpha val="60000"/>
                </a:srgbClr>
              </a:gs>
              <a:gs pos="100000">
                <a:srgbClr val="dcedfd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A2D6-6277-4962-ABD9-5E57A9A40395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雪地里的萌狗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12222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dced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dcedfd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539640" y="6194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07:27:18Z</dcterms:modified>
  <cp:revision>14</cp:revision>
  <dc:subject/>
  <dc:title>PowerPoint Presentation</dc:title>
</cp:coreProperties>
</file>