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jpeg" ContentType="image/jpe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11522075"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solidFill>
              <a:srgbClr val="c00000"/>
            </a:solidFill>
            <a:ln w="0">
              <a:solidFill>
                <a:srgbClr val="ffffff"/>
              </a:solidFill>
            </a:ln>
          </c:spPr>
          <c:invertIfNegative val="0"/>
          <c:dLbls>
            <c:txPr>
              <a:bodyPr wrap="square"/>
              <a:lstStyle/>
              <a:p>
                <a:pPr>
                  <a:defRPr b="0" sz="1800" spc="-1" strike="noStrike">
                    <a:solidFill>
                      <a:srgbClr val="404040"/>
                    </a:solidFill>
                    <a:latin typeface="Candara"/>
                    <a:ea typeface="微软雅黑"/>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solidFill>
              <a:srgbClr val="595959"/>
            </a:solidFill>
            <a:ln w="0">
              <a:solidFill>
                <a:srgbClr val="ffffff"/>
              </a:solidFill>
            </a:ln>
          </c:spPr>
          <c:invertIfNegative val="0"/>
          <c:dLbls>
            <c:txPr>
              <a:bodyPr wrap="square"/>
              <a:lstStyle/>
              <a:p>
                <a:pPr>
                  <a:defRPr b="0" sz="1800" spc="-1" strike="noStrike">
                    <a:solidFill>
                      <a:srgbClr val="404040"/>
                    </a:solidFill>
                    <a:latin typeface="Candara"/>
                    <a:ea typeface="微软雅黑"/>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er>
        <c:ser>
          <c:idx val="2"/>
          <c:order val="2"/>
          <c:tx>
            <c:strRef>
              <c:f>label 2</c:f>
              <c:strCache>
                <c:ptCount val="1"/>
                <c:pt idx="0">
                  <c:v>系列 3</c:v>
                </c:pt>
              </c:strCache>
            </c:strRef>
          </c:tx>
          <c:spPr>
            <a:solidFill>
              <a:srgbClr val="0070c0"/>
            </a:solidFill>
            <a:ln w="0">
              <a:solidFill>
                <a:srgbClr val="ffffff"/>
              </a:solidFill>
            </a:ln>
          </c:spPr>
          <c:invertIfNegative val="0"/>
          <c:dLbls>
            <c:txPr>
              <a:bodyPr wrap="square"/>
              <a:lstStyle/>
              <a:p>
                <a:pPr>
                  <a:defRPr b="0" sz="1800" spc="-1" strike="noStrike">
                    <a:solidFill>
                      <a:srgbClr val="404040"/>
                    </a:solidFill>
                    <a:latin typeface="Candara"/>
                    <a:ea typeface="微软雅黑"/>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2</c:f>
              <c:numCache>
                <c:formatCode>General</c:formatCode>
                <c:ptCount val="4"/>
                <c:pt idx="0">
                  <c:v>2</c:v>
                </c:pt>
                <c:pt idx="1">
                  <c:v>2</c:v>
                </c:pt>
                <c:pt idx="2">
                  <c:v>3</c:v>
                </c:pt>
                <c:pt idx="3">
                  <c:v>5</c:v>
                </c:pt>
              </c:numCache>
            </c:numRef>
          </c:val>
        </c:ser>
        <c:gapWidth val="150"/>
        <c:overlap val="0"/>
        <c:axId val="944068"/>
        <c:axId val="53164792"/>
      </c:barChart>
      <c:catAx>
        <c:axId val="944068"/>
        <c:scaling>
          <c:orientation val="minMax"/>
        </c:scaling>
        <c:delete val="0"/>
        <c:axPos val="b"/>
        <c:numFmt formatCode="General" sourceLinked="0"/>
        <c:majorTickMark val="out"/>
        <c:minorTickMark val="none"/>
        <c:tickLblPos val="nextTo"/>
        <c:spPr>
          <a:ln w="9360">
            <a:solidFill>
              <a:srgbClr val="878787"/>
            </a:solidFill>
            <a:round/>
          </a:ln>
        </c:spPr>
        <c:txPr>
          <a:bodyPr/>
          <a:lstStyle/>
          <a:p>
            <a:pPr>
              <a:defRPr b="0" sz="1800" spc="-1" strike="noStrike">
                <a:solidFill>
                  <a:srgbClr val="404040"/>
                </a:solidFill>
                <a:latin typeface="Candara"/>
                <a:ea typeface="微软雅黑"/>
              </a:defRPr>
            </a:pPr>
          </a:p>
        </c:txPr>
        <c:crossAx val="53164792"/>
        <c:crosses val="autoZero"/>
        <c:auto val="1"/>
        <c:lblAlgn val="ctr"/>
        <c:lblOffset val="100"/>
        <c:noMultiLvlLbl val="0"/>
      </c:catAx>
      <c:valAx>
        <c:axId val="53164792"/>
        <c:scaling>
          <c:orientation val="minMax"/>
        </c:scaling>
        <c:delete val="0"/>
        <c:axPos val="l"/>
        <c:numFmt formatCode="General" sourceLinked="0"/>
        <c:majorTickMark val="out"/>
        <c:minorTickMark val="none"/>
        <c:tickLblPos val="nextTo"/>
        <c:spPr>
          <a:ln w="9360">
            <a:solidFill>
              <a:srgbClr val="878787"/>
            </a:solidFill>
            <a:round/>
          </a:ln>
        </c:spPr>
        <c:txPr>
          <a:bodyPr/>
          <a:lstStyle/>
          <a:p>
            <a:pPr>
              <a:defRPr b="0" sz="1800" spc="-1" strike="noStrike">
                <a:solidFill>
                  <a:srgbClr val="404040"/>
                </a:solidFill>
                <a:latin typeface="Candara"/>
                <a:ea typeface="微软雅黑"/>
              </a:defRPr>
            </a:pPr>
          </a:p>
        </c:txPr>
        <c:crossAx val="944068"/>
        <c:crosses val="autoZero"/>
        <c:crossBetween val="between"/>
      </c:valAx>
      <c:spPr>
        <a:noFill/>
        <a:ln w="25560">
          <a:noFill/>
        </a:ln>
      </c:spPr>
    </c:plotArea>
    <c:legend>
      <c:legendPos val="r"/>
      <c:overlay val="0"/>
      <c:spPr>
        <a:noFill/>
        <a:ln w="0">
          <a:noFill/>
        </a:ln>
      </c:spPr>
      <c:txPr>
        <a:bodyPr/>
        <a:lstStyle/>
        <a:p>
          <a:pPr>
            <a:defRPr b="0" sz="1800" spc="-1" strike="noStrike">
              <a:solidFill>
                <a:srgbClr val="404040"/>
              </a:solidFill>
              <a:latin typeface="Candara"/>
              <a:ea typeface="微软雅黑"/>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sz="2160" spc="-1" strike="noStrike">
                <a:solidFill>
                  <a:srgbClr val="404040"/>
                </a:solidFill>
                <a:latin typeface="Candara"/>
                <a:ea typeface="微软雅黑"/>
              </a:defRPr>
            </a:pPr>
            <a:r>
              <a:rPr b="1" sz="2160" spc="-1" strike="noStrike">
                <a:solidFill>
                  <a:srgbClr val="404040"/>
                </a:solidFill>
                <a:latin typeface="Candara"/>
                <a:ea typeface="微软雅黑"/>
              </a:rPr>
              <a:t>销售额</a:t>
            </a:r>
          </a:p>
        </c:rich>
      </c:tx>
      <c:overlay val="0"/>
      <c:spPr>
        <a:noFill/>
        <a:ln w="0">
          <a:noFill/>
        </a:ln>
      </c:spPr>
    </c:title>
    <c:autoTitleDeleted val="0"/>
    <c:plotArea>
      <c:layout>
        <c:manualLayout>
          <c:layoutTarget val="inner"/>
          <c:xMode val="edge"/>
          <c:yMode val="edge"/>
          <c:x val="0.151477278408239"/>
          <c:y val="0.154923076923077"/>
          <c:w val="0.529820526920962"/>
          <c:h val="0.815153846153846"/>
        </c:manualLayout>
      </c:layout>
      <c:pieChart>
        <c:varyColors val="1"/>
        <c:ser>
          <c:idx val="0"/>
          <c:order val="0"/>
          <c:tx>
            <c:strRef>
              <c:f>label 0</c:f>
              <c:strCache>
                <c:ptCount val="1"/>
                <c:pt idx="0">
                  <c:v>销售额</c:v>
                </c:pt>
              </c:strCache>
            </c:strRef>
          </c:tx>
          <c:spPr>
            <a:solidFill>
              <a:srgbClr val="d00000"/>
            </a:solidFill>
            <a:ln w="0">
              <a:solidFill>
                <a:srgbClr val="ffffff"/>
              </a:solidFill>
            </a:ln>
          </c:spPr>
          <c:explosion val="0"/>
          <c:dPt>
            <c:idx val="0"/>
            <c:spPr>
              <a:solidFill>
                <a:srgbClr val="c00000"/>
              </a:solidFill>
              <a:ln w="0">
                <a:solidFill>
                  <a:srgbClr val="ffffff"/>
                </a:solidFill>
              </a:ln>
            </c:spPr>
          </c:dPt>
          <c:dPt>
            <c:idx val="1"/>
            <c:spPr>
              <a:solidFill>
                <a:srgbClr val="595959"/>
              </a:solidFill>
              <a:ln w="0">
                <a:solidFill>
                  <a:srgbClr val="ffffff"/>
                </a:solidFill>
              </a:ln>
            </c:spPr>
          </c:dPt>
          <c:dPt>
            <c:idx val="2"/>
            <c:spPr>
              <a:solidFill>
                <a:srgbClr val="0070c0"/>
              </a:solidFill>
              <a:ln w="0">
                <a:solidFill>
                  <a:srgbClr val="ffffff"/>
                </a:solidFill>
              </a:ln>
            </c:spPr>
          </c:dPt>
          <c:dPt>
            <c:idx val="3"/>
            <c:spPr>
              <a:solidFill>
                <a:srgbClr val="00b0f0"/>
              </a:solidFill>
              <a:ln w="0">
                <a:solidFill>
                  <a:srgbClr val="ffffff"/>
                </a:solidFill>
              </a:ln>
            </c:spPr>
          </c:dPt>
          <c:dLbls>
            <c:dLbl>
              <c:idx val="0"/>
              <c:txPr>
                <a:bodyPr wrap="square"/>
                <a:lstStyle/>
                <a:p>
                  <a:pPr>
                    <a:defRPr b="0" sz="1800" spc="-1" strike="noStrike">
                      <a:solidFill>
                        <a:srgbClr val="404040"/>
                      </a:solidFill>
                      <a:latin typeface="Candara"/>
                    </a:defRPr>
                  </a:pPr>
                </a:p>
              </c:txPr>
              <c:dLblPos val="bestFit"/>
              <c:showLegendKey val="0"/>
              <c:showVal val="0"/>
              <c:showCatName val="0"/>
              <c:showSerName val="0"/>
              <c:showPercent val="0"/>
              <c:separator>; </c:separator>
            </c:dLbl>
            <c:dLbl>
              <c:idx val="1"/>
              <c:txPr>
                <a:bodyPr wrap="square"/>
                <a:lstStyle/>
                <a:p>
                  <a:pPr>
                    <a:defRPr b="0" sz="1800" spc="-1" strike="noStrike">
                      <a:solidFill>
                        <a:srgbClr val="404040"/>
                      </a:solidFill>
                      <a:latin typeface="Candara"/>
                    </a:defRPr>
                  </a:pPr>
                </a:p>
              </c:txPr>
              <c:dLblPos val="bestFit"/>
              <c:showLegendKey val="0"/>
              <c:showVal val="0"/>
              <c:showCatName val="0"/>
              <c:showSerName val="0"/>
              <c:showPercent val="0"/>
              <c:separator>; </c:separator>
            </c:dLbl>
            <c:dLbl>
              <c:idx val="2"/>
              <c:txPr>
                <a:bodyPr wrap="square"/>
                <a:lstStyle/>
                <a:p>
                  <a:pPr>
                    <a:defRPr b="0" sz="1800" spc="-1" strike="noStrike">
                      <a:solidFill>
                        <a:srgbClr val="404040"/>
                      </a:solidFill>
                      <a:latin typeface="Candara"/>
                    </a:defRPr>
                  </a:pPr>
                </a:p>
              </c:txPr>
              <c:dLblPos val="bestFit"/>
              <c:showLegendKey val="0"/>
              <c:showVal val="0"/>
              <c:showCatName val="0"/>
              <c:showSerName val="0"/>
              <c:showPercent val="0"/>
              <c:separator>; </c:separator>
            </c:dLbl>
            <c:dLbl>
              <c:idx val="3"/>
              <c:txPr>
                <a:bodyPr wrap="square"/>
                <a:lstStyle/>
                <a:p>
                  <a:pPr>
                    <a:defRPr b="0" sz="1800" spc="-1" strike="noStrike">
                      <a:solidFill>
                        <a:srgbClr val="404040"/>
                      </a:solidFill>
                      <a:latin typeface="Candara"/>
                    </a:defRPr>
                  </a:pPr>
                </a:p>
              </c:txPr>
              <c:dLblPos val="bestFit"/>
              <c:showLegendKey val="0"/>
              <c:showVal val="0"/>
              <c:showCatName val="0"/>
              <c:showSerName val="0"/>
              <c:showPercent val="0"/>
              <c:separator>; </c:separator>
            </c:dLbl>
            <c:txPr>
              <a:bodyPr wrap="square"/>
              <a:lstStyle/>
              <a:p>
                <a:pPr>
                  <a:defRPr b="0" sz="1800" spc="-1" strike="noStrike">
                    <a:solidFill>
                      <a:srgbClr val="404040"/>
                    </a:solidFill>
                    <a:latin typeface="Candara"/>
                    <a:ea typeface="微软雅黑"/>
                  </a:defRPr>
                </a:pPr>
              </a:p>
            </c:txPr>
            <c:dLblPos val="bestFit"/>
            <c:showLegendKey val="0"/>
            <c:showVal val="0"/>
            <c:showCatName val="0"/>
            <c:showSerName val="0"/>
            <c:showPercent val="0"/>
            <c:separator>; </c:separator>
            <c:showLeaderLines val="1"/>
          </c:dLbls>
          <c:cat>
            <c:strRef>
              <c:f>categories</c:f>
              <c:strCache>
                <c:ptCount val="4"/>
                <c:pt idx="0">
                  <c:v>第一季度</c:v>
                </c:pt>
                <c:pt idx="1">
                  <c:v>第二季度</c:v>
                </c:pt>
                <c:pt idx="2">
                  <c:v>第三季度</c:v>
                </c:pt>
                <c:pt idx="3">
                  <c:v>第四季度</c:v>
                </c:pt>
              </c:strCache>
            </c:strRef>
          </c:cat>
          <c:val>
            <c:numRef>
              <c:f>0</c:f>
              <c:numCache>
                <c:formatCode>General</c:formatCode>
                <c:ptCount val="4"/>
                <c:pt idx="0">
                  <c:v>8.2</c:v>
                </c:pt>
                <c:pt idx="1">
                  <c:v>3.2</c:v>
                </c:pt>
                <c:pt idx="2">
                  <c:v>1.4</c:v>
                </c:pt>
                <c:pt idx="3">
                  <c:v>1.2</c:v>
                </c:pt>
              </c:numCache>
            </c:numRef>
          </c:val>
        </c:ser>
        <c:firstSliceAng val="0"/>
      </c:pieChart>
      <c:spPr>
        <a:noFill/>
        <a:ln w="0">
          <a:noFill/>
        </a:ln>
      </c:spPr>
    </c:plotArea>
    <c:legend>
      <c:legendPos val="r"/>
      <c:layout>
        <c:manualLayout>
          <c:xMode val="edge"/>
          <c:yMode val="edge"/>
          <c:x val="0.799334249885431"/>
          <c:y val="0.261281210269341"/>
          <c:w val="0.172447055229207"/>
          <c:h val="0.458672421713907"/>
        </c:manualLayout>
      </c:layout>
      <c:overlay val="0"/>
      <c:spPr>
        <a:noFill/>
        <a:ln w="0">
          <a:noFill/>
        </a:ln>
      </c:spPr>
      <c:txPr>
        <a:bodyPr/>
        <a:lstStyle/>
        <a:p>
          <a:pPr>
            <a:defRPr b="0" sz="1800" spc="-1" strike="noStrike">
              <a:solidFill>
                <a:srgbClr val="404040"/>
              </a:solidFill>
              <a:latin typeface="Candara"/>
              <a:ea typeface="微软雅黑"/>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AE5B7-00A1-4BED-B771-4174A04BE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65" name="PlaceHolder 2"/>
          <p:cNvSpPr>
            <a:spLocks noGrp="1"/>
          </p:cNvSpPr>
          <p:nvPr>
            <p:ph/>
          </p:nvPr>
        </p:nvSpPr>
        <p:spPr>
          <a:xfrm>
            <a:off x="576000" y="1516320"/>
            <a:ext cx="103694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66" name="PlaceHolder 3"/>
          <p:cNvSpPr>
            <a:spLocks noGrp="1"/>
          </p:cNvSpPr>
          <p:nvPr>
            <p:ph/>
          </p:nvPr>
        </p:nvSpPr>
        <p:spPr>
          <a:xfrm>
            <a:off x="576000" y="3479400"/>
            <a:ext cx="103694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09F65-599B-420E-B221-407938F2E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68" name="PlaceHolder 2"/>
          <p:cNvSpPr>
            <a:spLocks noGrp="1"/>
          </p:cNvSpPr>
          <p:nvPr>
            <p:ph/>
          </p:nvPr>
        </p:nvSpPr>
        <p:spPr>
          <a:xfrm>
            <a:off x="5760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69" name="PlaceHolder 3"/>
          <p:cNvSpPr>
            <a:spLocks noGrp="1"/>
          </p:cNvSpPr>
          <p:nvPr>
            <p:ph/>
          </p:nvPr>
        </p:nvSpPr>
        <p:spPr>
          <a:xfrm>
            <a:off x="58896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0" name="PlaceHolder 4"/>
          <p:cNvSpPr>
            <a:spLocks noGrp="1"/>
          </p:cNvSpPr>
          <p:nvPr>
            <p:ph/>
          </p:nvPr>
        </p:nvSpPr>
        <p:spPr>
          <a:xfrm>
            <a:off x="5760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1" name="PlaceHolder 5"/>
          <p:cNvSpPr>
            <a:spLocks noGrp="1"/>
          </p:cNvSpPr>
          <p:nvPr>
            <p:ph/>
          </p:nvPr>
        </p:nvSpPr>
        <p:spPr>
          <a:xfrm>
            <a:off x="58896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5495B-1837-4D2A-A8DA-0D57D6F79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73" name="PlaceHolder 2"/>
          <p:cNvSpPr>
            <a:spLocks noGrp="1"/>
          </p:cNvSpPr>
          <p:nvPr>
            <p:ph/>
          </p:nvPr>
        </p:nvSpPr>
        <p:spPr>
          <a:xfrm>
            <a:off x="576000" y="151632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4" name="PlaceHolder 3"/>
          <p:cNvSpPr>
            <a:spLocks noGrp="1"/>
          </p:cNvSpPr>
          <p:nvPr>
            <p:ph/>
          </p:nvPr>
        </p:nvSpPr>
        <p:spPr>
          <a:xfrm>
            <a:off x="4082040" y="151632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5" name="PlaceHolder 4"/>
          <p:cNvSpPr>
            <a:spLocks noGrp="1"/>
          </p:cNvSpPr>
          <p:nvPr>
            <p:ph/>
          </p:nvPr>
        </p:nvSpPr>
        <p:spPr>
          <a:xfrm>
            <a:off x="7588080" y="151632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6" name="PlaceHolder 5"/>
          <p:cNvSpPr>
            <a:spLocks noGrp="1"/>
          </p:cNvSpPr>
          <p:nvPr>
            <p:ph/>
          </p:nvPr>
        </p:nvSpPr>
        <p:spPr>
          <a:xfrm>
            <a:off x="576000" y="347940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7" name="PlaceHolder 6"/>
          <p:cNvSpPr>
            <a:spLocks noGrp="1"/>
          </p:cNvSpPr>
          <p:nvPr>
            <p:ph/>
          </p:nvPr>
        </p:nvSpPr>
        <p:spPr>
          <a:xfrm>
            <a:off x="4082040" y="347940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78" name="PlaceHolder 7"/>
          <p:cNvSpPr>
            <a:spLocks noGrp="1"/>
          </p:cNvSpPr>
          <p:nvPr>
            <p:ph/>
          </p:nvPr>
        </p:nvSpPr>
        <p:spPr>
          <a:xfrm>
            <a:off x="7588080" y="347940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4A791-77E4-484A-9EE0-F19E5E191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755531-4D38-42E2-BD59-E9732AE1F8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69" name="PlaceHolder 2"/>
          <p:cNvSpPr>
            <a:spLocks noGrp="1"/>
          </p:cNvSpPr>
          <p:nvPr>
            <p:ph type="subTitle"/>
          </p:nvPr>
        </p:nvSpPr>
        <p:spPr>
          <a:xfrm>
            <a:off x="576000" y="1516320"/>
            <a:ext cx="10369440" cy="3758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22F6F-E8D5-432F-ACFD-16500EE39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71" name="PlaceHolder 2"/>
          <p:cNvSpPr>
            <a:spLocks noGrp="1"/>
          </p:cNvSpPr>
          <p:nvPr>
            <p:ph/>
          </p:nvPr>
        </p:nvSpPr>
        <p:spPr>
          <a:xfrm>
            <a:off x="576000" y="1516320"/>
            <a:ext cx="1036944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258C7-7F00-4FC5-AB56-B9E0148F2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73" name="PlaceHolder 2"/>
          <p:cNvSpPr>
            <a:spLocks noGrp="1"/>
          </p:cNvSpPr>
          <p:nvPr>
            <p:ph/>
          </p:nvPr>
        </p:nvSpPr>
        <p:spPr>
          <a:xfrm>
            <a:off x="5760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74" name="PlaceHolder 3"/>
          <p:cNvSpPr>
            <a:spLocks noGrp="1"/>
          </p:cNvSpPr>
          <p:nvPr>
            <p:ph/>
          </p:nvPr>
        </p:nvSpPr>
        <p:spPr>
          <a:xfrm>
            <a:off x="58896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9F08A-C8BA-4D91-B592-1D9977ABF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484D8-0E52-4320-B632-68DE5828E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576000" y="258480"/>
            <a:ext cx="10369440" cy="5015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DD8CF-6E10-46DD-A60D-0F64D4B40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78" name="PlaceHolder 2"/>
          <p:cNvSpPr>
            <a:spLocks noGrp="1"/>
          </p:cNvSpPr>
          <p:nvPr>
            <p:ph/>
          </p:nvPr>
        </p:nvSpPr>
        <p:spPr>
          <a:xfrm>
            <a:off x="5760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79" name="PlaceHolder 3"/>
          <p:cNvSpPr>
            <a:spLocks noGrp="1"/>
          </p:cNvSpPr>
          <p:nvPr>
            <p:ph/>
          </p:nvPr>
        </p:nvSpPr>
        <p:spPr>
          <a:xfrm>
            <a:off x="58896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80" name="PlaceHolder 4"/>
          <p:cNvSpPr>
            <a:spLocks noGrp="1"/>
          </p:cNvSpPr>
          <p:nvPr>
            <p:ph/>
          </p:nvPr>
        </p:nvSpPr>
        <p:spPr>
          <a:xfrm>
            <a:off x="5760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83656-D07F-4C26-AA07-7962DCB00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44" name="PlaceHolder 2"/>
          <p:cNvSpPr>
            <a:spLocks noGrp="1"/>
          </p:cNvSpPr>
          <p:nvPr>
            <p:ph type="subTitle"/>
          </p:nvPr>
        </p:nvSpPr>
        <p:spPr>
          <a:xfrm>
            <a:off x="576000" y="1516320"/>
            <a:ext cx="10369440" cy="3758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C255E-BA8A-4850-B9EC-64CA06C94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82" name="PlaceHolder 2"/>
          <p:cNvSpPr>
            <a:spLocks noGrp="1"/>
          </p:cNvSpPr>
          <p:nvPr>
            <p:ph/>
          </p:nvPr>
        </p:nvSpPr>
        <p:spPr>
          <a:xfrm>
            <a:off x="5760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83" name="PlaceHolder 3"/>
          <p:cNvSpPr>
            <a:spLocks noGrp="1"/>
          </p:cNvSpPr>
          <p:nvPr>
            <p:ph/>
          </p:nvPr>
        </p:nvSpPr>
        <p:spPr>
          <a:xfrm>
            <a:off x="58896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84" name="PlaceHolder 4"/>
          <p:cNvSpPr>
            <a:spLocks noGrp="1"/>
          </p:cNvSpPr>
          <p:nvPr>
            <p:ph/>
          </p:nvPr>
        </p:nvSpPr>
        <p:spPr>
          <a:xfrm>
            <a:off x="58896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60A23-FD3F-4845-9351-F4F9025DC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86" name="PlaceHolder 2"/>
          <p:cNvSpPr>
            <a:spLocks noGrp="1"/>
          </p:cNvSpPr>
          <p:nvPr>
            <p:ph/>
          </p:nvPr>
        </p:nvSpPr>
        <p:spPr>
          <a:xfrm>
            <a:off x="5760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87" name="PlaceHolder 3"/>
          <p:cNvSpPr>
            <a:spLocks noGrp="1"/>
          </p:cNvSpPr>
          <p:nvPr>
            <p:ph/>
          </p:nvPr>
        </p:nvSpPr>
        <p:spPr>
          <a:xfrm>
            <a:off x="58896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88" name="PlaceHolder 4"/>
          <p:cNvSpPr>
            <a:spLocks noGrp="1"/>
          </p:cNvSpPr>
          <p:nvPr>
            <p:ph/>
          </p:nvPr>
        </p:nvSpPr>
        <p:spPr>
          <a:xfrm>
            <a:off x="576000" y="3479400"/>
            <a:ext cx="103694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36720-9C04-45E6-8295-5C1008164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90" name="PlaceHolder 2"/>
          <p:cNvSpPr>
            <a:spLocks noGrp="1"/>
          </p:cNvSpPr>
          <p:nvPr>
            <p:ph/>
          </p:nvPr>
        </p:nvSpPr>
        <p:spPr>
          <a:xfrm>
            <a:off x="576000" y="1516320"/>
            <a:ext cx="103694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91" name="PlaceHolder 3"/>
          <p:cNvSpPr>
            <a:spLocks noGrp="1"/>
          </p:cNvSpPr>
          <p:nvPr>
            <p:ph/>
          </p:nvPr>
        </p:nvSpPr>
        <p:spPr>
          <a:xfrm>
            <a:off x="576000" y="3479400"/>
            <a:ext cx="103694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BCFC7-560F-4311-913E-E9AA33720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93" name="PlaceHolder 2"/>
          <p:cNvSpPr>
            <a:spLocks noGrp="1"/>
          </p:cNvSpPr>
          <p:nvPr>
            <p:ph/>
          </p:nvPr>
        </p:nvSpPr>
        <p:spPr>
          <a:xfrm>
            <a:off x="5760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94" name="PlaceHolder 3"/>
          <p:cNvSpPr>
            <a:spLocks noGrp="1"/>
          </p:cNvSpPr>
          <p:nvPr>
            <p:ph/>
          </p:nvPr>
        </p:nvSpPr>
        <p:spPr>
          <a:xfrm>
            <a:off x="58896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95" name="PlaceHolder 4"/>
          <p:cNvSpPr>
            <a:spLocks noGrp="1"/>
          </p:cNvSpPr>
          <p:nvPr>
            <p:ph/>
          </p:nvPr>
        </p:nvSpPr>
        <p:spPr>
          <a:xfrm>
            <a:off x="5760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96" name="PlaceHolder 5"/>
          <p:cNvSpPr>
            <a:spLocks noGrp="1"/>
          </p:cNvSpPr>
          <p:nvPr>
            <p:ph/>
          </p:nvPr>
        </p:nvSpPr>
        <p:spPr>
          <a:xfrm>
            <a:off x="58896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BE9A4F-92D6-40C1-9309-FDB5DEEB0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698" name="PlaceHolder 2"/>
          <p:cNvSpPr>
            <a:spLocks noGrp="1"/>
          </p:cNvSpPr>
          <p:nvPr>
            <p:ph/>
          </p:nvPr>
        </p:nvSpPr>
        <p:spPr>
          <a:xfrm>
            <a:off x="576000" y="151632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99" name="PlaceHolder 3"/>
          <p:cNvSpPr>
            <a:spLocks noGrp="1"/>
          </p:cNvSpPr>
          <p:nvPr>
            <p:ph/>
          </p:nvPr>
        </p:nvSpPr>
        <p:spPr>
          <a:xfrm>
            <a:off x="4082040" y="151632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00" name="PlaceHolder 4"/>
          <p:cNvSpPr>
            <a:spLocks noGrp="1"/>
          </p:cNvSpPr>
          <p:nvPr>
            <p:ph/>
          </p:nvPr>
        </p:nvSpPr>
        <p:spPr>
          <a:xfrm>
            <a:off x="7588080" y="151632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01" name="PlaceHolder 5"/>
          <p:cNvSpPr>
            <a:spLocks noGrp="1"/>
          </p:cNvSpPr>
          <p:nvPr>
            <p:ph/>
          </p:nvPr>
        </p:nvSpPr>
        <p:spPr>
          <a:xfrm>
            <a:off x="576000" y="347940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02" name="PlaceHolder 6"/>
          <p:cNvSpPr>
            <a:spLocks noGrp="1"/>
          </p:cNvSpPr>
          <p:nvPr>
            <p:ph/>
          </p:nvPr>
        </p:nvSpPr>
        <p:spPr>
          <a:xfrm>
            <a:off x="4082040" y="347940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703" name="PlaceHolder 7"/>
          <p:cNvSpPr>
            <a:spLocks noGrp="1"/>
          </p:cNvSpPr>
          <p:nvPr>
            <p:ph/>
          </p:nvPr>
        </p:nvSpPr>
        <p:spPr>
          <a:xfrm>
            <a:off x="7588080" y="347940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9CA618-799C-493A-89E6-4531AC8E86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3"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44" name="PlaceHolder 2"/>
          <p:cNvSpPr>
            <a:spLocks noGrp="1"/>
          </p:cNvSpPr>
          <p:nvPr>
            <p:ph type="subTitle"/>
          </p:nvPr>
        </p:nvSpPr>
        <p:spPr>
          <a:xfrm>
            <a:off x="576000" y="1516320"/>
            <a:ext cx="10369440" cy="3758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46" name="PlaceHolder 2"/>
          <p:cNvSpPr>
            <a:spLocks noGrp="1"/>
          </p:cNvSpPr>
          <p:nvPr>
            <p:ph/>
          </p:nvPr>
        </p:nvSpPr>
        <p:spPr>
          <a:xfrm>
            <a:off x="576000" y="1516320"/>
            <a:ext cx="1036944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48" name="PlaceHolder 2"/>
          <p:cNvSpPr>
            <a:spLocks noGrp="1"/>
          </p:cNvSpPr>
          <p:nvPr>
            <p:ph/>
          </p:nvPr>
        </p:nvSpPr>
        <p:spPr>
          <a:xfrm>
            <a:off x="5760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49" name="PlaceHolder 3"/>
          <p:cNvSpPr>
            <a:spLocks noGrp="1"/>
          </p:cNvSpPr>
          <p:nvPr>
            <p:ph/>
          </p:nvPr>
        </p:nvSpPr>
        <p:spPr>
          <a:xfrm>
            <a:off x="58896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0"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46" name="PlaceHolder 2"/>
          <p:cNvSpPr>
            <a:spLocks noGrp="1"/>
          </p:cNvSpPr>
          <p:nvPr>
            <p:ph/>
          </p:nvPr>
        </p:nvSpPr>
        <p:spPr>
          <a:xfrm>
            <a:off x="576000" y="1516320"/>
            <a:ext cx="1036944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2DE82-542C-4AE0-9555-C75480A1A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1" name="PlaceHolder 1"/>
          <p:cNvSpPr>
            <a:spLocks noGrp="1"/>
          </p:cNvSpPr>
          <p:nvPr>
            <p:ph type="subTitle"/>
          </p:nvPr>
        </p:nvSpPr>
        <p:spPr>
          <a:xfrm>
            <a:off x="576000" y="258480"/>
            <a:ext cx="10369440" cy="5015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53" name="PlaceHolder 2"/>
          <p:cNvSpPr>
            <a:spLocks noGrp="1"/>
          </p:cNvSpPr>
          <p:nvPr>
            <p:ph/>
          </p:nvPr>
        </p:nvSpPr>
        <p:spPr>
          <a:xfrm>
            <a:off x="5760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54" name="PlaceHolder 3"/>
          <p:cNvSpPr>
            <a:spLocks noGrp="1"/>
          </p:cNvSpPr>
          <p:nvPr>
            <p:ph/>
          </p:nvPr>
        </p:nvSpPr>
        <p:spPr>
          <a:xfrm>
            <a:off x="58896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55" name="PlaceHolder 4"/>
          <p:cNvSpPr>
            <a:spLocks noGrp="1"/>
          </p:cNvSpPr>
          <p:nvPr>
            <p:ph/>
          </p:nvPr>
        </p:nvSpPr>
        <p:spPr>
          <a:xfrm>
            <a:off x="5760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57" name="PlaceHolder 2"/>
          <p:cNvSpPr>
            <a:spLocks noGrp="1"/>
          </p:cNvSpPr>
          <p:nvPr>
            <p:ph/>
          </p:nvPr>
        </p:nvSpPr>
        <p:spPr>
          <a:xfrm>
            <a:off x="5760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58" name="PlaceHolder 3"/>
          <p:cNvSpPr>
            <a:spLocks noGrp="1"/>
          </p:cNvSpPr>
          <p:nvPr>
            <p:ph/>
          </p:nvPr>
        </p:nvSpPr>
        <p:spPr>
          <a:xfrm>
            <a:off x="58896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59" name="PlaceHolder 4"/>
          <p:cNvSpPr>
            <a:spLocks noGrp="1"/>
          </p:cNvSpPr>
          <p:nvPr>
            <p:ph/>
          </p:nvPr>
        </p:nvSpPr>
        <p:spPr>
          <a:xfrm>
            <a:off x="58896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61" name="PlaceHolder 2"/>
          <p:cNvSpPr>
            <a:spLocks noGrp="1"/>
          </p:cNvSpPr>
          <p:nvPr>
            <p:ph/>
          </p:nvPr>
        </p:nvSpPr>
        <p:spPr>
          <a:xfrm>
            <a:off x="5760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62" name="PlaceHolder 3"/>
          <p:cNvSpPr>
            <a:spLocks noGrp="1"/>
          </p:cNvSpPr>
          <p:nvPr>
            <p:ph/>
          </p:nvPr>
        </p:nvSpPr>
        <p:spPr>
          <a:xfrm>
            <a:off x="58896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63" name="PlaceHolder 4"/>
          <p:cNvSpPr>
            <a:spLocks noGrp="1"/>
          </p:cNvSpPr>
          <p:nvPr>
            <p:ph/>
          </p:nvPr>
        </p:nvSpPr>
        <p:spPr>
          <a:xfrm>
            <a:off x="576000" y="3479400"/>
            <a:ext cx="103694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65" name="PlaceHolder 2"/>
          <p:cNvSpPr>
            <a:spLocks noGrp="1"/>
          </p:cNvSpPr>
          <p:nvPr>
            <p:ph/>
          </p:nvPr>
        </p:nvSpPr>
        <p:spPr>
          <a:xfrm>
            <a:off x="576000" y="1516320"/>
            <a:ext cx="103694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66" name="PlaceHolder 3"/>
          <p:cNvSpPr>
            <a:spLocks noGrp="1"/>
          </p:cNvSpPr>
          <p:nvPr>
            <p:ph/>
          </p:nvPr>
        </p:nvSpPr>
        <p:spPr>
          <a:xfrm>
            <a:off x="576000" y="3479400"/>
            <a:ext cx="103694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68" name="PlaceHolder 2"/>
          <p:cNvSpPr>
            <a:spLocks noGrp="1"/>
          </p:cNvSpPr>
          <p:nvPr>
            <p:ph/>
          </p:nvPr>
        </p:nvSpPr>
        <p:spPr>
          <a:xfrm>
            <a:off x="5760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69" name="PlaceHolder 3"/>
          <p:cNvSpPr>
            <a:spLocks noGrp="1"/>
          </p:cNvSpPr>
          <p:nvPr>
            <p:ph/>
          </p:nvPr>
        </p:nvSpPr>
        <p:spPr>
          <a:xfrm>
            <a:off x="58896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0" name="PlaceHolder 4"/>
          <p:cNvSpPr>
            <a:spLocks noGrp="1"/>
          </p:cNvSpPr>
          <p:nvPr>
            <p:ph/>
          </p:nvPr>
        </p:nvSpPr>
        <p:spPr>
          <a:xfrm>
            <a:off x="5760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1" name="PlaceHolder 5"/>
          <p:cNvSpPr>
            <a:spLocks noGrp="1"/>
          </p:cNvSpPr>
          <p:nvPr>
            <p:ph/>
          </p:nvPr>
        </p:nvSpPr>
        <p:spPr>
          <a:xfrm>
            <a:off x="58896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1073" name="PlaceHolder 2"/>
          <p:cNvSpPr>
            <a:spLocks noGrp="1"/>
          </p:cNvSpPr>
          <p:nvPr>
            <p:ph/>
          </p:nvPr>
        </p:nvSpPr>
        <p:spPr>
          <a:xfrm>
            <a:off x="576000" y="151632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4" name="PlaceHolder 3"/>
          <p:cNvSpPr>
            <a:spLocks noGrp="1"/>
          </p:cNvSpPr>
          <p:nvPr>
            <p:ph/>
          </p:nvPr>
        </p:nvSpPr>
        <p:spPr>
          <a:xfrm>
            <a:off x="4082040" y="151632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5" name="PlaceHolder 4"/>
          <p:cNvSpPr>
            <a:spLocks noGrp="1"/>
          </p:cNvSpPr>
          <p:nvPr>
            <p:ph/>
          </p:nvPr>
        </p:nvSpPr>
        <p:spPr>
          <a:xfrm>
            <a:off x="7588080" y="151632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6" name="PlaceHolder 5"/>
          <p:cNvSpPr>
            <a:spLocks noGrp="1"/>
          </p:cNvSpPr>
          <p:nvPr>
            <p:ph/>
          </p:nvPr>
        </p:nvSpPr>
        <p:spPr>
          <a:xfrm>
            <a:off x="576000" y="347940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7" name="PlaceHolder 6"/>
          <p:cNvSpPr>
            <a:spLocks noGrp="1"/>
          </p:cNvSpPr>
          <p:nvPr>
            <p:ph/>
          </p:nvPr>
        </p:nvSpPr>
        <p:spPr>
          <a:xfrm>
            <a:off x="4082040" y="347940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1078" name="PlaceHolder 7"/>
          <p:cNvSpPr>
            <a:spLocks noGrp="1"/>
          </p:cNvSpPr>
          <p:nvPr>
            <p:ph/>
          </p:nvPr>
        </p:nvSpPr>
        <p:spPr>
          <a:xfrm>
            <a:off x="7588080" y="3479400"/>
            <a:ext cx="33386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48" name="PlaceHolder 2"/>
          <p:cNvSpPr>
            <a:spLocks noGrp="1"/>
          </p:cNvSpPr>
          <p:nvPr>
            <p:ph/>
          </p:nvPr>
        </p:nvSpPr>
        <p:spPr>
          <a:xfrm>
            <a:off x="5760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49" name="PlaceHolder 3"/>
          <p:cNvSpPr>
            <a:spLocks noGrp="1"/>
          </p:cNvSpPr>
          <p:nvPr>
            <p:ph/>
          </p:nvPr>
        </p:nvSpPr>
        <p:spPr>
          <a:xfrm>
            <a:off x="58896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97B61-F1D7-458F-9953-58861F794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7FFA1-9EC2-4023-AAFF-D53B1F8A4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576000" y="258480"/>
            <a:ext cx="10369440" cy="5015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868C5-9D14-45D6-A42C-2C04BE373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53" name="PlaceHolder 2"/>
          <p:cNvSpPr>
            <a:spLocks noGrp="1"/>
          </p:cNvSpPr>
          <p:nvPr>
            <p:ph/>
          </p:nvPr>
        </p:nvSpPr>
        <p:spPr>
          <a:xfrm>
            <a:off x="5760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54" name="PlaceHolder 3"/>
          <p:cNvSpPr>
            <a:spLocks noGrp="1"/>
          </p:cNvSpPr>
          <p:nvPr>
            <p:ph/>
          </p:nvPr>
        </p:nvSpPr>
        <p:spPr>
          <a:xfrm>
            <a:off x="58896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55" name="PlaceHolder 4"/>
          <p:cNvSpPr>
            <a:spLocks noGrp="1"/>
          </p:cNvSpPr>
          <p:nvPr>
            <p:ph/>
          </p:nvPr>
        </p:nvSpPr>
        <p:spPr>
          <a:xfrm>
            <a:off x="5760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D7C34-CC68-42D9-84AB-35F37FF81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57" name="PlaceHolder 2"/>
          <p:cNvSpPr>
            <a:spLocks noGrp="1"/>
          </p:cNvSpPr>
          <p:nvPr>
            <p:ph/>
          </p:nvPr>
        </p:nvSpPr>
        <p:spPr>
          <a:xfrm>
            <a:off x="576000" y="1516320"/>
            <a:ext cx="5060160" cy="37580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58" name="PlaceHolder 3"/>
          <p:cNvSpPr>
            <a:spLocks noGrp="1"/>
          </p:cNvSpPr>
          <p:nvPr>
            <p:ph/>
          </p:nvPr>
        </p:nvSpPr>
        <p:spPr>
          <a:xfrm>
            <a:off x="58896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59" name="PlaceHolder 4"/>
          <p:cNvSpPr>
            <a:spLocks noGrp="1"/>
          </p:cNvSpPr>
          <p:nvPr>
            <p:ph/>
          </p:nvPr>
        </p:nvSpPr>
        <p:spPr>
          <a:xfrm>
            <a:off x="5889600" y="347940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052A2-A416-4B1E-9CAD-5DA375E04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ndara"/>
            </a:endParaRPr>
          </a:p>
        </p:txBody>
      </p:sp>
      <p:sp>
        <p:nvSpPr>
          <p:cNvPr id="361" name="PlaceHolder 2"/>
          <p:cNvSpPr>
            <a:spLocks noGrp="1"/>
          </p:cNvSpPr>
          <p:nvPr>
            <p:ph/>
          </p:nvPr>
        </p:nvSpPr>
        <p:spPr>
          <a:xfrm>
            <a:off x="5760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62" name="PlaceHolder 3"/>
          <p:cNvSpPr>
            <a:spLocks noGrp="1"/>
          </p:cNvSpPr>
          <p:nvPr>
            <p:ph/>
          </p:nvPr>
        </p:nvSpPr>
        <p:spPr>
          <a:xfrm>
            <a:off x="5889600" y="1516320"/>
            <a:ext cx="506016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363" name="PlaceHolder 4"/>
          <p:cNvSpPr>
            <a:spLocks noGrp="1"/>
          </p:cNvSpPr>
          <p:nvPr>
            <p:ph/>
          </p:nvPr>
        </p:nvSpPr>
        <p:spPr>
          <a:xfrm>
            <a:off x="576000" y="3479400"/>
            <a:ext cx="10369440" cy="17924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7672F-2843-4A8E-86E9-203CB4B54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组合 288"/>
          <p:cNvGrpSpPr/>
          <p:nvPr/>
        </p:nvGrpSpPr>
        <p:grpSpPr>
          <a:xfrm>
            <a:off x="360000" y="1439640"/>
            <a:ext cx="10801440" cy="4680000"/>
            <a:chOff x="360000" y="1439640"/>
            <a:chExt cx="10801440" cy="4680000"/>
          </a:xfrm>
        </p:grpSpPr>
        <p:cxnSp>
          <p:nvCxnSpPr>
            <p:cNvPr id="1" name="直接连接符 289"/>
            <p:cNvCxnSpPr/>
            <p:nvPr/>
          </p:nvCxnSpPr>
          <p:spPr>
            <a:xfrm>
              <a:off x="360360" y="1439640"/>
              <a:ext cx="10801440" cy="360"/>
            </a:xfrm>
            <a:prstGeom prst="straightConnector1">
              <a:avLst/>
            </a:prstGeom>
            <a:ln w="3175">
              <a:solidFill>
                <a:srgbClr val="ffffff">
                  <a:lumMod val="85000"/>
                </a:srgbClr>
              </a:solidFill>
              <a:round/>
            </a:ln>
          </p:spPr>
        </p:cxnSp>
        <p:cxnSp>
          <p:nvCxnSpPr>
            <p:cNvPr id="2" name="直接连接符 290"/>
            <p:cNvCxnSpPr/>
            <p:nvPr/>
          </p:nvCxnSpPr>
          <p:spPr>
            <a:xfrm>
              <a:off x="360360" y="1800000"/>
              <a:ext cx="10801440" cy="360"/>
            </a:xfrm>
            <a:prstGeom prst="straightConnector1">
              <a:avLst/>
            </a:prstGeom>
            <a:ln w="3175">
              <a:solidFill>
                <a:srgbClr val="ffffff">
                  <a:lumMod val="85000"/>
                </a:srgbClr>
              </a:solidFill>
              <a:round/>
            </a:ln>
          </p:spPr>
        </p:cxnSp>
        <p:cxnSp>
          <p:nvCxnSpPr>
            <p:cNvPr id="3" name="直接连接符 291"/>
            <p:cNvCxnSpPr/>
            <p:nvPr/>
          </p:nvCxnSpPr>
          <p:spPr>
            <a:xfrm>
              <a:off x="360000" y="1979280"/>
              <a:ext cx="10801440" cy="360"/>
            </a:xfrm>
            <a:prstGeom prst="straightConnector1">
              <a:avLst/>
            </a:prstGeom>
            <a:ln w="3175">
              <a:solidFill>
                <a:srgbClr val="ffffff">
                  <a:lumMod val="85000"/>
                </a:srgbClr>
              </a:solidFill>
              <a:round/>
            </a:ln>
          </p:spPr>
        </p:cxnSp>
        <p:cxnSp>
          <p:nvCxnSpPr>
            <p:cNvPr id="4" name="直接连接符 292"/>
            <p:cNvCxnSpPr/>
            <p:nvPr/>
          </p:nvCxnSpPr>
          <p:spPr>
            <a:xfrm>
              <a:off x="360360" y="2334600"/>
              <a:ext cx="10801440" cy="360"/>
            </a:xfrm>
            <a:prstGeom prst="straightConnector1">
              <a:avLst/>
            </a:prstGeom>
            <a:ln w="3175">
              <a:solidFill>
                <a:srgbClr val="ffffff">
                  <a:lumMod val="85000"/>
                </a:srgbClr>
              </a:solidFill>
              <a:round/>
            </a:ln>
          </p:spPr>
        </p:cxnSp>
        <p:cxnSp>
          <p:nvCxnSpPr>
            <p:cNvPr id="5" name="直接连接符 293"/>
            <p:cNvCxnSpPr/>
            <p:nvPr/>
          </p:nvCxnSpPr>
          <p:spPr>
            <a:xfrm>
              <a:off x="360360" y="2519280"/>
              <a:ext cx="10801440" cy="360"/>
            </a:xfrm>
            <a:prstGeom prst="straightConnector1">
              <a:avLst/>
            </a:prstGeom>
            <a:ln w="3175">
              <a:solidFill>
                <a:srgbClr val="ffffff">
                  <a:lumMod val="85000"/>
                </a:srgbClr>
              </a:solidFill>
              <a:round/>
            </a:ln>
          </p:spPr>
        </p:cxnSp>
        <p:cxnSp>
          <p:nvCxnSpPr>
            <p:cNvPr id="6" name="直接连接符 294"/>
            <p:cNvCxnSpPr/>
            <p:nvPr/>
          </p:nvCxnSpPr>
          <p:spPr>
            <a:xfrm>
              <a:off x="360360" y="2879640"/>
              <a:ext cx="10801440" cy="360"/>
            </a:xfrm>
            <a:prstGeom prst="straightConnector1">
              <a:avLst/>
            </a:prstGeom>
            <a:ln w="3175">
              <a:solidFill>
                <a:srgbClr val="ffffff">
                  <a:lumMod val="85000"/>
                </a:srgbClr>
              </a:solidFill>
              <a:round/>
            </a:ln>
          </p:spPr>
        </p:cxnSp>
        <p:cxnSp>
          <p:nvCxnSpPr>
            <p:cNvPr id="7" name="直接连接符 295"/>
            <p:cNvCxnSpPr/>
            <p:nvPr/>
          </p:nvCxnSpPr>
          <p:spPr>
            <a:xfrm>
              <a:off x="360360" y="3057120"/>
              <a:ext cx="10801440" cy="360"/>
            </a:xfrm>
            <a:prstGeom prst="straightConnector1">
              <a:avLst/>
            </a:prstGeom>
            <a:ln w="3175">
              <a:solidFill>
                <a:srgbClr val="ffffff">
                  <a:lumMod val="85000"/>
                </a:srgbClr>
              </a:solidFill>
              <a:round/>
            </a:ln>
          </p:spPr>
        </p:cxnSp>
        <p:cxnSp>
          <p:nvCxnSpPr>
            <p:cNvPr id="8" name="直接连接符 296"/>
            <p:cNvCxnSpPr/>
            <p:nvPr/>
          </p:nvCxnSpPr>
          <p:spPr>
            <a:xfrm>
              <a:off x="360360" y="3417480"/>
              <a:ext cx="10801440" cy="360"/>
            </a:xfrm>
            <a:prstGeom prst="straightConnector1">
              <a:avLst/>
            </a:prstGeom>
            <a:ln w="3175">
              <a:solidFill>
                <a:srgbClr val="ffffff">
                  <a:lumMod val="85000"/>
                </a:srgbClr>
              </a:solidFill>
              <a:round/>
            </a:ln>
          </p:spPr>
        </p:cxnSp>
        <p:cxnSp>
          <p:nvCxnSpPr>
            <p:cNvPr id="9" name="直接连接符 297"/>
            <p:cNvCxnSpPr/>
            <p:nvPr/>
          </p:nvCxnSpPr>
          <p:spPr>
            <a:xfrm>
              <a:off x="360360" y="3600000"/>
              <a:ext cx="10801440" cy="360"/>
            </a:xfrm>
            <a:prstGeom prst="straightConnector1">
              <a:avLst/>
            </a:prstGeom>
            <a:ln w="3175">
              <a:solidFill>
                <a:srgbClr val="ffffff">
                  <a:lumMod val="85000"/>
                </a:srgbClr>
              </a:solidFill>
              <a:round/>
            </a:ln>
          </p:spPr>
        </p:cxnSp>
        <p:cxnSp>
          <p:nvCxnSpPr>
            <p:cNvPr id="10" name="直接连接符 298"/>
            <p:cNvCxnSpPr/>
            <p:nvPr/>
          </p:nvCxnSpPr>
          <p:spPr>
            <a:xfrm>
              <a:off x="360360" y="3960720"/>
              <a:ext cx="10801440" cy="360"/>
            </a:xfrm>
            <a:prstGeom prst="straightConnector1">
              <a:avLst/>
            </a:prstGeom>
            <a:ln w="3175">
              <a:solidFill>
                <a:srgbClr val="ffffff">
                  <a:lumMod val="85000"/>
                </a:srgbClr>
              </a:solidFill>
              <a:round/>
            </a:ln>
          </p:spPr>
        </p:cxnSp>
        <p:cxnSp>
          <p:nvCxnSpPr>
            <p:cNvPr id="11" name="直接连接符 299"/>
            <p:cNvCxnSpPr/>
            <p:nvPr/>
          </p:nvCxnSpPr>
          <p:spPr>
            <a:xfrm>
              <a:off x="360360" y="4140000"/>
              <a:ext cx="10801440" cy="360"/>
            </a:xfrm>
            <a:prstGeom prst="straightConnector1">
              <a:avLst/>
            </a:prstGeom>
            <a:ln w="3175">
              <a:solidFill>
                <a:srgbClr val="ffffff">
                  <a:lumMod val="85000"/>
                </a:srgbClr>
              </a:solidFill>
              <a:round/>
            </a:ln>
          </p:spPr>
        </p:cxnSp>
        <p:cxnSp>
          <p:nvCxnSpPr>
            <p:cNvPr id="12" name="直接连接符 300"/>
            <p:cNvCxnSpPr/>
            <p:nvPr/>
          </p:nvCxnSpPr>
          <p:spPr>
            <a:xfrm>
              <a:off x="360360" y="4497840"/>
              <a:ext cx="10801440" cy="360"/>
            </a:xfrm>
            <a:prstGeom prst="straightConnector1">
              <a:avLst/>
            </a:prstGeom>
            <a:ln w="3175">
              <a:solidFill>
                <a:srgbClr val="ffffff">
                  <a:lumMod val="85000"/>
                </a:srgbClr>
              </a:solidFill>
              <a:round/>
            </a:ln>
          </p:spPr>
        </p:cxnSp>
        <p:cxnSp>
          <p:nvCxnSpPr>
            <p:cNvPr id="13" name="直接连接符 301"/>
            <p:cNvCxnSpPr/>
            <p:nvPr/>
          </p:nvCxnSpPr>
          <p:spPr>
            <a:xfrm>
              <a:off x="360360" y="4679640"/>
              <a:ext cx="10801440" cy="360"/>
            </a:xfrm>
            <a:prstGeom prst="straightConnector1">
              <a:avLst/>
            </a:prstGeom>
            <a:ln w="3175">
              <a:solidFill>
                <a:srgbClr val="ffffff">
                  <a:lumMod val="85000"/>
                </a:srgbClr>
              </a:solidFill>
              <a:round/>
            </a:ln>
          </p:spPr>
        </p:cxnSp>
        <p:cxnSp>
          <p:nvCxnSpPr>
            <p:cNvPr id="14" name="直接连接符 302"/>
            <p:cNvCxnSpPr/>
            <p:nvPr/>
          </p:nvCxnSpPr>
          <p:spPr>
            <a:xfrm>
              <a:off x="360360" y="5041800"/>
              <a:ext cx="10801440" cy="360"/>
            </a:xfrm>
            <a:prstGeom prst="straightConnector1">
              <a:avLst/>
            </a:prstGeom>
            <a:ln w="3175">
              <a:solidFill>
                <a:srgbClr val="ffffff">
                  <a:lumMod val="85000"/>
                </a:srgbClr>
              </a:solidFill>
              <a:round/>
            </a:ln>
          </p:spPr>
        </p:cxnSp>
        <p:cxnSp>
          <p:nvCxnSpPr>
            <p:cNvPr id="15" name="直接连接符 303"/>
            <p:cNvCxnSpPr/>
            <p:nvPr/>
          </p:nvCxnSpPr>
          <p:spPr>
            <a:xfrm>
              <a:off x="360360" y="5580000"/>
              <a:ext cx="10801440" cy="360"/>
            </a:xfrm>
            <a:prstGeom prst="straightConnector1">
              <a:avLst/>
            </a:prstGeom>
            <a:ln w="3175">
              <a:solidFill>
                <a:srgbClr val="ffffff">
                  <a:lumMod val="85000"/>
                </a:srgbClr>
              </a:solidFill>
              <a:round/>
            </a:ln>
          </p:spPr>
        </p:cxnSp>
        <p:cxnSp>
          <p:nvCxnSpPr>
            <p:cNvPr id="16" name="直接连接符 304"/>
            <p:cNvCxnSpPr/>
            <p:nvPr/>
          </p:nvCxnSpPr>
          <p:spPr>
            <a:xfrm>
              <a:off x="360360" y="5219640"/>
              <a:ext cx="10801440" cy="360"/>
            </a:xfrm>
            <a:prstGeom prst="straightConnector1">
              <a:avLst/>
            </a:prstGeom>
            <a:ln w="3175">
              <a:solidFill>
                <a:srgbClr val="ffffff">
                  <a:lumMod val="85000"/>
                </a:srgbClr>
              </a:solidFill>
              <a:round/>
            </a:ln>
          </p:spPr>
        </p:cxnSp>
        <p:cxnSp>
          <p:nvCxnSpPr>
            <p:cNvPr id="17" name="直接连接符 305"/>
            <p:cNvCxnSpPr/>
            <p:nvPr/>
          </p:nvCxnSpPr>
          <p:spPr>
            <a:xfrm>
              <a:off x="360360" y="5760720"/>
              <a:ext cx="10801440" cy="360"/>
            </a:xfrm>
            <a:prstGeom prst="straightConnector1">
              <a:avLst/>
            </a:prstGeom>
            <a:ln w="3175">
              <a:solidFill>
                <a:srgbClr val="ffffff">
                  <a:lumMod val="85000"/>
                </a:srgbClr>
              </a:solidFill>
              <a:round/>
            </a:ln>
          </p:spPr>
        </p:cxnSp>
        <p:cxnSp>
          <p:nvCxnSpPr>
            <p:cNvPr id="18" name="直接连接符 306"/>
            <p:cNvCxnSpPr/>
            <p:nvPr/>
          </p:nvCxnSpPr>
          <p:spPr>
            <a:xfrm>
              <a:off x="360360" y="6119640"/>
              <a:ext cx="10801440" cy="360"/>
            </a:xfrm>
            <a:prstGeom prst="straightConnector1">
              <a:avLst/>
            </a:prstGeom>
            <a:ln w="3175">
              <a:solidFill>
                <a:srgbClr val="ffffff">
                  <a:lumMod val="85000"/>
                </a:srgbClr>
              </a:solidFill>
              <a:round/>
            </a:ln>
          </p:spPr>
        </p:cxnSp>
        <p:cxnSp>
          <p:nvCxnSpPr>
            <p:cNvPr id="19" name="直接连接符 307"/>
            <p:cNvCxnSpPr/>
            <p:nvPr/>
          </p:nvCxnSpPr>
          <p:spPr>
            <a:xfrm>
              <a:off x="360360" y="1439640"/>
              <a:ext cx="360" cy="4680360"/>
            </a:xfrm>
            <a:prstGeom prst="straightConnector1">
              <a:avLst/>
            </a:prstGeom>
            <a:ln w="3175">
              <a:solidFill>
                <a:srgbClr val="ffffff">
                  <a:lumMod val="85000"/>
                </a:srgbClr>
              </a:solidFill>
              <a:round/>
            </a:ln>
          </p:spPr>
        </p:cxnSp>
        <p:cxnSp>
          <p:nvCxnSpPr>
            <p:cNvPr id="20" name="直接连接符 308"/>
            <p:cNvCxnSpPr/>
            <p:nvPr/>
          </p:nvCxnSpPr>
          <p:spPr>
            <a:xfrm>
              <a:off x="11161440" y="1439640"/>
              <a:ext cx="360" cy="4680360"/>
            </a:xfrm>
            <a:prstGeom prst="straightConnector1">
              <a:avLst/>
            </a:prstGeom>
            <a:ln w="3175">
              <a:solidFill>
                <a:srgbClr val="ffffff">
                  <a:lumMod val="85000"/>
                </a:srgbClr>
              </a:solidFill>
              <a:round/>
            </a:ln>
          </p:spPr>
        </p:cxnSp>
        <p:cxnSp>
          <p:nvCxnSpPr>
            <p:cNvPr id="21" name="直接连接符 309"/>
            <p:cNvCxnSpPr/>
            <p:nvPr/>
          </p:nvCxnSpPr>
          <p:spPr>
            <a:xfrm>
              <a:off x="720720" y="1439640"/>
              <a:ext cx="360" cy="360720"/>
            </a:xfrm>
            <a:prstGeom prst="straightConnector1">
              <a:avLst/>
            </a:prstGeom>
            <a:ln w="3175">
              <a:solidFill>
                <a:srgbClr val="ffffff">
                  <a:lumMod val="85000"/>
                </a:srgbClr>
              </a:solidFill>
              <a:round/>
            </a:ln>
          </p:spPr>
        </p:cxnSp>
        <p:cxnSp>
          <p:nvCxnSpPr>
            <p:cNvPr id="22" name="直接连接符 310"/>
            <p:cNvCxnSpPr/>
            <p:nvPr/>
          </p:nvCxnSpPr>
          <p:spPr>
            <a:xfrm>
              <a:off x="1080000" y="1439640"/>
              <a:ext cx="360" cy="360720"/>
            </a:xfrm>
            <a:prstGeom prst="straightConnector1">
              <a:avLst/>
            </a:prstGeom>
            <a:ln w="3175">
              <a:solidFill>
                <a:srgbClr val="ffffff">
                  <a:lumMod val="85000"/>
                </a:srgbClr>
              </a:solidFill>
              <a:round/>
            </a:ln>
          </p:spPr>
        </p:cxnSp>
        <p:cxnSp>
          <p:nvCxnSpPr>
            <p:cNvPr id="23" name="直接连接符 311"/>
            <p:cNvCxnSpPr/>
            <p:nvPr/>
          </p:nvCxnSpPr>
          <p:spPr>
            <a:xfrm>
              <a:off x="1439640" y="1439640"/>
              <a:ext cx="360" cy="360720"/>
            </a:xfrm>
            <a:prstGeom prst="straightConnector1">
              <a:avLst/>
            </a:prstGeom>
            <a:ln w="3175">
              <a:solidFill>
                <a:srgbClr val="ffffff">
                  <a:lumMod val="85000"/>
                </a:srgbClr>
              </a:solidFill>
              <a:round/>
            </a:ln>
          </p:spPr>
        </p:cxnSp>
        <p:cxnSp>
          <p:nvCxnSpPr>
            <p:cNvPr id="24" name="直接连接符 312"/>
            <p:cNvCxnSpPr/>
            <p:nvPr/>
          </p:nvCxnSpPr>
          <p:spPr>
            <a:xfrm>
              <a:off x="1798920" y="1439640"/>
              <a:ext cx="360" cy="360720"/>
            </a:xfrm>
            <a:prstGeom prst="straightConnector1">
              <a:avLst/>
            </a:prstGeom>
            <a:ln w="3175">
              <a:solidFill>
                <a:srgbClr val="ffffff">
                  <a:lumMod val="85000"/>
                </a:srgbClr>
              </a:solidFill>
              <a:round/>
            </a:ln>
          </p:spPr>
        </p:cxnSp>
        <p:cxnSp>
          <p:nvCxnSpPr>
            <p:cNvPr id="25" name="直接连接符 313"/>
            <p:cNvCxnSpPr/>
            <p:nvPr/>
          </p:nvCxnSpPr>
          <p:spPr>
            <a:xfrm>
              <a:off x="2158560" y="1439640"/>
              <a:ext cx="360" cy="360720"/>
            </a:xfrm>
            <a:prstGeom prst="straightConnector1">
              <a:avLst/>
            </a:prstGeom>
            <a:ln w="3175">
              <a:solidFill>
                <a:srgbClr val="ffffff">
                  <a:lumMod val="85000"/>
                </a:srgbClr>
              </a:solidFill>
              <a:round/>
            </a:ln>
          </p:spPr>
        </p:cxnSp>
        <p:cxnSp>
          <p:nvCxnSpPr>
            <p:cNvPr id="26" name="直接连接符 314"/>
            <p:cNvCxnSpPr/>
            <p:nvPr/>
          </p:nvCxnSpPr>
          <p:spPr>
            <a:xfrm>
              <a:off x="2518200" y="1439640"/>
              <a:ext cx="360" cy="360720"/>
            </a:xfrm>
            <a:prstGeom prst="straightConnector1">
              <a:avLst/>
            </a:prstGeom>
            <a:ln w="3175">
              <a:solidFill>
                <a:srgbClr val="ffffff">
                  <a:lumMod val="85000"/>
                </a:srgbClr>
              </a:solidFill>
              <a:round/>
            </a:ln>
          </p:spPr>
        </p:cxnSp>
        <p:cxnSp>
          <p:nvCxnSpPr>
            <p:cNvPr id="27" name="直接连接符 315"/>
            <p:cNvCxnSpPr/>
            <p:nvPr/>
          </p:nvCxnSpPr>
          <p:spPr>
            <a:xfrm>
              <a:off x="2877480" y="1439640"/>
              <a:ext cx="360" cy="360720"/>
            </a:xfrm>
            <a:prstGeom prst="straightConnector1">
              <a:avLst/>
            </a:prstGeom>
            <a:ln w="3175">
              <a:solidFill>
                <a:srgbClr val="ffffff">
                  <a:lumMod val="85000"/>
                </a:srgbClr>
              </a:solidFill>
              <a:round/>
            </a:ln>
          </p:spPr>
        </p:cxnSp>
        <p:cxnSp>
          <p:nvCxnSpPr>
            <p:cNvPr id="28" name="直接连接符 316"/>
            <p:cNvCxnSpPr/>
            <p:nvPr/>
          </p:nvCxnSpPr>
          <p:spPr>
            <a:xfrm>
              <a:off x="3237120" y="1439640"/>
              <a:ext cx="360" cy="360720"/>
            </a:xfrm>
            <a:prstGeom prst="straightConnector1">
              <a:avLst/>
            </a:prstGeom>
            <a:ln w="3175">
              <a:solidFill>
                <a:srgbClr val="ffffff">
                  <a:lumMod val="85000"/>
                </a:srgbClr>
              </a:solidFill>
              <a:round/>
            </a:ln>
          </p:spPr>
        </p:cxnSp>
        <p:cxnSp>
          <p:nvCxnSpPr>
            <p:cNvPr id="29" name="直接连接符 317"/>
            <p:cNvCxnSpPr/>
            <p:nvPr/>
          </p:nvCxnSpPr>
          <p:spPr>
            <a:xfrm>
              <a:off x="3596760" y="1439640"/>
              <a:ext cx="360" cy="360720"/>
            </a:xfrm>
            <a:prstGeom prst="straightConnector1">
              <a:avLst/>
            </a:prstGeom>
            <a:ln w="3175">
              <a:solidFill>
                <a:srgbClr val="ffffff">
                  <a:lumMod val="85000"/>
                </a:srgbClr>
              </a:solidFill>
              <a:round/>
            </a:ln>
          </p:spPr>
        </p:cxnSp>
        <p:cxnSp>
          <p:nvCxnSpPr>
            <p:cNvPr id="30" name="直接连接符 318"/>
            <p:cNvCxnSpPr/>
            <p:nvPr/>
          </p:nvCxnSpPr>
          <p:spPr>
            <a:xfrm>
              <a:off x="3956040" y="1439640"/>
              <a:ext cx="360" cy="360720"/>
            </a:xfrm>
            <a:prstGeom prst="straightConnector1">
              <a:avLst/>
            </a:prstGeom>
            <a:ln w="3175">
              <a:solidFill>
                <a:srgbClr val="ffffff">
                  <a:lumMod val="85000"/>
                </a:srgbClr>
              </a:solidFill>
              <a:round/>
            </a:ln>
          </p:spPr>
        </p:cxnSp>
        <p:cxnSp>
          <p:nvCxnSpPr>
            <p:cNvPr id="31" name="直接连接符 319"/>
            <p:cNvCxnSpPr/>
            <p:nvPr/>
          </p:nvCxnSpPr>
          <p:spPr>
            <a:xfrm>
              <a:off x="4315680" y="1439640"/>
              <a:ext cx="360" cy="360720"/>
            </a:xfrm>
            <a:prstGeom prst="straightConnector1">
              <a:avLst/>
            </a:prstGeom>
            <a:ln w="3175">
              <a:solidFill>
                <a:srgbClr val="ffffff">
                  <a:lumMod val="85000"/>
                </a:srgbClr>
              </a:solidFill>
              <a:round/>
            </a:ln>
          </p:spPr>
        </p:cxnSp>
        <p:cxnSp>
          <p:nvCxnSpPr>
            <p:cNvPr id="32" name="直接连接符 320"/>
            <p:cNvCxnSpPr/>
            <p:nvPr/>
          </p:nvCxnSpPr>
          <p:spPr>
            <a:xfrm>
              <a:off x="4675320" y="1439640"/>
              <a:ext cx="360" cy="360720"/>
            </a:xfrm>
            <a:prstGeom prst="straightConnector1">
              <a:avLst/>
            </a:prstGeom>
            <a:ln w="3175">
              <a:solidFill>
                <a:srgbClr val="ffffff">
                  <a:lumMod val="85000"/>
                </a:srgbClr>
              </a:solidFill>
              <a:round/>
            </a:ln>
          </p:spPr>
        </p:cxnSp>
        <p:cxnSp>
          <p:nvCxnSpPr>
            <p:cNvPr id="33" name="直接连接符 321"/>
            <p:cNvCxnSpPr/>
            <p:nvPr/>
          </p:nvCxnSpPr>
          <p:spPr>
            <a:xfrm>
              <a:off x="5034600" y="1439640"/>
              <a:ext cx="360" cy="360720"/>
            </a:xfrm>
            <a:prstGeom prst="straightConnector1">
              <a:avLst/>
            </a:prstGeom>
            <a:ln w="3175">
              <a:solidFill>
                <a:srgbClr val="ffffff">
                  <a:lumMod val="85000"/>
                </a:srgbClr>
              </a:solidFill>
              <a:round/>
            </a:ln>
          </p:spPr>
        </p:cxnSp>
        <p:cxnSp>
          <p:nvCxnSpPr>
            <p:cNvPr id="34" name="直接连接符 322"/>
            <p:cNvCxnSpPr/>
            <p:nvPr/>
          </p:nvCxnSpPr>
          <p:spPr>
            <a:xfrm>
              <a:off x="5394240" y="1439640"/>
              <a:ext cx="360" cy="360720"/>
            </a:xfrm>
            <a:prstGeom prst="straightConnector1">
              <a:avLst/>
            </a:prstGeom>
            <a:ln w="3175">
              <a:solidFill>
                <a:srgbClr val="ffffff">
                  <a:lumMod val="85000"/>
                </a:srgbClr>
              </a:solidFill>
              <a:round/>
            </a:ln>
          </p:spPr>
        </p:cxnSp>
        <p:cxnSp>
          <p:nvCxnSpPr>
            <p:cNvPr id="35" name="直接连接符 323"/>
            <p:cNvCxnSpPr/>
            <p:nvPr/>
          </p:nvCxnSpPr>
          <p:spPr>
            <a:xfrm>
              <a:off x="5753880" y="1439640"/>
              <a:ext cx="360" cy="360720"/>
            </a:xfrm>
            <a:prstGeom prst="straightConnector1">
              <a:avLst/>
            </a:prstGeom>
            <a:ln w="3175">
              <a:solidFill>
                <a:srgbClr val="ffffff">
                  <a:lumMod val="85000"/>
                </a:srgbClr>
              </a:solidFill>
              <a:round/>
            </a:ln>
          </p:spPr>
        </p:cxnSp>
        <p:cxnSp>
          <p:nvCxnSpPr>
            <p:cNvPr id="36" name="直接连接符 324"/>
            <p:cNvCxnSpPr/>
            <p:nvPr/>
          </p:nvCxnSpPr>
          <p:spPr>
            <a:xfrm>
              <a:off x="6113160" y="1439640"/>
              <a:ext cx="360" cy="360720"/>
            </a:xfrm>
            <a:prstGeom prst="straightConnector1">
              <a:avLst/>
            </a:prstGeom>
            <a:ln w="3175">
              <a:solidFill>
                <a:srgbClr val="ffffff">
                  <a:lumMod val="85000"/>
                </a:srgbClr>
              </a:solidFill>
              <a:round/>
            </a:ln>
          </p:spPr>
        </p:cxnSp>
        <p:cxnSp>
          <p:nvCxnSpPr>
            <p:cNvPr id="37" name="直接连接符 325"/>
            <p:cNvCxnSpPr/>
            <p:nvPr/>
          </p:nvCxnSpPr>
          <p:spPr>
            <a:xfrm>
              <a:off x="6472800" y="1439640"/>
              <a:ext cx="360" cy="360720"/>
            </a:xfrm>
            <a:prstGeom prst="straightConnector1">
              <a:avLst/>
            </a:prstGeom>
            <a:ln w="3175">
              <a:solidFill>
                <a:srgbClr val="ffffff">
                  <a:lumMod val="85000"/>
                </a:srgbClr>
              </a:solidFill>
              <a:round/>
            </a:ln>
          </p:spPr>
        </p:cxnSp>
        <p:cxnSp>
          <p:nvCxnSpPr>
            <p:cNvPr id="38" name="直接连接符 326"/>
            <p:cNvCxnSpPr/>
            <p:nvPr/>
          </p:nvCxnSpPr>
          <p:spPr>
            <a:xfrm>
              <a:off x="6832080" y="1439640"/>
              <a:ext cx="360" cy="360720"/>
            </a:xfrm>
            <a:prstGeom prst="straightConnector1">
              <a:avLst/>
            </a:prstGeom>
            <a:ln w="3175">
              <a:solidFill>
                <a:srgbClr val="ffffff">
                  <a:lumMod val="85000"/>
                </a:srgbClr>
              </a:solidFill>
              <a:round/>
            </a:ln>
          </p:spPr>
        </p:cxnSp>
        <p:cxnSp>
          <p:nvCxnSpPr>
            <p:cNvPr id="39" name="直接连接符 327"/>
            <p:cNvCxnSpPr/>
            <p:nvPr/>
          </p:nvCxnSpPr>
          <p:spPr>
            <a:xfrm>
              <a:off x="7191720" y="1439640"/>
              <a:ext cx="360" cy="360720"/>
            </a:xfrm>
            <a:prstGeom prst="straightConnector1">
              <a:avLst/>
            </a:prstGeom>
            <a:ln w="3175">
              <a:solidFill>
                <a:srgbClr val="ffffff">
                  <a:lumMod val="85000"/>
                </a:srgbClr>
              </a:solidFill>
              <a:round/>
            </a:ln>
          </p:spPr>
        </p:cxnSp>
        <p:cxnSp>
          <p:nvCxnSpPr>
            <p:cNvPr id="40" name="直接连接符 328"/>
            <p:cNvCxnSpPr/>
            <p:nvPr/>
          </p:nvCxnSpPr>
          <p:spPr>
            <a:xfrm>
              <a:off x="7551360" y="1439640"/>
              <a:ext cx="360" cy="360720"/>
            </a:xfrm>
            <a:prstGeom prst="straightConnector1">
              <a:avLst/>
            </a:prstGeom>
            <a:ln w="3175">
              <a:solidFill>
                <a:srgbClr val="ffffff">
                  <a:lumMod val="85000"/>
                </a:srgbClr>
              </a:solidFill>
              <a:round/>
            </a:ln>
          </p:spPr>
        </p:cxnSp>
        <p:cxnSp>
          <p:nvCxnSpPr>
            <p:cNvPr id="41" name="直接连接符 329"/>
            <p:cNvCxnSpPr/>
            <p:nvPr/>
          </p:nvCxnSpPr>
          <p:spPr>
            <a:xfrm>
              <a:off x="7910640" y="1439640"/>
              <a:ext cx="360" cy="360720"/>
            </a:xfrm>
            <a:prstGeom prst="straightConnector1">
              <a:avLst/>
            </a:prstGeom>
            <a:ln w="3175">
              <a:solidFill>
                <a:srgbClr val="ffffff">
                  <a:lumMod val="85000"/>
                </a:srgbClr>
              </a:solidFill>
              <a:round/>
            </a:ln>
          </p:spPr>
        </p:cxnSp>
        <p:cxnSp>
          <p:nvCxnSpPr>
            <p:cNvPr id="42" name="直接连接符 330"/>
            <p:cNvCxnSpPr/>
            <p:nvPr/>
          </p:nvCxnSpPr>
          <p:spPr>
            <a:xfrm>
              <a:off x="8270280" y="1439640"/>
              <a:ext cx="360" cy="360720"/>
            </a:xfrm>
            <a:prstGeom prst="straightConnector1">
              <a:avLst/>
            </a:prstGeom>
            <a:ln w="3175">
              <a:solidFill>
                <a:srgbClr val="ffffff">
                  <a:lumMod val="85000"/>
                </a:srgbClr>
              </a:solidFill>
              <a:round/>
            </a:ln>
          </p:spPr>
        </p:cxnSp>
        <p:cxnSp>
          <p:nvCxnSpPr>
            <p:cNvPr id="43" name="直接连接符 331"/>
            <p:cNvCxnSpPr/>
            <p:nvPr/>
          </p:nvCxnSpPr>
          <p:spPr>
            <a:xfrm>
              <a:off x="8629920" y="1439640"/>
              <a:ext cx="360" cy="360720"/>
            </a:xfrm>
            <a:prstGeom prst="straightConnector1">
              <a:avLst/>
            </a:prstGeom>
            <a:ln w="3175">
              <a:solidFill>
                <a:srgbClr val="ffffff">
                  <a:lumMod val="85000"/>
                </a:srgbClr>
              </a:solidFill>
              <a:round/>
            </a:ln>
          </p:spPr>
        </p:cxnSp>
        <p:cxnSp>
          <p:nvCxnSpPr>
            <p:cNvPr id="44" name="直接连接符 332"/>
            <p:cNvCxnSpPr/>
            <p:nvPr/>
          </p:nvCxnSpPr>
          <p:spPr>
            <a:xfrm>
              <a:off x="8989200" y="1439640"/>
              <a:ext cx="360" cy="360720"/>
            </a:xfrm>
            <a:prstGeom prst="straightConnector1">
              <a:avLst/>
            </a:prstGeom>
            <a:ln w="3175">
              <a:solidFill>
                <a:srgbClr val="ffffff">
                  <a:lumMod val="85000"/>
                </a:srgbClr>
              </a:solidFill>
              <a:round/>
            </a:ln>
          </p:spPr>
        </p:cxnSp>
        <p:cxnSp>
          <p:nvCxnSpPr>
            <p:cNvPr id="45" name="直接连接符 333"/>
            <p:cNvCxnSpPr/>
            <p:nvPr/>
          </p:nvCxnSpPr>
          <p:spPr>
            <a:xfrm>
              <a:off x="9348840" y="1439640"/>
              <a:ext cx="360" cy="360720"/>
            </a:xfrm>
            <a:prstGeom prst="straightConnector1">
              <a:avLst/>
            </a:prstGeom>
            <a:ln w="3175">
              <a:solidFill>
                <a:srgbClr val="ffffff">
                  <a:lumMod val="85000"/>
                </a:srgbClr>
              </a:solidFill>
              <a:round/>
            </a:ln>
          </p:spPr>
        </p:cxnSp>
        <p:cxnSp>
          <p:nvCxnSpPr>
            <p:cNvPr id="46" name="直接连接符 334"/>
            <p:cNvCxnSpPr/>
            <p:nvPr/>
          </p:nvCxnSpPr>
          <p:spPr>
            <a:xfrm>
              <a:off x="9708480" y="1439640"/>
              <a:ext cx="360" cy="360720"/>
            </a:xfrm>
            <a:prstGeom prst="straightConnector1">
              <a:avLst/>
            </a:prstGeom>
            <a:ln w="3175">
              <a:solidFill>
                <a:srgbClr val="ffffff">
                  <a:lumMod val="85000"/>
                </a:srgbClr>
              </a:solidFill>
              <a:round/>
            </a:ln>
          </p:spPr>
        </p:cxnSp>
        <p:cxnSp>
          <p:nvCxnSpPr>
            <p:cNvPr id="47" name="直接连接符 335"/>
            <p:cNvCxnSpPr/>
            <p:nvPr/>
          </p:nvCxnSpPr>
          <p:spPr>
            <a:xfrm>
              <a:off x="10067760" y="1439640"/>
              <a:ext cx="360" cy="360720"/>
            </a:xfrm>
            <a:prstGeom prst="straightConnector1">
              <a:avLst/>
            </a:prstGeom>
            <a:ln w="3175">
              <a:solidFill>
                <a:srgbClr val="ffffff">
                  <a:lumMod val="85000"/>
                </a:srgbClr>
              </a:solidFill>
              <a:round/>
            </a:ln>
          </p:spPr>
        </p:cxnSp>
        <p:cxnSp>
          <p:nvCxnSpPr>
            <p:cNvPr id="48" name="直接连接符 336"/>
            <p:cNvCxnSpPr/>
            <p:nvPr/>
          </p:nvCxnSpPr>
          <p:spPr>
            <a:xfrm>
              <a:off x="10427400" y="1439640"/>
              <a:ext cx="360" cy="360720"/>
            </a:xfrm>
            <a:prstGeom prst="straightConnector1">
              <a:avLst/>
            </a:prstGeom>
            <a:ln w="3175">
              <a:solidFill>
                <a:srgbClr val="ffffff">
                  <a:lumMod val="85000"/>
                </a:srgbClr>
              </a:solidFill>
              <a:round/>
            </a:ln>
          </p:spPr>
        </p:cxnSp>
        <p:cxnSp>
          <p:nvCxnSpPr>
            <p:cNvPr id="49" name="直接连接符 337"/>
            <p:cNvCxnSpPr/>
            <p:nvPr/>
          </p:nvCxnSpPr>
          <p:spPr>
            <a:xfrm>
              <a:off x="10787040" y="1439640"/>
              <a:ext cx="360" cy="360720"/>
            </a:xfrm>
            <a:prstGeom prst="straightConnector1">
              <a:avLst/>
            </a:prstGeom>
            <a:ln w="3175">
              <a:solidFill>
                <a:srgbClr val="ffffff">
                  <a:lumMod val="85000"/>
                </a:srgbClr>
              </a:solidFill>
              <a:round/>
            </a:ln>
          </p:spPr>
        </p:cxnSp>
        <p:cxnSp>
          <p:nvCxnSpPr>
            <p:cNvPr id="50" name="直接连接符 338"/>
            <p:cNvCxnSpPr/>
            <p:nvPr/>
          </p:nvCxnSpPr>
          <p:spPr>
            <a:xfrm>
              <a:off x="720720" y="1979640"/>
              <a:ext cx="360" cy="360720"/>
            </a:xfrm>
            <a:prstGeom prst="straightConnector1">
              <a:avLst/>
            </a:prstGeom>
            <a:ln w="3175">
              <a:solidFill>
                <a:srgbClr val="ffffff">
                  <a:lumMod val="85000"/>
                </a:srgbClr>
              </a:solidFill>
              <a:round/>
            </a:ln>
          </p:spPr>
        </p:cxnSp>
        <p:cxnSp>
          <p:nvCxnSpPr>
            <p:cNvPr id="51" name="直接连接符 339"/>
            <p:cNvCxnSpPr/>
            <p:nvPr/>
          </p:nvCxnSpPr>
          <p:spPr>
            <a:xfrm>
              <a:off x="1080000" y="1979280"/>
              <a:ext cx="360" cy="360720"/>
            </a:xfrm>
            <a:prstGeom prst="straightConnector1">
              <a:avLst/>
            </a:prstGeom>
            <a:ln w="3175">
              <a:solidFill>
                <a:srgbClr val="ffffff">
                  <a:lumMod val="85000"/>
                </a:srgbClr>
              </a:solidFill>
              <a:round/>
            </a:ln>
          </p:spPr>
        </p:cxnSp>
        <p:cxnSp>
          <p:nvCxnSpPr>
            <p:cNvPr id="52" name="直接连接符 340"/>
            <p:cNvCxnSpPr/>
            <p:nvPr/>
          </p:nvCxnSpPr>
          <p:spPr>
            <a:xfrm>
              <a:off x="1439640" y="1979280"/>
              <a:ext cx="360" cy="360720"/>
            </a:xfrm>
            <a:prstGeom prst="straightConnector1">
              <a:avLst/>
            </a:prstGeom>
            <a:ln w="3175">
              <a:solidFill>
                <a:srgbClr val="ffffff">
                  <a:lumMod val="85000"/>
                </a:srgbClr>
              </a:solidFill>
              <a:round/>
            </a:ln>
          </p:spPr>
        </p:cxnSp>
        <p:cxnSp>
          <p:nvCxnSpPr>
            <p:cNvPr id="53" name="直接连接符 341"/>
            <p:cNvCxnSpPr/>
            <p:nvPr/>
          </p:nvCxnSpPr>
          <p:spPr>
            <a:xfrm>
              <a:off x="1798920" y="1979280"/>
              <a:ext cx="360" cy="360720"/>
            </a:xfrm>
            <a:prstGeom prst="straightConnector1">
              <a:avLst/>
            </a:prstGeom>
            <a:ln w="3175">
              <a:solidFill>
                <a:srgbClr val="ffffff">
                  <a:lumMod val="85000"/>
                </a:srgbClr>
              </a:solidFill>
              <a:round/>
            </a:ln>
          </p:spPr>
        </p:cxnSp>
        <p:cxnSp>
          <p:nvCxnSpPr>
            <p:cNvPr id="54" name="直接连接符 342"/>
            <p:cNvCxnSpPr/>
            <p:nvPr/>
          </p:nvCxnSpPr>
          <p:spPr>
            <a:xfrm>
              <a:off x="2158560" y="1979280"/>
              <a:ext cx="360" cy="360720"/>
            </a:xfrm>
            <a:prstGeom prst="straightConnector1">
              <a:avLst/>
            </a:prstGeom>
            <a:ln w="3175">
              <a:solidFill>
                <a:srgbClr val="ffffff">
                  <a:lumMod val="85000"/>
                </a:srgbClr>
              </a:solidFill>
              <a:round/>
            </a:ln>
          </p:spPr>
        </p:cxnSp>
        <p:cxnSp>
          <p:nvCxnSpPr>
            <p:cNvPr id="55" name="直接连接符 343"/>
            <p:cNvCxnSpPr/>
            <p:nvPr/>
          </p:nvCxnSpPr>
          <p:spPr>
            <a:xfrm>
              <a:off x="2518200" y="1979280"/>
              <a:ext cx="360" cy="360720"/>
            </a:xfrm>
            <a:prstGeom prst="straightConnector1">
              <a:avLst/>
            </a:prstGeom>
            <a:ln w="3175">
              <a:solidFill>
                <a:srgbClr val="ffffff">
                  <a:lumMod val="85000"/>
                </a:srgbClr>
              </a:solidFill>
              <a:round/>
            </a:ln>
          </p:spPr>
        </p:cxnSp>
        <p:cxnSp>
          <p:nvCxnSpPr>
            <p:cNvPr id="56" name="直接连接符 344"/>
            <p:cNvCxnSpPr/>
            <p:nvPr/>
          </p:nvCxnSpPr>
          <p:spPr>
            <a:xfrm>
              <a:off x="2877480" y="1979280"/>
              <a:ext cx="360" cy="360720"/>
            </a:xfrm>
            <a:prstGeom prst="straightConnector1">
              <a:avLst/>
            </a:prstGeom>
            <a:ln w="3175">
              <a:solidFill>
                <a:srgbClr val="ffffff">
                  <a:lumMod val="85000"/>
                </a:srgbClr>
              </a:solidFill>
              <a:round/>
            </a:ln>
          </p:spPr>
        </p:cxnSp>
        <p:cxnSp>
          <p:nvCxnSpPr>
            <p:cNvPr id="57" name="直接连接符 345"/>
            <p:cNvCxnSpPr/>
            <p:nvPr/>
          </p:nvCxnSpPr>
          <p:spPr>
            <a:xfrm>
              <a:off x="3237120" y="1979280"/>
              <a:ext cx="360" cy="360720"/>
            </a:xfrm>
            <a:prstGeom prst="straightConnector1">
              <a:avLst/>
            </a:prstGeom>
            <a:ln w="3175">
              <a:solidFill>
                <a:srgbClr val="ffffff">
                  <a:lumMod val="85000"/>
                </a:srgbClr>
              </a:solidFill>
              <a:round/>
            </a:ln>
          </p:spPr>
        </p:cxnSp>
        <p:cxnSp>
          <p:nvCxnSpPr>
            <p:cNvPr id="58" name="直接连接符 346"/>
            <p:cNvCxnSpPr/>
            <p:nvPr/>
          </p:nvCxnSpPr>
          <p:spPr>
            <a:xfrm>
              <a:off x="3596760" y="1979280"/>
              <a:ext cx="360" cy="360720"/>
            </a:xfrm>
            <a:prstGeom prst="straightConnector1">
              <a:avLst/>
            </a:prstGeom>
            <a:ln w="3175">
              <a:solidFill>
                <a:srgbClr val="ffffff">
                  <a:lumMod val="85000"/>
                </a:srgbClr>
              </a:solidFill>
              <a:round/>
            </a:ln>
          </p:spPr>
        </p:cxnSp>
        <p:cxnSp>
          <p:nvCxnSpPr>
            <p:cNvPr id="59" name="直接连接符 347"/>
            <p:cNvCxnSpPr/>
            <p:nvPr/>
          </p:nvCxnSpPr>
          <p:spPr>
            <a:xfrm>
              <a:off x="3956040" y="1979280"/>
              <a:ext cx="360" cy="360720"/>
            </a:xfrm>
            <a:prstGeom prst="straightConnector1">
              <a:avLst/>
            </a:prstGeom>
            <a:ln w="3175">
              <a:solidFill>
                <a:srgbClr val="ffffff">
                  <a:lumMod val="85000"/>
                </a:srgbClr>
              </a:solidFill>
              <a:round/>
            </a:ln>
          </p:spPr>
        </p:cxnSp>
        <p:cxnSp>
          <p:nvCxnSpPr>
            <p:cNvPr id="60" name="直接连接符 348"/>
            <p:cNvCxnSpPr/>
            <p:nvPr/>
          </p:nvCxnSpPr>
          <p:spPr>
            <a:xfrm>
              <a:off x="4315680" y="1979280"/>
              <a:ext cx="360" cy="360720"/>
            </a:xfrm>
            <a:prstGeom prst="straightConnector1">
              <a:avLst/>
            </a:prstGeom>
            <a:ln w="3175">
              <a:solidFill>
                <a:srgbClr val="ffffff">
                  <a:lumMod val="85000"/>
                </a:srgbClr>
              </a:solidFill>
              <a:round/>
            </a:ln>
          </p:spPr>
        </p:cxnSp>
        <p:cxnSp>
          <p:nvCxnSpPr>
            <p:cNvPr id="61" name="直接连接符 349"/>
            <p:cNvCxnSpPr/>
            <p:nvPr/>
          </p:nvCxnSpPr>
          <p:spPr>
            <a:xfrm>
              <a:off x="4675320" y="1979280"/>
              <a:ext cx="360" cy="360720"/>
            </a:xfrm>
            <a:prstGeom prst="straightConnector1">
              <a:avLst/>
            </a:prstGeom>
            <a:ln w="3175">
              <a:solidFill>
                <a:srgbClr val="ffffff">
                  <a:lumMod val="85000"/>
                </a:srgbClr>
              </a:solidFill>
              <a:round/>
            </a:ln>
          </p:spPr>
        </p:cxnSp>
        <p:cxnSp>
          <p:nvCxnSpPr>
            <p:cNvPr id="62" name="直接连接符 350"/>
            <p:cNvCxnSpPr/>
            <p:nvPr/>
          </p:nvCxnSpPr>
          <p:spPr>
            <a:xfrm>
              <a:off x="5034600" y="1979280"/>
              <a:ext cx="360" cy="360720"/>
            </a:xfrm>
            <a:prstGeom prst="straightConnector1">
              <a:avLst/>
            </a:prstGeom>
            <a:ln w="3175">
              <a:solidFill>
                <a:srgbClr val="ffffff">
                  <a:lumMod val="85000"/>
                </a:srgbClr>
              </a:solidFill>
              <a:round/>
            </a:ln>
          </p:spPr>
        </p:cxnSp>
        <p:cxnSp>
          <p:nvCxnSpPr>
            <p:cNvPr id="63" name="直接连接符 351"/>
            <p:cNvCxnSpPr/>
            <p:nvPr/>
          </p:nvCxnSpPr>
          <p:spPr>
            <a:xfrm>
              <a:off x="5394240" y="1979280"/>
              <a:ext cx="360" cy="360720"/>
            </a:xfrm>
            <a:prstGeom prst="straightConnector1">
              <a:avLst/>
            </a:prstGeom>
            <a:ln w="3175">
              <a:solidFill>
                <a:srgbClr val="ffffff">
                  <a:lumMod val="85000"/>
                </a:srgbClr>
              </a:solidFill>
              <a:round/>
            </a:ln>
          </p:spPr>
        </p:cxnSp>
        <p:cxnSp>
          <p:nvCxnSpPr>
            <p:cNvPr id="64" name="直接连接符 352"/>
            <p:cNvCxnSpPr/>
            <p:nvPr/>
          </p:nvCxnSpPr>
          <p:spPr>
            <a:xfrm>
              <a:off x="5753880" y="1979280"/>
              <a:ext cx="360" cy="360720"/>
            </a:xfrm>
            <a:prstGeom prst="straightConnector1">
              <a:avLst/>
            </a:prstGeom>
            <a:ln w="3175">
              <a:solidFill>
                <a:srgbClr val="ffffff">
                  <a:lumMod val="85000"/>
                </a:srgbClr>
              </a:solidFill>
              <a:round/>
            </a:ln>
          </p:spPr>
        </p:cxnSp>
        <p:cxnSp>
          <p:nvCxnSpPr>
            <p:cNvPr id="65" name="直接连接符 353"/>
            <p:cNvCxnSpPr/>
            <p:nvPr/>
          </p:nvCxnSpPr>
          <p:spPr>
            <a:xfrm>
              <a:off x="6113160" y="1979280"/>
              <a:ext cx="360" cy="360720"/>
            </a:xfrm>
            <a:prstGeom prst="straightConnector1">
              <a:avLst/>
            </a:prstGeom>
            <a:ln w="3175">
              <a:solidFill>
                <a:srgbClr val="ffffff">
                  <a:lumMod val="85000"/>
                </a:srgbClr>
              </a:solidFill>
              <a:round/>
            </a:ln>
          </p:spPr>
        </p:cxnSp>
        <p:cxnSp>
          <p:nvCxnSpPr>
            <p:cNvPr id="66" name="直接连接符 354"/>
            <p:cNvCxnSpPr/>
            <p:nvPr/>
          </p:nvCxnSpPr>
          <p:spPr>
            <a:xfrm>
              <a:off x="6472800" y="1979280"/>
              <a:ext cx="360" cy="360720"/>
            </a:xfrm>
            <a:prstGeom prst="straightConnector1">
              <a:avLst/>
            </a:prstGeom>
            <a:ln w="3175">
              <a:solidFill>
                <a:srgbClr val="ffffff">
                  <a:lumMod val="85000"/>
                </a:srgbClr>
              </a:solidFill>
              <a:round/>
            </a:ln>
          </p:spPr>
        </p:cxnSp>
        <p:cxnSp>
          <p:nvCxnSpPr>
            <p:cNvPr id="67" name="直接连接符 355"/>
            <p:cNvCxnSpPr/>
            <p:nvPr/>
          </p:nvCxnSpPr>
          <p:spPr>
            <a:xfrm>
              <a:off x="6832080" y="1979280"/>
              <a:ext cx="360" cy="360720"/>
            </a:xfrm>
            <a:prstGeom prst="straightConnector1">
              <a:avLst/>
            </a:prstGeom>
            <a:ln w="3175">
              <a:solidFill>
                <a:srgbClr val="ffffff">
                  <a:lumMod val="85000"/>
                </a:srgbClr>
              </a:solidFill>
              <a:round/>
            </a:ln>
          </p:spPr>
        </p:cxnSp>
        <p:cxnSp>
          <p:nvCxnSpPr>
            <p:cNvPr id="68" name="直接连接符 356"/>
            <p:cNvCxnSpPr/>
            <p:nvPr/>
          </p:nvCxnSpPr>
          <p:spPr>
            <a:xfrm>
              <a:off x="7191720" y="1979280"/>
              <a:ext cx="360" cy="360720"/>
            </a:xfrm>
            <a:prstGeom prst="straightConnector1">
              <a:avLst/>
            </a:prstGeom>
            <a:ln w="3175">
              <a:solidFill>
                <a:srgbClr val="ffffff">
                  <a:lumMod val="85000"/>
                </a:srgbClr>
              </a:solidFill>
              <a:round/>
            </a:ln>
          </p:spPr>
        </p:cxnSp>
        <p:cxnSp>
          <p:nvCxnSpPr>
            <p:cNvPr id="69" name="直接连接符 357"/>
            <p:cNvCxnSpPr/>
            <p:nvPr/>
          </p:nvCxnSpPr>
          <p:spPr>
            <a:xfrm>
              <a:off x="7551360" y="1979280"/>
              <a:ext cx="360" cy="360720"/>
            </a:xfrm>
            <a:prstGeom prst="straightConnector1">
              <a:avLst/>
            </a:prstGeom>
            <a:ln w="3175">
              <a:solidFill>
                <a:srgbClr val="ffffff">
                  <a:lumMod val="85000"/>
                </a:srgbClr>
              </a:solidFill>
              <a:round/>
            </a:ln>
          </p:spPr>
        </p:cxnSp>
        <p:cxnSp>
          <p:nvCxnSpPr>
            <p:cNvPr id="70" name="直接连接符 358"/>
            <p:cNvCxnSpPr/>
            <p:nvPr/>
          </p:nvCxnSpPr>
          <p:spPr>
            <a:xfrm>
              <a:off x="7910640" y="1979280"/>
              <a:ext cx="360" cy="360720"/>
            </a:xfrm>
            <a:prstGeom prst="straightConnector1">
              <a:avLst/>
            </a:prstGeom>
            <a:ln w="3175">
              <a:solidFill>
                <a:srgbClr val="ffffff">
                  <a:lumMod val="85000"/>
                </a:srgbClr>
              </a:solidFill>
              <a:round/>
            </a:ln>
          </p:spPr>
        </p:cxnSp>
        <p:cxnSp>
          <p:nvCxnSpPr>
            <p:cNvPr id="71" name="直接连接符 359"/>
            <p:cNvCxnSpPr/>
            <p:nvPr/>
          </p:nvCxnSpPr>
          <p:spPr>
            <a:xfrm>
              <a:off x="8270280" y="1979280"/>
              <a:ext cx="360" cy="360720"/>
            </a:xfrm>
            <a:prstGeom prst="straightConnector1">
              <a:avLst/>
            </a:prstGeom>
            <a:ln w="3175">
              <a:solidFill>
                <a:srgbClr val="ffffff">
                  <a:lumMod val="85000"/>
                </a:srgbClr>
              </a:solidFill>
              <a:round/>
            </a:ln>
          </p:spPr>
        </p:cxnSp>
        <p:cxnSp>
          <p:nvCxnSpPr>
            <p:cNvPr id="72" name="直接连接符 360"/>
            <p:cNvCxnSpPr/>
            <p:nvPr/>
          </p:nvCxnSpPr>
          <p:spPr>
            <a:xfrm>
              <a:off x="8629920" y="1979280"/>
              <a:ext cx="360" cy="360720"/>
            </a:xfrm>
            <a:prstGeom prst="straightConnector1">
              <a:avLst/>
            </a:prstGeom>
            <a:ln w="3175">
              <a:solidFill>
                <a:srgbClr val="ffffff">
                  <a:lumMod val="85000"/>
                </a:srgbClr>
              </a:solidFill>
              <a:round/>
            </a:ln>
          </p:spPr>
        </p:cxnSp>
        <p:cxnSp>
          <p:nvCxnSpPr>
            <p:cNvPr id="73" name="直接连接符 361"/>
            <p:cNvCxnSpPr/>
            <p:nvPr/>
          </p:nvCxnSpPr>
          <p:spPr>
            <a:xfrm>
              <a:off x="8989200" y="1979280"/>
              <a:ext cx="360" cy="360720"/>
            </a:xfrm>
            <a:prstGeom prst="straightConnector1">
              <a:avLst/>
            </a:prstGeom>
            <a:ln w="3175">
              <a:solidFill>
                <a:srgbClr val="ffffff">
                  <a:lumMod val="85000"/>
                </a:srgbClr>
              </a:solidFill>
              <a:round/>
            </a:ln>
          </p:spPr>
        </p:cxnSp>
        <p:cxnSp>
          <p:nvCxnSpPr>
            <p:cNvPr id="74" name="直接连接符 362"/>
            <p:cNvCxnSpPr/>
            <p:nvPr/>
          </p:nvCxnSpPr>
          <p:spPr>
            <a:xfrm>
              <a:off x="9348840" y="1979280"/>
              <a:ext cx="360" cy="360720"/>
            </a:xfrm>
            <a:prstGeom prst="straightConnector1">
              <a:avLst/>
            </a:prstGeom>
            <a:ln w="3175">
              <a:solidFill>
                <a:srgbClr val="ffffff">
                  <a:lumMod val="85000"/>
                </a:srgbClr>
              </a:solidFill>
              <a:round/>
            </a:ln>
          </p:spPr>
        </p:cxnSp>
        <p:cxnSp>
          <p:nvCxnSpPr>
            <p:cNvPr id="75" name="直接连接符 363"/>
            <p:cNvCxnSpPr/>
            <p:nvPr/>
          </p:nvCxnSpPr>
          <p:spPr>
            <a:xfrm>
              <a:off x="9708480" y="1979280"/>
              <a:ext cx="360" cy="360720"/>
            </a:xfrm>
            <a:prstGeom prst="straightConnector1">
              <a:avLst/>
            </a:prstGeom>
            <a:ln w="3175">
              <a:solidFill>
                <a:srgbClr val="ffffff">
                  <a:lumMod val="85000"/>
                </a:srgbClr>
              </a:solidFill>
              <a:round/>
            </a:ln>
          </p:spPr>
        </p:cxnSp>
        <p:cxnSp>
          <p:nvCxnSpPr>
            <p:cNvPr id="76" name="直接连接符 364"/>
            <p:cNvCxnSpPr/>
            <p:nvPr/>
          </p:nvCxnSpPr>
          <p:spPr>
            <a:xfrm>
              <a:off x="10067760" y="1979280"/>
              <a:ext cx="360" cy="360720"/>
            </a:xfrm>
            <a:prstGeom prst="straightConnector1">
              <a:avLst/>
            </a:prstGeom>
            <a:ln w="3175">
              <a:solidFill>
                <a:srgbClr val="ffffff">
                  <a:lumMod val="85000"/>
                </a:srgbClr>
              </a:solidFill>
              <a:round/>
            </a:ln>
          </p:spPr>
        </p:cxnSp>
        <p:cxnSp>
          <p:nvCxnSpPr>
            <p:cNvPr id="77" name="直接连接符 365"/>
            <p:cNvCxnSpPr/>
            <p:nvPr/>
          </p:nvCxnSpPr>
          <p:spPr>
            <a:xfrm>
              <a:off x="10427400" y="1979280"/>
              <a:ext cx="360" cy="360720"/>
            </a:xfrm>
            <a:prstGeom prst="straightConnector1">
              <a:avLst/>
            </a:prstGeom>
            <a:ln w="3175">
              <a:solidFill>
                <a:srgbClr val="ffffff">
                  <a:lumMod val="85000"/>
                </a:srgbClr>
              </a:solidFill>
              <a:round/>
            </a:ln>
          </p:spPr>
        </p:cxnSp>
        <p:cxnSp>
          <p:nvCxnSpPr>
            <p:cNvPr id="78" name="直接连接符 366"/>
            <p:cNvCxnSpPr/>
            <p:nvPr/>
          </p:nvCxnSpPr>
          <p:spPr>
            <a:xfrm>
              <a:off x="10787040" y="1979280"/>
              <a:ext cx="360" cy="360720"/>
            </a:xfrm>
            <a:prstGeom prst="straightConnector1">
              <a:avLst/>
            </a:prstGeom>
            <a:ln w="3175">
              <a:solidFill>
                <a:srgbClr val="ffffff">
                  <a:lumMod val="85000"/>
                </a:srgbClr>
              </a:solidFill>
              <a:round/>
            </a:ln>
          </p:spPr>
        </p:cxnSp>
        <p:cxnSp>
          <p:nvCxnSpPr>
            <p:cNvPr id="79" name="直接连接符 367"/>
            <p:cNvCxnSpPr/>
            <p:nvPr/>
          </p:nvCxnSpPr>
          <p:spPr>
            <a:xfrm>
              <a:off x="720720" y="2519640"/>
              <a:ext cx="360" cy="360720"/>
            </a:xfrm>
            <a:prstGeom prst="straightConnector1">
              <a:avLst/>
            </a:prstGeom>
            <a:ln w="3175">
              <a:solidFill>
                <a:srgbClr val="ffffff">
                  <a:lumMod val="85000"/>
                </a:srgbClr>
              </a:solidFill>
              <a:round/>
            </a:ln>
          </p:spPr>
        </p:cxnSp>
        <p:cxnSp>
          <p:nvCxnSpPr>
            <p:cNvPr id="80" name="直接连接符 368"/>
            <p:cNvCxnSpPr/>
            <p:nvPr/>
          </p:nvCxnSpPr>
          <p:spPr>
            <a:xfrm>
              <a:off x="1080000" y="2519280"/>
              <a:ext cx="360" cy="360720"/>
            </a:xfrm>
            <a:prstGeom prst="straightConnector1">
              <a:avLst/>
            </a:prstGeom>
            <a:ln w="3175">
              <a:solidFill>
                <a:srgbClr val="ffffff">
                  <a:lumMod val="85000"/>
                </a:srgbClr>
              </a:solidFill>
              <a:round/>
            </a:ln>
          </p:spPr>
        </p:cxnSp>
        <p:cxnSp>
          <p:nvCxnSpPr>
            <p:cNvPr id="81" name="直接连接符 369"/>
            <p:cNvCxnSpPr/>
            <p:nvPr/>
          </p:nvCxnSpPr>
          <p:spPr>
            <a:xfrm>
              <a:off x="1439640" y="2519280"/>
              <a:ext cx="360" cy="360720"/>
            </a:xfrm>
            <a:prstGeom prst="straightConnector1">
              <a:avLst/>
            </a:prstGeom>
            <a:ln w="3175">
              <a:solidFill>
                <a:srgbClr val="ffffff">
                  <a:lumMod val="85000"/>
                </a:srgbClr>
              </a:solidFill>
              <a:round/>
            </a:ln>
          </p:spPr>
        </p:cxnSp>
        <p:cxnSp>
          <p:nvCxnSpPr>
            <p:cNvPr id="82" name="直接连接符 370"/>
            <p:cNvCxnSpPr/>
            <p:nvPr/>
          </p:nvCxnSpPr>
          <p:spPr>
            <a:xfrm>
              <a:off x="1798920" y="2519280"/>
              <a:ext cx="360" cy="360720"/>
            </a:xfrm>
            <a:prstGeom prst="straightConnector1">
              <a:avLst/>
            </a:prstGeom>
            <a:ln w="3175">
              <a:solidFill>
                <a:srgbClr val="ffffff">
                  <a:lumMod val="85000"/>
                </a:srgbClr>
              </a:solidFill>
              <a:round/>
            </a:ln>
          </p:spPr>
        </p:cxnSp>
        <p:cxnSp>
          <p:nvCxnSpPr>
            <p:cNvPr id="83" name="直接连接符 371"/>
            <p:cNvCxnSpPr/>
            <p:nvPr/>
          </p:nvCxnSpPr>
          <p:spPr>
            <a:xfrm>
              <a:off x="2158560" y="2519280"/>
              <a:ext cx="360" cy="360720"/>
            </a:xfrm>
            <a:prstGeom prst="straightConnector1">
              <a:avLst/>
            </a:prstGeom>
            <a:ln w="3175">
              <a:solidFill>
                <a:srgbClr val="ffffff">
                  <a:lumMod val="85000"/>
                </a:srgbClr>
              </a:solidFill>
              <a:round/>
            </a:ln>
          </p:spPr>
        </p:cxnSp>
        <p:cxnSp>
          <p:nvCxnSpPr>
            <p:cNvPr id="84" name="直接连接符 372"/>
            <p:cNvCxnSpPr/>
            <p:nvPr/>
          </p:nvCxnSpPr>
          <p:spPr>
            <a:xfrm>
              <a:off x="2518200" y="2519280"/>
              <a:ext cx="360" cy="360720"/>
            </a:xfrm>
            <a:prstGeom prst="straightConnector1">
              <a:avLst/>
            </a:prstGeom>
            <a:ln w="3175">
              <a:solidFill>
                <a:srgbClr val="ffffff">
                  <a:lumMod val="85000"/>
                </a:srgbClr>
              </a:solidFill>
              <a:round/>
            </a:ln>
          </p:spPr>
        </p:cxnSp>
        <p:cxnSp>
          <p:nvCxnSpPr>
            <p:cNvPr id="85" name="直接连接符 373"/>
            <p:cNvCxnSpPr/>
            <p:nvPr/>
          </p:nvCxnSpPr>
          <p:spPr>
            <a:xfrm>
              <a:off x="2877480" y="2519280"/>
              <a:ext cx="360" cy="360720"/>
            </a:xfrm>
            <a:prstGeom prst="straightConnector1">
              <a:avLst/>
            </a:prstGeom>
            <a:ln w="3175">
              <a:solidFill>
                <a:srgbClr val="ffffff">
                  <a:lumMod val="85000"/>
                </a:srgbClr>
              </a:solidFill>
              <a:round/>
            </a:ln>
          </p:spPr>
        </p:cxnSp>
        <p:cxnSp>
          <p:nvCxnSpPr>
            <p:cNvPr id="86" name="直接连接符 374"/>
            <p:cNvCxnSpPr/>
            <p:nvPr/>
          </p:nvCxnSpPr>
          <p:spPr>
            <a:xfrm>
              <a:off x="3237120" y="2519280"/>
              <a:ext cx="360" cy="360720"/>
            </a:xfrm>
            <a:prstGeom prst="straightConnector1">
              <a:avLst/>
            </a:prstGeom>
            <a:ln w="3175">
              <a:solidFill>
                <a:srgbClr val="ffffff">
                  <a:lumMod val="85000"/>
                </a:srgbClr>
              </a:solidFill>
              <a:round/>
            </a:ln>
          </p:spPr>
        </p:cxnSp>
        <p:cxnSp>
          <p:nvCxnSpPr>
            <p:cNvPr id="87" name="直接连接符 375"/>
            <p:cNvCxnSpPr/>
            <p:nvPr/>
          </p:nvCxnSpPr>
          <p:spPr>
            <a:xfrm>
              <a:off x="3596760" y="2519280"/>
              <a:ext cx="360" cy="360720"/>
            </a:xfrm>
            <a:prstGeom prst="straightConnector1">
              <a:avLst/>
            </a:prstGeom>
            <a:ln w="3175">
              <a:solidFill>
                <a:srgbClr val="ffffff">
                  <a:lumMod val="85000"/>
                </a:srgbClr>
              </a:solidFill>
              <a:round/>
            </a:ln>
          </p:spPr>
        </p:cxnSp>
        <p:cxnSp>
          <p:nvCxnSpPr>
            <p:cNvPr id="88" name="直接连接符 376"/>
            <p:cNvCxnSpPr/>
            <p:nvPr/>
          </p:nvCxnSpPr>
          <p:spPr>
            <a:xfrm>
              <a:off x="3956040" y="2519280"/>
              <a:ext cx="360" cy="360720"/>
            </a:xfrm>
            <a:prstGeom prst="straightConnector1">
              <a:avLst/>
            </a:prstGeom>
            <a:ln w="3175">
              <a:solidFill>
                <a:srgbClr val="ffffff">
                  <a:lumMod val="85000"/>
                </a:srgbClr>
              </a:solidFill>
              <a:round/>
            </a:ln>
          </p:spPr>
        </p:cxnSp>
        <p:cxnSp>
          <p:nvCxnSpPr>
            <p:cNvPr id="89" name="直接连接符 377"/>
            <p:cNvCxnSpPr/>
            <p:nvPr/>
          </p:nvCxnSpPr>
          <p:spPr>
            <a:xfrm>
              <a:off x="4315680" y="2519280"/>
              <a:ext cx="360" cy="360720"/>
            </a:xfrm>
            <a:prstGeom prst="straightConnector1">
              <a:avLst/>
            </a:prstGeom>
            <a:ln w="3175">
              <a:solidFill>
                <a:srgbClr val="ffffff">
                  <a:lumMod val="85000"/>
                </a:srgbClr>
              </a:solidFill>
              <a:round/>
            </a:ln>
          </p:spPr>
        </p:cxnSp>
        <p:cxnSp>
          <p:nvCxnSpPr>
            <p:cNvPr id="90" name="直接连接符 378"/>
            <p:cNvCxnSpPr/>
            <p:nvPr/>
          </p:nvCxnSpPr>
          <p:spPr>
            <a:xfrm>
              <a:off x="4675320" y="2519280"/>
              <a:ext cx="360" cy="360720"/>
            </a:xfrm>
            <a:prstGeom prst="straightConnector1">
              <a:avLst/>
            </a:prstGeom>
            <a:ln w="3175">
              <a:solidFill>
                <a:srgbClr val="ffffff">
                  <a:lumMod val="85000"/>
                </a:srgbClr>
              </a:solidFill>
              <a:round/>
            </a:ln>
          </p:spPr>
        </p:cxnSp>
        <p:cxnSp>
          <p:nvCxnSpPr>
            <p:cNvPr id="91" name="直接连接符 379"/>
            <p:cNvCxnSpPr/>
            <p:nvPr/>
          </p:nvCxnSpPr>
          <p:spPr>
            <a:xfrm>
              <a:off x="5034600" y="2519280"/>
              <a:ext cx="360" cy="360720"/>
            </a:xfrm>
            <a:prstGeom prst="straightConnector1">
              <a:avLst/>
            </a:prstGeom>
            <a:ln w="3175">
              <a:solidFill>
                <a:srgbClr val="ffffff">
                  <a:lumMod val="85000"/>
                </a:srgbClr>
              </a:solidFill>
              <a:round/>
            </a:ln>
          </p:spPr>
        </p:cxnSp>
        <p:cxnSp>
          <p:nvCxnSpPr>
            <p:cNvPr id="92" name="直接连接符 380"/>
            <p:cNvCxnSpPr/>
            <p:nvPr/>
          </p:nvCxnSpPr>
          <p:spPr>
            <a:xfrm>
              <a:off x="5394240" y="2519280"/>
              <a:ext cx="360" cy="360720"/>
            </a:xfrm>
            <a:prstGeom prst="straightConnector1">
              <a:avLst/>
            </a:prstGeom>
            <a:ln w="3175">
              <a:solidFill>
                <a:srgbClr val="ffffff">
                  <a:lumMod val="85000"/>
                </a:srgbClr>
              </a:solidFill>
              <a:round/>
            </a:ln>
          </p:spPr>
        </p:cxnSp>
        <p:cxnSp>
          <p:nvCxnSpPr>
            <p:cNvPr id="93" name="直接连接符 381"/>
            <p:cNvCxnSpPr/>
            <p:nvPr/>
          </p:nvCxnSpPr>
          <p:spPr>
            <a:xfrm>
              <a:off x="5753880" y="2519280"/>
              <a:ext cx="360" cy="360720"/>
            </a:xfrm>
            <a:prstGeom prst="straightConnector1">
              <a:avLst/>
            </a:prstGeom>
            <a:ln w="3175">
              <a:solidFill>
                <a:srgbClr val="ffffff">
                  <a:lumMod val="85000"/>
                </a:srgbClr>
              </a:solidFill>
              <a:round/>
            </a:ln>
          </p:spPr>
        </p:cxnSp>
        <p:cxnSp>
          <p:nvCxnSpPr>
            <p:cNvPr id="94" name="直接连接符 382"/>
            <p:cNvCxnSpPr/>
            <p:nvPr/>
          </p:nvCxnSpPr>
          <p:spPr>
            <a:xfrm>
              <a:off x="6113160" y="2519280"/>
              <a:ext cx="360" cy="360720"/>
            </a:xfrm>
            <a:prstGeom prst="straightConnector1">
              <a:avLst/>
            </a:prstGeom>
            <a:ln w="3175">
              <a:solidFill>
                <a:srgbClr val="ffffff">
                  <a:lumMod val="85000"/>
                </a:srgbClr>
              </a:solidFill>
              <a:round/>
            </a:ln>
          </p:spPr>
        </p:cxnSp>
        <p:cxnSp>
          <p:nvCxnSpPr>
            <p:cNvPr id="95" name="直接连接符 383"/>
            <p:cNvCxnSpPr/>
            <p:nvPr/>
          </p:nvCxnSpPr>
          <p:spPr>
            <a:xfrm>
              <a:off x="6472800" y="2519280"/>
              <a:ext cx="360" cy="360720"/>
            </a:xfrm>
            <a:prstGeom prst="straightConnector1">
              <a:avLst/>
            </a:prstGeom>
            <a:ln w="3175">
              <a:solidFill>
                <a:srgbClr val="ffffff">
                  <a:lumMod val="85000"/>
                </a:srgbClr>
              </a:solidFill>
              <a:round/>
            </a:ln>
          </p:spPr>
        </p:cxnSp>
        <p:cxnSp>
          <p:nvCxnSpPr>
            <p:cNvPr id="96" name="直接连接符 384"/>
            <p:cNvCxnSpPr/>
            <p:nvPr/>
          </p:nvCxnSpPr>
          <p:spPr>
            <a:xfrm>
              <a:off x="6832080" y="2519280"/>
              <a:ext cx="360" cy="360720"/>
            </a:xfrm>
            <a:prstGeom prst="straightConnector1">
              <a:avLst/>
            </a:prstGeom>
            <a:ln w="3175">
              <a:solidFill>
                <a:srgbClr val="ffffff">
                  <a:lumMod val="85000"/>
                </a:srgbClr>
              </a:solidFill>
              <a:round/>
            </a:ln>
          </p:spPr>
        </p:cxnSp>
        <p:cxnSp>
          <p:nvCxnSpPr>
            <p:cNvPr id="97" name="直接连接符 385"/>
            <p:cNvCxnSpPr/>
            <p:nvPr/>
          </p:nvCxnSpPr>
          <p:spPr>
            <a:xfrm>
              <a:off x="7191720" y="2519280"/>
              <a:ext cx="360" cy="360720"/>
            </a:xfrm>
            <a:prstGeom prst="straightConnector1">
              <a:avLst/>
            </a:prstGeom>
            <a:ln w="3175">
              <a:solidFill>
                <a:srgbClr val="ffffff">
                  <a:lumMod val="85000"/>
                </a:srgbClr>
              </a:solidFill>
              <a:round/>
            </a:ln>
          </p:spPr>
        </p:cxnSp>
        <p:cxnSp>
          <p:nvCxnSpPr>
            <p:cNvPr id="98" name="直接连接符 386"/>
            <p:cNvCxnSpPr/>
            <p:nvPr/>
          </p:nvCxnSpPr>
          <p:spPr>
            <a:xfrm>
              <a:off x="7551360" y="2519280"/>
              <a:ext cx="360" cy="360720"/>
            </a:xfrm>
            <a:prstGeom prst="straightConnector1">
              <a:avLst/>
            </a:prstGeom>
            <a:ln w="3175">
              <a:solidFill>
                <a:srgbClr val="ffffff">
                  <a:lumMod val="85000"/>
                </a:srgbClr>
              </a:solidFill>
              <a:round/>
            </a:ln>
          </p:spPr>
        </p:cxnSp>
        <p:cxnSp>
          <p:nvCxnSpPr>
            <p:cNvPr id="99" name="直接连接符 387"/>
            <p:cNvCxnSpPr/>
            <p:nvPr/>
          </p:nvCxnSpPr>
          <p:spPr>
            <a:xfrm>
              <a:off x="7910640" y="2519280"/>
              <a:ext cx="360" cy="360720"/>
            </a:xfrm>
            <a:prstGeom prst="straightConnector1">
              <a:avLst/>
            </a:prstGeom>
            <a:ln w="3175">
              <a:solidFill>
                <a:srgbClr val="ffffff">
                  <a:lumMod val="85000"/>
                </a:srgbClr>
              </a:solidFill>
              <a:round/>
            </a:ln>
          </p:spPr>
        </p:cxnSp>
        <p:cxnSp>
          <p:nvCxnSpPr>
            <p:cNvPr id="100" name="直接连接符 388"/>
            <p:cNvCxnSpPr/>
            <p:nvPr/>
          </p:nvCxnSpPr>
          <p:spPr>
            <a:xfrm>
              <a:off x="8270280" y="2519280"/>
              <a:ext cx="360" cy="360720"/>
            </a:xfrm>
            <a:prstGeom prst="straightConnector1">
              <a:avLst/>
            </a:prstGeom>
            <a:ln w="3175">
              <a:solidFill>
                <a:srgbClr val="ffffff">
                  <a:lumMod val="85000"/>
                </a:srgbClr>
              </a:solidFill>
              <a:round/>
            </a:ln>
          </p:spPr>
        </p:cxnSp>
        <p:cxnSp>
          <p:nvCxnSpPr>
            <p:cNvPr id="101" name="直接连接符 389"/>
            <p:cNvCxnSpPr/>
            <p:nvPr/>
          </p:nvCxnSpPr>
          <p:spPr>
            <a:xfrm>
              <a:off x="8629920" y="2519280"/>
              <a:ext cx="360" cy="360720"/>
            </a:xfrm>
            <a:prstGeom prst="straightConnector1">
              <a:avLst/>
            </a:prstGeom>
            <a:ln w="3175">
              <a:solidFill>
                <a:srgbClr val="ffffff">
                  <a:lumMod val="85000"/>
                </a:srgbClr>
              </a:solidFill>
              <a:round/>
            </a:ln>
          </p:spPr>
        </p:cxnSp>
        <p:cxnSp>
          <p:nvCxnSpPr>
            <p:cNvPr id="102" name="直接连接符 390"/>
            <p:cNvCxnSpPr/>
            <p:nvPr/>
          </p:nvCxnSpPr>
          <p:spPr>
            <a:xfrm>
              <a:off x="8989200" y="2519280"/>
              <a:ext cx="360" cy="360720"/>
            </a:xfrm>
            <a:prstGeom prst="straightConnector1">
              <a:avLst/>
            </a:prstGeom>
            <a:ln w="3175">
              <a:solidFill>
                <a:srgbClr val="ffffff">
                  <a:lumMod val="85000"/>
                </a:srgbClr>
              </a:solidFill>
              <a:round/>
            </a:ln>
          </p:spPr>
        </p:cxnSp>
        <p:cxnSp>
          <p:nvCxnSpPr>
            <p:cNvPr id="103" name="直接连接符 391"/>
            <p:cNvCxnSpPr/>
            <p:nvPr/>
          </p:nvCxnSpPr>
          <p:spPr>
            <a:xfrm>
              <a:off x="9348840" y="2519280"/>
              <a:ext cx="360" cy="360720"/>
            </a:xfrm>
            <a:prstGeom prst="straightConnector1">
              <a:avLst/>
            </a:prstGeom>
            <a:ln w="3175">
              <a:solidFill>
                <a:srgbClr val="ffffff">
                  <a:lumMod val="85000"/>
                </a:srgbClr>
              </a:solidFill>
              <a:round/>
            </a:ln>
          </p:spPr>
        </p:cxnSp>
        <p:cxnSp>
          <p:nvCxnSpPr>
            <p:cNvPr id="104" name="直接连接符 392"/>
            <p:cNvCxnSpPr/>
            <p:nvPr/>
          </p:nvCxnSpPr>
          <p:spPr>
            <a:xfrm>
              <a:off x="9708480" y="2519280"/>
              <a:ext cx="360" cy="360720"/>
            </a:xfrm>
            <a:prstGeom prst="straightConnector1">
              <a:avLst/>
            </a:prstGeom>
            <a:ln w="3175">
              <a:solidFill>
                <a:srgbClr val="ffffff">
                  <a:lumMod val="85000"/>
                </a:srgbClr>
              </a:solidFill>
              <a:round/>
            </a:ln>
          </p:spPr>
        </p:cxnSp>
        <p:cxnSp>
          <p:nvCxnSpPr>
            <p:cNvPr id="105" name="直接连接符 393"/>
            <p:cNvCxnSpPr/>
            <p:nvPr/>
          </p:nvCxnSpPr>
          <p:spPr>
            <a:xfrm>
              <a:off x="10067760" y="2519280"/>
              <a:ext cx="360" cy="360720"/>
            </a:xfrm>
            <a:prstGeom prst="straightConnector1">
              <a:avLst/>
            </a:prstGeom>
            <a:ln w="3175">
              <a:solidFill>
                <a:srgbClr val="ffffff">
                  <a:lumMod val="85000"/>
                </a:srgbClr>
              </a:solidFill>
              <a:round/>
            </a:ln>
          </p:spPr>
        </p:cxnSp>
        <p:cxnSp>
          <p:nvCxnSpPr>
            <p:cNvPr id="106" name="直接连接符 394"/>
            <p:cNvCxnSpPr/>
            <p:nvPr/>
          </p:nvCxnSpPr>
          <p:spPr>
            <a:xfrm>
              <a:off x="10427400" y="2519280"/>
              <a:ext cx="360" cy="360720"/>
            </a:xfrm>
            <a:prstGeom prst="straightConnector1">
              <a:avLst/>
            </a:prstGeom>
            <a:ln w="3175">
              <a:solidFill>
                <a:srgbClr val="ffffff">
                  <a:lumMod val="85000"/>
                </a:srgbClr>
              </a:solidFill>
              <a:round/>
            </a:ln>
          </p:spPr>
        </p:cxnSp>
        <p:cxnSp>
          <p:nvCxnSpPr>
            <p:cNvPr id="107" name="直接连接符 395"/>
            <p:cNvCxnSpPr/>
            <p:nvPr/>
          </p:nvCxnSpPr>
          <p:spPr>
            <a:xfrm>
              <a:off x="10787040" y="2519280"/>
              <a:ext cx="360" cy="360720"/>
            </a:xfrm>
            <a:prstGeom prst="straightConnector1">
              <a:avLst/>
            </a:prstGeom>
            <a:ln w="3175">
              <a:solidFill>
                <a:srgbClr val="ffffff">
                  <a:lumMod val="85000"/>
                </a:srgbClr>
              </a:solidFill>
              <a:round/>
            </a:ln>
          </p:spPr>
        </p:cxnSp>
        <p:cxnSp>
          <p:nvCxnSpPr>
            <p:cNvPr id="108" name="直接连接符 396"/>
            <p:cNvCxnSpPr/>
            <p:nvPr/>
          </p:nvCxnSpPr>
          <p:spPr>
            <a:xfrm>
              <a:off x="720720" y="3059640"/>
              <a:ext cx="360" cy="360720"/>
            </a:xfrm>
            <a:prstGeom prst="straightConnector1">
              <a:avLst/>
            </a:prstGeom>
            <a:ln w="3175">
              <a:solidFill>
                <a:srgbClr val="ffffff">
                  <a:lumMod val="85000"/>
                </a:srgbClr>
              </a:solidFill>
              <a:round/>
            </a:ln>
          </p:spPr>
        </p:cxnSp>
        <p:cxnSp>
          <p:nvCxnSpPr>
            <p:cNvPr id="109" name="直接连接符 397"/>
            <p:cNvCxnSpPr/>
            <p:nvPr/>
          </p:nvCxnSpPr>
          <p:spPr>
            <a:xfrm>
              <a:off x="1080000" y="3058920"/>
              <a:ext cx="360" cy="360720"/>
            </a:xfrm>
            <a:prstGeom prst="straightConnector1">
              <a:avLst/>
            </a:prstGeom>
            <a:ln w="3175">
              <a:solidFill>
                <a:srgbClr val="ffffff">
                  <a:lumMod val="85000"/>
                </a:srgbClr>
              </a:solidFill>
              <a:round/>
            </a:ln>
          </p:spPr>
        </p:cxnSp>
        <p:cxnSp>
          <p:nvCxnSpPr>
            <p:cNvPr id="110" name="直接连接符 398"/>
            <p:cNvCxnSpPr/>
            <p:nvPr/>
          </p:nvCxnSpPr>
          <p:spPr>
            <a:xfrm>
              <a:off x="1439640" y="3058920"/>
              <a:ext cx="360" cy="360720"/>
            </a:xfrm>
            <a:prstGeom prst="straightConnector1">
              <a:avLst/>
            </a:prstGeom>
            <a:ln w="3175">
              <a:solidFill>
                <a:srgbClr val="ffffff">
                  <a:lumMod val="85000"/>
                </a:srgbClr>
              </a:solidFill>
              <a:round/>
            </a:ln>
          </p:spPr>
        </p:cxnSp>
        <p:cxnSp>
          <p:nvCxnSpPr>
            <p:cNvPr id="111" name="直接连接符 399"/>
            <p:cNvCxnSpPr/>
            <p:nvPr/>
          </p:nvCxnSpPr>
          <p:spPr>
            <a:xfrm>
              <a:off x="1798920" y="3058920"/>
              <a:ext cx="360" cy="360720"/>
            </a:xfrm>
            <a:prstGeom prst="straightConnector1">
              <a:avLst/>
            </a:prstGeom>
            <a:ln w="3175">
              <a:solidFill>
                <a:srgbClr val="ffffff">
                  <a:lumMod val="85000"/>
                </a:srgbClr>
              </a:solidFill>
              <a:round/>
            </a:ln>
          </p:spPr>
        </p:cxnSp>
        <p:cxnSp>
          <p:nvCxnSpPr>
            <p:cNvPr id="112" name="直接连接符 400"/>
            <p:cNvCxnSpPr/>
            <p:nvPr/>
          </p:nvCxnSpPr>
          <p:spPr>
            <a:xfrm>
              <a:off x="2158560" y="3058920"/>
              <a:ext cx="360" cy="360720"/>
            </a:xfrm>
            <a:prstGeom prst="straightConnector1">
              <a:avLst/>
            </a:prstGeom>
            <a:ln w="3175">
              <a:solidFill>
                <a:srgbClr val="ffffff">
                  <a:lumMod val="85000"/>
                </a:srgbClr>
              </a:solidFill>
              <a:round/>
            </a:ln>
          </p:spPr>
        </p:cxnSp>
        <p:cxnSp>
          <p:nvCxnSpPr>
            <p:cNvPr id="113" name="直接连接符 401"/>
            <p:cNvCxnSpPr/>
            <p:nvPr/>
          </p:nvCxnSpPr>
          <p:spPr>
            <a:xfrm>
              <a:off x="2518200" y="3058920"/>
              <a:ext cx="360" cy="360720"/>
            </a:xfrm>
            <a:prstGeom prst="straightConnector1">
              <a:avLst/>
            </a:prstGeom>
            <a:ln w="3175">
              <a:solidFill>
                <a:srgbClr val="ffffff">
                  <a:lumMod val="85000"/>
                </a:srgbClr>
              </a:solidFill>
              <a:round/>
            </a:ln>
          </p:spPr>
        </p:cxnSp>
        <p:cxnSp>
          <p:nvCxnSpPr>
            <p:cNvPr id="114" name="直接连接符 402"/>
            <p:cNvCxnSpPr/>
            <p:nvPr/>
          </p:nvCxnSpPr>
          <p:spPr>
            <a:xfrm>
              <a:off x="2877480" y="3058920"/>
              <a:ext cx="360" cy="360720"/>
            </a:xfrm>
            <a:prstGeom prst="straightConnector1">
              <a:avLst/>
            </a:prstGeom>
            <a:ln w="3175">
              <a:solidFill>
                <a:srgbClr val="ffffff">
                  <a:lumMod val="85000"/>
                </a:srgbClr>
              </a:solidFill>
              <a:round/>
            </a:ln>
          </p:spPr>
        </p:cxnSp>
        <p:cxnSp>
          <p:nvCxnSpPr>
            <p:cNvPr id="115" name="直接连接符 403"/>
            <p:cNvCxnSpPr/>
            <p:nvPr/>
          </p:nvCxnSpPr>
          <p:spPr>
            <a:xfrm>
              <a:off x="3237120" y="3058920"/>
              <a:ext cx="360" cy="360720"/>
            </a:xfrm>
            <a:prstGeom prst="straightConnector1">
              <a:avLst/>
            </a:prstGeom>
            <a:ln w="3175">
              <a:solidFill>
                <a:srgbClr val="ffffff">
                  <a:lumMod val="85000"/>
                </a:srgbClr>
              </a:solidFill>
              <a:round/>
            </a:ln>
          </p:spPr>
        </p:cxnSp>
        <p:cxnSp>
          <p:nvCxnSpPr>
            <p:cNvPr id="116" name="直接连接符 404"/>
            <p:cNvCxnSpPr/>
            <p:nvPr/>
          </p:nvCxnSpPr>
          <p:spPr>
            <a:xfrm>
              <a:off x="3596760" y="3058920"/>
              <a:ext cx="360" cy="360720"/>
            </a:xfrm>
            <a:prstGeom prst="straightConnector1">
              <a:avLst/>
            </a:prstGeom>
            <a:ln w="3175">
              <a:solidFill>
                <a:srgbClr val="ffffff">
                  <a:lumMod val="85000"/>
                </a:srgbClr>
              </a:solidFill>
              <a:round/>
            </a:ln>
          </p:spPr>
        </p:cxnSp>
        <p:cxnSp>
          <p:nvCxnSpPr>
            <p:cNvPr id="117" name="直接连接符 405"/>
            <p:cNvCxnSpPr/>
            <p:nvPr/>
          </p:nvCxnSpPr>
          <p:spPr>
            <a:xfrm>
              <a:off x="3956040" y="3058920"/>
              <a:ext cx="360" cy="360720"/>
            </a:xfrm>
            <a:prstGeom prst="straightConnector1">
              <a:avLst/>
            </a:prstGeom>
            <a:ln w="3175">
              <a:solidFill>
                <a:srgbClr val="ffffff">
                  <a:lumMod val="85000"/>
                </a:srgbClr>
              </a:solidFill>
              <a:round/>
            </a:ln>
          </p:spPr>
        </p:cxnSp>
        <p:cxnSp>
          <p:nvCxnSpPr>
            <p:cNvPr id="118" name="直接连接符 406"/>
            <p:cNvCxnSpPr/>
            <p:nvPr/>
          </p:nvCxnSpPr>
          <p:spPr>
            <a:xfrm>
              <a:off x="4315680" y="3058920"/>
              <a:ext cx="360" cy="360720"/>
            </a:xfrm>
            <a:prstGeom prst="straightConnector1">
              <a:avLst/>
            </a:prstGeom>
            <a:ln w="3175">
              <a:solidFill>
                <a:srgbClr val="ffffff">
                  <a:lumMod val="85000"/>
                </a:srgbClr>
              </a:solidFill>
              <a:round/>
            </a:ln>
          </p:spPr>
        </p:cxnSp>
        <p:cxnSp>
          <p:nvCxnSpPr>
            <p:cNvPr id="119" name="直接连接符 407"/>
            <p:cNvCxnSpPr/>
            <p:nvPr/>
          </p:nvCxnSpPr>
          <p:spPr>
            <a:xfrm>
              <a:off x="4675320" y="3058920"/>
              <a:ext cx="360" cy="360720"/>
            </a:xfrm>
            <a:prstGeom prst="straightConnector1">
              <a:avLst/>
            </a:prstGeom>
            <a:ln w="3175">
              <a:solidFill>
                <a:srgbClr val="ffffff">
                  <a:lumMod val="85000"/>
                </a:srgbClr>
              </a:solidFill>
              <a:round/>
            </a:ln>
          </p:spPr>
        </p:cxnSp>
        <p:cxnSp>
          <p:nvCxnSpPr>
            <p:cNvPr id="120" name="直接连接符 408"/>
            <p:cNvCxnSpPr/>
            <p:nvPr/>
          </p:nvCxnSpPr>
          <p:spPr>
            <a:xfrm>
              <a:off x="5034600" y="3058920"/>
              <a:ext cx="360" cy="360720"/>
            </a:xfrm>
            <a:prstGeom prst="straightConnector1">
              <a:avLst/>
            </a:prstGeom>
            <a:ln w="3175">
              <a:solidFill>
                <a:srgbClr val="ffffff">
                  <a:lumMod val="85000"/>
                </a:srgbClr>
              </a:solidFill>
              <a:round/>
            </a:ln>
          </p:spPr>
        </p:cxnSp>
        <p:cxnSp>
          <p:nvCxnSpPr>
            <p:cNvPr id="121" name="直接连接符 409"/>
            <p:cNvCxnSpPr/>
            <p:nvPr/>
          </p:nvCxnSpPr>
          <p:spPr>
            <a:xfrm>
              <a:off x="5394240" y="3058920"/>
              <a:ext cx="360" cy="360720"/>
            </a:xfrm>
            <a:prstGeom prst="straightConnector1">
              <a:avLst/>
            </a:prstGeom>
            <a:ln w="3175">
              <a:solidFill>
                <a:srgbClr val="ffffff">
                  <a:lumMod val="85000"/>
                </a:srgbClr>
              </a:solidFill>
              <a:round/>
            </a:ln>
          </p:spPr>
        </p:cxnSp>
        <p:cxnSp>
          <p:nvCxnSpPr>
            <p:cNvPr id="122" name="直接连接符 410"/>
            <p:cNvCxnSpPr/>
            <p:nvPr/>
          </p:nvCxnSpPr>
          <p:spPr>
            <a:xfrm>
              <a:off x="5753880" y="3058920"/>
              <a:ext cx="360" cy="360720"/>
            </a:xfrm>
            <a:prstGeom prst="straightConnector1">
              <a:avLst/>
            </a:prstGeom>
            <a:ln w="3175">
              <a:solidFill>
                <a:srgbClr val="ffffff">
                  <a:lumMod val="85000"/>
                </a:srgbClr>
              </a:solidFill>
              <a:round/>
            </a:ln>
          </p:spPr>
        </p:cxnSp>
        <p:cxnSp>
          <p:nvCxnSpPr>
            <p:cNvPr id="123" name="直接连接符 411"/>
            <p:cNvCxnSpPr/>
            <p:nvPr/>
          </p:nvCxnSpPr>
          <p:spPr>
            <a:xfrm>
              <a:off x="6113160" y="3058920"/>
              <a:ext cx="360" cy="360720"/>
            </a:xfrm>
            <a:prstGeom prst="straightConnector1">
              <a:avLst/>
            </a:prstGeom>
            <a:ln w="3175">
              <a:solidFill>
                <a:srgbClr val="ffffff">
                  <a:lumMod val="85000"/>
                </a:srgbClr>
              </a:solidFill>
              <a:round/>
            </a:ln>
          </p:spPr>
        </p:cxnSp>
        <p:cxnSp>
          <p:nvCxnSpPr>
            <p:cNvPr id="124" name="直接连接符 412"/>
            <p:cNvCxnSpPr/>
            <p:nvPr/>
          </p:nvCxnSpPr>
          <p:spPr>
            <a:xfrm>
              <a:off x="6472800" y="3058920"/>
              <a:ext cx="360" cy="360720"/>
            </a:xfrm>
            <a:prstGeom prst="straightConnector1">
              <a:avLst/>
            </a:prstGeom>
            <a:ln w="3175">
              <a:solidFill>
                <a:srgbClr val="ffffff">
                  <a:lumMod val="85000"/>
                </a:srgbClr>
              </a:solidFill>
              <a:round/>
            </a:ln>
          </p:spPr>
        </p:cxnSp>
        <p:cxnSp>
          <p:nvCxnSpPr>
            <p:cNvPr id="125" name="直接连接符 413"/>
            <p:cNvCxnSpPr/>
            <p:nvPr/>
          </p:nvCxnSpPr>
          <p:spPr>
            <a:xfrm>
              <a:off x="6832080" y="3058920"/>
              <a:ext cx="360" cy="360720"/>
            </a:xfrm>
            <a:prstGeom prst="straightConnector1">
              <a:avLst/>
            </a:prstGeom>
            <a:ln w="3175">
              <a:solidFill>
                <a:srgbClr val="ffffff">
                  <a:lumMod val="85000"/>
                </a:srgbClr>
              </a:solidFill>
              <a:round/>
            </a:ln>
          </p:spPr>
        </p:cxnSp>
        <p:cxnSp>
          <p:nvCxnSpPr>
            <p:cNvPr id="126" name="直接连接符 414"/>
            <p:cNvCxnSpPr/>
            <p:nvPr/>
          </p:nvCxnSpPr>
          <p:spPr>
            <a:xfrm>
              <a:off x="7191720" y="3058920"/>
              <a:ext cx="360" cy="360720"/>
            </a:xfrm>
            <a:prstGeom prst="straightConnector1">
              <a:avLst/>
            </a:prstGeom>
            <a:ln w="3175">
              <a:solidFill>
                <a:srgbClr val="ffffff">
                  <a:lumMod val="85000"/>
                </a:srgbClr>
              </a:solidFill>
              <a:round/>
            </a:ln>
          </p:spPr>
        </p:cxnSp>
        <p:cxnSp>
          <p:nvCxnSpPr>
            <p:cNvPr id="127" name="直接连接符 415"/>
            <p:cNvCxnSpPr/>
            <p:nvPr/>
          </p:nvCxnSpPr>
          <p:spPr>
            <a:xfrm>
              <a:off x="7551360" y="3058920"/>
              <a:ext cx="360" cy="360720"/>
            </a:xfrm>
            <a:prstGeom prst="straightConnector1">
              <a:avLst/>
            </a:prstGeom>
            <a:ln w="3175">
              <a:solidFill>
                <a:srgbClr val="ffffff">
                  <a:lumMod val="85000"/>
                </a:srgbClr>
              </a:solidFill>
              <a:round/>
            </a:ln>
          </p:spPr>
        </p:cxnSp>
        <p:cxnSp>
          <p:nvCxnSpPr>
            <p:cNvPr id="128" name="直接连接符 416"/>
            <p:cNvCxnSpPr/>
            <p:nvPr/>
          </p:nvCxnSpPr>
          <p:spPr>
            <a:xfrm>
              <a:off x="7910640" y="3058920"/>
              <a:ext cx="360" cy="360720"/>
            </a:xfrm>
            <a:prstGeom prst="straightConnector1">
              <a:avLst/>
            </a:prstGeom>
            <a:ln w="3175">
              <a:solidFill>
                <a:srgbClr val="ffffff">
                  <a:lumMod val="85000"/>
                </a:srgbClr>
              </a:solidFill>
              <a:round/>
            </a:ln>
          </p:spPr>
        </p:cxnSp>
        <p:cxnSp>
          <p:nvCxnSpPr>
            <p:cNvPr id="129" name="直接连接符 417"/>
            <p:cNvCxnSpPr/>
            <p:nvPr/>
          </p:nvCxnSpPr>
          <p:spPr>
            <a:xfrm>
              <a:off x="8270280" y="3058920"/>
              <a:ext cx="360" cy="360720"/>
            </a:xfrm>
            <a:prstGeom prst="straightConnector1">
              <a:avLst/>
            </a:prstGeom>
            <a:ln w="3175">
              <a:solidFill>
                <a:srgbClr val="ffffff">
                  <a:lumMod val="85000"/>
                </a:srgbClr>
              </a:solidFill>
              <a:round/>
            </a:ln>
          </p:spPr>
        </p:cxnSp>
        <p:cxnSp>
          <p:nvCxnSpPr>
            <p:cNvPr id="130" name="直接连接符 418"/>
            <p:cNvCxnSpPr/>
            <p:nvPr/>
          </p:nvCxnSpPr>
          <p:spPr>
            <a:xfrm>
              <a:off x="8629920" y="3058920"/>
              <a:ext cx="360" cy="360720"/>
            </a:xfrm>
            <a:prstGeom prst="straightConnector1">
              <a:avLst/>
            </a:prstGeom>
            <a:ln w="3175">
              <a:solidFill>
                <a:srgbClr val="ffffff">
                  <a:lumMod val="85000"/>
                </a:srgbClr>
              </a:solidFill>
              <a:round/>
            </a:ln>
          </p:spPr>
        </p:cxnSp>
        <p:cxnSp>
          <p:nvCxnSpPr>
            <p:cNvPr id="131" name="直接连接符 419"/>
            <p:cNvCxnSpPr/>
            <p:nvPr/>
          </p:nvCxnSpPr>
          <p:spPr>
            <a:xfrm>
              <a:off x="8989200" y="3058920"/>
              <a:ext cx="360" cy="360720"/>
            </a:xfrm>
            <a:prstGeom prst="straightConnector1">
              <a:avLst/>
            </a:prstGeom>
            <a:ln w="3175">
              <a:solidFill>
                <a:srgbClr val="ffffff">
                  <a:lumMod val="85000"/>
                </a:srgbClr>
              </a:solidFill>
              <a:round/>
            </a:ln>
          </p:spPr>
        </p:cxnSp>
        <p:cxnSp>
          <p:nvCxnSpPr>
            <p:cNvPr id="132" name="直接连接符 420"/>
            <p:cNvCxnSpPr/>
            <p:nvPr/>
          </p:nvCxnSpPr>
          <p:spPr>
            <a:xfrm>
              <a:off x="9348840" y="3058920"/>
              <a:ext cx="360" cy="360720"/>
            </a:xfrm>
            <a:prstGeom prst="straightConnector1">
              <a:avLst/>
            </a:prstGeom>
            <a:ln w="3175">
              <a:solidFill>
                <a:srgbClr val="ffffff">
                  <a:lumMod val="85000"/>
                </a:srgbClr>
              </a:solidFill>
              <a:round/>
            </a:ln>
          </p:spPr>
        </p:cxnSp>
        <p:cxnSp>
          <p:nvCxnSpPr>
            <p:cNvPr id="133" name="直接连接符 421"/>
            <p:cNvCxnSpPr/>
            <p:nvPr/>
          </p:nvCxnSpPr>
          <p:spPr>
            <a:xfrm>
              <a:off x="9708480" y="3058920"/>
              <a:ext cx="360" cy="360720"/>
            </a:xfrm>
            <a:prstGeom prst="straightConnector1">
              <a:avLst/>
            </a:prstGeom>
            <a:ln w="3175">
              <a:solidFill>
                <a:srgbClr val="ffffff">
                  <a:lumMod val="85000"/>
                </a:srgbClr>
              </a:solidFill>
              <a:round/>
            </a:ln>
          </p:spPr>
        </p:cxnSp>
        <p:cxnSp>
          <p:nvCxnSpPr>
            <p:cNvPr id="134" name="直接连接符 422"/>
            <p:cNvCxnSpPr/>
            <p:nvPr/>
          </p:nvCxnSpPr>
          <p:spPr>
            <a:xfrm>
              <a:off x="10067760" y="3058920"/>
              <a:ext cx="360" cy="360720"/>
            </a:xfrm>
            <a:prstGeom prst="straightConnector1">
              <a:avLst/>
            </a:prstGeom>
            <a:ln w="3175">
              <a:solidFill>
                <a:srgbClr val="ffffff">
                  <a:lumMod val="85000"/>
                </a:srgbClr>
              </a:solidFill>
              <a:round/>
            </a:ln>
          </p:spPr>
        </p:cxnSp>
        <p:cxnSp>
          <p:nvCxnSpPr>
            <p:cNvPr id="135" name="直接连接符 423"/>
            <p:cNvCxnSpPr/>
            <p:nvPr/>
          </p:nvCxnSpPr>
          <p:spPr>
            <a:xfrm>
              <a:off x="10427400" y="3058920"/>
              <a:ext cx="360" cy="360720"/>
            </a:xfrm>
            <a:prstGeom prst="straightConnector1">
              <a:avLst/>
            </a:prstGeom>
            <a:ln w="3175">
              <a:solidFill>
                <a:srgbClr val="ffffff">
                  <a:lumMod val="85000"/>
                </a:srgbClr>
              </a:solidFill>
              <a:round/>
            </a:ln>
          </p:spPr>
        </p:cxnSp>
        <p:cxnSp>
          <p:nvCxnSpPr>
            <p:cNvPr id="136" name="直接连接符 424"/>
            <p:cNvCxnSpPr/>
            <p:nvPr/>
          </p:nvCxnSpPr>
          <p:spPr>
            <a:xfrm>
              <a:off x="10787040" y="3058920"/>
              <a:ext cx="360" cy="360720"/>
            </a:xfrm>
            <a:prstGeom prst="straightConnector1">
              <a:avLst/>
            </a:prstGeom>
            <a:ln w="3175">
              <a:solidFill>
                <a:srgbClr val="ffffff">
                  <a:lumMod val="85000"/>
                </a:srgbClr>
              </a:solidFill>
              <a:round/>
            </a:ln>
          </p:spPr>
        </p:cxnSp>
        <p:cxnSp>
          <p:nvCxnSpPr>
            <p:cNvPr id="137" name="直接连接符 425"/>
            <p:cNvCxnSpPr/>
            <p:nvPr/>
          </p:nvCxnSpPr>
          <p:spPr>
            <a:xfrm>
              <a:off x="720720" y="3599640"/>
              <a:ext cx="360" cy="360720"/>
            </a:xfrm>
            <a:prstGeom prst="straightConnector1">
              <a:avLst/>
            </a:prstGeom>
            <a:ln w="3175">
              <a:solidFill>
                <a:srgbClr val="ffffff">
                  <a:lumMod val="85000"/>
                </a:srgbClr>
              </a:solidFill>
              <a:round/>
            </a:ln>
          </p:spPr>
        </p:cxnSp>
        <p:cxnSp>
          <p:nvCxnSpPr>
            <p:cNvPr id="138" name="直接连接符 426"/>
            <p:cNvCxnSpPr/>
            <p:nvPr/>
          </p:nvCxnSpPr>
          <p:spPr>
            <a:xfrm>
              <a:off x="1080000" y="3600360"/>
              <a:ext cx="360" cy="360720"/>
            </a:xfrm>
            <a:prstGeom prst="straightConnector1">
              <a:avLst/>
            </a:prstGeom>
            <a:ln w="3175">
              <a:solidFill>
                <a:srgbClr val="ffffff">
                  <a:lumMod val="85000"/>
                </a:srgbClr>
              </a:solidFill>
              <a:round/>
            </a:ln>
          </p:spPr>
        </p:cxnSp>
        <p:cxnSp>
          <p:nvCxnSpPr>
            <p:cNvPr id="139" name="直接连接符 427"/>
            <p:cNvCxnSpPr/>
            <p:nvPr/>
          </p:nvCxnSpPr>
          <p:spPr>
            <a:xfrm>
              <a:off x="1439640" y="3600360"/>
              <a:ext cx="360" cy="360720"/>
            </a:xfrm>
            <a:prstGeom prst="straightConnector1">
              <a:avLst/>
            </a:prstGeom>
            <a:ln w="3175">
              <a:solidFill>
                <a:srgbClr val="ffffff">
                  <a:lumMod val="85000"/>
                </a:srgbClr>
              </a:solidFill>
              <a:round/>
            </a:ln>
          </p:spPr>
        </p:cxnSp>
        <p:cxnSp>
          <p:nvCxnSpPr>
            <p:cNvPr id="140" name="直接连接符 428"/>
            <p:cNvCxnSpPr/>
            <p:nvPr/>
          </p:nvCxnSpPr>
          <p:spPr>
            <a:xfrm>
              <a:off x="1798920" y="3600360"/>
              <a:ext cx="360" cy="360720"/>
            </a:xfrm>
            <a:prstGeom prst="straightConnector1">
              <a:avLst/>
            </a:prstGeom>
            <a:ln w="3175">
              <a:solidFill>
                <a:srgbClr val="ffffff">
                  <a:lumMod val="85000"/>
                </a:srgbClr>
              </a:solidFill>
              <a:round/>
            </a:ln>
          </p:spPr>
        </p:cxnSp>
        <p:cxnSp>
          <p:nvCxnSpPr>
            <p:cNvPr id="141" name="直接连接符 429"/>
            <p:cNvCxnSpPr/>
            <p:nvPr/>
          </p:nvCxnSpPr>
          <p:spPr>
            <a:xfrm>
              <a:off x="2158560" y="3600360"/>
              <a:ext cx="360" cy="360720"/>
            </a:xfrm>
            <a:prstGeom prst="straightConnector1">
              <a:avLst/>
            </a:prstGeom>
            <a:ln w="3175">
              <a:solidFill>
                <a:srgbClr val="ffffff">
                  <a:lumMod val="85000"/>
                </a:srgbClr>
              </a:solidFill>
              <a:round/>
            </a:ln>
          </p:spPr>
        </p:cxnSp>
        <p:cxnSp>
          <p:nvCxnSpPr>
            <p:cNvPr id="142" name="直接连接符 430"/>
            <p:cNvCxnSpPr/>
            <p:nvPr/>
          </p:nvCxnSpPr>
          <p:spPr>
            <a:xfrm>
              <a:off x="2518200" y="3600360"/>
              <a:ext cx="360" cy="360720"/>
            </a:xfrm>
            <a:prstGeom prst="straightConnector1">
              <a:avLst/>
            </a:prstGeom>
            <a:ln w="3175">
              <a:solidFill>
                <a:srgbClr val="ffffff">
                  <a:lumMod val="85000"/>
                </a:srgbClr>
              </a:solidFill>
              <a:round/>
            </a:ln>
          </p:spPr>
        </p:cxnSp>
        <p:cxnSp>
          <p:nvCxnSpPr>
            <p:cNvPr id="143" name="直接连接符 431"/>
            <p:cNvCxnSpPr/>
            <p:nvPr/>
          </p:nvCxnSpPr>
          <p:spPr>
            <a:xfrm>
              <a:off x="2877480" y="3600360"/>
              <a:ext cx="360" cy="360720"/>
            </a:xfrm>
            <a:prstGeom prst="straightConnector1">
              <a:avLst/>
            </a:prstGeom>
            <a:ln w="3175">
              <a:solidFill>
                <a:srgbClr val="ffffff">
                  <a:lumMod val="85000"/>
                </a:srgbClr>
              </a:solidFill>
              <a:round/>
            </a:ln>
          </p:spPr>
        </p:cxnSp>
        <p:cxnSp>
          <p:nvCxnSpPr>
            <p:cNvPr id="144" name="直接连接符 432"/>
            <p:cNvCxnSpPr/>
            <p:nvPr/>
          </p:nvCxnSpPr>
          <p:spPr>
            <a:xfrm>
              <a:off x="3237120" y="3600360"/>
              <a:ext cx="360" cy="360720"/>
            </a:xfrm>
            <a:prstGeom prst="straightConnector1">
              <a:avLst/>
            </a:prstGeom>
            <a:ln w="3175">
              <a:solidFill>
                <a:srgbClr val="ffffff">
                  <a:lumMod val="85000"/>
                </a:srgbClr>
              </a:solidFill>
              <a:round/>
            </a:ln>
          </p:spPr>
        </p:cxnSp>
        <p:cxnSp>
          <p:nvCxnSpPr>
            <p:cNvPr id="145" name="直接连接符 433"/>
            <p:cNvCxnSpPr/>
            <p:nvPr/>
          </p:nvCxnSpPr>
          <p:spPr>
            <a:xfrm>
              <a:off x="3596760" y="3600360"/>
              <a:ext cx="360" cy="360720"/>
            </a:xfrm>
            <a:prstGeom prst="straightConnector1">
              <a:avLst/>
            </a:prstGeom>
            <a:ln w="3175">
              <a:solidFill>
                <a:srgbClr val="ffffff">
                  <a:lumMod val="85000"/>
                </a:srgbClr>
              </a:solidFill>
              <a:round/>
            </a:ln>
          </p:spPr>
        </p:cxnSp>
        <p:cxnSp>
          <p:nvCxnSpPr>
            <p:cNvPr id="146" name="直接连接符 434"/>
            <p:cNvCxnSpPr/>
            <p:nvPr/>
          </p:nvCxnSpPr>
          <p:spPr>
            <a:xfrm>
              <a:off x="3956040" y="3600360"/>
              <a:ext cx="360" cy="360720"/>
            </a:xfrm>
            <a:prstGeom prst="straightConnector1">
              <a:avLst/>
            </a:prstGeom>
            <a:ln w="3175">
              <a:solidFill>
                <a:srgbClr val="ffffff">
                  <a:lumMod val="85000"/>
                </a:srgbClr>
              </a:solidFill>
              <a:round/>
            </a:ln>
          </p:spPr>
        </p:cxnSp>
        <p:cxnSp>
          <p:nvCxnSpPr>
            <p:cNvPr id="147" name="直接连接符 435"/>
            <p:cNvCxnSpPr/>
            <p:nvPr/>
          </p:nvCxnSpPr>
          <p:spPr>
            <a:xfrm>
              <a:off x="4315680" y="3600360"/>
              <a:ext cx="360" cy="360720"/>
            </a:xfrm>
            <a:prstGeom prst="straightConnector1">
              <a:avLst/>
            </a:prstGeom>
            <a:ln w="3175">
              <a:solidFill>
                <a:srgbClr val="ffffff">
                  <a:lumMod val="85000"/>
                </a:srgbClr>
              </a:solidFill>
              <a:round/>
            </a:ln>
          </p:spPr>
        </p:cxnSp>
        <p:cxnSp>
          <p:nvCxnSpPr>
            <p:cNvPr id="148" name="直接连接符 436"/>
            <p:cNvCxnSpPr/>
            <p:nvPr/>
          </p:nvCxnSpPr>
          <p:spPr>
            <a:xfrm>
              <a:off x="4675320" y="3600360"/>
              <a:ext cx="360" cy="360720"/>
            </a:xfrm>
            <a:prstGeom prst="straightConnector1">
              <a:avLst/>
            </a:prstGeom>
            <a:ln w="3175">
              <a:solidFill>
                <a:srgbClr val="ffffff">
                  <a:lumMod val="85000"/>
                </a:srgbClr>
              </a:solidFill>
              <a:round/>
            </a:ln>
          </p:spPr>
        </p:cxnSp>
        <p:cxnSp>
          <p:nvCxnSpPr>
            <p:cNvPr id="149" name="直接连接符 437"/>
            <p:cNvCxnSpPr/>
            <p:nvPr/>
          </p:nvCxnSpPr>
          <p:spPr>
            <a:xfrm>
              <a:off x="5034600" y="3600360"/>
              <a:ext cx="360" cy="360720"/>
            </a:xfrm>
            <a:prstGeom prst="straightConnector1">
              <a:avLst/>
            </a:prstGeom>
            <a:ln w="3175">
              <a:solidFill>
                <a:srgbClr val="ffffff">
                  <a:lumMod val="85000"/>
                </a:srgbClr>
              </a:solidFill>
              <a:round/>
            </a:ln>
          </p:spPr>
        </p:cxnSp>
        <p:cxnSp>
          <p:nvCxnSpPr>
            <p:cNvPr id="150" name="直接连接符 438"/>
            <p:cNvCxnSpPr/>
            <p:nvPr/>
          </p:nvCxnSpPr>
          <p:spPr>
            <a:xfrm>
              <a:off x="5394240" y="3600360"/>
              <a:ext cx="360" cy="360720"/>
            </a:xfrm>
            <a:prstGeom prst="straightConnector1">
              <a:avLst/>
            </a:prstGeom>
            <a:ln w="3175">
              <a:solidFill>
                <a:srgbClr val="ffffff">
                  <a:lumMod val="85000"/>
                </a:srgbClr>
              </a:solidFill>
              <a:round/>
            </a:ln>
          </p:spPr>
        </p:cxnSp>
        <p:cxnSp>
          <p:nvCxnSpPr>
            <p:cNvPr id="151" name="直接连接符 439"/>
            <p:cNvCxnSpPr/>
            <p:nvPr/>
          </p:nvCxnSpPr>
          <p:spPr>
            <a:xfrm>
              <a:off x="5753880" y="3600360"/>
              <a:ext cx="360" cy="360720"/>
            </a:xfrm>
            <a:prstGeom prst="straightConnector1">
              <a:avLst/>
            </a:prstGeom>
            <a:ln w="3175">
              <a:solidFill>
                <a:srgbClr val="ffffff">
                  <a:lumMod val="85000"/>
                </a:srgbClr>
              </a:solidFill>
              <a:round/>
            </a:ln>
          </p:spPr>
        </p:cxnSp>
        <p:cxnSp>
          <p:nvCxnSpPr>
            <p:cNvPr id="152" name="直接连接符 440"/>
            <p:cNvCxnSpPr/>
            <p:nvPr/>
          </p:nvCxnSpPr>
          <p:spPr>
            <a:xfrm>
              <a:off x="6113160" y="3600360"/>
              <a:ext cx="360" cy="360720"/>
            </a:xfrm>
            <a:prstGeom prst="straightConnector1">
              <a:avLst/>
            </a:prstGeom>
            <a:ln w="3175">
              <a:solidFill>
                <a:srgbClr val="ffffff">
                  <a:lumMod val="85000"/>
                </a:srgbClr>
              </a:solidFill>
              <a:round/>
            </a:ln>
          </p:spPr>
        </p:cxnSp>
        <p:cxnSp>
          <p:nvCxnSpPr>
            <p:cNvPr id="153" name="直接连接符 441"/>
            <p:cNvCxnSpPr/>
            <p:nvPr/>
          </p:nvCxnSpPr>
          <p:spPr>
            <a:xfrm>
              <a:off x="6472800" y="3600360"/>
              <a:ext cx="360" cy="360720"/>
            </a:xfrm>
            <a:prstGeom prst="straightConnector1">
              <a:avLst/>
            </a:prstGeom>
            <a:ln w="3175">
              <a:solidFill>
                <a:srgbClr val="ffffff">
                  <a:lumMod val="85000"/>
                </a:srgbClr>
              </a:solidFill>
              <a:round/>
            </a:ln>
          </p:spPr>
        </p:cxnSp>
        <p:cxnSp>
          <p:nvCxnSpPr>
            <p:cNvPr id="154" name="直接连接符 442"/>
            <p:cNvCxnSpPr/>
            <p:nvPr/>
          </p:nvCxnSpPr>
          <p:spPr>
            <a:xfrm>
              <a:off x="6832080" y="3600360"/>
              <a:ext cx="360" cy="360720"/>
            </a:xfrm>
            <a:prstGeom prst="straightConnector1">
              <a:avLst/>
            </a:prstGeom>
            <a:ln w="3175">
              <a:solidFill>
                <a:srgbClr val="ffffff">
                  <a:lumMod val="85000"/>
                </a:srgbClr>
              </a:solidFill>
              <a:round/>
            </a:ln>
          </p:spPr>
        </p:cxnSp>
        <p:cxnSp>
          <p:nvCxnSpPr>
            <p:cNvPr id="155" name="直接连接符 443"/>
            <p:cNvCxnSpPr/>
            <p:nvPr/>
          </p:nvCxnSpPr>
          <p:spPr>
            <a:xfrm>
              <a:off x="7191720" y="3600360"/>
              <a:ext cx="360" cy="360720"/>
            </a:xfrm>
            <a:prstGeom prst="straightConnector1">
              <a:avLst/>
            </a:prstGeom>
            <a:ln w="3175">
              <a:solidFill>
                <a:srgbClr val="ffffff">
                  <a:lumMod val="85000"/>
                </a:srgbClr>
              </a:solidFill>
              <a:round/>
            </a:ln>
          </p:spPr>
        </p:cxnSp>
        <p:cxnSp>
          <p:nvCxnSpPr>
            <p:cNvPr id="156" name="直接连接符 444"/>
            <p:cNvCxnSpPr/>
            <p:nvPr/>
          </p:nvCxnSpPr>
          <p:spPr>
            <a:xfrm>
              <a:off x="7551360" y="3600360"/>
              <a:ext cx="360" cy="360720"/>
            </a:xfrm>
            <a:prstGeom prst="straightConnector1">
              <a:avLst/>
            </a:prstGeom>
            <a:ln w="3175">
              <a:solidFill>
                <a:srgbClr val="ffffff">
                  <a:lumMod val="85000"/>
                </a:srgbClr>
              </a:solidFill>
              <a:round/>
            </a:ln>
          </p:spPr>
        </p:cxnSp>
        <p:cxnSp>
          <p:nvCxnSpPr>
            <p:cNvPr id="157" name="直接连接符 445"/>
            <p:cNvCxnSpPr/>
            <p:nvPr/>
          </p:nvCxnSpPr>
          <p:spPr>
            <a:xfrm>
              <a:off x="7910640" y="3600360"/>
              <a:ext cx="360" cy="360720"/>
            </a:xfrm>
            <a:prstGeom prst="straightConnector1">
              <a:avLst/>
            </a:prstGeom>
            <a:ln w="3175">
              <a:solidFill>
                <a:srgbClr val="ffffff">
                  <a:lumMod val="85000"/>
                </a:srgbClr>
              </a:solidFill>
              <a:round/>
            </a:ln>
          </p:spPr>
        </p:cxnSp>
        <p:cxnSp>
          <p:nvCxnSpPr>
            <p:cNvPr id="158" name="直接连接符 446"/>
            <p:cNvCxnSpPr/>
            <p:nvPr/>
          </p:nvCxnSpPr>
          <p:spPr>
            <a:xfrm>
              <a:off x="8270280" y="3600360"/>
              <a:ext cx="360" cy="360720"/>
            </a:xfrm>
            <a:prstGeom prst="straightConnector1">
              <a:avLst/>
            </a:prstGeom>
            <a:ln w="3175">
              <a:solidFill>
                <a:srgbClr val="ffffff">
                  <a:lumMod val="85000"/>
                </a:srgbClr>
              </a:solidFill>
              <a:round/>
            </a:ln>
          </p:spPr>
        </p:cxnSp>
        <p:cxnSp>
          <p:nvCxnSpPr>
            <p:cNvPr id="159" name="直接连接符 447"/>
            <p:cNvCxnSpPr/>
            <p:nvPr/>
          </p:nvCxnSpPr>
          <p:spPr>
            <a:xfrm>
              <a:off x="8629920" y="3600360"/>
              <a:ext cx="360" cy="360720"/>
            </a:xfrm>
            <a:prstGeom prst="straightConnector1">
              <a:avLst/>
            </a:prstGeom>
            <a:ln w="3175">
              <a:solidFill>
                <a:srgbClr val="ffffff">
                  <a:lumMod val="85000"/>
                </a:srgbClr>
              </a:solidFill>
              <a:round/>
            </a:ln>
          </p:spPr>
        </p:cxnSp>
        <p:cxnSp>
          <p:nvCxnSpPr>
            <p:cNvPr id="160" name="直接连接符 448"/>
            <p:cNvCxnSpPr/>
            <p:nvPr/>
          </p:nvCxnSpPr>
          <p:spPr>
            <a:xfrm>
              <a:off x="8989200" y="3600360"/>
              <a:ext cx="360" cy="360720"/>
            </a:xfrm>
            <a:prstGeom prst="straightConnector1">
              <a:avLst/>
            </a:prstGeom>
            <a:ln w="3175">
              <a:solidFill>
                <a:srgbClr val="ffffff">
                  <a:lumMod val="85000"/>
                </a:srgbClr>
              </a:solidFill>
              <a:round/>
            </a:ln>
          </p:spPr>
        </p:cxnSp>
        <p:cxnSp>
          <p:nvCxnSpPr>
            <p:cNvPr id="161" name="直接连接符 449"/>
            <p:cNvCxnSpPr/>
            <p:nvPr/>
          </p:nvCxnSpPr>
          <p:spPr>
            <a:xfrm>
              <a:off x="9348840" y="3600360"/>
              <a:ext cx="360" cy="360720"/>
            </a:xfrm>
            <a:prstGeom prst="straightConnector1">
              <a:avLst/>
            </a:prstGeom>
            <a:ln w="3175">
              <a:solidFill>
                <a:srgbClr val="ffffff">
                  <a:lumMod val="85000"/>
                </a:srgbClr>
              </a:solidFill>
              <a:round/>
            </a:ln>
          </p:spPr>
        </p:cxnSp>
        <p:cxnSp>
          <p:nvCxnSpPr>
            <p:cNvPr id="162" name="直接连接符 450"/>
            <p:cNvCxnSpPr/>
            <p:nvPr/>
          </p:nvCxnSpPr>
          <p:spPr>
            <a:xfrm>
              <a:off x="9708480" y="3600360"/>
              <a:ext cx="360" cy="360720"/>
            </a:xfrm>
            <a:prstGeom prst="straightConnector1">
              <a:avLst/>
            </a:prstGeom>
            <a:ln w="3175">
              <a:solidFill>
                <a:srgbClr val="ffffff">
                  <a:lumMod val="85000"/>
                </a:srgbClr>
              </a:solidFill>
              <a:round/>
            </a:ln>
          </p:spPr>
        </p:cxnSp>
        <p:cxnSp>
          <p:nvCxnSpPr>
            <p:cNvPr id="163" name="直接连接符 451"/>
            <p:cNvCxnSpPr/>
            <p:nvPr/>
          </p:nvCxnSpPr>
          <p:spPr>
            <a:xfrm>
              <a:off x="10067760" y="3600360"/>
              <a:ext cx="360" cy="360720"/>
            </a:xfrm>
            <a:prstGeom prst="straightConnector1">
              <a:avLst/>
            </a:prstGeom>
            <a:ln w="3175">
              <a:solidFill>
                <a:srgbClr val="ffffff">
                  <a:lumMod val="85000"/>
                </a:srgbClr>
              </a:solidFill>
              <a:round/>
            </a:ln>
          </p:spPr>
        </p:cxnSp>
        <p:cxnSp>
          <p:nvCxnSpPr>
            <p:cNvPr id="164" name="直接连接符 452"/>
            <p:cNvCxnSpPr/>
            <p:nvPr/>
          </p:nvCxnSpPr>
          <p:spPr>
            <a:xfrm>
              <a:off x="10427400" y="3600360"/>
              <a:ext cx="360" cy="360720"/>
            </a:xfrm>
            <a:prstGeom prst="straightConnector1">
              <a:avLst/>
            </a:prstGeom>
            <a:ln w="3175">
              <a:solidFill>
                <a:srgbClr val="ffffff">
                  <a:lumMod val="85000"/>
                </a:srgbClr>
              </a:solidFill>
              <a:round/>
            </a:ln>
          </p:spPr>
        </p:cxnSp>
        <p:cxnSp>
          <p:nvCxnSpPr>
            <p:cNvPr id="165" name="直接连接符 453"/>
            <p:cNvCxnSpPr/>
            <p:nvPr/>
          </p:nvCxnSpPr>
          <p:spPr>
            <a:xfrm>
              <a:off x="10787040" y="3600360"/>
              <a:ext cx="360" cy="360720"/>
            </a:xfrm>
            <a:prstGeom prst="straightConnector1">
              <a:avLst/>
            </a:prstGeom>
            <a:ln w="3175">
              <a:solidFill>
                <a:srgbClr val="ffffff">
                  <a:lumMod val="85000"/>
                </a:srgbClr>
              </a:solidFill>
              <a:round/>
            </a:ln>
          </p:spPr>
        </p:cxnSp>
        <p:cxnSp>
          <p:nvCxnSpPr>
            <p:cNvPr id="166" name="直接连接符 454"/>
            <p:cNvCxnSpPr/>
            <p:nvPr/>
          </p:nvCxnSpPr>
          <p:spPr>
            <a:xfrm>
              <a:off x="720720" y="4139280"/>
              <a:ext cx="360" cy="360720"/>
            </a:xfrm>
            <a:prstGeom prst="straightConnector1">
              <a:avLst/>
            </a:prstGeom>
            <a:ln w="3175">
              <a:solidFill>
                <a:srgbClr val="ffffff">
                  <a:lumMod val="85000"/>
                </a:srgbClr>
              </a:solidFill>
              <a:round/>
            </a:ln>
          </p:spPr>
        </p:cxnSp>
        <p:cxnSp>
          <p:nvCxnSpPr>
            <p:cNvPr id="167" name="直接连接符 455"/>
            <p:cNvCxnSpPr/>
            <p:nvPr/>
          </p:nvCxnSpPr>
          <p:spPr>
            <a:xfrm>
              <a:off x="1080000" y="4140000"/>
              <a:ext cx="360" cy="360720"/>
            </a:xfrm>
            <a:prstGeom prst="straightConnector1">
              <a:avLst/>
            </a:prstGeom>
            <a:ln w="3175">
              <a:solidFill>
                <a:srgbClr val="ffffff">
                  <a:lumMod val="85000"/>
                </a:srgbClr>
              </a:solidFill>
              <a:round/>
            </a:ln>
          </p:spPr>
        </p:cxnSp>
        <p:cxnSp>
          <p:nvCxnSpPr>
            <p:cNvPr id="168" name="直接连接符 456"/>
            <p:cNvCxnSpPr/>
            <p:nvPr/>
          </p:nvCxnSpPr>
          <p:spPr>
            <a:xfrm>
              <a:off x="1439640" y="4140000"/>
              <a:ext cx="360" cy="360720"/>
            </a:xfrm>
            <a:prstGeom prst="straightConnector1">
              <a:avLst/>
            </a:prstGeom>
            <a:ln w="3175">
              <a:solidFill>
                <a:srgbClr val="ffffff">
                  <a:lumMod val="85000"/>
                </a:srgbClr>
              </a:solidFill>
              <a:round/>
            </a:ln>
          </p:spPr>
        </p:cxnSp>
        <p:cxnSp>
          <p:nvCxnSpPr>
            <p:cNvPr id="169" name="直接连接符 457"/>
            <p:cNvCxnSpPr/>
            <p:nvPr/>
          </p:nvCxnSpPr>
          <p:spPr>
            <a:xfrm>
              <a:off x="1798920" y="4140000"/>
              <a:ext cx="360" cy="360720"/>
            </a:xfrm>
            <a:prstGeom prst="straightConnector1">
              <a:avLst/>
            </a:prstGeom>
            <a:ln w="3175">
              <a:solidFill>
                <a:srgbClr val="ffffff">
                  <a:lumMod val="85000"/>
                </a:srgbClr>
              </a:solidFill>
              <a:round/>
            </a:ln>
          </p:spPr>
        </p:cxnSp>
        <p:cxnSp>
          <p:nvCxnSpPr>
            <p:cNvPr id="170" name="直接连接符 458"/>
            <p:cNvCxnSpPr/>
            <p:nvPr/>
          </p:nvCxnSpPr>
          <p:spPr>
            <a:xfrm>
              <a:off x="2158560" y="4140000"/>
              <a:ext cx="360" cy="360720"/>
            </a:xfrm>
            <a:prstGeom prst="straightConnector1">
              <a:avLst/>
            </a:prstGeom>
            <a:ln w="3175">
              <a:solidFill>
                <a:srgbClr val="ffffff">
                  <a:lumMod val="85000"/>
                </a:srgbClr>
              </a:solidFill>
              <a:round/>
            </a:ln>
          </p:spPr>
        </p:cxnSp>
        <p:cxnSp>
          <p:nvCxnSpPr>
            <p:cNvPr id="171" name="直接连接符 459"/>
            <p:cNvCxnSpPr/>
            <p:nvPr/>
          </p:nvCxnSpPr>
          <p:spPr>
            <a:xfrm>
              <a:off x="2518200" y="4140000"/>
              <a:ext cx="360" cy="360720"/>
            </a:xfrm>
            <a:prstGeom prst="straightConnector1">
              <a:avLst/>
            </a:prstGeom>
            <a:ln w="3175">
              <a:solidFill>
                <a:srgbClr val="ffffff">
                  <a:lumMod val="85000"/>
                </a:srgbClr>
              </a:solidFill>
              <a:round/>
            </a:ln>
          </p:spPr>
        </p:cxnSp>
        <p:cxnSp>
          <p:nvCxnSpPr>
            <p:cNvPr id="172" name="直接连接符 460"/>
            <p:cNvCxnSpPr/>
            <p:nvPr/>
          </p:nvCxnSpPr>
          <p:spPr>
            <a:xfrm>
              <a:off x="2877480" y="4140000"/>
              <a:ext cx="360" cy="360720"/>
            </a:xfrm>
            <a:prstGeom prst="straightConnector1">
              <a:avLst/>
            </a:prstGeom>
            <a:ln w="3175">
              <a:solidFill>
                <a:srgbClr val="ffffff">
                  <a:lumMod val="85000"/>
                </a:srgbClr>
              </a:solidFill>
              <a:round/>
            </a:ln>
          </p:spPr>
        </p:cxnSp>
        <p:cxnSp>
          <p:nvCxnSpPr>
            <p:cNvPr id="173" name="直接连接符 461"/>
            <p:cNvCxnSpPr/>
            <p:nvPr/>
          </p:nvCxnSpPr>
          <p:spPr>
            <a:xfrm>
              <a:off x="3237120" y="4140000"/>
              <a:ext cx="360" cy="360720"/>
            </a:xfrm>
            <a:prstGeom prst="straightConnector1">
              <a:avLst/>
            </a:prstGeom>
            <a:ln w="3175">
              <a:solidFill>
                <a:srgbClr val="ffffff">
                  <a:lumMod val="85000"/>
                </a:srgbClr>
              </a:solidFill>
              <a:round/>
            </a:ln>
          </p:spPr>
        </p:cxnSp>
        <p:cxnSp>
          <p:nvCxnSpPr>
            <p:cNvPr id="174" name="直接连接符 462"/>
            <p:cNvCxnSpPr/>
            <p:nvPr/>
          </p:nvCxnSpPr>
          <p:spPr>
            <a:xfrm>
              <a:off x="3596760" y="4140000"/>
              <a:ext cx="360" cy="360720"/>
            </a:xfrm>
            <a:prstGeom prst="straightConnector1">
              <a:avLst/>
            </a:prstGeom>
            <a:ln w="3175">
              <a:solidFill>
                <a:srgbClr val="ffffff">
                  <a:lumMod val="85000"/>
                </a:srgbClr>
              </a:solidFill>
              <a:round/>
            </a:ln>
          </p:spPr>
        </p:cxnSp>
        <p:cxnSp>
          <p:nvCxnSpPr>
            <p:cNvPr id="175" name="直接连接符 463"/>
            <p:cNvCxnSpPr/>
            <p:nvPr/>
          </p:nvCxnSpPr>
          <p:spPr>
            <a:xfrm>
              <a:off x="3956040" y="4140000"/>
              <a:ext cx="360" cy="360720"/>
            </a:xfrm>
            <a:prstGeom prst="straightConnector1">
              <a:avLst/>
            </a:prstGeom>
            <a:ln w="3175">
              <a:solidFill>
                <a:srgbClr val="ffffff">
                  <a:lumMod val="85000"/>
                </a:srgbClr>
              </a:solidFill>
              <a:round/>
            </a:ln>
          </p:spPr>
        </p:cxnSp>
        <p:cxnSp>
          <p:nvCxnSpPr>
            <p:cNvPr id="176" name="直接连接符 464"/>
            <p:cNvCxnSpPr/>
            <p:nvPr/>
          </p:nvCxnSpPr>
          <p:spPr>
            <a:xfrm>
              <a:off x="4315680" y="4140000"/>
              <a:ext cx="360" cy="360720"/>
            </a:xfrm>
            <a:prstGeom prst="straightConnector1">
              <a:avLst/>
            </a:prstGeom>
            <a:ln w="3175">
              <a:solidFill>
                <a:srgbClr val="ffffff">
                  <a:lumMod val="85000"/>
                </a:srgbClr>
              </a:solidFill>
              <a:round/>
            </a:ln>
          </p:spPr>
        </p:cxnSp>
        <p:cxnSp>
          <p:nvCxnSpPr>
            <p:cNvPr id="177" name="直接连接符 465"/>
            <p:cNvCxnSpPr/>
            <p:nvPr/>
          </p:nvCxnSpPr>
          <p:spPr>
            <a:xfrm>
              <a:off x="4675320" y="4140000"/>
              <a:ext cx="360" cy="360720"/>
            </a:xfrm>
            <a:prstGeom prst="straightConnector1">
              <a:avLst/>
            </a:prstGeom>
            <a:ln w="3175">
              <a:solidFill>
                <a:srgbClr val="ffffff">
                  <a:lumMod val="85000"/>
                </a:srgbClr>
              </a:solidFill>
              <a:round/>
            </a:ln>
          </p:spPr>
        </p:cxnSp>
        <p:cxnSp>
          <p:nvCxnSpPr>
            <p:cNvPr id="178" name="直接连接符 466"/>
            <p:cNvCxnSpPr/>
            <p:nvPr/>
          </p:nvCxnSpPr>
          <p:spPr>
            <a:xfrm>
              <a:off x="5034600" y="4140000"/>
              <a:ext cx="360" cy="360720"/>
            </a:xfrm>
            <a:prstGeom prst="straightConnector1">
              <a:avLst/>
            </a:prstGeom>
            <a:ln w="3175">
              <a:solidFill>
                <a:srgbClr val="ffffff">
                  <a:lumMod val="85000"/>
                </a:srgbClr>
              </a:solidFill>
              <a:round/>
            </a:ln>
          </p:spPr>
        </p:cxnSp>
        <p:cxnSp>
          <p:nvCxnSpPr>
            <p:cNvPr id="179" name="直接连接符 467"/>
            <p:cNvCxnSpPr/>
            <p:nvPr/>
          </p:nvCxnSpPr>
          <p:spPr>
            <a:xfrm>
              <a:off x="5394240" y="4140000"/>
              <a:ext cx="360" cy="360720"/>
            </a:xfrm>
            <a:prstGeom prst="straightConnector1">
              <a:avLst/>
            </a:prstGeom>
            <a:ln w="3175">
              <a:solidFill>
                <a:srgbClr val="ffffff">
                  <a:lumMod val="85000"/>
                </a:srgbClr>
              </a:solidFill>
              <a:round/>
            </a:ln>
          </p:spPr>
        </p:cxnSp>
        <p:cxnSp>
          <p:nvCxnSpPr>
            <p:cNvPr id="180" name="直接连接符 468"/>
            <p:cNvCxnSpPr/>
            <p:nvPr/>
          </p:nvCxnSpPr>
          <p:spPr>
            <a:xfrm>
              <a:off x="5753880" y="4140000"/>
              <a:ext cx="360" cy="360720"/>
            </a:xfrm>
            <a:prstGeom prst="straightConnector1">
              <a:avLst/>
            </a:prstGeom>
            <a:ln w="3175">
              <a:solidFill>
                <a:srgbClr val="ffffff">
                  <a:lumMod val="85000"/>
                </a:srgbClr>
              </a:solidFill>
              <a:round/>
            </a:ln>
          </p:spPr>
        </p:cxnSp>
        <p:cxnSp>
          <p:nvCxnSpPr>
            <p:cNvPr id="181" name="直接连接符 469"/>
            <p:cNvCxnSpPr/>
            <p:nvPr/>
          </p:nvCxnSpPr>
          <p:spPr>
            <a:xfrm>
              <a:off x="6113160" y="4140000"/>
              <a:ext cx="360" cy="360720"/>
            </a:xfrm>
            <a:prstGeom prst="straightConnector1">
              <a:avLst/>
            </a:prstGeom>
            <a:ln w="3175">
              <a:solidFill>
                <a:srgbClr val="ffffff">
                  <a:lumMod val="85000"/>
                </a:srgbClr>
              </a:solidFill>
              <a:round/>
            </a:ln>
          </p:spPr>
        </p:cxnSp>
        <p:cxnSp>
          <p:nvCxnSpPr>
            <p:cNvPr id="182" name="直接连接符 470"/>
            <p:cNvCxnSpPr/>
            <p:nvPr/>
          </p:nvCxnSpPr>
          <p:spPr>
            <a:xfrm>
              <a:off x="6472800" y="4140000"/>
              <a:ext cx="360" cy="360720"/>
            </a:xfrm>
            <a:prstGeom prst="straightConnector1">
              <a:avLst/>
            </a:prstGeom>
            <a:ln w="3175">
              <a:solidFill>
                <a:srgbClr val="ffffff">
                  <a:lumMod val="85000"/>
                </a:srgbClr>
              </a:solidFill>
              <a:round/>
            </a:ln>
          </p:spPr>
        </p:cxnSp>
        <p:cxnSp>
          <p:nvCxnSpPr>
            <p:cNvPr id="183" name="直接连接符 471"/>
            <p:cNvCxnSpPr/>
            <p:nvPr/>
          </p:nvCxnSpPr>
          <p:spPr>
            <a:xfrm>
              <a:off x="6832080" y="4140000"/>
              <a:ext cx="360" cy="360720"/>
            </a:xfrm>
            <a:prstGeom prst="straightConnector1">
              <a:avLst/>
            </a:prstGeom>
            <a:ln w="3175">
              <a:solidFill>
                <a:srgbClr val="ffffff">
                  <a:lumMod val="85000"/>
                </a:srgbClr>
              </a:solidFill>
              <a:round/>
            </a:ln>
          </p:spPr>
        </p:cxnSp>
        <p:cxnSp>
          <p:nvCxnSpPr>
            <p:cNvPr id="184" name="直接连接符 472"/>
            <p:cNvCxnSpPr/>
            <p:nvPr/>
          </p:nvCxnSpPr>
          <p:spPr>
            <a:xfrm>
              <a:off x="7191720" y="4140000"/>
              <a:ext cx="360" cy="360720"/>
            </a:xfrm>
            <a:prstGeom prst="straightConnector1">
              <a:avLst/>
            </a:prstGeom>
            <a:ln w="3175">
              <a:solidFill>
                <a:srgbClr val="ffffff">
                  <a:lumMod val="85000"/>
                </a:srgbClr>
              </a:solidFill>
              <a:round/>
            </a:ln>
          </p:spPr>
        </p:cxnSp>
        <p:cxnSp>
          <p:nvCxnSpPr>
            <p:cNvPr id="185" name="直接连接符 473"/>
            <p:cNvCxnSpPr/>
            <p:nvPr/>
          </p:nvCxnSpPr>
          <p:spPr>
            <a:xfrm>
              <a:off x="7551360" y="4140000"/>
              <a:ext cx="360" cy="360720"/>
            </a:xfrm>
            <a:prstGeom prst="straightConnector1">
              <a:avLst/>
            </a:prstGeom>
            <a:ln w="3175">
              <a:solidFill>
                <a:srgbClr val="ffffff">
                  <a:lumMod val="85000"/>
                </a:srgbClr>
              </a:solidFill>
              <a:round/>
            </a:ln>
          </p:spPr>
        </p:cxnSp>
        <p:cxnSp>
          <p:nvCxnSpPr>
            <p:cNvPr id="186" name="直接连接符 474"/>
            <p:cNvCxnSpPr/>
            <p:nvPr/>
          </p:nvCxnSpPr>
          <p:spPr>
            <a:xfrm>
              <a:off x="7910640" y="4140000"/>
              <a:ext cx="360" cy="360720"/>
            </a:xfrm>
            <a:prstGeom prst="straightConnector1">
              <a:avLst/>
            </a:prstGeom>
            <a:ln w="3175">
              <a:solidFill>
                <a:srgbClr val="ffffff">
                  <a:lumMod val="85000"/>
                </a:srgbClr>
              </a:solidFill>
              <a:round/>
            </a:ln>
          </p:spPr>
        </p:cxnSp>
        <p:cxnSp>
          <p:nvCxnSpPr>
            <p:cNvPr id="187" name="直接连接符 475"/>
            <p:cNvCxnSpPr/>
            <p:nvPr/>
          </p:nvCxnSpPr>
          <p:spPr>
            <a:xfrm>
              <a:off x="8270280" y="4140000"/>
              <a:ext cx="360" cy="360720"/>
            </a:xfrm>
            <a:prstGeom prst="straightConnector1">
              <a:avLst/>
            </a:prstGeom>
            <a:ln w="3175">
              <a:solidFill>
                <a:srgbClr val="ffffff">
                  <a:lumMod val="85000"/>
                </a:srgbClr>
              </a:solidFill>
              <a:round/>
            </a:ln>
          </p:spPr>
        </p:cxnSp>
        <p:cxnSp>
          <p:nvCxnSpPr>
            <p:cNvPr id="188" name="直接连接符 476"/>
            <p:cNvCxnSpPr/>
            <p:nvPr/>
          </p:nvCxnSpPr>
          <p:spPr>
            <a:xfrm>
              <a:off x="8629920" y="4140000"/>
              <a:ext cx="360" cy="360720"/>
            </a:xfrm>
            <a:prstGeom prst="straightConnector1">
              <a:avLst/>
            </a:prstGeom>
            <a:ln w="3175">
              <a:solidFill>
                <a:srgbClr val="ffffff">
                  <a:lumMod val="85000"/>
                </a:srgbClr>
              </a:solidFill>
              <a:round/>
            </a:ln>
          </p:spPr>
        </p:cxnSp>
        <p:cxnSp>
          <p:nvCxnSpPr>
            <p:cNvPr id="189" name="直接连接符 477"/>
            <p:cNvCxnSpPr/>
            <p:nvPr/>
          </p:nvCxnSpPr>
          <p:spPr>
            <a:xfrm>
              <a:off x="8989200" y="4140000"/>
              <a:ext cx="360" cy="360720"/>
            </a:xfrm>
            <a:prstGeom prst="straightConnector1">
              <a:avLst/>
            </a:prstGeom>
            <a:ln w="3175">
              <a:solidFill>
                <a:srgbClr val="ffffff">
                  <a:lumMod val="85000"/>
                </a:srgbClr>
              </a:solidFill>
              <a:round/>
            </a:ln>
          </p:spPr>
        </p:cxnSp>
        <p:cxnSp>
          <p:nvCxnSpPr>
            <p:cNvPr id="190" name="直接连接符 478"/>
            <p:cNvCxnSpPr/>
            <p:nvPr/>
          </p:nvCxnSpPr>
          <p:spPr>
            <a:xfrm>
              <a:off x="9348840" y="4140000"/>
              <a:ext cx="360" cy="360720"/>
            </a:xfrm>
            <a:prstGeom prst="straightConnector1">
              <a:avLst/>
            </a:prstGeom>
            <a:ln w="3175">
              <a:solidFill>
                <a:srgbClr val="ffffff">
                  <a:lumMod val="85000"/>
                </a:srgbClr>
              </a:solidFill>
              <a:round/>
            </a:ln>
          </p:spPr>
        </p:cxnSp>
        <p:cxnSp>
          <p:nvCxnSpPr>
            <p:cNvPr id="191" name="直接连接符 479"/>
            <p:cNvCxnSpPr/>
            <p:nvPr/>
          </p:nvCxnSpPr>
          <p:spPr>
            <a:xfrm>
              <a:off x="9708480" y="4140000"/>
              <a:ext cx="360" cy="360720"/>
            </a:xfrm>
            <a:prstGeom prst="straightConnector1">
              <a:avLst/>
            </a:prstGeom>
            <a:ln w="3175">
              <a:solidFill>
                <a:srgbClr val="ffffff">
                  <a:lumMod val="85000"/>
                </a:srgbClr>
              </a:solidFill>
              <a:round/>
            </a:ln>
          </p:spPr>
        </p:cxnSp>
        <p:cxnSp>
          <p:nvCxnSpPr>
            <p:cNvPr id="192" name="直接连接符 480"/>
            <p:cNvCxnSpPr/>
            <p:nvPr/>
          </p:nvCxnSpPr>
          <p:spPr>
            <a:xfrm>
              <a:off x="10067760" y="4140000"/>
              <a:ext cx="360" cy="360720"/>
            </a:xfrm>
            <a:prstGeom prst="straightConnector1">
              <a:avLst/>
            </a:prstGeom>
            <a:ln w="3175">
              <a:solidFill>
                <a:srgbClr val="ffffff">
                  <a:lumMod val="85000"/>
                </a:srgbClr>
              </a:solidFill>
              <a:round/>
            </a:ln>
          </p:spPr>
        </p:cxnSp>
        <p:cxnSp>
          <p:nvCxnSpPr>
            <p:cNvPr id="193" name="直接连接符 481"/>
            <p:cNvCxnSpPr/>
            <p:nvPr/>
          </p:nvCxnSpPr>
          <p:spPr>
            <a:xfrm>
              <a:off x="10427400" y="4140000"/>
              <a:ext cx="360" cy="360720"/>
            </a:xfrm>
            <a:prstGeom prst="straightConnector1">
              <a:avLst/>
            </a:prstGeom>
            <a:ln w="3175">
              <a:solidFill>
                <a:srgbClr val="ffffff">
                  <a:lumMod val="85000"/>
                </a:srgbClr>
              </a:solidFill>
              <a:round/>
            </a:ln>
          </p:spPr>
        </p:cxnSp>
        <p:cxnSp>
          <p:nvCxnSpPr>
            <p:cNvPr id="194" name="直接连接符 482"/>
            <p:cNvCxnSpPr/>
            <p:nvPr/>
          </p:nvCxnSpPr>
          <p:spPr>
            <a:xfrm>
              <a:off x="10787040" y="4140000"/>
              <a:ext cx="360" cy="360720"/>
            </a:xfrm>
            <a:prstGeom prst="straightConnector1">
              <a:avLst/>
            </a:prstGeom>
            <a:ln w="3175">
              <a:solidFill>
                <a:srgbClr val="ffffff">
                  <a:lumMod val="85000"/>
                </a:srgbClr>
              </a:solidFill>
              <a:round/>
            </a:ln>
          </p:spPr>
        </p:cxnSp>
        <p:cxnSp>
          <p:nvCxnSpPr>
            <p:cNvPr id="195" name="直接连接符 483"/>
            <p:cNvCxnSpPr/>
            <p:nvPr/>
          </p:nvCxnSpPr>
          <p:spPr>
            <a:xfrm>
              <a:off x="720720" y="4679280"/>
              <a:ext cx="360" cy="360720"/>
            </a:xfrm>
            <a:prstGeom prst="straightConnector1">
              <a:avLst/>
            </a:prstGeom>
            <a:ln w="3175">
              <a:solidFill>
                <a:srgbClr val="ffffff">
                  <a:lumMod val="85000"/>
                </a:srgbClr>
              </a:solidFill>
              <a:round/>
            </a:ln>
          </p:spPr>
        </p:cxnSp>
        <p:cxnSp>
          <p:nvCxnSpPr>
            <p:cNvPr id="196" name="直接连接符 484"/>
            <p:cNvCxnSpPr/>
            <p:nvPr/>
          </p:nvCxnSpPr>
          <p:spPr>
            <a:xfrm>
              <a:off x="1080000" y="4679640"/>
              <a:ext cx="360" cy="360720"/>
            </a:xfrm>
            <a:prstGeom prst="straightConnector1">
              <a:avLst/>
            </a:prstGeom>
            <a:ln w="3175">
              <a:solidFill>
                <a:srgbClr val="ffffff">
                  <a:lumMod val="85000"/>
                </a:srgbClr>
              </a:solidFill>
              <a:round/>
            </a:ln>
          </p:spPr>
        </p:cxnSp>
        <p:cxnSp>
          <p:nvCxnSpPr>
            <p:cNvPr id="197" name="直接连接符 485"/>
            <p:cNvCxnSpPr/>
            <p:nvPr/>
          </p:nvCxnSpPr>
          <p:spPr>
            <a:xfrm>
              <a:off x="1439640" y="4679640"/>
              <a:ext cx="360" cy="360720"/>
            </a:xfrm>
            <a:prstGeom prst="straightConnector1">
              <a:avLst/>
            </a:prstGeom>
            <a:ln w="3175">
              <a:solidFill>
                <a:srgbClr val="ffffff">
                  <a:lumMod val="85000"/>
                </a:srgbClr>
              </a:solidFill>
              <a:round/>
            </a:ln>
          </p:spPr>
        </p:cxnSp>
        <p:cxnSp>
          <p:nvCxnSpPr>
            <p:cNvPr id="198" name="直接连接符 486"/>
            <p:cNvCxnSpPr/>
            <p:nvPr/>
          </p:nvCxnSpPr>
          <p:spPr>
            <a:xfrm>
              <a:off x="1798920" y="4679640"/>
              <a:ext cx="360" cy="360720"/>
            </a:xfrm>
            <a:prstGeom prst="straightConnector1">
              <a:avLst/>
            </a:prstGeom>
            <a:ln w="3175">
              <a:solidFill>
                <a:srgbClr val="ffffff">
                  <a:lumMod val="85000"/>
                </a:srgbClr>
              </a:solidFill>
              <a:round/>
            </a:ln>
          </p:spPr>
        </p:cxnSp>
        <p:cxnSp>
          <p:nvCxnSpPr>
            <p:cNvPr id="199" name="直接连接符 487"/>
            <p:cNvCxnSpPr/>
            <p:nvPr/>
          </p:nvCxnSpPr>
          <p:spPr>
            <a:xfrm>
              <a:off x="2158560" y="4679640"/>
              <a:ext cx="360" cy="360720"/>
            </a:xfrm>
            <a:prstGeom prst="straightConnector1">
              <a:avLst/>
            </a:prstGeom>
            <a:ln w="3175">
              <a:solidFill>
                <a:srgbClr val="ffffff">
                  <a:lumMod val="85000"/>
                </a:srgbClr>
              </a:solidFill>
              <a:round/>
            </a:ln>
          </p:spPr>
        </p:cxnSp>
        <p:cxnSp>
          <p:nvCxnSpPr>
            <p:cNvPr id="200" name="直接连接符 488"/>
            <p:cNvCxnSpPr/>
            <p:nvPr/>
          </p:nvCxnSpPr>
          <p:spPr>
            <a:xfrm>
              <a:off x="2518200" y="4679640"/>
              <a:ext cx="360" cy="360720"/>
            </a:xfrm>
            <a:prstGeom prst="straightConnector1">
              <a:avLst/>
            </a:prstGeom>
            <a:ln w="3175">
              <a:solidFill>
                <a:srgbClr val="ffffff">
                  <a:lumMod val="85000"/>
                </a:srgbClr>
              </a:solidFill>
              <a:round/>
            </a:ln>
          </p:spPr>
        </p:cxnSp>
        <p:cxnSp>
          <p:nvCxnSpPr>
            <p:cNvPr id="201" name="直接连接符 489"/>
            <p:cNvCxnSpPr/>
            <p:nvPr/>
          </p:nvCxnSpPr>
          <p:spPr>
            <a:xfrm>
              <a:off x="2877480" y="4679640"/>
              <a:ext cx="360" cy="360720"/>
            </a:xfrm>
            <a:prstGeom prst="straightConnector1">
              <a:avLst/>
            </a:prstGeom>
            <a:ln w="3175">
              <a:solidFill>
                <a:srgbClr val="ffffff">
                  <a:lumMod val="85000"/>
                </a:srgbClr>
              </a:solidFill>
              <a:round/>
            </a:ln>
          </p:spPr>
        </p:cxnSp>
        <p:cxnSp>
          <p:nvCxnSpPr>
            <p:cNvPr id="202" name="直接连接符 490"/>
            <p:cNvCxnSpPr/>
            <p:nvPr/>
          </p:nvCxnSpPr>
          <p:spPr>
            <a:xfrm>
              <a:off x="3237120" y="4679640"/>
              <a:ext cx="360" cy="360720"/>
            </a:xfrm>
            <a:prstGeom prst="straightConnector1">
              <a:avLst/>
            </a:prstGeom>
            <a:ln w="3175">
              <a:solidFill>
                <a:srgbClr val="ffffff">
                  <a:lumMod val="85000"/>
                </a:srgbClr>
              </a:solidFill>
              <a:round/>
            </a:ln>
          </p:spPr>
        </p:cxnSp>
        <p:cxnSp>
          <p:nvCxnSpPr>
            <p:cNvPr id="203" name="直接连接符 491"/>
            <p:cNvCxnSpPr/>
            <p:nvPr/>
          </p:nvCxnSpPr>
          <p:spPr>
            <a:xfrm>
              <a:off x="3596760" y="4679640"/>
              <a:ext cx="360" cy="360720"/>
            </a:xfrm>
            <a:prstGeom prst="straightConnector1">
              <a:avLst/>
            </a:prstGeom>
            <a:ln w="3175">
              <a:solidFill>
                <a:srgbClr val="ffffff">
                  <a:lumMod val="85000"/>
                </a:srgbClr>
              </a:solidFill>
              <a:round/>
            </a:ln>
          </p:spPr>
        </p:cxnSp>
        <p:cxnSp>
          <p:nvCxnSpPr>
            <p:cNvPr id="204" name="直接连接符 492"/>
            <p:cNvCxnSpPr/>
            <p:nvPr/>
          </p:nvCxnSpPr>
          <p:spPr>
            <a:xfrm>
              <a:off x="3956040" y="4679640"/>
              <a:ext cx="360" cy="360720"/>
            </a:xfrm>
            <a:prstGeom prst="straightConnector1">
              <a:avLst/>
            </a:prstGeom>
            <a:ln w="3175">
              <a:solidFill>
                <a:srgbClr val="ffffff">
                  <a:lumMod val="85000"/>
                </a:srgbClr>
              </a:solidFill>
              <a:round/>
            </a:ln>
          </p:spPr>
        </p:cxnSp>
        <p:cxnSp>
          <p:nvCxnSpPr>
            <p:cNvPr id="205" name="直接连接符 493"/>
            <p:cNvCxnSpPr/>
            <p:nvPr/>
          </p:nvCxnSpPr>
          <p:spPr>
            <a:xfrm>
              <a:off x="4315680" y="4679640"/>
              <a:ext cx="360" cy="360720"/>
            </a:xfrm>
            <a:prstGeom prst="straightConnector1">
              <a:avLst/>
            </a:prstGeom>
            <a:ln w="3175">
              <a:solidFill>
                <a:srgbClr val="ffffff">
                  <a:lumMod val="85000"/>
                </a:srgbClr>
              </a:solidFill>
              <a:round/>
            </a:ln>
          </p:spPr>
        </p:cxnSp>
        <p:cxnSp>
          <p:nvCxnSpPr>
            <p:cNvPr id="206" name="直接连接符 494"/>
            <p:cNvCxnSpPr/>
            <p:nvPr/>
          </p:nvCxnSpPr>
          <p:spPr>
            <a:xfrm>
              <a:off x="4675320" y="4679640"/>
              <a:ext cx="360" cy="360720"/>
            </a:xfrm>
            <a:prstGeom prst="straightConnector1">
              <a:avLst/>
            </a:prstGeom>
            <a:ln w="3175">
              <a:solidFill>
                <a:srgbClr val="ffffff">
                  <a:lumMod val="85000"/>
                </a:srgbClr>
              </a:solidFill>
              <a:round/>
            </a:ln>
          </p:spPr>
        </p:cxnSp>
        <p:cxnSp>
          <p:nvCxnSpPr>
            <p:cNvPr id="207" name="直接连接符 495"/>
            <p:cNvCxnSpPr/>
            <p:nvPr/>
          </p:nvCxnSpPr>
          <p:spPr>
            <a:xfrm>
              <a:off x="5034600" y="4679640"/>
              <a:ext cx="360" cy="360720"/>
            </a:xfrm>
            <a:prstGeom prst="straightConnector1">
              <a:avLst/>
            </a:prstGeom>
            <a:ln w="3175">
              <a:solidFill>
                <a:srgbClr val="ffffff">
                  <a:lumMod val="85000"/>
                </a:srgbClr>
              </a:solidFill>
              <a:round/>
            </a:ln>
          </p:spPr>
        </p:cxnSp>
        <p:cxnSp>
          <p:nvCxnSpPr>
            <p:cNvPr id="208" name="直接连接符 496"/>
            <p:cNvCxnSpPr/>
            <p:nvPr/>
          </p:nvCxnSpPr>
          <p:spPr>
            <a:xfrm>
              <a:off x="5394240" y="4679640"/>
              <a:ext cx="360" cy="360720"/>
            </a:xfrm>
            <a:prstGeom prst="straightConnector1">
              <a:avLst/>
            </a:prstGeom>
            <a:ln w="3175">
              <a:solidFill>
                <a:srgbClr val="ffffff">
                  <a:lumMod val="85000"/>
                </a:srgbClr>
              </a:solidFill>
              <a:round/>
            </a:ln>
          </p:spPr>
        </p:cxnSp>
        <p:cxnSp>
          <p:nvCxnSpPr>
            <p:cNvPr id="209" name="直接连接符 497"/>
            <p:cNvCxnSpPr/>
            <p:nvPr/>
          </p:nvCxnSpPr>
          <p:spPr>
            <a:xfrm>
              <a:off x="5753880" y="4679640"/>
              <a:ext cx="360" cy="360720"/>
            </a:xfrm>
            <a:prstGeom prst="straightConnector1">
              <a:avLst/>
            </a:prstGeom>
            <a:ln w="3175">
              <a:solidFill>
                <a:srgbClr val="ffffff">
                  <a:lumMod val="85000"/>
                </a:srgbClr>
              </a:solidFill>
              <a:round/>
            </a:ln>
          </p:spPr>
        </p:cxnSp>
        <p:cxnSp>
          <p:nvCxnSpPr>
            <p:cNvPr id="210" name="直接连接符 498"/>
            <p:cNvCxnSpPr/>
            <p:nvPr/>
          </p:nvCxnSpPr>
          <p:spPr>
            <a:xfrm>
              <a:off x="6113160" y="4679640"/>
              <a:ext cx="360" cy="360720"/>
            </a:xfrm>
            <a:prstGeom prst="straightConnector1">
              <a:avLst/>
            </a:prstGeom>
            <a:ln w="3175">
              <a:solidFill>
                <a:srgbClr val="ffffff">
                  <a:lumMod val="85000"/>
                </a:srgbClr>
              </a:solidFill>
              <a:round/>
            </a:ln>
          </p:spPr>
        </p:cxnSp>
        <p:cxnSp>
          <p:nvCxnSpPr>
            <p:cNvPr id="211" name="直接连接符 499"/>
            <p:cNvCxnSpPr/>
            <p:nvPr/>
          </p:nvCxnSpPr>
          <p:spPr>
            <a:xfrm>
              <a:off x="6472800" y="4679640"/>
              <a:ext cx="360" cy="360720"/>
            </a:xfrm>
            <a:prstGeom prst="straightConnector1">
              <a:avLst/>
            </a:prstGeom>
            <a:ln w="3175">
              <a:solidFill>
                <a:srgbClr val="ffffff">
                  <a:lumMod val="85000"/>
                </a:srgbClr>
              </a:solidFill>
              <a:round/>
            </a:ln>
          </p:spPr>
        </p:cxnSp>
        <p:cxnSp>
          <p:nvCxnSpPr>
            <p:cNvPr id="212" name="直接连接符 500"/>
            <p:cNvCxnSpPr/>
            <p:nvPr/>
          </p:nvCxnSpPr>
          <p:spPr>
            <a:xfrm>
              <a:off x="6832080" y="4679640"/>
              <a:ext cx="360" cy="360720"/>
            </a:xfrm>
            <a:prstGeom prst="straightConnector1">
              <a:avLst/>
            </a:prstGeom>
            <a:ln w="3175">
              <a:solidFill>
                <a:srgbClr val="ffffff">
                  <a:lumMod val="85000"/>
                </a:srgbClr>
              </a:solidFill>
              <a:round/>
            </a:ln>
          </p:spPr>
        </p:cxnSp>
        <p:cxnSp>
          <p:nvCxnSpPr>
            <p:cNvPr id="213" name="直接连接符 501"/>
            <p:cNvCxnSpPr/>
            <p:nvPr/>
          </p:nvCxnSpPr>
          <p:spPr>
            <a:xfrm>
              <a:off x="7191720" y="4679640"/>
              <a:ext cx="360" cy="360720"/>
            </a:xfrm>
            <a:prstGeom prst="straightConnector1">
              <a:avLst/>
            </a:prstGeom>
            <a:ln w="3175">
              <a:solidFill>
                <a:srgbClr val="ffffff">
                  <a:lumMod val="85000"/>
                </a:srgbClr>
              </a:solidFill>
              <a:round/>
            </a:ln>
          </p:spPr>
        </p:cxnSp>
        <p:cxnSp>
          <p:nvCxnSpPr>
            <p:cNvPr id="214" name="直接连接符 502"/>
            <p:cNvCxnSpPr/>
            <p:nvPr/>
          </p:nvCxnSpPr>
          <p:spPr>
            <a:xfrm>
              <a:off x="7551360" y="4679640"/>
              <a:ext cx="360" cy="360720"/>
            </a:xfrm>
            <a:prstGeom prst="straightConnector1">
              <a:avLst/>
            </a:prstGeom>
            <a:ln w="3175">
              <a:solidFill>
                <a:srgbClr val="ffffff">
                  <a:lumMod val="85000"/>
                </a:srgbClr>
              </a:solidFill>
              <a:round/>
            </a:ln>
          </p:spPr>
        </p:cxnSp>
        <p:cxnSp>
          <p:nvCxnSpPr>
            <p:cNvPr id="215" name="直接连接符 503"/>
            <p:cNvCxnSpPr/>
            <p:nvPr/>
          </p:nvCxnSpPr>
          <p:spPr>
            <a:xfrm>
              <a:off x="7910640" y="4679640"/>
              <a:ext cx="360" cy="360720"/>
            </a:xfrm>
            <a:prstGeom prst="straightConnector1">
              <a:avLst/>
            </a:prstGeom>
            <a:ln w="3175">
              <a:solidFill>
                <a:srgbClr val="ffffff">
                  <a:lumMod val="85000"/>
                </a:srgbClr>
              </a:solidFill>
              <a:round/>
            </a:ln>
          </p:spPr>
        </p:cxnSp>
        <p:cxnSp>
          <p:nvCxnSpPr>
            <p:cNvPr id="216" name="直接连接符 504"/>
            <p:cNvCxnSpPr/>
            <p:nvPr/>
          </p:nvCxnSpPr>
          <p:spPr>
            <a:xfrm>
              <a:off x="8270280" y="4679640"/>
              <a:ext cx="360" cy="360720"/>
            </a:xfrm>
            <a:prstGeom prst="straightConnector1">
              <a:avLst/>
            </a:prstGeom>
            <a:ln w="3175">
              <a:solidFill>
                <a:srgbClr val="ffffff">
                  <a:lumMod val="85000"/>
                </a:srgbClr>
              </a:solidFill>
              <a:round/>
            </a:ln>
          </p:spPr>
        </p:cxnSp>
        <p:cxnSp>
          <p:nvCxnSpPr>
            <p:cNvPr id="217" name="直接连接符 505"/>
            <p:cNvCxnSpPr/>
            <p:nvPr/>
          </p:nvCxnSpPr>
          <p:spPr>
            <a:xfrm>
              <a:off x="8629920" y="4679640"/>
              <a:ext cx="360" cy="360720"/>
            </a:xfrm>
            <a:prstGeom prst="straightConnector1">
              <a:avLst/>
            </a:prstGeom>
            <a:ln w="3175">
              <a:solidFill>
                <a:srgbClr val="ffffff">
                  <a:lumMod val="85000"/>
                </a:srgbClr>
              </a:solidFill>
              <a:round/>
            </a:ln>
          </p:spPr>
        </p:cxnSp>
        <p:cxnSp>
          <p:nvCxnSpPr>
            <p:cNvPr id="218" name="直接连接符 506"/>
            <p:cNvCxnSpPr/>
            <p:nvPr/>
          </p:nvCxnSpPr>
          <p:spPr>
            <a:xfrm>
              <a:off x="8989200" y="4679640"/>
              <a:ext cx="360" cy="360720"/>
            </a:xfrm>
            <a:prstGeom prst="straightConnector1">
              <a:avLst/>
            </a:prstGeom>
            <a:ln w="3175">
              <a:solidFill>
                <a:srgbClr val="ffffff">
                  <a:lumMod val="85000"/>
                </a:srgbClr>
              </a:solidFill>
              <a:round/>
            </a:ln>
          </p:spPr>
        </p:cxnSp>
        <p:cxnSp>
          <p:nvCxnSpPr>
            <p:cNvPr id="219" name="直接连接符 507"/>
            <p:cNvCxnSpPr/>
            <p:nvPr/>
          </p:nvCxnSpPr>
          <p:spPr>
            <a:xfrm>
              <a:off x="9348840" y="4679640"/>
              <a:ext cx="360" cy="360720"/>
            </a:xfrm>
            <a:prstGeom prst="straightConnector1">
              <a:avLst/>
            </a:prstGeom>
            <a:ln w="3175">
              <a:solidFill>
                <a:srgbClr val="ffffff">
                  <a:lumMod val="85000"/>
                </a:srgbClr>
              </a:solidFill>
              <a:round/>
            </a:ln>
          </p:spPr>
        </p:cxnSp>
        <p:cxnSp>
          <p:nvCxnSpPr>
            <p:cNvPr id="220" name="直接连接符 508"/>
            <p:cNvCxnSpPr/>
            <p:nvPr/>
          </p:nvCxnSpPr>
          <p:spPr>
            <a:xfrm>
              <a:off x="9708480" y="4679640"/>
              <a:ext cx="360" cy="360720"/>
            </a:xfrm>
            <a:prstGeom prst="straightConnector1">
              <a:avLst/>
            </a:prstGeom>
            <a:ln w="3175">
              <a:solidFill>
                <a:srgbClr val="ffffff">
                  <a:lumMod val="85000"/>
                </a:srgbClr>
              </a:solidFill>
              <a:round/>
            </a:ln>
          </p:spPr>
        </p:cxnSp>
        <p:cxnSp>
          <p:nvCxnSpPr>
            <p:cNvPr id="221" name="直接连接符 509"/>
            <p:cNvCxnSpPr/>
            <p:nvPr/>
          </p:nvCxnSpPr>
          <p:spPr>
            <a:xfrm>
              <a:off x="10067760" y="4679640"/>
              <a:ext cx="360" cy="360720"/>
            </a:xfrm>
            <a:prstGeom prst="straightConnector1">
              <a:avLst/>
            </a:prstGeom>
            <a:ln w="3175">
              <a:solidFill>
                <a:srgbClr val="ffffff">
                  <a:lumMod val="85000"/>
                </a:srgbClr>
              </a:solidFill>
              <a:round/>
            </a:ln>
          </p:spPr>
        </p:cxnSp>
        <p:cxnSp>
          <p:nvCxnSpPr>
            <p:cNvPr id="222" name="直接连接符 510"/>
            <p:cNvCxnSpPr/>
            <p:nvPr/>
          </p:nvCxnSpPr>
          <p:spPr>
            <a:xfrm>
              <a:off x="10427400" y="4679640"/>
              <a:ext cx="360" cy="360720"/>
            </a:xfrm>
            <a:prstGeom prst="straightConnector1">
              <a:avLst/>
            </a:prstGeom>
            <a:ln w="3175">
              <a:solidFill>
                <a:srgbClr val="ffffff">
                  <a:lumMod val="85000"/>
                </a:srgbClr>
              </a:solidFill>
              <a:round/>
            </a:ln>
          </p:spPr>
        </p:cxnSp>
        <p:cxnSp>
          <p:nvCxnSpPr>
            <p:cNvPr id="223" name="直接连接符 511"/>
            <p:cNvCxnSpPr/>
            <p:nvPr/>
          </p:nvCxnSpPr>
          <p:spPr>
            <a:xfrm>
              <a:off x="10787040" y="4679640"/>
              <a:ext cx="360" cy="360720"/>
            </a:xfrm>
            <a:prstGeom prst="straightConnector1">
              <a:avLst/>
            </a:prstGeom>
            <a:ln w="3175">
              <a:solidFill>
                <a:srgbClr val="ffffff">
                  <a:lumMod val="85000"/>
                </a:srgbClr>
              </a:solidFill>
              <a:round/>
            </a:ln>
          </p:spPr>
        </p:cxnSp>
        <p:cxnSp>
          <p:nvCxnSpPr>
            <p:cNvPr id="224" name="直接连接符 512"/>
            <p:cNvCxnSpPr/>
            <p:nvPr/>
          </p:nvCxnSpPr>
          <p:spPr>
            <a:xfrm>
              <a:off x="720720" y="5219280"/>
              <a:ext cx="360" cy="360720"/>
            </a:xfrm>
            <a:prstGeom prst="straightConnector1">
              <a:avLst/>
            </a:prstGeom>
            <a:ln w="3175">
              <a:solidFill>
                <a:srgbClr val="ffffff">
                  <a:lumMod val="85000"/>
                </a:srgbClr>
              </a:solidFill>
              <a:round/>
            </a:ln>
          </p:spPr>
        </p:cxnSp>
        <p:cxnSp>
          <p:nvCxnSpPr>
            <p:cNvPr id="225" name="直接连接符 513"/>
            <p:cNvCxnSpPr/>
            <p:nvPr/>
          </p:nvCxnSpPr>
          <p:spPr>
            <a:xfrm>
              <a:off x="1080000" y="5219280"/>
              <a:ext cx="360" cy="360720"/>
            </a:xfrm>
            <a:prstGeom prst="straightConnector1">
              <a:avLst/>
            </a:prstGeom>
            <a:ln w="3175">
              <a:solidFill>
                <a:srgbClr val="ffffff">
                  <a:lumMod val="85000"/>
                </a:srgbClr>
              </a:solidFill>
              <a:round/>
            </a:ln>
          </p:spPr>
        </p:cxnSp>
        <p:cxnSp>
          <p:nvCxnSpPr>
            <p:cNvPr id="226" name="直接连接符 514"/>
            <p:cNvCxnSpPr/>
            <p:nvPr/>
          </p:nvCxnSpPr>
          <p:spPr>
            <a:xfrm>
              <a:off x="1439640" y="5219280"/>
              <a:ext cx="360" cy="360720"/>
            </a:xfrm>
            <a:prstGeom prst="straightConnector1">
              <a:avLst/>
            </a:prstGeom>
            <a:ln w="3175">
              <a:solidFill>
                <a:srgbClr val="ffffff">
                  <a:lumMod val="85000"/>
                </a:srgbClr>
              </a:solidFill>
              <a:round/>
            </a:ln>
          </p:spPr>
        </p:cxnSp>
        <p:cxnSp>
          <p:nvCxnSpPr>
            <p:cNvPr id="227" name="直接连接符 515"/>
            <p:cNvCxnSpPr/>
            <p:nvPr/>
          </p:nvCxnSpPr>
          <p:spPr>
            <a:xfrm>
              <a:off x="1798920" y="5219280"/>
              <a:ext cx="360" cy="360720"/>
            </a:xfrm>
            <a:prstGeom prst="straightConnector1">
              <a:avLst/>
            </a:prstGeom>
            <a:ln w="3175">
              <a:solidFill>
                <a:srgbClr val="ffffff">
                  <a:lumMod val="85000"/>
                </a:srgbClr>
              </a:solidFill>
              <a:round/>
            </a:ln>
          </p:spPr>
        </p:cxnSp>
        <p:cxnSp>
          <p:nvCxnSpPr>
            <p:cNvPr id="228" name="直接连接符 516"/>
            <p:cNvCxnSpPr/>
            <p:nvPr/>
          </p:nvCxnSpPr>
          <p:spPr>
            <a:xfrm>
              <a:off x="2158560" y="5219280"/>
              <a:ext cx="360" cy="360720"/>
            </a:xfrm>
            <a:prstGeom prst="straightConnector1">
              <a:avLst/>
            </a:prstGeom>
            <a:ln w="3175">
              <a:solidFill>
                <a:srgbClr val="ffffff">
                  <a:lumMod val="85000"/>
                </a:srgbClr>
              </a:solidFill>
              <a:round/>
            </a:ln>
          </p:spPr>
        </p:cxnSp>
        <p:cxnSp>
          <p:nvCxnSpPr>
            <p:cNvPr id="229" name="直接连接符 517"/>
            <p:cNvCxnSpPr/>
            <p:nvPr/>
          </p:nvCxnSpPr>
          <p:spPr>
            <a:xfrm>
              <a:off x="2518200" y="5219280"/>
              <a:ext cx="360" cy="360720"/>
            </a:xfrm>
            <a:prstGeom prst="straightConnector1">
              <a:avLst/>
            </a:prstGeom>
            <a:ln w="3175">
              <a:solidFill>
                <a:srgbClr val="ffffff">
                  <a:lumMod val="85000"/>
                </a:srgbClr>
              </a:solidFill>
              <a:round/>
            </a:ln>
          </p:spPr>
        </p:cxnSp>
        <p:cxnSp>
          <p:nvCxnSpPr>
            <p:cNvPr id="230" name="直接连接符 518"/>
            <p:cNvCxnSpPr/>
            <p:nvPr/>
          </p:nvCxnSpPr>
          <p:spPr>
            <a:xfrm>
              <a:off x="2877480" y="5219280"/>
              <a:ext cx="360" cy="360720"/>
            </a:xfrm>
            <a:prstGeom prst="straightConnector1">
              <a:avLst/>
            </a:prstGeom>
            <a:ln w="3175">
              <a:solidFill>
                <a:srgbClr val="ffffff">
                  <a:lumMod val="85000"/>
                </a:srgbClr>
              </a:solidFill>
              <a:round/>
            </a:ln>
          </p:spPr>
        </p:cxnSp>
        <p:cxnSp>
          <p:nvCxnSpPr>
            <p:cNvPr id="231" name="直接连接符 519"/>
            <p:cNvCxnSpPr/>
            <p:nvPr/>
          </p:nvCxnSpPr>
          <p:spPr>
            <a:xfrm>
              <a:off x="3237120" y="5219280"/>
              <a:ext cx="360" cy="360720"/>
            </a:xfrm>
            <a:prstGeom prst="straightConnector1">
              <a:avLst/>
            </a:prstGeom>
            <a:ln w="3175">
              <a:solidFill>
                <a:srgbClr val="ffffff">
                  <a:lumMod val="85000"/>
                </a:srgbClr>
              </a:solidFill>
              <a:round/>
            </a:ln>
          </p:spPr>
        </p:cxnSp>
        <p:cxnSp>
          <p:nvCxnSpPr>
            <p:cNvPr id="232" name="直接连接符 520"/>
            <p:cNvCxnSpPr/>
            <p:nvPr/>
          </p:nvCxnSpPr>
          <p:spPr>
            <a:xfrm>
              <a:off x="3596760" y="5219280"/>
              <a:ext cx="360" cy="360720"/>
            </a:xfrm>
            <a:prstGeom prst="straightConnector1">
              <a:avLst/>
            </a:prstGeom>
            <a:ln w="3175">
              <a:solidFill>
                <a:srgbClr val="ffffff">
                  <a:lumMod val="85000"/>
                </a:srgbClr>
              </a:solidFill>
              <a:round/>
            </a:ln>
          </p:spPr>
        </p:cxnSp>
        <p:cxnSp>
          <p:nvCxnSpPr>
            <p:cNvPr id="233" name="直接连接符 521"/>
            <p:cNvCxnSpPr/>
            <p:nvPr/>
          </p:nvCxnSpPr>
          <p:spPr>
            <a:xfrm>
              <a:off x="3956040" y="5219280"/>
              <a:ext cx="360" cy="360720"/>
            </a:xfrm>
            <a:prstGeom prst="straightConnector1">
              <a:avLst/>
            </a:prstGeom>
            <a:ln w="3175">
              <a:solidFill>
                <a:srgbClr val="ffffff">
                  <a:lumMod val="85000"/>
                </a:srgbClr>
              </a:solidFill>
              <a:round/>
            </a:ln>
          </p:spPr>
        </p:cxnSp>
        <p:cxnSp>
          <p:nvCxnSpPr>
            <p:cNvPr id="234" name="直接连接符 522"/>
            <p:cNvCxnSpPr/>
            <p:nvPr/>
          </p:nvCxnSpPr>
          <p:spPr>
            <a:xfrm>
              <a:off x="4315680" y="5219280"/>
              <a:ext cx="360" cy="360720"/>
            </a:xfrm>
            <a:prstGeom prst="straightConnector1">
              <a:avLst/>
            </a:prstGeom>
            <a:ln w="3175">
              <a:solidFill>
                <a:srgbClr val="ffffff">
                  <a:lumMod val="85000"/>
                </a:srgbClr>
              </a:solidFill>
              <a:round/>
            </a:ln>
          </p:spPr>
        </p:cxnSp>
        <p:cxnSp>
          <p:nvCxnSpPr>
            <p:cNvPr id="235" name="直接连接符 523"/>
            <p:cNvCxnSpPr/>
            <p:nvPr/>
          </p:nvCxnSpPr>
          <p:spPr>
            <a:xfrm>
              <a:off x="4675320" y="5219280"/>
              <a:ext cx="360" cy="360720"/>
            </a:xfrm>
            <a:prstGeom prst="straightConnector1">
              <a:avLst/>
            </a:prstGeom>
            <a:ln w="3175">
              <a:solidFill>
                <a:srgbClr val="ffffff">
                  <a:lumMod val="85000"/>
                </a:srgbClr>
              </a:solidFill>
              <a:round/>
            </a:ln>
          </p:spPr>
        </p:cxnSp>
        <p:cxnSp>
          <p:nvCxnSpPr>
            <p:cNvPr id="236" name="直接连接符 524"/>
            <p:cNvCxnSpPr/>
            <p:nvPr/>
          </p:nvCxnSpPr>
          <p:spPr>
            <a:xfrm>
              <a:off x="5034600" y="5219280"/>
              <a:ext cx="360" cy="360720"/>
            </a:xfrm>
            <a:prstGeom prst="straightConnector1">
              <a:avLst/>
            </a:prstGeom>
            <a:ln w="3175">
              <a:solidFill>
                <a:srgbClr val="ffffff">
                  <a:lumMod val="85000"/>
                </a:srgbClr>
              </a:solidFill>
              <a:round/>
            </a:ln>
          </p:spPr>
        </p:cxnSp>
        <p:cxnSp>
          <p:nvCxnSpPr>
            <p:cNvPr id="237" name="直接连接符 525"/>
            <p:cNvCxnSpPr/>
            <p:nvPr/>
          </p:nvCxnSpPr>
          <p:spPr>
            <a:xfrm>
              <a:off x="5394240" y="5219280"/>
              <a:ext cx="360" cy="360720"/>
            </a:xfrm>
            <a:prstGeom prst="straightConnector1">
              <a:avLst/>
            </a:prstGeom>
            <a:ln w="3175">
              <a:solidFill>
                <a:srgbClr val="ffffff">
                  <a:lumMod val="85000"/>
                </a:srgbClr>
              </a:solidFill>
              <a:round/>
            </a:ln>
          </p:spPr>
        </p:cxnSp>
        <p:cxnSp>
          <p:nvCxnSpPr>
            <p:cNvPr id="238" name="直接连接符 526"/>
            <p:cNvCxnSpPr/>
            <p:nvPr/>
          </p:nvCxnSpPr>
          <p:spPr>
            <a:xfrm>
              <a:off x="5753880" y="5219280"/>
              <a:ext cx="360" cy="360720"/>
            </a:xfrm>
            <a:prstGeom prst="straightConnector1">
              <a:avLst/>
            </a:prstGeom>
            <a:ln w="3175">
              <a:solidFill>
                <a:srgbClr val="ffffff">
                  <a:lumMod val="85000"/>
                </a:srgbClr>
              </a:solidFill>
              <a:round/>
            </a:ln>
          </p:spPr>
        </p:cxnSp>
        <p:cxnSp>
          <p:nvCxnSpPr>
            <p:cNvPr id="239" name="直接连接符 527"/>
            <p:cNvCxnSpPr/>
            <p:nvPr/>
          </p:nvCxnSpPr>
          <p:spPr>
            <a:xfrm>
              <a:off x="6113160" y="5219280"/>
              <a:ext cx="360" cy="360720"/>
            </a:xfrm>
            <a:prstGeom prst="straightConnector1">
              <a:avLst/>
            </a:prstGeom>
            <a:ln w="3175">
              <a:solidFill>
                <a:srgbClr val="ffffff">
                  <a:lumMod val="85000"/>
                </a:srgbClr>
              </a:solidFill>
              <a:round/>
            </a:ln>
          </p:spPr>
        </p:cxnSp>
        <p:cxnSp>
          <p:nvCxnSpPr>
            <p:cNvPr id="240" name="直接连接符 528"/>
            <p:cNvCxnSpPr/>
            <p:nvPr/>
          </p:nvCxnSpPr>
          <p:spPr>
            <a:xfrm>
              <a:off x="6472800" y="5219280"/>
              <a:ext cx="360" cy="360720"/>
            </a:xfrm>
            <a:prstGeom prst="straightConnector1">
              <a:avLst/>
            </a:prstGeom>
            <a:ln w="3175">
              <a:solidFill>
                <a:srgbClr val="ffffff">
                  <a:lumMod val="85000"/>
                </a:srgbClr>
              </a:solidFill>
              <a:round/>
            </a:ln>
          </p:spPr>
        </p:cxnSp>
        <p:cxnSp>
          <p:nvCxnSpPr>
            <p:cNvPr id="241" name="直接连接符 529"/>
            <p:cNvCxnSpPr/>
            <p:nvPr/>
          </p:nvCxnSpPr>
          <p:spPr>
            <a:xfrm>
              <a:off x="6832080" y="5219280"/>
              <a:ext cx="360" cy="360720"/>
            </a:xfrm>
            <a:prstGeom prst="straightConnector1">
              <a:avLst/>
            </a:prstGeom>
            <a:ln w="3175">
              <a:solidFill>
                <a:srgbClr val="ffffff">
                  <a:lumMod val="85000"/>
                </a:srgbClr>
              </a:solidFill>
              <a:round/>
            </a:ln>
          </p:spPr>
        </p:cxnSp>
        <p:cxnSp>
          <p:nvCxnSpPr>
            <p:cNvPr id="242" name="直接连接符 530"/>
            <p:cNvCxnSpPr/>
            <p:nvPr/>
          </p:nvCxnSpPr>
          <p:spPr>
            <a:xfrm>
              <a:off x="7191720" y="5219280"/>
              <a:ext cx="360" cy="360720"/>
            </a:xfrm>
            <a:prstGeom prst="straightConnector1">
              <a:avLst/>
            </a:prstGeom>
            <a:ln w="3175">
              <a:solidFill>
                <a:srgbClr val="ffffff">
                  <a:lumMod val="85000"/>
                </a:srgbClr>
              </a:solidFill>
              <a:round/>
            </a:ln>
          </p:spPr>
        </p:cxnSp>
        <p:cxnSp>
          <p:nvCxnSpPr>
            <p:cNvPr id="243" name="直接连接符 531"/>
            <p:cNvCxnSpPr/>
            <p:nvPr/>
          </p:nvCxnSpPr>
          <p:spPr>
            <a:xfrm>
              <a:off x="7551360" y="5219280"/>
              <a:ext cx="360" cy="360720"/>
            </a:xfrm>
            <a:prstGeom prst="straightConnector1">
              <a:avLst/>
            </a:prstGeom>
            <a:ln w="3175">
              <a:solidFill>
                <a:srgbClr val="ffffff">
                  <a:lumMod val="85000"/>
                </a:srgbClr>
              </a:solidFill>
              <a:round/>
            </a:ln>
          </p:spPr>
        </p:cxnSp>
        <p:cxnSp>
          <p:nvCxnSpPr>
            <p:cNvPr id="244" name="直接连接符 532"/>
            <p:cNvCxnSpPr/>
            <p:nvPr/>
          </p:nvCxnSpPr>
          <p:spPr>
            <a:xfrm>
              <a:off x="7910640" y="5219280"/>
              <a:ext cx="360" cy="360720"/>
            </a:xfrm>
            <a:prstGeom prst="straightConnector1">
              <a:avLst/>
            </a:prstGeom>
            <a:ln w="3175">
              <a:solidFill>
                <a:srgbClr val="ffffff">
                  <a:lumMod val="85000"/>
                </a:srgbClr>
              </a:solidFill>
              <a:round/>
            </a:ln>
          </p:spPr>
        </p:cxnSp>
        <p:cxnSp>
          <p:nvCxnSpPr>
            <p:cNvPr id="245" name="直接连接符 533"/>
            <p:cNvCxnSpPr/>
            <p:nvPr/>
          </p:nvCxnSpPr>
          <p:spPr>
            <a:xfrm>
              <a:off x="8270280" y="5219280"/>
              <a:ext cx="360" cy="360720"/>
            </a:xfrm>
            <a:prstGeom prst="straightConnector1">
              <a:avLst/>
            </a:prstGeom>
            <a:ln w="3175">
              <a:solidFill>
                <a:srgbClr val="ffffff">
                  <a:lumMod val="85000"/>
                </a:srgbClr>
              </a:solidFill>
              <a:round/>
            </a:ln>
          </p:spPr>
        </p:cxnSp>
        <p:cxnSp>
          <p:nvCxnSpPr>
            <p:cNvPr id="246" name="直接连接符 534"/>
            <p:cNvCxnSpPr/>
            <p:nvPr/>
          </p:nvCxnSpPr>
          <p:spPr>
            <a:xfrm>
              <a:off x="8629920" y="5219280"/>
              <a:ext cx="360" cy="360720"/>
            </a:xfrm>
            <a:prstGeom prst="straightConnector1">
              <a:avLst/>
            </a:prstGeom>
            <a:ln w="3175">
              <a:solidFill>
                <a:srgbClr val="ffffff">
                  <a:lumMod val="85000"/>
                </a:srgbClr>
              </a:solidFill>
              <a:round/>
            </a:ln>
          </p:spPr>
        </p:cxnSp>
        <p:cxnSp>
          <p:nvCxnSpPr>
            <p:cNvPr id="247" name="直接连接符 535"/>
            <p:cNvCxnSpPr/>
            <p:nvPr/>
          </p:nvCxnSpPr>
          <p:spPr>
            <a:xfrm>
              <a:off x="8989200" y="5219280"/>
              <a:ext cx="360" cy="360720"/>
            </a:xfrm>
            <a:prstGeom prst="straightConnector1">
              <a:avLst/>
            </a:prstGeom>
            <a:ln w="3175">
              <a:solidFill>
                <a:srgbClr val="ffffff">
                  <a:lumMod val="85000"/>
                </a:srgbClr>
              </a:solidFill>
              <a:round/>
            </a:ln>
          </p:spPr>
        </p:cxnSp>
        <p:cxnSp>
          <p:nvCxnSpPr>
            <p:cNvPr id="248" name="直接连接符 536"/>
            <p:cNvCxnSpPr/>
            <p:nvPr/>
          </p:nvCxnSpPr>
          <p:spPr>
            <a:xfrm>
              <a:off x="9348840" y="5219280"/>
              <a:ext cx="360" cy="360720"/>
            </a:xfrm>
            <a:prstGeom prst="straightConnector1">
              <a:avLst/>
            </a:prstGeom>
            <a:ln w="3175">
              <a:solidFill>
                <a:srgbClr val="ffffff">
                  <a:lumMod val="85000"/>
                </a:srgbClr>
              </a:solidFill>
              <a:round/>
            </a:ln>
          </p:spPr>
        </p:cxnSp>
        <p:cxnSp>
          <p:nvCxnSpPr>
            <p:cNvPr id="249" name="直接连接符 537"/>
            <p:cNvCxnSpPr/>
            <p:nvPr/>
          </p:nvCxnSpPr>
          <p:spPr>
            <a:xfrm>
              <a:off x="9708480" y="5219280"/>
              <a:ext cx="360" cy="360720"/>
            </a:xfrm>
            <a:prstGeom prst="straightConnector1">
              <a:avLst/>
            </a:prstGeom>
            <a:ln w="3175">
              <a:solidFill>
                <a:srgbClr val="ffffff">
                  <a:lumMod val="85000"/>
                </a:srgbClr>
              </a:solidFill>
              <a:round/>
            </a:ln>
          </p:spPr>
        </p:cxnSp>
        <p:cxnSp>
          <p:nvCxnSpPr>
            <p:cNvPr id="250" name="直接连接符 538"/>
            <p:cNvCxnSpPr/>
            <p:nvPr/>
          </p:nvCxnSpPr>
          <p:spPr>
            <a:xfrm>
              <a:off x="10067760" y="5219280"/>
              <a:ext cx="360" cy="360720"/>
            </a:xfrm>
            <a:prstGeom prst="straightConnector1">
              <a:avLst/>
            </a:prstGeom>
            <a:ln w="3175">
              <a:solidFill>
                <a:srgbClr val="ffffff">
                  <a:lumMod val="85000"/>
                </a:srgbClr>
              </a:solidFill>
              <a:round/>
            </a:ln>
          </p:spPr>
        </p:cxnSp>
        <p:cxnSp>
          <p:nvCxnSpPr>
            <p:cNvPr id="251" name="直接连接符 539"/>
            <p:cNvCxnSpPr/>
            <p:nvPr/>
          </p:nvCxnSpPr>
          <p:spPr>
            <a:xfrm>
              <a:off x="10427400" y="5219280"/>
              <a:ext cx="360" cy="360720"/>
            </a:xfrm>
            <a:prstGeom prst="straightConnector1">
              <a:avLst/>
            </a:prstGeom>
            <a:ln w="3175">
              <a:solidFill>
                <a:srgbClr val="ffffff">
                  <a:lumMod val="85000"/>
                </a:srgbClr>
              </a:solidFill>
              <a:round/>
            </a:ln>
          </p:spPr>
        </p:cxnSp>
        <p:cxnSp>
          <p:nvCxnSpPr>
            <p:cNvPr id="252" name="直接连接符 540"/>
            <p:cNvCxnSpPr/>
            <p:nvPr/>
          </p:nvCxnSpPr>
          <p:spPr>
            <a:xfrm>
              <a:off x="10787040" y="5219280"/>
              <a:ext cx="360" cy="360720"/>
            </a:xfrm>
            <a:prstGeom prst="straightConnector1">
              <a:avLst/>
            </a:prstGeom>
            <a:ln w="3175">
              <a:solidFill>
                <a:srgbClr val="ffffff">
                  <a:lumMod val="85000"/>
                </a:srgbClr>
              </a:solidFill>
              <a:round/>
            </a:ln>
          </p:spPr>
        </p:cxnSp>
        <p:cxnSp>
          <p:nvCxnSpPr>
            <p:cNvPr id="253" name="直接连接符 541"/>
            <p:cNvCxnSpPr/>
            <p:nvPr/>
          </p:nvCxnSpPr>
          <p:spPr>
            <a:xfrm>
              <a:off x="720720" y="5759280"/>
              <a:ext cx="360" cy="360720"/>
            </a:xfrm>
            <a:prstGeom prst="straightConnector1">
              <a:avLst/>
            </a:prstGeom>
            <a:ln w="3175">
              <a:solidFill>
                <a:srgbClr val="ffffff">
                  <a:lumMod val="85000"/>
                </a:srgbClr>
              </a:solidFill>
              <a:round/>
            </a:ln>
          </p:spPr>
        </p:cxnSp>
        <p:cxnSp>
          <p:nvCxnSpPr>
            <p:cNvPr id="254" name="直接连接符 542"/>
            <p:cNvCxnSpPr/>
            <p:nvPr/>
          </p:nvCxnSpPr>
          <p:spPr>
            <a:xfrm>
              <a:off x="1080000" y="5759280"/>
              <a:ext cx="360" cy="360720"/>
            </a:xfrm>
            <a:prstGeom prst="straightConnector1">
              <a:avLst/>
            </a:prstGeom>
            <a:ln w="3175">
              <a:solidFill>
                <a:srgbClr val="ffffff">
                  <a:lumMod val="85000"/>
                </a:srgbClr>
              </a:solidFill>
              <a:round/>
            </a:ln>
          </p:spPr>
        </p:cxnSp>
        <p:cxnSp>
          <p:nvCxnSpPr>
            <p:cNvPr id="255" name="直接连接符 543"/>
            <p:cNvCxnSpPr/>
            <p:nvPr/>
          </p:nvCxnSpPr>
          <p:spPr>
            <a:xfrm>
              <a:off x="1439640" y="5759280"/>
              <a:ext cx="360" cy="360720"/>
            </a:xfrm>
            <a:prstGeom prst="straightConnector1">
              <a:avLst/>
            </a:prstGeom>
            <a:ln w="3175">
              <a:solidFill>
                <a:srgbClr val="ffffff">
                  <a:lumMod val="85000"/>
                </a:srgbClr>
              </a:solidFill>
              <a:round/>
            </a:ln>
          </p:spPr>
        </p:cxnSp>
        <p:cxnSp>
          <p:nvCxnSpPr>
            <p:cNvPr id="256" name="直接连接符 544"/>
            <p:cNvCxnSpPr/>
            <p:nvPr/>
          </p:nvCxnSpPr>
          <p:spPr>
            <a:xfrm>
              <a:off x="1798920" y="5759280"/>
              <a:ext cx="360" cy="360720"/>
            </a:xfrm>
            <a:prstGeom prst="straightConnector1">
              <a:avLst/>
            </a:prstGeom>
            <a:ln w="3175">
              <a:solidFill>
                <a:srgbClr val="ffffff">
                  <a:lumMod val="85000"/>
                </a:srgbClr>
              </a:solidFill>
              <a:round/>
            </a:ln>
          </p:spPr>
        </p:cxnSp>
        <p:cxnSp>
          <p:nvCxnSpPr>
            <p:cNvPr id="257" name="直接连接符 545"/>
            <p:cNvCxnSpPr/>
            <p:nvPr/>
          </p:nvCxnSpPr>
          <p:spPr>
            <a:xfrm>
              <a:off x="2158560" y="5759280"/>
              <a:ext cx="360" cy="360720"/>
            </a:xfrm>
            <a:prstGeom prst="straightConnector1">
              <a:avLst/>
            </a:prstGeom>
            <a:ln w="3175">
              <a:solidFill>
                <a:srgbClr val="ffffff">
                  <a:lumMod val="85000"/>
                </a:srgbClr>
              </a:solidFill>
              <a:round/>
            </a:ln>
          </p:spPr>
        </p:cxnSp>
        <p:cxnSp>
          <p:nvCxnSpPr>
            <p:cNvPr id="258" name="直接连接符 546"/>
            <p:cNvCxnSpPr/>
            <p:nvPr/>
          </p:nvCxnSpPr>
          <p:spPr>
            <a:xfrm>
              <a:off x="2518200" y="5759280"/>
              <a:ext cx="360" cy="360720"/>
            </a:xfrm>
            <a:prstGeom prst="straightConnector1">
              <a:avLst/>
            </a:prstGeom>
            <a:ln w="3175">
              <a:solidFill>
                <a:srgbClr val="ffffff">
                  <a:lumMod val="85000"/>
                </a:srgbClr>
              </a:solidFill>
              <a:round/>
            </a:ln>
          </p:spPr>
        </p:cxnSp>
        <p:cxnSp>
          <p:nvCxnSpPr>
            <p:cNvPr id="259" name="直接连接符 547"/>
            <p:cNvCxnSpPr/>
            <p:nvPr/>
          </p:nvCxnSpPr>
          <p:spPr>
            <a:xfrm>
              <a:off x="2877480" y="5759280"/>
              <a:ext cx="360" cy="360720"/>
            </a:xfrm>
            <a:prstGeom prst="straightConnector1">
              <a:avLst/>
            </a:prstGeom>
            <a:ln w="3175">
              <a:solidFill>
                <a:srgbClr val="ffffff">
                  <a:lumMod val="85000"/>
                </a:srgbClr>
              </a:solidFill>
              <a:round/>
            </a:ln>
          </p:spPr>
        </p:cxnSp>
        <p:cxnSp>
          <p:nvCxnSpPr>
            <p:cNvPr id="260" name="直接连接符 548"/>
            <p:cNvCxnSpPr/>
            <p:nvPr/>
          </p:nvCxnSpPr>
          <p:spPr>
            <a:xfrm>
              <a:off x="3237120" y="5759280"/>
              <a:ext cx="360" cy="360720"/>
            </a:xfrm>
            <a:prstGeom prst="straightConnector1">
              <a:avLst/>
            </a:prstGeom>
            <a:ln w="3175">
              <a:solidFill>
                <a:srgbClr val="ffffff">
                  <a:lumMod val="85000"/>
                </a:srgbClr>
              </a:solidFill>
              <a:round/>
            </a:ln>
          </p:spPr>
        </p:cxnSp>
        <p:cxnSp>
          <p:nvCxnSpPr>
            <p:cNvPr id="261" name="直接连接符 549"/>
            <p:cNvCxnSpPr/>
            <p:nvPr/>
          </p:nvCxnSpPr>
          <p:spPr>
            <a:xfrm>
              <a:off x="3596760" y="5759280"/>
              <a:ext cx="360" cy="360720"/>
            </a:xfrm>
            <a:prstGeom prst="straightConnector1">
              <a:avLst/>
            </a:prstGeom>
            <a:ln w="3175">
              <a:solidFill>
                <a:srgbClr val="ffffff">
                  <a:lumMod val="85000"/>
                </a:srgbClr>
              </a:solidFill>
              <a:round/>
            </a:ln>
          </p:spPr>
        </p:cxnSp>
        <p:cxnSp>
          <p:nvCxnSpPr>
            <p:cNvPr id="262" name="直接连接符 550"/>
            <p:cNvCxnSpPr/>
            <p:nvPr/>
          </p:nvCxnSpPr>
          <p:spPr>
            <a:xfrm>
              <a:off x="3956040" y="5759280"/>
              <a:ext cx="360" cy="360720"/>
            </a:xfrm>
            <a:prstGeom prst="straightConnector1">
              <a:avLst/>
            </a:prstGeom>
            <a:ln w="3175">
              <a:solidFill>
                <a:srgbClr val="ffffff">
                  <a:lumMod val="85000"/>
                </a:srgbClr>
              </a:solidFill>
              <a:round/>
            </a:ln>
          </p:spPr>
        </p:cxnSp>
        <p:cxnSp>
          <p:nvCxnSpPr>
            <p:cNvPr id="263" name="直接连接符 551"/>
            <p:cNvCxnSpPr/>
            <p:nvPr/>
          </p:nvCxnSpPr>
          <p:spPr>
            <a:xfrm>
              <a:off x="4315680" y="5759280"/>
              <a:ext cx="360" cy="360720"/>
            </a:xfrm>
            <a:prstGeom prst="straightConnector1">
              <a:avLst/>
            </a:prstGeom>
            <a:ln w="3175">
              <a:solidFill>
                <a:srgbClr val="ffffff">
                  <a:lumMod val="85000"/>
                </a:srgbClr>
              </a:solidFill>
              <a:round/>
            </a:ln>
          </p:spPr>
        </p:cxnSp>
        <p:cxnSp>
          <p:nvCxnSpPr>
            <p:cNvPr id="264" name="直接连接符 552"/>
            <p:cNvCxnSpPr/>
            <p:nvPr/>
          </p:nvCxnSpPr>
          <p:spPr>
            <a:xfrm>
              <a:off x="4675320" y="5759280"/>
              <a:ext cx="360" cy="360720"/>
            </a:xfrm>
            <a:prstGeom prst="straightConnector1">
              <a:avLst/>
            </a:prstGeom>
            <a:ln w="3175">
              <a:solidFill>
                <a:srgbClr val="ffffff">
                  <a:lumMod val="85000"/>
                </a:srgbClr>
              </a:solidFill>
              <a:round/>
            </a:ln>
          </p:spPr>
        </p:cxnSp>
        <p:cxnSp>
          <p:nvCxnSpPr>
            <p:cNvPr id="265" name="直接连接符 553"/>
            <p:cNvCxnSpPr/>
            <p:nvPr/>
          </p:nvCxnSpPr>
          <p:spPr>
            <a:xfrm>
              <a:off x="5034600" y="5759280"/>
              <a:ext cx="360" cy="360720"/>
            </a:xfrm>
            <a:prstGeom prst="straightConnector1">
              <a:avLst/>
            </a:prstGeom>
            <a:ln w="3175">
              <a:solidFill>
                <a:srgbClr val="ffffff">
                  <a:lumMod val="85000"/>
                </a:srgbClr>
              </a:solidFill>
              <a:round/>
            </a:ln>
          </p:spPr>
        </p:cxnSp>
        <p:cxnSp>
          <p:nvCxnSpPr>
            <p:cNvPr id="266" name="直接连接符 554"/>
            <p:cNvCxnSpPr/>
            <p:nvPr/>
          </p:nvCxnSpPr>
          <p:spPr>
            <a:xfrm>
              <a:off x="5394240" y="5759280"/>
              <a:ext cx="360" cy="360720"/>
            </a:xfrm>
            <a:prstGeom prst="straightConnector1">
              <a:avLst/>
            </a:prstGeom>
            <a:ln w="3175">
              <a:solidFill>
                <a:srgbClr val="ffffff">
                  <a:lumMod val="85000"/>
                </a:srgbClr>
              </a:solidFill>
              <a:round/>
            </a:ln>
          </p:spPr>
        </p:cxnSp>
        <p:cxnSp>
          <p:nvCxnSpPr>
            <p:cNvPr id="267" name="直接连接符 555"/>
            <p:cNvCxnSpPr/>
            <p:nvPr/>
          </p:nvCxnSpPr>
          <p:spPr>
            <a:xfrm>
              <a:off x="5753880" y="5759280"/>
              <a:ext cx="360" cy="360720"/>
            </a:xfrm>
            <a:prstGeom prst="straightConnector1">
              <a:avLst/>
            </a:prstGeom>
            <a:ln w="3175">
              <a:solidFill>
                <a:srgbClr val="ffffff">
                  <a:lumMod val="85000"/>
                </a:srgbClr>
              </a:solidFill>
              <a:round/>
            </a:ln>
          </p:spPr>
        </p:cxnSp>
        <p:cxnSp>
          <p:nvCxnSpPr>
            <p:cNvPr id="268" name="直接连接符 556"/>
            <p:cNvCxnSpPr/>
            <p:nvPr/>
          </p:nvCxnSpPr>
          <p:spPr>
            <a:xfrm>
              <a:off x="6113160" y="5759280"/>
              <a:ext cx="360" cy="360720"/>
            </a:xfrm>
            <a:prstGeom prst="straightConnector1">
              <a:avLst/>
            </a:prstGeom>
            <a:ln w="3175">
              <a:solidFill>
                <a:srgbClr val="ffffff">
                  <a:lumMod val="85000"/>
                </a:srgbClr>
              </a:solidFill>
              <a:round/>
            </a:ln>
          </p:spPr>
        </p:cxnSp>
        <p:cxnSp>
          <p:nvCxnSpPr>
            <p:cNvPr id="269" name="直接连接符 557"/>
            <p:cNvCxnSpPr/>
            <p:nvPr/>
          </p:nvCxnSpPr>
          <p:spPr>
            <a:xfrm>
              <a:off x="6472800" y="5759280"/>
              <a:ext cx="360" cy="360720"/>
            </a:xfrm>
            <a:prstGeom prst="straightConnector1">
              <a:avLst/>
            </a:prstGeom>
            <a:ln w="3175">
              <a:solidFill>
                <a:srgbClr val="ffffff">
                  <a:lumMod val="85000"/>
                </a:srgbClr>
              </a:solidFill>
              <a:round/>
            </a:ln>
          </p:spPr>
        </p:cxnSp>
        <p:cxnSp>
          <p:nvCxnSpPr>
            <p:cNvPr id="270" name="直接连接符 558"/>
            <p:cNvCxnSpPr/>
            <p:nvPr/>
          </p:nvCxnSpPr>
          <p:spPr>
            <a:xfrm>
              <a:off x="6832080" y="5759280"/>
              <a:ext cx="360" cy="360720"/>
            </a:xfrm>
            <a:prstGeom prst="straightConnector1">
              <a:avLst/>
            </a:prstGeom>
            <a:ln w="3175">
              <a:solidFill>
                <a:srgbClr val="ffffff">
                  <a:lumMod val="85000"/>
                </a:srgbClr>
              </a:solidFill>
              <a:round/>
            </a:ln>
          </p:spPr>
        </p:cxnSp>
        <p:cxnSp>
          <p:nvCxnSpPr>
            <p:cNvPr id="271" name="直接连接符 559"/>
            <p:cNvCxnSpPr/>
            <p:nvPr/>
          </p:nvCxnSpPr>
          <p:spPr>
            <a:xfrm>
              <a:off x="7191720" y="5759280"/>
              <a:ext cx="360" cy="360720"/>
            </a:xfrm>
            <a:prstGeom prst="straightConnector1">
              <a:avLst/>
            </a:prstGeom>
            <a:ln w="3175">
              <a:solidFill>
                <a:srgbClr val="ffffff">
                  <a:lumMod val="85000"/>
                </a:srgbClr>
              </a:solidFill>
              <a:round/>
            </a:ln>
          </p:spPr>
        </p:cxnSp>
        <p:cxnSp>
          <p:nvCxnSpPr>
            <p:cNvPr id="272" name="直接连接符 560"/>
            <p:cNvCxnSpPr/>
            <p:nvPr/>
          </p:nvCxnSpPr>
          <p:spPr>
            <a:xfrm>
              <a:off x="7551360" y="5759280"/>
              <a:ext cx="360" cy="360720"/>
            </a:xfrm>
            <a:prstGeom prst="straightConnector1">
              <a:avLst/>
            </a:prstGeom>
            <a:ln w="3175">
              <a:solidFill>
                <a:srgbClr val="ffffff">
                  <a:lumMod val="85000"/>
                </a:srgbClr>
              </a:solidFill>
              <a:round/>
            </a:ln>
          </p:spPr>
        </p:cxnSp>
        <p:cxnSp>
          <p:nvCxnSpPr>
            <p:cNvPr id="273" name="直接连接符 561"/>
            <p:cNvCxnSpPr/>
            <p:nvPr/>
          </p:nvCxnSpPr>
          <p:spPr>
            <a:xfrm>
              <a:off x="7910640" y="5759280"/>
              <a:ext cx="360" cy="360720"/>
            </a:xfrm>
            <a:prstGeom prst="straightConnector1">
              <a:avLst/>
            </a:prstGeom>
            <a:ln w="3175">
              <a:solidFill>
                <a:srgbClr val="ffffff">
                  <a:lumMod val="85000"/>
                </a:srgbClr>
              </a:solidFill>
              <a:round/>
            </a:ln>
          </p:spPr>
        </p:cxnSp>
        <p:cxnSp>
          <p:nvCxnSpPr>
            <p:cNvPr id="274" name="直接连接符 562"/>
            <p:cNvCxnSpPr/>
            <p:nvPr/>
          </p:nvCxnSpPr>
          <p:spPr>
            <a:xfrm>
              <a:off x="8270280" y="5759280"/>
              <a:ext cx="360" cy="360720"/>
            </a:xfrm>
            <a:prstGeom prst="straightConnector1">
              <a:avLst/>
            </a:prstGeom>
            <a:ln w="3175">
              <a:solidFill>
                <a:srgbClr val="ffffff">
                  <a:lumMod val="85000"/>
                </a:srgbClr>
              </a:solidFill>
              <a:round/>
            </a:ln>
          </p:spPr>
        </p:cxnSp>
        <p:cxnSp>
          <p:nvCxnSpPr>
            <p:cNvPr id="275" name="直接连接符 563"/>
            <p:cNvCxnSpPr/>
            <p:nvPr/>
          </p:nvCxnSpPr>
          <p:spPr>
            <a:xfrm>
              <a:off x="8629920" y="5759280"/>
              <a:ext cx="360" cy="360720"/>
            </a:xfrm>
            <a:prstGeom prst="straightConnector1">
              <a:avLst/>
            </a:prstGeom>
            <a:ln w="3175">
              <a:solidFill>
                <a:srgbClr val="ffffff">
                  <a:lumMod val="85000"/>
                </a:srgbClr>
              </a:solidFill>
              <a:round/>
            </a:ln>
          </p:spPr>
        </p:cxnSp>
        <p:cxnSp>
          <p:nvCxnSpPr>
            <p:cNvPr id="276" name="直接连接符 564"/>
            <p:cNvCxnSpPr/>
            <p:nvPr/>
          </p:nvCxnSpPr>
          <p:spPr>
            <a:xfrm>
              <a:off x="8989200" y="5759280"/>
              <a:ext cx="360" cy="360720"/>
            </a:xfrm>
            <a:prstGeom prst="straightConnector1">
              <a:avLst/>
            </a:prstGeom>
            <a:ln w="3175">
              <a:solidFill>
                <a:srgbClr val="ffffff">
                  <a:lumMod val="85000"/>
                </a:srgbClr>
              </a:solidFill>
              <a:round/>
            </a:ln>
          </p:spPr>
        </p:cxnSp>
        <p:cxnSp>
          <p:nvCxnSpPr>
            <p:cNvPr id="277" name="直接连接符 565"/>
            <p:cNvCxnSpPr/>
            <p:nvPr/>
          </p:nvCxnSpPr>
          <p:spPr>
            <a:xfrm>
              <a:off x="9348840" y="5759280"/>
              <a:ext cx="360" cy="360720"/>
            </a:xfrm>
            <a:prstGeom prst="straightConnector1">
              <a:avLst/>
            </a:prstGeom>
            <a:ln w="3175">
              <a:solidFill>
                <a:srgbClr val="ffffff">
                  <a:lumMod val="85000"/>
                </a:srgbClr>
              </a:solidFill>
              <a:round/>
            </a:ln>
          </p:spPr>
        </p:cxnSp>
        <p:cxnSp>
          <p:nvCxnSpPr>
            <p:cNvPr id="278" name="直接连接符 566"/>
            <p:cNvCxnSpPr/>
            <p:nvPr/>
          </p:nvCxnSpPr>
          <p:spPr>
            <a:xfrm>
              <a:off x="9708480" y="5759280"/>
              <a:ext cx="360" cy="360720"/>
            </a:xfrm>
            <a:prstGeom prst="straightConnector1">
              <a:avLst/>
            </a:prstGeom>
            <a:ln w="3175">
              <a:solidFill>
                <a:srgbClr val="ffffff">
                  <a:lumMod val="85000"/>
                </a:srgbClr>
              </a:solidFill>
              <a:round/>
            </a:ln>
          </p:spPr>
        </p:cxnSp>
        <p:cxnSp>
          <p:nvCxnSpPr>
            <p:cNvPr id="279" name="直接连接符 567"/>
            <p:cNvCxnSpPr/>
            <p:nvPr/>
          </p:nvCxnSpPr>
          <p:spPr>
            <a:xfrm>
              <a:off x="10067760" y="5759280"/>
              <a:ext cx="360" cy="360720"/>
            </a:xfrm>
            <a:prstGeom prst="straightConnector1">
              <a:avLst/>
            </a:prstGeom>
            <a:ln w="3175">
              <a:solidFill>
                <a:srgbClr val="ffffff">
                  <a:lumMod val="85000"/>
                </a:srgbClr>
              </a:solidFill>
              <a:round/>
            </a:ln>
          </p:spPr>
        </p:cxnSp>
        <p:cxnSp>
          <p:nvCxnSpPr>
            <p:cNvPr id="280" name="直接连接符 568"/>
            <p:cNvCxnSpPr/>
            <p:nvPr/>
          </p:nvCxnSpPr>
          <p:spPr>
            <a:xfrm>
              <a:off x="10427400" y="5759280"/>
              <a:ext cx="360" cy="360720"/>
            </a:xfrm>
            <a:prstGeom prst="straightConnector1">
              <a:avLst/>
            </a:prstGeom>
            <a:ln w="3175">
              <a:solidFill>
                <a:srgbClr val="ffffff">
                  <a:lumMod val="85000"/>
                </a:srgbClr>
              </a:solidFill>
              <a:round/>
            </a:ln>
          </p:spPr>
        </p:cxnSp>
        <p:cxnSp>
          <p:nvCxnSpPr>
            <p:cNvPr id="281" name="直接连接符 569"/>
            <p:cNvCxnSpPr/>
            <p:nvPr/>
          </p:nvCxnSpPr>
          <p:spPr>
            <a:xfrm>
              <a:off x="10787040" y="5759280"/>
              <a:ext cx="360" cy="360720"/>
            </a:xfrm>
            <a:prstGeom prst="straightConnector1">
              <a:avLst/>
            </a:prstGeom>
            <a:ln w="3175">
              <a:solidFill>
                <a:srgbClr val="ffffff">
                  <a:lumMod val="85000"/>
                </a:srgbClr>
              </a:solidFill>
              <a:round/>
            </a:ln>
          </p:spPr>
        </p:cxnSp>
      </p:grpSp>
      <p:sp>
        <p:nvSpPr>
          <p:cNvPr id="282" name="矩形 570"/>
          <p:cNvSpPr/>
          <p:nvPr/>
        </p:nvSpPr>
        <p:spPr>
          <a:xfrm>
            <a:off x="307080" y="1386000"/>
            <a:ext cx="10907640" cy="4787640"/>
          </a:xfrm>
          <a:prstGeom prst="rect">
            <a:avLst/>
          </a:prstGeom>
          <a:noFill/>
          <a:ln>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cxnSp>
        <p:nvCxnSpPr>
          <p:cNvPr id="283" name="直接连接符 571"/>
          <p:cNvCxnSpPr/>
          <p:nvPr/>
        </p:nvCxnSpPr>
        <p:spPr>
          <a:xfrm>
            <a:off x="360360" y="1079280"/>
            <a:ext cx="10801440" cy="360"/>
          </a:xfrm>
          <a:prstGeom prst="straightConnector1">
            <a:avLst/>
          </a:prstGeom>
          <a:ln w="19050">
            <a:solidFill>
              <a:srgbClr val="c00000"/>
            </a:solidFill>
            <a:round/>
          </a:ln>
        </p:spPr>
      </p:cxnSp>
      <p:sp>
        <p:nvSpPr>
          <p:cNvPr id="284" name="矩形 80"/>
          <p:cNvSpPr/>
          <p:nvPr/>
        </p:nvSpPr>
        <p:spPr>
          <a:xfrm>
            <a:off x="0" y="0"/>
            <a:ext cx="11521800" cy="6479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85" name="PlaceHolder 1"/>
          <p:cNvSpPr>
            <a:spLocks noGrp="1"/>
          </p:cNvSpPr>
          <p:nvPr>
            <p:ph type="title"/>
          </p:nvPr>
        </p:nvSpPr>
        <p:spPr>
          <a:xfrm>
            <a:off x="864000" y="2013120"/>
            <a:ext cx="9793440" cy="1388520"/>
          </a:xfrm>
          <a:prstGeom prst="rect">
            <a:avLst/>
          </a:prstGeom>
          <a:noFill/>
          <a:ln w="0">
            <a:noFill/>
          </a:ln>
        </p:spPr>
        <p:txBody>
          <a:bodyPr anchor="ctr">
            <a:noAutofit/>
          </a:bodyPr>
          <a:p>
            <a:pPr indent="0" algn="ctr">
              <a:lnSpc>
                <a:spcPct val="100000"/>
              </a:lnSpc>
              <a:buNone/>
            </a:pPr>
            <a:r>
              <a:rPr b="0" lang="zh-CN" sz="4400" spc="-1" strike="noStrike">
                <a:solidFill>
                  <a:srgbClr val="262626"/>
                </a:solidFill>
                <a:latin typeface="Candara"/>
                <a:ea typeface="微软雅黑"/>
              </a:rPr>
              <a:t>单击此处编辑母版标题样式</a:t>
            </a:r>
            <a:endParaRPr b="0" lang="en-US" sz="4400" spc="-1" strike="noStrike">
              <a:solidFill>
                <a:srgbClr val="000000"/>
              </a:solidFill>
              <a:latin typeface="Candara"/>
            </a:endParaRPr>
          </a:p>
        </p:txBody>
      </p:sp>
      <p:sp>
        <p:nvSpPr>
          <p:cNvPr id="286" name="PlaceHolder 2"/>
          <p:cNvSpPr>
            <a:spLocks noGrp="1"/>
          </p:cNvSpPr>
          <p:nvPr>
            <p:ph type="dt" idx="1"/>
          </p:nvPr>
        </p:nvSpPr>
        <p:spPr>
          <a:xfrm>
            <a:off x="362880" y="6119640"/>
            <a:ext cx="2688120" cy="3445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ndara"/>
                <a:ea typeface="微软雅黑"/>
              </a:defRPr>
            </a:lvl1pPr>
          </a:lstStyle>
          <a:p>
            <a:pPr indent="0">
              <a:lnSpc>
                <a:spcPct val="100000"/>
              </a:lnSpc>
              <a:buNone/>
            </a:pPr>
            <a:r>
              <a:rPr b="0" lang="en-US" sz="1200" spc="-1" strike="noStrike">
                <a:solidFill>
                  <a:srgbClr val="8b8b8b"/>
                </a:solidFill>
                <a:latin typeface="Candara"/>
                <a:ea typeface="微软雅黑"/>
              </a:rPr>
              <a:t>&lt;date/time&gt;</a:t>
            </a:r>
            <a:endParaRPr b="0" lang="en-US" sz="1200" spc="-1" strike="noStrike">
              <a:solidFill>
                <a:srgbClr val="000000"/>
              </a:solidFill>
              <a:latin typeface="Times New Roman"/>
            </a:endParaRPr>
          </a:p>
        </p:txBody>
      </p:sp>
      <p:sp>
        <p:nvSpPr>
          <p:cNvPr id="287" name="PlaceHolder 3"/>
          <p:cNvSpPr>
            <a:spLocks noGrp="1"/>
          </p:cNvSpPr>
          <p:nvPr>
            <p:ph type="ftr" idx="2"/>
          </p:nvPr>
        </p:nvSpPr>
        <p:spPr>
          <a:xfrm>
            <a:off x="3936600" y="6128280"/>
            <a:ext cx="3648240" cy="3445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8" name="PlaceHolder 4"/>
          <p:cNvSpPr>
            <a:spLocks noGrp="1"/>
          </p:cNvSpPr>
          <p:nvPr>
            <p:ph type="sldNum" idx="3"/>
          </p:nvPr>
        </p:nvSpPr>
        <p:spPr>
          <a:xfrm>
            <a:off x="8473320" y="6119640"/>
            <a:ext cx="2688120" cy="34452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ndara"/>
                <a:ea typeface="微软雅黑"/>
              </a:defRPr>
            </a:lvl1pPr>
          </a:lstStyle>
          <a:p>
            <a:pPr indent="0" algn="r">
              <a:lnSpc>
                <a:spcPct val="100000"/>
              </a:lnSpc>
              <a:buNone/>
            </a:pPr>
            <a:fld id="{60675A68-D7FC-45DC-A50A-BD4BC683360A}" type="slidenum">
              <a:rPr b="0" lang="en-US" sz="1200" spc="-1" strike="noStrike">
                <a:solidFill>
                  <a:srgbClr val="8b8b8b"/>
                </a:solidFill>
                <a:latin typeface="Candara"/>
                <a:ea typeface="微软雅黑"/>
              </a:rPr>
              <a:t>&lt;number&gt;</a:t>
            </a:fld>
            <a:endParaRPr b="0" lang="en-US" sz="1200" spc="-1" strike="noStrike">
              <a:solidFill>
                <a:srgbClr val="000000"/>
              </a:solidFill>
              <a:latin typeface="Times New Roman"/>
            </a:endParaRPr>
          </a:p>
        </p:txBody>
      </p:sp>
      <p:sp>
        <p:nvSpPr>
          <p:cNvPr id="289" name="平行四边形 6"/>
          <p:cNvSpPr/>
          <p:nvPr/>
        </p:nvSpPr>
        <p:spPr>
          <a:xfrm flipH="1">
            <a:off x="54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0" name="平行四边形 7"/>
          <p:cNvSpPr/>
          <p:nvPr/>
        </p:nvSpPr>
        <p:spPr>
          <a:xfrm flipH="1">
            <a:off x="7009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1" name="平行四边形 8"/>
          <p:cNvSpPr/>
          <p:nvPr/>
        </p:nvSpPr>
        <p:spPr>
          <a:xfrm flipH="1">
            <a:off x="13968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2" name="平行四边形 9"/>
          <p:cNvSpPr/>
          <p:nvPr/>
        </p:nvSpPr>
        <p:spPr>
          <a:xfrm flipH="1">
            <a:off x="20923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3" name="平行四边形 10"/>
          <p:cNvSpPr/>
          <p:nvPr/>
        </p:nvSpPr>
        <p:spPr>
          <a:xfrm flipH="1">
            <a:off x="27882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4" name="平行四边形 11"/>
          <p:cNvSpPr/>
          <p:nvPr/>
        </p:nvSpPr>
        <p:spPr>
          <a:xfrm flipH="1">
            <a:off x="34837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5" name="平行四边形 12"/>
          <p:cNvSpPr/>
          <p:nvPr/>
        </p:nvSpPr>
        <p:spPr>
          <a:xfrm flipH="1">
            <a:off x="41792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6" name="平行四边形 13"/>
          <p:cNvSpPr/>
          <p:nvPr/>
        </p:nvSpPr>
        <p:spPr>
          <a:xfrm flipH="1">
            <a:off x="48751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7" name="平行四边形 14"/>
          <p:cNvSpPr/>
          <p:nvPr/>
        </p:nvSpPr>
        <p:spPr>
          <a:xfrm flipH="1">
            <a:off x="55706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8" name="平行四边形 15"/>
          <p:cNvSpPr/>
          <p:nvPr/>
        </p:nvSpPr>
        <p:spPr>
          <a:xfrm flipH="1">
            <a:off x="62661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299" name="平行四边形 16"/>
          <p:cNvSpPr/>
          <p:nvPr/>
        </p:nvSpPr>
        <p:spPr>
          <a:xfrm flipH="1">
            <a:off x="69620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0" name="平行四边形 17"/>
          <p:cNvSpPr/>
          <p:nvPr/>
        </p:nvSpPr>
        <p:spPr>
          <a:xfrm flipH="1">
            <a:off x="76575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1" name="平行四边形 18"/>
          <p:cNvSpPr/>
          <p:nvPr/>
        </p:nvSpPr>
        <p:spPr>
          <a:xfrm flipH="1">
            <a:off x="83534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2" name="平行四边形 19"/>
          <p:cNvSpPr/>
          <p:nvPr/>
        </p:nvSpPr>
        <p:spPr>
          <a:xfrm flipH="1">
            <a:off x="90489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3" name="平行四边形 20"/>
          <p:cNvSpPr/>
          <p:nvPr/>
        </p:nvSpPr>
        <p:spPr>
          <a:xfrm flipH="1">
            <a:off x="974448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4" name="平行四边形 23"/>
          <p:cNvSpPr/>
          <p:nvPr/>
        </p:nvSpPr>
        <p:spPr>
          <a:xfrm flipH="1">
            <a:off x="105300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5" name="平行四边形 24"/>
          <p:cNvSpPr/>
          <p:nvPr/>
        </p:nvSpPr>
        <p:spPr>
          <a:xfrm flipH="1">
            <a:off x="174528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6" name="平行四边形 25"/>
          <p:cNvSpPr/>
          <p:nvPr/>
        </p:nvSpPr>
        <p:spPr>
          <a:xfrm flipH="1">
            <a:off x="243792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7" name="平行四边形 26"/>
          <p:cNvSpPr/>
          <p:nvPr/>
        </p:nvSpPr>
        <p:spPr>
          <a:xfrm flipH="1">
            <a:off x="313020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8" name="平行四边形 27"/>
          <p:cNvSpPr/>
          <p:nvPr/>
        </p:nvSpPr>
        <p:spPr>
          <a:xfrm flipH="1">
            <a:off x="382284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09" name="平行四边形 28"/>
          <p:cNvSpPr/>
          <p:nvPr/>
        </p:nvSpPr>
        <p:spPr>
          <a:xfrm flipH="1">
            <a:off x="451548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0" name="平行四边形 29"/>
          <p:cNvSpPr/>
          <p:nvPr/>
        </p:nvSpPr>
        <p:spPr>
          <a:xfrm flipH="1">
            <a:off x="520776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1" name="平行四边形 30"/>
          <p:cNvSpPr/>
          <p:nvPr/>
        </p:nvSpPr>
        <p:spPr>
          <a:xfrm flipH="1">
            <a:off x="590040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2" name="平行四边形 31"/>
          <p:cNvSpPr/>
          <p:nvPr/>
        </p:nvSpPr>
        <p:spPr>
          <a:xfrm flipH="1">
            <a:off x="659304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3" name="平行四边形 32"/>
          <p:cNvSpPr/>
          <p:nvPr/>
        </p:nvSpPr>
        <p:spPr>
          <a:xfrm flipH="1">
            <a:off x="728532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4" name="平行四边形 33"/>
          <p:cNvSpPr/>
          <p:nvPr/>
        </p:nvSpPr>
        <p:spPr>
          <a:xfrm flipH="1">
            <a:off x="797796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5" name="平行四边形 34"/>
          <p:cNvSpPr/>
          <p:nvPr/>
        </p:nvSpPr>
        <p:spPr>
          <a:xfrm flipH="1">
            <a:off x="867024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6" name="平行四边形 35"/>
          <p:cNvSpPr/>
          <p:nvPr/>
        </p:nvSpPr>
        <p:spPr>
          <a:xfrm flipH="1">
            <a:off x="936288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7" name="平行四边形 36"/>
          <p:cNvSpPr/>
          <p:nvPr/>
        </p:nvSpPr>
        <p:spPr>
          <a:xfrm flipH="1">
            <a:off x="1005552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8" name="平行四边形 37"/>
          <p:cNvSpPr/>
          <p:nvPr/>
        </p:nvSpPr>
        <p:spPr>
          <a:xfrm flipH="1">
            <a:off x="1074780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19" name="平行四边形 39"/>
          <p:cNvSpPr/>
          <p:nvPr/>
        </p:nvSpPr>
        <p:spPr>
          <a:xfrm flipH="1" rot="16200000">
            <a:off x="-180360" y="526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0" name="平行四边形 40"/>
          <p:cNvSpPr/>
          <p:nvPr/>
        </p:nvSpPr>
        <p:spPr>
          <a:xfrm flipH="1" rot="16200000">
            <a:off x="-180360" y="459000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1" name="平行四边形 41"/>
          <p:cNvSpPr/>
          <p:nvPr/>
        </p:nvSpPr>
        <p:spPr>
          <a:xfrm flipH="1" rot="16200000">
            <a:off x="-180360" y="391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2" name="平行四边形 42"/>
          <p:cNvSpPr/>
          <p:nvPr/>
        </p:nvSpPr>
        <p:spPr>
          <a:xfrm flipH="1" rot="16200000">
            <a:off x="-180360" y="324000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3" name="平行四边形 43"/>
          <p:cNvSpPr/>
          <p:nvPr/>
        </p:nvSpPr>
        <p:spPr>
          <a:xfrm flipH="1" rot="16200000">
            <a:off x="-180360" y="256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4" name="平行四边形 44"/>
          <p:cNvSpPr/>
          <p:nvPr/>
        </p:nvSpPr>
        <p:spPr>
          <a:xfrm flipH="1" rot="16200000">
            <a:off x="-180360" y="18903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5" name="平行四边形 45"/>
          <p:cNvSpPr/>
          <p:nvPr/>
        </p:nvSpPr>
        <p:spPr>
          <a:xfrm flipH="1" rot="16200000">
            <a:off x="-180360" y="121536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6" name="平行四边形 46"/>
          <p:cNvSpPr/>
          <p:nvPr/>
        </p:nvSpPr>
        <p:spPr>
          <a:xfrm flipH="1" rot="16200000">
            <a:off x="-180360" y="5403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7" name="平行四边形 50"/>
          <p:cNvSpPr/>
          <p:nvPr/>
        </p:nvSpPr>
        <p:spPr>
          <a:xfrm flipH="1" rot="16200000">
            <a:off x="10981800" y="557532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8" name="平行四边形 51"/>
          <p:cNvSpPr/>
          <p:nvPr/>
        </p:nvSpPr>
        <p:spPr>
          <a:xfrm flipH="1" rot="16200000">
            <a:off x="10981800" y="490068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29" name="平行四边形 52"/>
          <p:cNvSpPr/>
          <p:nvPr/>
        </p:nvSpPr>
        <p:spPr>
          <a:xfrm flipH="1" rot="16200000">
            <a:off x="10981800" y="42264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0" name="平行四边形 53"/>
          <p:cNvSpPr/>
          <p:nvPr/>
        </p:nvSpPr>
        <p:spPr>
          <a:xfrm flipH="1" rot="16200000">
            <a:off x="10981800" y="35517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1" name="平行四边形 54"/>
          <p:cNvSpPr/>
          <p:nvPr/>
        </p:nvSpPr>
        <p:spPr>
          <a:xfrm flipH="1" rot="16200000">
            <a:off x="10981800" y="287712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2" name="平行四边形 55"/>
          <p:cNvSpPr/>
          <p:nvPr/>
        </p:nvSpPr>
        <p:spPr>
          <a:xfrm flipH="1" rot="16200000">
            <a:off x="10981800" y="22028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3" name="平行四边形 56"/>
          <p:cNvSpPr/>
          <p:nvPr/>
        </p:nvSpPr>
        <p:spPr>
          <a:xfrm flipH="1" rot="16200000">
            <a:off x="10981800" y="15282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4" name="平行四边形 59"/>
          <p:cNvSpPr/>
          <p:nvPr/>
        </p:nvSpPr>
        <p:spPr>
          <a:xfrm flipH="1">
            <a:off x="104403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5" name="平行四边形 62"/>
          <p:cNvSpPr/>
          <p:nvPr/>
        </p:nvSpPr>
        <p:spPr>
          <a:xfrm flipH="1" rot="16200000">
            <a:off x="10981440" y="17928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6" name="平行四边形 65"/>
          <p:cNvSpPr/>
          <p:nvPr/>
        </p:nvSpPr>
        <p:spPr>
          <a:xfrm flipH="1" rot="16200000">
            <a:off x="10981800" y="8535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7" name="平行四边形 66"/>
          <p:cNvSpPr/>
          <p:nvPr/>
        </p:nvSpPr>
        <p:spPr>
          <a:xfrm flipH="1">
            <a:off x="360360" y="6120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8" name="平行四边形 67"/>
          <p:cNvSpPr/>
          <p:nvPr/>
        </p:nvSpPr>
        <p:spPr>
          <a:xfrm flipH="1" rot="16200000">
            <a:off x="-180360" y="593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339" name="矩形 3"/>
          <p:cNvSpPr/>
          <p:nvPr/>
        </p:nvSpPr>
        <p:spPr>
          <a:xfrm>
            <a:off x="9361440" y="719280"/>
            <a:ext cx="1439640" cy="1439640"/>
          </a:xfrm>
          <a:custGeom>
            <a:avLst/>
            <a:gdLst>
              <a:gd name="textAreaLeft" fmla="*/ 0 w 1439640"/>
              <a:gd name="textAreaRight" fmla="*/ 1440000 w 1439640"/>
              <a:gd name="textAreaTop" fmla="*/ 0 h 1439640"/>
              <a:gd name="textAreaBottom" fmla="*/ 1440000 h 1439640"/>
            </a:gdLst>
            <a:ahLst/>
            <a:rect l="textAreaLeft" t="textAreaTop" r="textAreaRight" b="textAreaBottom"/>
            <a:pathLst>
              <a:path w="2880000" h="2880000">
                <a:moveTo>
                  <a:pt x="144725" y="144137"/>
                </a:moveTo>
                <a:lnTo>
                  <a:pt x="144725" y="2736137"/>
                </a:lnTo>
                <a:lnTo>
                  <a:pt x="2736725" y="2736137"/>
                </a:lnTo>
                <a:lnTo>
                  <a:pt x="2736725" y="144137"/>
                </a:lnTo>
                <a:close/>
                <a:moveTo>
                  <a:pt x="55819" y="0"/>
                </a:moveTo>
                <a:lnTo>
                  <a:pt x="104186" y="0"/>
                </a:lnTo>
                <a:lnTo>
                  <a:pt x="104186" y="0"/>
                </a:lnTo>
                <a:cubicBezTo>
                  <a:pt x="104186" y="30828"/>
                  <a:pt x="129177" y="55818"/>
                  <a:pt x="160005" y="55818"/>
                </a:cubicBezTo>
                <a:cubicBezTo>
                  <a:pt x="190833" y="55818"/>
                  <a:pt x="215824" y="30828"/>
                  <a:pt x="215824" y="0"/>
                </a:cubicBezTo>
                <a:lnTo>
                  <a:pt x="264190" y="0"/>
                </a:lnTo>
                <a:lnTo>
                  <a:pt x="264190" y="0"/>
                </a:lnTo>
                <a:cubicBezTo>
                  <a:pt x="264190" y="30828"/>
                  <a:pt x="289181" y="55818"/>
                  <a:pt x="320009" y="55818"/>
                </a:cubicBezTo>
                <a:cubicBezTo>
                  <a:pt x="350837" y="55818"/>
                  <a:pt x="375828" y="30828"/>
                  <a:pt x="375828" y="0"/>
                </a:cubicBezTo>
                <a:lnTo>
                  <a:pt x="424194" y="0"/>
                </a:lnTo>
                <a:lnTo>
                  <a:pt x="424194" y="0"/>
                </a:lnTo>
                <a:cubicBezTo>
                  <a:pt x="424194" y="30828"/>
                  <a:pt x="449186" y="55818"/>
                  <a:pt x="480014" y="55818"/>
                </a:cubicBezTo>
                <a:cubicBezTo>
                  <a:pt x="510842" y="55818"/>
                  <a:pt x="535833" y="30828"/>
                  <a:pt x="535833" y="0"/>
                </a:cubicBezTo>
                <a:lnTo>
                  <a:pt x="584199" y="0"/>
                </a:lnTo>
                <a:lnTo>
                  <a:pt x="584199" y="0"/>
                </a:lnTo>
                <a:cubicBezTo>
                  <a:pt x="584199" y="30828"/>
                  <a:pt x="609190" y="55818"/>
                  <a:pt x="640018" y="55818"/>
                </a:cubicBezTo>
                <a:cubicBezTo>
                  <a:pt x="670846" y="55818"/>
                  <a:pt x="695837" y="30828"/>
                  <a:pt x="695837" y="0"/>
                </a:cubicBezTo>
                <a:lnTo>
                  <a:pt x="744203" y="0"/>
                </a:lnTo>
                <a:lnTo>
                  <a:pt x="744203" y="0"/>
                </a:lnTo>
                <a:cubicBezTo>
                  <a:pt x="744203" y="30828"/>
                  <a:pt x="769194" y="55818"/>
                  <a:pt x="800022" y="55818"/>
                </a:cubicBezTo>
                <a:cubicBezTo>
                  <a:pt x="830850" y="55818"/>
                  <a:pt x="855842" y="30828"/>
                  <a:pt x="855842" y="0"/>
                </a:cubicBezTo>
                <a:lnTo>
                  <a:pt x="904208" y="0"/>
                </a:lnTo>
                <a:lnTo>
                  <a:pt x="904208" y="0"/>
                </a:lnTo>
                <a:cubicBezTo>
                  <a:pt x="904208" y="30828"/>
                  <a:pt x="929199" y="55818"/>
                  <a:pt x="960027" y="55818"/>
                </a:cubicBezTo>
                <a:cubicBezTo>
                  <a:pt x="990855" y="55818"/>
                  <a:pt x="1015846" y="30828"/>
                  <a:pt x="1015846" y="0"/>
                </a:cubicBezTo>
                <a:lnTo>
                  <a:pt x="1064212" y="0"/>
                </a:lnTo>
                <a:lnTo>
                  <a:pt x="1064212" y="0"/>
                </a:lnTo>
                <a:cubicBezTo>
                  <a:pt x="1064212" y="30828"/>
                  <a:pt x="1089203" y="55818"/>
                  <a:pt x="1120031" y="55818"/>
                </a:cubicBezTo>
                <a:cubicBezTo>
                  <a:pt x="1150859" y="55818"/>
                  <a:pt x="1175850" y="30828"/>
                  <a:pt x="1175850" y="0"/>
                </a:cubicBezTo>
                <a:lnTo>
                  <a:pt x="1224217" y="0"/>
                </a:lnTo>
                <a:lnTo>
                  <a:pt x="1224217" y="0"/>
                </a:lnTo>
                <a:cubicBezTo>
                  <a:pt x="1224217" y="30828"/>
                  <a:pt x="1249208" y="55818"/>
                  <a:pt x="1280036" y="55818"/>
                </a:cubicBezTo>
                <a:cubicBezTo>
                  <a:pt x="1310864" y="55818"/>
                  <a:pt x="1335855" y="30828"/>
                  <a:pt x="1335855" y="0"/>
                </a:cubicBezTo>
                <a:lnTo>
                  <a:pt x="1384221" y="0"/>
                </a:lnTo>
                <a:lnTo>
                  <a:pt x="1384221" y="0"/>
                </a:lnTo>
                <a:cubicBezTo>
                  <a:pt x="1384221" y="30828"/>
                  <a:pt x="1409212" y="55818"/>
                  <a:pt x="1440040" y="55818"/>
                </a:cubicBezTo>
                <a:cubicBezTo>
                  <a:pt x="1470868" y="55818"/>
                  <a:pt x="1495859" y="30828"/>
                  <a:pt x="1495859" y="0"/>
                </a:cubicBezTo>
                <a:lnTo>
                  <a:pt x="1544226" y="0"/>
                </a:lnTo>
                <a:lnTo>
                  <a:pt x="1544226" y="0"/>
                </a:lnTo>
                <a:cubicBezTo>
                  <a:pt x="1544226" y="30828"/>
                  <a:pt x="1569217" y="55818"/>
                  <a:pt x="1600045" y="55818"/>
                </a:cubicBezTo>
                <a:cubicBezTo>
                  <a:pt x="1630873" y="55818"/>
                  <a:pt x="1655864" y="30828"/>
                  <a:pt x="1655864" y="0"/>
                </a:cubicBezTo>
                <a:lnTo>
                  <a:pt x="1704230" y="0"/>
                </a:lnTo>
                <a:lnTo>
                  <a:pt x="1704230" y="0"/>
                </a:lnTo>
                <a:cubicBezTo>
                  <a:pt x="1704230" y="30828"/>
                  <a:pt x="1729221" y="55818"/>
                  <a:pt x="1760049" y="55818"/>
                </a:cubicBezTo>
                <a:cubicBezTo>
                  <a:pt x="1790877" y="55818"/>
                  <a:pt x="1815868" y="30828"/>
                  <a:pt x="1815868" y="0"/>
                </a:cubicBezTo>
                <a:lnTo>
                  <a:pt x="1864234" y="0"/>
                </a:lnTo>
                <a:lnTo>
                  <a:pt x="1864234" y="0"/>
                </a:lnTo>
                <a:cubicBezTo>
                  <a:pt x="1864234" y="30828"/>
                  <a:pt x="1889226" y="55818"/>
                  <a:pt x="1920054" y="55818"/>
                </a:cubicBezTo>
                <a:cubicBezTo>
                  <a:pt x="1950882" y="55818"/>
                  <a:pt x="1975873" y="30828"/>
                  <a:pt x="1975873" y="0"/>
                </a:cubicBezTo>
                <a:lnTo>
                  <a:pt x="2024239" y="0"/>
                </a:lnTo>
                <a:lnTo>
                  <a:pt x="2024239" y="0"/>
                </a:lnTo>
                <a:cubicBezTo>
                  <a:pt x="2024239" y="30828"/>
                  <a:pt x="2049230" y="55818"/>
                  <a:pt x="2080058" y="55818"/>
                </a:cubicBezTo>
                <a:cubicBezTo>
                  <a:pt x="2110886" y="55818"/>
                  <a:pt x="2135877" y="30828"/>
                  <a:pt x="2135877" y="0"/>
                </a:cubicBezTo>
                <a:lnTo>
                  <a:pt x="2184243" y="0"/>
                </a:lnTo>
                <a:lnTo>
                  <a:pt x="2184243" y="0"/>
                </a:lnTo>
                <a:cubicBezTo>
                  <a:pt x="2184243" y="30828"/>
                  <a:pt x="2209234" y="55818"/>
                  <a:pt x="2240062" y="55818"/>
                </a:cubicBezTo>
                <a:cubicBezTo>
                  <a:pt x="2270890" y="55818"/>
                  <a:pt x="2295881" y="30828"/>
                  <a:pt x="2295881" y="0"/>
                </a:cubicBezTo>
                <a:lnTo>
                  <a:pt x="2344248" y="0"/>
                </a:lnTo>
                <a:lnTo>
                  <a:pt x="2344248" y="0"/>
                </a:lnTo>
                <a:cubicBezTo>
                  <a:pt x="2344248" y="30828"/>
                  <a:pt x="2369239" y="55818"/>
                  <a:pt x="2400067" y="55818"/>
                </a:cubicBezTo>
                <a:cubicBezTo>
                  <a:pt x="2430895" y="55818"/>
                  <a:pt x="2455886" y="30828"/>
                  <a:pt x="2455886" y="0"/>
                </a:cubicBezTo>
                <a:lnTo>
                  <a:pt x="2504252" y="0"/>
                </a:lnTo>
                <a:lnTo>
                  <a:pt x="2504252" y="0"/>
                </a:lnTo>
                <a:cubicBezTo>
                  <a:pt x="2504252" y="30828"/>
                  <a:pt x="2529243" y="55818"/>
                  <a:pt x="2560071" y="55818"/>
                </a:cubicBezTo>
                <a:cubicBezTo>
                  <a:pt x="2590899" y="55818"/>
                  <a:pt x="2615890" y="30828"/>
                  <a:pt x="2615890" y="0"/>
                </a:cubicBezTo>
                <a:lnTo>
                  <a:pt x="2664257" y="0"/>
                </a:lnTo>
                <a:lnTo>
                  <a:pt x="2664257" y="0"/>
                </a:lnTo>
                <a:cubicBezTo>
                  <a:pt x="2664257" y="30828"/>
                  <a:pt x="2689248" y="55818"/>
                  <a:pt x="2720076" y="55818"/>
                </a:cubicBezTo>
                <a:cubicBezTo>
                  <a:pt x="2750904" y="55818"/>
                  <a:pt x="2775895" y="30828"/>
                  <a:pt x="2775895" y="0"/>
                </a:cubicBezTo>
                <a:lnTo>
                  <a:pt x="2824261" y="0"/>
                </a:lnTo>
                <a:lnTo>
                  <a:pt x="2824261" y="0"/>
                </a:lnTo>
                <a:cubicBezTo>
                  <a:pt x="2824261" y="30801"/>
                  <a:pt x="2849209" y="55775"/>
                  <a:pt x="2880000" y="55802"/>
                </a:cubicBezTo>
                <a:lnTo>
                  <a:pt x="2880000" y="103963"/>
                </a:lnTo>
                <a:cubicBezTo>
                  <a:pt x="2849208" y="103989"/>
                  <a:pt x="2824258" y="128964"/>
                  <a:pt x="2824258" y="159765"/>
                </a:cubicBezTo>
                <a:cubicBezTo>
                  <a:pt x="2824258" y="190566"/>
                  <a:pt x="2849208" y="215541"/>
                  <a:pt x="2880000" y="215567"/>
                </a:cubicBezTo>
                <a:lnTo>
                  <a:pt x="2880000" y="263963"/>
                </a:lnTo>
                <a:cubicBezTo>
                  <a:pt x="2849208" y="263989"/>
                  <a:pt x="2824258" y="288964"/>
                  <a:pt x="2824258" y="319765"/>
                </a:cubicBezTo>
                <a:cubicBezTo>
                  <a:pt x="2824258" y="350567"/>
                  <a:pt x="2849208" y="375541"/>
                  <a:pt x="2880000" y="375567"/>
                </a:cubicBezTo>
                <a:lnTo>
                  <a:pt x="2880000" y="423963"/>
                </a:lnTo>
                <a:cubicBezTo>
                  <a:pt x="2849208" y="423990"/>
                  <a:pt x="2824258" y="448964"/>
                  <a:pt x="2824258" y="479765"/>
                </a:cubicBezTo>
                <a:cubicBezTo>
                  <a:pt x="2824258" y="510567"/>
                  <a:pt x="2849208" y="535541"/>
                  <a:pt x="2880000" y="535567"/>
                </a:cubicBezTo>
                <a:lnTo>
                  <a:pt x="2880000" y="583963"/>
                </a:lnTo>
                <a:cubicBezTo>
                  <a:pt x="2849208" y="583990"/>
                  <a:pt x="2824258" y="608964"/>
                  <a:pt x="2824258" y="639765"/>
                </a:cubicBezTo>
                <a:cubicBezTo>
                  <a:pt x="2824258" y="670567"/>
                  <a:pt x="2849208" y="695541"/>
                  <a:pt x="2880000" y="695568"/>
                </a:cubicBezTo>
                <a:lnTo>
                  <a:pt x="2880000" y="743964"/>
                </a:lnTo>
                <a:cubicBezTo>
                  <a:pt x="2849208" y="743990"/>
                  <a:pt x="2824258" y="768964"/>
                  <a:pt x="2824258" y="799766"/>
                </a:cubicBezTo>
                <a:cubicBezTo>
                  <a:pt x="2824258" y="830567"/>
                  <a:pt x="2849208" y="855541"/>
                  <a:pt x="2880000" y="855568"/>
                </a:cubicBezTo>
                <a:lnTo>
                  <a:pt x="2880000" y="903964"/>
                </a:lnTo>
                <a:cubicBezTo>
                  <a:pt x="2849208" y="903990"/>
                  <a:pt x="2824258" y="928964"/>
                  <a:pt x="2824258" y="959766"/>
                </a:cubicBezTo>
                <a:cubicBezTo>
                  <a:pt x="2824258" y="990567"/>
                  <a:pt x="2849208" y="1015542"/>
                  <a:pt x="2880000" y="1015568"/>
                </a:cubicBezTo>
                <a:lnTo>
                  <a:pt x="2880000" y="1063964"/>
                </a:lnTo>
                <a:cubicBezTo>
                  <a:pt x="2849208" y="1063990"/>
                  <a:pt x="2824258" y="1088964"/>
                  <a:pt x="2824258" y="1119766"/>
                </a:cubicBezTo>
                <a:cubicBezTo>
                  <a:pt x="2824258" y="1150567"/>
                  <a:pt x="2849208" y="1175542"/>
                  <a:pt x="2880000" y="1175568"/>
                </a:cubicBezTo>
                <a:lnTo>
                  <a:pt x="2880000" y="1223964"/>
                </a:lnTo>
                <a:cubicBezTo>
                  <a:pt x="2849208" y="1223990"/>
                  <a:pt x="2824258" y="1248965"/>
                  <a:pt x="2824258" y="1279766"/>
                </a:cubicBezTo>
                <a:cubicBezTo>
                  <a:pt x="2824258" y="1310567"/>
                  <a:pt x="2849208" y="1335542"/>
                  <a:pt x="2880000" y="1335568"/>
                </a:cubicBezTo>
                <a:lnTo>
                  <a:pt x="2880000" y="1383964"/>
                </a:lnTo>
                <a:cubicBezTo>
                  <a:pt x="2849208" y="1383990"/>
                  <a:pt x="2824258" y="1408965"/>
                  <a:pt x="2824258" y="1439766"/>
                </a:cubicBezTo>
                <a:cubicBezTo>
                  <a:pt x="2824258" y="1470568"/>
                  <a:pt x="2849208" y="1495542"/>
                  <a:pt x="2880000" y="1495568"/>
                </a:cubicBezTo>
                <a:lnTo>
                  <a:pt x="2880000" y="1543964"/>
                </a:lnTo>
                <a:cubicBezTo>
                  <a:pt x="2849208" y="1543990"/>
                  <a:pt x="2824258" y="1568965"/>
                  <a:pt x="2824258" y="1599766"/>
                </a:cubicBezTo>
                <a:cubicBezTo>
                  <a:pt x="2824258" y="1630568"/>
                  <a:pt x="2849208" y="1655542"/>
                  <a:pt x="2880000" y="1655568"/>
                </a:cubicBezTo>
                <a:lnTo>
                  <a:pt x="2880000" y="1703964"/>
                </a:lnTo>
                <a:cubicBezTo>
                  <a:pt x="2849208" y="1703991"/>
                  <a:pt x="2824258" y="1728965"/>
                  <a:pt x="2824258" y="1759766"/>
                </a:cubicBezTo>
                <a:cubicBezTo>
                  <a:pt x="2824258" y="1790568"/>
                  <a:pt x="2849208" y="1815542"/>
                  <a:pt x="2880000" y="1815568"/>
                </a:cubicBezTo>
                <a:lnTo>
                  <a:pt x="2880000" y="1863964"/>
                </a:lnTo>
                <a:cubicBezTo>
                  <a:pt x="2849208" y="1863991"/>
                  <a:pt x="2824258" y="1888965"/>
                  <a:pt x="2824258" y="1919767"/>
                </a:cubicBezTo>
                <a:cubicBezTo>
                  <a:pt x="2824258" y="1950568"/>
                  <a:pt x="2849208" y="1975542"/>
                  <a:pt x="2880000" y="1975569"/>
                </a:cubicBezTo>
                <a:lnTo>
                  <a:pt x="2880000" y="2023965"/>
                </a:lnTo>
                <a:cubicBezTo>
                  <a:pt x="2849208" y="2023991"/>
                  <a:pt x="2824258" y="2048965"/>
                  <a:pt x="2824258" y="2079767"/>
                </a:cubicBezTo>
                <a:cubicBezTo>
                  <a:pt x="2824258" y="2110568"/>
                  <a:pt x="2849208" y="2135542"/>
                  <a:pt x="2880000" y="2135569"/>
                </a:cubicBezTo>
                <a:lnTo>
                  <a:pt x="2880000" y="2183965"/>
                </a:lnTo>
                <a:cubicBezTo>
                  <a:pt x="2849208" y="2183991"/>
                  <a:pt x="2824258" y="2208965"/>
                  <a:pt x="2824258" y="2239767"/>
                </a:cubicBezTo>
                <a:cubicBezTo>
                  <a:pt x="2824258" y="2270568"/>
                  <a:pt x="2849208" y="2295543"/>
                  <a:pt x="2880000" y="2295569"/>
                </a:cubicBezTo>
                <a:lnTo>
                  <a:pt x="2880000" y="2343965"/>
                </a:lnTo>
                <a:cubicBezTo>
                  <a:pt x="2849208" y="2343991"/>
                  <a:pt x="2824258" y="2368965"/>
                  <a:pt x="2824258" y="2399767"/>
                </a:cubicBezTo>
                <a:cubicBezTo>
                  <a:pt x="2824258" y="2430568"/>
                  <a:pt x="2849208" y="2455543"/>
                  <a:pt x="2880000" y="2455569"/>
                </a:cubicBezTo>
                <a:lnTo>
                  <a:pt x="2880000" y="2503965"/>
                </a:lnTo>
                <a:cubicBezTo>
                  <a:pt x="2849208" y="2503991"/>
                  <a:pt x="2824258" y="2528966"/>
                  <a:pt x="2824258" y="2559767"/>
                </a:cubicBezTo>
                <a:cubicBezTo>
                  <a:pt x="2824258" y="2590568"/>
                  <a:pt x="2849208" y="2615543"/>
                  <a:pt x="2880000" y="2615569"/>
                </a:cubicBezTo>
                <a:lnTo>
                  <a:pt x="2880000" y="2663965"/>
                </a:lnTo>
                <a:cubicBezTo>
                  <a:pt x="2849208" y="2663991"/>
                  <a:pt x="2824258" y="2688966"/>
                  <a:pt x="2824258" y="2719767"/>
                </a:cubicBezTo>
                <a:cubicBezTo>
                  <a:pt x="2824258" y="2750568"/>
                  <a:pt x="2849208" y="2775543"/>
                  <a:pt x="2880000" y="2775569"/>
                </a:cubicBezTo>
                <a:lnTo>
                  <a:pt x="2880000" y="2824199"/>
                </a:lnTo>
                <a:cubicBezTo>
                  <a:pt x="2849209" y="2824226"/>
                  <a:pt x="2824261" y="2849200"/>
                  <a:pt x="2824261" y="2880000"/>
                </a:cubicBezTo>
                <a:lnTo>
                  <a:pt x="2775895" y="2880000"/>
                </a:lnTo>
                <a:cubicBezTo>
                  <a:pt x="2775895" y="2849173"/>
                  <a:pt x="2750904" y="2824183"/>
                  <a:pt x="2720076" y="2824183"/>
                </a:cubicBezTo>
                <a:cubicBezTo>
                  <a:pt x="2689248" y="2824183"/>
                  <a:pt x="2664257" y="2849173"/>
                  <a:pt x="2664257" y="2880000"/>
                </a:cubicBezTo>
                <a:lnTo>
                  <a:pt x="2615890" y="2880000"/>
                </a:lnTo>
                <a:cubicBezTo>
                  <a:pt x="2615890" y="2849173"/>
                  <a:pt x="2590899" y="2824183"/>
                  <a:pt x="2560071" y="2824183"/>
                </a:cubicBezTo>
                <a:cubicBezTo>
                  <a:pt x="2529244" y="2824183"/>
                  <a:pt x="2504253" y="2849173"/>
                  <a:pt x="2504252" y="2880000"/>
                </a:cubicBezTo>
                <a:lnTo>
                  <a:pt x="2455886" y="2880000"/>
                </a:lnTo>
                <a:cubicBezTo>
                  <a:pt x="2455886" y="2849173"/>
                  <a:pt x="2430895" y="2824183"/>
                  <a:pt x="2400067" y="2824183"/>
                </a:cubicBezTo>
                <a:cubicBezTo>
                  <a:pt x="2369239" y="2824183"/>
                  <a:pt x="2344248" y="2849173"/>
                  <a:pt x="2344248" y="2880000"/>
                </a:cubicBezTo>
                <a:lnTo>
                  <a:pt x="2295881" y="2880000"/>
                </a:lnTo>
                <a:cubicBezTo>
                  <a:pt x="2295881" y="2849173"/>
                  <a:pt x="2270890" y="2824183"/>
                  <a:pt x="2240062" y="2824183"/>
                </a:cubicBezTo>
                <a:cubicBezTo>
                  <a:pt x="2209235" y="2824183"/>
                  <a:pt x="2184244" y="2849173"/>
                  <a:pt x="2184243" y="2880000"/>
                </a:cubicBezTo>
                <a:lnTo>
                  <a:pt x="2135877" y="2880000"/>
                </a:lnTo>
                <a:cubicBezTo>
                  <a:pt x="2135877" y="2849173"/>
                  <a:pt x="2110886" y="2824183"/>
                  <a:pt x="2080058" y="2824183"/>
                </a:cubicBezTo>
                <a:cubicBezTo>
                  <a:pt x="2049230" y="2824183"/>
                  <a:pt x="2024239" y="2849173"/>
                  <a:pt x="2024239" y="2880000"/>
                </a:cubicBezTo>
                <a:lnTo>
                  <a:pt x="1975873" y="2880000"/>
                </a:lnTo>
                <a:cubicBezTo>
                  <a:pt x="1975873" y="2849173"/>
                  <a:pt x="1950882" y="2824183"/>
                  <a:pt x="1920054" y="2824183"/>
                </a:cubicBezTo>
                <a:cubicBezTo>
                  <a:pt x="1889226" y="2824183"/>
                  <a:pt x="1864235" y="2849173"/>
                  <a:pt x="1864234" y="2880000"/>
                </a:cubicBezTo>
                <a:lnTo>
                  <a:pt x="1815868" y="2880000"/>
                </a:lnTo>
                <a:cubicBezTo>
                  <a:pt x="1815868" y="2849173"/>
                  <a:pt x="1790877" y="2824183"/>
                  <a:pt x="1760049" y="2824183"/>
                </a:cubicBezTo>
                <a:cubicBezTo>
                  <a:pt x="1729222" y="2824183"/>
                  <a:pt x="1704230" y="2849173"/>
                  <a:pt x="1704230" y="2880000"/>
                </a:cubicBezTo>
                <a:lnTo>
                  <a:pt x="1655864" y="2880000"/>
                </a:lnTo>
                <a:cubicBezTo>
                  <a:pt x="1655864" y="2849173"/>
                  <a:pt x="1630873" y="2824183"/>
                  <a:pt x="1600045" y="2824183"/>
                </a:cubicBezTo>
                <a:cubicBezTo>
                  <a:pt x="1569217" y="2824183"/>
                  <a:pt x="1544226" y="2849173"/>
                  <a:pt x="1544226" y="2880000"/>
                </a:cubicBezTo>
                <a:lnTo>
                  <a:pt x="1495859" y="2880000"/>
                </a:lnTo>
                <a:cubicBezTo>
                  <a:pt x="1495859" y="2849173"/>
                  <a:pt x="1470868" y="2824183"/>
                  <a:pt x="1440040" y="2824183"/>
                </a:cubicBezTo>
                <a:cubicBezTo>
                  <a:pt x="1409212" y="2824183"/>
                  <a:pt x="1384222" y="2849173"/>
                  <a:pt x="1384221" y="2880000"/>
                </a:cubicBezTo>
                <a:lnTo>
                  <a:pt x="1335855" y="2880000"/>
                </a:lnTo>
                <a:cubicBezTo>
                  <a:pt x="1335855" y="2849173"/>
                  <a:pt x="1310864" y="2824183"/>
                  <a:pt x="1280036" y="2824183"/>
                </a:cubicBezTo>
                <a:cubicBezTo>
                  <a:pt x="1249208" y="2824183"/>
                  <a:pt x="1224217" y="2849173"/>
                  <a:pt x="1224217" y="2880000"/>
                </a:cubicBezTo>
                <a:lnTo>
                  <a:pt x="1175850" y="2880000"/>
                </a:lnTo>
                <a:cubicBezTo>
                  <a:pt x="1175850" y="2849173"/>
                  <a:pt x="1150859" y="2824183"/>
                  <a:pt x="1120031" y="2824183"/>
                </a:cubicBezTo>
                <a:cubicBezTo>
                  <a:pt x="1089203" y="2824183"/>
                  <a:pt x="1064213" y="2849173"/>
                  <a:pt x="1064212" y="2880000"/>
                </a:cubicBezTo>
                <a:lnTo>
                  <a:pt x="1015846" y="2880000"/>
                </a:lnTo>
                <a:cubicBezTo>
                  <a:pt x="1015846" y="2849173"/>
                  <a:pt x="990855" y="2824183"/>
                  <a:pt x="960027" y="2824183"/>
                </a:cubicBezTo>
                <a:cubicBezTo>
                  <a:pt x="929199" y="2824183"/>
                  <a:pt x="904208" y="2849173"/>
                  <a:pt x="904208" y="2880000"/>
                </a:cubicBezTo>
                <a:lnTo>
                  <a:pt x="855842" y="2880000"/>
                </a:lnTo>
                <a:cubicBezTo>
                  <a:pt x="855842" y="2849173"/>
                  <a:pt x="830850" y="2824183"/>
                  <a:pt x="800022" y="2824183"/>
                </a:cubicBezTo>
                <a:cubicBezTo>
                  <a:pt x="769194" y="2824183"/>
                  <a:pt x="744204" y="2849173"/>
                  <a:pt x="744203" y="2880000"/>
                </a:cubicBezTo>
                <a:lnTo>
                  <a:pt x="695837" y="2880000"/>
                </a:lnTo>
                <a:cubicBezTo>
                  <a:pt x="695837" y="2849173"/>
                  <a:pt x="670846" y="2824183"/>
                  <a:pt x="640018" y="2824183"/>
                </a:cubicBezTo>
                <a:cubicBezTo>
                  <a:pt x="609190" y="2824183"/>
                  <a:pt x="584199" y="2849173"/>
                  <a:pt x="584199" y="2880000"/>
                </a:cubicBezTo>
                <a:lnTo>
                  <a:pt x="535833" y="2880000"/>
                </a:lnTo>
                <a:cubicBezTo>
                  <a:pt x="535833" y="2849173"/>
                  <a:pt x="510842" y="2824183"/>
                  <a:pt x="480014" y="2824183"/>
                </a:cubicBezTo>
                <a:cubicBezTo>
                  <a:pt x="449186" y="2824183"/>
                  <a:pt x="424195" y="2849173"/>
                  <a:pt x="424194" y="2880000"/>
                </a:cubicBezTo>
                <a:lnTo>
                  <a:pt x="375828" y="2880000"/>
                </a:lnTo>
                <a:cubicBezTo>
                  <a:pt x="375828" y="2849173"/>
                  <a:pt x="350837" y="2824183"/>
                  <a:pt x="320009" y="2824183"/>
                </a:cubicBezTo>
                <a:cubicBezTo>
                  <a:pt x="289181" y="2824183"/>
                  <a:pt x="264190" y="2849173"/>
                  <a:pt x="264190" y="2880000"/>
                </a:cubicBezTo>
                <a:lnTo>
                  <a:pt x="215824" y="2880000"/>
                </a:lnTo>
                <a:cubicBezTo>
                  <a:pt x="215824" y="2849173"/>
                  <a:pt x="190833" y="2824183"/>
                  <a:pt x="160005" y="2824183"/>
                </a:cubicBezTo>
                <a:cubicBezTo>
                  <a:pt x="129177" y="2824183"/>
                  <a:pt x="104186" y="2849173"/>
                  <a:pt x="104186" y="2880000"/>
                </a:cubicBezTo>
                <a:lnTo>
                  <a:pt x="55819" y="2880000"/>
                </a:lnTo>
                <a:cubicBezTo>
                  <a:pt x="55819" y="2849173"/>
                  <a:pt x="30828" y="2824183"/>
                  <a:pt x="0" y="2824183"/>
                </a:cubicBezTo>
                <a:lnTo>
                  <a:pt x="0" y="2775585"/>
                </a:lnTo>
                <a:cubicBezTo>
                  <a:pt x="30828" y="2775585"/>
                  <a:pt x="55819" y="2750594"/>
                  <a:pt x="55819" y="2719767"/>
                </a:cubicBezTo>
                <a:cubicBezTo>
                  <a:pt x="55819" y="2688940"/>
                  <a:pt x="30828" y="2663950"/>
                  <a:pt x="0" y="2663949"/>
                </a:cubicBezTo>
                <a:lnTo>
                  <a:pt x="0" y="2615585"/>
                </a:lnTo>
                <a:cubicBezTo>
                  <a:pt x="30828" y="2615585"/>
                  <a:pt x="55819" y="2590594"/>
                  <a:pt x="55819" y="2559767"/>
                </a:cubicBezTo>
                <a:cubicBezTo>
                  <a:pt x="55819" y="2528940"/>
                  <a:pt x="30828" y="2503950"/>
                  <a:pt x="0" y="2503949"/>
                </a:cubicBezTo>
                <a:lnTo>
                  <a:pt x="0" y="2455584"/>
                </a:lnTo>
                <a:cubicBezTo>
                  <a:pt x="30828" y="2455584"/>
                  <a:pt x="55819" y="2430594"/>
                  <a:pt x="55819" y="2399767"/>
                </a:cubicBezTo>
                <a:cubicBezTo>
                  <a:pt x="55819" y="2368940"/>
                  <a:pt x="30828" y="2343950"/>
                  <a:pt x="0" y="2343949"/>
                </a:cubicBezTo>
                <a:lnTo>
                  <a:pt x="0" y="2295584"/>
                </a:lnTo>
                <a:cubicBezTo>
                  <a:pt x="30828" y="2295584"/>
                  <a:pt x="55819" y="2270594"/>
                  <a:pt x="55819" y="2239767"/>
                </a:cubicBezTo>
                <a:cubicBezTo>
                  <a:pt x="55819" y="2208940"/>
                  <a:pt x="30828" y="2183950"/>
                  <a:pt x="0" y="2183949"/>
                </a:cubicBezTo>
                <a:lnTo>
                  <a:pt x="0" y="2135584"/>
                </a:lnTo>
                <a:cubicBezTo>
                  <a:pt x="30828" y="2135584"/>
                  <a:pt x="55819" y="2110594"/>
                  <a:pt x="55819" y="2079767"/>
                </a:cubicBezTo>
                <a:cubicBezTo>
                  <a:pt x="55819" y="2048940"/>
                  <a:pt x="30828" y="2023950"/>
                  <a:pt x="0" y="2023949"/>
                </a:cubicBezTo>
                <a:lnTo>
                  <a:pt x="0" y="1975584"/>
                </a:lnTo>
                <a:cubicBezTo>
                  <a:pt x="30828" y="1975584"/>
                  <a:pt x="55819" y="1950594"/>
                  <a:pt x="55819" y="1919767"/>
                </a:cubicBezTo>
                <a:cubicBezTo>
                  <a:pt x="55819" y="1888940"/>
                  <a:pt x="30828" y="1863949"/>
                  <a:pt x="0" y="1863949"/>
                </a:cubicBezTo>
                <a:lnTo>
                  <a:pt x="0" y="1815584"/>
                </a:lnTo>
                <a:cubicBezTo>
                  <a:pt x="30828" y="1815584"/>
                  <a:pt x="55819" y="1790594"/>
                  <a:pt x="55819" y="1759766"/>
                </a:cubicBezTo>
                <a:cubicBezTo>
                  <a:pt x="55819" y="1728940"/>
                  <a:pt x="30828" y="1703949"/>
                  <a:pt x="0" y="1703949"/>
                </a:cubicBezTo>
                <a:lnTo>
                  <a:pt x="0" y="1655584"/>
                </a:lnTo>
                <a:cubicBezTo>
                  <a:pt x="30828" y="1655584"/>
                  <a:pt x="55819" y="1630593"/>
                  <a:pt x="55819" y="1599766"/>
                </a:cubicBezTo>
                <a:cubicBezTo>
                  <a:pt x="55819" y="1568940"/>
                  <a:pt x="30828" y="1543949"/>
                  <a:pt x="0" y="1543949"/>
                </a:cubicBezTo>
                <a:lnTo>
                  <a:pt x="0" y="1495584"/>
                </a:lnTo>
                <a:cubicBezTo>
                  <a:pt x="30828" y="1495584"/>
                  <a:pt x="55819" y="1470593"/>
                  <a:pt x="55819" y="1439766"/>
                </a:cubicBezTo>
                <a:cubicBezTo>
                  <a:pt x="55819" y="1408939"/>
                  <a:pt x="30828" y="1383949"/>
                  <a:pt x="0" y="1383949"/>
                </a:cubicBezTo>
                <a:lnTo>
                  <a:pt x="0" y="1335584"/>
                </a:lnTo>
                <a:cubicBezTo>
                  <a:pt x="30828" y="1335584"/>
                  <a:pt x="55819" y="1310593"/>
                  <a:pt x="55819" y="1279766"/>
                </a:cubicBezTo>
                <a:cubicBezTo>
                  <a:pt x="55819" y="1248939"/>
                  <a:pt x="30828" y="1223949"/>
                  <a:pt x="0" y="1223948"/>
                </a:cubicBezTo>
                <a:lnTo>
                  <a:pt x="0" y="1175583"/>
                </a:lnTo>
                <a:cubicBezTo>
                  <a:pt x="30828" y="1175583"/>
                  <a:pt x="55819" y="1150593"/>
                  <a:pt x="55819" y="1119766"/>
                </a:cubicBezTo>
                <a:cubicBezTo>
                  <a:pt x="55819" y="1088939"/>
                  <a:pt x="30828" y="1063949"/>
                  <a:pt x="0" y="1063948"/>
                </a:cubicBezTo>
                <a:lnTo>
                  <a:pt x="0" y="1015583"/>
                </a:lnTo>
                <a:cubicBezTo>
                  <a:pt x="30828" y="1015583"/>
                  <a:pt x="55819" y="990593"/>
                  <a:pt x="55819" y="959766"/>
                </a:cubicBezTo>
                <a:cubicBezTo>
                  <a:pt x="55819" y="928939"/>
                  <a:pt x="30828" y="903949"/>
                  <a:pt x="0" y="903948"/>
                </a:cubicBezTo>
                <a:lnTo>
                  <a:pt x="0" y="855583"/>
                </a:lnTo>
                <a:cubicBezTo>
                  <a:pt x="30828" y="855583"/>
                  <a:pt x="55819" y="830593"/>
                  <a:pt x="55819" y="799766"/>
                </a:cubicBezTo>
                <a:cubicBezTo>
                  <a:pt x="55819" y="768938"/>
                  <a:pt x="30828" y="743948"/>
                  <a:pt x="0" y="743948"/>
                </a:cubicBezTo>
                <a:lnTo>
                  <a:pt x="0" y="695583"/>
                </a:lnTo>
                <a:cubicBezTo>
                  <a:pt x="30828" y="695583"/>
                  <a:pt x="55819" y="670593"/>
                  <a:pt x="55819" y="639765"/>
                </a:cubicBezTo>
                <a:cubicBezTo>
                  <a:pt x="55819" y="608938"/>
                  <a:pt x="30828" y="583948"/>
                  <a:pt x="0" y="583948"/>
                </a:cubicBezTo>
                <a:lnTo>
                  <a:pt x="0" y="535583"/>
                </a:lnTo>
                <a:cubicBezTo>
                  <a:pt x="30828" y="535583"/>
                  <a:pt x="55819" y="510593"/>
                  <a:pt x="55819" y="479765"/>
                </a:cubicBezTo>
                <a:cubicBezTo>
                  <a:pt x="55819" y="448938"/>
                  <a:pt x="30828" y="423948"/>
                  <a:pt x="0" y="423948"/>
                </a:cubicBezTo>
                <a:lnTo>
                  <a:pt x="0" y="375583"/>
                </a:lnTo>
                <a:cubicBezTo>
                  <a:pt x="30828" y="375583"/>
                  <a:pt x="55819" y="350592"/>
                  <a:pt x="55819" y="319765"/>
                </a:cubicBezTo>
                <a:cubicBezTo>
                  <a:pt x="55819" y="288938"/>
                  <a:pt x="30828" y="263948"/>
                  <a:pt x="0" y="263948"/>
                </a:cubicBezTo>
                <a:lnTo>
                  <a:pt x="0" y="215583"/>
                </a:lnTo>
                <a:cubicBezTo>
                  <a:pt x="30828" y="215583"/>
                  <a:pt x="55819" y="190592"/>
                  <a:pt x="55819" y="159765"/>
                </a:cubicBezTo>
                <a:cubicBezTo>
                  <a:pt x="55819" y="128938"/>
                  <a:pt x="30828" y="103948"/>
                  <a:pt x="0" y="103947"/>
                </a:cubicBezTo>
                <a:lnTo>
                  <a:pt x="0" y="55818"/>
                </a:lnTo>
                <a:cubicBezTo>
                  <a:pt x="30828" y="55818"/>
                  <a:pt x="55819" y="30828"/>
                  <a:pt x="55819" y="0"/>
                </a:cubicBezTo>
                <a:close/>
              </a:path>
            </a:pathLst>
          </a:custGeom>
          <a:solidFill>
            <a:schemeClr val="bg1"/>
          </a:solidFill>
          <a:ln>
            <a:noFill/>
          </a:ln>
          <a:effectLst>
            <a:outerShdw algn="ctr" blurRad="38160" rotWithShape="0" sx="102000" sy="10200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cxnSp>
        <p:nvCxnSpPr>
          <p:cNvPr id="340" name="直接连接符 76"/>
          <p:cNvCxnSpPr/>
          <p:nvPr/>
        </p:nvCxnSpPr>
        <p:spPr>
          <a:xfrm>
            <a:off x="1439640" y="2879640"/>
            <a:ext cx="5400360" cy="360"/>
          </a:xfrm>
          <a:prstGeom prst="straightConnector1">
            <a:avLst/>
          </a:prstGeom>
          <a:ln>
            <a:solidFill>
              <a:srgbClr val="000000">
                <a:lumMod val="75000"/>
                <a:lumOff val="25000"/>
              </a:srgbClr>
            </a:solidFill>
            <a:round/>
          </a:ln>
        </p:spPr>
      </p:cxnSp>
      <p:cxnSp>
        <p:nvCxnSpPr>
          <p:cNvPr id="341" name="直接连接符 79"/>
          <p:cNvCxnSpPr/>
          <p:nvPr/>
        </p:nvCxnSpPr>
        <p:spPr>
          <a:xfrm>
            <a:off x="2520720" y="3960720"/>
            <a:ext cx="5400360" cy="360"/>
          </a:xfrm>
          <a:prstGeom prst="straightConnector1">
            <a:avLst/>
          </a:prstGeom>
          <a:ln>
            <a:solidFill>
              <a:srgbClr val="000000">
                <a:lumMod val="75000"/>
                <a:lumOff val="25000"/>
              </a:srgbClr>
            </a:solidFill>
            <a:round/>
          </a:ln>
        </p:spPr>
      </p:cxnSp>
      <p:sp>
        <p:nvSpPr>
          <p:cNvPr id="342" name="PlaceHolder 5"/>
          <p:cNvSpPr>
            <a:spLocks noGrp="1"/>
          </p:cNvSpPr>
          <p:nvPr>
            <p:ph type="body"/>
          </p:nvPr>
        </p:nvSpPr>
        <p:spPr>
          <a:xfrm>
            <a:off x="576000" y="1516320"/>
            <a:ext cx="10369440" cy="37580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ndara"/>
              </a:rPr>
              <a:t>Second Outline Level</a:t>
            </a:r>
            <a:endParaRPr b="0" lang="en-US" sz="1800" spc="-1" strike="noStrike">
              <a:solidFill>
                <a:srgbClr val="000000"/>
              </a:solidFill>
              <a:latin typeface="Candar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ndara"/>
              </a:rPr>
              <a:t>Third Outline Level</a:t>
            </a:r>
            <a:endParaRPr b="0" lang="en-US" sz="2000" spc="-1" strike="noStrike">
              <a:solidFill>
                <a:srgbClr val="000000"/>
              </a:solidFill>
              <a:latin typeface="Candar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ndara"/>
              </a:rPr>
              <a:t>Fourth Outline Level</a:t>
            </a:r>
            <a:endParaRPr b="0" lang="en-US" sz="2000" spc="-1" strike="noStrike">
              <a:solidFill>
                <a:srgbClr val="000000"/>
              </a:solidFill>
              <a:latin typeface="Candar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ndara"/>
              </a:rPr>
              <a:t>Fifth Outline Level</a:t>
            </a:r>
            <a:endParaRPr b="0" lang="en-US" sz="2000" spc="-1" strike="noStrike">
              <a:solidFill>
                <a:srgbClr val="000000"/>
              </a:solidFill>
              <a:latin typeface="Candar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ndara"/>
              </a:rPr>
              <a:t>Sixth Outline Level</a:t>
            </a:r>
            <a:endParaRPr b="0" lang="en-US" sz="2000" spc="-1" strike="noStrike">
              <a:solidFill>
                <a:srgbClr val="000000"/>
              </a:solidFill>
              <a:latin typeface="Candar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ndara"/>
              </a:rPr>
              <a:t>Seventh Outline Level</a:t>
            </a:r>
            <a:endParaRPr b="0" lang="en-US" sz="20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9" name="组合 288"/>
          <p:cNvGrpSpPr/>
          <p:nvPr/>
        </p:nvGrpSpPr>
        <p:grpSpPr>
          <a:xfrm>
            <a:off x="360000" y="1439640"/>
            <a:ext cx="10801440" cy="4680000"/>
            <a:chOff x="360000" y="1439640"/>
            <a:chExt cx="10801440" cy="4680000"/>
          </a:xfrm>
        </p:grpSpPr>
        <p:cxnSp>
          <p:nvCxnSpPr>
            <p:cNvPr id="380" name="直接连接符 289"/>
            <p:cNvCxnSpPr/>
            <p:nvPr/>
          </p:nvCxnSpPr>
          <p:spPr>
            <a:xfrm>
              <a:off x="360360" y="1439640"/>
              <a:ext cx="10801440" cy="360"/>
            </a:xfrm>
            <a:prstGeom prst="straightConnector1">
              <a:avLst/>
            </a:prstGeom>
            <a:ln w="3175">
              <a:solidFill>
                <a:srgbClr val="ffffff">
                  <a:lumMod val="85000"/>
                </a:srgbClr>
              </a:solidFill>
              <a:round/>
            </a:ln>
          </p:spPr>
        </p:cxnSp>
        <p:cxnSp>
          <p:nvCxnSpPr>
            <p:cNvPr id="381" name="直接连接符 290"/>
            <p:cNvCxnSpPr/>
            <p:nvPr/>
          </p:nvCxnSpPr>
          <p:spPr>
            <a:xfrm>
              <a:off x="360360" y="1800000"/>
              <a:ext cx="10801440" cy="360"/>
            </a:xfrm>
            <a:prstGeom prst="straightConnector1">
              <a:avLst/>
            </a:prstGeom>
            <a:ln w="3175">
              <a:solidFill>
                <a:srgbClr val="ffffff">
                  <a:lumMod val="85000"/>
                </a:srgbClr>
              </a:solidFill>
              <a:round/>
            </a:ln>
          </p:spPr>
        </p:cxnSp>
        <p:cxnSp>
          <p:nvCxnSpPr>
            <p:cNvPr id="382" name="直接连接符 291"/>
            <p:cNvCxnSpPr/>
            <p:nvPr/>
          </p:nvCxnSpPr>
          <p:spPr>
            <a:xfrm>
              <a:off x="360000" y="1979280"/>
              <a:ext cx="10801440" cy="360"/>
            </a:xfrm>
            <a:prstGeom prst="straightConnector1">
              <a:avLst/>
            </a:prstGeom>
            <a:ln w="3175">
              <a:solidFill>
                <a:srgbClr val="ffffff">
                  <a:lumMod val="85000"/>
                </a:srgbClr>
              </a:solidFill>
              <a:round/>
            </a:ln>
          </p:spPr>
        </p:cxnSp>
        <p:cxnSp>
          <p:nvCxnSpPr>
            <p:cNvPr id="383" name="直接连接符 292"/>
            <p:cNvCxnSpPr/>
            <p:nvPr/>
          </p:nvCxnSpPr>
          <p:spPr>
            <a:xfrm>
              <a:off x="360360" y="2334600"/>
              <a:ext cx="10801440" cy="360"/>
            </a:xfrm>
            <a:prstGeom prst="straightConnector1">
              <a:avLst/>
            </a:prstGeom>
            <a:ln w="3175">
              <a:solidFill>
                <a:srgbClr val="ffffff">
                  <a:lumMod val="85000"/>
                </a:srgbClr>
              </a:solidFill>
              <a:round/>
            </a:ln>
          </p:spPr>
        </p:cxnSp>
        <p:cxnSp>
          <p:nvCxnSpPr>
            <p:cNvPr id="384" name="直接连接符 293"/>
            <p:cNvCxnSpPr/>
            <p:nvPr/>
          </p:nvCxnSpPr>
          <p:spPr>
            <a:xfrm>
              <a:off x="360360" y="2519280"/>
              <a:ext cx="10801440" cy="360"/>
            </a:xfrm>
            <a:prstGeom prst="straightConnector1">
              <a:avLst/>
            </a:prstGeom>
            <a:ln w="3175">
              <a:solidFill>
                <a:srgbClr val="ffffff">
                  <a:lumMod val="85000"/>
                </a:srgbClr>
              </a:solidFill>
              <a:round/>
            </a:ln>
          </p:spPr>
        </p:cxnSp>
        <p:cxnSp>
          <p:nvCxnSpPr>
            <p:cNvPr id="385" name="直接连接符 294"/>
            <p:cNvCxnSpPr/>
            <p:nvPr/>
          </p:nvCxnSpPr>
          <p:spPr>
            <a:xfrm>
              <a:off x="360360" y="2879640"/>
              <a:ext cx="10801440" cy="360"/>
            </a:xfrm>
            <a:prstGeom prst="straightConnector1">
              <a:avLst/>
            </a:prstGeom>
            <a:ln w="3175">
              <a:solidFill>
                <a:srgbClr val="ffffff">
                  <a:lumMod val="85000"/>
                </a:srgbClr>
              </a:solidFill>
              <a:round/>
            </a:ln>
          </p:spPr>
        </p:cxnSp>
        <p:cxnSp>
          <p:nvCxnSpPr>
            <p:cNvPr id="386" name="直接连接符 295"/>
            <p:cNvCxnSpPr/>
            <p:nvPr/>
          </p:nvCxnSpPr>
          <p:spPr>
            <a:xfrm>
              <a:off x="360360" y="3057120"/>
              <a:ext cx="10801440" cy="360"/>
            </a:xfrm>
            <a:prstGeom prst="straightConnector1">
              <a:avLst/>
            </a:prstGeom>
            <a:ln w="3175">
              <a:solidFill>
                <a:srgbClr val="ffffff">
                  <a:lumMod val="85000"/>
                </a:srgbClr>
              </a:solidFill>
              <a:round/>
            </a:ln>
          </p:spPr>
        </p:cxnSp>
        <p:cxnSp>
          <p:nvCxnSpPr>
            <p:cNvPr id="387" name="直接连接符 296"/>
            <p:cNvCxnSpPr/>
            <p:nvPr/>
          </p:nvCxnSpPr>
          <p:spPr>
            <a:xfrm>
              <a:off x="360360" y="3417480"/>
              <a:ext cx="10801440" cy="360"/>
            </a:xfrm>
            <a:prstGeom prst="straightConnector1">
              <a:avLst/>
            </a:prstGeom>
            <a:ln w="3175">
              <a:solidFill>
                <a:srgbClr val="ffffff">
                  <a:lumMod val="85000"/>
                </a:srgbClr>
              </a:solidFill>
              <a:round/>
            </a:ln>
          </p:spPr>
        </p:cxnSp>
        <p:cxnSp>
          <p:nvCxnSpPr>
            <p:cNvPr id="388" name="直接连接符 297"/>
            <p:cNvCxnSpPr/>
            <p:nvPr/>
          </p:nvCxnSpPr>
          <p:spPr>
            <a:xfrm>
              <a:off x="360360" y="3600000"/>
              <a:ext cx="10801440" cy="360"/>
            </a:xfrm>
            <a:prstGeom prst="straightConnector1">
              <a:avLst/>
            </a:prstGeom>
            <a:ln w="3175">
              <a:solidFill>
                <a:srgbClr val="ffffff">
                  <a:lumMod val="85000"/>
                </a:srgbClr>
              </a:solidFill>
              <a:round/>
            </a:ln>
          </p:spPr>
        </p:cxnSp>
        <p:cxnSp>
          <p:nvCxnSpPr>
            <p:cNvPr id="389" name="直接连接符 298"/>
            <p:cNvCxnSpPr/>
            <p:nvPr/>
          </p:nvCxnSpPr>
          <p:spPr>
            <a:xfrm>
              <a:off x="360360" y="3960720"/>
              <a:ext cx="10801440" cy="360"/>
            </a:xfrm>
            <a:prstGeom prst="straightConnector1">
              <a:avLst/>
            </a:prstGeom>
            <a:ln w="3175">
              <a:solidFill>
                <a:srgbClr val="ffffff">
                  <a:lumMod val="85000"/>
                </a:srgbClr>
              </a:solidFill>
              <a:round/>
            </a:ln>
          </p:spPr>
        </p:cxnSp>
        <p:cxnSp>
          <p:nvCxnSpPr>
            <p:cNvPr id="390" name="直接连接符 299"/>
            <p:cNvCxnSpPr/>
            <p:nvPr/>
          </p:nvCxnSpPr>
          <p:spPr>
            <a:xfrm>
              <a:off x="360360" y="4140000"/>
              <a:ext cx="10801440" cy="360"/>
            </a:xfrm>
            <a:prstGeom prst="straightConnector1">
              <a:avLst/>
            </a:prstGeom>
            <a:ln w="3175">
              <a:solidFill>
                <a:srgbClr val="ffffff">
                  <a:lumMod val="85000"/>
                </a:srgbClr>
              </a:solidFill>
              <a:round/>
            </a:ln>
          </p:spPr>
        </p:cxnSp>
        <p:cxnSp>
          <p:nvCxnSpPr>
            <p:cNvPr id="391" name="直接连接符 300"/>
            <p:cNvCxnSpPr/>
            <p:nvPr/>
          </p:nvCxnSpPr>
          <p:spPr>
            <a:xfrm>
              <a:off x="360360" y="4497840"/>
              <a:ext cx="10801440" cy="360"/>
            </a:xfrm>
            <a:prstGeom prst="straightConnector1">
              <a:avLst/>
            </a:prstGeom>
            <a:ln w="3175">
              <a:solidFill>
                <a:srgbClr val="ffffff">
                  <a:lumMod val="85000"/>
                </a:srgbClr>
              </a:solidFill>
              <a:round/>
            </a:ln>
          </p:spPr>
        </p:cxnSp>
        <p:cxnSp>
          <p:nvCxnSpPr>
            <p:cNvPr id="392" name="直接连接符 301"/>
            <p:cNvCxnSpPr/>
            <p:nvPr/>
          </p:nvCxnSpPr>
          <p:spPr>
            <a:xfrm>
              <a:off x="360360" y="4679640"/>
              <a:ext cx="10801440" cy="360"/>
            </a:xfrm>
            <a:prstGeom prst="straightConnector1">
              <a:avLst/>
            </a:prstGeom>
            <a:ln w="3175">
              <a:solidFill>
                <a:srgbClr val="ffffff">
                  <a:lumMod val="85000"/>
                </a:srgbClr>
              </a:solidFill>
              <a:round/>
            </a:ln>
          </p:spPr>
        </p:cxnSp>
        <p:cxnSp>
          <p:nvCxnSpPr>
            <p:cNvPr id="393" name="直接连接符 302"/>
            <p:cNvCxnSpPr/>
            <p:nvPr/>
          </p:nvCxnSpPr>
          <p:spPr>
            <a:xfrm>
              <a:off x="360360" y="5041800"/>
              <a:ext cx="10801440" cy="360"/>
            </a:xfrm>
            <a:prstGeom prst="straightConnector1">
              <a:avLst/>
            </a:prstGeom>
            <a:ln w="3175">
              <a:solidFill>
                <a:srgbClr val="ffffff">
                  <a:lumMod val="85000"/>
                </a:srgbClr>
              </a:solidFill>
              <a:round/>
            </a:ln>
          </p:spPr>
        </p:cxnSp>
        <p:cxnSp>
          <p:nvCxnSpPr>
            <p:cNvPr id="394" name="直接连接符 303"/>
            <p:cNvCxnSpPr/>
            <p:nvPr/>
          </p:nvCxnSpPr>
          <p:spPr>
            <a:xfrm>
              <a:off x="360360" y="5580000"/>
              <a:ext cx="10801440" cy="360"/>
            </a:xfrm>
            <a:prstGeom prst="straightConnector1">
              <a:avLst/>
            </a:prstGeom>
            <a:ln w="3175">
              <a:solidFill>
                <a:srgbClr val="ffffff">
                  <a:lumMod val="85000"/>
                </a:srgbClr>
              </a:solidFill>
              <a:round/>
            </a:ln>
          </p:spPr>
        </p:cxnSp>
        <p:cxnSp>
          <p:nvCxnSpPr>
            <p:cNvPr id="395" name="直接连接符 304"/>
            <p:cNvCxnSpPr/>
            <p:nvPr/>
          </p:nvCxnSpPr>
          <p:spPr>
            <a:xfrm>
              <a:off x="360360" y="5219640"/>
              <a:ext cx="10801440" cy="360"/>
            </a:xfrm>
            <a:prstGeom prst="straightConnector1">
              <a:avLst/>
            </a:prstGeom>
            <a:ln w="3175">
              <a:solidFill>
                <a:srgbClr val="ffffff">
                  <a:lumMod val="85000"/>
                </a:srgbClr>
              </a:solidFill>
              <a:round/>
            </a:ln>
          </p:spPr>
        </p:cxnSp>
        <p:cxnSp>
          <p:nvCxnSpPr>
            <p:cNvPr id="396" name="直接连接符 305"/>
            <p:cNvCxnSpPr/>
            <p:nvPr/>
          </p:nvCxnSpPr>
          <p:spPr>
            <a:xfrm>
              <a:off x="360360" y="5760720"/>
              <a:ext cx="10801440" cy="360"/>
            </a:xfrm>
            <a:prstGeom prst="straightConnector1">
              <a:avLst/>
            </a:prstGeom>
            <a:ln w="3175">
              <a:solidFill>
                <a:srgbClr val="ffffff">
                  <a:lumMod val="85000"/>
                </a:srgbClr>
              </a:solidFill>
              <a:round/>
            </a:ln>
          </p:spPr>
        </p:cxnSp>
        <p:cxnSp>
          <p:nvCxnSpPr>
            <p:cNvPr id="397" name="直接连接符 306"/>
            <p:cNvCxnSpPr/>
            <p:nvPr/>
          </p:nvCxnSpPr>
          <p:spPr>
            <a:xfrm>
              <a:off x="360360" y="6119640"/>
              <a:ext cx="10801440" cy="360"/>
            </a:xfrm>
            <a:prstGeom prst="straightConnector1">
              <a:avLst/>
            </a:prstGeom>
            <a:ln w="3175">
              <a:solidFill>
                <a:srgbClr val="ffffff">
                  <a:lumMod val="85000"/>
                </a:srgbClr>
              </a:solidFill>
              <a:round/>
            </a:ln>
          </p:spPr>
        </p:cxnSp>
        <p:cxnSp>
          <p:nvCxnSpPr>
            <p:cNvPr id="398" name="直接连接符 307"/>
            <p:cNvCxnSpPr/>
            <p:nvPr/>
          </p:nvCxnSpPr>
          <p:spPr>
            <a:xfrm>
              <a:off x="360360" y="1439640"/>
              <a:ext cx="360" cy="4680360"/>
            </a:xfrm>
            <a:prstGeom prst="straightConnector1">
              <a:avLst/>
            </a:prstGeom>
            <a:ln w="3175">
              <a:solidFill>
                <a:srgbClr val="ffffff">
                  <a:lumMod val="85000"/>
                </a:srgbClr>
              </a:solidFill>
              <a:round/>
            </a:ln>
          </p:spPr>
        </p:cxnSp>
        <p:cxnSp>
          <p:nvCxnSpPr>
            <p:cNvPr id="399" name="直接连接符 308"/>
            <p:cNvCxnSpPr/>
            <p:nvPr/>
          </p:nvCxnSpPr>
          <p:spPr>
            <a:xfrm>
              <a:off x="11161440" y="1439640"/>
              <a:ext cx="360" cy="4680360"/>
            </a:xfrm>
            <a:prstGeom prst="straightConnector1">
              <a:avLst/>
            </a:prstGeom>
            <a:ln w="3175">
              <a:solidFill>
                <a:srgbClr val="ffffff">
                  <a:lumMod val="85000"/>
                </a:srgbClr>
              </a:solidFill>
              <a:round/>
            </a:ln>
          </p:spPr>
        </p:cxnSp>
        <p:cxnSp>
          <p:nvCxnSpPr>
            <p:cNvPr id="400" name="直接连接符 309"/>
            <p:cNvCxnSpPr/>
            <p:nvPr/>
          </p:nvCxnSpPr>
          <p:spPr>
            <a:xfrm>
              <a:off x="720720" y="1439640"/>
              <a:ext cx="360" cy="360720"/>
            </a:xfrm>
            <a:prstGeom prst="straightConnector1">
              <a:avLst/>
            </a:prstGeom>
            <a:ln w="3175">
              <a:solidFill>
                <a:srgbClr val="ffffff">
                  <a:lumMod val="85000"/>
                </a:srgbClr>
              </a:solidFill>
              <a:round/>
            </a:ln>
          </p:spPr>
        </p:cxnSp>
        <p:cxnSp>
          <p:nvCxnSpPr>
            <p:cNvPr id="401" name="直接连接符 310"/>
            <p:cNvCxnSpPr/>
            <p:nvPr/>
          </p:nvCxnSpPr>
          <p:spPr>
            <a:xfrm>
              <a:off x="1080000" y="1439640"/>
              <a:ext cx="360" cy="360720"/>
            </a:xfrm>
            <a:prstGeom prst="straightConnector1">
              <a:avLst/>
            </a:prstGeom>
            <a:ln w="3175">
              <a:solidFill>
                <a:srgbClr val="ffffff">
                  <a:lumMod val="85000"/>
                </a:srgbClr>
              </a:solidFill>
              <a:round/>
            </a:ln>
          </p:spPr>
        </p:cxnSp>
        <p:cxnSp>
          <p:nvCxnSpPr>
            <p:cNvPr id="402" name="直接连接符 311"/>
            <p:cNvCxnSpPr/>
            <p:nvPr/>
          </p:nvCxnSpPr>
          <p:spPr>
            <a:xfrm>
              <a:off x="1439640" y="1439640"/>
              <a:ext cx="360" cy="360720"/>
            </a:xfrm>
            <a:prstGeom prst="straightConnector1">
              <a:avLst/>
            </a:prstGeom>
            <a:ln w="3175">
              <a:solidFill>
                <a:srgbClr val="ffffff">
                  <a:lumMod val="85000"/>
                </a:srgbClr>
              </a:solidFill>
              <a:round/>
            </a:ln>
          </p:spPr>
        </p:cxnSp>
        <p:cxnSp>
          <p:nvCxnSpPr>
            <p:cNvPr id="403" name="直接连接符 312"/>
            <p:cNvCxnSpPr/>
            <p:nvPr/>
          </p:nvCxnSpPr>
          <p:spPr>
            <a:xfrm>
              <a:off x="1798920" y="1439640"/>
              <a:ext cx="360" cy="360720"/>
            </a:xfrm>
            <a:prstGeom prst="straightConnector1">
              <a:avLst/>
            </a:prstGeom>
            <a:ln w="3175">
              <a:solidFill>
                <a:srgbClr val="ffffff">
                  <a:lumMod val="85000"/>
                </a:srgbClr>
              </a:solidFill>
              <a:round/>
            </a:ln>
          </p:spPr>
        </p:cxnSp>
        <p:cxnSp>
          <p:nvCxnSpPr>
            <p:cNvPr id="404" name="直接连接符 313"/>
            <p:cNvCxnSpPr/>
            <p:nvPr/>
          </p:nvCxnSpPr>
          <p:spPr>
            <a:xfrm>
              <a:off x="2158560" y="1439640"/>
              <a:ext cx="360" cy="360720"/>
            </a:xfrm>
            <a:prstGeom prst="straightConnector1">
              <a:avLst/>
            </a:prstGeom>
            <a:ln w="3175">
              <a:solidFill>
                <a:srgbClr val="ffffff">
                  <a:lumMod val="85000"/>
                </a:srgbClr>
              </a:solidFill>
              <a:round/>
            </a:ln>
          </p:spPr>
        </p:cxnSp>
        <p:cxnSp>
          <p:nvCxnSpPr>
            <p:cNvPr id="405" name="直接连接符 314"/>
            <p:cNvCxnSpPr/>
            <p:nvPr/>
          </p:nvCxnSpPr>
          <p:spPr>
            <a:xfrm>
              <a:off x="2518200" y="1439640"/>
              <a:ext cx="360" cy="360720"/>
            </a:xfrm>
            <a:prstGeom prst="straightConnector1">
              <a:avLst/>
            </a:prstGeom>
            <a:ln w="3175">
              <a:solidFill>
                <a:srgbClr val="ffffff">
                  <a:lumMod val="85000"/>
                </a:srgbClr>
              </a:solidFill>
              <a:round/>
            </a:ln>
          </p:spPr>
        </p:cxnSp>
        <p:cxnSp>
          <p:nvCxnSpPr>
            <p:cNvPr id="406" name="直接连接符 315"/>
            <p:cNvCxnSpPr/>
            <p:nvPr/>
          </p:nvCxnSpPr>
          <p:spPr>
            <a:xfrm>
              <a:off x="2877480" y="1439640"/>
              <a:ext cx="360" cy="360720"/>
            </a:xfrm>
            <a:prstGeom prst="straightConnector1">
              <a:avLst/>
            </a:prstGeom>
            <a:ln w="3175">
              <a:solidFill>
                <a:srgbClr val="ffffff">
                  <a:lumMod val="85000"/>
                </a:srgbClr>
              </a:solidFill>
              <a:round/>
            </a:ln>
          </p:spPr>
        </p:cxnSp>
        <p:cxnSp>
          <p:nvCxnSpPr>
            <p:cNvPr id="407" name="直接连接符 316"/>
            <p:cNvCxnSpPr/>
            <p:nvPr/>
          </p:nvCxnSpPr>
          <p:spPr>
            <a:xfrm>
              <a:off x="3237120" y="1439640"/>
              <a:ext cx="360" cy="360720"/>
            </a:xfrm>
            <a:prstGeom prst="straightConnector1">
              <a:avLst/>
            </a:prstGeom>
            <a:ln w="3175">
              <a:solidFill>
                <a:srgbClr val="ffffff">
                  <a:lumMod val="85000"/>
                </a:srgbClr>
              </a:solidFill>
              <a:round/>
            </a:ln>
          </p:spPr>
        </p:cxnSp>
        <p:cxnSp>
          <p:nvCxnSpPr>
            <p:cNvPr id="408" name="直接连接符 317"/>
            <p:cNvCxnSpPr/>
            <p:nvPr/>
          </p:nvCxnSpPr>
          <p:spPr>
            <a:xfrm>
              <a:off x="3596760" y="1439640"/>
              <a:ext cx="360" cy="360720"/>
            </a:xfrm>
            <a:prstGeom prst="straightConnector1">
              <a:avLst/>
            </a:prstGeom>
            <a:ln w="3175">
              <a:solidFill>
                <a:srgbClr val="ffffff">
                  <a:lumMod val="85000"/>
                </a:srgbClr>
              </a:solidFill>
              <a:round/>
            </a:ln>
          </p:spPr>
        </p:cxnSp>
        <p:cxnSp>
          <p:nvCxnSpPr>
            <p:cNvPr id="409" name="直接连接符 318"/>
            <p:cNvCxnSpPr/>
            <p:nvPr/>
          </p:nvCxnSpPr>
          <p:spPr>
            <a:xfrm>
              <a:off x="3956040" y="1439640"/>
              <a:ext cx="360" cy="360720"/>
            </a:xfrm>
            <a:prstGeom prst="straightConnector1">
              <a:avLst/>
            </a:prstGeom>
            <a:ln w="3175">
              <a:solidFill>
                <a:srgbClr val="ffffff">
                  <a:lumMod val="85000"/>
                </a:srgbClr>
              </a:solidFill>
              <a:round/>
            </a:ln>
          </p:spPr>
        </p:cxnSp>
        <p:cxnSp>
          <p:nvCxnSpPr>
            <p:cNvPr id="410" name="直接连接符 319"/>
            <p:cNvCxnSpPr/>
            <p:nvPr/>
          </p:nvCxnSpPr>
          <p:spPr>
            <a:xfrm>
              <a:off x="4315680" y="1439640"/>
              <a:ext cx="360" cy="360720"/>
            </a:xfrm>
            <a:prstGeom prst="straightConnector1">
              <a:avLst/>
            </a:prstGeom>
            <a:ln w="3175">
              <a:solidFill>
                <a:srgbClr val="ffffff">
                  <a:lumMod val="85000"/>
                </a:srgbClr>
              </a:solidFill>
              <a:round/>
            </a:ln>
          </p:spPr>
        </p:cxnSp>
        <p:cxnSp>
          <p:nvCxnSpPr>
            <p:cNvPr id="411" name="直接连接符 320"/>
            <p:cNvCxnSpPr/>
            <p:nvPr/>
          </p:nvCxnSpPr>
          <p:spPr>
            <a:xfrm>
              <a:off x="4675320" y="1439640"/>
              <a:ext cx="360" cy="360720"/>
            </a:xfrm>
            <a:prstGeom prst="straightConnector1">
              <a:avLst/>
            </a:prstGeom>
            <a:ln w="3175">
              <a:solidFill>
                <a:srgbClr val="ffffff">
                  <a:lumMod val="85000"/>
                </a:srgbClr>
              </a:solidFill>
              <a:round/>
            </a:ln>
          </p:spPr>
        </p:cxnSp>
        <p:cxnSp>
          <p:nvCxnSpPr>
            <p:cNvPr id="412" name="直接连接符 321"/>
            <p:cNvCxnSpPr/>
            <p:nvPr/>
          </p:nvCxnSpPr>
          <p:spPr>
            <a:xfrm>
              <a:off x="5034600" y="1439640"/>
              <a:ext cx="360" cy="360720"/>
            </a:xfrm>
            <a:prstGeom prst="straightConnector1">
              <a:avLst/>
            </a:prstGeom>
            <a:ln w="3175">
              <a:solidFill>
                <a:srgbClr val="ffffff">
                  <a:lumMod val="85000"/>
                </a:srgbClr>
              </a:solidFill>
              <a:round/>
            </a:ln>
          </p:spPr>
        </p:cxnSp>
        <p:cxnSp>
          <p:nvCxnSpPr>
            <p:cNvPr id="413" name="直接连接符 322"/>
            <p:cNvCxnSpPr/>
            <p:nvPr/>
          </p:nvCxnSpPr>
          <p:spPr>
            <a:xfrm>
              <a:off x="5394240" y="1439640"/>
              <a:ext cx="360" cy="360720"/>
            </a:xfrm>
            <a:prstGeom prst="straightConnector1">
              <a:avLst/>
            </a:prstGeom>
            <a:ln w="3175">
              <a:solidFill>
                <a:srgbClr val="ffffff">
                  <a:lumMod val="85000"/>
                </a:srgbClr>
              </a:solidFill>
              <a:round/>
            </a:ln>
          </p:spPr>
        </p:cxnSp>
        <p:cxnSp>
          <p:nvCxnSpPr>
            <p:cNvPr id="414" name="直接连接符 323"/>
            <p:cNvCxnSpPr/>
            <p:nvPr/>
          </p:nvCxnSpPr>
          <p:spPr>
            <a:xfrm>
              <a:off x="5753880" y="1439640"/>
              <a:ext cx="360" cy="360720"/>
            </a:xfrm>
            <a:prstGeom prst="straightConnector1">
              <a:avLst/>
            </a:prstGeom>
            <a:ln w="3175">
              <a:solidFill>
                <a:srgbClr val="ffffff">
                  <a:lumMod val="85000"/>
                </a:srgbClr>
              </a:solidFill>
              <a:round/>
            </a:ln>
          </p:spPr>
        </p:cxnSp>
        <p:cxnSp>
          <p:nvCxnSpPr>
            <p:cNvPr id="415" name="直接连接符 324"/>
            <p:cNvCxnSpPr/>
            <p:nvPr/>
          </p:nvCxnSpPr>
          <p:spPr>
            <a:xfrm>
              <a:off x="6113160" y="1439640"/>
              <a:ext cx="360" cy="360720"/>
            </a:xfrm>
            <a:prstGeom prst="straightConnector1">
              <a:avLst/>
            </a:prstGeom>
            <a:ln w="3175">
              <a:solidFill>
                <a:srgbClr val="ffffff">
                  <a:lumMod val="85000"/>
                </a:srgbClr>
              </a:solidFill>
              <a:round/>
            </a:ln>
          </p:spPr>
        </p:cxnSp>
        <p:cxnSp>
          <p:nvCxnSpPr>
            <p:cNvPr id="416" name="直接连接符 325"/>
            <p:cNvCxnSpPr/>
            <p:nvPr/>
          </p:nvCxnSpPr>
          <p:spPr>
            <a:xfrm>
              <a:off x="6472800" y="1439640"/>
              <a:ext cx="360" cy="360720"/>
            </a:xfrm>
            <a:prstGeom prst="straightConnector1">
              <a:avLst/>
            </a:prstGeom>
            <a:ln w="3175">
              <a:solidFill>
                <a:srgbClr val="ffffff">
                  <a:lumMod val="85000"/>
                </a:srgbClr>
              </a:solidFill>
              <a:round/>
            </a:ln>
          </p:spPr>
        </p:cxnSp>
        <p:cxnSp>
          <p:nvCxnSpPr>
            <p:cNvPr id="417" name="直接连接符 326"/>
            <p:cNvCxnSpPr/>
            <p:nvPr/>
          </p:nvCxnSpPr>
          <p:spPr>
            <a:xfrm>
              <a:off x="6832080" y="1439640"/>
              <a:ext cx="360" cy="360720"/>
            </a:xfrm>
            <a:prstGeom prst="straightConnector1">
              <a:avLst/>
            </a:prstGeom>
            <a:ln w="3175">
              <a:solidFill>
                <a:srgbClr val="ffffff">
                  <a:lumMod val="85000"/>
                </a:srgbClr>
              </a:solidFill>
              <a:round/>
            </a:ln>
          </p:spPr>
        </p:cxnSp>
        <p:cxnSp>
          <p:nvCxnSpPr>
            <p:cNvPr id="418" name="直接连接符 327"/>
            <p:cNvCxnSpPr/>
            <p:nvPr/>
          </p:nvCxnSpPr>
          <p:spPr>
            <a:xfrm>
              <a:off x="7191720" y="1439640"/>
              <a:ext cx="360" cy="360720"/>
            </a:xfrm>
            <a:prstGeom prst="straightConnector1">
              <a:avLst/>
            </a:prstGeom>
            <a:ln w="3175">
              <a:solidFill>
                <a:srgbClr val="ffffff">
                  <a:lumMod val="85000"/>
                </a:srgbClr>
              </a:solidFill>
              <a:round/>
            </a:ln>
          </p:spPr>
        </p:cxnSp>
        <p:cxnSp>
          <p:nvCxnSpPr>
            <p:cNvPr id="419" name="直接连接符 328"/>
            <p:cNvCxnSpPr/>
            <p:nvPr/>
          </p:nvCxnSpPr>
          <p:spPr>
            <a:xfrm>
              <a:off x="7551360" y="1439640"/>
              <a:ext cx="360" cy="360720"/>
            </a:xfrm>
            <a:prstGeom prst="straightConnector1">
              <a:avLst/>
            </a:prstGeom>
            <a:ln w="3175">
              <a:solidFill>
                <a:srgbClr val="ffffff">
                  <a:lumMod val="85000"/>
                </a:srgbClr>
              </a:solidFill>
              <a:round/>
            </a:ln>
          </p:spPr>
        </p:cxnSp>
        <p:cxnSp>
          <p:nvCxnSpPr>
            <p:cNvPr id="420" name="直接连接符 329"/>
            <p:cNvCxnSpPr/>
            <p:nvPr/>
          </p:nvCxnSpPr>
          <p:spPr>
            <a:xfrm>
              <a:off x="7910640" y="1439640"/>
              <a:ext cx="360" cy="360720"/>
            </a:xfrm>
            <a:prstGeom prst="straightConnector1">
              <a:avLst/>
            </a:prstGeom>
            <a:ln w="3175">
              <a:solidFill>
                <a:srgbClr val="ffffff">
                  <a:lumMod val="85000"/>
                </a:srgbClr>
              </a:solidFill>
              <a:round/>
            </a:ln>
          </p:spPr>
        </p:cxnSp>
        <p:cxnSp>
          <p:nvCxnSpPr>
            <p:cNvPr id="421" name="直接连接符 330"/>
            <p:cNvCxnSpPr/>
            <p:nvPr/>
          </p:nvCxnSpPr>
          <p:spPr>
            <a:xfrm>
              <a:off x="8270280" y="1439640"/>
              <a:ext cx="360" cy="360720"/>
            </a:xfrm>
            <a:prstGeom prst="straightConnector1">
              <a:avLst/>
            </a:prstGeom>
            <a:ln w="3175">
              <a:solidFill>
                <a:srgbClr val="ffffff">
                  <a:lumMod val="85000"/>
                </a:srgbClr>
              </a:solidFill>
              <a:round/>
            </a:ln>
          </p:spPr>
        </p:cxnSp>
        <p:cxnSp>
          <p:nvCxnSpPr>
            <p:cNvPr id="422" name="直接连接符 331"/>
            <p:cNvCxnSpPr/>
            <p:nvPr/>
          </p:nvCxnSpPr>
          <p:spPr>
            <a:xfrm>
              <a:off x="8629920" y="1439640"/>
              <a:ext cx="360" cy="360720"/>
            </a:xfrm>
            <a:prstGeom prst="straightConnector1">
              <a:avLst/>
            </a:prstGeom>
            <a:ln w="3175">
              <a:solidFill>
                <a:srgbClr val="ffffff">
                  <a:lumMod val="85000"/>
                </a:srgbClr>
              </a:solidFill>
              <a:round/>
            </a:ln>
          </p:spPr>
        </p:cxnSp>
        <p:cxnSp>
          <p:nvCxnSpPr>
            <p:cNvPr id="423" name="直接连接符 332"/>
            <p:cNvCxnSpPr/>
            <p:nvPr/>
          </p:nvCxnSpPr>
          <p:spPr>
            <a:xfrm>
              <a:off x="8989200" y="1439640"/>
              <a:ext cx="360" cy="360720"/>
            </a:xfrm>
            <a:prstGeom prst="straightConnector1">
              <a:avLst/>
            </a:prstGeom>
            <a:ln w="3175">
              <a:solidFill>
                <a:srgbClr val="ffffff">
                  <a:lumMod val="85000"/>
                </a:srgbClr>
              </a:solidFill>
              <a:round/>
            </a:ln>
          </p:spPr>
        </p:cxnSp>
        <p:cxnSp>
          <p:nvCxnSpPr>
            <p:cNvPr id="424" name="直接连接符 333"/>
            <p:cNvCxnSpPr/>
            <p:nvPr/>
          </p:nvCxnSpPr>
          <p:spPr>
            <a:xfrm>
              <a:off x="9348840" y="1439640"/>
              <a:ext cx="360" cy="360720"/>
            </a:xfrm>
            <a:prstGeom prst="straightConnector1">
              <a:avLst/>
            </a:prstGeom>
            <a:ln w="3175">
              <a:solidFill>
                <a:srgbClr val="ffffff">
                  <a:lumMod val="85000"/>
                </a:srgbClr>
              </a:solidFill>
              <a:round/>
            </a:ln>
          </p:spPr>
        </p:cxnSp>
        <p:cxnSp>
          <p:nvCxnSpPr>
            <p:cNvPr id="425" name="直接连接符 334"/>
            <p:cNvCxnSpPr/>
            <p:nvPr/>
          </p:nvCxnSpPr>
          <p:spPr>
            <a:xfrm>
              <a:off x="9708480" y="1439640"/>
              <a:ext cx="360" cy="360720"/>
            </a:xfrm>
            <a:prstGeom prst="straightConnector1">
              <a:avLst/>
            </a:prstGeom>
            <a:ln w="3175">
              <a:solidFill>
                <a:srgbClr val="ffffff">
                  <a:lumMod val="85000"/>
                </a:srgbClr>
              </a:solidFill>
              <a:round/>
            </a:ln>
          </p:spPr>
        </p:cxnSp>
        <p:cxnSp>
          <p:nvCxnSpPr>
            <p:cNvPr id="426" name="直接连接符 335"/>
            <p:cNvCxnSpPr/>
            <p:nvPr/>
          </p:nvCxnSpPr>
          <p:spPr>
            <a:xfrm>
              <a:off x="10067760" y="1439640"/>
              <a:ext cx="360" cy="360720"/>
            </a:xfrm>
            <a:prstGeom prst="straightConnector1">
              <a:avLst/>
            </a:prstGeom>
            <a:ln w="3175">
              <a:solidFill>
                <a:srgbClr val="ffffff">
                  <a:lumMod val="85000"/>
                </a:srgbClr>
              </a:solidFill>
              <a:round/>
            </a:ln>
          </p:spPr>
        </p:cxnSp>
        <p:cxnSp>
          <p:nvCxnSpPr>
            <p:cNvPr id="427" name="直接连接符 336"/>
            <p:cNvCxnSpPr/>
            <p:nvPr/>
          </p:nvCxnSpPr>
          <p:spPr>
            <a:xfrm>
              <a:off x="10427400" y="1439640"/>
              <a:ext cx="360" cy="360720"/>
            </a:xfrm>
            <a:prstGeom prst="straightConnector1">
              <a:avLst/>
            </a:prstGeom>
            <a:ln w="3175">
              <a:solidFill>
                <a:srgbClr val="ffffff">
                  <a:lumMod val="85000"/>
                </a:srgbClr>
              </a:solidFill>
              <a:round/>
            </a:ln>
          </p:spPr>
        </p:cxnSp>
        <p:cxnSp>
          <p:nvCxnSpPr>
            <p:cNvPr id="428" name="直接连接符 337"/>
            <p:cNvCxnSpPr/>
            <p:nvPr/>
          </p:nvCxnSpPr>
          <p:spPr>
            <a:xfrm>
              <a:off x="10787040" y="1439640"/>
              <a:ext cx="360" cy="360720"/>
            </a:xfrm>
            <a:prstGeom prst="straightConnector1">
              <a:avLst/>
            </a:prstGeom>
            <a:ln w="3175">
              <a:solidFill>
                <a:srgbClr val="ffffff">
                  <a:lumMod val="85000"/>
                </a:srgbClr>
              </a:solidFill>
              <a:round/>
            </a:ln>
          </p:spPr>
        </p:cxnSp>
        <p:cxnSp>
          <p:nvCxnSpPr>
            <p:cNvPr id="429" name="直接连接符 338"/>
            <p:cNvCxnSpPr/>
            <p:nvPr/>
          </p:nvCxnSpPr>
          <p:spPr>
            <a:xfrm>
              <a:off x="720720" y="1979640"/>
              <a:ext cx="360" cy="360720"/>
            </a:xfrm>
            <a:prstGeom prst="straightConnector1">
              <a:avLst/>
            </a:prstGeom>
            <a:ln w="3175">
              <a:solidFill>
                <a:srgbClr val="ffffff">
                  <a:lumMod val="85000"/>
                </a:srgbClr>
              </a:solidFill>
              <a:round/>
            </a:ln>
          </p:spPr>
        </p:cxnSp>
        <p:cxnSp>
          <p:nvCxnSpPr>
            <p:cNvPr id="430" name="直接连接符 339"/>
            <p:cNvCxnSpPr/>
            <p:nvPr/>
          </p:nvCxnSpPr>
          <p:spPr>
            <a:xfrm>
              <a:off x="1080000" y="1979280"/>
              <a:ext cx="360" cy="360720"/>
            </a:xfrm>
            <a:prstGeom prst="straightConnector1">
              <a:avLst/>
            </a:prstGeom>
            <a:ln w="3175">
              <a:solidFill>
                <a:srgbClr val="ffffff">
                  <a:lumMod val="85000"/>
                </a:srgbClr>
              </a:solidFill>
              <a:round/>
            </a:ln>
          </p:spPr>
        </p:cxnSp>
        <p:cxnSp>
          <p:nvCxnSpPr>
            <p:cNvPr id="431" name="直接连接符 340"/>
            <p:cNvCxnSpPr/>
            <p:nvPr/>
          </p:nvCxnSpPr>
          <p:spPr>
            <a:xfrm>
              <a:off x="1439640" y="1979280"/>
              <a:ext cx="360" cy="360720"/>
            </a:xfrm>
            <a:prstGeom prst="straightConnector1">
              <a:avLst/>
            </a:prstGeom>
            <a:ln w="3175">
              <a:solidFill>
                <a:srgbClr val="ffffff">
                  <a:lumMod val="85000"/>
                </a:srgbClr>
              </a:solidFill>
              <a:round/>
            </a:ln>
          </p:spPr>
        </p:cxnSp>
        <p:cxnSp>
          <p:nvCxnSpPr>
            <p:cNvPr id="432" name="直接连接符 341"/>
            <p:cNvCxnSpPr/>
            <p:nvPr/>
          </p:nvCxnSpPr>
          <p:spPr>
            <a:xfrm>
              <a:off x="1798920" y="1979280"/>
              <a:ext cx="360" cy="360720"/>
            </a:xfrm>
            <a:prstGeom prst="straightConnector1">
              <a:avLst/>
            </a:prstGeom>
            <a:ln w="3175">
              <a:solidFill>
                <a:srgbClr val="ffffff">
                  <a:lumMod val="85000"/>
                </a:srgbClr>
              </a:solidFill>
              <a:round/>
            </a:ln>
          </p:spPr>
        </p:cxnSp>
        <p:cxnSp>
          <p:nvCxnSpPr>
            <p:cNvPr id="433" name="直接连接符 342"/>
            <p:cNvCxnSpPr/>
            <p:nvPr/>
          </p:nvCxnSpPr>
          <p:spPr>
            <a:xfrm>
              <a:off x="2158560" y="1979280"/>
              <a:ext cx="360" cy="360720"/>
            </a:xfrm>
            <a:prstGeom prst="straightConnector1">
              <a:avLst/>
            </a:prstGeom>
            <a:ln w="3175">
              <a:solidFill>
                <a:srgbClr val="ffffff">
                  <a:lumMod val="85000"/>
                </a:srgbClr>
              </a:solidFill>
              <a:round/>
            </a:ln>
          </p:spPr>
        </p:cxnSp>
        <p:cxnSp>
          <p:nvCxnSpPr>
            <p:cNvPr id="434" name="直接连接符 343"/>
            <p:cNvCxnSpPr/>
            <p:nvPr/>
          </p:nvCxnSpPr>
          <p:spPr>
            <a:xfrm>
              <a:off x="2518200" y="1979280"/>
              <a:ext cx="360" cy="360720"/>
            </a:xfrm>
            <a:prstGeom prst="straightConnector1">
              <a:avLst/>
            </a:prstGeom>
            <a:ln w="3175">
              <a:solidFill>
                <a:srgbClr val="ffffff">
                  <a:lumMod val="85000"/>
                </a:srgbClr>
              </a:solidFill>
              <a:round/>
            </a:ln>
          </p:spPr>
        </p:cxnSp>
        <p:cxnSp>
          <p:nvCxnSpPr>
            <p:cNvPr id="435" name="直接连接符 344"/>
            <p:cNvCxnSpPr/>
            <p:nvPr/>
          </p:nvCxnSpPr>
          <p:spPr>
            <a:xfrm>
              <a:off x="2877480" y="1979280"/>
              <a:ext cx="360" cy="360720"/>
            </a:xfrm>
            <a:prstGeom prst="straightConnector1">
              <a:avLst/>
            </a:prstGeom>
            <a:ln w="3175">
              <a:solidFill>
                <a:srgbClr val="ffffff">
                  <a:lumMod val="85000"/>
                </a:srgbClr>
              </a:solidFill>
              <a:round/>
            </a:ln>
          </p:spPr>
        </p:cxnSp>
        <p:cxnSp>
          <p:nvCxnSpPr>
            <p:cNvPr id="436" name="直接连接符 345"/>
            <p:cNvCxnSpPr/>
            <p:nvPr/>
          </p:nvCxnSpPr>
          <p:spPr>
            <a:xfrm>
              <a:off x="3237120" y="1979280"/>
              <a:ext cx="360" cy="360720"/>
            </a:xfrm>
            <a:prstGeom prst="straightConnector1">
              <a:avLst/>
            </a:prstGeom>
            <a:ln w="3175">
              <a:solidFill>
                <a:srgbClr val="ffffff">
                  <a:lumMod val="85000"/>
                </a:srgbClr>
              </a:solidFill>
              <a:round/>
            </a:ln>
          </p:spPr>
        </p:cxnSp>
        <p:cxnSp>
          <p:nvCxnSpPr>
            <p:cNvPr id="437" name="直接连接符 346"/>
            <p:cNvCxnSpPr/>
            <p:nvPr/>
          </p:nvCxnSpPr>
          <p:spPr>
            <a:xfrm>
              <a:off x="3596760" y="1979280"/>
              <a:ext cx="360" cy="360720"/>
            </a:xfrm>
            <a:prstGeom prst="straightConnector1">
              <a:avLst/>
            </a:prstGeom>
            <a:ln w="3175">
              <a:solidFill>
                <a:srgbClr val="ffffff">
                  <a:lumMod val="85000"/>
                </a:srgbClr>
              </a:solidFill>
              <a:round/>
            </a:ln>
          </p:spPr>
        </p:cxnSp>
        <p:cxnSp>
          <p:nvCxnSpPr>
            <p:cNvPr id="438" name="直接连接符 347"/>
            <p:cNvCxnSpPr/>
            <p:nvPr/>
          </p:nvCxnSpPr>
          <p:spPr>
            <a:xfrm>
              <a:off x="3956040" y="1979280"/>
              <a:ext cx="360" cy="360720"/>
            </a:xfrm>
            <a:prstGeom prst="straightConnector1">
              <a:avLst/>
            </a:prstGeom>
            <a:ln w="3175">
              <a:solidFill>
                <a:srgbClr val="ffffff">
                  <a:lumMod val="85000"/>
                </a:srgbClr>
              </a:solidFill>
              <a:round/>
            </a:ln>
          </p:spPr>
        </p:cxnSp>
        <p:cxnSp>
          <p:nvCxnSpPr>
            <p:cNvPr id="439" name="直接连接符 348"/>
            <p:cNvCxnSpPr/>
            <p:nvPr/>
          </p:nvCxnSpPr>
          <p:spPr>
            <a:xfrm>
              <a:off x="4315680" y="1979280"/>
              <a:ext cx="360" cy="360720"/>
            </a:xfrm>
            <a:prstGeom prst="straightConnector1">
              <a:avLst/>
            </a:prstGeom>
            <a:ln w="3175">
              <a:solidFill>
                <a:srgbClr val="ffffff">
                  <a:lumMod val="85000"/>
                </a:srgbClr>
              </a:solidFill>
              <a:round/>
            </a:ln>
          </p:spPr>
        </p:cxnSp>
        <p:cxnSp>
          <p:nvCxnSpPr>
            <p:cNvPr id="440" name="直接连接符 349"/>
            <p:cNvCxnSpPr/>
            <p:nvPr/>
          </p:nvCxnSpPr>
          <p:spPr>
            <a:xfrm>
              <a:off x="4675320" y="1979280"/>
              <a:ext cx="360" cy="360720"/>
            </a:xfrm>
            <a:prstGeom prst="straightConnector1">
              <a:avLst/>
            </a:prstGeom>
            <a:ln w="3175">
              <a:solidFill>
                <a:srgbClr val="ffffff">
                  <a:lumMod val="85000"/>
                </a:srgbClr>
              </a:solidFill>
              <a:round/>
            </a:ln>
          </p:spPr>
        </p:cxnSp>
        <p:cxnSp>
          <p:nvCxnSpPr>
            <p:cNvPr id="441" name="直接连接符 350"/>
            <p:cNvCxnSpPr/>
            <p:nvPr/>
          </p:nvCxnSpPr>
          <p:spPr>
            <a:xfrm>
              <a:off x="5034600" y="1979280"/>
              <a:ext cx="360" cy="360720"/>
            </a:xfrm>
            <a:prstGeom prst="straightConnector1">
              <a:avLst/>
            </a:prstGeom>
            <a:ln w="3175">
              <a:solidFill>
                <a:srgbClr val="ffffff">
                  <a:lumMod val="85000"/>
                </a:srgbClr>
              </a:solidFill>
              <a:round/>
            </a:ln>
          </p:spPr>
        </p:cxnSp>
        <p:cxnSp>
          <p:nvCxnSpPr>
            <p:cNvPr id="442" name="直接连接符 351"/>
            <p:cNvCxnSpPr/>
            <p:nvPr/>
          </p:nvCxnSpPr>
          <p:spPr>
            <a:xfrm>
              <a:off x="5394240" y="1979280"/>
              <a:ext cx="360" cy="360720"/>
            </a:xfrm>
            <a:prstGeom prst="straightConnector1">
              <a:avLst/>
            </a:prstGeom>
            <a:ln w="3175">
              <a:solidFill>
                <a:srgbClr val="ffffff">
                  <a:lumMod val="85000"/>
                </a:srgbClr>
              </a:solidFill>
              <a:round/>
            </a:ln>
          </p:spPr>
        </p:cxnSp>
        <p:cxnSp>
          <p:nvCxnSpPr>
            <p:cNvPr id="443" name="直接连接符 352"/>
            <p:cNvCxnSpPr/>
            <p:nvPr/>
          </p:nvCxnSpPr>
          <p:spPr>
            <a:xfrm>
              <a:off x="5753880" y="1979280"/>
              <a:ext cx="360" cy="360720"/>
            </a:xfrm>
            <a:prstGeom prst="straightConnector1">
              <a:avLst/>
            </a:prstGeom>
            <a:ln w="3175">
              <a:solidFill>
                <a:srgbClr val="ffffff">
                  <a:lumMod val="85000"/>
                </a:srgbClr>
              </a:solidFill>
              <a:round/>
            </a:ln>
          </p:spPr>
        </p:cxnSp>
        <p:cxnSp>
          <p:nvCxnSpPr>
            <p:cNvPr id="444" name="直接连接符 353"/>
            <p:cNvCxnSpPr/>
            <p:nvPr/>
          </p:nvCxnSpPr>
          <p:spPr>
            <a:xfrm>
              <a:off x="6113160" y="1979280"/>
              <a:ext cx="360" cy="360720"/>
            </a:xfrm>
            <a:prstGeom prst="straightConnector1">
              <a:avLst/>
            </a:prstGeom>
            <a:ln w="3175">
              <a:solidFill>
                <a:srgbClr val="ffffff">
                  <a:lumMod val="85000"/>
                </a:srgbClr>
              </a:solidFill>
              <a:round/>
            </a:ln>
          </p:spPr>
        </p:cxnSp>
        <p:cxnSp>
          <p:nvCxnSpPr>
            <p:cNvPr id="445" name="直接连接符 354"/>
            <p:cNvCxnSpPr/>
            <p:nvPr/>
          </p:nvCxnSpPr>
          <p:spPr>
            <a:xfrm>
              <a:off x="6472800" y="1979280"/>
              <a:ext cx="360" cy="360720"/>
            </a:xfrm>
            <a:prstGeom prst="straightConnector1">
              <a:avLst/>
            </a:prstGeom>
            <a:ln w="3175">
              <a:solidFill>
                <a:srgbClr val="ffffff">
                  <a:lumMod val="85000"/>
                </a:srgbClr>
              </a:solidFill>
              <a:round/>
            </a:ln>
          </p:spPr>
        </p:cxnSp>
        <p:cxnSp>
          <p:nvCxnSpPr>
            <p:cNvPr id="446" name="直接连接符 355"/>
            <p:cNvCxnSpPr/>
            <p:nvPr/>
          </p:nvCxnSpPr>
          <p:spPr>
            <a:xfrm>
              <a:off x="6832080" y="1979280"/>
              <a:ext cx="360" cy="360720"/>
            </a:xfrm>
            <a:prstGeom prst="straightConnector1">
              <a:avLst/>
            </a:prstGeom>
            <a:ln w="3175">
              <a:solidFill>
                <a:srgbClr val="ffffff">
                  <a:lumMod val="85000"/>
                </a:srgbClr>
              </a:solidFill>
              <a:round/>
            </a:ln>
          </p:spPr>
        </p:cxnSp>
        <p:cxnSp>
          <p:nvCxnSpPr>
            <p:cNvPr id="447" name="直接连接符 356"/>
            <p:cNvCxnSpPr/>
            <p:nvPr/>
          </p:nvCxnSpPr>
          <p:spPr>
            <a:xfrm>
              <a:off x="7191720" y="1979280"/>
              <a:ext cx="360" cy="360720"/>
            </a:xfrm>
            <a:prstGeom prst="straightConnector1">
              <a:avLst/>
            </a:prstGeom>
            <a:ln w="3175">
              <a:solidFill>
                <a:srgbClr val="ffffff">
                  <a:lumMod val="85000"/>
                </a:srgbClr>
              </a:solidFill>
              <a:round/>
            </a:ln>
          </p:spPr>
        </p:cxnSp>
        <p:cxnSp>
          <p:nvCxnSpPr>
            <p:cNvPr id="448" name="直接连接符 357"/>
            <p:cNvCxnSpPr/>
            <p:nvPr/>
          </p:nvCxnSpPr>
          <p:spPr>
            <a:xfrm>
              <a:off x="7551360" y="1979280"/>
              <a:ext cx="360" cy="360720"/>
            </a:xfrm>
            <a:prstGeom prst="straightConnector1">
              <a:avLst/>
            </a:prstGeom>
            <a:ln w="3175">
              <a:solidFill>
                <a:srgbClr val="ffffff">
                  <a:lumMod val="85000"/>
                </a:srgbClr>
              </a:solidFill>
              <a:round/>
            </a:ln>
          </p:spPr>
        </p:cxnSp>
        <p:cxnSp>
          <p:nvCxnSpPr>
            <p:cNvPr id="449" name="直接连接符 358"/>
            <p:cNvCxnSpPr/>
            <p:nvPr/>
          </p:nvCxnSpPr>
          <p:spPr>
            <a:xfrm>
              <a:off x="7910640" y="1979280"/>
              <a:ext cx="360" cy="360720"/>
            </a:xfrm>
            <a:prstGeom prst="straightConnector1">
              <a:avLst/>
            </a:prstGeom>
            <a:ln w="3175">
              <a:solidFill>
                <a:srgbClr val="ffffff">
                  <a:lumMod val="85000"/>
                </a:srgbClr>
              </a:solidFill>
              <a:round/>
            </a:ln>
          </p:spPr>
        </p:cxnSp>
        <p:cxnSp>
          <p:nvCxnSpPr>
            <p:cNvPr id="450" name="直接连接符 359"/>
            <p:cNvCxnSpPr/>
            <p:nvPr/>
          </p:nvCxnSpPr>
          <p:spPr>
            <a:xfrm>
              <a:off x="8270280" y="1979280"/>
              <a:ext cx="360" cy="360720"/>
            </a:xfrm>
            <a:prstGeom prst="straightConnector1">
              <a:avLst/>
            </a:prstGeom>
            <a:ln w="3175">
              <a:solidFill>
                <a:srgbClr val="ffffff">
                  <a:lumMod val="85000"/>
                </a:srgbClr>
              </a:solidFill>
              <a:round/>
            </a:ln>
          </p:spPr>
        </p:cxnSp>
        <p:cxnSp>
          <p:nvCxnSpPr>
            <p:cNvPr id="451" name="直接连接符 360"/>
            <p:cNvCxnSpPr/>
            <p:nvPr/>
          </p:nvCxnSpPr>
          <p:spPr>
            <a:xfrm>
              <a:off x="8629920" y="1979280"/>
              <a:ext cx="360" cy="360720"/>
            </a:xfrm>
            <a:prstGeom prst="straightConnector1">
              <a:avLst/>
            </a:prstGeom>
            <a:ln w="3175">
              <a:solidFill>
                <a:srgbClr val="ffffff">
                  <a:lumMod val="85000"/>
                </a:srgbClr>
              </a:solidFill>
              <a:round/>
            </a:ln>
          </p:spPr>
        </p:cxnSp>
        <p:cxnSp>
          <p:nvCxnSpPr>
            <p:cNvPr id="452" name="直接连接符 361"/>
            <p:cNvCxnSpPr/>
            <p:nvPr/>
          </p:nvCxnSpPr>
          <p:spPr>
            <a:xfrm>
              <a:off x="8989200" y="1979280"/>
              <a:ext cx="360" cy="360720"/>
            </a:xfrm>
            <a:prstGeom prst="straightConnector1">
              <a:avLst/>
            </a:prstGeom>
            <a:ln w="3175">
              <a:solidFill>
                <a:srgbClr val="ffffff">
                  <a:lumMod val="85000"/>
                </a:srgbClr>
              </a:solidFill>
              <a:round/>
            </a:ln>
          </p:spPr>
        </p:cxnSp>
        <p:cxnSp>
          <p:nvCxnSpPr>
            <p:cNvPr id="453" name="直接连接符 362"/>
            <p:cNvCxnSpPr/>
            <p:nvPr/>
          </p:nvCxnSpPr>
          <p:spPr>
            <a:xfrm>
              <a:off x="9348840" y="1979280"/>
              <a:ext cx="360" cy="360720"/>
            </a:xfrm>
            <a:prstGeom prst="straightConnector1">
              <a:avLst/>
            </a:prstGeom>
            <a:ln w="3175">
              <a:solidFill>
                <a:srgbClr val="ffffff">
                  <a:lumMod val="85000"/>
                </a:srgbClr>
              </a:solidFill>
              <a:round/>
            </a:ln>
          </p:spPr>
        </p:cxnSp>
        <p:cxnSp>
          <p:nvCxnSpPr>
            <p:cNvPr id="454" name="直接连接符 363"/>
            <p:cNvCxnSpPr/>
            <p:nvPr/>
          </p:nvCxnSpPr>
          <p:spPr>
            <a:xfrm>
              <a:off x="9708480" y="1979280"/>
              <a:ext cx="360" cy="360720"/>
            </a:xfrm>
            <a:prstGeom prst="straightConnector1">
              <a:avLst/>
            </a:prstGeom>
            <a:ln w="3175">
              <a:solidFill>
                <a:srgbClr val="ffffff">
                  <a:lumMod val="85000"/>
                </a:srgbClr>
              </a:solidFill>
              <a:round/>
            </a:ln>
          </p:spPr>
        </p:cxnSp>
        <p:cxnSp>
          <p:nvCxnSpPr>
            <p:cNvPr id="455" name="直接连接符 364"/>
            <p:cNvCxnSpPr/>
            <p:nvPr/>
          </p:nvCxnSpPr>
          <p:spPr>
            <a:xfrm>
              <a:off x="10067760" y="1979280"/>
              <a:ext cx="360" cy="360720"/>
            </a:xfrm>
            <a:prstGeom prst="straightConnector1">
              <a:avLst/>
            </a:prstGeom>
            <a:ln w="3175">
              <a:solidFill>
                <a:srgbClr val="ffffff">
                  <a:lumMod val="85000"/>
                </a:srgbClr>
              </a:solidFill>
              <a:round/>
            </a:ln>
          </p:spPr>
        </p:cxnSp>
        <p:cxnSp>
          <p:nvCxnSpPr>
            <p:cNvPr id="456" name="直接连接符 365"/>
            <p:cNvCxnSpPr/>
            <p:nvPr/>
          </p:nvCxnSpPr>
          <p:spPr>
            <a:xfrm>
              <a:off x="10427400" y="1979280"/>
              <a:ext cx="360" cy="360720"/>
            </a:xfrm>
            <a:prstGeom prst="straightConnector1">
              <a:avLst/>
            </a:prstGeom>
            <a:ln w="3175">
              <a:solidFill>
                <a:srgbClr val="ffffff">
                  <a:lumMod val="85000"/>
                </a:srgbClr>
              </a:solidFill>
              <a:round/>
            </a:ln>
          </p:spPr>
        </p:cxnSp>
        <p:cxnSp>
          <p:nvCxnSpPr>
            <p:cNvPr id="457" name="直接连接符 366"/>
            <p:cNvCxnSpPr/>
            <p:nvPr/>
          </p:nvCxnSpPr>
          <p:spPr>
            <a:xfrm>
              <a:off x="10787040" y="1979280"/>
              <a:ext cx="360" cy="360720"/>
            </a:xfrm>
            <a:prstGeom prst="straightConnector1">
              <a:avLst/>
            </a:prstGeom>
            <a:ln w="3175">
              <a:solidFill>
                <a:srgbClr val="ffffff">
                  <a:lumMod val="85000"/>
                </a:srgbClr>
              </a:solidFill>
              <a:round/>
            </a:ln>
          </p:spPr>
        </p:cxnSp>
        <p:cxnSp>
          <p:nvCxnSpPr>
            <p:cNvPr id="458" name="直接连接符 367"/>
            <p:cNvCxnSpPr/>
            <p:nvPr/>
          </p:nvCxnSpPr>
          <p:spPr>
            <a:xfrm>
              <a:off x="720720" y="2519640"/>
              <a:ext cx="360" cy="360720"/>
            </a:xfrm>
            <a:prstGeom prst="straightConnector1">
              <a:avLst/>
            </a:prstGeom>
            <a:ln w="3175">
              <a:solidFill>
                <a:srgbClr val="ffffff">
                  <a:lumMod val="85000"/>
                </a:srgbClr>
              </a:solidFill>
              <a:round/>
            </a:ln>
          </p:spPr>
        </p:cxnSp>
        <p:cxnSp>
          <p:nvCxnSpPr>
            <p:cNvPr id="459" name="直接连接符 368"/>
            <p:cNvCxnSpPr/>
            <p:nvPr/>
          </p:nvCxnSpPr>
          <p:spPr>
            <a:xfrm>
              <a:off x="1080000" y="2519280"/>
              <a:ext cx="360" cy="360720"/>
            </a:xfrm>
            <a:prstGeom prst="straightConnector1">
              <a:avLst/>
            </a:prstGeom>
            <a:ln w="3175">
              <a:solidFill>
                <a:srgbClr val="ffffff">
                  <a:lumMod val="85000"/>
                </a:srgbClr>
              </a:solidFill>
              <a:round/>
            </a:ln>
          </p:spPr>
        </p:cxnSp>
        <p:cxnSp>
          <p:nvCxnSpPr>
            <p:cNvPr id="460" name="直接连接符 369"/>
            <p:cNvCxnSpPr/>
            <p:nvPr/>
          </p:nvCxnSpPr>
          <p:spPr>
            <a:xfrm>
              <a:off x="1439640" y="2519280"/>
              <a:ext cx="360" cy="360720"/>
            </a:xfrm>
            <a:prstGeom prst="straightConnector1">
              <a:avLst/>
            </a:prstGeom>
            <a:ln w="3175">
              <a:solidFill>
                <a:srgbClr val="ffffff">
                  <a:lumMod val="85000"/>
                </a:srgbClr>
              </a:solidFill>
              <a:round/>
            </a:ln>
          </p:spPr>
        </p:cxnSp>
        <p:cxnSp>
          <p:nvCxnSpPr>
            <p:cNvPr id="461" name="直接连接符 370"/>
            <p:cNvCxnSpPr/>
            <p:nvPr/>
          </p:nvCxnSpPr>
          <p:spPr>
            <a:xfrm>
              <a:off x="1798920" y="2519280"/>
              <a:ext cx="360" cy="360720"/>
            </a:xfrm>
            <a:prstGeom prst="straightConnector1">
              <a:avLst/>
            </a:prstGeom>
            <a:ln w="3175">
              <a:solidFill>
                <a:srgbClr val="ffffff">
                  <a:lumMod val="85000"/>
                </a:srgbClr>
              </a:solidFill>
              <a:round/>
            </a:ln>
          </p:spPr>
        </p:cxnSp>
        <p:cxnSp>
          <p:nvCxnSpPr>
            <p:cNvPr id="462" name="直接连接符 371"/>
            <p:cNvCxnSpPr/>
            <p:nvPr/>
          </p:nvCxnSpPr>
          <p:spPr>
            <a:xfrm>
              <a:off x="2158560" y="2519280"/>
              <a:ext cx="360" cy="360720"/>
            </a:xfrm>
            <a:prstGeom prst="straightConnector1">
              <a:avLst/>
            </a:prstGeom>
            <a:ln w="3175">
              <a:solidFill>
                <a:srgbClr val="ffffff">
                  <a:lumMod val="85000"/>
                </a:srgbClr>
              </a:solidFill>
              <a:round/>
            </a:ln>
          </p:spPr>
        </p:cxnSp>
        <p:cxnSp>
          <p:nvCxnSpPr>
            <p:cNvPr id="463" name="直接连接符 372"/>
            <p:cNvCxnSpPr/>
            <p:nvPr/>
          </p:nvCxnSpPr>
          <p:spPr>
            <a:xfrm>
              <a:off x="2518200" y="2519280"/>
              <a:ext cx="360" cy="360720"/>
            </a:xfrm>
            <a:prstGeom prst="straightConnector1">
              <a:avLst/>
            </a:prstGeom>
            <a:ln w="3175">
              <a:solidFill>
                <a:srgbClr val="ffffff">
                  <a:lumMod val="85000"/>
                </a:srgbClr>
              </a:solidFill>
              <a:round/>
            </a:ln>
          </p:spPr>
        </p:cxnSp>
        <p:cxnSp>
          <p:nvCxnSpPr>
            <p:cNvPr id="464" name="直接连接符 373"/>
            <p:cNvCxnSpPr/>
            <p:nvPr/>
          </p:nvCxnSpPr>
          <p:spPr>
            <a:xfrm>
              <a:off x="2877480" y="2519280"/>
              <a:ext cx="360" cy="360720"/>
            </a:xfrm>
            <a:prstGeom prst="straightConnector1">
              <a:avLst/>
            </a:prstGeom>
            <a:ln w="3175">
              <a:solidFill>
                <a:srgbClr val="ffffff">
                  <a:lumMod val="85000"/>
                </a:srgbClr>
              </a:solidFill>
              <a:round/>
            </a:ln>
          </p:spPr>
        </p:cxnSp>
        <p:cxnSp>
          <p:nvCxnSpPr>
            <p:cNvPr id="465" name="直接连接符 374"/>
            <p:cNvCxnSpPr/>
            <p:nvPr/>
          </p:nvCxnSpPr>
          <p:spPr>
            <a:xfrm>
              <a:off x="3237120" y="2519280"/>
              <a:ext cx="360" cy="360720"/>
            </a:xfrm>
            <a:prstGeom prst="straightConnector1">
              <a:avLst/>
            </a:prstGeom>
            <a:ln w="3175">
              <a:solidFill>
                <a:srgbClr val="ffffff">
                  <a:lumMod val="85000"/>
                </a:srgbClr>
              </a:solidFill>
              <a:round/>
            </a:ln>
          </p:spPr>
        </p:cxnSp>
        <p:cxnSp>
          <p:nvCxnSpPr>
            <p:cNvPr id="466" name="直接连接符 375"/>
            <p:cNvCxnSpPr/>
            <p:nvPr/>
          </p:nvCxnSpPr>
          <p:spPr>
            <a:xfrm>
              <a:off x="3596760" y="2519280"/>
              <a:ext cx="360" cy="360720"/>
            </a:xfrm>
            <a:prstGeom prst="straightConnector1">
              <a:avLst/>
            </a:prstGeom>
            <a:ln w="3175">
              <a:solidFill>
                <a:srgbClr val="ffffff">
                  <a:lumMod val="85000"/>
                </a:srgbClr>
              </a:solidFill>
              <a:round/>
            </a:ln>
          </p:spPr>
        </p:cxnSp>
        <p:cxnSp>
          <p:nvCxnSpPr>
            <p:cNvPr id="467" name="直接连接符 376"/>
            <p:cNvCxnSpPr/>
            <p:nvPr/>
          </p:nvCxnSpPr>
          <p:spPr>
            <a:xfrm>
              <a:off x="3956040" y="2519280"/>
              <a:ext cx="360" cy="360720"/>
            </a:xfrm>
            <a:prstGeom prst="straightConnector1">
              <a:avLst/>
            </a:prstGeom>
            <a:ln w="3175">
              <a:solidFill>
                <a:srgbClr val="ffffff">
                  <a:lumMod val="85000"/>
                </a:srgbClr>
              </a:solidFill>
              <a:round/>
            </a:ln>
          </p:spPr>
        </p:cxnSp>
        <p:cxnSp>
          <p:nvCxnSpPr>
            <p:cNvPr id="468" name="直接连接符 377"/>
            <p:cNvCxnSpPr/>
            <p:nvPr/>
          </p:nvCxnSpPr>
          <p:spPr>
            <a:xfrm>
              <a:off x="4315680" y="2519280"/>
              <a:ext cx="360" cy="360720"/>
            </a:xfrm>
            <a:prstGeom prst="straightConnector1">
              <a:avLst/>
            </a:prstGeom>
            <a:ln w="3175">
              <a:solidFill>
                <a:srgbClr val="ffffff">
                  <a:lumMod val="85000"/>
                </a:srgbClr>
              </a:solidFill>
              <a:round/>
            </a:ln>
          </p:spPr>
        </p:cxnSp>
        <p:cxnSp>
          <p:nvCxnSpPr>
            <p:cNvPr id="469" name="直接连接符 378"/>
            <p:cNvCxnSpPr/>
            <p:nvPr/>
          </p:nvCxnSpPr>
          <p:spPr>
            <a:xfrm>
              <a:off x="4675320" y="2519280"/>
              <a:ext cx="360" cy="360720"/>
            </a:xfrm>
            <a:prstGeom prst="straightConnector1">
              <a:avLst/>
            </a:prstGeom>
            <a:ln w="3175">
              <a:solidFill>
                <a:srgbClr val="ffffff">
                  <a:lumMod val="85000"/>
                </a:srgbClr>
              </a:solidFill>
              <a:round/>
            </a:ln>
          </p:spPr>
        </p:cxnSp>
        <p:cxnSp>
          <p:nvCxnSpPr>
            <p:cNvPr id="470" name="直接连接符 379"/>
            <p:cNvCxnSpPr/>
            <p:nvPr/>
          </p:nvCxnSpPr>
          <p:spPr>
            <a:xfrm>
              <a:off x="5034600" y="2519280"/>
              <a:ext cx="360" cy="360720"/>
            </a:xfrm>
            <a:prstGeom prst="straightConnector1">
              <a:avLst/>
            </a:prstGeom>
            <a:ln w="3175">
              <a:solidFill>
                <a:srgbClr val="ffffff">
                  <a:lumMod val="85000"/>
                </a:srgbClr>
              </a:solidFill>
              <a:round/>
            </a:ln>
          </p:spPr>
        </p:cxnSp>
        <p:cxnSp>
          <p:nvCxnSpPr>
            <p:cNvPr id="471" name="直接连接符 380"/>
            <p:cNvCxnSpPr/>
            <p:nvPr/>
          </p:nvCxnSpPr>
          <p:spPr>
            <a:xfrm>
              <a:off x="5394240" y="2519280"/>
              <a:ext cx="360" cy="360720"/>
            </a:xfrm>
            <a:prstGeom prst="straightConnector1">
              <a:avLst/>
            </a:prstGeom>
            <a:ln w="3175">
              <a:solidFill>
                <a:srgbClr val="ffffff">
                  <a:lumMod val="85000"/>
                </a:srgbClr>
              </a:solidFill>
              <a:round/>
            </a:ln>
          </p:spPr>
        </p:cxnSp>
        <p:cxnSp>
          <p:nvCxnSpPr>
            <p:cNvPr id="472" name="直接连接符 381"/>
            <p:cNvCxnSpPr/>
            <p:nvPr/>
          </p:nvCxnSpPr>
          <p:spPr>
            <a:xfrm>
              <a:off x="5753880" y="2519280"/>
              <a:ext cx="360" cy="360720"/>
            </a:xfrm>
            <a:prstGeom prst="straightConnector1">
              <a:avLst/>
            </a:prstGeom>
            <a:ln w="3175">
              <a:solidFill>
                <a:srgbClr val="ffffff">
                  <a:lumMod val="85000"/>
                </a:srgbClr>
              </a:solidFill>
              <a:round/>
            </a:ln>
          </p:spPr>
        </p:cxnSp>
        <p:cxnSp>
          <p:nvCxnSpPr>
            <p:cNvPr id="473" name="直接连接符 382"/>
            <p:cNvCxnSpPr/>
            <p:nvPr/>
          </p:nvCxnSpPr>
          <p:spPr>
            <a:xfrm>
              <a:off x="6113160" y="2519280"/>
              <a:ext cx="360" cy="360720"/>
            </a:xfrm>
            <a:prstGeom prst="straightConnector1">
              <a:avLst/>
            </a:prstGeom>
            <a:ln w="3175">
              <a:solidFill>
                <a:srgbClr val="ffffff">
                  <a:lumMod val="85000"/>
                </a:srgbClr>
              </a:solidFill>
              <a:round/>
            </a:ln>
          </p:spPr>
        </p:cxnSp>
        <p:cxnSp>
          <p:nvCxnSpPr>
            <p:cNvPr id="474" name="直接连接符 383"/>
            <p:cNvCxnSpPr/>
            <p:nvPr/>
          </p:nvCxnSpPr>
          <p:spPr>
            <a:xfrm>
              <a:off x="6472800" y="2519280"/>
              <a:ext cx="360" cy="360720"/>
            </a:xfrm>
            <a:prstGeom prst="straightConnector1">
              <a:avLst/>
            </a:prstGeom>
            <a:ln w="3175">
              <a:solidFill>
                <a:srgbClr val="ffffff">
                  <a:lumMod val="85000"/>
                </a:srgbClr>
              </a:solidFill>
              <a:round/>
            </a:ln>
          </p:spPr>
        </p:cxnSp>
        <p:cxnSp>
          <p:nvCxnSpPr>
            <p:cNvPr id="475" name="直接连接符 384"/>
            <p:cNvCxnSpPr/>
            <p:nvPr/>
          </p:nvCxnSpPr>
          <p:spPr>
            <a:xfrm>
              <a:off x="6832080" y="2519280"/>
              <a:ext cx="360" cy="360720"/>
            </a:xfrm>
            <a:prstGeom prst="straightConnector1">
              <a:avLst/>
            </a:prstGeom>
            <a:ln w="3175">
              <a:solidFill>
                <a:srgbClr val="ffffff">
                  <a:lumMod val="85000"/>
                </a:srgbClr>
              </a:solidFill>
              <a:round/>
            </a:ln>
          </p:spPr>
        </p:cxnSp>
        <p:cxnSp>
          <p:nvCxnSpPr>
            <p:cNvPr id="476" name="直接连接符 385"/>
            <p:cNvCxnSpPr/>
            <p:nvPr/>
          </p:nvCxnSpPr>
          <p:spPr>
            <a:xfrm>
              <a:off x="7191720" y="2519280"/>
              <a:ext cx="360" cy="360720"/>
            </a:xfrm>
            <a:prstGeom prst="straightConnector1">
              <a:avLst/>
            </a:prstGeom>
            <a:ln w="3175">
              <a:solidFill>
                <a:srgbClr val="ffffff">
                  <a:lumMod val="85000"/>
                </a:srgbClr>
              </a:solidFill>
              <a:round/>
            </a:ln>
          </p:spPr>
        </p:cxnSp>
        <p:cxnSp>
          <p:nvCxnSpPr>
            <p:cNvPr id="477" name="直接连接符 386"/>
            <p:cNvCxnSpPr/>
            <p:nvPr/>
          </p:nvCxnSpPr>
          <p:spPr>
            <a:xfrm>
              <a:off x="7551360" y="2519280"/>
              <a:ext cx="360" cy="360720"/>
            </a:xfrm>
            <a:prstGeom prst="straightConnector1">
              <a:avLst/>
            </a:prstGeom>
            <a:ln w="3175">
              <a:solidFill>
                <a:srgbClr val="ffffff">
                  <a:lumMod val="85000"/>
                </a:srgbClr>
              </a:solidFill>
              <a:round/>
            </a:ln>
          </p:spPr>
        </p:cxnSp>
        <p:cxnSp>
          <p:nvCxnSpPr>
            <p:cNvPr id="478" name="直接连接符 387"/>
            <p:cNvCxnSpPr/>
            <p:nvPr/>
          </p:nvCxnSpPr>
          <p:spPr>
            <a:xfrm>
              <a:off x="7910640" y="2519280"/>
              <a:ext cx="360" cy="360720"/>
            </a:xfrm>
            <a:prstGeom prst="straightConnector1">
              <a:avLst/>
            </a:prstGeom>
            <a:ln w="3175">
              <a:solidFill>
                <a:srgbClr val="ffffff">
                  <a:lumMod val="85000"/>
                </a:srgbClr>
              </a:solidFill>
              <a:round/>
            </a:ln>
          </p:spPr>
        </p:cxnSp>
        <p:cxnSp>
          <p:nvCxnSpPr>
            <p:cNvPr id="479" name="直接连接符 388"/>
            <p:cNvCxnSpPr/>
            <p:nvPr/>
          </p:nvCxnSpPr>
          <p:spPr>
            <a:xfrm>
              <a:off x="8270280" y="2519280"/>
              <a:ext cx="360" cy="360720"/>
            </a:xfrm>
            <a:prstGeom prst="straightConnector1">
              <a:avLst/>
            </a:prstGeom>
            <a:ln w="3175">
              <a:solidFill>
                <a:srgbClr val="ffffff">
                  <a:lumMod val="85000"/>
                </a:srgbClr>
              </a:solidFill>
              <a:round/>
            </a:ln>
          </p:spPr>
        </p:cxnSp>
        <p:cxnSp>
          <p:nvCxnSpPr>
            <p:cNvPr id="480" name="直接连接符 389"/>
            <p:cNvCxnSpPr/>
            <p:nvPr/>
          </p:nvCxnSpPr>
          <p:spPr>
            <a:xfrm>
              <a:off x="8629920" y="2519280"/>
              <a:ext cx="360" cy="360720"/>
            </a:xfrm>
            <a:prstGeom prst="straightConnector1">
              <a:avLst/>
            </a:prstGeom>
            <a:ln w="3175">
              <a:solidFill>
                <a:srgbClr val="ffffff">
                  <a:lumMod val="85000"/>
                </a:srgbClr>
              </a:solidFill>
              <a:round/>
            </a:ln>
          </p:spPr>
        </p:cxnSp>
        <p:cxnSp>
          <p:nvCxnSpPr>
            <p:cNvPr id="481" name="直接连接符 390"/>
            <p:cNvCxnSpPr/>
            <p:nvPr/>
          </p:nvCxnSpPr>
          <p:spPr>
            <a:xfrm>
              <a:off x="8989200" y="2519280"/>
              <a:ext cx="360" cy="360720"/>
            </a:xfrm>
            <a:prstGeom prst="straightConnector1">
              <a:avLst/>
            </a:prstGeom>
            <a:ln w="3175">
              <a:solidFill>
                <a:srgbClr val="ffffff">
                  <a:lumMod val="85000"/>
                </a:srgbClr>
              </a:solidFill>
              <a:round/>
            </a:ln>
          </p:spPr>
        </p:cxnSp>
        <p:cxnSp>
          <p:nvCxnSpPr>
            <p:cNvPr id="482" name="直接连接符 391"/>
            <p:cNvCxnSpPr/>
            <p:nvPr/>
          </p:nvCxnSpPr>
          <p:spPr>
            <a:xfrm>
              <a:off x="9348840" y="2519280"/>
              <a:ext cx="360" cy="360720"/>
            </a:xfrm>
            <a:prstGeom prst="straightConnector1">
              <a:avLst/>
            </a:prstGeom>
            <a:ln w="3175">
              <a:solidFill>
                <a:srgbClr val="ffffff">
                  <a:lumMod val="85000"/>
                </a:srgbClr>
              </a:solidFill>
              <a:round/>
            </a:ln>
          </p:spPr>
        </p:cxnSp>
        <p:cxnSp>
          <p:nvCxnSpPr>
            <p:cNvPr id="483" name="直接连接符 392"/>
            <p:cNvCxnSpPr/>
            <p:nvPr/>
          </p:nvCxnSpPr>
          <p:spPr>
            <a:xfrm>
              <a:off x="9708480" y="2519280"/>
              <a:ext cx="360" cy="360720"/>
            </a:xfrm>
            <a:prstGeom prst="straightConnector1">
              <a:avLst/>
            </a:prstGeom>
            <a:ln w="3175">
              <a:solidFill>
                <a:srgbClr val="ffffff">
                  <a:lumMod val="85000"/>
                </a:srgbClr>
              </a:solidFill>
              <a:round/>
            </a:ln>
          </p:spPr>
        </p:cxnSp>
        <p:cxnSp>
          <p:nvCxnSpPr>
            <p:cNvPr id="484" name="直接连接符 393"/>
            <p:cNvCxnSpPr/>
            <p:nvPr/>
          </p:nvCxnSpPr>
          <p:spPr>
            <a:xfrm>
              <a:off x="10067760" y="2519280"/>
              <a:ext cx="360" cy="360720"/>
            </a:xfrm>
            <a:prstGeom prst="straightConnector1">
              <a:avLst/>
            </a:prstGeom>
            <a:ln w="3175">
              <a:solidFill>
                <a:srgbClr val="ffffff">
                  <a:lumMod val="85000"/>
                </a:srgbClr>
              </a:solidFill>
              <a:round/>
            </a:ln>
          </p:spPr>
        </p:cxnSp>
        <p:cxnSp>
          <p:nvCxnSpPr>
            <p:cNvPr id="485" name="直接连接符 394"/>
            <p:cNvCxnSpPr/>
            <p:nvPr/>
          </p:nvCxnSpPr>
          <p:spPr>
            <a:xfrm>
              <a:off x="10427400" y="2519280"/>
              <a:ext cx="360" cy="360720"/>
            </a:xfrm>
            <a:prstGeom prst="straightConnector1">
              <a:avLst/>
            </a:prstGeom>
            <a:ln w="3175">
              <a:solidFill>
                <a:srgbClr val="ffffff">
                  <a:lumMod val="85000"/>
                </a:srgbClr>
              </a:solidFill>
              <a:round/>
            </a:ln>
          </p:spPr>
        </p:cxnSp>
        <p:cxnSp>
          <p:nvCxnSpPr>
            <p:cNvPr id="486" name="直接连接符 395"/>
            <p:cNvCxnSpPr/>
            <p:nvPr/>
          </p:nvCxnSpPr>
          <p:spPr>
            <a:xfrm>
              <a:off x="10787040" y="2519280"/>
              <a:ext cx="360" cy="360720"/>
            </a:xfrm>
            <a:prstGeom prst="straightConnector1">
              <a:avLst/>
            </a:prstGeom>
            <a:ln w="3175">
              <a:solidFill>
                <a:srgbClr val="ffffff">
                  <a:lumMod val="85000"/>
                </a:srgbClr>
              </a:solidFill>
              <a:round/>
            </a:ln>
          </p:spPr>
        </p:cxnSp>
        <p:cxnSp>
          <p:nvCxnSpPr>
            <p:cNvPr id="487" name="直接连接符 396"/>
            <p:cNvCxnSpPr/>
            <p:nvPr/>
          </p:nvCxnSpPr>
          <p:spPr>
            <a:xfrm>
              <a:off x="720720" y="3059640"/>
              <a:ext cx="360" cy="360720"/>
            </a:xfrm>
            <a:prstGeom prst="straightConnector1">
              <a:avLst/>
            </a:prstGeom>
            <a:ln w="3175">
              <a:solidFill>
                <a:srgbClr val="ffffff">
                  <a:lumMod val="85000"/>
                </a:srgbClr>
              </a:solidFill>
              <a:round/>
            </a:ln>
          </p:spPr>
        </p:cxnSp>
        <p:cxnSp>
          <p:nvCxnSpPr>
            <p:cNvPr id="488" name="直接连接符 397"/>
            <p:cNvCxnSpPr/>
            <p:nvPr/>
          </p:nvCxnSpPr>
          <p:spPr>
            <a:xfrm>
              <a:off x="1080000" y="3058920"/>
              <a:ext cx="360" cy="360720"/>
            </a:xfrm>
            <a:prstGeom prst="straightConnector1">
              <a:avLst/>
            </a:prstGeom>
            <a:ln w="3175">
              <a:solidFill>
                <a:srgbClr val="ffffff">
                  <a:lumMod val="85000"/>
                </a:srgbClr>
              </a:solidFill>
              <a:round/>
            </a:ln>
          </p:spPr>
        </p:cxnSp>
        <p:cxnSp>
          <p:nvCxnSpPr>
            <p:cNvPr id="489" name="直接连接符 398"/>
            <p:cNvCxnSpPr/>
            <p:nvPr/>
          </p:nvCxnSpPr>
          <p:spPr>
            <a:xfrm>
              <a:off x="1439640" y="3058920"/>
              <a:ext cx="360" cy="360720"/>
            </a:xfrm>
            <a:prstGeom prst="straightConnector1">
              <a:avLst/>
            </a:prstGeom>
            <a:ln w="3175">
              <a:solidFill>
                <a:srgbClr val="ffffff">
                  <a:lumMod val="85000"/>
                </a:srgbClr>
              </a:solidFill>
              <a:round/>
            </a:ln>
          </p:spPr>
        </p:cxnSp>
        <p:cxnSp>
          <p:nvCxnSpPr>
            <p:cNvPr id="490" name="直接连接符 399"/>
            <p:cNvCxnSpPr/>
            <p:nvPr/>
          </p:nvCxnSpPr>
          <p:spPr>
            <a:xfrm>
              <a:off x="1798920" y="3058920"/>
              <a:ext cx="360" cy="360720"/>
            </a:xfrm>
            <a:prstGeom prst="straightConnector1">
              <a:avLst/>
            </a:prstGeom>
            <a:ln w="3175">
              <a:solidFill>
                <a:srgbClr val="ffffff">
                  <a:lumMod val="85000"/>
                </a:srgbClr>
              </a:solidFill>
              <a:round/>
            </a:ln>
          </p:spPr>
        </p:cxnSp>
        <p:cxnSp>
          <p:nvCxnSpPr>
            <p:cNvPr id="491" name="直接连接符 400"/>
            <p:cNvCxnSpPr/>
            <p:nvPr/>
          </p:nvCxnSpPr>
          <p:spPr>
            <a:xfrm>
              <a:off x="2158560" y="3058920"/>
              <a:ext cx="360" cy="360720"/>
            </a:xfrm>
            <a:prstGeom prst="straightConnector1">
              <a:avLst/>
            </a:prstGeom>
            <a:ln w="3175">
              <a:solidFill>
                <a:srgbClr val="ffffff">
                  <a:lumMod val="85000"/>
                </a:srgbClr>
              </a:solidFill>
              <a:round/>
            </a:ln>
          </p:spPr>
        </p:cxnSp>
        <p:cxnSp>
          <p:nvCxnSpPr>
            <p:cNvPr id="492" name="直接连接符 401"/>
            <p:cNvCxnSpPr/>
            <p:nvPr/>
          </p:nvCxnSpPr>
          <p:spPr>
            <a:xfrm>
              <a:off x="2518200" y="3058920"/>
              <a:ext cx="360" cy="360720"/>
            </a:xfrm>
            <a:prstGeom prst="straightConnector1">
              <a:avLst/>
            </a:prstGeom>
            <a:ln w="3175">
              <a:solidFill>
                <a:srgbClr val="ffffff">
                  <a:lumMod val="85000"/>
                </a:srgbClr>
              </a:solidFill>
              <a:round/>
            </a:ln>
          </p:spPr>
        </p:cxnSp>
        <p:cxnSp>
          <p:nvCxnSpPr>
            <p:cNvPr id="493" name="直接连接符 402"/>
            <p:cNvCxnSpPr/>
            <p:nvPr/>
          </p:nvCxnSpPr>
          <p:spPr>
            <a:xfrm>
              <a:off x="2877480" y="3058920"/>
              <a:ext cx="360" cy="360720"/>
            </a:xfrm>
            <a:prstGeom prst="straightConnector1">
              <a:avLst/>
            </a:prstGeom>
            <a:ln w="3175">
              <a:solidFill>
                <a:srgbClr val="ffffff">
                  <a:lumMod val="85000"/>
                </a:srgbClr>
              </a:solidFill>
              <a:round/>
            </a:ln>
          </p:spPr>
        </p:cxnSp>
        <p:cxnSp>
          <p:nvCxnSpPr>
            <p:cNvPr id="494" name="直接连接符 403"/>
            <p:cNvCxnSpPr/>
            <p:nvPr/>
          </p:nvCxnSpPr>
          <p:spPr>
            <a:xfrm>
              <a:off x="3237120" y="3058920"/>
              <a:ext cx="360" cy="360720"/>
            </a:xfrm>
            <a:prstGeom prst="straightConnector1">
              <a:avLst/>
            </a:prstGeom>
            <a:ln w="3175">
              <a:solidFill>
                <a:srgbClr val="ffffff">
                  <a:lumMod val="85000"/>
                </a:srgbClr>
              </a:solidFill>
              <a:round/>
            </a:ln>
          </p:spPr>
        </p:cxnSp>
        <p:cxnSp>
          <p:nvCxnSpPr>
            <p:cNvPr id="495" name="直接连接符 404"/>
            <p:cNvCxnSpPr/>
            <p:nvPr/>
          </p:nvCxnSpPr>
          <p:spPr>
            <a:xfrm>
              <a:off x="3596760" y="3058920"/>
              <a:ext cx="360" cy="360720"/>
            </a:xfrm>
            <a:prstGeom prst="straightConnector1">
              <a:avLst/>
            </a:prstGeom>
            <a:ln w="3175">
              <a:solidFill>
                <a:srgbClr val="ffffff">
                  <a:lumMod val="85000"/>
                </a:srgbClr>
              </a:solidFill>
              <a:round/>
            </a:ln>
          </p:spPr>
        </p:cxnSp>
        <p:cxnSp>
          <p:nvCxnSpPr>
            <p:cNvPr id="496" name="直接连接符 405"/>
            <p:cNvCxnSpPr/>
            <p:nvPr/>
          </p:nvCxnSpPr>
          <p:spPr>
            <a:xfrm>
              <a:off x="3956040" y="3058920"/>
              <a:ext cx="360" cy="360720"/>
            </a:xfrm>
            <a:prstGeom prst="straightConnector1">
              <a:avLst/>
            </a:prstGeom>
            <a:ln w="3175">
              <a:solidFill>
                <a:srgbClr val="ffffff">
                  <a:lumMod val="85000"/>
                </a:srgbClr>
              </a:solidFill>
              <a:round/>
            </a:ln>
          </p:spPr>
        </p:cxnSp>
        <p:cxnSp>
          <p:nvCxnSpPr>
            <p:cNvPr id="497" name="直接连接符 406"/>
            <p:cNvCxnSpPr/>
            <p:nvPr/>
          </p:nvCxnSpPr>
          <p:spPr>
            <a:xfrm>
              <a:off x="4315680" y="3058920"/>
              <a:ext cx="360" cy="360720"/>
            </a:xfrm>
            <a:prstGeom prst="straightConnector1">
              <a:avLst/>
            </a:prstGeom>
            <a:ln w="3175">
              <a:solidFill>
                <a:srgbClr val="ffffff">
                  <a:lumMod val="85000"/>
                </a:srgbClr>
              </a:solidFill>
              <a:round/>
            </a:ln>
          </p:spPr>
        </p:cxnSp>
        <p:cxnSp>
          <p:nvCxnSpPr>
            <p:cNvPr id="498" name="直接连接符 407"/>
            <p:cNvCxnSpPr/>
            <p:nvPr/>
          </p:nvCxnSpPr>
          <p:spPr>
            <a:xfrm>
              <a:off x="4675320" y="3058920"/>
              <a:ext cx="360" cy="360720"/>
            </a:xfrm>
            <a:prstGeom prst="straightConnector1">
              <a:avLst/>
            </a:prstGeom>
            <a:ln w="3175">
              <a:solidFill>
                <a:srgbClr val="ffffff">
                  <a:lumMod val="85000"/>
                </a:srgbClr>
              </a:solidFill>
              <a:round/>
            </a:ln>
          </p:spPr>
        </p:cxnSp>
        <p:cxnSp>
          <p:nvCxnSpPr>
            <p:cNvPr id="499" name="直接连接符 408"/>
            <p:cNvCxnSpPr/>
            <p:nvPr/>
          </p:nvCxnSpPr>
          <p:spPr>
            <a:xfrm>
              <a:off x="5034600" y="3058920"/>
              <a:ext cx="360" cy="360720"/>
            </a:xfrm>
            <a:prstGeom prst="straightConnector1">
              <a:avLst/>
            </a:prstGeom>
            <a:ln w="3175">
              <a:solidFill>
                <a:srgbClr val="ffffff">
                  <a:lumMod val="85000"/>
                </a:srgbClr>
              </a:solidFill>
              <a:round/>
            </a:ln>
          </p:spPr>
        </p:cxnSp>
        <p:cxnSp>
          <p:nvCxnSpPr>
            <p:cNvPr id="500" name="直接连接符 409"/>
            <p:cNvCxnSpPr/>
            <p:nvPr/>
          </p:nvCxnSpPr>
          <p:spPr>
            <a:xfrm>
              <a:off x="5394240" y="3058920"/>
              <a:ext cx="360" cy="360720"/>
            </a:xfrm>
            <a:prstGeom prst="straightConnector1">
              <a:avLst/>
            </a:prstGeom>
            <a:ln w="3175">
              <a:solidFill>
                <a:srgbClr val="ffffff">
                  <a:lumMod val="85000"/>
                </a:srgbClr>
              </a:solidFill>
              <a:round/>
            </a:ln>
          </p:spPr>
        </p:cxnSp>
        <p:cxnSp>
          <p:nvCxnSpPr>
            <p:cNvPr id="501" name="直接连接符 410"/>
            <p:cNvCxnSpPr/>
            <p:nvPr/>
          </p:nvCxnSpPr>
          <p:spPr>
            <a:xfrm>
              <a:off x="5753880" y="3058920"/>
              <a:ext cx="360" cy="360720"/>
            </a:xfrm>
            <a:prstGeom prst="straightConnector1">
              <a:avLst/>
            </a:prstGeom>
            <a:ln w="3175">
              <a:solidFill>
                <a:srgbClr val="ffffff">
                  <a:lumMod val="85000"/>
                </a:srgbClr>
              </a:solidFill>
              <a:round/>
            </a:ln>
          </p:spPr>
        </p:cxnSp>
        <p:cxnSp>
          <p:nvCxnSpPr>
            <p:cNvPr id="502" name="直接连接符 411"/>
            <p:cNvCxnSpPr/>
            <p:nvPr/>
          </p:nvCxnSpPr>
          <p:spPr>
            <a:xfrm>
              <a:off x="6113160" y="3058920"/>
              <a:ext cx="360" cy="360720"/>
            </a:xfrm>
            <a:prstGeom prst="straightConnector1">
              <a:avLst/>
            </a:prstGeom>
            <a:ln w="3175">
              <a:solidFill>
                <a:srgbClr val="ffffff">
                  <a:lumMod val="85000"/>
                </a:srgbClr>
              </a:solidFill>
              <a:round/>
            </a:ln>
          </p:spPr>
        </p:cxnSp>
        <p:cxnSp>
          <p:nvCxnSpPr>
            <p:cNvPr id="503" name="直接连接符 412"/>
            <p:cNvCxnSpPr/>
            <p:nvPr/>
          </p:nvCxnSpPr>
          <p:spPr>
            <a:xfrm>
              <a:off x="6472800" y="3058920"/>
              <a:ext cx="360" cy="360720"/>
            </a:xfrm>
            <a:prstGeom prst="straightConnector1">
              <a:avLst/>
            </a:prstGeom>
            <a:ln w="3175">
              <a:solidFill>
                <a:srgbClr val="ffffff">
                  <a:lumMod val="85000"/>
                </a:srgbClr>
              </a:solidFill>
              <a:round/>
            </a:ln>
          </p:spPr>
        </p:cxnSp>
        <p:cxnSp>
          <p:nvCxnSpPr>
            <p:cNvPr id="504" name="直接连接符 413"/>
            <p:cNvCxnSpPr/>
            <p:nvPr/>
          </p:nvCxnSpPr>
          <p:spPr>
            <a:xfrm>
              <a:off x="6832080" y="3058920"/>
              <a:ext cx="360" cy="360720"/>
            </a:xfrm>
            <a:prstGeom prst="straightConnector1">
              <a:avLst/>
            </a:prstGeom>
            <a:ln w="3175">
              <a:solidFill>
                <a:srgbClr val="ffffff">
                  <a:lumMod val="85000"/>
                </a:srgbClr>
              </a:solidFill>
              <a:round/>
            </a:ln>
          </p:spPr>
        </p:cxnSp>
        <p:cxnSp>
          <p:nvCxnSpPr>
            <p:cNvPr id="505" name="直接连接符 414"/>
            <p:cNvCxnSpPr/>
            <p:nvPr/>
          </p:nvCxnSpPr>
          <p:spPr>
            <a:xfrm>
              <a:off x="7191720" y="3058920"/>
              <a:ext cx="360" cy="360720"/>
            </a:xfrm>
            <a:prstGeom prst="straightConnector1">
              <a:avLst/>
            </a:prstGeom>
            <a:ln w="3175">
              <a:solidFill>
                <a:srgbClr val="ffffff">
                  <a:lumMod val="85000"/>
                </a:srgbClr>
              </a:solidFill>
              <a:round/>
            </a:ln>
          </p:spPr>
        </p:cxnSp>
        <p:cxnSp>
          <p:nvCxnSpPr>
            <p:cNvPr id="506" name="直接连接符 415"/>
            <p:cNvCxnSpPr/>
            <p:nvPr/>
          </p:nvCxnSpPr>
          <p:spPr>
            <a:xfrm>
              <a:off x="7551360" y="3058920"/>
              <a:ext cx="360" cy="360720"/>
            </a:xfrm>
            <a:prstGeom prst="straightConnector1">
              <a:avLst/>
            </a:prstGeom>
            <a:ln w="3175">
              <a:solidFill>
                <a:srgbClr val="ffffff">
                  <a:lumMod val="85000"/>
                </a:srgbClr>
              </a:solidFill>
              <a:round/>
            </a:ln>
          </p:spPr>
        </p:cxnSp>
        <p:cxnSp>
          <p:nvCxnSpPr>
            <p:cNvPr id="507" name="直接连接符 416"/>
            <p:cNvCxnSpPr/>
            <p:nvPr/>
          </p:nvCxnSpPr>
          <p:spPr>
            <a:xfrm>
              <a:off x="7910640" y="3058920"/>
              <a:ext cx="360" cy="360720"/>
            </a:xfrm>
            <a:prstGeom prst="straightConnector1">
              <a:avLst/>
            </a:prstGeom>
            <a:ln w="3175">
              <a:solidFill>
                <a:srgbClr val="ffffff">
                  <a:lumMod val="85000"/>
                </a:srgbClr>
              </a:solidFill>
              <a:round/>
            </a:ln>
          </p:spPr>
        </p:cxnSp>
        <p:cxnSp>
          <p:nvCxnSpPr>
            <p:cNvPr id="508" name="直接连接符 417"/>
            <p:cNvCxnSpPr/>
            <p:nvPr/>
          </p:nvCxnSpPr>
          <p:spPr>
            <a:xfrm>
              <a:off x="8270280" y="3058920"/>
              <a:ext cx="360" cy="360720"/>
            </a:xfrm>
            <a:prstGeom prst="straightConnector1">
              <a:avLst/>
            </a:prstGeom>
            <a:ln w="3175">
              <a:solidFill>
                <a:srgbClr val="ffffff">
                  <a:lumMod val="85000"/>
                </a:srgbClr>
              </a:solidFill>
              <a:round/>
            </a:ln>
          </p:spPr>
        </p:cxnSp>
        <p:cxnSp>
          <p:nvCxnSpPr>
            <p:cNvPr id="509" name="直接连接符 418"/>
            <p:cNvCxnSpPr/>
            <p:nvPr/>
          </p:nvCxnSpPr>
          <p:spPr>
            <a:xfrm>
              <a:off x="8629920" y="3058920"/>
              <a:ext cx="360" cy="360720"/>
            </a:xfrm>
            <a:prstGeom prst="straightConnector1">
              <a:avLst/>
            </a:prstGeom>
            <a:ln w="3175">
              <a:solidFill>
                <a:srgbClr val="ffffff">
                  <a:lumMod val="85000"/>
                </a:srgbClr>
              </a:solidFill>
              <a:round/>
            </a:ln>
          </p:spPr>
        </p:cxnSp>
        <p:cxnSp>
          <p:nvCxnSpPr>
            <p:cNvPr id="510" name="直接连接符 419"/>
            <p:cNvCxnSpPr/>
            <p:nvPr/>
          </p:nvCxnSpPr>
          <p:spPr>
            <a:xfrm>
              <a:off x="8989200" y="3058920"/>
              <a:ext cx="360" cy="360720"/>
            </a:xfrm>
            <a:prstGeom prst="straightConnector1">
              <a:avLst/>
            </a:prstGeom>
            <a:ln w="3175">
              <a:solidFill>
                <a:srgbClr val="ffffff">
                  <a:lumMod val="85000"/>
                </a:srgbClr>
              </a:solidFill>
              <a:round/>
            </a:ln>
          </p:spPr>
        </p:cxnSp>
        <p:cxnSp>
          <p:nvCxnSpPr>
            <p:cNvPr id="511" name="直接连接符 420"/>
            <p:cNvCxnSpPr/>
            <p:nvPr/>
          </p:nvCxnSpPr>
          <p:spPr>
            <a:xfrm>
              <a:off x="9348840" y="3058920"/>
              <a:ext cx="360" cy="360720"/>
            </a:xfrm>
            <a:prstGeom prst="straightConnector1">
              <a:avLst/>
            </a:prstGeom>
            <a:ln w="3175">
              <a:solidFill>
                <a:srgbClr val="ffffff">
                  <a:lumMod val="85000"/>
                </a:srgbClr>
              </a:solidFill>
              <a:round/>
            </a:ln>
          </p:spPr>
        </p:cxnSp>
        <p:cxnSp>
          <p:nvCxnSpPr>
            <p:cNvPr id="512" name="直接连接符 421"/>
            <p:cNvCxnSpPr/>
            <p:nvPr/>
          </p:nvCxnSpPr>
          <p:spPr>
            <a:xfrm>
              <a:off x="9708480" y="3058920"/>
              <a:ext cx="360" cy="360720"/>
            </a:xfrm>
            <a:prstGeom prst="straightConnector1">
              <a:avLst/>
            </a:prstGeom>
            <a:ln w="3175">
              <a:solidFill>
                <a:srgbClr val="ffffff">
                  <a:lumMod val="85000"/>
                </a:srgbClr>
              </a:solidFill>
              <a:round/>
            </a:ln>
          </p:spPr>
        </p:cxnSp>
        <p:cxnSp>
          <p:nvCxnSpPr>
            <p:cNvPr id="513" name="直接连接符 422"/>
            <p:cNvCxnSpPr/>
            <p:nvPr/>
          </p:nvCxnSpPr>
          <p:spPr>
            <a:xfrm>
              <a:off x="10067760" y="3058920"/>
              <a:ext cx="360" cy="360720"/>
            </a:xfrm>
            <a:prstGeom prst="straightConnector1">
              <a:avLst/>
            </a:prstGeom>
            <a:ln w="3175">
              <a:solidFill>
                <a:srgbClr val="ffffff">
                  <a:lumMod val="85000"/>
                </a:srgbClr>
              </a:solidFill>
              <a:round/>
            </a:ln>
          </p:spPr>
        </p:cxnSp>
        <p:cxnSp>
          <p:nvCxnSpPr>
            <p:cNvPr id="514" name="直接连接符 423"/>
            <p:cNvCxnSpPr/>
            <p:nvPr/>
          </p:nvCxnSpPr>
          <p:spPr>
            <a:xfrm>
              <a:off x="10427400" y="3058920"/>
              <a:ext cx="360" cy="360720"/>
            </a:xfrm>
            <a:prstGeom prst="straightConnector1">
              <a:avLst/>
            </a:prstGeom>
            <a:ln w="3175">
              <a:solidFill>
                <a:srgbClr val="ffffff">
                  <a:lumMod val="85000"/>
                </a:srgbClr>
              </a:solidFill>
              <a:round/>
            </a:ln>
          </p:spPr>
        </p:cxnSp>
        <p:cxnSp>
          <p:nvCxnSpPr>
            <p:cNvPr id="515" name="直接连接符 424"/>
            <p:cNvCxnSpPr/>
            <p:nvPr/>
          </p:nvCxnSpPr>
          <p:spPr>
            <a:xfrm>
              <a:off x="10787040" y="3058920"/>
              <a:ext cx="360" cy="360720"/>
            </a:xfrm>
            <a:prstGeom prst="straightConnector1">
              <a:avLst/>
            </a:prstGeom>
            <a:ln w="3175">
              <a:solidFill>
                <a:srgbClr val="ffffff">
                  <a:lumMod val="85000"/>
                </a:srgbClr>
              </a:solidFill>
              <a:round/>
            </a:ln>
          </p:spPr>
        </p:cxnSp>
        <p:cxnSp>
          <p:nvCxnSpPr>
            <p:cNvPr id="516" name="直接连接符 425"/>
            <p:cNvCxnSpPr/>
            <p:nvPr/>
          </p:nvCxnSpPr>
          <p:spPr>
            <a:xfrm>
              <a:off x="720720" y="3599640"/>
              <a:ext cx="360" cy="360720"/>
            </a:xfrm>
            <a:prstGeom prst="straightConnector1">
              <a:avLst/>
            </a:prstGeom>
            <a:ln w="3175">
              <a:solidFill>
                <a:srgbClr val="ffffff">
                  <a:lumMod val="85000"/>
                </a:srgbClr>
              </a:solidFill>
              <a:round/>
            </a:ln>
          </p:spPr>
        </p:cxnSp>
        <p:cxnSp>
          <p:nvCxnSpPr>
            <p:cNvPr id="517" name="直接连接符 426"/>
            <p:cNvCxnSpPr/>
            <p:nvPr/>
          </p:nvCxnSpPr>
          <p:spPr>
            <a:xfrm>
              <a:off x="1080000" y="3600360"/>
              <a:ext cx="360" cy="360720"/>
            </a:xfrm>
            <a:prstGeom prst="straightConnector1">
              <a:avLst/>
            </a:prstGeom>
            <a:ln w="3175">
              <a:solidFill>
                <a:srgbClr val="ffffff">
                  <a:lumMod val="85000"/>
                </a:srgbClr>
              </a:solidFill>
              <a:round/>
            </a:ln>
          </p:spPr>
        </p:cxnSp>
        <p:cxnSp>
          <p:nvCxnSpPr>
            <p:cNvPr id="518" name="直接连接符 427"/>
            <p:cNvCxnSpPr/>
            <p:nvPr/>
          </p:nvCxnSpPr>
          <p:spPr>
            <a:xfrm>
              <a:off x="1439640" y="3600360"/>
              <a:ext cx="360" cy="360720"/>
            </a:xfrm>
            <a:prstGeom prst="straightConnector1">
              <a:avLst/>
            </a:prstGeom>
            <a:ln w="3175">
              <a:solidFill>
                <a:srgbClr val="ffffff">
                  <a:lumMod val="85000"/>
                </a:srgbClr>
              </a:solidFill>
              <a:round/>
            </a:ln>
          </p:spPr>
        </p:cxnSp>
        <p:cxnSp>
          <p:nvCxnSpPr>
            <p:cNvPr id="519" name="直接连接符 428"/>
            <p:cNvCxnSpPr/>
            <p:nvPr/>
          </p:nvCxnSpPr>
          <p:spPr>
            <a:xfrm>
              <a:off x="1798920" y="3600360"/>
              <a:ext cx="360" cy="360720"/>
            </a:xfrm>
            <a:prstGeom prst="straightConnector1">
              <a:avLst/>
            </a:prstGeom>
            <a:ln w="3175">
              <a:solidFill>
                <a:srgbClr val="ffffff">
                  <a:lumMod val="85000"/>
                </a:srgbClr>
              </a:solidFill>
              <a:round/>
            </a:ln>
          </p:spPr>
        </p:cxnSp>
        <p:cxnSp>
          <p:nvCxnSpPr>
            <p:cNvPr id="520" name="直接连接符 429"/>
            <p:cNvCxnSpPr/>
            <p:nvPr/>
          </p:nvCxnSpPr>
          <p:spPr>
            <a:xfrm>
              <a:off x="2158560" y="3600360"/>
              <a:ext cx="360" cy="360720"/>
            </a:xfrm>
            <a:prstGeom prst="straightConnector1">
              <a:avLst/>
            </a:prstGeom>
            <a:ln w="3175">
              <a:solidFill>
                <a:srgbClr val="ffffff">
                  <a:lumMod val="85000"/>
                </a:srgbClr>
              </a:solidFill>
              <a:round/>
            </a:ln>
          </p:spPr>
        </p:cxnSp>
        <p:cxnSp>
          <p:nvCxnSpPr>
            <p:cNvPr id="521" name="直接连接符 430"/>
            <p:cNvCxnSpPr/>
            <p:nvPr/>
          </p:nvCxnSpPr>
          <p:spPr>
            <a:xfrm>
              <a:off x="2518200" y="3600360"/>
              <a:ext cx="360" cy="360720"/>
            </a:xfrm>
            <a:prstGeom prst="straightConnector1">
              <a:avLst/>
            </a:prstGeom>
            <a:ln w="3175">
              <a:solidFill>
                <a:srgbClr val="ffffff">
                  <a:lumMod val="85000"/>
                </a:srgbClr>
              </a:solidFill>
              <a:round/>
            </a:ln>
          </p:spPr>
        </p:cxnSp>
        <p:cxnSp>
          <p:nvCxnSpPr>
            <p:cNvPr id="522" name="直接连接符 431"/>
            <p:cNvCxnSpPr/>
            <p:nvPr/>
          </p:nvCxnSpPr>
          <p:spPr>
            <a:xfrm>
              <a:off x="2877480" y="3600360"/>
              <a:ext cx="360" cy="360720"/>
            </a:xfrm>
            <a:prstGeom prst="straightConnector1">
              <a:avLst/>
            </a:prstGeom>
            <a:ln w="3175">
              <a:solidFill>
                <a:srgbClr val="ffffff">
                  <a:lumMod val="85000"/>
                </a:srgbClr>
              </a:solidFill>
              <a:round/>
            </a:ln>
          </p:spPr>
        </p:cxnSp>
        <p:cxnSp>
          <p:nvCxnSpPr>
            <p:cNvPr id="523" name="直接连接符 432"/>
            <p:cNvCxnSpPr/>
            <p:nvPr/>
          </p:nvCxnSpPr>
          <p:spPr>
            <a:xfrm>
              <a:off x="3237120" y="3600360"/>
              <a:ext cx="360" cy="360720"/>
            </a:xfrm>
            <a:prstGeom prst="straightConnector1">
              <a:avLst/>
            </a:prstGeom>
            <a:ln w="3175">
              <a:solidFill>
                <a:srgbClr val="ffffff">
                  <a:lumMod val="85000"/>
                </a:srgbClr>
              </a:solidFill>
              <a:round/>
            </a:ln>
          </p:spPr>
        </p:cxnSp>
        <p:cxnSp>
          <p:nvCxnSpPr>
            <p:cNvPr id="524" name="直接连接符 433"/>
            <p:cNvCxnSpPr/>
            <p:nvPr/>
          </p:nvCxnSpPr>
          <p:spPr>
            <a:xfrm>
              <a:off x="3596760" y="3600360"/>
              <a:ext cx="360" cy="360720"/>
            </a:xfrm>
            <a:prstGeom prst="straightConnector1">
              <a:avLst/>
            </a:prstGeom>
            <a:ln w="3175">
              <a:solidFill>
                <a:srgbClr val="ffffff">
                  <a:lumMod val="85000"/>
                </a:srgbClr>
              </a:solidFill>
              <a:round/>
            </a:ln>
          </p:spPr>
        </p:cxnSp>
        <p:cxnSp>
          <p:nvCxnSpPr>
            <p:cNvPr id="525" name="直接连接符 434"/>
            <p:cNvCxnSpPr/>
            <p:nvPr/>
          </p:nvCxnSpPr>
          <p:spPr>
            <a:xfrm>
              <a:off x="3956040" y="3600360"/>
              <a:ext cx="360" cy="360720"/>
            </a:xfrm>
            <a:prstGeom prst="straightConnector1">
              <a:avLst/>
            </a:prstGeom>
            <a:ln w="3175">
              <a:solidFill>
                <a:srgbClr val="ffffff">
                  <a:lumMod val="85000"/>
                </a:srgbClr>
              </a:solidFill>
              <a:round/>
            </a:ln>
          </p:spPr>
        </p:cxnSp>
        <p:cxnSp>
          <p:nvCxnSpPr>
            <p:cNvPr id="526" name="直接连接符 435"/>
            <p:cNvCxnSpPr/>
            <p:nvPr/>
          </p:nvCxnSpPr>
          <p:spPr>
            <a:xfrm>
              <a:off x="4315680" y="3600360"/>
              <a:ext cx="360" cy="360720"/>
            </a:xfrm>
            <a:prstGeom prst="straightConnector1">
              <a:avLst/>
            </a:prstGeom>
            <a:ln w="3175">
              <a:solidFill>
                <a:srgbClr val="ffffff">
                  <a:lumMod val="85000"/>
                </a:srgbClr>
              </a:solidFill>
              <a:round/>
            </a:ln>
          </p:spPr>
        </p:cxnSp>
        <p:cxnSp>
          <p:nvCxnSpPr>
            <p:cNvPr id="527" name="直接连接符 436"/>
            <p:cNvCxnSpPr/>
            <p:nvPr/>
          </p:nvCxnSpPr>
          <p:spPr>
            <a:xfrm>
              <a:off x="4675320" y="3600360"/>
              <a:ext cx="360" cy="360720"/>
            </a:xfrm>
            <a:prstGeom prst="straightConnector1">
              <a:avLst/>
            </a:prstGeom>
            <a:ln w="3175">
              <a:solidFill>
                <a:srgbClr val="ffffff">
                  <a:lumMod val="85000"/>
                </a:srgbClr>
              </a:solidFill>
              <a:round/>
            </a:ln>
          </p:spPr>
        </p:cxnSp>
        <p:cxnSp>
          <p:nvCxnSpPr>
            <p:cNvPr id="528" name="直接连接符 437"/>
            <p:cNvCxnSpPr/>
            <p:nvPr/>
          </p:nvCxnSpPr>
          <p:spPr>
            <a:xfrm>
              <a:off x="5034600" y="3600360"/>
              <a:ext cx="360" cy="360720"/>
            </a:xfrm>
            <a:prstGeom prst="straightConnector1">
              <a:avLst/>
            </a:prstGeom>
            <a:ln w="3175">
              <a:solidFill>
                <a:srgbClr val="ffffff">
                  <a:lumMod val="85000"/>
                </a:srgbClr>
              </a:solidFill>
              <a:round/>
            </a:ln>
          </p:spPr>
        </p:cxnSp>
        <p:cxnSp>
          <p:nvCxnSpPr>
            <p:cNvPr id="529" name="直接连接符 438"/>
            <p:cNvCxnSpPr/>
            <p:nvPr/>
          </p:nvCxnSpPr>
          <p:spPr>
            <a:xfrm>
              <a:off x="5394240" y="3600360"/>
              <a:ext cx="360" cy="360720"/>
            </a:xfrm>
            <a:prstGeom prst="straightConnector1">
              <a:avLst/>
            </a:prstGeom>
            <a:ln w="3175">
              <a:solidFill>
                <a:srgbClr val="ffffff">
                  <a:lumMod val="85000"/>
                </a:srgbClr>
              </a:solidFill>
              <a:round/>
            </a:ln>
          </p:spPr>
        </p:cxnSp>
        <p:cxnSp>
          <p:nvCxnSpPr>
            <p:cNvPr id="530" name="直接连接符 439"/>
            <p:cNvCxnSpPr/>
            <p:nvPr/>
          </p:nvCxnSpPr>
          <p:spPr>
            <a:xfrm>
              <a:off x="5753880" y="3600360"/>
              <a:ext cx="360" cy="360720"/>
            </a:xfrm>
            <a:prstGeom prst="straightConnector1">
              <a:avLst/>
            </a:prstGeom>
            <a:ln w="3175">
              <a:solidFill>
                <a:srgbClr val="ffffff">
                  <a:lumMod val="85000"/>
                </a:srgbClr>
              </a:solidFill>
              <a:round/>
            </a:ln>
          </p:spPr>
        </p:cxnSp>
        <p:cxnSp>
          <p:nvCxnSpPr>
            <p:cNvPr id="531" name="直接连接符 440"/>
            <p:cNvCxnSpPr/>
            <p:nvPr/>
          </p:nvCxnSpPr>
          <p:spPr>
            <a:xfrm>
              <a:off x="6113160" y="3600360"/>
              <a:ext cx="360" cy="360720"/>
            </a:xfrm>
            <a:prstGeom prst="straightConnector1">
              <a:avLst/>
            </a:prstGeom>
            <a:ln w="3175">
              <a:solidFill>
                <a:srgbClr val="ffffff">
                  <a:lumMod val="85000"/>
                </a:srgbClr>
              </a:solidFill>
              <a:round/>
            </a:ln>
          </p:spPr>
        </p:cxnSp>
        <p:cxnSp>
          <p:nvCxnSpPr>
            <p:cNvPr id="532" name="直接连接符 441"/>
            <p:cNvCxnSpPr/>
            <p:nvPr/>
          </p:nvCxnSpPr>
          <p:spPr>
            <a:xfrm>
              <a:off x="6472800" y="3600360"/>
              <a:ext cx="360" cy="360720"/>
            </a:xfrm>
            <a:prstGeom prst="straightConnector1">
              <a:avLst/>
            </a:prstGeom>
            <a:ln w="3175">
              <a:solidFill>
                <a:srgbClr val="ffffff">
                  <a:lumMod val="85000"/>
                </a:srgbClr>
              </a:solidFill>
              <a:round/>
            </a:ln>
          </p:spPr>
        </p:cxnSp>
        <p:cxnSp>
          <p:nvCxnSpPr>
            <p:cNvPr id="533" name="直接连接符 442"/>
            <p:cNvCxnSpPr/>
            <p:nvPr/>
          </p:nvCxnSpPr>
          <p:spPr>
            <a:xfrm>
              <a:off x="6832080" y="3600360"/>
              <a:ext cx="360" cy="360720"/>
            </a:xfrm>
            <a:prstGeom prst="straightConnector1">
              <a:avLst/>
            </a:prstGeom>
            <a:ln w="3175">
              <a:solidFill>
                <a:srgbClr val="ffffff">
                  <a:lumMod val="85000"/>
                </a:srgbClr>
              </a:solidFill>
              <a:round/>
            </a:ln>
          </p:spPr>
        </p:cxnSp>
        <p:cxnSp>
          <p:nvCxnSpPr>
            <p:cNvPr id="534" name="直接连接符 443"/>
            <p:cNvCxnSpPr/>
            <p:nvPr/>
          </p:nvCxnSpPr>
          <p:spPr>
            <a:xfrm>
              <a:off x="7191720" y="3600360"/>
              <a:ext cx="360" cy="360720"/>
            </a:xfrm>
            <a:prstGeom prst="straightConnector1">
              <a:avLst/>
            </a:prstGeom>
            <a:ln w="3175">
              <a:solidFill>
                <a:srgbClr val="ffffff">
                  <a:lumMod val="85000"/>
                </a:srgbClr>
              </a:solidFill>
              <a:round/>
            </a:ln>
          </p:spPr>
        </p:cxnSp>
        <p:cxnSp>
          <p:nvCxnSpPr>
            <p:cNvPr id="535" name="直接连接符 444"/>
            <p:cNvCxnSpPr/>
            <p:nvPr/>
          </p:nvCxnSpPr>
          <p:spPr>
            <a:xfrm>
              <a:off x="7551360" y="3600360"/>
              <a:ext cx="360" cy="360720"/>
            </a:xfrm>
            <a:prstGeom prst="straightConnector1">
              <a:avLst/>
            </a:prstGeom>
            <a:ln w="3175">
              <a:solidFill>
                <a:srgbClr val="ffffff">
                  <a:lumMod val="85000"/>
                </a:srgbClr>
              </a:solidFill>
              <a:round/>
            </a:ln>
          </p:spPr>
        </p:cxnSp>
        <p:cxnSp>
          <p:nvCxnSpPr>
            <p:cNvPr id="536" name="直接连接符 445"/>
            <p:cNvCxnSpPr/>
            <p:nvPr/>
          </p:nvCxnSpPr>
          <p:spPr>
            <a:xfrm>
              <a:off x="7910640" y="3600360"/>
              <a:ext cx="360" cy="360720"/>
            </a:xfrm>
            <a:prstGeom prst="straightConnector1">
              <a:avLst/>
            </a:prstGeom>
            <a:ln w="3175">
              <a:solidFill>
                <a:srgbClr val="ffffff">
                  <a:lumMod val="85000"/>
                </a:srgbClr>
              </a:solidFill>
              <a:round/>
            </a:ln>
          </p:spPr>
        </p:cxnSp>
        <p:cxnSp>
          <p:nvCxnSpPr>
            <p:cNvPr id="537" name="直接连接符 446"/>
            <p:cNvCxnSpPr/>
            <p:nvPr/>
          </p:nvCxnSpPr>
          <p:spPr>
            <a:xfrm>
              <a:off x="8270280" y="3600360"/>
              <a:ext cx="360" cy="360720"/>
            </a:xfrm>
            <a:prstGeom prst="straightConnector1">
              <a:avLst/>
            </a:prstGeom>
            <a:ln w="3175">
              <a:solidFill>
                <a:srgbClr val="ffffff">
                  <a:lumMod val="85000"/>
                </a:srgbClr>
              </a:solidFill>
              <a:round/>
            </a:ln>
          </p:spPr>
        </p:cxnSp>
        <p:cxnSp>
          <p:nvCxnSpPr>
            <p:cNvPr id="538" name="直接连接符 447"/>
            <p:cNvCxnSpPr/>
            <p:nvPr/>
          </p:nvCxnSpPr>
          <p:spPr>
            <a:xfrm>
              <a:off x="8629920" y="3600360"/>
              <a:ext cx="360" cy="360720"/>
            </a:xfrm>
            <a:prstGeom prst="straightConnector1">
              <a:avLst/>
            </a:prstGeom>
            <a:ln w="3175">
              <a:solidFill>
                <a:srgbClr val="ffffff">
                  <a:lumMod val="85000"/>
                </a:srgbClr>
              </a:solidFill>
              <a:round/>
            </a:ln>
          </p:spPr>
        </p:cxnSp>
        <p:cxnSp>
          <p:nvCxnSpPr>
            <p:cNvPr id="539" name="直接连接符 448"/>
            <p:cNvCxnSpPr/>
            <p:nvPr/>
          </p:nvCxnSpPr>
          <p:spPr>
            <a:xfrm>
              <a:off x="8989200" y="3600360"/>
              <a:ext cx="360" cy="360720"/>
            </a:xfrm>
            <a:prstGeom prst="straightConnector1">
              <a:avLst/>
            </a:prstGeom>
            <a:ln w="3175">
              <a:solidFill>
                <a:srgbClr val="ffffff">
                  <a:lumMod val="85000"/>
                </a:srgbClr>
              </a:solidFill>
              <a:round/>
            </a:ln>
          </p:spPr>
        </p:cxnSp>
        <p:cxnSp>
          <p:nvCxnSpPr>
            <p:cNvPr id="540" name="直接连接符 449"/>
            <p:cNvCxnSpPr/>
            <p:nvPr/>
          </p:nvCxnSpPr>
          <p:spPr>
            <a:xfrm>
              <a:off x="9348840" y="3600360"/>
              <a:ext cx="360" cy="360720"/>
            </a:xfrm>
            <a:prstGeom prst="straightConnector1">
              <a:avLst/>
            </a:prstGeom>
            <a:ln w="3175">
              <a:solidFill>
                <a:srgbClr val="ffffff">
                  <a:lumMod val="85000"/>
                </a:srgbClr>
              </a:solidFill>
              <a:round/>
            </a:ln>
          </p:spPr>
        </p:cxnSp>
        <p:cxnSp>
          <p:nvCxnSpPr>
            <p:cNvPr id="541" name="直接连接符 450"/>
            <p:cNvCxnSpPr/>
            <p:nvPr/>
          </p:nvCxnSpPr>
          <p:spPr>
            <a:xfrm>
              <a:off x="9708480" y="3600360"/>
              <a:ext cx="360" cy="360720"/>
            </a:xfrm>
            <a:prstGeom prst="straightConnector1">
              <a:avLst/>
            </a:prstGeom>
            <a:ln w="3175">
              <a:solidFill>
                <a:srgbClr val="ffffff">
                  <a:lumMod val="85000"/>
                </a:srgbClr>
              </a:solidFill>
              <a:round/>
            </a:ln>
          </p:spPr>
        </p:cxnSp>
        <p:cxnSp>
          <p:nvCxnSpPr>
            <p:cNvPr id="542" name="直接连接符 451"/>
            <p:cNvCxnSpPr/>
            <p:nvPr/>
          </p:nvCxnSpPr>
          <p:spPr>
            <a:xfrm>
              <a:off x="10067760" y="3600360"/>
              <a:ext cx="360" cy="360720"/>
            </a:xfrm>
            <a:prstGeom prst="straightConnector1">
              <a:avLst/>
            </a:prstGeom>
            <a:ln w="3175">
              <a:solidFill>
                <a:srgbClr val="ffffff">
                  <a:lumMod val="85000"/>
                </a:srgbClr>
              </a:solidFill>
              <a:round/>
            </a:ln>
          </p:spPr>
        </p:cxnSp>
        <p:cxnSp>
          <p:nvCxnSpPr>
            <p:cNvPr id="543" name="直接连接符 452"/>
            <p:cNvCxnSpPr/>
            <p:nvPr/>
          </p:nvCxnSpPr>
          <p:spPr>
            <a:xfrm>
              <a:off x="10427400" y="3600360"/>
              <a:ext cx="360" cy="360720"/>
            </a:xfrm>
            <a:prstGeom prst="straightConnector1">
              <a:avLst/>
            </a:prstGeom>
            <a:ln w="3175">
              <a:solidFill>
                <a:srgbClr val="ffffff">
                  <a:lumMod val="85000"/>
                </a:srgbClr>
              </a:solidFill>
              <a:round/>
            </a:ln>
          </p:spPr>
        </p:cxnSp>
        <p:cxnSp>
          <p:nvCxnSpPr>
            <p:cNvPr id="544" name="直接连接符 453"/>
            <p:cNvCxnSpPr/>
            <p:nvPr/>
          </p:nvCxnSpPr>
          <p:spPr>
            <a:xfrm>
              <a:off x="10787040" y="3600360"/>
              <a:ext cx="360" cy="360720"/>
            </a:xfrm>
            <a:prstGeom prst="straightConnector1">
              <a:avLst/>
            </a:prstGeom>
            <a:ln w="3175">
              <a:solidFill>
                <a:srgbClr val="ffffff">
                  <a:lumMod val="85000"/>
                </a:srgbClr>
              </a:solidFill>
              <a:round/>
            </a:ln>
          </p:spPr>
        </p:cxnSp>
        <p:cxnSp>
          <p:nvCxnSpPr>
            <p:cNvPr id="545" name="直接连接符 454"/>
            <p:cNvCxnSpPr/>
            <p:nvPr/>
          </p:nvCxnSpPr>
          <p:spPr>
            <a:xfrm>
              <a:off x="720720" y="4139280"/>
              <a:ext cx="360" cy="360720"/>
            </a:xfrm>
            <a:prstGeom prst="straightConnector1">
              <a:avLst/>
            </a:prstGeom>
            <a:ln w="3175">
              <a:solidFill>
                <a:srgbClr val="ffffff">
                  <a:lumMod val="85000"/>
                </a:srgbClr>
              </a:solidFill>
              <a:round/>
            </a:ln>
          </p:spPr>
        </p:cxnSp>
        <p:cxnSp>
          <p:nvCxnSpPr>
            <p:cNvPr id="546" name="直接连接符 455"/>
            <p:cNvCxnSpPr/>
            <p:nvPr/>
          </p:nvCxnSpPr>
          <p:spPr>
            <a:xfrm>
              <a:off x="1080000" y="4140000"/>
              <a:ext cx="360" cy="360720"/>
            </a:xfrm>
            <a:prstGeom prst="straightConnector1">
              <a:avLst/>
            </a:prstGeom>
            <a:ln w="3175">
              <a:solidFill>
                <a:srgbClr val="ffffff">
                  <a:lumMod val="85000"/>
                </a:srgbClr>
              </a:solidFill>
              <a:round/>
            </a:ln>
          </p:spPr>
        </p:cxnSp>
        <p:cxnSp>
          <p:nvCxnSpPr>
            <p:cNvPr id="547" name="直接连接符 456"/>
            <p:cNvCxnSpPr/>
            <p:nvPr/>
          </p:nvCxnSpPr>
          <p:spPr>
            <a:xfrm>
              <a:off x="1439640" y="4140000"/>
              <a:ext cx="360" cy="360720"/>
            </a:xfrm>
            <a:prstGeom prst="straightConnector1">
              <a:avLst/>
            </a:prstGeom>
            <a:ln w="3175">
              <a:solidFill>
                <a:srgbClr val="ffffff">
                  <a:lumMod val="85000"/>
                </a:srgbClr>
              </a:solidFill>
              <a:round/>
            </a:ln>
          </p:spPr>
        </p:cxnSp>
        <p:cxnSp>
          <p:nvCxnSpPr>
            <p:cNvPr id="548" name="直接连接符 457"/>
            <p:cNvCxnSpPr/>
            <p:nvPr/>
          </p:nvCxnSpPr>
          <p:spPr>
            <a:xfrm>
              <a:off x="1798920" y="4140000"/>
              <a:ext cx="360" cy="360720"/>
            </a:xfrm>
            <a:prstGeom prst="straightConnector1">
              <a:avLst/>
            </a:prstGeom>
            <a:ln w="3175">
              <a:solidFill>
                <a:srgbClr val="ffffff">
                  <a:lumMod val="85000"/>
                </a:srgbClr>
              </a:solidFill>
              <a:round/>
            </a:ln>
          </p:spPr>
        </p:cxnSp>
        <p:cxnSp>
          <p:nvCxnSpPr>
            <p:cNvPr id="549" name="直接连接符 458"/>
            <p:cNvCxnSpPr/>
            <p:nvPr/>
          </p:nvCxnSpPr>
          <p:spPr>
            <a:xfrm>
              <a:off x="2158560" y="4140000"/>
              <a:ext cx="360" cy="360720"/>
            </a:xfrm>
            <a:prstGeom prst="straightConnector1">
              <a:avLst/>
            </a:prstGeom>
            <a:ln w="3175">
              <a:solidFill>
                <a:srgbClr val="ffffff">
                  <a:lumMod val="85000"/>
                </a:srgbClr>
              </a:solidFill>
              <a:round/>
            </a:ln>
          </p:spPr>
        </p:cxnSp>
        <p:cxnSp>
          <p:nvCxnSpPr>
            <p:cNvPr id="550" name="直接连接符 459"/>
            <p:cNvCxnSpPr/>
            <p:nvPr/>
          </p:nvCxnSpPr>
          <p:spPr>
            <a:xfrm>
              <a:off x="2518200" y="4140000"/>
              <a:ext cx="360" cy="360720"/>
            </a:xfrm>
            <a:prstGeom prst="straightConnector1">
              <a:avLst/>
            </a:prstGeom>
            <a:ln w="3175">
              <a:solidFill>
                <a:srgbClr val="ffffff">
                  <a:lumMod val="85000"/>
                </a:srgbClr>
              </a:solidFill>
              <a:round/>
            </a:ln>
          </p:spPr>
        </p:cxnSp>
        <p:cxnSp>
          <p:nvCxnSpPr>
            <p:cNvPr id="551" name="直接连接符 460"/>
            <p:cNvCxnSpPr/>
            <p:nvPr/>
          </p:nvCxnSpPr>
          <p:spPr>
            <a:xfrm>
              <a:off x="2877480" y="4140000"/>
              <a:ext cx="360" cy="360720"/>
            </a:xfrm>
            <a:prstGeom prst="straightConnector1">
              <a:avLst/>
            </a:prstGeom>
            <a:ln w="3175">
              <a:solidFill>
                <a:srgbClr val="ffffff">
                  <a:lumMod val="85000"/>
                </a:srgbClr>
              </a:solidFill>
              <a:round/>
            </a:ln>
          </p:spPr>
        </p:cxnSp>
        <p:cxnSp>
          <p:nvCxnSpPr>
            <p:cNvPr id="552" name="直接连接符 461"/>
            <p:cNvCxnSpPr/>
            <p:nvPr/>
          </p:nvCxnSpPr>
          <p:spPr>
            <a:xfrm>
              <a:off x="3237120" y="4140000"/>
              <a:ext cx="360" cy="360720"/>
            </a:xfrm>
            <a:prstGeom prst="straightConnector1">
              <a:avLst/>
            </a:prstGeom>
            <a:ln w="3175">
              <a:solidFill>
                <a:srgbClr val="ffffff">
                  <a:lumMod val="85000"/>
                </a:srgbClr>
              </a:solidFill>
              <a:round/>
            </a:ln>
          </p:spPr>
        </p:cxnSp>
        <p:cxnSp>
          <p:nvCxnSpPr>
            <p:cNvPr id="553" name="直接连接符 462"/>
            <p:cNvCxnSpPr/>
            <p:nvPr/>
          </p:nvCxnSpPr>
          <p:spPr>
            <a:xfrm>
              <a:off x="3596760" y="4140000"/>
              <a:ext cx="360" cy="360720"/>
            </a:xfrm>
            <a:prstGeom prst="straightConnector1">
              <a:avLst/>
            </a:prstGeom>
            <a:ln w="3175">
              <a:solidFill>
                <a:srgbClr val="ffffff">
                  <a:lumMod val="85000"/>
                </a:srgbClr>
              </a:solidFill>
              <a:round/>
            </a:ln>
          </p:spPr>
        </p:cxnSp>
        <p:cxnSp>
          <p:nvCxnSpPr>
            <p:cNvPr id="554" name="直接连接符 463"/>
            <p:cNvCxnSpPr/>
            <p:nvPr/>
          </p:nvCxnSpPr>
          <p:spPr>
            <a:xfrm>
              <a:off x="3956040" y="4140000"/>
              <a:ext cx="360" cy="360720"/>
            </a:xfrm>
            <a:prstGeom prst="straightConnector1">
              <a:avLst/>
            </a:prstGeom>
            <a:ln w="3175">
              <a:solidFill>
                <a:srgbClr val="ffffff">
                  <a:lumMod val="85000"/>
                </a:srgbClr>
              </a:solidFill>
              <a:round/>
            </a:ln>
          </p:spPr>
        </p:cxnSp>
        <p:cxnSp>
          <p:nvCxnSpPr>
            <p:cNvPr id="555" name="直接连接符 464"/>
            <p:cNvCxnSpPr/>
            <p:nvPr/>
          </p:nvCxnSpPr>
          <p:spPr>
            <a:xfrm>
              <a:off x="4315680" y="4140000"/>
              <a:ext cx="360" cy="360720"/>
            </a:xfrm>
            <a:prstGeom prst="straightConnector1">
              <a:avLst/>
            </a:prstGeom>
            <a:ln w="3175">
              <a:solidFill>
                <a:srgbClr val="ffffff">
                  <a:lumMod val="85000"/>
                </a:srgbClr>
              </a:solidFill>
              <a:round/>
            </a:ln>
          </p:spPr>
        </p:cxnSp>
        <p:cxnSp>
          <p:nvCxnSpPr>
            <p:cNvPr id="556" name="直接连接符 465"/>
            <p:cNvCxnSpPr/>
            <p:nvPr/>
          </p:nvCxnSpPr>
          <p:spPr>
            <a:xfrm>
              <a:off x="4675320" y="4140000"/>
              <a:ext cx="360" cy="360720"/>
            </a:xfrm>
            <a:prstGeom prst="straightConnector1">
              <a:avLst/>
            </a:prstGeom>
            <a:ln w="3175">
              <a:solidFill>
                <a:srgbClr val="ffffff">
                  <a:lumMod val="85000"/>
                </a:srgbClr>
              </a:solidFill>
              <a:round/>
            </a:ln>
          </p:spPr>
        </p:cxnSp>
        <p:cxnSp>
          <p:nvCxnSpPr>
            <p:cNvPr id="557" name="直接连接符 466"/>
            <p:cNvCxnSpPr/>
            <p:nvPr/>
          </p:nvCxnSpPr>
          <p:spPr>
            <a:xfrm>
              <a:off x="5034600" y="4140000"/>
              <a:ext cx="360" cy="360720"/>
            </a:xfrm>
            <a:prstGeom prst="straightConnector1">
              <a:avLst/>
            </a:prstGeom>
            <a:ln w="3175">
              <a:solidFill>
                <a:srgbClr val="ffffff">
                  <a:lumMod val="85000"/>
                </a:srgbClr>
              </a:solidFill>
              <a:round/>
            </a:ln>
          </p:spPr>
        </p:cxnSp>
        <p:cxnSp>
          <p:nvCxnSpPr>
            <p:cNvPr id="558" name="直接连接符 467"/>
            <p:cNvCxnSpPr/>
            <p:nvPr/>
          </p:nvCxnSpPr>
          <p:spPr>
            <a:xfrm>
              <a:off x="5394240" y="4140000"/>
              <a:ext cx="360" cy="360720"/>
            </a:xfrm>
            <a:prstGeom prst="straightConnector1">
              <a:avLst/>
            </a:prstGeom>
            <a:ln w="3175">
              <a:solidFill>
                <a:srgbClr val="ffffff">
                  <a:lumMod val="85000"/>
                </a:srgbClr>
              </a:solidFill>
              <a:round/>
            </a:ln>
          </p:spPr>
        </p:cxnSp>
        <p:cxnSp>
          <p:nvCxnSpPr>
            <p:cNvPr id="559" name="直接连接符 468"/>
            <p:cNvCxnSpPr/>
            <p:nvPr/>
          </p:nvCxnSpPr>
          <p:spPr>
            <a:xfrm>
              <a:off x="5753880" y="4140000"/>
              <a:ext cx="360" cy="360720"/>
            </a:xfrm>
            <a:prstGeom prst="straightConnector1">
              <a:avLst/>
            </a:prstGeom>
            <a:ln w="3175">
              <a:solidFill>
                <a:srgbClr val="ffffff">
                  <a:lumMod val="85000"/>
                </a:srgbClr>
              </a:solidFill>
              <a:round/>
            </a:ln>
          </p:spPr>
        </p:cxnSp>
        <p:cxnSp>
          <p:nvCxnSpPr>
            <p:cNvPr id="560" name="直接连接符 469"/>
            <p:cNvCxnSpPr/>
            <p:nvPr/>
          </p:nvCxnSpPr>
          <p:spPr>
            <a:xfrm>
              <a:off x="6113160" y="4140000"/>
              <a:ext cx="360" cy="360720"/>
            </a:xfrm>
            <a:prstGeom prst="straightConnector1">
              <a:avLst/>
            </a:prstGeom>
            <a:ln w="3175">
              <a:solidFill>
                <a:srgbClr val="ffffff">
                  <a:lumMod val="85000"/>
                </a:srgbClr>
              </a:solidFill>
              <a:round/>
            </a:ln>
          </p:spPr>
        </p:cxnSp>
        <p:cxnSp>
          <p:nvCxnSpPr>
            <p:cNvPr id="561" name="直接连接符 470"/>
            <p:cNvCxnSpPr/>
            <p:nvPr/>
          </p:nvCxnSpPr>
          <p:spPr>
            <a:xfrm>
              <a:off x="6472800" y="4140000"/>
              <a:ext cx="360" cy="360720"/>
            </a:xfrm>
            <a:prstGeom prst="straightConnector1">
              <a:avLst/>
            </a:prstGeom>
            <a:ln w="3175">
              <a:solidFill>
                <a:srgbClr val="ffffff">
                  <a:lumMod val="85000"/>
                </a:srgbClr>
              </a:solidFill>
              <a:round/>
            </a:ln>
          </p:spPr>
        </p:cxnSp>
        <p:cxnSp>
          <p:nvCxnSpPr>
            <p:cNvPr id="562" name="直接连接符 471"/>
            <p:cNvCxnSpPr/>
            <p:nvPr/>
          </p:nvCxnSpPr>
          <p:spPr>
            <a:xfrm>
              <a:off x="6832080" y="4140000"/>
              <a:ext cx="360" cy="360720"/>
            </a:xfrm>
            <a:prstGeom prst="straightConnector1">
              <a:avLst/>
            </a:prstGeom>
            <a:ln w="3175">
              <a:solidFill>
                <a:srgbClr val="ffffff">
                  <a:lumMod val="85000"/>
                </a:srgbClr>
              </a:solidFill>
              <a:round/>
            </a:ln>
          </p:spPr>
        </p:cxnSp>
        <p:cxnSp>
          <p:nvCxnSpPr>
            <p:cNvPr id="563" name="直接连接符 472"/>
            <p:cNvCxnSpPr/>
            <p:nvPr/>
          </p:nvCxnSpPr>
          <p:spPr>
            <a:xfrm>
              <a:off x="7191720" y="4140000"/>
              <a:ext cx="360" cy="360720"/>
            </a:xfrm>
            <a:prstGeom prst="straightConnector1">
              <a:avLst/>
            </a:prstGeom>
            <a:ln w="3175">
              <a:solidFill>
                <a:srgbClr val="ffffff">
                  <a:lumMod val="85000"/>
                </a:srgbClr>
              </a:solidFill>
              <a:round/>
            </a:ln>
          </p:spPr>
        </p:cxnSp>
        <p:cxnSp>
          <p:nvCxnSpPr>
            <p:cNvPr id="564" name="直接连接符 473"/>
            <p:cNvCxnSpPr/>
            <p:nvPr/>
          </p:nvCxnSpPr>
          <p:spPr>
            <a:xfrm>
              <a:off x="7551360" y="4140000"/>
              <a:ext cx="360" cy="360720"/>
            </a:xfrm>
            <a:prstGeom prst="straightConnector1">
              <a:avLst/>
            </a:prstGeom>
            <a:ln w="3175">
              <a:solidFill>
                <a:srgbClr val="ffffff">
                  <a:lumMod val="85000"/>
                </a:srgbClr>
              </a:solidFill>
              <a:round/>
            </a:ln>
          </p:spPr>
        </p:cxnSp>
        <p:cxnSp>
          <p:nvCxnSpPr>
            <p:cNvPr id="565" name="直接连接符 474"/>
            <p:cNvCxnSpPr/>
            <p:nvPr/>
          </p:nvCxnSpPr>
          <p:spPr>
            <a:xfrm>
              <a:off x="7910640" y="4140000"/>
              <a:ext cx="360" cy="360720"/>
            </a:xfrm>
            <a:prstGeom prst="straightConnector1">
              <a:avLst/>
            </a:prstGeom>
            <a:ln w="3175">
              <a:solidFill>
                <a:srgbClr val="ffffff">
                  <a:lumMod val="85000"/>
                </a:srgbClr>
              </a:solidFill>
              <a:round/>
            </a:ln>
          </p:spPr>
        </p:cxnSp>
        <p:cxnSp>
          <p:nvCxnSpPr>
            <p:cNvPr id="566" name="直接连接符 475"/>
            <p:cNvCxnSpPr/>
            <p:nvPr/>
          </p:nvCxnSpPr>
          <p:spPr>
            <a:xfrm>
              <a:off x="8270280" y="4140000"/>
              <a:ext cx="360" cy="360720"/>
            </a:xfrm>
            <a:prstGeom prst="straightConnector1">
              <a:avLst/>
            </a:prstGeom>
            <a:ln w="3175">
              <a:solidFill>
                <a:srgbClr val="ffffff">
                  <a:lumMod val="85000"/>
                </a:srgbClr>
              </a:solidFill>
              <a:round/>
            </a:ln>
          </p:spPr>
        </p:cxnSp>
        <p:cxnSp>
          <p:nvCxnSpPr>
            <p:cNvPr id="567" name="直接连接符 476"/>
            <p:cNvCxnSpPr/>
            <p:nvPr/>
          </p:nvCxnSpPr>
          <p:spPr>
            <a:xfrm>
              <a:off x="8629920" y="4140000"/>
              <a:ext cx="360" cy="360720"/>
            </a:xfrm>
            <a:prstGeom prst="straightConnector1">
              <a:avLst/>
            </a:prstGeom>
            <a:ln w="3175">
              <a:solidFill>
                <a:srgbClr val="ffffff">
                  <a:lumMod val="85000"/>
                </a:srgbClr>
              </a:solidFill>
              <a:round/>
            </a:ln>
          </p:spPr>
        </p:cxnSp>
        <p:cxnSp>
          <p:nvCxnSpPr>
            <p:cNvPr id="568" name="直接连接符 477"/>
            <p:cNvCxnSpPr/>
            <p:nvPr/>
          </p:nvCxnSpPr>
          <p:spPr>
            <a:xfrm>
              <a:off x="8989200" y="4140000"/>
              <a:ext cx="360" cy="360720"/>
            </a:xfrm>
            <a:prstGeom prst="straightConnector1">
              <a:avLst/>
            </a:prstGeom>
            <a:ln w="3175">
              <a:solidFill>
                <a:srgbClr val="ffffff">
                  <a:lumMod val="85000"/>
                </a:srgbClr>
              </a:solidFill>
              <a:round/>
            </a:ln>
          </p:spPr>
        </p:cxnSp>
        <p:cxnSp>
          <p:nvCxnSpPr>
            <p:cNvPr id="569" name="直接连接符 478"/>
            <p:cNvCxnSpPr/>
            <p:nvPr/>
          </p:nvCxnSpPr>
          <p:spPr>
            <a:xfrm>
              <a:off x="9348840" y="4140000"/>
              <a:ext cx="360" cy="360720"/>
            </a:xfrm>
            <a:prstGeom prst="straightConnector1">
              <a:avLst/>
            </a:prstGeom>
            <a:ln w="3175">
              <a:solidFill>
                <a:srgbClr val="ffffff">
                  <a:lumMod val="85000"/>
                </a:srgbClr>
              </a:solidFill>
              <a:round/>
            </a:ln>
          </p:spPr>
        </p:cxnSp>
        <p:cxnSp>
          <p:nvCxnSpPr>
            <p:cNvPr id="570" name="直接连接符 479"/>
            <p:cNvCxnSpPr/>
            <p:nvPr/>
          </p:nvCxnSpPr>
          <p:spPr>
            <a:xfrm>
              <a:off x="9708480" y="4140000"/>
              <a:ext cx="360" cy="360720"/>
            </a:xfrm>
            <a:prstGeom prst="straightConnector1">
              <a:avLst/>
            </a:prstGeom>
            <a:ln w="3175">
              <a:solidFill>
                <a:srgbClr val="ffffff">
                  <a:lumMod val="85000"/>
                </a:srgbClr>
              </a:solidFill>
              <a:round/>
            </a:ln>
          </p:spPr>
        </p:cxnSp>
        <p:cxnSp>
          <p:nvCxnSpPr>
            <p:cNvPr id="571" name="直接连接符 480"/>
            <p:cNvCxnSpPr/>
            <p:nvPr/>
          </p:nvCxnSpPr>
          <p:spPr>
            <a:xfrm>
              <a:off x="10067760" y="4140000"/>
              <a:ext cx="360" cy="360720"/>
            </a:xfrm>
            <a:prstGeom prst="straightConnector1">
              <a:avLst/>
            </a:prstGeom>
            <a:ln w="3175">
              <a:solidFill>
                <a:srgbClr val="ffffff">
                  <a:lumMod val="85000"/>
                </a:srgbClr>
              </a:solidFill>
              <a:round/>
            </a:ln>
          </p:spPr>
        </p:cxnSp>
        <p:cxnSp>
          <p:nvCxnSpPr>
            <p:cNvPr id="572" name="直接连接符 481"/>
            <p:cNvCxnSpPr/>
            <p:nvPr/>
          </p:nvCxnSpPr>
          <p:spPr>
            <a:xfrm>
              <a:off x="10427400" y="4140000"/>
              <a:ext cx="360" cy="360720"/>
            </a:xfrm>
            <a:prstGeom prst="straightConnector1">
              <a:avLst/>
            </a:prstGeom>
            <a:ln w="3175">
              <a:solidFill>
                <a:srgbClr val="ffffff">
                  <a:lumMod val="85000"/>
                </a:srgbClr>
              </a:solidFill>
              <a:round/>
            </a:ln>
          </p:spPr>
        </p:cxnSp>
        <p:cxnSp>
          <p:nvCxnSpPr>
            <p:cNvPr id="573" name="直接连接符 482"/>
            <p:cNvCxnSpPr/>
            <p:nvPr/>
          </p:nvCxnSpPr>
          <p:spPr>
            <a:xfrm>
              <a:off x="10787040" y="4140000"/>
              <a:ext cx="360" cy="360720"/>
            </a:xfrm>
            <a:prstGeom prst="straightConnector1">
              <a:avLst/>
            </a:prstGeom>
            <a:ln w="3175">
              <a:solidFill>
                <a:srgbClr val="ffffff">
                  <a:lumMod val="85000"/>
                </a:srgbClr>
              </a:solidFill>
              <a:round/>
            </a:ln>
          </p:spPr>
        </p:cxnSp>
        <p:cxnSp>
          <p:nvCxnSpPr>
            <p:cNvPr id="574" name="直接连接符 483"/>
            <p:cNvCxnSpPr/>
            <p:nvPr/>
          </p:nvCxnSpPr>
          <p:spPr>
            <a:xfrm>
              <a:off x="720720" y="4679280"/>
              <a:ext cx="360" cy="360720"/>
            </a:xfrm>
            <a:prstGeom prst="straightConnector1">
              <a:avLst/>
            </a:prstGeom>
            <a:ln w="3175">
              <a:solidFill>
                <a:srgbClr val="ffffff">
                  <a:lumMod val="85000"/>
                </a:srgbClr>
              </a:solidFill>
              <a:round/>
            </a:ln>
          </p:spPr>
        </p:cxnSp>
        <p:cxnSp>
          <p:nvCxnSpPr>
            <p:cNvPr id="575" name="直接连接符 484"/>
            <p:cNvCxnSpPr/>
            <p:nvPr/>
          </p:nvCxnSpPr>
          <p:spPr>
            <a:xfrm>
              <a:off x="1080000" y="4679640"/>
              <a:ext cx="360" cy="360720"/>
            </a:xfrm>
            <a:prstGeom prst="straightConnector1">
              <a:avLst/>
            </a:prstGeom>
            <a:ln w="3175">
              <a:solidFill>
                <a:srgbClr val="ffffff">
                  <a:lumMod val="85000"/>
                </a:srgbClr>
              </a:solidFill>
              <a:round/>
            </a:ln>
          </p:spPr>
        </p:cxnSp>
        <p:cxnSp>
          <p:nvCxnSpPr>
            <p:cNvPr id="576" name="直接连接符 485"/>
            <p:cNvCxnSpPr/>
            <p:nvPr/>
          </p:nvCxnSpPr>
          <p:spPr>
            <a:xfrm>
              <a:off x="1439640" y="4679640"/>
              <a:ext cx="360" cy="360720"/>
            </a:xfrm>
            <a:prstGeom prst="straightConnector1">
              <a:avLst/>
            </a:prstGeom>
            <a:ln w="3175">
              <a:solidFill>
                <a:srgbClr val="ffffff">
                  <a:lumMod val="85000"/>
                </a:srgbClr>
              </a:solidFill>
              <a:round/>
            </a:ln>
          </p:spPr>
        </p:cxnSp>
        <p:cxnSp>
          <p:nvCxnSpPr>
            <p:cNvPr id="577" name="直接连接符 486"/>
            <p:cNvCxnSpPr/>
            <p:nvPr/>
          </p:nvCxnSpPr>
          <p:spPr>
            <a:xfrm>
              <a:off x="1798920" y="4679640"/>
              <a:ext cx="360" cy="360720"/>
            </a:xfrm>
            <a:prstGeom prst="straightConnector1">
              <a:avLst/>
            </a:prstGeom>
            <a:ln w="3175">
              <a:solidFill>
                <a:srgbClr val="ffffff">
                  <a:lumMod val="85000"/>
                </a:srgbClr>
              </a:solidFill>
              <a:round/>
            </a:ln>
          </p:spPr>
        </p:cxnSp>
        <p:cxnSp>
          <p:nvCxnSpPr>
            <p:cNvPr id="578" name="直接连接符 487"/>
            <p:cNvCxnSpPr/>
            <p:nvPr/>
          </p:nvCxnSpPr>
          <p:spPr>
            <a:xfrm>
              <a:off x="2158560" y="4679640"/>
              <a:ext cx="360" cy="360720"/>
            </a:xfrm>
            <a:prstGeom prst="straightConnector1">
              <a:avLst/>
            </a:prstGeom>
            <a:ln w="3175">
              <a:solidFill>
                <a:srgbClr val="ffffff">
                  <a:lumMod val="85000"/>
                </a:srgbClr>
              </a:solidFill>
              <a:round/>
            </a:ln>
          </p:spPr>
        </p:cxnSp>
        <p:cxnSp>
          <p:nvCxnSpPr>
            <p:cNvPr id="579" name="直接连接符 488"/>
            <p:cNvCxnSpPr/>
            <p:nvPr/>
          </p:nvCxnSpPr>
          <p:spPr>
            <a:xfrm>
              <a:off x="2518200" y="4679640"/>
              <a:ext cx="360" cy="360720"/>
            </a:xfrm>
            <a:prstGeom prst="straightConnector1">
              <a:avLst/>
            </a:prstGeom>
            <a:ln w="3175">
              <a:solidFill>
                <a:srgbClr val="ffffff">
                  <a:lumMod val="85000"/>
                </a:srgbClr>
              </a:solidFill>
              <a:round/>
            </a:ln>
          </p:spPr>
        </p:cxnSp>
        <p:cxnSp>
          <p:nvCxnSpPr>
            <p:cNvPr id="580" name="直接连接符 489"/>
            <p:cNvCxnSpPr/>
            <p:nvPr/>
          </p:nvCxnSpPr>
          <p:spPr>
            <a:xfrm>
              <a:off x="2877480" y="4679640"/>
              <a:ext cx="360" cy="360720"/>
            </a:xfrm>
            <a:prstGeom prst="straightConnector1">
              <a:avLst/>
            </a:prstGeom>
            <a:ln w="3175">
              <a:solidFill>
                <a:srgbClr val="ffffff">
                  <a:lumMod val="85000"/>
                </a:srgbClr>
              </a:solidFill>
              <a:round/>
            </a:ln>
          </p:spPr>
        </p:cxnSp>
        <p:cxnSp>
          <p:nvCxnSpPr>
            <p:cNvPr id="581" name="直接连接符 490"/>
            <p:cNvCxnSpPr/>
            <p:nvPr/>
          </p:nvCxnSpPr>
          <p:spPr>
            <a:xfrm>
              <a:off x="3237120" y="4679640"/>
              <a:ext cx="360" cy="360720"/>
            </a:xfrm>
            <a:prstGeom prst="straightConnector1">
              <a:avLst/>
            </a:prstGeom>
            <a:ln w="3175">
              <a:solidFill>
                <a:srgbClr val="ffffff">
                  <a:lumMod val="85000"/>
                </a:srgbClr>
              </a:solidFill>
              <a:round/>
            </a:ln>
          </p:spPr>
        </p:cxnSp>
        <p:cxnSp>
          <p:nvCxnSpPr>
            <p:cNvPr id="582" name="直接连接符 491"/>
            <p:cNvCxnSpPr/>
            <p:nvPr/>
          </p:nvCxnSpPr>
          <p:spPr>
            <a:xfrm>
              <a:off x="3596760" y="4679640"/>
              <a:ext cx="360" cy="360720"/>
            </a:xfrm>
            <a:prstGeom prst="straightConnector1">
              <a:avLst/>
            </a:prstGeom>
            <a:ln w="3175">
              <a:solidFill>
                <a:srgbClr val="ffffff">
                  <a:lumMod val="85000"/>
                </a:srgbClr>
              </a:solidFill>
              <a:round/>
            </a:ln>
          </p:spPr>
        </p:cxnSp>
        <p:cxnSp>
          <p:nvCxnSpPr>
            <p:cNvPr id="583" name="直接连接符 492"/>
            <p:cNvCxnSpPr/>
            <p:nvPr/>
          </p:nvCxnSpPr>
          <p:spPr>
            <a:xfrm>
              <a:off x="3956040" y="4679640"/>
              <a:ext cx="360" cy="360720"/>
            </a:xfrm>
            <a:prstGeom prst="straightConnector1">
              <a:avLst/>
            </a:prstGeom>
            <a:ln w="3175">
              <a:solidFill>
                <a:srgbClr val="ffffff">
                  <a:lumMod val="85000"/>
                </a:srgbClr>
              </a:solidFill>
              <a:round/>
            </a:ln>
          </p:spPr>
        </p:cxnSp>
        <p:cxnSp>
          <p:nvCxnSpPr>
            <p:cNvPr id="584" name="直接连接符 493"/>
            <p:cNvCxnSpPr/>
            <p:nvPr/>
          </p:nvCxnSpPr>
          <p:spPr>
            <a:xfrm>
              <a:off x="4315680" y="4679640"/>
              <a:ext cx="360" cy="360720"/>
            </a:xfrm>
            <a:prstGeom prst="straightConnector1">
              <a:avLst/>
            </a:prstGeom>
            <a:ln w="3175">
              <a:solidFill>
                <a:srgbClr val="ffffff">
                  <a:lumMod val="85000"/>
                </a:srgbClr>
              </a:solidFill>
              <a:round/>
            </a:ln>
          </p:spPr>
        </p:cxnSp>
        <p:cxnSp>
          <p:nvCxnSpPr>
            <p:cNvPr id="585" name="直接连接符 494"/>
            <p:cNvCxnSpPr/>
            <p:nvPr/>
          </p:nvCxnSpPr>
          <p:spPr>
            <a:xfrm>
              <a:off x="4675320" y="4679640"/>
              <a:ext cx="360" cy="360720"/>
            </a:xfrm>
            <a:prstGeom prst="straightConnector1">
              <a:avLst/>
            </a:prstGeom>
            <a:ln w="3175">
              <a:solidFill>
                <a:srgbClr val="ffffff">
                  <a:lumMod val="85000"/>
                </a:srgbClr>
              </a:solidFill>
              <a:round/>
            </a:ln>
          </p:spPr>
        </p:cxnSp>
        <p:cxnSp>
          <p:nvCxnSpPr>
            <p:cNvPr id="586" name="直接连接符 495"/>
            <p:cNvCxnSpPr/>
            <p:nvPr/>
          </p:nvCxnSpPr>
          <p:spPr>
            <a:xfrm>
              <a:off x="5034600" y="4679640"/>
              <a:ext cx="360" cy="360720"/>
            </a:xfrm>
            <a:prstGeom prst="straightConnector1">
              <a:avLst/>
            </a:prstGeom>
            <a:ln w="3175">
              <a:solidFill>
                <a:srgbClr val="ffffff">
                  <a:lumMod val="85000"/>
                </a:srgbClr>
              </a:solidFill>
              <a:round/>
            </a:ln>
          </p:spPr>
        </p:cxnSp>
        <p:cxnSp>
          <p:nvCxnSpPr>
            <p:cNvPr id="587" name="直接连接符 496"/>
            <p:cNvCxnSpPr/>
            <p:nvPr/>
          </p:nvCxnSpPr>
          <p:spPr>
            <a:xfrm>
              <a:off x="5394240" y="4679640"/>
              <a:ext cx="360" cy="360720"/>
            </a:xfrm>
            <a:prstGeom prst="straightConnector1">
              <a:avLst/>
            </a:prstGeom>
            <a:ln w="3175">
              <a:solidFill>
                <a:srgbClr val="ffffff">
                  <a:lumMod val="85000"/>
                </a:srgbClr>
              </a:solidFill>
              <a:round/>
            </a:ln>
          </p:spPr>
        </p:cxnSp>
        <p:cxnSp>
          <p:nvCxnSpPr>
            <p:cNvPr id="588" name="直接连接符 497"/>
            <p:cNvCxnSpPr/>
            <p:nvPr/>
          </p:nvCxnSpPr>
          <p:spPr>
            <a:xfrm>
              <a:off x="5753880" y="4679640"/>
              <a:ext cx="360" cy="360720"/>
            </a:xfrm>
            <a:prstGeom prst="straightConnector1">
              <a:avLst/>
            </a:prstGeom>
            <a:ln w="3175">
              <a:solidFill>
                <a:srgbClr val="ffffff">
                  <a:lumMod val="85000"/>
                </a:srgbClr>
              </a:solidFill>
              <a:round/>
            </a:ln>
          </p:spPr>
        </p:cxnSp>
        <p:cxnSp>
          <p:nvCxnSpPr>
            <p:cNvPr id="589" name="直接连接符 498"/>
            <p:cNvCxnSpPr/>
            <p:nvPr/>
          </p:nvCxnSpPr>
          <p:spPr>
            <a:xfrm>
              <a:off x="6113160" y="4679640"/>
              <a:ext cx="360" cy="360720"/>
            </a:xfrm>
            <a:prstGeom prst="straightConnector1">
              <a:avLst/>
            </a:prstGeom>
            <a:ln w="3175">
              <a:solidFill>
                <a:srgbClr val="ffffff">
                  <a:lumMod val="85000"/>
                </a:srgbClr>
              </a:solidFill>
              <a:round/>
            </a:ln>
          </p:spPr>
        </p:cxnSp>
        <p:cxnSp>
          <p:nvCxnSpPr>
            <p:cNvPr id="590" name="直接连接符 499"/>
            <p:cNvCxnSpPr/>
            <p:nvPr/>
          </p:nvCxnSpPr>
          <p:spPr>
            <a:xfrm>
              <a:off x="6472800" y="4679640"/>
              <a:ext cx="360" cy="360720"/>
            </a:xfrm>
            <a:prstGeom prst="straightConnector1">
              <a:avLst/>
            </a:prstGeom>
            <a:ln w="3175">
              <a:solidFill>
                <a:srgbClr val="ffffff">
                  <a:lumMod val="85000"/>
                </a:srgbClr>
              </a:solidFill>
              <a:round/>
            </a:ln>
          </p:spPr>
        </p:cxnSp>
        <p:cxnSp>
          <p:nvCxnSpPr>
            <p:cNvPr id="591" name="直接连接符 500"/>
            <p:cNvCxnSpPr/>
            <p:nvPr/>
          </p:nvCxnSpPr>
          <p:spPr>
            <a:xfrm>
              <a:off x="6832080" y="4679640"/>
              <a:ext cx="360" cy="360720"/>
            </a:xfrm>
            <a:prstGeom prst="straightConnector1">
              <a:avLst/>
            </a:prstGeom>
            <a:ln w="3175">
              <a:solidFill>
                <a:srgbClr val="ffffff">
                  <a:lumMod val="85000"/>
                </a:srgbClr>
              </a:solidFill>
              <a:round/>
            </a:ln>
          </p:spPr>
        </p:cxnSp>
        <p:cxnSp>
          <p:nvCxnSpPr>
            <p:cNvPr id="592" name="直接连接符 501"/>
            <p:cNvCxnSpPr/>
            <p:nvPr/>
          </p:nvCxnSpPr>
          <p:spPr>
            <a:xfrm>
              <a:off x="7191720" y="4679640"/>
              <a:ext cx="360" cy="360720"/>
            </a:xfrm>
            <a:prstGeom prst="straightConnector1">
              <a:avLst/>
            </a:prstGeom>
            <a:ln w="3175">
              <a:solidFill>
                <a:srgbClr val="ffffff">
                  <a:lumMod val="85000"/>
                </a:srgbClr>
              </a:solidFill>
              <a:round/>
            </a:ln>
          </p:spPr>
        </p:cxnSp>
        <p:cxnSp>
          <p:nvCxnSpPr>
            <p:cNvPr id="593" name="直接连接符 502"/>
            <p:cNvCxnSpPr/>
            <p:nvPr/>
          </p:nvCxnSpPr>
          <p:spPr>
            <a:xfrm>
              <a:off x="7551360" y="4679640"/>
              <a:ext cx="360" cy="360720"/>
            </a:xfrm>
            <a:prstGeom prst="straightConnector1">
              <a:avLst/>
            </a:prstGeom>
            <a:ln w="3175">
              <a:solidFill>
                <a:srgbClr val="ffffff">
                  <a:lumMod val="85000"/>
                </a:srgbClr>
              </a:solidFill>
              <a:round/>
            </a:ln>
          </p:spPr>
        </p:cxnSp>
        <p:cxnSp>
          <p:nvCxnSpPr>
            <p:cNvPr id="594" name="直接连接符 503"/>
            <p:cNvCxnSpPr/>
            <p:nvPr/>
          </p:nvCxnSpPr>
          <p:spPr>
            <a:xfrm>
              <a:off x="7910640" y="4679640"/>
              <a:ext cx="360" cy="360720"/>
            </a:xfrm>
            <a:prstGeom prst="straightConnector1">
              <a:avLst/>
            </a:prstGeom>
            <a:ln w="3175">
              <a:solidFill>
                <a:srgbClr val="ffffff">
                  <a:lumMod val="85000"/>
                </a:srgbClr>
              </a:solidFill>
              <a:round/>
            </a:ln>
          </p:spPr>
        </p:cxnSp>
        <p:cxnSp>
          <p:nvCxnSpPr>
            <p:cNvPr id="595" name="直接连接符 504"/>
            <p:cNvCxnSpPr/>
            <p:nvPr/>
          </p:nvCxnSpPr>
          <p:spPr>
            <a:xfrm>
              <a:off x="8270280" y="4679640"/>
              <a:ext cx="360" cy="360720"/>
            </a:xfrm>
            <a:prstGeom prst="straightConnector1">
              <a:avLst/>
            </a:prstGeom>
            <a:ln w="3175">
              <a:solidFill>
                <a:srgbClr val="ffffff">
                  <a:lumMod val="85000"/>
                </a:srgbClr>
              </a:solidFill>
              <a:round/>
            </a:ln>
          </p:spPr>
        </p:cxnSp>
        <p:cxnSp>
          <p:nvCxnSpPr>
            <p:cNvPr id="596" name="直接连接符 505"/>
            <p:cNvCxnSpPr/>
            <p:nvPr/>
          </p:nvCxnSpPr>
          <p:spPr>
            <a:xfrm>
              <a:off x="8629920" y="4679640"/>
              <a:ext cx="360" cy="360720"/>
            </a:xfrm>
            <a:prstGeom prst="straightConnector1">
              <a:avLst/>
            </a:prstGeom>
            <a:ln w="3175">
              <a:solidFill>
                <a:srgbClr val="ffffff">
                  <a:lumMod val="85000"/>
                </a:srgbClr>
              </a:solidFill>
              <a:round/>
            </a:ln>
          </p:spPr>
        </p:cxnSp>
        <p:cxnSp>
          <p:nvCxnSpPr>
            <p:cNvPr id="597" name="直接连接符 506"/>
            <p:cNvCxnSpPr/>
            <p:nvPr/>
          </p:nvCxnSpPr>
          <p:spPr>
            <a:xfrm>
              <a:off x="8989200" y="4679640"/>
              <a:ext cx="360" cy="360720"/>
            </a:xfrm>
            <a:prstGeom prst="straightConnector1">
              <a:avLst/>
            </a:prstGeom>
            <a:ln w="3175">
              <a:solidFill>
                <a:srgbClr val="ffffff">
                  <a:lumMod val="85000"/>
                </a:srgbClr>
              </a:solidFill>
              <a:round/>
            </a:ln>
          </p:spPr>
        </p:cxnSp>
        <p:cxnSp>
          <p:nvCxnSpPr>
            <p:cNvPr id="598" name="直接连接符 507"/>
            <p:cNvCxnSpPr/>
            <p:nvPr/>
          </p:nvCxnSpPr>
          <p:spPr>
            <a:xfrm>
              <a:off x="9348840" y="4679640"/>
              <a:ext cx="360" cy="360720"/>
            </a:xfrm>
            <a:prstGeom prst="straightConnector1">
              <a:avLst/>
            </a:prstGeom>
            <a:ln w="3175">
              <a:solidFill>
                <a:srgbClr val="ffffff">
                  <a:lumMod val="85000"/>
                </a:srgbClr>
              </a:solidFill>
              <a:round/>
            </a:ln>
          </p:spPr>
        </p:cxnSp>
        <p:cxnSp>
          <p:nvCxnSpPr>
            <p:cNvPr id="599" name="直接连接符 508"/>
            <p:cNvCxnSpPr/>
            <p:nvPr/>
          </p:nvCxnSpPr>
          <p:spPr>
            <a:xfrm>
              <a:off x="9708480" y="4679640"/>
              <a:ext cx="360" cy="360720"/>
            </a:xfrm>
            <a:prstGeom prst="straightConnector1">
              <a:avLst/>
            </a:prstGeom>
            <a:ln w="3175">
              <a:solidFill>
                <a:srgbClr val="ffffff">
                  <a:lumMod val="85000"/>
                </a:srgbClr>
              </a:solidFill>
              <a:round/>
            </a:ln>
          </p:spPr>
        </p:cxnSp>
        <p:cxnSp>
          <p:nvCxnSpPr>
            <p:cNvPr id="600" name="直接连接符 509"/>
            <p:cNvCxnSpPr/>
            <p:nvPr/>
          </p:nvCxnSpPr>
          <p:spPr>
            <a:xfrm>
              <a:off x="10067760" y="4679640"/>
              <a:ext cx="360" cy="360720"/>
            </a:xfrm>
            <a:prstGeom prst="straightConnector1">
              <a:avLst/>
            </a:prstGeom>
            <a:ln w="3175">
              <a:solidFill>
                <a:srgbClr val="ffffff">
                  <a:lumMod val="85000"/>
                </a:srgbClr>
              </a:solidFill>
              <a:round/>
            </a:ln>
          </p:spPr>
        </p:cxnSp>
        <p:cxnSp>
          <p:nvCxnSpPr>
            <p:cNvPr id="601" name="直接连接符 510"/>
            <p:cNvCxnSpPr/>
            <p:nvPr/>
          </p:nvCxnSpPr>
          <p:spPr>
            <a:xfrm>
              <a:off x="10427400" y="4679640"/>
              <a:ext cx="360" cy="360720"/>
            </a:xfrm>
            <a:prstGeom prst="straightConnector1">
              <a:avLst/>
            </a:prstGeom>
            <a:ln w="3175">
              <a:solidFill>
                <a:srgbClr val="ffffff">
                  <a:lumMod val="85000"/>
                </a:srgbClr>
              </a:solidFill>
              <a:round/>
            </a:ln>
          </p:spPr>
        </p:cxnSp>
        <p:cxnSp>
          <p:nvCxnSpPr>
            <p:cNvPr id="602" name="直接连接符 511"/>
            <p:cNvCxnSpPr/>
            <p:nvPr/>
          </p:nvCxnSpPr>
          <p:spPr>
            <a:xfrm>
              <a:off x="10787040" y="4679640"/>
              <a:ext cx="360" cy="360720"/>
            </a:xfrm>
            <a:prstGeom prst="straightConnector1">
              <a:avLst/>
            </a:prstGeom>
            <a:ln w="3175">
              <a:solidFill>
                <a:srgbClr val="ffffff">
                  <a:lumMod val="85000"/>
                </a:srgbClr>
              </a:solidFill>
              <a:round/>
            </a:ln>
          </p:spPr>
        </p:cxnSp>
        <p:cxnSp>
          <p:nvCxnSpPr>
            <p:cNvPr id="603" name="直接连接符 512"/>
            <p:cNvCxnSpPr/>
            <p:nvPr/>
          </p:nvCxnSpPr>
          <p:spPr>
            <a:xfrm>
              <a:off x="720720" y="5219280"/>
              <a:ext cx="360" cy="360720"/>
            </a:xfrm>
            <a:prstGeom prst="straightConnector1">
              <a:avLst/>
            </a:prstGeom>
            <a:ln w="3175">
              <a:solidFill>
                <a:srgbClr val="ffffff">
                  <a:lumMod val="85000"/>
                </a:srgbClr>
              </a:solidFill>
              <a:round/>
            </a:ln>
          </p:spPr>
        </p:cxnSp>
        <p:cxnSp>
          <p:nvCxnSpPr>
            <p:cNvPr id="604" name="直接连接符 513"/>
            <p:cNvCxnSpPr/>
            <p:nvPr/>
          </p:nvCxnSpPr>
          <p:spPr>
            <a:xfrm>
              <a:off x="1080000" y="5219280"/>
              <a:ext cx="360" cy="360720"/>
            </a:xfrm>
            <a:prstGeom prst="straightConnector1">
              <a:avLst/>
            </a:prstGeom>
            <a:ln w="3175">
              <a:solidFill>
                <a:srgbClr val="ffffff">
                  <a:lumMod val="85000"/>
                </a:srgbClr>
              </a:solidFill>
              <a:round/>
            </a:ln>
          </p:spPr>
        </p:cxnSp>
        <p:cxnSp>
          <p:nvCxnSpPr>
            <p:cNvPr id="605" name="直接连接符 514"/>
            <p:cNvCxnSpPr/>
            <p:nvPr/>
          </p:nvCxnSpPr>
          <p:spPr>
            <a:xfrm>
              <a:off x="1439640" y="5219280"/>
              <a:ext cx="360" cy="360720"/>
            </a:xfrm>
            <a:prstGeom prst="straightConnector1">
              <a:avLst/>
            </a:prstGeom>
            <a:ln w="3175">
              <a:solidFill>
                <a:srgbClr val="ffffff">
                  <a:lumMod val="85000"/>
                </a:srgbClr>
              </a:solidFill>
              <a:round/>
            </a:ln>
          </p:spPr>
        </p:cxnSp>
        <p:cxnSp>
          <p:nvCxnSpPr>
            <p:cNvPr id="606" name="直接连接符 515"/>
            <p:cNvCxnSpPr/>
            <p:nvPr/>
          </p:nvCxnSpPr>
          <p:spPr>
            <a:xfrm>
              <a:off x="1798920" y="5219280"/>
              <a:ext cx="360" cy="360720"/>
            </a:xfrm>
            <a:prstGeom prst="straightConnector1">
              <a:avLst/>
            </a:prstGeom>
            <a:ln w="3175">
              <a:solidFill>
                <a:srgbClr val="ffffff">
                  <a:lumMod val="85000"/>
                </a:srgbClr>
              </a:solidFill>
              <a:round/>
            </a:ln>
          </p:spPr>
        </p:cxnSp>
        <p:cxnSp>
          <p:nvCxnSpPr>
            <p:cNvPr id="607" name="直接连接符 516"/>
            <p:cNvCxnSpPr/>
            <p:nvPr/>
          </p:nvCxnSpPr>
          <p:spPr>
            <a:xfrm>
              <a:off x="2158560" y="5219280"/>
              <a:ext cx="360" cy="360720"/>
            </a:xfrm>
            <a:prstGeom prst="straightConnector1">
              <a:avLst/>
            </a:prstGeom>
            <a:ln w="3175">
              <a:solidFill>
                <a:srgbClr val="ffffff">
                  <a:lumMod val="85000"/>
                </a:srgbClr>
              </a:solidFill>
              <a:round/>
            </a:ln>
          </p:spPr>
        </p:cxnSp>
        <p:cxnSp>
          <p:nvCxnSpPr>
            <p:cNvPr id="608" name="直接连接符 517"/>
            <p:cNvCxnSpPr/>
            <p:nvPr/>
          </p:nvCxnSpPr>
          <p:spPr>
            <a:xfrm>
              <a:off x="2518200" y="5219280"/>
              <a:ext cx="360" cy="360720"/>
            </a:xfrm>
            <a:prstGeom prst="straightConnector1">
              <a:avLst/>
            </a:prstGeom>
            <a:ln w="3175">
              <a:solidFill>
                <a:srgbClr val="ffffff">
                  <a:lumMod val="85000"/>
                </a:srgbClr>
              </a:solidFill>
              <a:round/>
            </a:ln>
          </p:spPr>
        </p:cxnSp>
        <p:cxnSp>
          <p:nvCxnSpPr>
            <p:cNvPr id="609" name="直接连接符 518"/>
            <p:cNvCxnSpPr/>
            <p:nvPr/>
          </p:nvCxnSpPr>
          <p:spPr>
            <a:xfrm>
              <a:off x="2877480" y="5219280"/>
              <a:ext cx="360" cy="360720"/>
            </a:xfrm>
            <a:prstGeom prst="straightConnector1">
              <a:avLst/>
            </a:prstGeom>
            <a:ln w="3175">
              <a:solidFill>
                <a:srgbClr val="ffffff">
                  <a:lumMod val="85000"/>
                </a:srgbClr>
              </a:solidFill>
              <a:round/>
            </a:ln>
          </p:spPr>
        </p:cxnSp>
        <p:cxnSp>
          <p:nvCxnSpPr>
            <p:cNvPr id="610" name="直接连接符 519"/>
            <p:cNvCxnSpPr/>
            <p:nvPr/>
          </p:nvCxnSpPr>
          <p:spPr>
            <a:xfrm>
              <a:off x="3237120" y="5219280"/>
              <a:ext cx="360" cy="360720"/>
            </a:xfrm>
            <a:prstGeom prst="straightConnector1">
              <a:avLst/>
            </a:prstGeom>
            <a:ln w="3175">
              <a:solidFill>
                <a:srgbClr val="ffffff">
                  <a:lumMod val="85000"/>
                </a:srgbClr>
              </a:solidFill>
              <a:round/>
            </a:ln>
          </p:spPr>
        </p:cxnSp>
        <p:cxnSp>
          <p:nvCxnSpPr>
            <p:cNvPr id="611" name="直接连接符 520"/>
            <p:cNvCxnSpPr/>
            <p:nvPr/>
          </p:nvCxnSpPr>
          <p:spPr>
            <a:xfrm>
              <a:off x="3596760" y="5219280"/>
              <a:ext cx="360" cy="360720"/>
            </a:xfrm>
            <a:prstGeom prst="straightConnector1">
              <a:avLst/>
            </a:prstGeom>
            <a:ln w="3175">
              <a:solidFill>
                <a:srgbClr val="ffffff">
                  <a:lumMod val="85000"/>
                </a:srgbClr>
              </a:solidFill>
              <a:round/>
            </a:ln>
          </p:spPr>
        </p:cxnSp>
        <p:cxnSp>
          <p:nvCxnSpPr>
            <p:cNvPr id="612" name="直接连接符 521"/>
            <p:cNvCxnSpPr/>
            <p:nvPr/>
          </p:nvCxnSpPr>
          <p:spPr>
            <a:xfrm>
              <a:off x="3956040" y="5219280"/>
              <a:ext cx="360" cy="360720"/>
            </a:xfrm>
            <a:prstGeom prst="straightConnector1">
              <a:avLst/>
            </a:prstGeom>
            <a:ln w="3175">
              <a:solidFill>
                <a:srgbClr val="ffffff">
                  <a:lumMod val="85000"/>
                </a:srgbClr>
              </a:solidFill>
              <a:round/>
            </a:ln>
          </p:spPr>
        </p:cxnSp>
        <p:cxnSp>
          <p:nvCxnSpPr>
            <p:cNvPr id="613" name="直接连接符 522"/>
            <p:cNvCxnSpPr/>
            <p:nvPr/>
          </p:nvCxnSpPr>
          <p:spPr>
            <a:xfrm>
              <a:off x="4315680" y="5219280"/>
              <a:ext cx="360" cy="360720"/>
            </a:xfrm>
            <a:prstGeom prst="straightConnector1">
              <a:avLst/>
            </a:prstGeom>
            <a:ln w="3175">
              <a:solidFill>
                <a:srgbClr val="ffffff">
                  <a:lumMod val="85000"/>
                </a:srgbClr>
              </a:solidFill>
              <a:round/>
            </a:ln>
          </p:spPr>
        </p:cxnSp>
        <p:cxnSp>
          <p:nvCxnSpPr>
            <p:cNvPr id="614" name="直接连接符 523"/>
            <p:cNvCxnSpPr/>
            <p:nvPr/>
          </p:nvCxnSpPr>
          <p:spPr>
            <a:xfrm>
              <a:off x="4675320" y="5219280"/>
              <a:ext cx="360" cy="360720"/>
            </a:xfrm>
            <a:prstGeom prst="straightConnector1">
              <a:avLst/>
            </a:prstGeom>
            <a:ln w="3175">
              <a:solidFill>
                <a:srgbClr val="ffffff">
                  <a:lumMod val="85000"/>
                </a:srgbClr>
              </a:solidFill>
              <a:round/>
            </a:ln>
          </p:spPr>
        </p:cxnSp>
        <p:cxnSp>
          <p:nvCxnSpPr>
            <p:cNvPr id="615" name="直接连接符 524"/>
            <p:cNvCxnSpPr/>
            <p:nvPr/>
          </p:nvCxnSpPr>
          <p:spPr>
            <a:xfrm>
              <a:off x="5034600" y="5219280"/>
              <a:ext cx="360" cy="360720"/>
            </a:xfrm>
            <a:prstGeom prst="straightConnector1">
              <a:avLst/>
            </a:prstGeom>
            <a:ln w="3175">
              <a:solidFill>
                <a:srgbClr val="ffffff">
                  <a:lumMod val="85000"/>
                </a:srgbClr>
              </a:solidFill>
              <a:round/>
            </a:ln>
          </p:spPr>
        </p:cxnSp>
        <p:cxnSp>
          <p:nvCxnSpPr>
            <p:cNvPr id="616" name="直接连接符 525"/>
            <p:cNvCxnSpPr/>
            <p:nvPr/>
          </p:nvCxnSpPr>
          <p:spPr>
            <a:xfrm>
              <a:off x="5394240" y="5219280"/>
              <a:ext cx="360" cy="360720"/>
            </a:xfrm>
            <a:prstGeom prst="straightConnector1">
              <a:avLst/>
            </a:prstGeom>
            <a:ln w="3175">
              <a:solidFill>
                <a:srgbClr val="ffffff">
                  <a:lumMod val="85000"/>
                </a:srgbClr>
              </a:solidFill>
              <a:round/>
            </a:ln>
          </p:spPr>
        </p:cxnSp>
        <p:cxnSp>
          <p:nvCxnSpPr>
            <p:cNvPr id="617" name="直接连接符 526"/>
            <p:cNvCxnSpPr/>
            <p:nvPr/>
          </p:nvCxnSpPr>
          <p:spPr>
            <a:xfrm>
              <a:off x="5753880" y="5219280"/>
              <a:ext cx="360" cy="360720"/>
            </a:xfrm>
            <a:prstGeom prst="straightConnector1">
              <a:avLst/>
            </a:prstGeom>
            <a:ln w="3175">
              <a:solidFill>
                <a:srgbClr val="ffffff">
                  <a:lumMod val="85000"/>
                </a:srgbClr>
              </a:solidFill>
              <a:round/>
            </a:ln>
          </p:spPr>
        </p:cxnSp>
        <p:cxnSp>
          <p:nvCxnSpPr>
            <p:cNvPr id="618" name="直接连接符 527"/>
            <p:cNvCxnSpPr/>
            <p:nvPr/>
          </p:nvCxnSpPr>
          <p:spPr>
            <a:xfrm>
              <a:off x="6113160" y="5219280"/>
              <a:ext cx="360" cy="360720"/>
            </a:xfrm>
            <a:prstGeom prst="straightConnector1">
              <a:avLst/>
            </a:prstGeom>
            <a:ln w="3175">
              <a:solidFill>
                <a:srgbClr val="ffffff">
                  <a:lumMod val="85000"/>
                </a:srgbClr>
              </a:solidFill>
              <a:round/>
            </a:ln>
          </p:spPr>
        </p:cxnSp>
        <p:cxnSp>
          <p:nvCxnSpPr>
            <p:cNvPr id="619" name="直接连接符 528"/>
            <p:cNvCxnSpPr/>
            <p:nvPr/>
          </p:nvCxnSpPr>
          <p:spPr>
            <a:xfrm>
              <a:off x="6472800" y="5219280"/>
              <a:ext cx="360" cy="360720"/>
            </a:xfrm>
            <a:prstGeom prst="straightConnector1">
              <a:avLst/>
            </a:prstGeom>
            <a:ln w="3175">
              <a:solidFill>
                <a:srgbClr val="ffffff">
                  <a:lumMod val="85000"/>
                </a:srgbClr>
              </a:solidFill>
              <a:round/>
            </a:ln>
          </p:spPr>
        </p:cxnSp>
        <p:cxnSp>
          <p:nvCxnSpPr>
            <p:cNvPr id="620" name="直接连接符 529"/>
            <p:cNvCxnSpPr/>
            <p:nvPr/>
          </p:nvCxnSpPr>
          <p:spPr>
            <a:xfrm>
              <a:off x="6832080" y="5219280"/>
              <a:ext cx="360" cy="360720"/>
            </a:xfrm>
            <a:prstGeom prst="straightConnector1">
              <a:avLst/>
            </a:prstGeom>
            <a:ln w="3175">
              <a:solidFill>
                <a:srgbClr val="ffffff">
                  <a:lumMod val="85000"/>
                </a:srgbClr>
              </a:solidFill>
              <a:round/>
            </a:ln>
          </p:spPr>
        </p:cxnSp>
        <p:cxnSp>
          <p:nvCxnSpPr>
            <p:cNvPr id="621" name="直接连接符 530"/>
            <p:cNvCxnSpPr/>
            <p:nvPr/>
          </p:nvCxnSpPr>
          <p:spPr>
            <a:xfrm>
              <a:off x="7191720" y="5219280"/>
              <a:ext cx="360" cy="360720"/>
            </a:xfrm>
            <a:prstGeom prst="straightConnector1">
              <a:avLst/>
            </a:prstGeom>
            <a:ln w="3175">
              <a:solidFill>
                <a:srgbClr val="ffffff">
                  <a:lumMod val="85000"/>
                </a:srgbClr>
              </a:solidFill>
              <a:round/>
            </a:ln>
          </p:spPr>
        </p:cxnSp>
        <p:cxnSp>
          <p:nvCxnSpPr>
            <p:cNvPr id="622" name="直接连接符 531"/>
            <p:cNvCxnSpPr/>
            <p:nvPr/>
          </p:nvCxnSpPr>
          <p:spPr>
            <a:xfrm>
              <a:off x="7551360" y="5219280"/>
              <a:ext cx="360" cy="360720"/>
            </a:xfrm>
            <a:prstGeom prst="straightConnector1">
              <a:avLst/>
            </a:prstGeom>
            <a:ln w="3175">
              <a:solidFill>
                <a:srgbClr val="ffffff">
                  <a:lumMod val="85000"/>
                </a:srgbClr>
              </a:solidFill>
              <a:round/>
            </a:ln>
          </p:spPr>
        </p:cxnSp>
        <p:cxnSp>
          <p:nvCxnSpPr>
            <p:cNvPr id="623" name="直接连接符 532"/>
            <p:cNvCxnSpPr/>
            <p:nvPr/>
          </p:nvCxnSpPr>
          <p:spPr>
            <a:xfrm>
              <a:off x="7910640" y="5219280"/>
              <a:ext cx="360" cy="360720"/>
            </a:xfrm>
            <a:prstGeom prst="straightConnector1">
              <a:avLst/>
            </a:prstGeom>
            <a:ln w="3175">
              <a:solidFill>
                <a:srgbClr val="ffffff">
                  <a:lumMod val="85000"/>
                </a:srgbClr>
              </a:solidFill>
              <a:round/>
            </a:ln>
          </p:spPr>
        </p:cxnSp>
        <p:cxnSp>
          <p:nvCxnSpPr>
            <p:cNvPr id="624" name="直接连接符 533"/>
            <p:cNvCxnSpPr/>
            <p:nvPr/>
          </p:nvCxnSpPr>
          <p:spPr>
            <a:xfrm>
              <a:off x="8270280" y="5219280"/>
              <a:ext cx="360" cy="360720"/>
            </a:xfrm>
            <a:prstGeom prst="straightConnector1">
              <a:avLst/>
            </a:prstGeom>
            <a:ln w="3175">
              <a:solidFill>
                <a:srgbClr val="ffffff">
                  <a:lumMod val="85000"/>
                </a:srgbClr>
              </a:solidFill>
              <a:round/>
            </a:ln>
          </p:spPr>
        </p:cxnSp>
        <p:cxnSp>
          <p:nvCxnSpPr>
            <p:cNvPr id="625" name="直接连接符 534"/>
            <p:cNvCxnSpPr/>
            <p:nvPr/>
          </p:nvCxnSpPr>
          <p:spPr>
            <a:xfrm>
              <a:off x="8629920" y="5219280"/>
              <a:ext cx="360" cy="360720"/>
            </a:xfrm>
            <a:prstGeom prst="straightConnector1">
              <a:avLst/>
            </a:prstGeom>
            <a:ln w="3175">
              <a:solidFill>
                <a:srgbClr val="ffffff">
                  <a:lumMod val="85000"/>
                </a:srgbClr>
              </a:solidFill>
              <a:round/>
            </a:ln>
          </p:spPr>
        </p:cxnSp>
        <p:cxnSp>
          <p:nvCxnSpPr>
            <p:cNvPr id="626" name="直接连接符 535"/>
            <p:cNvCxnSpPr/>
            <p:nvPr/>
          </p:nvCxnSpPr>
          <p:spPr>
            <a:xfrm>
              <a:off x="8989200" y="5219280"/>
              <a:ext cx="360" cy="360720"/>
            </a:xfrm>
            <a:prstGeom prst="straightConnector1">
              <a:avLst/>
            </a:prstGeom>
            <a:ln w="3175">
              <a:solidFill>
                <a:srgbClr val="ffffff">
                  <a:lumMod val="85000"/>
                </a:srgbClr>
              </a:solidFill>
              <a:round/>
            </a:ln>
          </p:spPr>
        </p:cxnSp>
        <p:cxnSp>
          <p:nvCxnSpPr>
            <p:cNvPr id="627" name="直接连接符 536"/>
            <p:cNvCxnSpPr/>
            <p:nvPr/>
          </p:nvCxnSpPr>
          <p:spPr>
            <a:xfrm>
              <a:off x="9348840" y="5219280"/>
              <a:ext cx="360" cy="360720"/>
            </a:xfrm>
            <a:prstGeom prst="straightConnector1">
              <a:avLst/>
            </a:prstGeom>
            <a:ln w="3175">
              <a:solidFill>
                <a:srgbClr val="ffffff">
                  <a:lumMod val="85000"/>
                </a:srgbClr>
              </a:solidFill>
              <a:round/>
            </a:ln>
          </p:spPr>
        </p:cxnSp>
        <p:cxnSp>
          <p:nvCxnSpPr>
            <p:cNvPr id="628" name="直接连接符 537"/>
            <p:cNvCxnSpPr/>
            <p:nvPr/>
          </p:nvCxnSpPr>
          <p:spPr>
            <a:xfrm>
              <a:off x="9708480" y="5219280"/>
              <a:ext cx="360" cy="360720"/>
            </a:xfrm>
            <a:prstGeom prst="straightConnector1">
              <a:avLst/>
            </a:prstGeom>
            <a:ln w="3175">
              <a:solidFill>
                <a:srgbClr val="ffffff">
                  <a:lumMod val="85000"/>
                </a:srgbClr>
              </a:solidFill>
              <a:round/>
            </a:ln>
          </p:spPr>
        </p:cxnSp>
        <p:cxnSp>
          <p:nvCxnSpPr>
            <p:cNvPr id="629" name="直接连接符 538"/>
            <p:cNvCxnSpPr/>
            <p:nvPr/>
          </p:nvCxnSpPr>
          <p:spPr>
            <a:xfrm>
              <a:off x="10067760" y="5219280"/>
              <a:ext cx="360" cy="360720"/>
            </a:xfrm>
            <a:prstGeom prst="straightConnector1">
              <a:avLst/>
            </a:prstGeom>
            <a:ln w="3175">
              <a:solidFill>
                <a:srgbClr val="ffffff">
                  <a:lumMod val="85000"/>
                </a:srgbClr>
              </a:solidFill>
              <a:round/>
            </a:ln>
          </p:spPr>
        </p:cxnSp>
        <p:cxnSp>
          <p:nvCxnSpPr>
            <p:cNvPr id="630" name="直接连接符 539"/>
            <p:cNvCxnSpPr/>
            <p:nvPr/>
          </p:nvCxnSpPr>
          <p:spPr>
            <a:xfrm>
              <a:off x="10427400" y="5219280"/>
              <a:ext cx="360" cy="360720"/>
            </a:xfrm>
            <a:prstGeom prst="straightConnector1">
              <a:avLst/>
            </a:prstGeom>
            <a:ln w="3175">
              <a:solidFill>
                <a:srgbClr val="ffffff">
                  <a:lumMod val="85000"/>
                </a:srgbClr>
              </a:solidFill>
              <a:round/>
            </a:ln>
          </p:spPr>
        </p:cxnSp>
        <p:cxnSp>
          <p:nvCxnSpPr>
            <p:cNvPr id="631" name="直接连接符 540"/>
            <p:cNvCxnSpPr/>
            <p:nvPr/>
          </p:nvCxnSpPr>
          <p:spPr>
            <a:xfrm>
              <a:off x="10787040" y="5219280"/>
              <a:ext cx="360" cy="360720"/>
            </a:xfrm>
            <a:prstGeom prst="straightConnector1">
              <a:avLst/>
            </a:prstGeom>
            <a:ln w="3175">
              <a:solidFill>
                <a:srgbClr val="ffffff">
                  <a:lumMod val="85000"/>
                </a:srgbClr>
              </a:solidFill>
              <a:round/>
            </a:ln>
          </p:spPr>
        </p:cxnSp>
        <p:cxnSp>
          <p:nvCxnSpPr>
            <p:cNvPr id="632" name="直接连接符 541"/>
            <p:cNvCxnSpPr/>
            <p:nvPr/>
          </p:nvCxnSpPr>
          <p:spPr>
            <a:xfrm>
              <a:off x="720720" y="5759280"/>
              <a:ext cx="360" cy="360720"/>
            </a:xfrm>
            <a:prstGeom prst="straightConnector1">
              <a:avLst/>
            </a:prstGeom>
            <a:ln w="3175">
              <a:solidFill>
                <a:srgbClr val="ffffff">
                  <a:lumMod val="85000"/>
                </a:srgbClr>
              </a:solidFill>
              <a:round/>
            </a:ln>
          </p:spPr>
        </p:cxnSp>
        <p:cxnSp>
          <p:nvCxnSpPr>
            <p:cNvPr id="633" name="直接连接符 542"/>
            <p:cNvCxnSpPr/>
            <p:nvPr/>
          </p:nvCxnSpPr>
          <p:spPr>
            <a:xfrm>
              <a:off x="1080000" y="5759280"/>
              <a:ext cx="360" cy="360720"/>
            </a:xfrm>
            <a:prstGeom prst="straightConnector1">
              <a:avLst/>
            </a:prstGeom>
            <a:ln w="3175">
              <a:solidFill>
                <a:srgbClr val="ffffff">
                  <a:lumMod val="85000"/>
                </a:srgbClr>
              </a:solidFill>
              <a:round/>
            </a:ln>
          </p:spPr>
        </p:cxnSp>
        <p:cxnSp>
          <p:nvCxnSpPr>
            <p:cNvPr id="634" name="直接连接符 543"/>
            <p:cNvCxnSpPr/>
            <p:nvPr/>
          </p:nvCxnSpPr>
          <p:spPr>
            <a:xfrm>
              <a:off x="1439640" y="5759280"/>
              <a:ext cx="360" cy="360720"/>
            </a:xfrm>
            <a:prstGeom prst="straightConnector1">
              <a:avLst/>
            </a:prstGeom>
            <a:ln w="3175">
              <a:solidFill>
                <a:srgbClr val="ffffff">
                  <a:lumMod val="85000"/>
                </a:srgbClr>
              </a:solidFill>
              <a:round/>
            </a:ln>
          </p:spPr>
        </p:cxnSp>
        <p:cxnSp>
          <p:nvCxnSpPr>
            <p:cNvPr id="635" name="直接连接符 544"/>
            <p:cNvCxnSpPr/>
            <p:nvPr/>
          </p:nvCxnSpPr>
          <p:spPr>
            <a:xfrm>
              <a:off x="1798920" y="5759280"/>
              <a:ext cx="360" cy="360720"/>
            </a:xfrm>
            <a:prstGeom prst="straightConnector1">
              <a:avLst/>
            </a:prstGeom>
            <a:ln w="3175">
              <a:solidFill>
                <a:srgbClr val="ffffff">
                  <a:lumMod val="85000"/>
                </a:srgbClr>
              </a:solidFill>
              <a:round/>
            </a:ln>
          </p:spPr>
        </p:cxnSp>
        <p:cxnSp>
          <p:nvCxnSpPr>
            <p:cNvPr id="636" name="直接连接符 545"/>
            <p:cNvCxnSpPr/>
            <p:nvPr/>
          </p:nvCxnSpPr>
          <p:spPr>
            <a:xfrm>
              <a:off x="2158560" y="5759280"/>
              <a:ext cx="360" cy="360720"/>
            </a:xfrm>
            <a:prstGeom prst="straightConnector1">
              <a:avLst/>
            </a:prstGeom>
            <a:ln w="3175">
              <a:solidFill>
                <a:srgbClr val="ffffff">
                  <a:lumMod val="85000"/>
                </a:srgbClr>
              </a:solidFill>
              <a:round/>
            </a:ln>
          </p:spPr>
        </p:cxnSp>
        <p:cxnSp>
          <p:nvCxnSpPr>
            <p:cNvPr id="637" name="直接连接符 546"/>
            <p:cNvCxnSpPr/>
            <p:nvPr/>
          </p:nvCxnSpPr>
          <p:spPr>
            <a:xfrm>
              <a:off x="2518200" y="5759280"/>
              <a:ext cx="360" cy="360720"/>
            </a:xfrm>
            <a:prstGeom prst="straightConnector1">
              <a:avLst/>
            </a:prstGeom>
            <a:ln w="3175">
              <a:solidFill>
                <a:srgbClr val="ffffff">
                  <a:lumMod val="85000"/>
                </a:srgbClr>
              </a:solidFill>
              <a:round/>
            </a:ln>
          </p:spPr>
        </p:cxnSp>
        <p:cxnSp>
          <p:nvCxnSpPr>
            <p:cNvPr id="638" name="直接连接符 547"/>
            <p:cNvCxnSpPr/>
            <p:nvPr/>
          </p:nvCxnSpPr>
          <p:spPr>
            <a:xfrm>
              <a:off x="2877480" y="5759280"/>
              <a:ext cx="360" cy="360720"/>
            </a:xfrm>
            <a:prstGeom prst="straightConnector1">
              <a:avLst/>
            </a:prstGeom>
            <a:ln w="3175">
              <a:solidFill>
                <a:srgbClr val="ffffff">
                  <a:lumMod val="85000"/>
                </a:srgbClr>
              </a:solidFill>
              <a:round/>
            </a:ln>
          </p:spPr>
        </p:cxnSp>
        <p:cxnSp>
          <p:nvCxnSpPr>
            <p:cNvPr id="639" name="直接连接符 548"/>
            <p:cNvCxnSpPr/>
            <p:nvPr/>
          </p:nvCxnSpPr>
          <p:spPr>
            <a:xfrm>
              <a:off x="3237120" y="5759280"/>
              <a:ext cx="360" cy="360720"/>
            </a:xfrm>
            <a:prstGeom prst="straightConnector1">
              <a:avLst/>
            </a:prstGeom>
            <a:ln w="3175">
              <a:solidFill>
                <a:srgbClr val="ffffff">
                  <a:lumMod val="85000"/>
                </a:srgbClr>
              </a:solidFill>
              <a:round/>
            </a:ln>
          </p:spPr>
        </p:cxnSp>
        <p:cxnSp>
          <p:nvCxnSpPr>
            <p:cNvPr id="640" name="直接连接符 549"/>
            <p:cNvCxnSpPr/>
            <p:nvPr/>
          </p:nvCxnSpPr>
          <p:spPr>
            <a:xfrm>
              <a:off x="3596760" y="5759280"/>
              <a:ext cx="360" cy="360720"/>
            </a:xfrm>
            <a:prstGeom prst="straightConnector1">
              <a:avLst/>
            </a:prstGeom>
            <a:ln w="3175">
              <a:solidFill>
                <a:srgbClr val="ffffff">
                  <a:lumMod val="85000"/>
                </a:srgbClr>
              </a:solidFill>
              <a:round/>
            </a:ln>
          </p:spPr>
        </p:cxnSp>
        <p:cxnSp>
          <p:nvCxnSpPr>
            <p:cNvPr id="641" name="直接连接符 550"/>
            <p:cNvCxnSpPr/>
            <p:nvPr/>
          </p:nvCxnSpPr>
          <p:spPr>
            <a:xfrm>
              <a:off x="3956040" y="5759280"/>
              <a:ext cx="360" cy="360720"/>
            </a:xfrm>
            <a:prstGeom prst="straightConnector1">
              <a:avLst/>
            </a:prstGeom>
            <a:ln w="3175">
              <a:solidFill>
                <a:srgbClr val="ffffff">
                  <a:lumMod val="85000"/>
                </a:srgbClr>
              </a:solidFill>
              <a:round/>
            </a:ln>
          </p:spPr>
        </p:cxnSp>
        <p:cxnSp>
          <p:nvCxnSpPr>
            <p:cNvPr id="642" name="直接连接符 551"/>
            <p:cNvCxnSpPr/>
            <p:nvPr/>
          </p:nvCxnSpPr>
          <p:spPr>
            <a:xfrm>
              <a:off x="4315680" y="5759280"/>
              <a:ext cx="360" cy="360720"/>
            </a:xfrm>
            <a:prstGeom prst="straightConnector1">
              <a:avLst/>
            </a:prstGeom>
            <a:ln w="3175">
              <a:solidFill>
                <a:srgbClr val="ffffff">
                  <a:lumMod val="85000"/>
                </a:srgbClr>
              </a:solidFill>
              <a:round/>
            </a:ln>
          </p:spPr>
        </p:cxnSp>
        <p:cxnSp>
          <p:nvCxnSpPr>
            <p:cNvPr id="643" name="直接连接符 552"/>
            <p:cNvCxnSpPr/>
            <p:nvPr/>
          </p:nvCxnSpPr>
          <p:spPr>
            <a:xfrm>
              <a:off x="4675320" y="5759280"/>
              <a:ext cx="360" cy="360720"/>
            </a:xfrm>
            <a:prstGeom prst="straightConnector1">
              <a:avLst/>
            </a:prstGeom>
            <a:ln w="3175">
              <a:solidFill>
                <a:srgbClr val="ffffff">
                  <a:lumMod val="85000"/>
                </a:srgbClr>
              </a:solidFill>
              <a:round/>
            </a:ln>
          </p:spPr>
        </p:cxnSp>
        <p:cxnSp>
          <p:nvCxnSpPr>
            <p:cNvPr id="644" name="直接连接符 553"/>
            <p:cNvCxnSpPr/>
            <p:nvPr/>
          </p:nvCxnSpPr>
          <p:spPr>
            <a:xfrm>
              <a:off x="5034600" y="5759280"/>
              <a:ext cx="360" cy="360720"/>
            </a:xfrm>
            <a:prstGeom prst="straightConnector1">
              <a:avLst/>
            </a:prstGeom>
            <a:ln w="3175">
              <a:solidFill>
                <a:srgbClr val="ffffff">
                  <a:lumMod val="85000"/>
                </a:srgbClr>
              </a:solidFill>
              <a:round/>
            </a:ln>
          </p:spPr>
        </p:cxnSp>
        <p:cxnSp>
          <p:nvCxnSpPr>
            <p:cNvPr id="645" name="直接连接符 554"/>
            <p:cNvCxnSpPr/>
            <p:nvPr/>
          </p:nvCxnSpPr>
          <p:spPr>
            <a:xfrm>
              <a:off x="5394240" y="5759280"/>
              <a:ext cx="360" cy="360720"/>
            </a:xfrm>
            <a:prstGeom prst="straightConnector1">
              <a:avLst/>
            </a:prstGeom>
            <a:ln w="3175">
              <a:solidFill>
                <a:srgbClr val="ffffff">
                  <a:lumMod val="85000"/>
                </a:srgbClr>
              </a:solidFill>
              <a:round/>
            </a:ln>
          </p:spPr>
        </p:cxnSp>
        <p:cxnSp>
          <p:nvCxnSpPr>
            <p:cNvPr id="646" name="直接连接符 555"/>
            <p:cNvCxnSpPr/>
            <p:nvPr/>
          </p:nvCxnSpPr>
          <p:spPr>
            <a:xfrm>
              <a:off x="5753880" y="5759280"/>
              <a:ext cx="360" cy="360720"/>
            </a:xfrm>
            <a:prstGeom prst="straightConnector1">
              <a:avLst/>
            </a:prstGeom>
            <a:ln w="3175">
              <a:solidFill>
                <a:srgbClr val="ffffff">
                  <a:lumMod val="85000"/>
                </a:srgbClr>
              </a:solidFill>
              <a:round/>
            </a:ln>
          </p:spPr>
        </p:cxnSp>
        <p:cxnSp>
          <p:nvCxnSpPr>
            <p:cNvPr id="647" name="直接连接符 556"/>
            <p:cNvCxnSpPr/>
            <p:nvPr/>
          </p:nvCxnSpPr>
          <p:spPr>
            <a:xfrm>
              <a:off x="6113160" y="5759280"/>
              <a:ext cx="360" cy="360720"/>
            </a:xfrm>
            <a:prstGeom prst="straightConnector1">
              <a:avLst/>
            </a:prstGeom>
            <a:ln w="3175">
              <a:solidFill>
                <a:srgbClr val="ffffff">
                  <a:lumMod val="85000"/>
                </a:srgbClr>
              </a:solidFill>
              <a:round/>
            </a:ln>
          </p:spPr>
        </p:cxnSp>
        <p:cxnSp>
          <p:nvCxnSpPr>
            <p:cNvPr id="648" name="直接连接符 557"/>
            <p:cNvCxnSpPr/>
            <p:nvPr/>
          </p:nvCxnSpPr>
          <p:spPr>
            <a:xfrm>
              <a:off x="6472800" y="5759280"/>
              <a:ext cx="360" cy="360720"/>
            </a:xfrm>
            <a:prstGeom prst="straightConnector1">
              <a:avLst/>
            </a:prstGeom>
            <a:ln w="3175">
              <a:solidFill>
                <a:srgbClr val="ffffff">
                  <a:lumMod val="85000"/>
                </a:srgbClr>
              </a:solidFill>
              <a:round/>
            </a:ln>
          </p:spPr>
        </p:cxnSp>
        <p:cxnSp>
          <p:nvCxnSpPr>
            <p:cNvPr id="649" name="直接连接符 558"/>
            <p:cNvCxnSpPr/>
            <p:nvPr/>
          </p:nvCxnSpPr>
          <p:spPr>
            <a:xfrm>
              <a:off x="6832080" y="5759280"/>
              <a:ext cx="360" cy="360720"/>
            </a:xfrm>
            <a:prstGeom prst="straightConnector1">
              <a:avLst/>
            </a:prstGeom>
            <a:ln w="3175">
              <a:solidFill>
                <a:srgbClr val="ffffff">
                  <a:lumMod val="85000"/>
                </a:srgbClr>
              </a:solidFill>
              <a:round/>
            </a:ln>
          </p:spPr>
        </p:cxnSp>
        <p:cxnSp>
          <p:nvCxnSpPr>
            <p:cNvPr id="650" name="直接连接符 559"/>
            <p:cNvCxnSpPr/>
            <p:nvPr/>
          </p:nvCxnSpPr>
          <p:spPr>
            <a:xfrm>
              <a:off x="7191720" y="5759280"/>
              <a:ext cx="360" cy="360720"/>
            </a:xfrm>
            <a:prstGeom prst="straightConnector1">
              <a:avLst/>
            </a:prstGeom>
            <a:ln w="3175">
              <a:solidFill>
                <a:srgbClr val="ffffff">
                  <a:lumMod val="85000"/>
                </a:srgbClr>
              </a:solidFill>
              <a:round/>
            </a:ln>
          </p:spPr>
        </p:cxnSp>
        <p:cxnSp>
          <p:nvCxnSpPr>
            <p:cNvPr id="651" name="直接连接符 560"/>
            <p:cNvCxnSpPr/>
            <p:nvPr/>
          </p:nvCxnSpPr>
          <p:spPr>
            <a:xfrm>
              <a:off x="7551360" y="5759280"/>
              <a:ext cx="360" cy="360720"/>
            </a:xfrm>
            <a:prstGeom prst="straightConnector1">
              <a:avLst/>
            </a:prstGeom>
            <a:ln w="3175">
              <a:solidFill>
                <a:srgbClr val="ffffff">
                  <a:lumMod val="85000"/>
                </a:srgbClr>
              </a:solidFill>
              <a:round/>
            </a:ln>
          </p:spPr>
        </p:cxnSp>
        <p:cxnSp>
          <p:nvCxnSpPr>
            <p:cNvPr id="652" name="直接连接符 561"/>
            <p:cNvCxnSpPr/>
            <p:nvPr/>
          </p:nvCxnSpPr>
          <p:spPr>
            <a:xfrm>
              <a:off x="7910640" y="5759280"/>
              <a:ext cx="360" cy="360720"/>
            </a:xfrm>
            <a:prstGeom prst="straightConnector1">
              <a:avLst/>
            </a:prstGeom>
            <a:ln w="3175">
              <a:solidFill>
                <a:srgbClr val="ffffff">
                  <a:lumMod val="85000"/>
                </a:srgbClr>
              </a:solidFill>
              <a:round/>
            </a:ln>
          </p:spPr>
        </p:cxnSp>
        <p:cxnSp>
          <p:nvCxnSpPr>
            <p:cNvPr id="653" name="直接连接符 562"/>
            <p:cNvCxnSpPr/>
            <p:nvPr/>
          </p:nvCxnSpPr>
          <p:spPr>
            <a:xfrm>
              <a:off x="8270280" y="5759280"/>
              <a:ext cx="360" cy="360720"/>
            </a:xfrm>
            <a:prstGeom prst="straightConnector1">
              <a:avLst/>
            </a:prstGeom>
            <a:ln w="3175">
              <a:solidFill>
                <a:srgbClr val="ffffff">
                  <a:lumMod val="85000"/>
                </a:srgbClr>
              </a:solidFill>
              <a:round/>
            </a:ln>
          </p:spPr>
        </p:cxnSp>
        <p:cxnSp>
          <p:nvCxnSpPr>
            <p:cNvPr id="654" name="直接连接符 563"/>
            <p:cNvCxnSpPr/>
            <p:nvPr/>
          </p:nvCxnSpPr>
          <p:spPr>
            <a:xfrm>
              <a:off x="8629920" y="5759280"/>
              <a:ext cx="360" cy="360720"/>
            </a:xfrm>
            <a:prstGeom prst="straightConnector1">
              <a:avLst/>
            </a:prstGeom>
            <a:ln w="3175">
              <a:solidFill>
                <a:srgbClr val="ffffff">
                  <a:lumMod val="85000"/>
                </a:srgbClr>
              </a:solidFill>
              <a:round/>
            </a:ln>
          </p:spPr>
        </p:cxnSp>
        <p:cxnSp>
          <p:nvCxnSpPr>
            <p:cNvPr id="655" name="直接连接符 564"/>
            <p:cNvCxnSpPr/>
            <p:nvPr/>
          </p:nvCxnSpPr>
          <p:spPr>
            <a:xfrm>
              <a:off x="8989200" y="5759280"/>
              <a:ext cx="360" cy="360720"/>
            </a:xfrm>
            <a:prstGeom prst="straightConnector1">
              <a:avLst/>
            </a:prstGeom>
            <a:ln w="3175">
              <a:solidFill>
                <a:srgbClr val="ffffff">
                  <a:lumMod val="85000"/>
                </a:srgbClr>
              </a:solidFill>
              <a:round/>
            </a:ln>
          </p:spPr>
        </p:cxnSp>
        <p:cxnSp>
          <p:nvCxnSpPr>
            <p:cNvPr id="656" name="直接连接符 565"/>
            <p:cNvCxnSpPr/>
            <p:nvPr/>
          </p:nvCxnSpPr>
          <p:spPr>
            <a:xfrm>
              <a:off x="9348840" y="5759280"/>
              <a:ext cx="360" cy="360720"/>
            </a:xfrm>
            <a:prstGeom prst="straightConnector1">
              <a:avLst/>
            </a:prstGeom>
            <a:ln w="3175">
              <a:solidFill>
                <a:srgbClr val="ffffff">
                  <a:lumMod val="85000"/>
                </a:srgbClr>
              </a:solidFill>
              <a:round/>
            </a:ln>
          </p:spPr>
        </p:cxnSp>
        <p:cxnSp>
          <p:nvCxnSpPr>
            <p:cNvPr id="657" name="直接连接符 566"/>
            <p:cNvCxnSpPr/>
            <p:nvPr/>
          </p:nvCxnSpPr>
          <p:spPr>
            <a:xfrm>
              <a:off x="9708480" y="5759280"/>
              <a:ext cx="360" cy="360720"/>
            </a:xfrm>
            <a:prstGeom prst="straightConnector1">
              <a:avLst/>
            </a:prstGeom>
            <a:ln w="3175">
              <a:solidFill>
                <a:srgbClr val="ffffff">
                  <a:lumMod val="85000"/>
                </a:srgbClr>
              </a:solidFill>
              <a:round/>
            </a:ln>
          </p:spPr>
        </p:cxnSp>
        <p:cxnSp>
          <p:nvCxnSpPr>
            <p:cNvPr id="658" name="直接连接符 567"/>
            <p:cNvCxnSpPr/>
            <p:nvPr/>
          </p:nvCxnSpPr>
          <p:spPr>
            <a:xfrm>
              <a:off x="10067760" y="5759280"/>
              <a:ext cx="360" cy="360720"/>
            </a:xfrm>
            <a:prstGeom prst="straightConnector1">
              <a:avLst/>
            </a:prstGeom>
            <a:ln w="3175">
              <a:solidFill>
                <a:srgbClr val="ffffff">
                  <a:lumMod val="85000"/>
                </a:srgbClr>
              </a:solidFill>
              <a:round/>
            </a:ln>
          </p:spPr>
        </p:cxnSp>
        <p:cxnSp>
          <p:nvCxnSpPr>
            <p:cNvPr id="659" name="直接连接符 568"/>
            <p:cNvCxnSpPr/>
            <p:nvPr/>
          </p:nvCxnSpPr>
          <p:spPr>
            <a:xfrm>
              <a:off x="10427400" y="5759280"/>
              <a:ext cx="360" cy="360720"/>
            </a:xfrm>
            <a:prstGeom prst="straightConnector1">
              <a:avLst/>
            </a:prstGeom>
            <a:ln w="3175">
              <a:solidFill>
                <a:srgbClr val="ffffff">
                  <a:lumMod val="85000"/>
                </a:srgbClr>
              </a:solidFill>
              <a:round/>
            </a:ln>
          </p:spPr>
        </p:cxnSp>
        <p:cxnSp>
          <p:nvCxnSpPr>
            <p:cNvPr id="660" name="直接连接符 569"/>
            <p:cNvCxnSpPr/>
            <p:nvPr/>
          </p:nvCxnSpPr>
          <p:spPr>
            <a:xfrm>
              <a:off x="10787040" y="5759280"/>
              <a:ext cx="360" cy="360720"/>
            </a:xfrm>
            <a:prstGeom prst="straightConnector1">
              <a:avLst/>
            </a:prstGeom>
            <a:ln w="3175">
              <a:solidFill>
                <a:srgbClr val="ffffff">
                  <a:lumMod val="85000"/>
                </a:srgbClr>
              </a:solidFill>
              <a:round/>
            </a:ln>
          </p:spPr>
        </p:cxnSp>
      </p:grpSp>
      <p:sp>
        <p:nvSpPr>
          <p:cNvPr id="661" name="矩形 570"/>
          <p:cNvSpPr/>
          <p:nvPr/>
        </p:nvSpPr>
        <p:spPr>
          <a:xfrm>
            <a:off x="307080" y="1386000"/>
            <a:ext cx="10907640" cy="4787640"/>
          </a:xfrm>
          <a:prstGeom prst="rect">
            <a:avLst/>
          </a:prstGeom>
          <a:noFill/>
          <a:ln>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cxnSp>
        <p:nvCxnSpPr>
          <p:cNvPr id="662" name="直接连接符 571"/>
          <p:cNvCxnSpPr/>
          <p:nvPr/>
        </p:nvCxnSpPr>
        <p:spPr>
          <a:xfrm>
            <a:off x="360360" y="1079280"/>
            <a:ext cx="10801440" cy="360"/>
          </a:xfrm>
          <a:prstGeom prst="straightConnector1">
            <a:avLst/>
          </a:prstGeom>
          <a:ln w="19050">
            <a:solidFill>
              <a:srgbClr val="c00000"/>
            </a:solidFill>
            <a:round/>
          </a:ln>
        </p:spPr>
      </p:cxnSp>
      <p:sp>
        <p:nvSpPr>
          <p:cNvPr id="663" name="PlaceHolder 1"/>
          <p:cNvSpPr>
            <a:spLocks noGrp="1"/>
          </p:cNvSpPr>
          <p:nvPr>
            <p:ph type="title"/>
          </p:nvPr>
        </p:nvSpPr>
        <p:spPr>
          <a:xfrm>
            <a:off x="360360" y="360360"/>
            <a:ext cx="10801080" cy="718920"/>
          </a:xfrm>
          <a:prstGeom prst="rect">
            <a:avLst/>
          </a:prstGeom>
          <a:noFill/>
          <a:ln w="0">
            <a:noFill/>
          </a:ln>
        </p:spPr>
        <p:txBody>
          <a:bodyPr anchor="ctr">
            <a:noAutofit/>
          </a:bodyPr>
          <a:p>
            <a:pPr indent="0" algn="ctr">
              <a:lnSpc>
                <a:spcPct val="100000"/>
              </a:lnSpc>
              <a:buNone/>
            </a:pPr>
            <a:r>
              <a:rPr b="0" lang="zh-CN" sz="4400" spc="-1" strike="noStrike">
                <a:solidFill>
                  <a:srgbClr val="262626"/>
                </a:solidFill>
                <a:latin typeface="Candara"/>
                <a:ea typeface="微软雅黑"/>
              </a:rPr>
              <a:t>单击此处编辑母版标题样式</a:t>
            </a:r>
            <a:endParaRPr b="0" lang="en-US" sz="4400" spc="-1" strike="noStrike">
              <a:solidFill>
                <a:srgbClr val="000000"/>
              </a:solidFill>
              <a:latin typeface="Candara"/>
            </a:endParaRPr>
          </a:p>
        </p:txBody>
      </p:sp>
      <p:sp>
        <p:nvSpPr>
          <p:cNvPr id="664" name="PlaceHolder 2"/>
          <p:cNvSpPr>
            <a:spLocks noGrp="1"/>
          </p:cNvSpPr>
          <p:nvPr>
            <p:ph type="body"/>
          </p:nvPr>
        </p:nvSpPr>
        <p:spPr>
          <a:xfrm>
            <a:off x="360360" y="1440000"/>
            <a:ext cx="10801080" cy="4679640"/>
          </a:xfrm>
          <a:prstGeom prst="rect">
            <a:avLst/>
          </a:prstGeom>
          <a:noFill/>
          <a:ln w="0">
            <a:noFill/>
          </a:ln>
        </p:spPr>
        <p:txBody>
          <a:bodyPr anchor="t">
            <a:noAutofit/>
          </a:bodyPr>
          <a:p>
            <a:pPr marL="534960" indent="-534960">
              <a:lnSpc>
                <a:spcPct val="100000"/>
              </a:lnSpc>
              <a:spcBef>
                <a:spcPts val="400"/>
              </a:spcBef>
              <a:spcAft>
                <a:spcPts val="601"/>
              </a:spcAft>
              <a:buClr>
                <a:srgbClr val="d00000"/>
              </a:buClr>
              <a:buFont typeface="Wingdings 2" charset="2"/>
              <a:buChar char=""/>
            </a:pPr>
            <a:r>
              <a:rPr b="1" lang="zh-CN" sz="2000" spc="-1" strike="noStrike">
                <a:solidFill>
                  <a:srgbClr val="404040"/>
                </a:solidFill>
                <a:latin typeface="Candara"/>
                <a:ea typeface="微软雅黑"/>
              </a:rPr>
              <a:t>单击此处编辑母版文本样式</a:t>
            </a:r>
            <a:endParaRPr b="0" lang="en-US" sz="2000" spc="-1" strike="noStrike">
              <a:solidFill>
                <a:srgbClr val="404040"/>
              </a:solidFill>
              <a:latin typeface="Candara"/>
            </a:endParaRPr>
          </a:p>
          <a:p>
            <a:pPr lvl="1" marL="801720" indent="-344520">
              <a:lnSpc>
                <a:spcPct val="100000"/>
              </a:lnSpc>
              <a:spcBef>
                <a:spcPts val="400"/>
              </a:spcBef>
              <a:spcAft>
                <a:spcPts val="601"/>
              </a:spcAft>
              <a:buClr>
                <a:srgbClr val="404040"/>
              </a:buClr>
              <a:buFont typeface="Wingdings 2" charset="2"/>
              <a:buChar char=""/>
            </a:pPr>
            <a:r>
              <a:rPr b="0" lang="zh-CN" sz="2000" spc="-1" strike="noStrike">
                <a:solidFill>
                  <a:srgbClr val="404040"/>
                </a:solidFill>
                <a:latin typeface="Candara"/>
                <a:ea typeface="微软雅黑"/>
              </a:rPr>
              <a:t>第二级</a:t>
            </a:r>
            <a:endParaRPr b="0" lang="en-US" sz="2000" spc="-1" strike="noStrike">
              <a:solidFill>
                <a:srgbClr val="000000"/>
              </a:solidFill>
              <a:latin typeface="Candara"/>
            </a:endParaRPr>
          </a:p>
        </p:txBody>
      </p:sp>
      <p:sp>
        <p:nvSpPr>
          <p:cNvPr id="665" name="PlaceHolder 3"/>
          <p:cNvSpPr>
            <a:spLocks noGrp="1"/>
          </p:cNvSpPr>
          <p:nvPr>
            <p:ph type="dt" idx="4"/>
          </p:nvPr>
        </p:nvSpPr>
        <p:spPr>
          <a:xfrm>
            <a:off x="362880" y="6119640"/>
            <a:ext cx="2688120" cy="34452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ndara"/>
                <a:ea typeface="微软雅黑"/>
              </a:defRPr>
            </a:lvl1pPr>
          </a:lstStyle>
          <a:p>
            <a:pPr indent="0">
              <a:lnSpc>
                <a:spcPct val="100000"/>
              </a:lnSpc>
              <a:buNone/>
            </a:pPr>
            <a:r>
              <a:rPr b="0" lang="en-US" sz="1200" spc="-1" strike="noStrike">
                <a:solidFill>
                  <a:srgbClr val="8b8b8b"/>
                </a:solidFill>
                <a:latin typeface="Candara"/>
                <a:ea typeface="微软雅黑"/>
              </a:rPr>
              <a:t>&lt;date/time&gt;</a:t>
            </a:r>
            <a:endParaRPr b="0" lang="en-US" sz="1200" spc="-1" strike="noStrike">
              <a:solidFill>
                <a:srgbClr val="000000"/>
              </a:solidFill>
              <a:latin typeface="Times New Roman"/>
            </a:endParaRPr>
          </a:p>
        </p:txBody>
      </p:sp>
      <p:sp>
        <p:nvSpPr>
          <p:cNvPr id="666" name="PlaceHolder 4"/>
          <p:cNvSpPr>
            <a:spLocks noGrp="1"/>
          </p:cNvSpPr>
          <p:nvPr>
            <p:ph type="ftr" idx="5"/>
          </p:nvPr>
        </p:nvSpPr>
        <p:spPr>
          <a:xfrm>
            <a:off x="3936600" y="6128280"/>
            <a:ext cx="3648240" cy="34452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7" name="PlaceHolder 5"/>
          <p:cNvSpPr>
            <a:spLocks noGrp="1"/>
          </p:cNvSpPr>
          <p:nvPr>
            <p:ph type="sldNum" idx="6"/>
          </p:nvPr>
        </p:nvSpPr>
        <p:spPr>
          <a:xfrm>
            <a:off x="8473320" y="6119640"/>
            <a:ext cx="2688120" cy="34452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ndara"/>
                <a:ea typeface="微软雅黑"/>
              </a:defRPr>
            </a:lvl1pPr>
          </a:lstStyle>
          <a:p>
            <a:pPr indent="0" algn="r">
              <a:lnSpc>
                <a:spcPct val="100000"/>
              </a:lnSpc>
              <a:buNone/>
            </a:pPr>
            <a:fld id="{4631B04F-4CCA-4326-8A8C-A1C9B8E9E37E}" type="slidenum">
              <a:rPr b="0" lang="en-US" sz="1200" spc="-1" strike="noStrike">
                <a:solidFill>
                  <a:srgbClr val="8b8b8b"/>
                </a:solidFill>
                <a:latin typeface="Candara"/>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4" name="组合 288"/>
          <p:cNvGrpSpPr/>
          <p:nvPr/>
        </p:nvGrpSpPr>
        <p:grpSpPr>
          <a:xfrm>
            <a:off x="360000" y="1439640"/>
            <a:ext cx="10801440" cy="4680000"/>
            <a:chOff x="360000" y="1439640"/>
            <a:chExt cx="10801440" cy="4680000"/>
          </a:xfrm>
        </p:grpSpPr>
        <p:cxnSp>
          <p:nvCxnSpPr>
            <p:cNvPr id="705" name="直接连接符 289"/>
            <p:cNvCxnSpPr/>
            <p:nvPr/>
          </p:nvCxnSpPr>
          <p:spPr>
            <a:xfrm>
              <a:off x="360360" y="1439640"/>
              <a:ext cx="10801440" cy="360"/>
            </a:xfrm>
            <a:prstGeom prst="straightConnector1">
              <a:avLst/>
            </a:prstGeom>
            <a:ln w="3175">
              <a:solidFill>
                <a:srgbClr val="ffffff">
                  <a:lumMod val="85000"/>
                </a:srgbClr>
              </a:solidFill>
              <a:round/>
            </a:ln>
          </p:spPr>
        </p:cxnSp>
        <p:cxnSp>
          <p:nvCxnSpPr>
            <p:cNvPr id="706" name="直接连接符 290"/>
            <p:cNvCxnSpPr/>
            <p:nvPr/>
          </p:nvCxnSpPr>
          <p:spPr>
            <a:xfrm>
              <a:off x="360360" y="1800000"/>
              <a:ext cx="10801440" cy="360"/>
            </a:xfrm>
            <a:prstGeom prst="straightConnector1">
              <a:avLst/>
            </a:prstGeom>
            <a:ln w="3175">
              <a:solidFill>
                <a:srgbClr val="ffffff">
                  <a:lumMod val="85000"/>
                </a:srgbClr>
              </a:solidFill>
              <a:round/>
            </a:ln>
          </p:spPr>
        </p:cxnSp>
        <p:cxnSp>
          <p:nvCxnSpPr>
            <p:cNvPr id="707" name="直接连接符 291"/>
            <p:cNvCxnSpPr/>
            <p:nvPr/>
          </p:nvCxnSpPr>
          <p:spPr>
            <a:xfrm>
              <a:off x="360000" y="1979280"/>
              <a:ext cx="10801440" cy="360"/>
            </a:xfrm>
            <a:prstGeom prst="straightConnector1">
              <a:avLst/>
            </a:prstGeom>
            <a:ln w="3175">
              <a:solidFill>
                <a:srgbClr val="ffffff">
                  <a:lumMod val="85000"/>
                </a:srgbClr>
              </a:solidFill>
              <a:round/>
            </a:ln>
          </p:spPr>
        </p:cxnSp>
        <p:cxnSp>
          <p:nvCxnSpPr>
            <p:cNvPr id="708" name="直接连接符 292"/>
            <p:cNvCxnSpPr/>
            <p:nvPr/>
          </p:nvCxnSpPr>
          <p:spPr>
            <a:xfrm>
              <a:off x="360360" y="2334600"/>
              <a:ext cx="10801440" cy="360"/>
            </a:xfrm>
            <a:prstGeom prst="straightConnector1">
              <a:avLst/>
            </a:prstGeom>
            <a:ln w="3175">
              <a:solidFill>
                <a:srgbClr val="ffffff">
                  <a:lumMod val="85000"/>
                </a:srgbClr>
              </a:solidFill>
              <a:round/>
            </a:ln>
          </p:spPr>
        </p:cxnSp>
        <p:cxnSp>
          <p:nvCxnSpPr>
            <p:cNvPr id="709" name="直接连接符 293"/>
            <p:cNvCxnSpPr/>
            <p:nvPr/>
          </p:nvCxnSpPr>
          <p:spPr>
            <a:xfrm>
              <a:off x="360360" y="2519280"/>
              <a:ext cx="10801440" cy="360"/>
            </a:xfrm>
            <a:prstGeom prst="straightConnector1">
              <a:avLst/>
            </a:prstGeom>
            <a:ln w="3175">
              <a:solidFill>
                <a:srgbClr val="ffffff">
                  <a:lumMod val="85000"/>
                </a:srgbClr>
              </a:solidFill>
              <a:round/>
            </a:ln>
          </p:spPr>
        </p:cxnSp>
        <p:cxnSp>
          <p:nvCxnSpPr>
            <p:cNvPr id="710" name="直接连接符 294"/>
            <p:cNvCxnSpPr/>
            <p:nvPr/>
          </p:nvCxnSpPr>
          <p:spPr>
            <a:xfrm>
              <a:off x="360360" y="2879640"/>
              <a:ext cx="10801440" cy="360"/>
            </a:xfrm>
            <a:prstGeom prst="straightConnector1">
              <a:avLst/>
            </a:prstGeom>
            <a:ln w="3175">
              <a:solidFill>
                <a:srgbClr val="ffffff">
                  <a:lumMod val="85000"/>
                </a:srgbClr>
              </a:solidFill>
              <a:round/>
            </a:ln>
          </p:spPr>
        </p:cxnSp>
        <p:cxnSp>
          <p:nvCxnSpPr>
            <p:cNvPr id="711" name="直接连接符 295"/>
            <p:cNvCxnSpPr/>
            <p:nvPr/>
          </p:nvCxnSpPr>
          <p:spPr>
            <a:xfrm>
              <a:off x="360360" y="3057120"/>
              <a:ext cx="10801440" cy="360"/>
            </a:xfrm>
            <a:prstGeom prst="straightConnector1">
              <a:avLst/>
            </a:prstGeom>
            <a:ln w="3175">
              <a:solidFill>
                <a:srgbClr val="ffffff">
                  <a:lumMod val="85000"/>
                </a:srgbClr>
              </a:solidFill>
              <a:round/>
            </a:ln>
          </p:spPr>
        </p:cxnSp>
        <p:cxnSp>
          <p:nvCxnSpPr>
            <p:cNvPr id="712" name="直接连接符 296"/>
            <p:cNvCxnSpPr/>
            <p:nvPr/>
          </p:nvCxnSpPr>
          <p:spPr>
            <a:xfrm>
              <a:off x="360360" y="3417480"/>
              <a:ext cx="10801440" cy="360"/>
            </a:xfrm>
            <a:prstGeom prst="straightConnector1">
              <a:avLst/>
            </a:prstGeom>
            <a:ln w="3175">
              <a:solidFill>
                <a:srgbClr val="ffffff">
                  <a:lumMod val="85000"/>
                </a:srgbClr>
              </a:solidFill>
              <a:round/>
            </a:ln>
          </p:spPr>
        </p:cxnSp>
        <p:cxnSp>
          <p:nvCxnSpPr>
            <p:cNvPr id="713" name="直接连接符 297"/>
            <p:cNvCxnSpPr/>
            <p:nvPr/>
          </p:nvCxnSpPr>
          <p:spPr>
            <a:xfrm>
              <a:off x="360360" y="3600000"/>
              <a:ext cx="10801440" cy="360"/>
            </a:xfrm>
            <a:prstGeom prst="straightConnector1">
              <a:avLst/>
            </a:prstGeom>
            <a:ln w="3175">
              <a:solidFill>
                <a:srgbClr val="ffffff">
                  <a:lumMod val="85000"/>
                </a:srgbClr>
              </a:solidFill>
              <a:round/>
            </a:ln>
          </p:spPr>
        </p:cxnSp>
        <p:cxnSp>
          <p:nvCxnSpPr>
            <p:cNvPr id="714" name="直接连接符 298"/>
            <p:cNvCxnSpPr/>
            <p:nvPr/>
          </p:nvCxnSpPr>
          <p:spPr>
            <a:xfrm>
              <a:off x="360360" y="3960720"/>
              <a:ext cx="10801440" cy="360"/>
            </a:xfrm>
            <a:prstGeom prst="straightConnector1">
              <a:avLst/>
            </a:prstGeom>
            <a:ln w="3175">
              <a:solidFill>
                <a:srgbClr val="ffffff">
                  <a:lumMod val="85000"/>
                </a:srgbClr>
              </a:solidFill>
              <a:round/>
            </a:ln>
          </p:spPr>
        </p:cxnSp>
        <p:cxnSp>
          <p:nvCxnSpPr>
            <p:cNvPr id="715" name="直接连接符 299"/>
            <p:cNvCxnSpPr/>
            <p:nvPr/>
          </p:nvCxnSpPr>
          <p:spPr>
            <a:xfrm>
              <a:off x="360360" y="4140000"/>
              <a:ext cx="10801440" cy="360"/>
            </a:xfrm>
            <a:prstGeom prst="straightConnector1">
              <a:avLst/>
            </a:prstGeom>
            <a:ln w="3175">
              <a:solidFill>
                <a:srgbClr val="ffffff">
                  <a:lumMod val="85000"/>
                </a:srgbClr>
              </a:solidFill>
              <a:round/>
            </a:ln>
          </p:spPr>
        </p:cxnSp>
        <p:cxnSp>
          <p:nvCxnSpPr>
            <p:cNvPr id="716" name="直接连接符 300"/>
            <p:cNvCxnSpPr/>
            <p:nvPr/>
          </p:nvCxnSpPr>
          <p:spPr>
            <a:xfrm>
              <a:off x="360360" y="4497840"/>
              <a:ext cx="10801440" cy="360"/>
            </a:xfrm>
            <a:prstGeom prst="straightConnector1">
              <a:avLst/>
            </a:prstGeom>
            <a:ln w="3175">
              <a:solidFill>
                <a:srgbClr val="ffffff">
                  <a:lumMod val="85000"/>
                </a:srgbClr>
              </a:solidFill>
              <a:round/>
            </a:ln>
          </p:spPr>
        </p:cxnSp>
        <p:cxnSp>
          <p:nvCxnSpPr>
            <p:cNvPr id="717" name="直接连接符 301"/>
            <p:cNvCxnSpPr/>
            <p:nvPr/>
          </p:nvCxnSpPr>
          <p:spPr>
            <a:xfrm>
              <a:off x="360360" y="4679640"/>
              <a:ext cx="10801440" cy="360"/>
            </a:xfrm>
            <a:prstGeom prst="straightConnector1">
              <a:avLst/>
            </a:prstGeom>
            <a:ln w="3175">
              <a:solidFill>
                <a:srgbClr val="ffffff">
                  <a:lumMod val="85000"/>
                </a:srgbClr>
              </a:solidFill>
              <a:round/>
            </a:ln>
          </p:spPr>
        </p:cxnSp>
        <p:cxnSp>
          <p:nvCxnSpPr>
            <p:cNvPr id="718" name="直接连接符 302"/>
            <p:cNvCxnSpPr/>
            <p:nvPr/>
          </p:nvCxnSpPr>
          <p:spPr>
            <a:xfrm>
              <a:off x="360360" y="5041800"/>
              <a:ext cx="10801440" cy="360"/>
            </a:xfrm>
            <a:prstGeom prst="straightConnector1">
              <a:avLst/>
            </a:prstGeom>
            <a:ln w="3175">
              <a:solidFill>
                <a:srgbClr val="ffffff">
                  <a:lumMod val="85000"/>
                </a:srgbClr>
              </a:solidFill>
              <a:round/>
            </a:ln>
          </p:spPr>
        </p:cxnSp>
        <p:cxnSp>
          <p:nvCxnSpPr>
            <p:cNvPr id="719" name="直接连接符 303"/>
            <p:cNvCxnSpPr/>
            <p:nvPr/>
          </p:nvCxnSpPr>
          <p:spPr>
            <a:xfrm>
              <a:off x="360360" y="5580000"/>
              <a:ext cx="10801440" cy="360"/>
            </a:xfrm>
            <a:prstGeom prst="straightConnector1">
              <a:avLst/>
            </a:prstGeom>
            <a:ln w="3175">
              <a:solidFill>
                <a:srgbClr val="ffffff">
                  <a:lumMod val="85000"/>
                </a:srgbClr>
              </a:solidFill>
              <a:round/>
            </a:ln>
          </p:spPr>
        </p:cxnSp>
        <p:cxnSp>
          <p:nvCxnSpPr>
            <p:cNvPr id="720" name="直接连接符 304"/>
            <p:cNvCxnSpPr/>
            <p:nvPr/>
          </p:nvCxnSpPr>
          <p:spPr>
            <a:xfrm>
              <a:off x="360360" y="5219640"/>
              <a:ext cx="10801440" cy="360"/>
            </a:xfrm>
            <a:prstGeom prst="straightConnector1">
              <a:avLst/>
            </a:prstGeom>
            <a:ln w="3175">
              <a:solidFill>
                <a:srgbClr val="ffffff">
                  <a:lumMod val="85000"/>
                </a:srgbClr>
              </a:solidFill>
              <a:round/>
            </a:ln>
          </p:spPr>
        </p:cxnSp>
        <p:cxnSp>
          <p:nvCxnSpPr>
            <p:cNvPr id="721" name="直接连接符 305"/>
            <p:cNvCxnSpPr/>
            <p:nvPr/>
          </p:nvCxnSpPr>
          <p:spPr>
            <a:xfrm>
              <a:off x="360360" y="5760720"/>
              <a:ext cx="10801440" cy="360"/>
            </a:xfrm>
            <a:prstGeom prst="straightConnector1">
              <a:avLst/>
            </a:prstGeom>
            <a:ln w="3175">
              <a:solidFill>
                <a:srgbClr val="ffffff">
                  <a:lumMod val="85000"/>
                </a:srgbClr>
              </a:solidFill>
              <a:round/>
            </a:ln>
          </p:spPr>
        </p:cxnSp>
        <p:cxnSp>
          <p:nvCxnSpPr>
            <p:cNvPr id="722" name="直接连接符 306"/>
            <p:cNvCxnSpPr/>
            <p:nvPr/>
          </p:nvCxnSpPr>
          <p:spPr>
            <a:xfrm>
              <a:off x="360360" y="6119640"/>
              <a:ext cx="10801440" cy="360"/>
            </a:xfrm>
            <a:prstGeom prst="straightConnector1">
              <a:avLst/>
            </a:prstGeom>
            <a:ln w="3175">
              <a:solidFill>
                <a:srgbClr val="ffffff">
                  <a:lumMod val="85000"/>
                </a:srgbClr>
              </a:solidFill>
              <a:round/>
            </a:ln>
          </p:spPr>
        </p:cxnSp>
        <p:cxnSp>
          <p:nvCxnSpPr>
            <p:cNvPr id="723" name="直接连接符 307"/>
            <p:cNvCxnSpPr/>
            <p:nvPr/>
          </p:nvCxnSpPr>
          <p:spPr>
            <a:xfrm>
              <a:off x="360360" y="1439640"/>
              <a:ext cx="360" cy="4680360"/>
            </a:xfrm>
            <a:prstGeom prst="straightConnector1">
              <a:avLst/>
            </a:prstGeom>
            <a:ln w="3175">
              <a:solidFill>
                <a:srgbClr val="ffffff">
                  <a:lumMod val="85000"/>
                </a:srgbClr>
              </a:solidFill>
              <a:round/>
            </a:ln>
          </p:spPr>
        </p:cxnSp>
        <p:cxnSp>
          <p:nvCxnSpPr>
            <p:cNvPr id="724" name="直接连接符 308"/>
            <p:cNvCxnSpPr/>
            <p:nvPr/>
          </p:nvCxnSpPr>
          <p:spPr>
            <a:xfrm>
              <a:off x="11161440" y="1439640"/>
              <a:ext cx="360" cy="4680360"/>
            </a:xfrm>
            <a:prstGeom prst="straightConnector1">
              <a:avLst/>
            </a:prstGeom>
            <a:ln w="3175">
              <a:solidFill>
                <a:srgbClr val="ffffff">
                  <a:lumMod val="85000"/>
                </a:srgbClr>
              </a:solidFill>
              <a:round/>
            </a:ln>
          </p:spPr>
        </p:cxnSp>
        <p:cxnSp>
          <p:nvCxnSpPr>
            <p:cNvPr id="725" name="直接连接符 309"/>
            <p:cNvCxnSpPr/>
            <p:nvPr/>
          </p:nvCxnSpPr>
          <p:spPr>
            <a:xfrm>
              <a:off x="720720" y="1439640"/>
              <a:ext cx="360" cy="360720"/>
            </a:xfrm>
            <a:prstGeom prst="straightConnector1">
              <a:avLst/>
            </a:prstGeom>
            <a:ln w="3175">
              <a:solidFill>
                <a:srgbClr val="ffffff">
                  <a:lumMod val="85000"/>
                </a:srgbClr>
              </a:solidFill>
              <a:round/>
            </a:ln>
          </p:spPr>
        </p:cxnSp>
        <p:cxnSp>
          <p:nvCxnSpPr>
            <p:cNvPr id="726" name="直接连接符 310"/>
            <p:cNvCxnSpPr/>
            <p:nvPr/>
          </p:nvCxnSpPr>
          <p:spPr>
            <a:xfrm>
              <a:off x="1080000" y="1439640"/>
              <a:ext cx="360" cy="360720"/>
            </a:xfrm>
            <a:prstGeom prst="straightConnector1">
              <a:avLst/>
            </a:prstGeom>
            <a:ln w="3175">
              <a:solidFill>
                <a:srgbClr val="ffffff">
                  <a:lumMod val="85000"/>
                </a:srgbClr>
              </a:solidFill>
              <a:round/>
            </a:ln>
          </p:spPr>
        </p:cxnSp>
        <p:cxnSp>
          <p:nvCxnSpPr>
            <p:cNvPr id="727" name="直接连接符 311"/>
            <p:cNvCxnSpPr/>
            <p:nvPr/>
          </p:nvCxnSpPr>
          <p:spPr>
            <a:xfrm>
              <a:off x="1439640" y="1439640"/>
              <a:ext cx="360" cy="360720"/>
            </a:xfrm>
            <a:prstGeom prst="straightConnector1">
              <a:avLst/>
            </a:prstGeom>
            <a:ln w="3175">
              <a:solidFill>
                <a:srgbClr val="ffffff">
                  <a:lumMod val="85000"/>
                </a:srgbClr>
              </a:solidFill>
              <a:round/>
            </a:ln>
          </p:spPr>
        </p:cxnSp>
        <p:cxnSp>
          <p:nvCxnSpPr>
            <p:cNvPr id="728" name="直接连接符 312"/>
            <p:cNvCxnSpPr/>
            <p:nvPr/>
          </p:nvCxnSpPr>
          <p:spPr>
            <a:xfrm>
              <a:off x="1798920" y="1439640"/>
              <a:ext cx="360" cy="360720"/>
            </a:xfrm>
            <a:prstGeom prst="straightConnector1">
              <a:avLst/>
            </a:prstGeom>
            <a:ln w="3175">
              <a:solidFill>
                <a:srgbClr val="ffffff">
                  <a:lumMod val="85000"/>
                </a:srgbClr>
              </a:solidFill>
              <a:round/>
            </a:ln>
          </p:spPr>
        </p:cxnSp>
        <p:cxnSp>
          <p:nvCxnSpPr>
            <p:cNvPr id="729" name="直接连接符 313"/>
            <p:cNvCxnSpPr/>
            <p:nvPr/>
          </p:nvCxnSpPr>
          <p:spPr>
            <a:xfrm>
              <a:off x="2158560" y="1439640"/>
              <a:ext cx="360" cy="360720"/>
            </a:xfrm>
            <a:prstGeom prst="straightConnector1">
              <a:avLst/>
            </a:prstGeom>
            <a:ln w="3175">
              <a:solidFill>
                <a:srgbClr val="ffffff">
                  <a:lumMod val="85000"/>
                </a:srgbClr>
              </a:solidFill>
              <a:round/>
            </a:ln>
          </p:spPr>
        </p:cxnSp>
        <p:cxnSp>
          <p:nvCxnSpPr>
            <p:cNvPr id="730" name="直接连接符 314"/>
            <p:cNvCxnSpPr/>
            <p:nvPr/>
          </p:nvCxnSpPr>
          <p:spPr>
            <a:xfrm>
              <a:off x="2518200" y="1439640"/>
              <a:ext cx="360" cy="360720"/>
            </a:xfrm>
            <a:prstGeom prst="straightConnector1">
              <a:avLst/>
            </a:prstGeom>
            <a:ln w="3175">
              <a:solidFill>
                <a:srgbClr val="ffffff">
                  <a:lumMod val="85000"/>
                </a:srgbClr>
              </a:solidFill>
              <a:round/>
            </a:ln>
          </p:spPr>
        </p:cxnSp>
        <p:cxnSp>
          <p:nvCxnSpPr>
            <p:cNvPr id="731" name="直接连接符 315"/>
            <p:cNvCxnSpPr/>
            <p:nvPr/>
          </p:nvCxnSpPr>
          <p:spPr>
            <a:xfrm>
              <a:off x="2877480" y="1439640"/>
              <a:ext cx="360" cy="360720"/>
            </a:xfrm>
            <a:prstGeom prst="straightConnector1">
              <a:avLst/>
            </a:prstGeom>
            <a:ln w="3175">
              <a:solidFill>
                <a:srgbClr val="ffffff">
                  <a:lumMod val="85000"/>
                </a:srgbClr>
              </a:solidFill>
              <a:round/>
            </a:ln>
          </p:spPr>
        </p:cxnSp>
        <p:cxnSp>
          <p:nvCxnSpPr>
            <p:cNvPr id="732" name="直接连接符 316"/>
            <p:cNvCxnSpPr/>
            <p:nvPr/>
          </p:nvCxnSpPr>
          <p:spPr>
            <a:xfrm>
              <a:off x="3237120" y="1439640"/>
              <a:ext cx="360" cy="360720"/>
            </a:xfrm>
            <a:prstGeom prst="straightConnector1">
              <a:avLst/>
            </a:prstGeom>
            <a:ln w="3175">
              <a:solidFill>
                <a:srgbClr val="ffffff">
                  <a:lumMod val="85000"/>
                </a:srgbClr>
              </a:solidFill>
              <a:round/>
            </a:ln>
          </p:spPr>
        </p:cxnSp>
        <p:cxnSp>
          <p:nvCxnSpPr>
            <p:cNvPr id="733" name="直接连接符 317"/>
            <p:cNvCxnSpPr/>
            <p:nvPr/>
          </p:nvCxnSpPr>
          <p:spPr>
            <a:xfrm>
              <a:off x="3596760" y="1439640"/>
              <a:ext cx="360" cy="360720"/>
            </a:xfrm>
            <a:prstGeom prst="straightConnector1">
              <a:avLst/>
            </a:prstGeom>
            <a:ln w="3175">
              <a:solidFill>
                <a:srgbClr val="ffffff">
                  <a:lumMod val="85000"/>
                </a:srgbClr>
              </a:solidFill>
              <a:round/>
            </a:ln>
          </p:spPr>
        </p:cxnSp>
        <p:cxnSp>
          <p:nvCxnSpPr>
            <p:cNvPr id="734" name="直接连接符 318"/>
            <p:cNvCxnSpPr/>
            <p:nvPr/>
          </p:nvCxnSpPr>
          <p:spPr>
            <a:xfrm>
              <a:off x="3956040" y="1439640"/>
              <a:ext cx="360" cy="360720"/>
            </a:xfrm>
            <a:prstGeom prst="straightConnector1">
              <a:avLst/>
            </a:prstGeom>
            <a:ln w="3175">
              <a:solidFill>
                <a:srgbClr val="ffffff">
                  <a:lumMod val="85000"/>
                </a:srgbClr>
              </a:solidFill>
              <a:round/>
            </a:ln>
          </p:spPr>
        </p:cxnSp>
        <p:cxnSp>
          <p:nvCxnSpPr>
            <p:cNvPr id="735" name="直接连接符 319"/>
            <p:cNvCxnSpPr/>
            <p:nvPr/>
          </p:nvCxnSpPr>
          <p:spPr>
            <a:xfrm>
              <a:off x="4315680" y="1439640"/>
              <a:ext cx="360" cy="360720"/>
            </a:xfrm>
            <a:prstGeom prst="straightConnector1">
              <a:avLst/>
            </a:prstGeom>
            <a:ln w="3175">
              <a:solidFill>
                <a:srgbClr val="ffffff">
                  <a:lumMod val="85000"/>
                </a:srgbClr>
              </a:solidFill>
              <a:round/>
            </a:ln>
          </p:spPr>
        </p:cxnSp>
        <p:cxnSp>
          <p:nvCxnSpPr>
            <p:cNvPr id="736" name="直接连接符 320"/>
            <p:cNvCxnSpPr/>
            <p:nvPr/>
          </p:nvCxnSpPr>
          <p:spPr>
            <a:xfrm>
              <a:off x="4675320" y="1439640"/>
              <a:ext cx="360" cy="360720"/>
            </a:xfrm>
            <a:prstGeom prst="straightConnector1">
              <a:avLst/>
            </a:prstGeom>
            <a:ln w="3175">
              <a:solidFill>
                <a:srgbClr val="ffffff">
                  <a:lumMod val="85000"/>
                </a:srgbClr>
              </a:solidFill>
              <a:round/>
            </a:ln>
          </p:spPr>
        </p:cxnSp>
        <p:cxnSp>
          <p:nvCxnSpPr>
            <p:cNvPr id="737" name="直接连接符 321"/>
            <p:cNvCxnSpPr/>
            <p:nvPr/>
          </p:nvCxnSpPr>
          <p:spPr>
            <a:xfrm>
              <a:off x="5034600" y="1439640"/>
              <a:ext cx="360" cy="360720"/>
            </a:xfrm>
            <a:prstGeom prst="straightConnector1">
              <a:avLst/>
            </a:prstGeom>
            <a:ln w="3175">
              <a:solidFill>
                <a:srgbClr val="ffffff">
                  <a:lumMod val="85000"/>
                </a:srgbClr>
              </a:solidFill>
              <a:round/>
            </a:ln>
          </p:spPr>
        </p:cxnSp>
        <p:cxnSp>
          <p:nvCxnSpPr>
            <p:cNvPr id="738" name="直接连接符 322"/>
            <p:cNvCxnSpPr/>
            <p:nvPr/>
          </p:nvCxnSpPr>
          <p:spPr>
            <a:xfrm>
              <a:off x="5394240" y="1439640"/>
              <a:ext cx="360" cy="360720"/>
            </a:xfrm>
            <a:prstGeom prst="straightConnector1">
              <a:avLst/>
            </a:prstGeom>
            <a:ln w="3175">
              <a:solidFill>
                <a:srgbClr val="ffffff">
                  <a:lumMod val="85000"/>
                </a:srgbClr>
              </a:solidFill>
              <a:round/>
            </a:ln>
          </p:spPr>
        </p:cxnSp>
        <p:cxnSp>
          <p:nvCxnSpPr>
            <p:cNvPr id="739" name="直接连接符 323"/>
            <p:cNvCxnSpPr/>
            <p:nvPr/>
          </p:nvCxnSpPr>
          <p:spPr>
            <a:xfrm>
              <a:off x="5753880" y="1439640"/>
              <a:ext cx="360" cy="360720"/>
            </a:xfrm>
            <a:prstGeom prst="straightConnector1">
              <a:avLst/>
            </a:prstGeom>
            <a:ln w="3175">
              <a:solidFill>
                <a:srgbClr val="ffffff">
                  <a:lumMod val="85000"/>
                </a:srgbClr>
              </a:solidFill>
              <a:round/>
            </a:ln>
          </p:spPr>
        </p:cxnSp>
        <p:cxnSp>
          <p:nvCxnSpPr>
            <p:cNvPr id="740" name="直接连接符 324"/>
            <p:cNvCxnSpPr/>
            <p:nvPr/>
          </p:nvCxnSpPr>
          <p:spPr>
            <a:xfrm>
              <a:off x="6113160" y="1439640"/>
              <a:ext cx="360" cy="360720"/>
            </a:xfrm>
            <a:prstGeom prst="straightConnector1">
              <a:avLst/>
            </a:prstGeom>
            <a:ln w="3175">
              <a:solidFill>
                <a:srgbClr val="ffffff">
                  <a:lumMod val="85000"/>
                </a:srgbClr>
              </a:solidFill>
              <a:round/>
            </a:ln>
          </p:spPr>
        </p:cxnSp>
        <p:cxnSp>
          <p:nvCxnSpPr>
            <p:cNvPr id="741" name="直接连接符 325"/>
            <p:cNvCxnSpPr/>
            <p:nvPr/>
          </p:nvCxnSpPr>
          <p:spPr>
            <a:xfrm>
              <a:off x="6472800" y="1439640"/>
              <a:ext cx="360" cy="360720"/>
            </a:xfrm>
            <a:prstGeom prst="straightConnector1">
              <a:avLst/>
            </a:prstGeom>
            <a:ln w="3175">
              <a:solidFill>
                <a:srgbClr val="ffffff">
                  <a:lumMod val="85000"/>
                </a:srgbClr>
              </a:solidFill>
              <a:round/>
            </a:ln>
          </p:spPr>
        </p:cxnSp>
        <p:cxnSp>
          <p:nvCxnSpPr>
            <p:cNvPr id="742" name="直接连接符 326"/>
            <p:cNvCxnSpPr/>
            <p:nvPr/>
          </p:nvCxnSpPr>
          <p:spPr>
            <a:xfrm>
              <a:off x="6832080" y="1439640"/>
              <a:ext cx="360" cy="360720"/>
            </a:xfrm>
            <a:prstGeom prst="straightConnector1">
              <a:avLst/>
            </a:prstGeom>
            <a:ln w="3175">
              <a:solidFill>
                <a:srgbClr val="ffffff">
                  <a:lumMod val="85000"/>
                </a:srgbClr>
              </a:solidFill>
              <a:round/>
            </a:ln>
          </p:spPr>
        </p:cxnSp>
        <p:cxnSp>
          <p:nvCxnSpPr>
            <p:cNvPr id="743" name="直接连接符 327"/>
            <p:cNvCxnSpPr/>
            <p:nvPr/>
          </p:nvCxnSpPr>
          <p:spPr>
            <a:xfrm>
              <a:off x="7191720" y="1439640"/>
              <a:ext cx="360" cy="360720"/>
            </a:xfrm>
            <a:prstGeom prst="straightConnector1">
              <a:avLst/>
            </a:prstGeom>
            <a:ln w="3175">
              <a:solidFill>
                <a:srgbClr val="ffffff">
                  <a:lumMod val="85000"/>
                </a:srgbClr>
              </a:solidFill>
              <a:round/>
            </a:ln>
          </p:spPr>
        </p:cxnSp>
        <p:cxnSp>
          <p:nvCxnSpPr>
            <p:cNvPr id="744" name="直接连接符 328"/>
            <p:cNvCxnSpPr/>
            <p:nvPr/>
          </p:nvCxnSpPr>
          <p:spPr>
            <a:xfrm>
              <a:off x="7551360" y="1439640"/>
              <a:ext cx="360" cy="360720"/>
            </a:xfrm>
            <a:prstGeom prst="straightConnector1">
              <a:avLst/>
            </a:prstGeom>
            <a:ln w="3175">
              <a:solidFill>
                <a:srgbClr val="ffffff">
                  <a:lumMod val="85000"/>
                </a:srgbClr>
              </a:solidFill>
              <a:round/>
            </a:ln>
          </p:spPr>
        </p:cxnSp>
        <p:cxnSp>
          <p:nvCxnSpPr>
            <p:cNvPr id="745" name="直接连接符 329"/>
            <p:cNvCxnSpPr/>
            <p:nvPr/>
          </p:nvCxnSpPr>
          <p:spPr>
            <a:xfrm>
              <a:off x="7910640" y="1439640"/>
              <a:ext cx="360" cy="360720"/>
            </a:xfrm>
            <a:prstGeom prst="straightConnector1">
              <a:avLst/>
            </a:prstGeom>
            <a:ln w="3175">
              <a:solidFill>
                <a:srgbClr val="ffffff">
                  <a:lumMod val="85000"/>
                </a:srgbClr>
              </a:solidFill>
              <a:round/>
            </a:ln>
          </p:spPr>
        </p:cxnSp>
        <p:cxnSp>
          <p:nvCxnSpPr>
            <p:cNvPr id="746" name="直接连接符 330"/>
            <p:cNvCxnSpPr/>
            <p:nvPr/>
          </p:nvCxnSpPr>
          <p:spPr>
            <a:xfrm>
              <a:off x="8270280" y="1439640"/>
              <a:ext cx="360" cy="360720"/>
            </a:xfrm>
            <a:prstGeom prst="straightConnector1">
              <a:avLst/>
            </a:prstGeom>
            <a:ln w="3175">
              <a:solidFill>
                <a:srgbClr val="ffffff">
                  <a:lumMod val="85000"/>
                </a:srgbClr>
              </a:solidFill>
              <a:round/>
            </a:ln>
          </p:spPr>
        </p:cxnSp>
        <p:cxnSp>
          <p:nvCxnSpPr>
            <p:cNvPr id="747" name="直接连接符 331"/>
            <p:cNvCxnSpPr/>
            <p:nvPr/>
          </p:nvCxnSpPr>
          <p:spPr>
            <a:xfrm>
              <a:off x="8629920" y="1439640"/>
              <a:ext cx="360" cy="360720"/>
            </a:xfrm>
            <a:prstGeom prst="straightConnector1">
              <a:avLst/>
            </a:prstGeom>
            <a:ln w="3175">
              <a:solidFill>
                <a:srgbClr val="ffffff">
                  <a:lumMod val="85000"/>
                </a:srgbClr>
              </a:solidFill>
              <a:round/>
            </a:ln>
          </p:spPr>
        </p:cxnSp>
        <p:cxnSp>
          <p:nvCxnSpPr>
            <p:cNvPr id="748" name="直接连接符 332"/>
            <p:cNvCxnSpPr/>
            <p:nvPr/>
          </p:nvCxnSpPr>
          <p:spPr>
            <a:xfrm>
              <a:off x="8989200" y="1439640"/>
              <a:ext cx="360" cy="360720"/>
            </a:xfrm>
            <a:prstGeom prst="straightConnector1">
              <a:avLst/>
            </a:prstGeom>
            <a:ln w="3175">
              <a:solidFill>
                <a:srgbClr val="ffffff">
                  <a:lumMod val="85000"/>
                </a:srgbClr>
              </a:solidFill>
              <a:round/>
            </a:ln>
          </p:spPr>
        </p:cxnSp>
        <p:cxnSp>
          <p:nvCxnSpPr>
            <p:cNvPr id="749" name="直接连接符 333"/>
            <p:cNvCxnSpPr/>
            <p:nvPr/>
          </p:nvCxnSpPr>
          <p:spPr>
            <a:xfrm>
              <a:off x="9348840" y="1439640"/>
              <a:ext cx="360" cy="360720"/>
            </a:xfrm>
            <a:prstGeom prst="straightConnector1">
              <a:avLst/>
            </a:prstGeom>
            <a:ln w="3175">
              <a:solidFill>
                <a:srgbClr val="ffffff">
                  <a:lumMod val="85000"/>
                </a:srgbClr>
              </a:solidFill>
              <a:round/>
            </a:ln>
          </p:spPr>
        </p:cxnSp>
        <p:cxnSp>
          <p:nvCxnSpPr>
            <p:cNvPr id="750" name="直接连接符 334"/>
            <p:cNvCxnSpPr/>
            <p:nvPr/>
          </p:nvCxnSpPr>
          <p:spPr>
            <a:xfrm>
              <a:off x="9708480" y="1439640"/>
              <a:ext cx="360" cy="360720"/>
            </a:xfrm>
            <a:prstGeom prst="straightConnector1">
              <a:avLst/>
            </a:prstGeom>
            <a:ln w="3175">
              <a:solidFill>
                <a:srgbClr val="ffffff">
                  <a:lumMod val="85000"/>
                </a:srgbClr>
              </a:solidFill>
              <a:round/>
            </a:ln>
          </p:spPr>
        </p:cxnSp>
        <p:cxnSp>
          <p:nvCxnSpPr>
            <p:cNvPr id="751" name="直接连接符 335"/>
            <p:cNvCxnSpPr/>
            <p:nvPr/>
          </p:nvCxnSpPr>
          <p:spPr>
            <a:xfrm>
              <a:off x="10067760" y="1439640"/>
              <a:ext cx="360" cy="360720"/>
            </a:xfrm>
            <a:prstGeom prst="straightConnector1">
              <a:avLst/>
            </a:prstGeom>
            <a:ln w="3175">
              <a:solidFill>
                <a:srgbClr val="ffffff">
                  <a:lumMod val="85000"/>
                </a:srgbClr>
              </a:solidFill>
              <a:round/>
            </a:ln>
          </p:spPr>
        </p:cxnSp>
        <p:cxnSp>
          <p:nvCxnSpPr>
            <p:cNvPr id="752" name="直接连接符 336"/>
            <p:cNvCxnSpPr/>
            <p:nvPr/>
          </p:nvCxnSpPr>
          <p:spPr>
            <a:xfrm>
              <a:off x="10427400" y="1439640"/>
              <a:ext cx="360" cy="360720"/>
            </a:xfrm>
            <a:prstGeom prst="straightConnector1">
              <a:avLst/>
            </a:prstGeom>
            <a:ln w="3175">
              <a:solidFill>
                <a:srgbClr val="ffffff">
                  <a:lumMod val="85000"/>
                </a:srgbClr>
              </a:solidFill>
              <a:round/>
            </a:ln>
          </p:spPr>
        </p:cxnSp>
        <p:cxnSp>
          <p:nvCxnSpPr>
            <p:cNvPr id="753" name="直接连接符 337"/>
            <p:cNvCxnSpPr/>
            <p:nvPr/>
          </p:nvCxnSpPr>
          <p:spPr>
            <a:xfrm>
              <a:off x="10787040" y="1439640"/>
              <a:ext cx="360" cy="360720"/>
            </a:xfrm>
            <a:prstGeom prst="straightConnector1">
              <a:avLst/>
            </a:prstGeom>
            <a:ln w="3175">
              <a:solidFill>
                <a:srgbClr val="ffffff">
                  <a:lumMod val="85000"/>
                </a:srgbClr>
              </a:solidFill>
              <a:round/>
            </a:ln>
          </p:spPr>
        </p:cxnSp>
        <p:cxnSp>
          <p:nvCxnSpPr>
            <p:cNvPr id="754" name="直接连接符 338"/>
            <p:cNvCxnSpPr/>
            <p:nvPr/>
          </p:nvCxnSpPr>
          <p:spPr>
            <a:xfrm>
              <a:off x="720720" y="1979640"/>
              <a:ext cx="360" cy="360720"/>
            </a:xfrm>
            <a:prstGeom prst="straightConnector1">
              <a:avLst/>
            </a:prstGeom>
            <a:ln w="3175">
              <a:solidFill>
                <a:srgbClr val="ffffff">
                  <a:lumMod val="85000"/>
                </a:srgbClr>
              </a:solidFill>
              <a:round/>
            </a:ln>
          </p:spPr>
        </p:cxnSp>
        <p:cxnSp>
          <p:nvCxnSpPr>
            <p:cNvPr id="755" name="直接连接符 339"/>
            <p:cNvCxnSpPr/>
            <p:nvPr/>
          </p:nvCxnSpPr>
          <p:spPr>
            <a:xfrm>
              <a:off x="1080000" y="1979280"/>
              <a:ext cx="360" cy="360720"/>
            </a:xfrm>
            <a:prstGeom prst="straightConnector1">
              <a:avLst/>
            </a:prstGeom>
            <a:ln w="3175">
              <a:solidFill>
                <a:srgbClr val="ffffff">
                  <a:lumMod val="85000"/>
                </a:srgbClr>
              </a:solidFill>
              <a:round/>
            </a:ln>
          </p:spPr>
        </p:cxnSp>
        <p:cxnSp>
          <p:nvCxnSpPr>
            <p:cNvPr id="756" name="直接连接符 340"/>
            <p:cNvCxnSpPr/>
            <p:nvPr/>
          </p:nvCxnSpPr>
          <p:spPr>
            <a:xfrm>
              <a:off x="1439640" y="1979280"/>
              <a:ext cx="360" cy="360720"/>
            </a:xfrm>
            <a:prstGeom prst="straightConnector1">
              <a:avLst/>
            </a:prstGeom>
            <a:ln w="3175">
              <a:solidFill>
                <a:srgbClr val="ffffff">
                  <a:lumMod val="85000"/>
                </a:srgbClr>
              </a:solidFill>
              <a:round/>
            </a:ln>
          </p:spPr>
        </p:cxnSp>
        <p:cxnSp>
          <p:nvCxnSpPr>
            <p:cNvPr id="757" name="直接连接符 341"/>
            <p:cNvCxnSpPr/>
            <p:nvPr/>
          </p:nvCxnSpPr>
          <p:spPr>
            <a:xfrm>
              <a:off x="1798920" y="1979280"/>
              <a:ext cx="360" cy="360720"/>
            </a:xfrm>
            <a:prstGeom prst="straightConnector1">
              <a:avLst/>
            </a:prstGeom>
            <a:ln w="3175">
              <a:solidFill>
                <a:srgbClr val="ffffff">
                  <a:lumMod val="85000"/>
                </a:srgbClr>
              </a:solidFill>
              <a:round/>
            </a:ln>
          </p:spPr>
        </p:cxnSp>
        <p:cxnSp>
          <p:nvCxnSpPr>
            <p:cNvPr id="758" name="直接连接符 342"/>
            <p:cNvCxnSpPr/>
            <p:nvPr/>
          </p:nvCxnSpPr>
          <p:spPr>
            <a:xfrm>
              <a:off x="2158560" y="1979280"/>
              <a:ext cx="360" cy="360720"/>
            </a:xfrm>
            <a:prstGeom prst="straightConnector1">
              <a:avLst/>
            </a:prstGeom>
            <a:ln w="3175">
              <a:solidFill>
                <a:srgbClr val="ffffff">
                  <a:lumMod val="85000"/>
                </a:srgbClr>
              </a:solidFill>
              <a:round/>
            </a:ln>
          </p:spPr>
        </p:cxnSp>
        <p:cxnSp>
          <p:nvCxnSpPr>
            <p:cNvPr id="759" name="直接连接符 343"/>
            <p:cNvCxnSpPr/>
            <p:nvPr/>
          </p:nvCxnSpPr>
          <p:spPr>
            <a:xfrm>
              <a:off x="2518200" y="1979280"/>
              <a:ext cx="360" cy="360720"/>
            </a:xfrm>
            <a:prstGeom prst="straightConnector1">
              <a:avLst/>
            </a:prstGeom>
            <a:ln w="3175">
              <a:solidFill>
                <a:srgbClr val="ffffff">
                  <a:lumMod val="85000"/>
                </a:srgbClr>
              </a:solidFill>
              <a:round/>
            </a:ln>
          </p:spPr>
        </p:cxnSp>
        <p:cxnSp>
          <p:nvCxnSpPr>
            <p:cNvPr id="760" name="直接连接符 344"/>
            <p:cNvCxnSpPr/>
            <p:nvPr/>
          </p:nvCxnSpPr>
          <p:spPr>
            <a:xfrm>
              <a:off x="2877480" y="1979280"/>
              <a:ext cx="360" cy="360720"/>
            </a:xfrm>
            <a:prstGeom prst="straightConnector1">
              <a:avLst/>
            </a:prstGeom>
            <a:ln w="3175">
              <a:solidFill>
                <a:srgbClr val="ffffff">
                  <a:lumMod val="85000"/>
                </a:srgbClr>
              </a:solidFill>
              <a:round/>
            </a:ln>
          </p:spPr>
        </p:cxnSp>
        <p:cxnSp>
          <p:nvCxnSpPr>
            <p:cNvPr id="761" name="直接连接符 345"/>
            <p:cNvCxnSpPr/>
            <p:nvPr/>
          </p:nvCxnSpPr>
          <p:spPr>
            <a:xfrm>
              <a:off x="3237120" y="1979280"/>
              <a:ext cx="360" cy="360720"/>
            </a:xfrm>
            <a:prstGeom prst="straightConnector1">
              <a:avLst/>
            </a:prstGeom>
            <a:ln w="3175">
              <a:solidFill>
                <a:srgbClr val="ffffff">
                  <a:lumMod val="85000"/>
                </a:srgbClr>
              </a:solidFill>
              <a:round/>
            </a:ln>
          </p:spPr>
        </p:cxnSp>
        <p:cxnSp>
          <p:nvCxnSpPr>
            <p:cNvPr id="762" name="直接连接符 346"/>
            <p:cNvCxnSpPr/>
            <p:nvPr/>
          </p:nvCxnSpPr>
          <p:spPr>
            <a:xfrm>
              <a:off x="3596760" y="1979280"/>
              <a:ext cx="360" cy="360720"/>
            </a:xfrm>
            <a:prstGeom prst="straightConnector1">
              <a:avLst/>
            </a:prstGeom>
            <a:ln w="3175">
              <a:solidFill>
                <a:srgbClr val="ffffff">
                  <a:lumMod val="85000"/>
                </a:srgbClr>
              </a:solidFill>
              <a:round/>
            </a:ln>
          </p:spPr>
        </p:cxnSp>
        <p:cxnSp>
          <p:nvCxnSpPr>
            <p:cNvPr id="763" name="直接连接符 347"/>
            <p:cNvCxnSpPr/>
            <p:nvPr/>
          </p:nvCxnSpPr>
          <p:spPr>
            <a:xfrm>
              <a:off x="3956040" y="1979280"/>
              <a:ext cx="360" cy="360720"/>
            </a:xfrm>
            <a:prstGeom prst="straightConnector1">
              <a:avLst/>
            </a:prstGeom>
            <a:ln w="3175">
              <a:solidFill>
                <a:srgbClr val="ffffff">
                  <a:lumMod val="85000"/>
                </a:srgbClr>
              </a:solidFill>
              <a:round/>
            </a:ln>
          </p:spPr>
        </p:cxnSp>
        <p:cxnSp>
          <p:nvCxnSpPr>
            <p:cNvPr id="764" name="直接连接符 348"/>
            <p:cNvCxnSpPr/>
            <p:nvPr/>
          </p:nvCxnSpPr>
          <p:spPr>
            <a:xfrm>
              <a:off x="4315680" y="1979280"/>
              <a:ext cx="360" cy="360720"/>
            </a:xfrm>
            <a:prstGeom prst="straightConnector1">
              <a:avLst/>
            </a:prstGeom>
            <a:ln w="3175">
              <a:solidFill>
                <a:srgbClr val="ffffff">
                  <a:lumMod val="85000"/>
                </a:srgbClr>
              </a:solidFill>
              <a:round/>
            </a:ln>
          </p:spPr>
        </p:cxnSp>
        <p:cxnSp>
          <p:nvCxnSpPr>
            <p:cNvPr id="765" name="直接连接符 349"/>
            <p:cNvCxnSpPr/>
            <p:nvPr/>
          </p:nvCxnSpPr>
          <p:spPr>
            <a:xfrm>
              <a:off x="4675320" y="1979280"/>
              <a:ext cx="360" cy="360720"/>
            </a:xfrm>
            <a:prstGeom prst="straightConnector1">
              <a:avLst/>
            </a:prstGeom>
            <a:ln w="3175">
              <a:solidFill>
                <a:srgbClr val="ffffff">
                  <a:lumMod val="85000"/>
                </a:srgbClr>
              </a:solidFill>
              <a:round/>
            </a:ln>
          </p:spPr>
        </p:cxnSp>
        <p:cxnSp>
          <p:nvCxnSpPr>
            <p:cNvPr id="766" name="直接连接符 350"/>
            <p:cNvCxnSpPr/>
            <p:nvPr/>
          </p:nvCxnSpPr>
          <p:spPr>
            <a:xfrm>
              <a:off x="5034600" y="1979280"/>
              <a:ext cx="360" cy="360720"/>
            </a:xfrm>
            <a:prstGeom prst="straightConnector1">
              <a:avLst/>
            </a:prstGeom>
            <a:ln w="3175">
              <a:solidFill>
                <a:srgbClr val="ffffff">
                  <a:lumMod val="85000"/>
                </a:srgbClr>
              </a:solidFill>
              <a:round/>
            </a:ln>
          </p:spPr>
        </p:cxnSp>
        <p:cxnSp>
          <p:nvCxnSpPr>
            <p:cNvPr id="767" name="直接连接符 351"/>
            <p:cNvCxnSpPr/>
            <p:nvPr/>
          </p:nvCxnSpPr>
          <p:spPr>
            <a:xfrm>
              <a:off x="5394240" y="1979280"/>
              <a:ext cx="360" cy="360720"/>
            </a:xfrm>
            <a:prstGeom prst="straightConnector1">
              <a:avLst/>
            </a:prstGeom>
            <a:ln w="3175">
              <a:solidFill>
                <a:srgbClr val="ffffff">
                  <a:lumMod val="85000"/>
                </a:srgbClr>
              </a:solidFill>
              <a:round/>
            </a:ln>
          </p:spPr>
        </p:cxnSp>
        <p:cxnSp>
          <p:nvCxnSpPr>
            <p:cNvPr id="768" name="直接连接符 352"/>
            <p:cNvCxnSpPr/>
            <p:nvPr/>
          </p:nvCxnSpPr>
          <p:spPr>
            <a:xfrm>
              <a:off x="5753880" y="1979280"/>
              <a:ext cx="360" cy="360720"/>
            </a:xfrm>
            <a:prstGeom prst="straightConnector1">
              <a:avLst/>
            </a:prstGeom>
            <a:ln w="3175">
              <a:solidFill>
                <a:srgbClr val="ffffff">
                  <a:lumMod val="85000"/>
                </a:srgbClr>
              </a:solidFill>
              <a:round/>
            </a:ln>
          </p:spPr>
        </p:cxnSp>
        <p:cxnSp>
          <p:nvCxnSpPr>
            <p:cNvPr id="769" name="直接连接符 353"/>
            <p:cNvCxnSpPr/>
            <p:nvPr/>
          </p:nvCxnSpPr>
          <p:spPr>
            <a:xfrm>
              <a:off x="6113160" y="1979280"/>
              <a:ext cx="360" cy="360720"/>
            </a:xfrm>
            <a:prstGeom prst="straightConnector1">
              <a:avLst/>
            </a:prstGeom>
            <a:ln w="3175">
              <a:solidFill>
                <a:srgbClr val="ffffff">
                  <a:lumMod val="85000"/>
                </a:srgbClr>
              </a:solidFill>
              <a:round/>
            </a:ln>
          </p:spPr>
        </p:cxnSp>
        <p:cxnSp>
          <p:nvCxnSpPr>
            <p:cNvPr id="770" name="直接连接符 354"/>
            <p:cNvCxnSpPr/>
            <p:nvPr/>
          </p:nvCxnSpPr>
          <p:spPr>
            <a:xfrm>
              <a:off x="6472800" y="1979280"/>
              <a:ext cx="360" cy="360720"/>
            </a:xfrm>
            <a:prstGeom prst="straightConnector1">
              <a:avLst/>
            </a:prstGeom>
            <a:ln w="3175">
              <a:solidFill>
                <a:srgbClr val="ffffff">
                  <a:lumMod val="85000"/>
                </a:srgbClr>
              </a:solidFill>
              <a:round/>
            </a:ln>
          </p:spPr>
        </p:cxnSp>
        <p:cxnSp>
          <p:nvCxnSpPr>
            <p:cNvPr id="771" name="直接连接符 355"/>
            <p:cNvCxnSpPr/>
            <p:nvPr/>
          </p:nvCxnSpPr>
          <p:spPr>
            <a:xfrm>
              <a:off x="6832080" y="1979280"/>
              <a:ext cx="360" cy="360720"/>
            </a:xfrm>
            <a:prstGeom prst="straightConnector1">
              <a:avLst/>
            </a:prstGeom>
            <a:ln w="3175">
              <a:solidFill>
                <a:srgbClr val="ffffff">
                  <a:lumMod val="85000"/>
                </a:srgbClr>
              </a:solidFill>
              <a:round/>
            </a:ln>
          </p:spPr>
        </p:cxnSp>
        <p:cxnSp>
          <p:nvCxnSpPr>
            <p:cNvPr id="772" name="直接连接符 356"/>
            <p:cNvCxnSpPr/>
            <p:nvPr/>
          </p:nvCxnSpPr>
          <p:spPr>
            <a:xfrm>
              <a:off x="7191720" y="1979280"/>
              <a:ext cx="360" cy="360720"/>
            </a:xfrm>
            <a:prstGeom prst="straightConnector1">
              <a:avLst/>
            </a:prstGeom>
            <a:ln w="3175">
              <a:solidFill>
                <a:srgbClr val="ffffff">
                  <a:lumMod val="85000"/>
                </a:srgbClr>
              </a:solidFill>
              <a:round/>
            </a:ln>
          </p:spPr>
        </p:cxnSp>
        <p:cxnSp>
          <p:nvCxnSpPr>
            <p:cNvPr id="773" name="直接连接符 357"/>
            <p:cNvCxnSpPr/>
            <p:nvPr/>
          </p:nvCxnSpPr>
          <p:spPr>
            <a:xfrm>
              <a:off x="7551360" y="1979280"/>
              <a:ext cx="360" cy="360720"/>
            </a:xfrm>
            <a:prstGeom prst="straightConnector1">
              <a:avLst/>
            </a:prstGeom>
            <a:ln w="3175">
              <a:solidFill>
                <a:srgbClr val="ffffff">
                  <a:lumMod val="85000"/>
                </a:srgbClr>
              </a:solidFill>
              <a:round/>
            </a:ln>
          </p:spPr>
        </p:cxnSp>
        <p:cxnSp>
          <p:nvCxnSpPr>
            <p:cNvPr id="774" name="直接连接符 358"/>
            <p:cNvCxnSpPr/>
            <p:nvPr/>
          </p:nvCxnSpPr>
          <p:spPr>
            <a:xfrm>
              <a:off x="7910640" y="1979280"/>
              <a:ext cx="360" cy="360720"/>
            </a:xfrm>
            <a:prstGeom prst="straightConnector1">
              <a:avLst/>
            </a:prstGeom>
            <a:ln w="3175">
              <a:solidFill>
                <a:srgbClr val="ffffff">
                  <a:lumMod val="85000"/>
                </a:srgbClr>
              </a:solidFill>
              <a:round/>
            </a:ln>
          </p:spPr>
        </p:cxnSp>
        <p:cxnSp>
          <p:nvCxnSpPr>
            <p:cNvPr id="775" name="直接连接符 359"/>
            <p:cNvCxnSpPr/>
            <p:nvPr/>
          </p:nvCxnSpPr>
          <p:spPr>
            <a:xfrm>
              <a:off x="8270280" y="1979280"/>
              <a:ext cx="360" cy="360720"/>
            </a:xfrm>
            <a:prstGeom prst="straightConnector1">
              <a:avLst/>
            </a:prstGeom>
            <a:ln w="3175">
              <a:solidFill>
                <a:srgbClr val="ffffff">
                  <a:lumMod val="85000"/>
                </a:srgbClr>
              </a:solidFill>
              <a:round/>
            </a:ln>
          </p:spPr>
        </p:cxnSp>
        <p:cxnSp>
          <p:nvCxnSpPr>
            <p:cNvPr id="776" name="直接连接符 360"/>
            <p:cNvCxnSpPr/>
            <p:nvPr/>
          </p:nvCxnSpPr>
          <p:spPr>
            <a:xfrm>
              <a:off x="8629920" y="1979280"/>
              <a:ext cx="360" cy="360720"/>
            </a:xfrm>
            <a:prstGeom prst="straightConnector1">
              <a:avLst/>
            </a:prstGeom>
            <a:ln w="3175">
              <a:solidFill>
                <a:srgbClr val="ffffff">
                  <a:lumMod val="85000"/>
                </a:srgbClr>
              </a:solidFill>
              <a:round/>
            </a:ln>
          </p:spPr>
        </p:cxnSp>
        <p:cxnSp>
          <p:nvCxnSpPr>
            <p:cNvPr id="777" name="直接连接符 361"/>
            <p:cNvCxnSpPr/>
            <p:nvPr/>
          </p:nvCxnSpPr>
          <p:spPr>
            <a:xfrm>
              <a:off x="8989200" y="1979280"/>
              <a:ext cx="360" cy="360720"/>
            </a:xfrm>
            <a:prstGeom prst="straightConnector1">
              <a:avLst/>
            </a:prstGeom>
            <a:ln w="3175">
              <a:solidFill>
                <a:srgbClr val="ffffff">
                  <a:lumMod val="85000"/>
                </a:srgbClr>
              </a:solidFill>
              <a:round/>
            </a:ln>
          </p:spPr>
        </p:cxnSp>
        <p:cxnSp>
          <p:nvCxnSpPr>
            <p:cNvPr id="778" name="直接连接符 362"/>
            <p:cNvCxnSpPr/>
            <p:nvPr/>
          </p:nvCxnSpPr>
          <p:spPr>
            <a:xfrm>
              <a:off x="9348840" y="1979280"/>
              <a:ext cx="360" cy="360720"/>
            </a:xfrm>
            <a:prstGeom prst="straightConnector1">
              <a:avLst/>
            </a:prstGeom>
            <a:ln w="3175">
              <a:solidFill>
                <a:srgbClr val="ffffff">
                  <a:lumMod val="85000"/>
                </a:srgbClr>
              </a:solidFill>
              <a:round/>
            </a:ln>
          </p:spPr>
        </p:cxnSp>
        <p:cxnSp>
          <p:nvCxnSpPr>
            <p:cNvPr id="779" name="直接连接符 363"/>
            <p:cNvCxnSpPr/>
            <p:nvPr/>
          </p:nvCxnSpPr>
          <p:spPr>
            <a:xfrm>
              <a:off x="9708480" y="1979280"/>
              <a:ext cx="360" cy="360720"/>
            </a:xfrm>
            <a:prstGeom prst="straightConnector1">
              <a:avLst/>
            </a:prstGeom>
            <a:ln w="3175">
              <a:solidFill>
                <a:srgbClr val="ffffff">
                  <a:lumMod val="85000"/>
                </a:srgbClr>
              </a:solidFill>
              <a:round/>
            </a:ln>
          </p:spPr>
        </p:cxnSp>
        <p:cxnSp>
          <p:nvCxnSpPr>
            <p:cNvPr id="780" name="直接连接符 364"/>
            <p:cNvCxnSpPr/>
            <p:nvPr/>
          </p:nvCxnSpPr>
          <p:spPr>
            <a:xfrm>
              <a:off x="10067760" y="1979280"/>
              <a:ext cx="360" cy="360720"/>
            </a:xfrm>
            <a:prstGeom prst="straightConnector1">
              <a:avLst/>
            </a:prstGeom>
            <a:ln w="3175">
              <a:solidFill>
                <a:srgbClr val="ffffff">
                  <a:lumMod val="85000"/>
                </a:srgbClr>
              </a:solidFill>
              <a:round/>
            </a:ln>
          </p:spPr>
        </p:cxnSp>
        <p:cxnSp>
          <p:nvCxnSpPr>
            <p:cNvPr id="781" name="直接连接符 365"/>
            <p:cNvCxnSpPr/>
            <p:nvPr/>
          </p:nvCxnSpPr>
          <p:spPr>
            <a:xfrm>
              <a:off x="10427400" y="1979280"/>
              <a:ext cx="360" cy="360720"/>
            </a:xfrm>
            <a:prstGeom prst="straightConnector1">
              <a:avLst/>
            </a:prstGeom>
            <a:ln w="3175">
              <a:solidFill>
                <a:srgbClr val="ffffff">
                  <a:lumMod val="85000"/>
                </a:srgbClr>
              </a:solidFill>
              <a:round/>
            </a:ln>
          </p:spPr>
        </p:cxnSp>
        <p:cxnSp>
          <p:nvCxnSpPr>
            <p:cNvPr id="782" name="直接连接符 366"/>
            <p:cNvCxnSpPr/>
            <p:nvPr/>
          </p:nvCxnSpPr>
          <p:spPr>
            <a:xfrm>
              <a:off x="10787040" y="1979280"/>
              <a:ext cx="360" cy="360720"/>
            </a:xfrm>
            <a:prstGeom prst="straightConnector1">
              <a:avLst/>
            </a:prstGeom>
            <a:ln w="3175">
              <a:solidFill>
                <a:srgbClr val="ffffff">
                  <a:lumMod val="85000"/>
                </a:srgbClr>
              </a:solidFill>
              <a:round/>
            </a:ln>
          </p:spPr>
        </p:cxnSp>
        <p:cxnSp>
          <p:nvCxnSpPr>
            <p:cNvPr id="783" name="直接连接符 367"/>
            <p:cNvCxnSpPr/>
            <p:nvPr/>
          </p:nvCxnSpPr>
          <p:spPr>
            <a:xfrm>
              <a:off x="720720" y="2519640"/>
              <a:ext cx="360" cy="360720"/>
            </a:xfrm>
            <a:prstGeom prst="straightConnector1">
              <a:avLst/>
            </a:prstGeom>
            <a:ln w="3175">
              <a:solidFill>
                <a:srgbClr val="ffffff">
                  <a:lumMod val="85000"/>
                </a:srgbClr>
              </a:solidFill>
              <a:round/>
            </a:ln>
          </p:spPr>
        </p:cxnSp>
        <p:cxnSp>
          <p:nvCxnSpPr>
            <p:cNvPr id="784" name="直接连接符 368"/>
            <p:cNvCxnSpPr/>
            <p:nvPr/>
          </p:nvCxnSpPr>
          <p:spPr>
            <a:xfrm>
              <a:off x="1080000" y="2519280"/>
              <a:ext cx="360" cy="360720"/>
            </a:xfrm>
            <a:prstGeom prst="straightConnector1">
              <a:avLst/>
            </a:prstGeom>
            <a:ln w="3175">
              <a:solidFill>
                <a:srgbClr val="ffffff">
                  <a:lumMod val="85000"/>
                </a:srgbClr>
              </a:solidFill>
              <a:round/>
            </a:ln>
          </p:spPr>
        </p:cxnSp>
        <p:cxnSp>
          <p:nvCxnSpPr>
            <p:cNvPr id="785" name="直接连接符 369"/>
            <p:cNvCxnSpPr/>
            <p:nvPr/>
          </p:nvCxnSpPr>
          <p:spPr>
            <a:xfrm>
              <a:off x="1439640" y="2519280"/>
              <a:ext cx="360" cy="360720"/>
            </a:xfrm>
            <a:prstGeom prst="straightConnector1">
              <a:avLst/>
            </a:prstGeom>
            <a:ln w="3175">
              <a:solidFill>
                <a:srgbClr val="ffffff">
                  <a:lumMod val="85000"/>
                </a:srgbClr>
              </a:solidFill>
              <a:round/>
            </a:ln>
          </p:spPr>
        </p:cxnSp>
        <p:cxnSp>
          <p:nvCxnSpPr>
            <p:cNvPr id="786" name="直接连接符 370"/>
            <p:cNvCxnSpPr/>
            <p:nvPr/>
          </p:nvCxnSpPr>
          <p:spPr>
            <a:xfrm>
              <a:off x="1798920" y="2519280"/>
              <a:ext cx="360" cy="360720"/>
            </a:xfrm>
            <a:prstGeom prst="straightConnector1">
              <a:avLst/>
            </a:prstGeom>
            <a:ln w="3175">
              <a:solidFill>
                <a:srgbClr val="ffffff">
                  <a:lumMod val="85000"/>
                </a:srgbClr>
              </a:solidFill>
              <a:round/>
            </a:ln>
          </p:spPr>
        </p:cxnSp>
        <p:cxnSp>
          <p:nvCxnSpPr>
            <p:cNvPr id="787" name="直接连接符 371"/>
            <p:cNvCxnSpPr/>
            <p:nvPr/>
          </p:nvCxnSpPr>
          <p:spPr>
            <a:xfrm>
              <a:off x="2158560" y="2519280"/>
              <a:ext cx="360" cy="360720"/>
            </a:xfrm>
            <a:prstGeom prst="straightConnector1">
              <a:avLst/>
            </a:prstGeom>
            <a:ln w="3175">
              <a:solidFill>
                <a:srgbClr val="ffffff">
                  <a:lumMod val="85000"/>
                </a:srgbClr>
              </a:solidFill>
              <a:round/>
            </a:ln>
          </p:spPr>
        </p:cxnSp>
        <p:cxnSp>
          <p:nvCxnSpPr>
            <p:cNvPr id="788" name="直接连接符 372"/>
            <p:cNvCxnSpPr/>
            <p:nvPr/>
          </p:nvCxnSpPr>
          <p:spPr>
            <a:xfrm>
              <a:off x="2518200" y="2519280"/>
              <a:ext cx="360" cy="360720"/>
            </a:xfrm>
            <a:prstGeom prst="straightConnector1">
              <a:avLst/>
            </a:prstGeom>
            <a:ln w="3175">
              <a:solidFill>
                <a:srgbClr val="ffffff">
                  <a:lumMod val="85000"/>
                </a:srgbClr>
              </a:solidFill>
              <a:round/>
            </a:ln>
          </p:spPr>
        </p:cxnSp>
        <p:cxnSp>
          <p:nvCxnSpPr>
            <p:cNvPr id="789" name="直接连接符 373"/>
            <p:cNvCxnSpPr/>
            <p:nvPr/>
          </p:nvCxnSpPr>
          <p:spPr>
            <a:xfrm>
              <a:off x="2877480" y="2519280"/>
              <a:ext cx="360" cy="360720"/>
            </a:xfrm>
            <a:prstGeom prst="straightConnector1">
              <a:avLst/>
            </a:prstGeom>
            <a:ln w="3175">
              <a:solidFill>
                <a:srgbClr val="ffffff">
                  <a:lumMod val="85000"/>
                </a:srgbClr>
              </a:solidFill>
              <a:round/>
            </a:ln>
          </p:spPr>
        </p:cxnSp>
        <p:cxnSp>
          <p:nvCxnSpPr>
            <p:cNvPr id="790" name="直接连接符 374"/>
            <p:cNvCxnSpPr/>
            <p:nvPr/>
          </p:nvCxnSpPr>
          <p:spPr>
            <a:xfrm>
              <a:off x="3237120" y="2519280"/>
              <a:ext cx="360" cy="360720"/>
            </a:xfrm>
            <a:prstGeom prst="straightConnector1">
              <a:avLst/>
            </a:prstGeom>
            <a:ln w="3175">
              <a:solidFill>
                <a:srgbClr val="ffffff">
                  <a:lumMod val="85000"/>
                </a:srgbClr>
              </a:solidFill>
              <a:round/>
            </a:ln>
          </p:spPr>
        </p:cxnSp>
        <p:cxnSp>
          <p:nvCxnSpPr>
            <p:cNvPr id="791" name="直接连接符 375"/>
            <p:cNvCxnSpPr/>
            <p:nvPr/>
          </p:nvCxnSpPr>
          <p:spPr>
            <a:xfrm>
              <a:off x="3596760" y="2519280"/>
              <a:ext cx="360" cy="360720"/>
            </a:xfrm>
            <a:prstGeom prst="straightConnector1">
              <a:avLst/>
            </a:prstGeom>
            <a:ln w="3175">
              <a:solidFill>
                <a:srgbClr val="ffffff">
                  <a:lumMod val="85000"/>
                </a:srgbClr>
              </a:solidFill>
              <a:round/>
            </a:ln>
          </p:spPr>
        </p:cxnSp>
        <p:cxnSp>
          <p:nvCxnSpPr>
            <p:cNvPr id="792" name="直接连接符 376"/>
            <p:cNvCxnSpPr/>
            <p:nvPr/>
          </p:nvCxnSpPr>
          <p:spPr>
            <a:xfrm>
              <a:off x="3956040" y="2519280"/>
              <a:ext cx="360" cy="360720"/>
            </a:xfrm>
            <a:prstGeom prst="straightConnector1">
              <a:avLst/>
            </a:prstGeom>
            <a:ln w="3175">
              <a:solidFill>
                <a:srgbClr val="ffffff">
                  <a:lumMod val="85000"/>
                </a:srgbClr>
              </a:solidFill>
              <a:round/>
            </a:ln>
          </p:spPr>
        </p:cxnSp>
        <p:cxnSp>
          <p:nvCxnSpPr>
            <p:cNvPr id="793" name="直接连接符 377"/>
            <p:cNvCxnSpPr/>
            <p:nvPr/>
          </p:nvCxnSpPr>
          <p:spPr>
            <a:xfrm>
              <a:off x="4315680" y="2519280"/>
              <a:ext cx="360" cy="360720"/>
            </a:xfrm>
            <a:prstGeom prst="straightConnector1">
              <a:avLst/>
            </a:prstGeom>
            <a:ln w="3175">
              <a:solidFill>
                <a:srgbClr val="ffffff">
                  <a:lumMod val="85000"/>
                </a:srgbClr>
              </a:solidFill>
              <a:round/>
            </a:ln>
          </p:spPr>
        </p:cxnSp>
        <p:cxnSp>
          <p:nvCxnSpPr>
            <p:cNvPr id="794" name="直接连接符 378"/>
            <p:cNvCxnSpPr/>
            <p:nvPr/>
          </p:nvCxnSpPr>
          <p:spPr>
            <a:xfrm>
              <a:off x="4675320" y="2519280"/>
              <a:ext cx="360" cy="360720"/>
            </a:xfrm>
            <a:prstGeom prst="straightConnector1">
              <a:avLst/>
            </a:prstGeom>
            <a:ln w="3175">
              <a:solidFill>
                <a:srgbClr val="ffffff">
                  <a:lumMod val="85000"/>
                </a:srgbClr>
              </a:solidFill>
              <a:round/>
            </a:ln>
          </p:spPr>
        </p:cxnSp>
        <p:cxnSp>
          <p:nvCxnSpPr>
            <p:cNvPr id="795" name="直接连接符 379"/>
            <p:cNvCxnSpPr/>
            <p:nvPr/>
          </p:nvCxnSpPr>
          <p:spPr>
            <a:xfrm>
              <a:off x="5034600" y="2519280"/>
              <a:ext cx="360" cy="360720"/>
            </a:xfrm>
            <a:prstGeom prst="straightConnector1">
              <a:avLst/>
            </a:prstGeom>
            <a:ln w="3175">
              <a:solidFill>
                <a:srgbClr val="ffffff">
                  <a:lumMod val="85000"/>
                </a:srgbClr>
              </a:solidFill>
              <a:round/>
            </a:ln>
          </p:spPr>
        </p:cxnSp>
        <p:cxnSp>
          <p:nvCxnSpPr>
            <p:cNvPr id="796" name="直接连接符 380"/>
            <p:cNvCxnSpPr/>
            <p:nvPr/>
          </p:nvCxnSpPr>
          <p:spPr>
            <a:xfrm>
              <a:off x="5394240" y="2519280"/>
              <a:ext cx="360" cy="360720"/>
            </a:xfrm>
            <a:prstGeom prst="straightConnector1">
              <a:avLst/>
            </a:prstGeom>
            <a:ln w="3175">
              <a:solidFill>
                <a:srgbClr val="ffffff">
                  <a:lumMod val="85000"/>
                </a:srgbClr>
              </a:solidFill>
              <a:round/>
            </a:ln>
          </p:spPr>
        </p:cxnSp>
        <p:cxnSp>
          <p:nvCxnSpPr>
            <p:cNvPr id="797" name="直接连接符 381"/>
            <p:cNvCxnSpPr/>
            <p:nvPr/>
          </p:nvCxnSpPr>
          <p:spPr>
            <a:xfrm>
              <a:off x="5753880" y="2519280"/>
              <a:ext cx="360" cy="360720"/>
            </a:xfrm>
            <a:prstGeom prst="straightConnector1">
              <a:avLst/>
            </a:prstGeom>
            <a:ln w="3175">
              <a:solidFill>
                <a:srgbClr val="ffffff">
                  <a:lumMod val="85000"/>
                </a:srgbClr>
              </a:solidFill>
              <a:round/>
            </a:ln>
          </p:spPr>
        </p:cxnSp>
        <p:cxnSp>
          <p:nvCxnSpPr>
            <p:cNvPr id="798" name="直接连接符 382"/>
            <p:cNvCxnSpPr/>
            <p:nvPr/>
          </p:nvCxnSpPr>
          <p:spPr>
            <a:xfrm>
              <a:off x="6113160" y="2519280"/>
              <a:ext cx="360" cy="360720"/>
            </a:xfrm>
            <a:prstGeom prst="straightConnector1">
              <a:avLst/>
            </a:prstGeom>
            <a:ln w="3175">
              <a:solidFill>
                <a:srgbClr val="ffffff">
                  <a:lumMod val="85000"/>
                </a:srgbClr>
              </a:solidFill>
              <a:round/>
            </a:ln>
          </p:spPr>
        </p:cxnSp>
        <p:cxnSp>
          <p:nvCxnSpPr>
            <p:cNvPr id="799" name="直接连接符 383"/>
            <p:cNvCxnSpPr/>
            <p:nvPr/>
          </p:nvCxnSpPr>
          <p:spPr>
            <a:xfrm>
              <a:off x="6472800" y="2519280"/>
              <a:ext cx="360" cy="360720"/>
            </a:xfrm>
            <a:prstGeom prst="straightConnector1">
              <a:avLst/>
            </a:prstGeom>
            <a:ln w="3175">
              <a:solidFill>
                <a:srgbClr val="ffffff">
                  <a:lumMod val="85000"/>
                </a:srgbClr>
              </a:solidFill>
              <a:round/>
            </a:ln>
          </p:spPr>
        </p:cxnSp>
        <p:cxnSp>
          <p:nvCxnSpPr>
            <p:cNvPr id="800" name="直接连接符 384"/>
            <p:cNvCxnSpPr/>
            <p:nvPr/>
          </p:nvCxnSpPr>
          <p:spPr>
            <a:xfrm>
              <a:off x="6832080" y="2519280"/>
              <a:ext cx="360" cy="360720"/>
            </a:xfrm>
            <a:prstGeom prst="straightConnector1">
              <a:avLst/>
            </a:prstGeom>
            <a:ln w="3175">
              <a:solidFill>
                <a:srgbClr val="ffffff">
                  <a:lumMod val="85000"/>
                </a:srgbClr>
              </a:solidFill>
              <a:round/>
            </a:ln>
          </p:spPr>
        </p:cxnSp>
        <p:cxnSp>
          <p:nvCxnSpPr>
            <p:cNvPr id="801" name="直接连接符 385"/>
            <p:cNvCxnSpPr/>
            <p:nvPr/>
          </p:nvCxnSpPr>
          <p:spPr>
            <a:xfrm>
              <a:off x="7191720" y="2519280"/>
              <a:ext cx="360" cy="360720"/>
            </a:xfrm>
            <a:prstGeom prst="straightConnector1">
              <a:avLst/>
            </a:prstGeom>
            <a:ln w="3175">
              <a:solidFill>
                <a:srgbClr val="ffffff">
                  <a:lumMod val="85000"/>
                </a:srgbClr>
              </a:solidFill>
              <a:round/>
            </a:ln>
          </p:spPr>
        </p:cxnSp>
        <p:cxnSp>
          <p:nvCxnSpPr>
            <p:cNvPr id="802" name="直接连接符 386"/>
            <p:cNvCxnSpPr/>
            <p:nvPr/>
          </p:nvCxnSpPr>
          <p:spPr>
            <a:xfrm>
              <a:off x="7551360" y="2519280"/>
              <a:ext cx="360" cy="360720"/>
            </a:xfrm>
            <a:prstGeom prst="straightConnector1">
              <a:avLst/>
            </a:prstGeom>
            <a:ln w="3175">
              <a:solidFill>
                <a:srgbClr val="ffffff">
                  <a:lumMod val="85000"/>
                </a:srgbClr>
              </a:solidFill>
              <a:round/>
            </a:ln>
          </p:spPr>
        </p:cxnSp>
        <p:cxnSp>
          <p:nvCxnSpPr>
            <p:cNvPr id="803" name="直接连接符 387"/>
            <p:cNvCxnSpPr/>
            <p:nvPr/>
          </p:nvCxnSpPr>
          <p:spPr>
            <a:xfrm>
              <a:off x="7910640" y="2519280"/>
              <a:ext cx="360" cy="360720"/>
            </a:xfrm>
            <a:prstGeom prst="straightConnector1">
              <a:avLst/>
            </a:prstGeom>
            <a:ln w="3175">
              <a:solidFill>
                <a:srgbClr val="ffffff">
                  <a:lumMod val="85000"/>
                </a:srgbClr>
              </a:solidFill>
              <a:round/>
            </a:ln>
          </p:spPr>
        </p:cxnSp>
        <p:cxnSp>
          <p:nvCxnSpPr>
            <p:cNvPr id="804" name="直接连接符 388"/>
            <p:cNvCxnSpPr/>
            <p:nvPr/>
          </p:nvCxnSpPr>
          <p:spPr>
            <a:xfrm>
              <a:off x="8270280" y="2519280"/>
              <a:ext cx="360" cy="360720"/>
            </a:xfrm>
            <a:prstGeom prst="straightConnector1">
              <a:avLst/>
            </a:prstGeom>
            <a:ln w="3175">
              <a:solidFill>
                <a:srgbClr val="ffffff">
                  <a:lumMod val="85000"/>
                </a:srgbClr>
              </a:solidFill>
              <a:round/>
            </a:ln>
          </p:spPr>
        </p:cxnSp>
        <p:cxnSp>
          <p:nvCxnSpPr>
            <p:cNvPr id="805" name="直接连接符 389"/>
            <p:cNvCxnSpPr/>
            <p:nvPr/>
          </p:nvCxnSpPr>
          <p:spPr>
            <a:xfrm>
              <a:off x="8629920" y="2519280"/>
              <a:ext cx="360" cy="360720"/>
            </a:xfrm>
            <a:prstGeom prst="straightConnector1">
              <a:avLst/>
            </a:prstGeom>
            <a:ln w="3175">
              <a:solidFill>
                <a:srgbClr val="ffffff">
                  <a:lumMod val="85000"/>
                </a:srgbClr>
              </a:solidFill>
              <a:round/>
            </a:ln>
          </p:spPr>
        </p:cxnSp>
        <p:cxnSp>
          <p:nvCxnSpPr>
            <p:cNvPr id="806" name="直接连接符 390"/>
            <p:cNvCxnSpPr/>
            <p:nvPr/>
          </p:nvCxnSpPr>
          <p:spPr>
            <a:xfrm>
              <a:off x="8989200" y="2519280"/>
              <a:ext cx="360" cy="360720"/>
            </a:xfrm>
            <a:prstGeom prst="straightConnector1">
              <a:avLst/>
            </a:prstGeom>
            <a:ln w="3175">
              <a:solidFill>
                <a:srgbClr val="ffffff">
                  <a:lumMod val="85000"/>
                </a:srgbClr>
              </a:solidFill>
              <a:round/>
            </a:ln>
          </p:spPr>
        </p:cxnSp>
        <p:cxnSp>
          <p:nvCxnSpPr>
            <p:cNvPr id="807" name="直接连接符 391"/>
            <p:cNvCxnSpPr/>
            <p:nvPr/>
          </p:nvCxnSpPr>
          <p:spPr>
            <a:xfrm>
              <a:off x="9348840" y="2519280"/>
              <a:ext cx="360" cy="360720"/>
            </a:xfrm>
            <a:prstGeom prst="straightConnector1">
              <a:avLst/>
            </a:prstGeom>
            <a:ln w="3175">
              <a:solidFill>
                <a:srgbClr val="ffffff">
                  <a:lumMod val="85000"/>
                </a:srgbClr>
              </a:solidFill>
              <a:round/>
            </a:ln>
          </p:spPr>
        </p:cxnSp>
        <p:cxnSp>
          <p:nvCxnSpPr>
            <p:cNvPr id="808" name="直接连接符 392"/>
            <p:cNvCxnSpPr/>
            <p:nvPr/>
          </p:nvCxnSpPr>
          <p:spPr>
            <a:xfrm>
              <a:off x="9708480" y="2519280"/>
              <a:ext cx="360" cy="360720"/>
            </a:xfrm>
            <a:prstGeom prst="straightConnector1">
              <a:avLst/>
            </a:prstGeom>
            <a:ln w="3175">
              <a:solidFill>
                <a:srgbClr val="ffffff">
                  <a:lumMod val="85000"/>
                </a:srgbClr>
              </a:solidFill>
              <a:round/>
            </a:ln>
          </p:spPr>
        </p:cxnSp>
        <p:cxnSp>
          <p:nvCxnSpPr>
            <p:cNvPr id="809" name="直接连接符 393"/>
            <p:cNvCxnSpPr/>
            <p:nvPr/>
          </p:nvCxnSpPr>
          <p:spPr>
            <a:xfrm>
              <a:off x="10067760" y="2519280"/>
              <a:ext cx="360" cy="360720"/>
            </a:xfrm>
            <a:prstGeom prst="straightConnector1">
              <a:avLst/>
            </a:prstGeom>
            <a:ln w="3175">
              <a:solidFill>
                <a:srgbClr val="ffffff">
                  <a:lumMod val="85000"/>
                </a:srgbClr>
              </a:solidFill>
              <a:round/>
            </a:ln>
          </p:spPr>
        </p:cxnSp>
        <p:cxnSp>
          <p:nvCxnSpPr>
            <p:cNvPr id="810" name="直接连接符 394"/>
            <p:cNvCxnSpPr/>
            <p:nvPr/>
          </p:nvCxnSpPr>
          <p:spPr>
            <a:xfrm>
              <a:off x="10427400" y="2519280"/>
              <a:ext cx="360" cy="360720"/>
            </a:xfrm>
            <a:prstGeom prst="straightConnector1">
              <a:avLst/>
            </a:prstGeom>
            <a:ln w="3175">
              <a:solidFill>
                <a:srgbClr val="ffffff">
                  <a:lumMod val="85000"/>
                </a:srgbClr>
              </a:solidFill>
              <a:round/>
            </a:ln>
          </p:spPr>
        </p:cxnSp>
        <p:cxnSp>
          <p:nvCxnSpPr>
            <p:cNvPr id="811" name="直接连接符 395"/>
            <p:cNvCxnSpPr/>
            <p:nvPr/>
          </p:nvCxnSpPr>
          <p:spPr>
            <a:xfrm>
              <a:off x="10787040" y="2519280"/>
              <a:ext cx="360" cy="360720"/>
            </a:xfrm>
            <a:prstGeom prst="straightConnector1">
              <a:avLst/>
            </a:prstGeom>
            <a:ln w="3175">
              <a:solidFill>
                <a:srgbClr val="ffffff">
                  <a:lumMod val="85000"/>
                </a:srgbClr>
              </a:solidFill>
              <a:round/>
            </a:ln>
          </p:spPr>
        </p:cxnSp>
        <p:cxnSp>
          <p:nvCxnSpPr>
            <p:cNvPr id="812" name="直接连接符 396"/>
            <p:cNvCxnSpPr/>
            <p:nvPr/>
          </p:nvCxnSpPr>
          <p:spPr>
            <a:xfrm>
              <a:off x="720720" y="3059640"/>
              <a:ext cx="360" cy="360720"/>
            </a:xfrm>
            <a:prstGeom prst="straightConnector1">
              <a:avLst/>
            </a:prstGeom>
            <a:ln w="3175">
              <a:solidFill>
                <a:srgbClr val="ffffff">
                  <a:lumMod val="85000"/>
                </a:srgbClr>
              </a:solidFill>
              <a:round/>
            </a:ln>
          </p:spPr>
        </p:cxnSp>
        <p:cxnSp>
          <p:nvCxnSpPr>
            <p:cNvPr id="813" name="直接连接符 397"/>
            <p:cNvCxnSpPr/>
            <p:nvPr/>
          </p:nvCxnSpPr>
          <p:spPr>
            <a:xfrm>
              <a:off x="1080000" y="3058920"/>
              <a:ext cx="360" cy="360720"/>
            </a:xfrm>
            <a:prstGeom prst="straightConnector1">
              <a:avLst/>
            </a:prstGeom>
            <a:ln w="3175">
              <a:solidFill>
                <a:srgbClr val="ffffff">
                  <a:lumMod val="85000"/>
                </a:srgbClr>
              </a:solidFill>
              <a:round/>
            </a:ln>
          </p:spPr>
        </p:cxnSp>
        <p:cxnSp>
          <p:nvCxnSpPr>
            <p:cNvPr id="814" name="直接连接符 398"/>
            <p:cNvCxnSpPr/>
            <p:nvPr/>
          </p:nvCxnSpPr>
          <p:spPr>
            <a:xfrm>
              <a:off x="1439640" y="3058920"/>
              <a:ext cx="360" cy="360720"/>
            </a:xfrm>
            <a:prstGeom prst="straightConnector1">
              <a:avLst/>
            </a:prstGeom>
            <a:ln w="3175">
              <a:solidFill>
                <a:srgbClr val="ffffff">
                  <a:lumMod val="85000"/>
                </a:srgbClr>
              </a:solidFill>
              <a:round/>
            </a:ln>
          </p:spPr>
        </p:cxnSp>
        <p:cxnSp>
          <p:nvCxnSpPr>
            <p:cNvPr id="815" name="直接连接符 399"/>
            <p:cNvCxnSpPr/>
            <p:nvPr/>
          </p:nvCxnSpPr>
          <p:spPr>
            <a:xfrm>
              <a:off x="1798920" y="3058920"/>
              <a:ext cx="360" cy="360720"/>
            </a:xfrm>
            <a:prstGeom prst="straightConnector1">
              <a:avLst/>
            </a:prstGeom>
            <a:ln w="3175">
              <a:solidFill>
                <a:srgbClr val="ffffff">
                  <a:lumMod val="85000"/>
                </a:srgbClr>
              </a:solidFill>
              <a:round/>
            </a:ln>
          </p:spPr>
        </p:cxnSp>
        <p:cxnSp>
          <p:nvCxnSpPr>
            <p:cNvPr id="816" name="直接连接符 400"/>
            <p:cNvCxnSpPr/>
            <p:nvPr/>
          </p:nvCxnSpPr>
          <p:spPr>
            <a:xfrm>
              <a:off x="2158560" y="3058920"/>
              <a:ext cx="360" cy="360720"/>
            </a:xfrm>
            <a:prstGeom prst="straightConnector1">
              <a:avLst/>
            </a:prstGeom>
            <a:ln w="3175">
              <a:solidFill>
                <a:srgbClr val="ffffff">
                  <a:lumMod val="85000"/>
                </a:srgbClr>
              </a:solidFill>
              <a:round/>
            </a:ln>
          </p:spPr>
        </p:cxnSp>
        <p:cxnSp>
          <p:nvCxnSpPr>
            <p:cNvPr id="817" name="直接连接符 401"/>
            <p:cNvCxnSpPr/>
            <p:nvPr/>
          </p:nvCxnSpPr>
          <p:spPr>
            <a:xfrm>
              <a:off x="2518200" y="3058920"/>
              <a:ext cx="360" cy="360720"/>
            </a:xfrm>
            <a:prstGeom prst="straightConnector1">
              <a:avLst/>
            </a:prstGeom>
            <a:ln w="3175">
              <a:solidFill>
                <a:srgbClr val="ffffff">
                  <a:lumMod val="85000"/>
                </a:srgbClr>
              </a:solidFill>
              <a:round/>
            </a:ln>
          </p:spPr>
        </p:cxnSp>
        <p:cxnSp>
          <p:nvCxnSpPr>
            <p:cNvPr id="818" name="直接连接符 402"/>
            <p:cNvCxnSpPr/>
            <p:nvPr/>
          </p:nvCxnSpPr>
          <p:spPr>
            <a:xfrm>
              <a:off x="2877480" y="3058920"/>
              <a:ext cx="360" cy="360720"/>
            </a:xfrm>
            <a:prstGeom prst="straightConnector1">
              <a:avLst/>
            </a:prstGeom>
            <a:ln w="3175">
              <a:solidFill>
                <a:srgbClr val="ffffff">
                  <a:lumMod val="85000"/>
                </a:srgbClr>
              </a:solidFill>
              <a:round/>
            </a:ln>
          </p:spPr>
        </p:cxnSp>
        <p:cxnSp>
          <p:nvCxnSpPr>
            <p:cNvPr id="819" name="直接连接符 403"/>
            <p:cNvCxnSpPr/>
            <p:nvPr/>
          </p:nvCxnSpPr>
          <p:spPr>
            <a:xfrm>
              <a:off x="3237120" y="3058920"/>
              <a:ext cx="360" cy="360720"/>
            </a:xfrm>
            <a:prstGeom prst="straightConnector1">
              <a:avLst/>
            </a:prstGeom>
            <a:ln w="3175">
              <a:solidFill>
                <a:srgbClr val="ffffff">
                  <a:lumMod val="85000"/>
                </a:srgbClr>
              </a:solidFill>
              <a:round/>
            </a:ln>
          </p:spPr>
        </p:cxnSp>
        <p:cxnSp>
          <p:nvCxnSpPr>
            <p:cNvPr id="820" name="直接连接符 404"/>
            <p:cNvCxnSpPr/>
            <p:nvPr/>
          </p:nvCxnSpPr>
          <p:spPr>
            <a:xfrm>
              <a:off x="3596760" y="3058920"/>
              <a:ext cx="360" cy="360720"/>
            </a:xfrm>
            <a:prstGeom prst="straightConnector1">
              <a:avLst/>
            </a:prstGeom>
            <a:ln w="3175">
              <a:solidFill>
                <a:srgbClr val="ffffff">
                  <a:lumMod val="85000"/>
                </a:srgbClr>
              </a:solidFill>
              <a:round/>
            </a:ln>
          </p:spPr>
        </p:cxnSp>
        <p:cxnSp>
          <p:nvCxnSpPr>
            <p:cNvPr id="821" name="直接连接符 405"/>
            <p:cNvCxnSpPr/>
            <p:nvPr/>
          </p:nvCxnSpPr>
          <p:spPr>
            <a:xfrm>
              <a:off x="3956040" y="3058920"/>
              <a:ext cx="360" cy="360720"/>
            </a:xfrm>
            <a:prstGeom prst="straightConnector1">
              <a:avLst/>
            </a:prstGeom>
            <a:ln w="3175">
              <a:solidFill>
                <a:srgbClr val="ffffff">
                  <a:lumMod val="85000"/>
                </a:srgbClr>
              </a:solidFill>
              <a:round/>
            </a:ln>
          </p:spPr>
        </p:cxnSp>
        <p:cxnSp>
          <p:nvCxnSpPr>
            <p:cNvPr id="822" name="直接连接符 406"/>
            <p:cNvCxnSpPr/>
            <p:nvPr/>
          </p:nvCxnSpPr>
          <p:spPr>
            <a:xfrm>
              <a:off x="4315680" y="3058920"/>
              <a:ext cx="360" cy="360720"/>
            </a:xfrm>
            <a:prstGeom prst="straightConnector1">
              <a:avLst/>
            </a:prstGeom>
            <a:ln w="3175">
              <a:solidFill>
                <a:srgbClr val="ffffff">
                  <a:lumMod val="85000"/>
                </a:srgbClr>
              </a:solidFill>
              <a:round/>
            </a:ln>
          </p:spPr>
        </p:cxnSp>
        <p:cxnSp>
          <p:nvCxnSpPr>
            <p:cNvPr id="823" name="直接连接符 407"/>
            <p:cNvCxnSpPr/>
            <p:nvPr/>
          </p:nvCxnSpPr>
          <p:spPr>
            <a:xfrm>
              <a:off x="4675320" y="3058920"/>
              <a:ext cx="360" cy="360720"/>
            </a:xfrm>
            <a:prstGeom prst="straightConnector1">
              <a:avLst/>
            </a:prstGeom>
            <a:ln w="3175">
              <a:solidFill>
                <a:srgbClr val="ffffff">
                  <a:lumMod val="85000"/>
                </a:srgbClr>
              </a:solidFill>
              <a:round/>
            </a:ln>
          </p:spPr>
        </p:cxnSp>
        <p:cxnSp>
          <p:nvCxnSpPr>
            <p:cNvPr id="824" name="直接连接符 408"/>
            <p:cNvCxnSpPr/>
            <p:nvPr/>
          </p:nvCxnSpPr>
          <p:spPr>
            <a:xfrm>
              <a:off x="5034600" y="3058920"/>
              <a:ext cx="360" cy="360720"/>
            </a:xfrm>
            <a:prstGeom prst="straightConnector1">
              <a:avLst/>
            </a:prstGeom>
            <a:ln w="3175">
              <a:solidFill>
                <a:srgbClr val="ffffff">
                  <a:lumMod val="85000"/>
                </a:srgbClr>
              </a:solidFill>
              <a:round/>
            </a:ln>
          </p:spPr>
        </p:cxnSp>
        <p:cxnSp>
          <p:nvCxnSpPr>
            <p:cNvPr id="825" name="直接连接符 409"/>
            <p:cNvCxnSpPr/>
            <p:nvPr/>
          </p:nvCxnSpPr>
          <p:spPr>
            <a:xfrm>
              <a:off x="5394240" y="3058920"/>
              <a:ext cx="360" cy="360720"/>
            </a:xfrm>
            <a:prstGeom prst="straightConnector1">
              <a:avLst/>
            </a:prstGeom>
            <a:ln w="3175">
              <a:solidFill>
                <a:srgbClr val="ffffff">
                  <a:lumMod val="85000"/>
                </a:srgbClr>
              </a:solidFill>
              <a:round/>
            </a:ln>
          </p:spPr>
        </p:cxnSp>
        <p:cxnSp>
          <p:nvCxnSpPr>
            <p:cNvPr id="826" name="直接连接符 410"/>
            <p:cNvCxnSpPr/>
            <p:nvPr/>
          </p:nvCxnSpPr>
          <p:spPr>
            <a:xfrm>
              <a:off x="5753880" y="3058920"/>
              <a:ext cx="360" cy="360720"/>
            </a:xfrm>
            <a:prstGeom prst="straightConnector1">
              <a:avLst/>
            </a:prstGeom>
            <a:ln w="3175">
              <a:solidFill>
                <a:srgbClr val="ffffff">
                  <a:lumMod val="85000"/>
                </a:srgbClr>
              </a:solidFill>
              <a:round/>
            </a:ln>
          </p:spPr>
        </p:cxnSp>
        <p:cxnSp>
          <p:nvCxnSpPr>
            <p:cNvPr id="827" name="直接连接符 411"/>
            <p:cNvCxnSpPr/>
            <p:nvPr/>
          </p:nvCxnSpPr>
          <p:spPr>
            <a:xfrm>
              <a:off x="6113160" y="3058920"/>
              <a:ext cx="360" cy="360720"/>
            </a:xfrm>
            <a:prstGeom prst="straightConnector1">
              <a:avLst/>
            </a:prstGeom>
            <a:ln w="3175">
              <a:solidFill>
                <a:srgbClr val="ffffff">
                  <a:lumMod val="85000"/>
                </a:srgbClr>
              </a:solidFill>
              <a:round/>
            </a:ln>
          </p:spPr>
        </p:cxnSp>
        <p:cxnSp>
          <p:nvCxnSpPr>
            <p:cNvPr id="828" name="直接连接符 412"/>
            <p:cNvCxnSpPr/>
            <p:nvPr/>
          </p:nvCxnSpPr>
          <p:spPr>
            <a:xfrm>
              <a:off x="6472800" y="3058920"/>
              <a:ext cx="360" cy="360720"/>
            </a:xfrm>
            <a:prstGeom prst="straightConnector1">
              <a:avLst/>
            </a:prstGeom>
            <a:ln w="3175">
              <a:solidFill>
                <a:srgbClr val="ffffff">
                  <a:lumMod val="85000"/>
                </a:srgbClr>
              </a:solidFill>
              <a:round/>
            </a:ln>
          </p:spPr>
        </p:cxnSp>
        <p:cxnSp>
          <p:nvCxnSpPr>
            <p:cNvPr id="829" name="直接连接符 413"/>
            <p:cNvCxnSpPr/>
            <p:nvPr/>
          </p:nvCxnSpPr>
          <p:spPr>
            <a:xfrm>
              <a:off x="6832080" y="3058920"/>
              <a:ext cx="360" cy="360720"/>
            </a:xfrm>
            <a:prstGeom prst="straightConnector1">
              <a:avLst/>
            </a:prstGeom>
            <a:ln w="3175">
              <a:solidFill>
                <a:srgbClr val="ffffff">
                  <a:lumMod val="85000"/>
                </a:srgbClr>
              </a:solidFill>
              <a:round/>
            </a:ln>
          </p:spPr>
        </p:cxnSp>
        <p:cxnSp>
          <p:nvCxnSpPr>
            <p:cNvPr id="830" name="直接连接符 414"/>
            <p:cNvCxnSpPr/>
            <p:nvPr/>
          </p:nvCxnSpPr>
          <p:spPr>
            <a:xfrm>
              <a:off x="7191720" y="3058920"/>
              <a:ext cx="360" cy="360720"/>
            </a:xfrm>
            <a:prstGeom prst="straightConnector1">
              <a:avLst/>
            </a:prstGeom>
            <a:ln w="3175">
              <a:solidFill>
                <a:srgbClr val="ffffff">
                  <a:lumMod val="85000"/>
                </a:srgbClr>
              </a:solidFill>
              <a:round/>
            </a:ln>
          </p:spPr>
        </p:cxnSp>
        <p:cxnSp>
          <p:nvCxnSpPr>
            <p:cNvPr id="831" name="直接连接符 415"/>
            <p:cNvCxnSpPr/>
            <p:nvPr/>
          </p:nvCxnSpPr>
          <p:spPr>
            <a:xfrm>
              <a:off x="7551360" y="3058920"/>
              <a:ext cx="360" cy="360720"/>
            </a:xfrm>
            <a:prstGeom prst="straightConnector1">
              <a:avLst/>
            </a:prstGeom>
            <a:ln w="3175">
              <a:solidFill>
                <a:srgbClr val="ffffff">
                  <a:lumMod val="85000"/>
                </a:srgbClr>
              </a:solidFill>
              <a:round/>
            </a:ln>
          </p:spPr>
        </p:cxnSp>
        <p:cxnSp>
          <p:nvCxnSpPr>
            <p:cNvPr id="832" name="直接连接符 416"/>
            <p:cNvCxnSpPr/>
            <p:nvPr/>
          </p:nvCxnSpPr>
          <p:spPr>
            <a:xfrm>
              <a:off x="7910640" y="3058920"/>
              <a:ext cx="360" cy="360720"/>
            </a:xfrm>
            <a:prstGeom prst="straightConnector1">
              <a:avLst/>
            </a:prstGeom>
            <a:ln w="3175">
              <a:solidFill>
                <a:srgbClr val="ffffff">
                  <a:lumMod val="85000"/>
                </a:srgbClr>
              </a:solidFill>
              <a:round/>
            </a:ln>
          </p:spPr>
        </p:cxnSp>
        <p:cxnSp>
          <p:nvCxnSpPr>
            <p:cNvPr id="833" name="直接连接符 417"/>
            <p:cNvCxnSpPr/>
            <p:nvPr/>
          </p:nvCxnSpPr>
          <p:spPr>
            <a:xfrm>
              <a:off x="8270280" y="3058920"/>
              <a:ext cx="360" cy="360720"/>
            </a:xfrm>
            <a:prstGeom prst="straightConnector1">
              <a:avLst/>
            </a:prstGeom>
            <a:ln w="3175">
              <a:solidFill>
                <a:srgbClr val="ffffff">
                  <a:lumMod val="85000"/>
                </a:srgbClr>
              </a:solidFill>
              <a:round/>
            </a:ln>
          </p:spPr>
        </p:cxnSp>
        <p:cxnSp>
          <p:nvCxnSpPr>
            <p:cNvPr id="834" name="直接连接符 418"/>
            <p:cNvCxnSpPr/>
            <p:nvPr/>
          </p:nvCxnSpPr>
          <p:spPr>
            <a:xfrm>
              <a:off x="8629920" y="3058920"/>
              <a:ext cx="360" cy="360720"/>
            </a:xfrm>
            <a:prstGeom prst="straightConnector1">
              <a:avLst/>
            </a:prstGeom>
            <a:ln w="3175">
              <a:solidFill>
                <a:srgbClr val="ffffff">
                  <a:lumMod val="85000"/>
                </a:srgbClr>
              </a:solidFill>
              <a:round/>
            </a:ln>
          </p:spPr>
        </p:cxnSp>
        <p:cxnSp>
          <p:nvCxnSpPr>
            <p:cNvPr id="835" name="直接连接符 419"/>
            <p:cNvCxnSpPr/>
            <p:nvPr/>
          </p:nvCxnSpPr>
          <p:spPr>
            <a:xfrm>
              <a:off x="8989200" y="3058920"/>
              <a:ext cx="360" cy="360720"/>
            </a:xfrm>
            <a:prstGeom prst="straightConnector1">
              <a:avLst/>
            </a:prstGeom>
            <a:ln w="3175">
              <a:solidFill>
                <a:srgbClr val="ffffff">
                  <a:lumMod val="85000"/>
                </a:srgbClr>
              </a:solidFill>
              <a:round/>
            </a:ln>
          </p:spPr>
        </p:cxnSp>
        <p:cxnSp>
          <p:nvCxnSpPr>
            <p:cNvPr id="836" name="直接连接符 420"/>
            <p:cNvCxnSpPr/>
            <p:nvPr/>
          </p:nvCxnSpPr>
          <p:spPr>
            <a:xfrm>
              <a:off x="9348840" y="3058920"/>
              <a:ext cx="360" cy="360720"/>
            </a:xfrm>
            <a:prstGeom prst="straightConnector1">
              <a:avLst/>
            </a:prstGeom>
            <a:ln w="3175">
              <a:solidFill>
                <a:srgbClr val="ffffff">
                  <a:lumMod val="85000"/>
                </a:srgbClr>
              </a:solidFill>
              <a:round/>
            </a:ln>
          </p:spPr>
        </p:cxnSp>
        <p:cxnSp>
          <p:nvCxnSpPr>
            <p:cNvPr id="837" name="直接连接符 421"/>
            <p:cNvCxnSpPr/>
            <p:nvPr/>
          </p:nvCxnSpPr>
          <p:spPr>
            <a:xfrm>
              <a:off x="9708480" y="3058920"/>
              <a:ext cx="360" cy="360720"/>
            </a:xfrm>
            <a:prstGeom prst="straightConnector1">
              <a:avLst/>
            </a:prstGeom>
            <a:ln w="3175">
              <a:solidFill>
                <a:srgbClr val="ffffff">
                  <a:lumMod val="85000"/>
                </a:srgbClr>
              </a:solidFill>
              <a:round/>
            </a:ln>
          </p:spPr>
        </p:cxnSp>
        <p:cxnSp>
          <p:nvCxnSpPr>
            <p:cNvPr id="838" name="直接连接符 422"/>
            <p:cNvCxnSpPr/>
            <p:nvPr/>
          </p:nvCxnSpPr>
          <p:spPr>
            <a:xfrm>
              <a:off x="10067760" y="3058920"/>
              <a:ext cx="360" cy="360720"/>
            </a:xfrm>
            <a:prstGeom prst="straightConnector1">
              <a:avLst/>
            </a:prstGeom>
            <a:ln w="3175">
              <a:solidFill>
                <a:srgbClr val="ffffff">
                  <a:lumMod val="85000"/>
                </a:srgbClr>
              </a:solidFill>
              <a:round/>
            </a:ln>
          </p:spPr>
        </p:cxnSp>
        <p:cxnSp>
          <p:nvCxnSpPr>
            <p:cNvPr id="839" name="直接连接符 423"/>
            <p:cNvCxnSpPr/>
            <p:nvPr/>
          </p:nvCxnSpPr>
          <p:spPr>
            <a:xfrm>
              <a:off x="10427400" y="3058920"/>
              <a:ext cx="360" cy="360720"/>
            </a:xfrm>
            <a:prstGeom prst="straightConnector1">
              <a:avLst/>
            </a:prstGeom>
            <a:ln w="3175">
              <a:solidFill>
                <a:srgbClr val="ffffff">
                  <a:lumMod val="85000"/>
                </a:srgbClr>
              </a:solidFill>
              <a:round/>
            </a:ln>
          </p:spPr>
        </p:cxnSp>
        <p:cxnSp>
          <p:nvCxnSpPr>
            <p:cNvPr id="840" name="直接连接符 424"/>
            <p:cNvCxnSpPr/>
            <p:nvPr/>
          </p:nvCxnSpPr>
          <p:spPr>
            <a:xfrm>
              <a:off x="10787040" y="3058920"/>
              <a:ext cx="360" cy="360720"/>
            </a:xfrm>
            <a:prstGeom prst="straightConnector1">
              <a:avLst/>
            </a:prstGeom>
            <a:ln w="3175">
              <a:solidFill>
                <a:srgbClr val="ffffff">
                  <a:lumMod val="85000"/>
                </a:srgbClr>
              </a:solidFill>
              <a:round/>
            </a:ln>
          </p:spPr>
        </p:cxnSp>
        <p:cxnSp>
          <p:nvCxnSpPr>
            <p:cNvPr id="841" name="直接连接符 425"/>
            <p:cNvCxnSpPr/>
            <p:nvPr/>
          </p:nvCxnSpPr>
          <p:spPr>
            <a:xfrm>
              <a:off x="720720" y="3599640"/>
              <a:ext cx="360" cy="360720"/>
            </a:xfrm>
            <a:prstGeom prst="straightConnector1">
              <a:avLst/>
            </a:prstGeom>
            <a:ln w="3175">
              <a:solidFill>
                <a:srgbClr val="ffffff">
                  <a:lumMod val="85000"/>
                </a:srgbClr>
              </a:solidFill>
              <a:round/>
            </a:ln>
          </p:spPr>
        </p:cxnSp>
        <p:cxnSp>
          <p:nvCxnSpPr>
            <p:cNvPr id="842" name="直接连接符 426"/>
            <p:cNvCxnSpPr/>
            <p:nvPr/>
          </p:nvCxnSpPr>
          <p:spPr>
            <a:xfrm>
              <a:off x="1080000" y="3600360"/>
              <a:ext cx="360" cy="360720"/>
            </a:xfrm>
            <a:prstGeom prst="straightConnector1">
              <a:avLst/>
            </a:prstGeom>
            <a:ln w="3175">
              <a:solidFill>
                <a:srgbClr val="ffffff">
                  <a:lumMod val="85000"/>
                </a:srgbClr>
              </a:solidFill>
              <a:round/>
            </a:ln>
          </p:spPr>
        </p:cxnSp>
        <p:cxnSp>
          <p:nvCxnSpPr>
            <p:cNvPr id="843" name="直接连接符 427"/>
            <p:cNvCxnSpPr/>
            <p:nvPr/>
          </p:nvCxnSpPr>
          <p:spPr>
            <a:xfrm>
              <a:off x="1439640" y="3600360"/>
              <a:ext cx="360" cy="360720"/>
            </a:xfrm>
            <a:prstGeom prst="straightConnector1">
              <a:avLst/>
            </a:prstGeom>
            <a:ln w="3175">
              <a:solidFill>
                <a:srgbClr val="ffffff">
                  <a:lumMod val="85000"/>
                </a:srgbClr>
              </a:solidFill>
              <a:round/>
            </a:ln>
          </p:spPr>
        </p:cxnSp>
        <p:cxnSp>
          <p:nvCxnSpPr>
            <p:cNvPr id="844" name="直接连接符 428"/>
            <p:cNvCxnSpPr/>
            <p:nvPr/>
          </p:nvCxnSpPr>
          <p:spPr>
            <a:xfrm>
              <a:off x="1798920" y="3600360"/>
              <a:ext cx="360" cy="360720"/>
            </a:xfrm>
            <a:prstGeom prst="straightConnector1">
              <a:avLst/>
            </a:prstGeom>
            <a:ln w="3175">
              <a:solidFill>
                <a:srgbClr val="ffffff">
                  <a:lumMod val="85000"/>
                </a:srgbClr>
              </a:solidFill>
              <a:round/>
            </a:ln>
          </p:spPr>
        </p:cxnSp>
        <p:cxnSp>
          <p:nvCxnSpPr>
            <p:cNvPr id="845" name="直接连接符 429"/>
            <p:cNvCxnSpPr/>
            <p:nvPr/>
          </p:nvCxnSpPr>
          <p:spPr>
            <a:xfrm>
              <a:off x="2158560" y="3600360"/>
              <a:ext cx="360" cy="360720"/>
            </a:xfrm>
            <a:prstGeom prst="straightConnector1">
              <a:avLst/>
            </a:prstGeom>
            <a:ln w="3175">
              <a:solidFill>
                <a:srgbClr val="ffffff">
                  <a:lumMod val="85000"/>
                </a:srgbClr>
              </a:solidFill>
              <a:round/>
            </a:ln>
          </p:spPr>
        </p:cxnSp>
        <p:cxnSp>
          <p:nvCxnSpPr>
            <p:cNvPr id="846" name="直接连接符 430"/>
            <p:cNvCxnSpPr/>
            <p:nvPr/>
          </p:nvCxnSpPr>
          <p:spPr>
            <a:xfrm>
              <a:off x="2518200" y="3600360"/>
              <a:ext cx="360" cy="360720"/>
            </a:xfrm>
            <a:prstGeom prst="straightConnector1">
              <a:avLst/>
            </a:prstGeom>
            <a:ln w="3175">
              <a:solidFill>
                <a:srgbClr val="ffffff">
                  <a:lumMod val="85000"/>
                </a:srgbClr>
              </a:solidFill>
              <a:round/>
            </a:ln>
          </p:spPr>
        </p:cxnSp>
        <p:cxnSp>
          <p:nvCxnSpPr>
            <p:cNvPr id="847" name="直接连接符 431"/>
            <p:cNvCxnSpPr/>
            <p:nvPr/>
          </p:nvCxnSpPr>
          <p:spPr>
            <a:xfrm>
              <a:off x="2877480" y="3600360"/>
              <a:ext cx="360" cy="360720"/>
            </a:xfrm>
            <a:prstGeom prst="straightConnector1">
              <a:avLst/>
            </a:prstGeom>
            <a:ln w="3175">
              <a:solidFill>
                <a:srgbClr val="ffffff">
                  <a:lumMod val="85000"/>
                </a:srgbClr>
              </a:solidFill>
              <a:round/>
            </a:ln>
          </p:spPr>
        </p:cxnSp>
        <p:cxnSp>
          <p:nvCxnSpPr>
            <p:cNvPr id="848" name="直接连接符 432"/>
            <p:cNvCxnSpPr/>
            <p:nvPr/>
          </p:nvCxnSpPr>
          <p:spPr>
            <a:xfrm>
              <a:off x="3237120" y="3600360"/>
              <a:ext cx="360" cy="360720"/>
            </a:xfrm>
            <a:prstGeom prst="straightConnector1">
              <a:avLst/>
            </a:prstGeom>
            <a:ln w="3175">
              <a:solidFill>
                <a:srgbClr val="ffffff">
                  <a:lumMod val="85000"/>
                </a:srgbClr>
              </a:solidFill>
              <a:round/>
            </a:ln>
          </p:spPr>
        </p:cxnSp>
        <p:cxnSp>
          <p:nvCxnSpPr>
            <p:cNvPr id="849" name="直接连接符 433"/>
            <p:cNvCxnSpPr/>
            <p:nvPr/>
          </p:nvCxnSpPr>
          <p:spPr>
            <a:xfrm>
              <a:off x="3596760" y="3600360"/>
              <a:ext cx="360" cy="360720"/>
            </a:xfrm>
            <a:prstGeom prst="straightConnector1">
              <a:avLst/>
            </a:prstGeom>
            <a:ln w="3175">
              <a:solidFill>
                <a:srgbClr val="ffffff">
                  <a:lumMod val="85000"/>
                </a:srgbClr>
              </a:solidFill>
              <a:round/>
            </a:ln>
          </p:spPr>
        </p:cxnSp>
        <p:cxnSp>
          <p:nvCxnSpPr>
            <p:cNvPr id="850" name="直接连接符 434"/>
            <p:cNvCxnSpPr/>
            <p:nvPr/>
          </p:nvCxnSpPr>
          <p:spPr>
            <a:xfrm>
              <a:off x="3956040" y="3600360"/>
              <a:ext cx="360" cy="360720"/>
            </a:xfrm>
            <a:prstGeom prst="straightConnector1">
              <a:avLst/>
            </a:prstGeom>
            <a:ln w="3175">
              <a:solidFill>
                <a:srgbClr val="ffffff">
                  <a:lumMod val="85000"/>
                </a:srgbClr>
              </a:solidFill>
              <a:round/>
            </a:ln>
          </p:spPr>
        </p:cxnSp>
        <p:cxnSp>
          <p:nvCxnSpPr>
            <p:cNvPr id="851" name="直接连接符 435"/>
            <p:cNvCxnSpPr/>
            <p:nvPr/>
          </p:nvCxnSpPr>
          <p:spPr>
            <a:xfrm>
              <a:off x="4315680" y="3600360"/>
              <a:ext cx="360" cy="360720"/>
            </a:xfrm>
            <a:prstGeom prst="straightConnector1">
              <a:avLst/>
            </a:prstGeom>
            <a:ln w="3175">
              <a:solidFill>
                <a:srgbClr val="ffffff">
                  <a:lumMod val="85000"/>
                </a:srgbClr>
              </a:solidFill>
              <a:round/>
            </a:ln>
          </p:spPr>
        </p:cxnSp>
        <p:cxnSp>
          <p:nvCxnSpPr>
            <p:cNvPr id="852" name="直接连接符 436"/>
            <p:cNvCxnSpPr/>
            <p:nvPr/>
          </p:nvCxnSpPr>
          <p:spPr>
            <a:xfrm>
              <a:off x="4675320" y="3600360"/>
              <a:ext cx="360" cy="360720"/>
            </a:xfrm>
            <a:prstGeom prst="straightConnector1">
              <a:avLst/>
            </a:prstGeom>
            <a:ln w="3175">
              <a:solidFill>
                <a:srgbClr val="ffffff">
                  <a:lumMod val="85000"/>
                </a:srgbClr>
              </a:solidFill>
              <a:round/>
            </a:ln>
          </p:spPr>
        </p:cxnSp>
        <p:cxnSp>
          <p:nvCxnSpPr>
            <p:cNvPr id="853" name="直接连接符 437"/>
            <p:cNvCxnSpPr/>
            <p:nvPr/>
          </p:nvCxnSpPr>
          <p:spPr>
            <a:xfrm>
              <a:off x="5034600" y="3600360"/>
              <a:ext cx="360" cy="360720"/>
            </a:xfrm>
            <a:prstGeom prst="straightConnector1">
              <a:avLst/>
            </a:prstGeom>
            <a:ln w="3175">
              <a:solidFill>
                <a:srgbClr val="ffffff">
                  <a:lumMod val="85000"/>
                </a:srgbClr>
              </a:solidFill>
              <a:round/>
            </a:ln>
          </p:spPr>
        </p:cxnSp>
        <p:cxnSp>
          <p:nvCxnSpPr>
            <p:cNvPr id="854" name="直接连接符 438"/>
            <p:cNvCxnSpPr/>
            <p:nvPr/>
          </p:nvCxnSpPr>
          <p:spPr>
            <a:xfrm>
              <a:off x="5394240" y="3600360"/>
              <a:ext cx="360" cy="360720"/>
            </a:xfrm>
            <a:prstGeom prst="straightConnector1">
              <a:avLst/>
            </a:prstGeom>
            <a:ln w="3175">
              <a:solidFill>
                <a:srgbClr val="ffffff">
                  <a:lumMod val="85000"/>
                </a:srgbClr>
              </a:solidFill>
              <a:round/>
            </a:ln>
          </p:spPr>
        </p:cxnSp>
        <p:cxnSp>
          <p:nvCxnSpPr>
            <p:cNvPr id="855" name="直接连接符 439"/>
            <p:cNvCxnSpPr/>
            <p:nvPr/>
          </p:nvCxnSpPr>
          <p:spPr>
            <a:xfrm>
              <a:off x="5753880" y="3600360"/>
              <a:ext cx="360" cy="360720"/>
            </a:xfrm>
            <a:prstGeom prst="straightConnector1">
              <a:avLst/>
            </a:prstGeom>
            <a:ln w="3175">
              <a:solidFill>
                <a:srgbClr val="ffffff">
                  <a:lumMod val="85000"/>
                </a:srgbClr>
              </a:solidFill>
              <a:round/>
            </a:ln>
          </p:spPr>
        </p:cxnSp>
        <p:cxnSp>
          <p:nvCxnSpPr>
            <p:cNvPr id="856" name="直接连接符 440"/>
            <p:cNvCxnSpPr/>
            <p:nvPr/>
          </p:nvCxnSpPr>
          <p:spPr>
            <a:xfrm>
              <a:off x="6113160" y="3600360"/>
              <a:ext cx="360" cy="360720"/>
            </a:xfrm>
            <a:prstGeom prst="straightConnector1">
              <a:avLst/>
            </a:prstGeom>
            <a:ln w="3175">
              <a:solidFill>
                <a:srgbClr val="ffffff">
                  <a:lumMod val="85000"/>
                </a:srgbClr>
              </a:solidFill>
              <a:round/>
            </a:ln>
          </p:spPr>
        </p:cxnSp>
        <p:cxnSp>
          <p:nvCxnSpPr>
            <p:cNvPr id="857" name="直接连接符 441"/>
            <p:cNvCxnSpPr/>
            <p:nvPr/>
          </p:nvCxnSpPr>
          <p:spPr>
            <a:xfrm>
              <a:off x="6472800" y="3600360"/>
              <a:ext cx="360" cy="360720"/>
            </a:xfrm>
            <a:prstGeom prst="straightConnector1">
              <a:avLst/>
            </a:prstGeom>
            <a:ln w="3175">
              <a:solidFill>
                <a:srgbClr val="ffffff">
                  <a:lumMod val="85000"/>
                </a:srgbClr>
              </a:solidFill>
              <a:round/>
            </a:ln>
          </p:spPr>
        </p:cxnSp>
        <p:cxnSp>
          <p:nvCxnSpPr>
            <p:cNvPr id="858" name="直接连接符 442"/>
            <p:cNvCxnSpPr/>
            <p:nvPr/>
          </p:nvCxnSpPr>
          <p:spPr>
            <a:xfrm>
              <a:off x="6832080" y="3600360"/>
              <a:ext cx="360" cy="360720"/>
            </a:xfrm>
            <a:prstGeom prst="straightConnector1">
              <a:avLst/>
            </a:prstGeom>
            <a:ln w="3175">
              <a:solidFill>
                <a:srgbClr val="ffffff">
                  <a:lumMod val="85000"/>
                </a:srgbClr>
              </a:solidFill>
              <a:round/>
            </a:ln>
          </p:spPr>
        </p:cxnSp>
        <p:cxnSp>
          <p:nvCxnSpPr>
            <p:cNvPr id="859" name="直接连接符 443"/>
            <p:cNvCxnSpPr/>
            <p:nvPr/>
          </p:nvCxnSpPr>
          <p:spPr>
            <a:xfrm>
              <a:off x="7191720" y="3600360"/>
              <a:ext cx="360" cy="360720"/>
            </a:xfrm>
            <a:prstGeom prst="straightConnector1">
              <a:avLst/>
            </a:prstGeom>
            <a:ln w="3175">
              <a:solidFill>
                <a:srgbClr val="ffffff">
                  <a:lumMod val="85000"/>
                </a:srgbClr>
              </a:solidFill>
              <a:round/>
            </a:ln>
          </p:spPr>
        </p:cxnSp>
        <p:cxnSp>
          <p:nvCxnSpPr>
            <p:cNvPr id="860" name="直接连接符 444"/>
            <p:cNvCxnSpPr/>
            <p:nvPr/>
          </p:nvCxnSpPr>
          <p:spPr>
            <a:xfrm>
              <a:off x="7551360" y="3600360"/>
              <a:ext cx="360" cy="360720"/>
            </a:xfrm>
            <a:prstGeom prst="straightConnector1">
              <a:avLst/>
            </a:prstGeom>
            <a:ln w="3175">
              <a:solidFill>
                <a:srgbClr val="ffffff">
                  <a:lumMod val="85000"/>
                </a:srgbClr>
              </a:solidFill>
              <a:round/>
            </a:ln>
          </p:spPr>
        </p:cxnSp>
        <p:cxnSp>
          <p:nvCxnSpPr>
            <p:cNvPr id="861" name="直接连接符 445"/>
            <p:cNvCxnSpPr/>
            <p:nvPr/>
          </p:nvCxnSpPr>
          <p:spPr>
            <a:xfrm>
              <a:off x="7910640" y="3600360"/>
              <a:ext cx="360" cy="360720"/>
            </a:xfrm>
            <a:prstGeom prst="straightConnector1">
              <a:avLst/>
            </a:prstGeom>
            <a:ln w="3175">
              <a:solidFill>
                <a:srgbClr val="ffffff">
                  <a:lumMod val="85000"/>
                </a:srgbClr>
              </a:solidFill>
              <a:round/>
            </a:ln>
          </p:spPr>
        </p:cxnSp>
        <p:cxnSp>
          <p:nvCxnSpPr>
            <p:cNvPr id="862" name="直接连接符 446"/>
            <p:cNvCxnSpPr/>
            <p:nvPr/>
          </p:nvCxnSpPr>
          <p:spPr>
            <a:xfrm>
              <a:off x="8270280" y="3600360"/>
              <a:ext cx="360" cy="360720"/>
            </a:xfrm>
            <a:prstGeom prst="straightConnector1">
              <a:avLst/>
            </a:prstGeom>
            <a:ln w="3175">
              <a:solidFill>
                <a:srgbClr val="ffffff">
                  <a:lumMod val="85000"/>
                </a:srgbClr>
              </a:solidFill>
              <a:round/>
            </a:ln>
          </p:spPr>
        </p:cxnSp>
        <p:cxnSp>
          <p:nvCxnSpPr>
            <p:cNvPr id="863" name="直接连接符 447"/>
            <p:cNvCxnSpPr/>
            <p:nvPr/>
          </p:nvCxnSpPr>
          <p:spPr>
            <a:xfrm>
              <a:off x="8629920" y="3600360"/>
              <a:ext cx="360" cy="360720"/>
            </a:xfrm>
            <a:prstGeom prst="straightConnector1">
              <a:avLst/>
            </a:prstGeom>
            <a:ln w="3175">
              <a:solidFill>
                <a:srgbClr val="ffffff">
                  <a:lumMod val="85000"/>
                </a:srgbClr>
              </a:solidFill>
              <a:round/>
            </a:ln>
          </p:spPr>
        </p:cxnSp>
        <p:cxnSp>
          <p:nvCxnSpPr>
            <p:cNvPr id="864" name="直接连接符 448"/>
            <p:cNvCxnSpPr/>
            <p:nvPr/>
          </p:nvCxnSpPr>
          <p:spPr>
            <a:xfrm>
              <a:off x="8989200" y="3600360"/>
              <a:ext cx="360" cy="360720"/>
            </a:xfrm>
            <a:prstGeom prst="straightConnector1">
              <a:avLst/>
            </a:prstGeom>
            <a:ln w="3175">
              <a:solidFill>
                <a:srgbClr val="ffffff">
                  <a:lumMod val="85000"/>
                </a:srgbClr>
              </a:solidFill>
              <a:round/>
            </a:ln>
          </p:spPr>
        </p:cxnSp>
        <p:cxnSp>
          <p:nvCxnSpPr>
            <p:cNvPr id="865" name="直接连接符 449"/>
            <p:cNvCxnSpPr/>
            <p:nvPr/>
          </p:nvCxnSpPr>
          <p:spPr>
            <a:xfrm>
              <a:off x="9348840" y="3600360"/>
              <a:ext cx="360" cy="360720"/>
            </a:xfrm>
            <a:prstGeom prst="straightConnector1">
              <a:avLst/>
            </a:prstGeom>
            <a:ln w="3175">
              <a:solidFill>
                <a:srgbClr val="ffffff">
                  <a:lumMod val="85000"/>
                </a:srgbClr>
              </a:solidFill>
              <a:round/>
            </a:ln>
          </p:spPr>
        </p:cxnSp>
        <p:cxnSp>
          <p:nvCxnSpPr>
            <p:cNvPr id="866" name="直接连接符 450"/>
            <p:cNvCxnSpPr/>
            <p:nvPr/>
          </p:nvCxnSpPr>
          <p:spPr>
            <a:xfrm>
              <a:off x="9708480" y="3600360"/>
              <a:ext cx="360" cy="360720"/>
            </a:xfrm>
            <a:prstGeom prst="straightConnector1">
              <a:avLst/>
            </a:prstGeom>
            <a:ln w="3175">
              <a:solidFill>
                <a:srgbClr val="ffffff">
                  <a:lumMod val="85000"/>
                </a:srgbClr>
              </a:solidFill>
              <a:round/>
            </a:ln>
          </p:spPr>
        </p:cxnSp>
        <p:cxnSp>
          <p:nvCxnSpPr>
            <p:cNvPr id="867" name="直接连接符 451"/>
            <p:cNvCxnSpPr/>
            <p:nvPr/>
          </p:nvCxnSpPr>
          <p:spPr>
            <a:xfrm>
              <a:off x="10067760" y="3600360"/>
              <a:ext cx="360" cy="360720"/>
            </a:xfrm>
            <a:prstGeom prst="straightConnector1">
              <a:avLst/>
            </a:prstGeom>
            <a:ln w="3175">
              <a:solidFill>
                <a:srgbClr val="ffffff">
                  <a:lumMod val="85000"/>
                </a:srgbClr>
              </a:solidFill>
              <a:round/>
            </a:ln>
          </p:spPr>
        </p:cxnSp>
        <p:cxnSp>
          <p:nvCxnSpPr>
            <p:cNvPr id="868" name="直接连接符 452"/>
            <p:cNvCxnSpPr/>
            <p:nvPr/>
          </p:nvCxnSpPr>
          <p:spPr>
            <a:xfrm>
              <a:off x="10427400" y="3600360"/>
              <a:ext cx="360" cy="360720"/>
            </a:xfrm>
            <a:prstGeom prst="straightConnector1">
              <a:avLst/>
            </a:prstGeom>
            <a:ln w="3175">
              <a:solidFill>
                <a:srgbClr val="ffffff">
                  <a:lumMod val="85000"/>
                </a:srgbClr>
              </a:solidFill>
              <a:round/>
            </a:ln>
          </p:spPr>
        </p:cxnSp>
        <p:cxnSp>
          <p:nvCxnSpPr>
            <p:cNvPr id="869" name="直接连接符 453"/>
            <p:cNvCxnSpPr/>
            <p:nvPr/>
          </p:nvCxnSpPr>
          <p:spPr>
            <a:xfrm>
              <a:off x="10787040" y="3600360"/>
              <a:ext cx="360" cy="360720"/>
            </a:xfrm>
            <a:prstGeom prst="straightConnector1">
              <a:avLst/>
            </a:prstGeom>
            <a:ln w="3175">
              <a:solidFill>
                <a:srgbClr val="ffffff">
                  <a:lumMod val="85000"/>
                </a:srgbClr>
              </a:solidFill>
              <a:round/>
            </a:ln>
          </p:spPr>
        </p:cxnSp>
        <p:cxnSp>
          <p:nvCxnSpPr>
            <p:cNvPr id="870" name="直接连接符 454"/>
            <p:cNvCxnSpPr/>
            <p:nvPr/>
          </p:nvCxnSpPr>
          <p:spPr>
            <a:xfrm>
              <a:off x="720720" y="4139280"/>
              <a:ext cx="360" cy="360720"/>
            </a:xfrm>
            <a:prstGeom prst="straightConnector1">
              <a:avLst/>
            </a:prstGeom>
            <a:ln w="3175">
              <a:solidFill>
                <a:srgbClr val="ffffff">
                  <a:lumMod val="85000"/>
                </a:srgbClr>
              </a:solidFill>
              <a:round/>
            </a:ln>
          </p:spPr>
        </p:cxnSp>
        <p:cxnSp>
          <p:nvCxnSpPr>
            <p:cNvPr id="871" name="直接连接符 455"/>
            <p:cNvCxnSpPr/>
            <p:nvPr/>
          </p:nvCxnSpPr>
          <p:spPr>
            <a:xfrm>
              <a:off x="1080000" y="4140000"/>
              <a:ext cx="360" cy="360720"/>
            </a:xfrm>
            <a:prstGeom prst="straightConnector1">
              <a:avLst/>
            </a:prstGeom>
            <a:ln w="3175">
              <a:solidFill>
                <a:srgbClr val="ffffff">
                  <a:lumMod val="85000"/>
                </a:srgbClr>
              </a:solidFill>
              <a:round/>
            </a:ln>
          </p:spPr>
        </p:cxnSp>
        <p:cxnSp>
          <p:nvCxnSpPr>
            <p:cNvPr id="872" name="直接连接符 456"/>
            <p:cNvCxnSpPr/>
            <p:nvPr/>
          </p:nvCxnSpPr>
          <p:spPr>
            <a:xfrm>
              <a:off x="1439640" y="4140000"/>
              <a:ext cx="360" cy="360720"/>
            </a:xfrm>
            <a:prstGeom prst="straightConnector1">
              <a:avLst/>
            </a:prstGeom>
            <a:ln w="3175">
              <a:solidFill>
                <a:srgbClr val="ffffff">
                  <a:lumMod val="85000"/>
                </a:srgbClr>
              </a:solidFill>
              <a:round/>
            </a:ln>
          </p:spPr>
        </p:cxnSp>
        <p:cxnSp>
          <p:nvCxnSpPr>
            <p:cNvPr id="873" name="直接连接符 457"/>
            <p:cNvCxnSpPr/>
            <p:nvPr/>
          </p:nvCxnSpPr>
          <p:spPr>
            <a:xfrm>
              <a:off x="1798920" y="4140000"/>
              <a:ext cx="360" cy="360720"/>
            </a:xfrm>
            <a:prstGeom prst="straightConnector1">
              <a:avLst/>
            </a:prstGeom>
            <a:ln w="3175">
              <a:solidFill>
                <a:srgbClr val="ffffff">
                  <a:lumMod val="85000"/>
                </a:srgbClr>
              </a:solidFill>
              <a:round/>
            </a:ln>
          </p:spPr>
        </p:cxnSp>
        <p:cxnSp>
          <p:nvCxnSpPr>
            <p:cNvPr id="874" name="直接连接符 458"/>
            <p:cNvCxnSpPr/>
            <p:nvPr/>
          </p:nvCxnSpPr>
          <p:spPr>
            <a:xfrm>
              <a:off x="2158560" y="4140000"/>
              <a:ext cx="360" cy="360720"/>
            </a:xfrm>
            <a:prstGeom prst="straightConnector1">
              <a:avLst/>
            </a:prstGeom>
            <a:ln w="3175">
              <a:solidFill>
                <a:srgbClr val="ffffff">
                  <a:lumMod val="85000"/>
                </a:srgbClr>
              </a:solidFill>
              <a:round/>
            </a:ln>
          </p:spPr>
        </p:cxnSp>
        <p:cxnSp>
          <p:nvCxnSpPr>
            <p:cNvPr id="875" name="直接连接符 459"/>
            <p:cNvCxnSpPr/>
            <p:nvPr/>
          </p:nvCxnSpPr>
          <p:spPr>
            <a:xfrm>
              <a:off x="2518200" y="4140000"/>
              <a:ext cx="360" cy="360720"/>
            </a:xfrm>
            <a:prstGeom prst="straightConnector1">
              <a:avLst/>
            </a:prstGeom>
            <a:ln w="3175">
              <a:solidFill>
                <a:srgbClr val="ffffff">
                  <a:lumMod val="85000"/>
                </a:srgbClr>
              </a:solidFill>
              <a:round/>
            </a:ln>
          </p:spPr>
        </p:cxnSp>
        <p:cxnSp>
          <p:nvCxnSpPr>
            <p:cNvPr id="876" name="直接连接符 460"/>
            <p:cNvCxnSpPr/>
            <p:nvPr/>
          </p:nvCxnSpPr>
          <p:spPr>
            <a:xfrm>
              <a:off x="2877480" y="4140000"/>
              <a:ext cx="360" cy="360720"/>
            </a:xfrm>
            <a:prstGeom prst="straightConnector1">
              <a:avLst/>
            </a:prstGeom>
            <a:ln w="3175">
              <a:solidFill>
                <a:srgbClr val="ffffff">
                  <a:lumMod val="85000"/>
                </a:srgbClr>
              </a:solidFill>
              <a:round/>
            </a:ln>
          </p:spPr>
        </p:cxnSp>
        <p:cxnSp>
          <p:nvCxnSpPr>
            <p:cNvPr id="877" name="直接连接符 461"/>
            <p:cNvCxnSpPr/>
            <p:nvPr/>
          </p:nvCxnSpPr>
          <p:spPr>
            <a:xfrm>
              <a:off x="3237120" y="4140000"/>
              <a:ext cx="360" cy="360720"/>
            </a:xfrm>
            <a:prstGeom prst="straightConnector1">
              <a:avLst/>
            </a:prstGeom>
            <a:ln w="3175">
              <a:solidFill>
                <a:srgbClr val="ffffff">
                  <a:lumMod val="85000"/>
                </a:srgbClr>
              </a:solidFill>
              <a:round/>
            </a:ln>
          </p:spPr>
        </p:cxnSp>
        <p:cxnSp>
          <p:nvCxnSpPr>
            <p:cNvPr id="878" name="直接连接符 462"/>
            <p:cNvCxnSpPr/>
            <p:nvPr/>
          </p:nvCxnSpPr>
          <p:spPr>
            <a:xfrm>
              <a:off x="3596760" y="4140000"/>
              <a:ext cx="360" cy="360720"/>
            </a:xfrm>
            <a:prstGeom prst="straightConnector1">
              <a:avLst/>
            </a:prstGeom>
            <a:ln w="3175">
              <a:solidFill>
                <a:srgbClr val="ffffff">
                  <a:lumMod val="85000"/>
                </a:srgbClr>
              </a:solidFill>
              <a:round/>
            </a:ln>
          </p:spPr>
        </p:cxnSp>
        <p:cxnSp>
          <p:nvCxnSpPr>
            <p:cNvPr id="879" name="直接连接符 463"/>
            <p:cNvCxnSpPr/>
            <p:nvPr/>
          </p:nvCxnSpPr>
          <p:spPr>
            <a:xfrm>
              <a:off x="3956040" y="4140000"/>
              <a:ext cx="360" cy="360720"/>
            </a:xfrm>
            <a:prstGeom prst="straightConnector1">
              <a:avLst/>
            </a:prstGeom>
            <a:ln w="3175">
              <a:solidFill>
                <a:srgbClr val="ffffff">
                  <a:lumMod val="85000"/>
                </a:srgbClr>
              </a:solidFill>
              <a:round/>
            </a:ln>
          </p:spPr>
        </p:cxnSp>
        <p:cxnSp>
          <p:nvCxnSpPr>
            <p:cNvPr id="880" name="直接连接符 464"/>
            <p:cNvCxnSpPr/>
            <p:nvPr/>
          </p:nvCxnSpPr>
          <p:spPr>
            <a:xfrm>
              <a:off x="4315680" y="4140000"/>
              <a:ext cx="360" cy="360720"/>
            </a:xfrm>
            <a:prstGeom prst="straightConnector1">
              <a:avLst/>
            </a:prstGeom>
            <a:ln w="3175">
              <a:solidFill>
                <a:srgbClr val="ffffff">
                  <a:lumMod val="85000"/>
                </a:srgbClr>
              </a:solidFill>
              <a:round/>
            </a:ln>
          </p:spPr>
        </p:cxnSp>
        <p:cxnSp>
          <p:nvCxnSpPr>
            <p:cNvPr id="881" name="直接连接符 465"/>
            <p:cNvCxnSpPr/>
            <p:nvPr/>
          </p:nvCxnSpPr>
          <p:spPr>
            <a:xfrm>
              <a:off x="4675320" y="4140000"/>
              <a:ext cx="360" cy="360720"/>
            </a:xfrm>
            <a:prstGeom prst="straightConnector1">
              <a:avLst/>
            </a:prstGeom>
            <a:ln w="3175">
              <a:solidFill>
                <a:srgbClr val="ffffff">
                  <a:lumMod val="85000"/>
                </a:srgbClr>
              </a:solidFill>
              <a:round/>
            </a:ln>
          </p:spPr>
        </p:cxnSp>
        <p:cxnSp>
          <p:nvCxnSpPr>
            <p:cNvPr id="882" name="直接连接符 466"/>
            <p:cNvCxnSpPr/>
            <p:nvPr/>
          </p:nvCxnSpPr>
          <p:spPr>
            <a:xfrm>
              <a:off x="5034600" y="4140000"/>
              <a:ext cx="360" cy="360720"/>
            </a:xfrm>
            <a:prstGeom prst="straightConnector1">
              <a:avLst/>
            </a:prstGeom>
            <a:ln w="3175">
              <a:solidFill>
                <a:srgbClr val="ffffff">
                  <a:lumMod val="85000"/>
                </a:srgbClr>
              </a:solidFill>
              <a:round/>
            </a:ln>
          </p:spPr>
        </p:cxnSp>
        <p:cxnSp>
          <p:nvCxnSpPr>
            <p:cNvPr id="883" name="直接连接符 467"/>
            <p:cNvCxnSpPr/>
            <p:nvPr/>
          </p:nvCxnSpPr>
          <p:spPr>
            <a:xfrm>
              <a:off x="5394240" y="4140000"/>
              <a:ext cx="360" cy="360720"/>
            </a:xfrm>
            <a:prstGeom prst="straightConnector1">
              <a:avLst/>
            </a:prstGeom>
            <a:ln w="3175">
              <a:solidFill>
                <a:srgbClr val="ffffff">
                  <a:lumMod val="85000"/>
                </a:srgbClr>
              </a:solidFill>
              <a:round/>
            </a:ln>
          </p:spPr>
        </p:cxnSp>
        <p:cxnSp>
          <p:nvCxnSpPr>
            <p:cNvPr id="884" name="直接连接符 468"/>
            <p:cNvCxnSpPr/>
            <p:nvPr/>
          </p:nvCxnSpPr>
          <p:spPr>
            <a:xfrm>
              <a:off x="5753880" y="4140000"/>
              <a:ext cx="360" cy="360720"/>
            </a:xfrm>
            <a:prstGeom prst="straightConnector1">
              <a:avLst/>
            </a:prstGeom>
            <a:ln w="3175">
              <a:solidFill>
                <a:srgbClr val="ffffff">
                  <a:lumMod val="85000"/>
                </a:srgbClr>
              </a:solidFill>
              <a:round/>
            </a:ln>
          </p:spPr>
        </p:cxnSp>
        <p:cxnSp>
          <p:nvCxnSpPr>
            <p:cNvPr id="885" name="直接连接符 469"/>
            <p:cNvCxnSpPr/>
            <p:nvPr/>
          </p:nvCxnSpPr>
          <p:spPr>
            <a:xfrm>
              <a:off x="6113160" y="4140000"/>
              <a:ext cx="360" cy="360720"/>
            </a:xfrm>
            <a:prstGeom prst="straightConnector1">
              <a:avLst/>
            </a:prstGeom>
            <a:ln w="3175">
              <a:solidFill>
                <a:srgbClr val="ffffff">
                  <a:lumMod val="85000"/>
                </a:srgbClr>
              </a:solidFill>
              <a:round/>
            </a:ln>
          </p:spPr>
        </p:cxnSp>
        <p:cxnSp>
          <p:nvCxnSpPr>
            <p:cNvPr id="886" name="直接连接符 470"/>
            <p:cNvCxnSpPr/>
            <p:nvPr/>
          </p:nvCxnSpPr>
          <p:spPr>
            <a:xfrm>
              <a:off x="6472800" y="4140000"/>
              <a:ext cx="360" cy="360720"/>
            </a:xfrm>
            <a:prstGeom prst="straightConnector1">
              <a:avLst/>
            </a:prstGeom>
            <a:ln w="3175">
              <a:solidFill>
                <a:srgbClr val="ffffff">
                  <a:lumMod val="85000"/>
                </a:srgbClr>
              </a:solidFill>
              <a:round/>
            </a:ln>
          </p:spPr>
        </p:cxnSp>
        <p:cxnSp>
          <p:nvCxnSpPr>
            <p:cNvPr id="887" name="直接连接符 471"/>
            <p:cNvCxnSpPr/>
            <p:nvPr/>
          </p:nvCxnSpPr>
          <p:spPr>
            <a:xfrm>
              <a:off x="6832080" y="4140000"/>
              <a:ext cx="360" cy="360720"/>
            </a:xfrm>
            <a:prstGeom prst="straightConnector1">
              <a:avLst/>
            </a:prstGeom>
            <a:ln w="3175">
              <a:solidFill>
                <a:srgbClr val="ffffff">
                  <a:lumMod val="85000"/>
                </a:srgbClr>
              </a:solidFill>
              <a:round/>
            </a:ln>
          </p:spPr>
        </p:cxnSp>
        <p:cxnSp>
          <p:nvCxnSpPr>
            <p:cNvPr id="888" name="直接连接符 472"/>
            <p:cNvCxnSpPr/>
            <p:nvPr/>
          </p:nvCxnSpPr>
          <p:spPr>
            <a:xfrm>
              <a:off x="7191720" y="4140000"/>
              <a:ext cx="360" cy="360720"/>
            </a:xfrm>
            <a:prstGeom prst="straightConnector1">
              <a:avLst/>
            </a:prstGeom>
            <a:ln w="3175">
              <a:solidFill>
                <a:srgbClr val="ffffff">
                  <a:lumMod val="85000"/>
                </a:srgbClr>
              </a:solidFill>
              <a:round/>
            </a:ln>
          </p:spPr>
        </p:cxnSp>
        <p:cxnSp>
          <p:nvCxnSpPr>
            <p:cNvPr id="889" name="直接连接符 473"/>
            <p:cNvCxnSpPr/>
            <p:nvPr/>
          </p:nvCxnSpPr>
          <p:spPr>
            <a:xfrm>
              <a:off x="7551360" y="4140000"/>
              <a:ext cx="360" cy="360720"/>
            </a:xfrm>
            <a:prstGeom prst="straightConnector1">
              <a:avLst/>
            </a:prstGeom>
            <a:ln w="3175">
              <a:solidFill>
                <a:srgbClr val="ffffff">
                  <a:lumMod val="85000"/>
                </a:srgbClr>
              </a:solidFill>
              <a:round/>
            </a:ln>
          </p:spPr>
        </p:cxnSp>
        <p:cxnSp>
          <p:nvCxnSpPr>
            <p:cNvPr id="890" name="直接连接符 474"/>
            <p:cNvCxnSpPr/>
            <p:nvPr/>
          </p:nvCxnSpPr>
          <p:spPr>
            <a:xfrm>
              <a:off x="7910640" y="4140000"/>
              <a:ext cx="360" cy="360720"/>
            </a:xfrm>
            <a:prstGeom prst="straightConnector1">
              <a:avLst/>
            </a:prstGeom>
            <a:ln w="3175">
              <a:solidFill>
                <a:srgbClr val="ffffff">
                  <a:lumMod val="85000"/>
                </a:srgbClr>
              </a:solidFill>
              <a:round/>
            </a:ln>
          </p:spPr>
        </p:cxnSp>
        <p:cxnSp>
          <p:nvCxnSpPr>
            <p:cNvPr id="891" name="直接连接符 475"/>
            <p:cNvCxnSpPr/>
            <p:nvPr/>
          </p:nvCxnSpPr>
          <p:spPr>
            <a:xfrm>
              <a:off x="8270280" y="4140000"/>
              <a:ext cx="360" cy="360720"/>
            </a:xfrm>
            <a:prstGeom prst="straightConnector1">
              <a:avLst/>
            </a:prstGeom>
            <a:ln w="3175">
              <a:solidFill>
                <a:srgbClr val="ffffff">
                  <a:lumMod val="85000"/>
                </a:srgbClr>
              </a:solidFill>
              <a:round/>
            </a:ln>
          </p:spPr>
        </p:cxnSp>
        <p:cxnSp>
          <p:nvCxnSpPr>
            <p:cNvPr id="892" name="直接连接符 476"/>
            <p:cNvCxnSpPr/>
            <p:nvPr/>
          </p:nvCxnSpPr>
          <p:spPr>
            <a:xfrm>
              <a:off x="8629920" y="4140000"/>
              <a:ext cx="360" cy="360720"/>
            </a:xfrm>
            <a:prstGeom prst="straightConnector1">
              <a:avLst/>
            </a:prstGeom>
            <a:ln w="3175">
              <a:solidFill>
                <a:srgbClr val="ffffff">
                  <a:lumMod val="85000"/>
                </a:srgbClr>
              </a:solidFill>
              <a:round/>
            </a:ln>
          </p:spPr>
        </p:cxnSp>
        <p:cxnSp>
          <p:nvCxnSpPr>
            <p:cNvPr id="893" name="直接连接符 477"/>
            <p:cNvCxnSpPr/>
            <p:nvPr/>
          </p:nvCxnSpPr>
          <p:spPr>
            <a:xfrm>
              <a:off x="8989200" y="4140000"/>
              <a:ext cx="360" cy="360720"/>
            </a:xfrm>
            <a:prstGeom prst="straightConnector1">
              <a:avLst/>
            </a:prstGeom>
            <a:ln w="3175">
              <a:solidFill>
                <a:srgbClr val="ffffff">
                  <a:lumMod val="85000"/>
                </a:srgbClr>
              </a:solidFill>
              <a:round/>
            </a:ln>
          </p:spPr>
        </p:cxnSp>
        <p:cxnSp>
          <p:nvCxnSpPr>
            <p:cNvPr id="894" name="直接连接符 478"/>
            <p:cNvCxnSpPr/>
            <p:nvPr/>
          </p:nvCxnSpPr>
          <p:spPr>
            <a:xfrm>
              <a:off x="9348840" y="4140000"/>
              <a:ext cx="360" cy="360720"/>
            </a:xfrm>
            <a:prstGeom prst="straightConnector1">
              <a:avLst/>
            </a:prstGeom>
            <a:ln w="3175">
              <a:solidFill>
                <a:srgbClr val="ffffff">
                  <a:lumMod val="85000"/>
                </a:srgbClr>
              </a:solidFill>
              <a:round/>
            </a:ln>
          </p:spPr>
        </p:cxnSp>
        <p:cxnSp>
          <p:nvCxnSpPr>
            <p:cNvPr id="895" name="直接连接符 479"/>
            <p:cNvCxnSpPr/>
            <p:nvPr/>
          </p:nvCxnSpPr>
          <p:spPr>
            <a:xfrm>
              <a:off x="9708480" y="4140000"/>
              <a:ext cx="360" cy="360720"/>
            </a:xfrm>
            <a:prstGeom prst="straightConnector1">
              <a:avLst/>
            </a:prstGeom>
            <a:ln w="3175">
              <a:solidFill>
                <a:srgbClr val="ffffff">
                  <a:lumMod val="85000"/>
                </a:srgbClr>
              </a:solidFill>
              <a:round/>
            </a:ln>
          </p:spPr>
        </p:cxnSp>
        <p:cxnSp>
          <p:nvCxnSpPr>
            <p:cNvPr id="896" name="直接连接符 480"/>
            <p:cNvCxnSpPr/>
            <p:nvPr/>
          </p:nvCxnSpPr>
          <p:spPr>
            <a:xfrm>
              <a:off x="10067760" y="4140000"/>
              <a:ext cx="360" cy="360720"/>
            </a:xfrm>
            <a:prstGeom prst="straightConnector1">
              <a:avLst/>
            </a:prstGeom>
            <a:ln w="3175">
              <a:solidFill>
                <a:srgbClr val="ffffff">
                  <a:lumMod val="85000"/>
                </a:srgbClr>
              </a:solidFill>
              <a:round/>
            </a:ln>
          </p:spPr>
        </p:cxnSp>
        <p:cxnSp>
          <p:nvCxnSpPr>
            <p:cNvPr id="897" name="直接连接符 481"/>
            <p:cNvCxnSpPr/>
            <p:nvPr/>
          </p:nvCxnSpPr>
          <p:spPr>
            <a:xfrm>
              <a:off x="10427400" y="4140000"/>
              <a:ext cx="360" cy="360720"/>
            </a:xfrm>
            <a:prstGeom prst="straightConnector1">
              <a:avLst/>
            </a:prstGeom>
            <a:ln w="3175">
              <a:solidFill>
                <a:srgbClr val="ffffff">
                  <a:lumMod val="85000"/>
                </a:srgbClr>
              </a:solidFill>
              <a:round/>
            </a:ln>
          </p:spPr>
        </p:cxnSp>
        <p:cxnSp>
          <p:nvCxnSpPr>
            <p:cNvPr id="898" name="直接连接符 482"/>
            <p:cNvCxnSpPr/>
            <p:nvPr/>
          </p:nvCxnSpPr>
          <p:spPr>
            <a:xfrm>
              <a:off x="10787040" y="4140000"/>
              <a:ext cx="360" cy="360720"/>
            </a:xfrm>
            <a:prstGeom prst="straightConnector1">
              <a:avLst/>
            </a:prstGeom>
            <a:ln w="3175">
              <a:solidFill>
                <a:srgbClr val="ffffff">
                  <a:lumMod val="85000"/>
                </a:srgbClr>
              </a:solidFill>
              <a:round/>
            </a:ln>
          </p:spPr>
        </p:cxnSp>
        <p:cxnSp>
          <p:nvCxnSpPr>
            <p:cNvPr id="899" name="直接连接符 483"/>
            <p:cNvCxnSpPr/>
            <p:nvPr/>
          </p:nvCxnSpPr>
          <p:spPr>
            <a:xfrm>
              <a:off x="720720" y="4679280"/>
              <a:ext cx="360" cy="360720"/>
            </a:xfrm>
            <a:prstGeom prst="straightConnector1">
              <a:avLst/>
            </a:prstGeom>
            <a:ln w="3175">
              <a:solidFill>
                <a:srgbClr val="ffffff">
                  <a:lumMod val="85000"/>
                </a:srgbClr>
              </a:solidFill>
              <a:round/>
            </a:ln>
          </p:spPr>
        </p:cxnSp>
        <p:cxnSp>
          <p:nvCxnSpPr>
            <p:cNvPr id="900" name="直接连接符 484"/>
            <p:cNvCxnSpPr/>
            <p:nvPr/>
          </p:nvCxnSpPr>
          <p:spPr>
            <a:xfrm>
              <a:off x="1080000" y="4679640"/>
              <a:ext cx="360" cy="360720"/>
            </a:xfrm>
            <a:prstGeom prst="straightConnector1">
              <a:avLst/>
            </a:prstGeom>
            <a:ln w="3175">
              <a:solidFill>
                <a:srgbClr val="ffffff">
                  <a:lumMod val="85000"/>
                </a:srgbClr>
              </a:solidFill>
              <a:round/>
            </a:ln>
          </p:spPr>
        </p:cxnSp>
        <p:cxnSp>
          <p:nvCxnSpPr>
            <p:cNvPr id="901" name="直接连接符 485"/>
            <p:cNvCxnSpPr/>
            <p:nvPr/>
          </p:nvCxnSpPr>
          <p:spPr>
            <a:xfrm>
              <a:off x="1439640" y="4679640"/>
              <a:ext cx="360" cy="360720"/>
            </a:xfrm>
            <a:prstGeom prst="straightConnector1">
              <a:avLst/>
            </a:prstGeom>
            <a:ln w="3175">
              <a:solidFill>
                <a:srgbClr val="ffffff">
                  <a:lumMod val="85000"/>
                </a:srgbClr>
              </a:solidFill>
              <a:round/>
            </a:ln>
          </p:spPr>
        </p:cxnSp>
        <p:cxnSp>
          <p:nvCxnSpPr>
            <p:cNvPr id="902" name="直接连接符 486"/>
            <p:cNvCxnSpPr/>
            <p:nvPr/>
          </p:nvCxnSpPr>
          <p:spPr>
            <a:xfrm>
              <a:off x="1798920" y="4679640"/>
              <a:ext cx="360" cy="360720"/>
            </a:xfrm>
            <a:prstGeom prst="straightConnector1">
              <a:avLst/>
            </a:prstGeom>
            <a:ln w="3175">
              <a:solidFill>
                <a:srgbClr val="ffffff">
                  <a:lumMod val="85000"/>
                </a:srgbClr>
              </a:solidFill>
              <a:round/>
            </a:ln>
          </p:spPr>
        </p:cxnSp>
        <p:cxnSp>
          <p:nvCxnSpPr>
            <p:cNvPr id="903" name="直接连接符 487"/>
            <p:cNvCxnSpPr/>
            <p:nvPr/>
          </p:nvCxnSpPr>
          <p:spPr>
            <a:xfrm>
              <a:off x="2158560" y="4679640"/>
              <a:ext cx="360" cy="360720"/>
            </a:xfrm>
            <a:prstGeom prst="straightConnector1">
              <a:avLst/>
            </a:prstGeom>
            <a:ln w="3175">
              <a:solidFill>
                <a:srgbClr val="ffffff">
                  <a:lumMod val="85000"/>
                </a:srgbClr>
              </a:solidFill>
              <a:round/>
            </a:ln>
          </p:spPr>
        </p:cxnSp>
        <p:cxnSp>
          <p:nvCxnSpPr>
            <p:cNvPr id="904" name="直接连接符 488"/>
            <p:cNvCxnSpPr/>
            <p:nvPr/>
          </p:nvCxnSpPr>
          <p:spPr>
            <a:xfrm>
              <a:off x="2518200" y="4679640"/>
              <a:ext cx="360" cy="360720"/>
            </a:xfrm>
            <a:prstGeom prst="straightConnector1">
              <a:avLst/>
            </a:prstGeom>
            <a:ln w="3175">
              <a:solidFill>
                <a:srgbClr val="ffffff">
                  <a:lumMod val="85000"/>
                </a:srgbClr>
              </a:solidFill>
              <a:round/>
            </a:ln>
          </p:spPr>
        </p:cxnSp>
        <p:cxnSp>
          <p:nvCxnSpPr>
            <p:cNvPr id="905" name="直接连接符 489"/>
            <p:cNvCxnSpPr/>
            <p:nvPr/>
          </p:nvCxnSpPr>
          <p:spPr>
            <a:xfrm>
              <a:off x="2877480" y="4679640"/>
              <a:ext cx="360" cy="360720"/>
            </a:xfrm>
            <a:prstGeom prst="straightConnector1">
              <a:avLst/>
            </a:prstGeom>
            <a:ln w="3175">
              <a:solidFill>
                <a:srgbClr val="ffffff">
                  <a:lumMod val="85000"/>
                </a:srgbClr>
              </a:solidFill>
              <a:round/>
            </a:ln>
          </p:spPr>
        </p:cxnSp>
        <p:cxnSp>
          <p:nvCxnSpPr>
            <p:cNvPr id="906" name="直接连接符 490"/>
            <p:cNvCxnSpPr/>
            <p:nvPr/>
          </p:nvCxnSpPr>
          <p:spPr>
            <a:xfrm>
              <a:off x="3237120" y="4679640"/>
              <a:ext cx="360" cy="360720"/>
            </a:xfrm>
            <a:prstGeom prst="straightConnector1">
              <a:avLst/>
            </a:prstGeom>
            <a:ln w="3175">
              <a:solidFill>
                <a:srgbClr val="ffffff">
                  <a:lumMod val="85000"/>
                </a:srgbClr>
              </a:solidFill>
              <a:round/>
            </a:ln>
          </p:spPr>
        </p:cxnSp>
        <p:cxnSp>
          <p:nvCxnSpPr>
            <p:cNvPr id="907" name="直接连接符 491"/>
            <p:cNvCxnSpPr/>
            <p:nvPr/>
          </p:nvCxnSpPr>
          <p:spPr>
            <a:xfrm>
              <a:off x="3596760" y="4679640"/>
              <a:ext cx="360" cy="360720"/>
            </a:xfrm>
            <a:prstGeom prst="straightConnector1">
              <a:avLst/>
            </a:prstGeom>
            <a:ln w="3175">
              <a:solidFill>
                <a:srgbClr val="ffffff">
                  <a:lumMod val="85000"/>
                </a:srgbClr>
              </a:solidFill>
              <a:round/>
            </a:ln>
          </p:spPr>
        </p:cxnSp>
        <p:cxnSp>
          <p:nvCxnSpPr>
            <p:cNvPr id="908" name="直接连接符 492"/>
            <p:cNvCxnSpPr/>
            <p:nvPr/>
          </p:nvCxnSpPr>
          <p:spPr>
            <a:xfrm>
              <a:off x="3956040" y="4679640"/>
              <a:ext cx="360" cy="360720"/>
            </a:xfrm>
            <a:prstGeom prst="straightConnector1">
              <a:avLst/>
            </a:prstGeom>
            <a:ln w="3175">
              <a:solidFill>
                <a:srgbClr val="ffffff">
                  <a:lumMod val="85000"/>
                </a:srgbClr>
              </a:solidFill>
              <a:round/>
            </a:ln>
          </p:spPr>
        </p:cxnSp>
        <p:cxnSp>
          <p:nvCxnSpPr>
            <p:cNvPr id="909" name="直接连接符 493"/>
            <p:cNvCxnSpPr/>
            <p:nvPr/>
          </p:nvCxnSpPr>
          <p:spPr>
            <a:xfrm>
              <a:off x="4315680" y="4679640"/>
              <a:ext cx="360" cy="360720"/>
            </a:xfrm>
            <a:prstGeom prst="straightConnector1">
              <a:avLst/>
            </a:prstGeom>
            <a:ln w="3175">
              <a:solidFill>
                <a:srgbClr val="ffffff">
                  <a:lumMod val="85000"/>
                </a:srgbClr>
              </a:solidFill>
              <a:round/>
            </a:ln>
          </p:spPr>
        </p:cxnSp>
        <p:cxnSp>
          <p:nvCxnSpPr>
            <p:cNvPr id="910" name="直接连接符 494"/>
            <p:cNvCxnSpPr/>
            <p:nvPr/>
          </p:nvCxnSpPr>
          <p:spPr>
            <a:xfrm>
              <a:off x="4675320" y="4679640"/>
              <a:ext cx="360" cy="360720"/>
            </a:xfrm>
            <a:prstGeom prst="straightConnector1">
              <a:avLst/>
            </a:prstGeom>
            <a:ln w="3175">
              <a:solidFill>
                <a:srgbClr val="ffffff">
                  <a:lumMod val="85000"/>
                </a:srgbClr>
              </a:solidFill>
              <a:round/>
            </a:ln>
          </p:spPr>
        </p:cxnSp>
        <p:cxnSp>
          <p:nvCxnSpPr>
            <p:cNvPr id="911" name="直接连接符 495"/>
            <p:cNvCxnSpPr/>
            <p:nvPr/>
          </p:nvCxnSpPr>
          <p:spPr>
            <a:xfrm>
              <a:off x="5034600" y="4679640"/>
              <a:ext cx="360" cy="360720"/>
            </a:xfrm>
            <a:prstGeom prst="straightConnector1">
              <a:avLst/>
            </a:prstGeom>
            <a:ln w="3175">
              <a:solidFill>
                <a:srgbClr val="ffffff">
                  <a:lumMod val="85000"/>
                </a:srgbClr>
              </a:solidFill>
              <a:round/>
            </a:ln>
          </p:spPr>
        </p:cxnSp>
        <p:cxnSp>
          <p:nvCxnSpPr>
            <p:cNvPr id="912" name="直接连接符 496"/>
            <p:cNvCxnSpPr/>
            <p:nvPr/>
          </p:nvCxnSpPr>
          <p:spPr>
            <a:xfrm>
              <a:off x="5394240" y="4679640"/>
              <a:ext cx="360" cy="360720"/>
            </a:xfrm>
            <a:prstGeom prst="straightConnector1">
              <a:avLst/>
            </a:prstGeom>
            <a:ln w="3175">
              <a:solidFill>
                <a:srgbClr val="ffffff">
                  <a:lumMod val="85000"/>
                </a:srgbClr>
              </a:solidFill>
              <a:round/>
            </a:ln>
          </p:spPr>
        </p:cxnSp>
        <p:cxnSp>
          <p:nvCxnSpPr>
            <p:cNvPr id="913" name="直接连接符 497"/>
            <p:cNvCxnSpPr/>
            <p:nvPr/>
          </p:nvCxnSpPr>
          <p:spPr>
            <a:xfrm>
              <a:off x="5753880" y="4679640"/>
              <a:ext cx="360" cy="360720"/>
            </a:xfrm>
            <a:prstGeom prst="straightConnector1">
              <a:avLst/>
            </a:prstGeom>
            <a:ln w="3175">
              <a:solidFill>
                <a:srgbClr val="ffffff">
                  <a:lumMod val="85000"/>
                </a:srgbClr>
              </a:solidFill>
              <a:round/>
            </a:ln>
          </p:spPr>
        </p:cxnSp>
        <p:cxnSp>
          <p:nvCxnSpPr>
            <p:cNvPr id="914" name="直接连接符 498"/>
            <p:cNvCxnSpPr/>
            <p:nvPr/>
          </p:nvCxnSpPr>
          <p:spPr>
            <a:xfrm>
              <a:off x="6113160" y="4679640"/>
              <a:ext cx="360" cy="360720"/>
            </a:xfrm>
            <a:prstGeom prst="straightConnector1">
              <a:avLst/>
            </a:prstGeom>
            <a:ln w="3175">
              <a:solidFill>
                <a:srgbClr val="ffffff">
                  <a:lumMod val="85000"/>
                </a:srgbClr>
              </a:solidFill>
              <a:round/>
            </a:ln>
          </p:spPr>
        </p:cxnSp>
        <p:cxnSp>
          <p:nvCxnSpPr>
            <p:cNvPr id="915" name="直接连接符 499"/>
            <p:cNvCxnSpPr/>
            <p:nvPr/>
          </p:nvCxnSpPr>
          <p:spPr>
            <a:xfrm>
              <a:off x="6472800" y="4679640"/>
              <a:ext cx="360" cy="360720"/>
            </a:xfrm>
            <a:prstGeom prst="straightConnector1">
              <a:avLst/>
            </a:prstGeom>
            <a:ln w="3175">
              <a:solidFill>
                <a:srgbClr val="ffffff">
                  <a:lumMod val="85000"/>
                </a:srgbClr>
              </a:solidFill>
              <a:round/>
            </a:ln>
          </p:spPr>
        </p:cxnSp>
        <p:cxnSp>
          <p:nvCxnSpPr>
            <p:cNvPr id="916" name="直接连接符 500"/>
            <p:cNvCxnSpPr/>
            <p:nvPr/>
          </p:nvCxnSpPr>
          <p:spPr>
            <a:xfrm>
              <a:off x="6832080" y="4679640"/>
              <a:ext cx="360" cy="360720"/>
            </a:xfrm>
            <a:prstGeom prst="straightConnector1">
              <a:avLst/>
            </a:prstGeom>
            <a:ln w="3175">
              <a:solidFill>
                <a:srgbClr val="ffffff">
                  <a:lumMod val="85000"/>
                </a:srgbClr>
              </a:solidFill>
              <a:round/>
            </a:ln>
          </p:spPr>
        </p:cxnSp>
        <p:cxnSp>
          <p:nvCxnSpPr>
            <p:cNvPr id="917" name="直接连接符 501"/>
            <p:cNvCxnSpPr/>
            <p:nvPr/>
          </p:nvCxnSpPr>
          <p:spPr>
            <a:xfrm>
              <a:off x="7191720" y="4679640"/>
              <a:ext cx="360" cy="360720"/>
            </a:xfrm>
            <a:prstGeom prst="straightConnector1">
              <a:avLst/>
            </a:prstGeom>
            <a:ln w="3175">
              <a:solidFill>
                <a:srgbClr val="ffffff">
                  <a:lumMod val="85000"/>
                </a:srgbClr>
              </a:solidFill>
              <a:round/>
            </a:ln>
          </p:spPr>
        </p:cxnSp>
        <p:cxnSp>
          <p:nvCxnSpPr>
            <p:cNvPr id="918" name="直接连接符 502"/>
            <p:cNvCxnSpPr/>
            <p:nvPr/>
          </p:nvCxnSpPr>
          <p:spPr>
            <a:xfrm>
              <a:off x="7551360" y="4679640"/>
              <a:ext cx="360" cy="360720"/>
            </a:xfrm>
            <a:prstGeom prst="straightConnector1">
              <a:avLst/>
            </a:prstGeom>
            <a:ln w="3175">
              <a:solidFill>
                <a:srgbClr val="ffffff">
                  <a:lumMod val="85000"/>
                </a:srgbClr>
              </a:solidFill>
              <a:round/>
            </a:ln>
          </p:spPr>
        </p:cxnSp>
        <p:cxnSp>
          <p:nvCxnSpPr>
            <p:cNvPr id="919" name="直接连接符 503"/>
            <p:cNvCxnSpPr/>
            <p:nvPr/>
          </p:nvCxnSpPr>
          <p:spPr>
            <a:xfrm>
              <a:off x="7910640" y="4679640"/>
              <a:ext cx="360" cy="360720"/>
            </a:xfrm>
            <a:prstGeom prst="straightConnector1">
              <a:avLst/>
            </a:prstGeom>
            <a:ln w="3175">
              <a:solidFill>
                <a:srgbClr val="ffffff">
                  <a:lumMod val="85000"/>
                </a:srgbClr>
              </a:solidFill>
              <a:round/>
            </a:ln>
          </p:spPr>
        </p:cxnSp>
        <p:cxnSp>
          <p:nvCxnSpPr>
            <p:cNvPr id="920" name="直接连接符 504"/>
            <p:cNvCxnSpPr/>
            <p:nvPr/>
          </p:nvCxnSpPr>
          <p:spPr>
            <a:xfrm>
              <a:off x="8270280" y="4679640"/>
              <a:ext cx="360" cy="360720"/>
            </a:xfrm>
            <a:prstGeom prst="straightConnector1">
              <a:avLst/>
            </a:prstGeom>
            <a:ln w="3175">
              <a:solidFill>
                <a:srgbClr val="ffffff">
                  <a:lumMod val="85000"/>
                </a:srgbClr>
              </a:solidFill>
              <a:round/>
            </a:ln>
          </p:spPr>
        </p:cxnSp>
        <p:cxnSp>
          <p:nvCxnSpPr>
            <p:cNvPr id="921" name="直接连接符 505"/>
            <p:cNvCxnSpPr/>
            <p:nvPr/>
          </p:nvCxnSpPr>
          <p:spPr>
            <a:xfrm>
              <a:off x="8629920" y="4679640"/>
              <a:ext cx="360" cy="360720"/>
            </a:xfrm>
            <a:prstGeom prst="straightConnector1">
              <a:avLst/>
            </a:prstGeom>
            <a:ln w="3175">
              <a:solidFill>
                <a:srgbClr val="ffffff">
                  <a:lumMod val="85000"/>
                </a:srgbClr>
              </a:solidFill>
              <a:round/>
            </a:ln>
          </p:spPr>
        </p:cxnSp>
        <p:cxnSp>
          <p:nvCxnSpPr>
            <p:cNvPr id="922" name="直接连接符 506"/>
            <p:cNvCxnSpPr/>
            <p:nvPr/>
          </p:nvCxnSpPr>
          <p:spPr>
            <a:xfrm>
              <a:off x="8989200" y="4679640"/>
              <a:ext cx="360" cy="360720"/>
            </a:xfrm>
            <a:prstGeom prst="straightConnector1">
              <a:avLst/>
            </a:prstGeom>
            <a:ln w="3175">
              <a:solidFill>
                <a:srgbClr val="ffffff">
                  <a:lumMod val="85000"/>
                </a:srgbClr>
              </a:solidFill>
              <a:round/>
            </a:ln>
          </p:spPr>
        </p:cxnSp>
        <p:cxnSp>
          <p:nvCxnSpPr>
            <p:cNvPr id="923" name="直接连接符 507"/>
            <p:cNvCxnSpPr/>
            <p:nvPr/>
          </p:nvCxnSpPr>
          <p:spPr>
            <a:xfrm>
              <a:off x="9348840" y="4679640"/>
              <a:ext cx="360" cy="360720"/>
            </a:xfrm>
            <a:prstGeom prst="straightConnector1">
              <a:avLst/>
            </a:prstGeom>
            <a:ln w="3175">
              <a:solidFill>
                <a:srgbClr val="ffffff">
                  <a:lumMod val="85000"/>
                </a:srgbClr>
              </a:solidFill>
              <a:round/>
            </a:ln>
          </p:spPr>
        </p:cxnSp>
        <p:cxnSp>
          <p:nvCxnSpPr>
            <p:cNvPr id="924" name="直接连接符 508"/>
            <p:cNvCxnSpPr/>
            <p:nvPr/>
          </p:nvCxnSpPr>
          <p:spPr>
            <a:xfrm>
              <a:off x="9708480" y="4679640"/>
              <a:ext cx="360" cy="360720"/>
            </a:xfrm>
            <a:prstGeom prst="straightConnector1">
              <a:avLst/>
            </a:prstGeom>
            <a:ln w="3175">
              <a:solidFill>
                <a:srgbClr val="ffffff">
                  <a:lumMod val="85000"/>
                </a:srgbClr>
              </a:solidFill>
              <a:round/>
            </a:ln>
          </p:spPr>
        </p:cxnSp>
        <p:cxnSp>
          <p:nvCxnSpPr>
            <p:cNvPr id="925" name="直接连接符 509"/>
            <p:cNvCxnSpPr/>
            <p:nvPr/>
          </p:nvCxnSpPr>
          <p:spPr>
            <a:xfrm>
              <a:off x="10067760" y="4679640"/>
              <a:ext cx="360" cy="360720"/>
            </a:xfrm>
            <a:prstGeom prst="straightConnector1">
              <a:avLst/>
            </a:prstGeom>
            <a:ln w="3175">
              <a:solidFill>
                <a:srgbClr val="ffffff">
                  <a:lumMod val="85000"/>
                </a:srgbClr>
              </a:solidFill>
              <a:round/>
            </a:ln>
          </p:spPr>
        </p:cxnSp>
        <p:cxnSp>
          <p:nvCxnSpPr>
            <p:cNvPr id="926" name="直接连接符 510"/>
            <p:cNvCxnSpPr/>
            <p:nvPr/>
          </p:nvCxnSpPr>
          <p:spPr>
            <a:xfrm>
              <a:off x="10427400" y="4679640"/>
              <a:ext cx="360" cy="360720"/>
            </a:xfrm>
            <a:prstGeom prst="straightConnector1">
              <a:avLst/>
            </a:prstGeom>
            <a:ln w="3175">
              <a:solidFill>
                <a:srgbClr val="ffffff">
                  <a:lumMod val="85000"/>
                </a:srgbClr>
              </a:solidFill>
              <a:round/>
            </a:ln>
          </p:spPr>
        </p:cxnSp>
        <p:cxnSp>
          <p:nvCxnSpPr>
            <p:cNvPr id="927" name="直接连接符 511"/>
            <p:cNvCxnSpPr/>
            <p:nvPr/>
          </p:nvCxnSpPr>
          <p:spPr>
            <a:xfrm>
              <a:off x="10787040" y="4679640"/>
              <a:ext cx="360" cy="360720"/>
            </a:xfrm>
            <a:prstGeom prst="straightConnector1">
              <a:avLst/>
            </a:prstGeom>
            <a:ln w="3175">
              <a:solidFill>
                <a:srgbClr val="ffffff">
                  <a:lumMod val="85000"/>
                </a:srgbClr>
              </a:solidFill>
              <a:round/>
            </a:ln>
          </p:spPr>
        </p:cxnSp>
        <p:cxnSp>
          <p:nvCxnSpPr>
            <p:cNvPr id="928" name="直接连接符 512"/>
            <p:cNvCxnSpPr/>
            <p:nvPr/>
          </p:nvCxnSpPr>
          <p:spPr>
            <a:xfrm>
              <a:off x="720720" y="5219280"/>
              <a:ext cx="360" cy="360720"/>
            </a:xfrm>
            <a:prstGeom prst="straightConnector1">
              <a:avLst/>
            </a:prstGeom>
            <a:ln w="3175">
              <a:solidFill>
                <a:srgbClr val="ffffff">
                  <a:lumMod val="85000"/>
                </a:srgbClr>
              </a:solidFill>
              <a:round/>
            </a:ln>
          </p:spPr>
        </p:cxnSp>
        <p:cxnSp>
          <p:nvCxnSpPr>
            <p:cNvPr id="929" name="直接连接符 513"/>
            <p:cNvCxnSpPr/>
            <p:nvPr/>
          </p:nvCxnSpPr>
          <p:spPr>
            <a:xfrm>
              <a:off x="1080000" y="5219280"/>
              <a:ext cx="360" cy="360720"/>
            </a:xfrm>
            <a:prstGeom prst="straightConnector1">
              <a:avLst/>
            </a:prstGeom>
            <a:ln w="3175">
              <a:solidFill>
                <a:srgbClr val="ffffff">
                  <a:lumMod val="85000"/>
                </a:srgbClr>
              </a:solidFill>
              <a:round/>
            </a:ln>
          </p:spPr>
        </p:cxnSp>
        <p:cxnSp>
          <p:nvCxnSpPr>
            <p:cNvPr id="930" name="直接连接符 514"/>
            <p:cNvCxnSpPr/>
            <p:nvPr/>
          </p:nvCxnSpPr>
          <p:spPr>
            <a:xfrm>
              <a:off x="1439640" y="5219280"/>
              <a:ext cx="360" cy="360720"/>
            </a:xfrm>
            <a:prstGeom prst="straightConnector1">
              <a:avLst/>
            </a:prstGeom>
            <a:ln w="3175">
              <a:solidFill>
                <a:srgbClr val="ffffff">
                  <a:lumMod val="85000"/>
                </a:srgbClr>
              </a:solidFill>
              <a:round/>
            </a:ln>
          </p:spPr>
        </p:cxnSp>
        <p:cxnSp>
          <p:nvCxnSpPr>
            <p:cNvPr id="931" name="直接连接符 515"/>
            <p:cNvCxnSpPr/>
            <p:nvPr/>
          </p:nvCxnSpPr>
          <p:spPr>
            <a:xfrm>
              <a:off x="1798920" y="5219280"/>
              <a:ext cx="360" cy="360720"/>
            </a:xfrm>
            <a:prstGeom prst="straightConnector1">
              <a:avLst/>
            </a:prstGeom>
            <a:ln w="3175">
              <a:solidFill>
                <a:srgbClr val="ffffff">
                  <a:lumMod val="85000"/>
                </a:srgbClr>
              </a:solidFill>
              <a:round/>
            </a:ln>
          </p:spPr>
        </p:cxnSp>
        <p:cxnSp>
          <p:nvCxnSpPr>
            <p:cNvPr id="932" name="直接连接符 516"/>
            <p:cNvCxnSpPr/>
            <p:nvPr/>
          </p:nvCxnSpPr>
          <p:spPr>
            <a:xfrm>
              <a:off x="2158560" y="5219280"/>
              <a:ext cx="360" cy="360720"/>
            </a:xfrm>
            <a:prstGeom prst="straightConnector1">
              <a:avLst/>
            </a:prstGeom>
            <a:ln w="3175">
              <a:solidFill>
                <a:srgbClr val="ffffff">
                  <a:lumMod val="85000"/>
                </a:srgbClr>
              </a:solidFill>
              <a:round/>
            </a:ln>
          </p:spPr>
        </p:cxnSp>
        <p:cxnSp>
          <p:nvCxnSpPr>
            <p:cNvPr id="933" name="直接连接符 517"/>
            <p:cNvCxnSpPr/>
            <p:nvPr/>
          </p:nvCxnSpPr>
          <p:spPr>
            <a:xfrm>
              <a:off x="2518200" y="5219280"/>
              <a:ext cx="360" cy="360720"/>
            </a:xfrm>
            <a:prstGeom prst="straightConnector1">
              <a:avLst/>
            </a:prstGeom>
            <a:ln w="3175">
              <a:solidFill>
                <a:srgbClr val="ffffff">
                  <a:lumMod val="85000"/>
                </a:srgbClr>
              </a:solidFill>
              <a:round/>
            </a:ln>
          </p:spPr>
        </p:cxnSp>
        <p:cxnSp>
          <p:nvCxnSpPr>
            <p:cNvPr id="934" name="直接连接符 518"/>
            <p:cNvCxnSpPr/>
            <p:nvPr/>
          </p:nvCxnSpPr>
          <p:spPr>
            <a:xfrm>
              <a:off x="2877480" y="5219280"/>
              <a:ext cx="360" cy="360720"/>
            </a:xfrm>
            <a:prstGeom prst="straightConnector1">
              <a:avLst/>
            </a:prstGeom>
            <a:ln w="3175">
              <a:solidFill>
                <a:srgbClr val="ffffff">
                  <a:lumMod val="85000"/>
                </a:srgbClr>
              </a:solidFill>
              <a:round/>
            </a:ln>
          </p:spPr>
        </p:cxnSp>
        <p:cxnSp>
          <p:nvCxnSpPr>
            <p:cNvPr id="935" name="直接连接符 519"/>
            <p:cNvCxnSpPr/>
            <p:nvPr/>
          </p:nvCxnSpPr>
          <p:spPr>
            <a:xfrm>
              <a:off x="3237120" y="5219280"/>
              <a:ext cx="360" cy="360720"/>
            </a:xfrm>
            <a:prstGeom prst="straightConnector1">
              <a:avLst/>
            </a:prstGeom>
            <a:ln w="3175">
              <a:solidFill>
                <a:srgbClr val="ffffff">
                  <a:lumMod val="85000"/>
                </a:srgbClr>
              </a:solidFill>
              <a:round/>
            </a:ln>
          </p:spPr>
        </p:cxnSp>
        <p:cxnSp>
          <p:nvCxnSpPr>
            <p:cNvPr id="936" name="直接连接符 520"/>
            <p:cNvCxnSpPr/>
            <p:nvPr/>
          </p:nvCxnSpPr>
          <p:spPr>
            <a:xfrm>
              <a:off x="3596760" y="5219280"/>
              <a:ext cx="360" cy="360720"/>
            </a:xfrm>
            <a:prstGeom prst="straightConnector1">
              <a:avLst/>
            </a:prstGeom>
            <a:ln w="3175">
              <a:solidFill>
                <a:srgbClr val="ffffff">
                  <a:lumMod val="85000"/>
                </a:srgbClr>
              </a:solidFill>
              <a:round/>
            </a:ln>
          </p:spPr>
        </p:cxnSp>
        <p:cxnSp>
          <p:nvCxnSpPr>
            <p:cNvPr id="937" name="直接连接符 521"/>
            <p:cNvCxnSpPr/>
            <p:nvPr/>
          </p:nvCxnSpPr>
          <p:spPr>
            <a:xfrm>
              <a:off x="3956040" y="5219280"/>
              <a:ext cx="360" cy="360720"/>
            </a:xfrm>
            <a:prstGeom prst="straightConnector1">
              <a:avLst/>
            </a:prstGeom>
            <a:ln w="3175">
              <a:solidFill>
                <a:srgbClr val="ffffff">
                  <a:lumMod val="85000"/>
                </a:srgbClr>
              </a:solidFill>
              <a:round/>
            </a:ln>
          </p:spPr>
        </p:cxnSp>
        <p:cxnSp>
          <p:nvCxnSpPr>
            <p:cNvPr id="938" name="直接连接符 522"/>
            <p:cNvCxnSpPr/>
            <p:nvPr/>
          </p:nvCxnSpPr>
          <p:spPr>
            <a:xfrm>
              <a:off x="4315680" y="5219280"/>
              <a:ext cx="360" cy="360720"/>
            </a:xfrm>
            <a:prstGeom prst="straightConnector1">
              <a:avLst/>
            </a:prstGeom>
            <a:ln w="3175">
              <a:solidFill>
                <a:srgbClr val="ffffff">
                  <a:lumMod val="85000"/>
                </a:srgbClr>
              </a:solidFill>
              <a:round/>
            </a:ln>
          </p:spPr>
        </p:cxnSp>
        <p:cxnSp>
          <p:nvCxnSpPr>
            <p:cNvPr id="939" name="直接连接符 523"/>
            <p:cNvCxnSpPr/>
            <p:nvPr/>
          </p:nvCxnSpPr>
          <p:spPr>
            <a:xfrm>
              <a:off x="4675320" y="5219280"/>
              <a:ext cx="360" cy="360720"/>
            </a:xfrm>
            <a:prstGeom prst="straightConnector1">
              <a:avLst/>
            </a:prstGeom>
            <a:ln w="3175">
              <a:solidFill>
                <a:srgbClr val="ffffff">
                  <a:lumMod val="85000"/>
                </a:srgbClr>
              </a:solidFill>
              <a:round/>
            </a:ln>
          </p:spPr>
        </p:cxnSp>
        <p:cxnSp>
          <p:nvCxnSpPr>
            <p:cNvPr id="940" name="直接连接符 524"/>
            <p:cNvCxnSpPr/>
            <p:nvPr/>
          </p:nvCxnSpPr>
          <p:spPr>
            <a:xfrm>
              <a:off x="5034600" y="5219280"/>
              <a:ext cx="360" cy="360720"/>
            </a:xfrm>
            <a:prstGeom prst="straightConnector1">
              <a:avLst/>
            </a:prstGeom>
            <a:ln w="3175">
              <a:solidFill>
                <a:srgbClr val="ffffff">
                  <a:lumMod val="85000"/>
                </a:srgbClr>
              </a:solidFill>
              <a:round/>
            </a:ln>
          </p:spPr>
        </p:cxnSp>
        <p:cxnSp>
          <p:nvCxnSpPr>
            <p:cNvPr id="941" name="直接连接符 525"/>
            <p:cNvCxnSpPr/>
            <p:nvPr/>
          </p:nvCxnSpPr>
          <p:spPr>
            <a:xfrm>
              <a:off x="5394240" y="5219280"/>
              <a:ext cx="360" cy="360720"/>
            </a:xfrm>
            <a:prstGeom prst="straightConnector1">
              <a:avLst/>
            </a:prstGeom>
            <a:ln w="3175">
              <a:solidFill>
                <a:srgbClr val="ffffff">
                  <a:lumMod val="85000"/>
                </a:srgbClr>
              </a:solidFill>
              <a:round/>
            </a:ln>
          </p:spPr>
        </p:cxnSp>
        <p:cxnSp>
          <p:nvCxnSpPr>
            <p:cNvPr id="942" name="直接连接符 526"/>
            <p:cNvCxnSpPr/>
            <p:nvPr/>
          </p:nvCxnSpPr>
          <p:spPr>
            <a:xfrm>
              <a:off x="5753880" y="5219280"/>
              <a:ext cx="360" cy="360720"/>
            </a:xfrm>
            <a:prstGeom prst="straightConnector1">
              <a:avLst/>
            </a:prstGeom>
            <a:ln w="3175">
              <a:solidFill>
                <a:srgbClr val="ffffff">
                  <a:lumMod val="85000"/>
                </a:srgbClr>
              </a:solidFill>
              <a:round/>
            </a:ln>
          </p:spPr>
        </p:cxnSp>
        <p:cxnSp>
          <p:nvCxnSpPr>
            <p:cNvPr id="943" name="直接连接符 527"/>
            <p:cNvCxnSpPr/>
            <p:nvPr/>
          </p:nvCxnSpPr>
          <p:spPr>
            <a:xfrm>
              <a:off x="6113160" y="5219280"/>
              <a:ext cx="360" cy="360720"/>
            </a:xfrm>
            <a:prstGeom prst="straightConnector1">
              <a:avLst/>
            </a:prstGeom>
            <a:ln w="3175">
              <a:solidFill>
                <a:srgbClr val="ffffff">
                  <a:lumMod val="85000"/>
                </a:srgbClr>
              </a:solidFill>
              <a:round/>
            </a:ln>
          </p:spPr>
        </p:cxnSp>
        <p:cxnSp>
          <p:nvCxnSpPr>
            <p:cNvPr id="944" name="直接连接符 528"/>
            <p:cNvCxnSpPr/>
            <p:nvPr/>
          </p:nvCxnSpPr>
          <p:spPr>
            <a:xfrm>
              <a:off x="6472800" y="5219280"/>
              <a:ext cx="360" cy="360720"/>
            </a:xfrm>
            <a:prstGeom prst="straightConnector1">
              <a:avLst/>
            </a:prstGeom>
            <a:ln w="3175">
              <a:solidFill>
                <a:srgbClr val="ffffff">
                  <a:lumMod val="85000"/>
                </a:srgbClr>
              </a:solidFill>
              <a:round/>
            </a:ln>
          </p:spPr>
        </p:cxnSp>
        <p:cxnSp>
          <p:nvCxnSpPr>
            <p:cNvPr id="945" name="直接连接符 529"/>
            <p:cNvCxnSpPr/>
            <p:nvPr/>
          </p:nvCxnSpPr>
          <p:spPr>
            <a:xfrm>
              <a:off x="6832080" y="5219280"/>
              <a:ext cx="360" cy="360720"/>
            </a:xfrm>
            <a:prstGeom prst="straightConnector1">
              <a:avLst/>
            </a:prstGeom>
            <a:ln w="3175">
              <a:solidFill>
                <a:srgbClr val="ffffff">
                  <a:lumMod val="85000"/>
                </a:srgbClr>
              </a:solidFill>
              <a:round/>
            </a:ln>
          </p:spPr>
        </p:cxnSp>
        <p:cxnSp>
          <p:nvCxnSpPr>
            <p:cNvPr id="946" name="直接连接符 530"/>
            <p:cNvCxnSpPr/>
            <p:nvPr/>
          </p:nvCxnSpPr>
          <p:spPr>
            <a:xfrm>
              <a:off x="7191720" y="5219280"/>
              <a:ext cx="360" cy="360720"/>
            </a:xfrm>
            <a:prstGeom prst="straightConnector1">
              <a:avLst/>
            </a:prstGeom>
            <a:ln w="3175">
              <a:solidFill>
                <a:srgbClr val="ffffff">
                  <a:lumMod val="85000"/>
                </a:srgbClr>
              </a:solidFill>
              <a:round/>
            </a:ln>
          </p:spPr>
        </p:cxnSp>
        <p:cxnSp>
          <p:nvCxnSpPr>
            <p:cNvPr id="947" name="直接连接符 531"/>
            <p:cNvCxnSpPr/>
            <p:nvPr/>
          </p:nvCxnSpPr>
          <p:spPr>
            <a:xfrm>
              <a:off x="7551360" y="5219280"/>
              <a:ext cx="360" cy="360720"/>
            </a:xfrm>
            <a:prstGeom prst="straightConnector1">
              <a:avLst/>
            </a:prstGeom>
            <a:ln w="3175">
              <a:solidFill>
                <a:srgbClr val="ffffff">
                  <a:lumMod val="85000"/>
                </a:srgbClr>
              </a:solidFill>
              <a:round/>
            </a:ln>
          </p:spPr>
        </p:cxnSp>
        <p:cxnSp>
          <p:nvCxnSpPr>
            <p:cNvPr id="948" name="直接连接符 532"/>
            <p:cNvCxnSpPr/>
            <p:nvPr/>
          </p:nvCxnSpPr>
          <p:spPr>
            <a:xfrm>
              <a:off x="7910640" y="5219280"/>
              <a:ext cx="360" cy="360720"/>
            </a:xfrm>
            <a:prstGeom prst="straightConnector1">
              <a:avLst/>
            </a:prstGeom>
            <a:ln w="3175">
              <a:solidFill>
                <a:srgbClr val="ffffff">
                  <a:lumMod val="85000"/>
                </a:srgbClr>
              </a:solidFill>
              <a:round/>
            </a:ln>
          </p:spPr>
        </p:cxnSp>
        <p:cxnSp>
          <p:nvCxnSpPr>
            <p:cNvPr id="949" name="直接连接符 533"/>
            <p:cNvCxnSpPr/>
            <p:nvPr/>
          </p:nvCxnSpPr>
          <p:spPr>
            <a:xfrm>
              <a:off x="8270280" y="5219280"/>
              <a:ext cx="360" cy="360720"/>
            </a:xfrm>
            <a:prstGeom prst="straightConnector1">
              <a:avLst/>
            </a:prstGeom>
            <a:ln w="3175">
              <a:solidFill>
                <a:srgbClr val="ffffff">
                  <a:lumMod val="85000"/>
                </a:srgbClr>
              </a:solidFill>
              <a:round/>
            </a:ln>
          </p:spPr>
        </p:cxnSp>
        <p:cxnSp>
          <p:nvCxnSpPr>
            <p:cNvPr id="950" name="直接连接符 534"/>
            <p:cNvCxnSpPr/>
            <p:nvPr/>
          </p:nvCxnSpPr>
          <p:spPr>
            <a:xfrm>
              <a:off x="8629920" y="5219280"/>
              <a:ext cx="360" cy="360720"/>
            </a:xfrm>
            <a:prstGeom prst="straightConnector1">
              <a:avLst/>
            </a:prstGeom>
            <a:ln w="3175">
              <a:solidFill>
                <a:srgbClr val="ffffff">
                  <a:lumMod val="85000"/>
                </a:srgbClr>
              </a:solidFill>
              <a:round/>
            </a:ln>
          </p:spPr>
        </p:cxnSp>
        <p:cxnSp>
          <p:nvCxnSpPr>
            <p:cNvPr id="951" name="直接连接符 535"/>
            <p:cNvCxnSpPr/>
            <p:nvPr/>
          </p:nvCxnSpPr>
          <p:spPr>
            <a:xfrm>
              <a:off x="8989200" y="5219280"/>
              <a:ext cx="360" cy="360720"/>
            </a:xfrm>
            <a:prstGeom prst="straightConnector1">
              <a:avLst/>
            </a:prstGeom>
            <a:ln w="3175">
              <a:solidFill>
                <a:srgbClr val="ffffff">
                  <a:lumMod val="85000"/>
                </a:srgbClr>
              </a:solidFill>
              <a:round/>
            </a:ln>
          </p:spPr>
        </p:cxnSp>
        <p:cxnSp>
          <p:nvCxnSpPr>
            <p:cNvPr id="952" name="直接连接符 536"/>
            <p:cNvCxnSpPr/>
            <p:nvPr/>
          </p:nvCxnSpPr>
          <p:spPr>
            <a:xfrm>
              <a:off x="9348840" y="5219280"/>
              <a:ext cx="360" cy="360720"/>
            </a:xfrm>
            <a:prstGeom prst="straightConnector1">
              <a:avLst/>
            </a:prstGeom>
            <a:ln w="3175">
              <a:solidFill>
                <a:srgbClr val="ffffff">
                  <a:lumMod val="85000"/>
                </a:srgbClr>
              </a:solidFill>
              <a:round/>
            </a:ln>
          </p:spPr>
        </p:cxnSp>
        <p:cxnSp>
          <p:nvCxnSpPr>
            <p:cNvPr id="953" name="直接连接符 537"/>
            <p:cNvCxnSpPr/>
            <p:nvPr/>
          </p:nvCxnSpPr>
          <p:spPr>
            <a:xfrm>
              <a:off x="9708480" y="5219280"/>
              <a:ext cx="360" cy="360720"/>
            </a:xfrm>
            <a:prstGeom prst="straightConnector1">
              <a:avLst/>
            </a:prstGeom>
            <a:ln w="3175">
              <a:solidFill>
                <a:srgbClr val="ffffff">
                  <a:lumMod val="85000"/>
                </a:srgbClr>
              </a:solidFill>
              <a:round/>
            </a:ln>
          </p:spPr>
        </p:cxnSp>
        <p:cxnSp>
          <p:nvCxnSpPr>
            <p:cNvPr id="954" name="直接连接符 538"/>
            <p:cNvCxnSpPr/>
            <p:nvPr/>
          </p:nvCxnSpPr>
          <p:spPr>
            <a:xfrm>
              <a:off x="10067760" y="5219280"/>
              <a:ext cx="360" cy="360720"/>
            </a:xfrm>
            <a:prstGeom prst="straightConnector1">
              <a:avLst/>
            </a:prstGeom>
            <a:ln w="3175">
              <a:solidFill>
                <a:srgbClr val="ffffff">
                  <a:lumMod val="85000"/>
                </a:srgbClr>
              </a:solidFill>
              <a:round/>
            </a:ln>
          </p:spPr>
        </p:cxnSp>
        <p:cxnSp>
          <p:nvCxnSpPr>
            <p:cNvPr id="955" name="直接连接符 539"/>
            <p:cNvCxnSpPr/>
            <p:nvPr/>
          </p:nvCxnSpPr>
          <p:spPr>
            <a:xfrm>
              <a:off x="10427400" y="5219280"/>
              <a:ext cx="360" cy="360720"/>
            </a:xfrm>
            <a:prstGeom prst="straightConnector1">
              <a:avLst/>
            </a:prstGeom>
            <a:ln w="3175">
              <a:solidFill>
                <a:srgbClr val="ffffff">
                  <a:lumMod val="85000"/>
                </a:srgbClr>
              </a:solidFill>
              <a:round/>
            </a:ln>
          </p:spPr>
        </p:cxnSp>
        <p:cxnSp>
          <p:nvCxnSpPr>
            <p:cNvPr id="956" name="直接连接符 540"/>
            <p:cNvCxnSpPr/>
            <p:nvPr/>
          </p:nvCxnSpPr>
          <p:spPr>
            <a:xfrm>
              <a:off x="10787040" y="5219280"/>
              <a:ext cx="360" cy="360720"/>
            </a:xfrm>
            <a:prstGeom prst="straightConnector1">
              <a:avLst/>
            </a:prstGeom>
            <a:ln w="3175">
              <a:solidFill>
                <a:srgbClr val="ffffff">
                  <a:lumMod val="85000"/>
                </a:srgbClr>
              </a:solidFill>
              <a:round/>
            </a:ln>
          </p:spPr>
        </p:cxnSp>
        <p:cxnSp>
          <p:nvCxnSpPr>
            <p:cNvPr id="957" name="直接连接符 541"/>
            <p:cNvCxnSpPr/>
            <p:nvPr/>
          </p:nvCxnSpPr>
          <p:spPr>
            <a:xfrm>
              <a:off x="720720" y="5759280"/>
              <a:ext cx="360" cy="360720"/>
            </a:xfrm>
            <a:prstGeom prst="straightConnector1">
              <a:avLst/>
            </a:prstGeom>
            <a:ln w="3175">
              <a:solidFill>
                <a:srgbClr val="ffffff">
                  <a:lumMod val="85000"/>
                </a:srgbClr>
              </a:solidFill>
              <a:round/>
            </a:ln>
          </p:spPr>
        </p:cxnSp>
        <p:cxnSp>
          <p:nvCxnSpPr>
            <p:cNvPr id="958" name="直接连接符 542"/>
            <p:cNvCxnSpPr/>
            <p:nvPr/>
          </p:nvCxnSpPr>
          <p:spPr>
            <a:xfrm>
              <a:off x="1080000" y="5759280"/>
              <a:ext cx="360" cy="360720"/>
            </a:xfrm>
            <a:prstGeom prst="straightConnector1">
              <a:avLst/>
            </a:prstGeom>
            <a:ln w="3175">
              <a:solidFill>
                <a:srgbClr val="ffffff">
                  <a:lumMod val="85000"/>
                </a:srgbClr>
              </a:solidFill>
              <a:round/>
            </a:ln>
          </p:spPr>
        </p:cxnSp>
        <p:cxnSp>
          <p:nvCxnSpPr>
            <p:cNvPr id="959" name="直接连接符 543"/>
            <p:cNvCxnSpPr/>
            <p:nvPr/>
          </p:nvCxnSpPr>
          <p:spPr>
            <a:xfrm>
              <a:off x="1439640" y="5759280"/>
              <a:ext cx="360" cy="360720"/>
            </a:xfrm>
            <a:prstGeom prst="straightConnector1">
              <a:avLst/>
            </a:prstGeom>
            <a:ln w="3175">
              <a:solidFill>
                <a:srgbClr val="ffffff">
                  <a:lumMod val="85000"/>
                </a:srgbClr>
              </a:solidFill>
              <a:round/>
            </a:ln>
          </p:spPr>
        </p:cxnSp>
        <p:cxnSp>
          <p:nvCxnSpPr>
            <p:cNvPr id="960" name="直接连接符 544"/>
            <p:cNvCxnSpPr/>
            <p:nvPr/>
          </p:nvCxnSpPr>
          <p:spPr>
            <a:xfrm>
              <a:off x="1798920" y="5759280"/>
              <a:ext cx="360" cy="360720"/>
            </a:xfrm>
            <a:prstGeom prst="straightConnector1">
              <a:avLst/>
            </a:prstGeom>
            <a:ln w="3175">
              <a:solidFill>
                <a:srgbClr val="ffffff">
                  <a:lumMod val="85000"/>
                </a:srgbClr>
              </a:solidFill>
              <a:round/>
            </a:ln>
          </p:spPr>
        </p:cxnSp>
        <p:cxnSp>
          <p:nvCxnSpPr>
            <p:cNvPr id="961" name="直接连接符 545"/>
            <p:cNvCxnSpPr/>
            <p:nvPr/>
          </p:nvCxnSpPr>
          <p:spPr>
            <a:xfrm>
              <a:off x="2158560" y="5759280"/>
              <a:ext cx="360" cy="360720"/>
            </a:xfrm>
            <a:prstGeom prst="straightConnector1">
              <a:avLst/>
            </a:prstGeom>
            <a:ln w="3175">
              <a:solidFill>
                <a:srgbClr val="ffffff">
                  <a:lumMod val="85000"/>
                </a:srgbClr>
              </a:solidFill>
              <a:round/>
            </a:ln>
          </p:spPr>
        </p:cxnSp>
        <p:cxnSp>
          <p:nvCxnSpPr>
            <p:cNvPr id="962" name="直接连接符 546"/>
            <p:cNvCxnSpPr/>
            <p:nvPr/>
          </p:nvCxnSpPr>
          <p:spPr>
            <a:xfrm>
              <a:off x="2518200" y="5759280"/>
              <a:ext cx="360" cy="360720"/>
            </a:xfrm>
            <a:prstGeom prst="straightConnector1">
              <a:avLst/>
            </a:prstGeom>
            <a:ln w="3175">
              <a:solidFill>
                <a:srgbClr val="ffffff">
                  <a:lumMod val="85000"/>
                </a:srgbClr>
              </a:solidFill>
              <a:round/>
            </a:ln>
          </p:spPr>
        </p:cxnSp>
        <p:cxnSp>
          <p:nvCxnSpPr>
            <p:cNvPr id="963" name="直接连接符 547"/>
            <p:cNvCxnSpPr/>
            <p:nvPr/>
          </p:nvCxnSpPr>
          <p:spPr>
            <a:xfrm>
              <a:off x="2877480" y="5759280"/>
              <a:ext cx="360" cy="360720"/>
            </a:xfrm>
            <a:prstGeom prst="straightConnector1">
              <a:avLst/>
            </a:prstGeom>
            <a:ln w="3175">
              <a:solidFill>
                <a:srgbClr val="ffffff">
                  <a:lumMod val="85000"/>
                </a:srgbClr>
              </a:solidFill>
              <a:round/>
            </a:ln>
          </p:spPr>
        </p:cxnSp>
        <p:cxnSp>
          <p:nvCxnSpPr>
            <p:cNvPr id="964" name="直接连接符 548"/>
            <p:cNvCxnSpPr/>
            <p:nvPr/>
          </p:nvCxnSpPr>
          <p:spPr>
            <a:xfrm>
              <a:off x="3237120" y="5759280"/>
              <a:ext cx="360" cy="360720"/>
            </a:xfrm>
            <a:prstGeom prst="straightConnector1">
              <a:avLst/>
            </a:prstGeom>
            <a:ln w="3175">
              <a:solidFill>
                <a:srgbClr val="ffffff">
                  <a:lumMod val="85000"/>
                </a:srgbClr>
              </a:solidFill>
              <a:round/>
            </a:ln>
          </p:spPr>
        </p:cxnSp>
        <p:cxnSp>
          <p:nvCxnSpPr>
            <p:cNvPr id="965" name="直接连接符 549"/>
            <p:cNvCxnSpPr/>
            <p:nvPr/>
          </p:nvCxnSpPr>
          <p:spPr>
            <a:xfrm>
              <a:off x="3596760" y="5759280"/>
              <a:ext cx="360" cy="360720"/>
            </a:xfrm>
            <a:prstGeom prst="straightConnector1">
              <a:avLst/>
            </a:prstGeom>
            <a:ln w="3175">
              <a:solidFill>
                <a:srgbClr val="ffffff">
                  <a:lumMod val="85000"/>
                </a:srgbClr>
              </a:solidFill>
              <a:round/>
            </a:ln>
          </p:spPr>
        </p:cxnSp>
        <p:cxnSp>
          <p:nvCxnSpPr>
            <p:cNvPr id="966" name="直接连接符 550"/>
            <p:cNvCxnSpPr/>
            <p:nvPr/>
          </p:nvCxnSpPr>
          <p:spPr>
            <a:xfrm>
              <a:off x="3956040" y="5759280"/>
              <a:ext cx="360" cy="360720"/>
            </a:xfrm>
            <a:prstGeom prst="straightConnector1">
              <a:avLst/>
            </a:prstGeom>
            <a:ln w="3175">
              <a:solidFill>
                <a:srgbClr val="ffffff">
                  <a:lumMod val="85000"/>
                </a:srgbClr>
              </a:solidFill>
              <a:round/>
            </a:ln>
          </p:spPr>
        </p:cxnSp>
        <p:cxnSp>
          <p:nvCxnSpPr>
            <p:cNvPr id="967" name="直接连接符 551"/>
            <p:cNvCxnSpPr/>
            <p:nvPr/>
          </p:nvCxnSpPr>
          <p:spPr>
            <a:xfrm>
              <a:off x="4315680" y="5759280"/>
              <a:ext cx="360" cy="360720"/>
            </a:xfrm>
            <a:prstGeom prst="straightConnector1">
              <a:avLst/>
            </a:prstGeom>
            <a:ln w="3175">
              <a:solidFill>
                <a:srgbClr val="ffffff">
                  <a:lumMod val="85000"/>
                </a:srgbClr>
              </a:solidFill>
              <a:round/>
            </a:ln>
          </p:spPr>
        </p:cxnSp>
        <p:cxnSp>
          <p:nvCxnSpPr>
            <p:cNvPr id="968" name="直接连接符 552"/>
            <p:cNvCxnSpPr/>
            <p:nvPr/>
          </p:nvCxnSpPr>
          <p:spPr>
            <a:xfrm>
              <a:off x="4675320" y="5759280"/>
              <a:ext cx="360" cy="360720"/>
            </a:xfrm>
            <a:prstGeom prst="straightConnector1">
              <a:avLst/>
            </a:prstGeom>
            <a:ln w="3175">
              <a:solidFill>
                <a:srgbClr val="ffffff">
                  <a:lumMod val="85000"/>
                </a:srgbClr>
              </a:solidFill>
              <a:round/>
            </a:ln>
          </p:spPr>
        </p:cxnSp>
        <p:cxnSp>
          <p:nvCxnSpPr>
            <p:cNvPr id="969" name="直接连接符 553"/>
            <p:cNvCxnSpPr/>
            <p:nvPr/>
          </p:nvCxnSpPr>
          <p:spPr>
            <a:xfrm>
              <a:off x="5034600" y="5759280"/>
              <a:ext cx="360" cy="360720"/>
            </a:xfrm>
            <a:prstGeom prst="straightConnector1">
              <a:avLst/>
            </a:prstGeom>
            <a:ln w="3175">
              <a:solidFill>
                <a:srgbClr val="ffffff">
                  <a:lumMod val="85000"/>
                </a:srgbClr>
              </a:solidFill>
              <a:round/>
            </a:ln>
          </p:spPr>
        </p:cxnSp>
        <p:cxnSp>
          <p:nvCxnSpPr>
            <p:cNvPr id="970" name="直接连接符 554"/>
            <p:cNvCxnSpPr/>
            <p:nvPr/>
          </p:nvCxnSpPr>
          <p:spPr>
            <a:xfrm>
              <a:off x="5394240" y="5759280"/>
              <a:ext cx="360" cy="360720"/>
            </a:xfrm>
            <a:prstGeom prst="straightConnector1">
              <a:avLst/>
            </a:prstGeom>
            <a:ln w="3175">
              <a:solidFill>
                <a:srgbClr val="ffffff">
                  <a:lumMod val="85000"/>
                </a:srgbClr>
              </a:solidFill>
              <a:round/>
            </a:ln>
          </p:spPr>
        </p:cxnSp>
        <p:cxnSp>
          <p:nvCxnSpPr>
            <p:cNvPr id="971" name="直接连接符 555"/>
            <p:cNvCxnSpPr/>
            <p:nvPr/>
          </p:nvCxnSpPr>
          <p:spPr>
            <a:xfrm>
              <a:off x="5753880" y="5759280"/>
              <a:ext cx="360" cy="360720"/>
            </a:xfrm>
            <a:prstGeom prst="straightConnector1">
              <a:avLst/>
            </a:prstGeom>
            <a:ln w="3175">
              <a:solidFill>
                <a:srgbClr val="ffffff">
                  <a:lumMod val="85000"/>
                </a:srgbClr>
              </a:solidFill>
              <a:round/>
            </a:ln>
          </p:spPr>
        </p:cxnSp>
        <p:cxnSp>
          <p:nvCxnSpPr>
            <p:cNvPr id="972" name="直接连接符 556"/>
            <p:cNvCxnSpPr/>
            <p:nvPr/>
          </p:nvCxnSpPr>
          <p:spPr>
            <a:xfrm>
              <a:off x="6113160" y="5759280"/>
              <a:ext cx="360" cy="360720"/>
            </a:xfrm>
            <a:prstGeom prst="straightConnector1">
              <a:avLst/>
            </a:prstGeom>
            <a:ln w="3175">
              <a:solidFill>
                <a:srgbClr val="ffffff">
                  <a:lumMod val="85000"/>
                </a:srgbClr>
              </a:solidFill>
              <a:round/>
            </a:ln>
          </p:spPr>
        </p:cxnSp>
        <p:cxnSp>
          <p:nvCxnSpPr>
            <p:cNvPr id="973" name="直接连接符 557"/>
            <p:cNvCxnSpPr/>
            <p:nvPr/>
          </p:nvCxnSpPr>
          <p:spPr>
            <a:xfrm>
              <a:off x="6472800" y="5759280"/>
              <a:ext cx="360" cy="360720"/>
            </a:xfrm>
            <a:prstGeom prst="straightConnector1">
              <a:avLst/>
            </a:prstGeom>
            <a:ln w="3175">
              <a:solidFill>
                <a:srgbClr val="ffffff">
                  <a:lumMod val="85000"/>
                </a:srgbClr>
              </a:solidFill>
              <a:round/>
            </a:ln>
          </p:spPr>
        </p:cxnSp>
        <p:cxnSp>
          <p:nvCxnSpPr>
            <p:cNvPr id="974" name="直接连接符 558"/>
            <p:cNvCxnSpPr/>
            <p:nvPr/>
          </p:nvCxnSpPr>
          <p:spPr>
            <a:xfrm>
              <a:off x="6832080" y="5759280"/>
              <a:ext cx="360" cy="360720"/>
            </a:xfrm>
            <a:prstGeom prst="straightConnector1">
              <a:avLst/>
            </a:prstGeom>
            <a:ln w="3175">
              <a:solidFill>
                <a:srgbClr val="ffffff">
                  <a:lumMod val="85000"/>
                </a:srgbClr>
              </a:solidFill>
              <a:round/>
            </a:ln>
          </p:spPr>
        </p:cxnSp>
        <p:cxnSp>
          <p:nvCxnSpPr>
            <p:cNvPr id="975" name="直接连接符 559"/>
            <p:cNvCxnSpPr/>
            <p:nvPr/>
          </p:nvCxnSpPr>
          <p:spPr>
            <a:xfrm>
              <a:off x="7191720" y="5759280"/>
              <a:ext cx="360" cy="360720"/>
            </a:xfrm>
            <a:prstGeom prst="straightConnector1">
              <a:avLst/>
            </a:prstGeom>
            <a:ln w="3175">
              <a:solidFill>
                <a:srgbClr val="ffffff">
                  <a:lumMod val="85000"/>
                </a:srgbClr>
              </a:solidFill>
              <a:round/>
            </a:ln>
          </p:spPr>
        </p:cxnSp>
        <p:cxnSp>
          <p:nvCxnSpPr>
            <p:cNvPr id="976" name="直接连接符 560"/>
            <p:cNvCxnSpPr/>
            <p:nvPr/>
          </p:nvCxnSpPr>
          <p:spPr>
            <a:xfrm>
              <a:off x="7551360" y="5759280"/>
              <a:ext cx="360" cy="360720"/>
            </a:xfrm>
            <a:prstGeom prst="straightConnector1">
              <a:avLst/>
            </a:prstGeom>
            <a:ln w="3175">
              <a:solidFill>
                <a:srgbClr val="ffffff">
                  <a:lumMod val="85000"/>
                </a:srgbClr>
              </a:solidFill>
              <a:round/>
            </a:ln>
          </p:spPr>
        </p:cxnSp>
        <p:cxnSp>
          <p:nvCxnSpPr>
            <p:cNvPr id="977" name="直接连接符 561"/>
            <p:cNvCxnSpPr/>
            <p:nvPr/>
          </p:nvCxnSpPr>
          <p:spPr>
            <a:xfrm>
              <a:off x="7910640" y="5759280"/>
              <a:ext cx="360" cy="360720"/>
            </a:xfrm>
            <a:prstGeom prst="straightConnector1">
              <a:avLst/>
            </a:prstGeom>
            <a:ln w="3175">
              <a:solidFill>
                <a:srgbClr val="ffffff">
                  <a:lumMod val="85000"/>
                </a:srgbClr>
              </a:solidFill>
              <a:round/>
            </a:ln>
          </p:spPr>
        </p:cxnSp>
        <p:cxnSp>
          <p:nvCxnSpPr>
            <p:cNvPr id="978" name="直接连接符 562"/>
            <p:cNvCxnSpPr/>
            <p:nvPr/>
          </p:nvCxnSpPr>
          <p:spPr>
            <a:xfrm>
              <a:off x="8270280" y="5759280"/>
              <a:ext cx="360" cy="360720"/>
            </a:xfrm>
            <a:prstGeom prst="straightConnector1">
              <a:avLst/>
            </a:prstGeom>
            <a:ln w="3175">
              <a:solidFill>
                <a:srgbClr val="ffffff">
                  <a:lumMod val="85000"/>
                </a:srgbClr>
              </a:solidFill>
              <a:round/>
            </a:ln>
          </p:spPr>
        </p:cxnSp>
        <p:cxnSp>
          <p:nvCxnSpPr>
            <p:cNvPr id="979" name="直接连接符 563"/>
            <p:cNvCxnSpPr/>
            <p:nvPr/>
          </p:nvCxnSpPr>
          <p:spPr>
            <a:xfrm>
              <a:off x="8629920" y="5759280"/>
              <a:ext cx="360" cy="360720"/>
            </a:xfrm>
            <a:prstGeom prst="straightConnector1">
              <a:avLst/>
            </a:prstGeom>
            <a:ln w="3175">
              <a:solidFill>
                <a:srgbClr val="ffffff">
                  <a:lumMod val="85000"/>
                </a:srgbClr>
              </a:solidFill>
              <a:round/>
            </a:ln>
          </p:spPr>
        </p:cxnSp>
        <p:cxnSp>
          <p:nvCxnSpPr>
            <p:cNvPr id="980" name="直接连接符 564"/>
            <p:cNvCxnSpPr/>
            <p:nvPr/>
          </p:nvCxnSpPr>
          <p:spPr>
            <a:xfrm>
              <a:off x="8989200" y="5759280"/>
              <a:ext cx="360" cy="360720"/>
            </a:xfrm>
            <a:prstGeom prst="straightConnector1">
              <a:avLst/>
            </a:prstGeom>
            <a:ln w="3175">
              <a:solidFill>
                <a:srgbClr val="ffffff">
                  <a:lumMod val="85000"/>
                </a:srgbClr>
              </a:solidFill>
              <a:round/>
            </a:ln>
          </p:spPr>
        </p:cxnSp>
        <p:cxnSp>
          <p:nvCxnSpPr>
            <p:cNvPr id="981" name="直接连接符 565"/>
            <p:cNvCxnSpPr/>
            <p:nvPr/>
          </p:nvCxnSpPr>
          <p:spPr>
            <a:xfrm>
              <a:off x="9348840" y="5759280"/>
              <a:ext cx="360" cy="360720"/>
            </a:xfrm>
            <a:prstGeom prst="straightConnector1">
              <a:avLst/>
            </a:prstGeom>
            <a:ln w="3175">
              <a:solidFill>
                <a:srgbClr val="ffffff">
                  <a:lumMod val="85000"/>
                </a:srgbClr>
              </a:solidFill>
              <a:round/>
            </a:ln>
          </p:spPr>
        </p:cxnSp>
        <p:cxnSp>
          <p:nvCxnSpPr>
            <p:cNvPr id="982" name="直接连接符 566"/>
            <p:cNvCxnSpPr/>
            <p:nvPr/>
          </p:nvCxnSpPr>
          <p:spPr>
            <a:xfrm>
              <a:off x="9708480" y="5759280"/>
              <a:ext cx="360" cy="360720"/>
            </a:xfrm>
            <a:prstGeom prst="straightConnector1">
              <a:avLst/>
            </a:prstGeom>
            <a:ln w="3175">
              <a:solidFill>
                <a:srgbClr val="ffffff">
                  <a:lumMod val="85000"/>
                </a:srgbClr>
              </a:solidFill>
              <a:round/>
            </a:ln>
          </p:spPr>
        </p:cxnSp>
        <p:cxnSp>
          <p:nvCxnSpPr>
            <p:cNvPr id="983" name="直接连接符 567"/>
            <p:cNvCxnSpPr/>
            <p:nvPr/>
          </p:nvCxnSpPr>
          <p:spPr>
            <a:xfrm>
              <a:off x="10067760" y="5759280"/>
              <a:ext cx="360" cy="360720"/>
            </a:xfrm>
            <a:prstGeom prst="straightConnector1">
              <a:avLst/>
            </a:prstGeom>
            <a:ln w="3175">
              <a:solidFill>
                <a:srgbClr val="ffffff">
                  <a:lumMod val="85000"/>
                </a:srgbClr>
              </a:solidFill>
              <a:round/>
            </a:ln>
          </p:spPr>
        </p:cxnSp>
        <p:cxnSp>
          <p:nvCxnSpPr>
            <p:cNvPr id="984" name="直接连接符 568"/>
            <p:cNvCxnSpPr/>
            <p:nvPr/>
          </p:nvCxnSpPr>
          <p:spPr>
            <a:xfrm>
              <a:off x="10427400" y="5759280"/>
              <a:ext cx="360" cy="360720"/>
            </a:xfrm>
            <a:prstGeom prst="straightConnector1">
              <a:avLst/>
            </a:prstGeom>
            <a:ln w="3175">
              <a:solidFill>
                <a:srgbClr val="ffffff">
                  <a:lumMod val="85000"/>
                </a:srgbClr>
              </a:solidFill>
              <a:round/>
            </a:ln>
          </p:spPr>
        </p:cxnSp>
        <p:cxnSp>
          <p:nvCxnSpPr>
            <p:cNvPr id="985" name="直接连接符 569"/>
            <p:cNvCxnSpPr/>
            <p:nvPr/>
          </p:nvCxnSpPr>
          <p:spPr>
            <a:xfrm>
              <a:off x="10787040" y="5759280"/>
              <a:ext cx="360" cy="360720"/>
            </a:xfrm>
            <a:prstGeom prst="straightConnector1">
              <a:avLst/>
            </a:prstGeom>
            <a:ln w="3175">
              <a:solidFill>
                <a:srgbClr val="ffffff">
                  <a:lumMod val="85000"/>
                </a:srgbClr>
              </a:solidFill>
              <a:round/>
            </a:ln>
          </p:spPr>
        </p:cxnSp>
      </p:grpSp>
      <p:sp>
        <p:nvSpPr>
          <p:cNvPr id="986" name="矩形 570"/>
          <p:cNvSpPr/>
          <p:nvPr/>
        </p:nvSpPr>
        <p:spPr>
          <a:xfrm>
            <a:off x="307080" y="1386000"/>
            <a:ext cx="10907640" cy="4787640"/>
          </a:xfrm>
          <a:prstGeom prst="rect">
            <a:avLst/>
          </a:prstGeom>
          <a:noFill/>
          <a:ln>
            <a:solidFill>
              <a:srgbClr val="ffffff">
                <a:lumMod val="8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cxnSp>
        <p:nvCxnSpPr>
          <p:cNvPr id="987" name="直接连接符 571"/>
          <p:cNvCxnSpPr/>
          <p:nvPr/>
        </p:nvCxnSpPr>
        <p:spPr>
          <a:xfrm>
            <a:off x="360360" y="1079280"/>
            <a:ext cx="10801440" cy="360"/>
          </a:xfrm>
          <a:prstGeom prst="straightConnector1">
            <a:avLst/>
          </a:prstGeom>
          <a:ln w="19050">
            <a:solidFill>
              <a:srgbClr val="c00000"/>
            </a:solidFill>
            <a:round/>
          </a:ln>
        </p:spPr>
      </p:cxnSp>
      <p:sp>
        <p:nvSpPr>
          <p:cNvPr id="988" name="矩形 64"/>
          <p:cNvSpPr/>
          <p:nvPr/>
        </p:nvSpPr>
        <p:spPr>
          <a:xfrm>
            <a:off x="0" y="0"/>
            <a:ext cx="11521800" cy="6479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89" name="平行四边形 36"/>
          <p:cNvSpPr/>
          <p:nvPr/>
        </p:nvSpPr>
        <p:spPr>
          <a:xfrm flipH="1">
            <a:off x="1074780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0" name="平行四边形 7"/>
          <p:cNvSpPr/>
          <p:nvPr/>
        </p:nvSpPr>
        <p:spPr>
          <a:xfrm flipH="1">
            <a:off x="54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1" name="平行四边形 8"/>
          <p:cNvSpPr/>
          <p:nvPr/>
        </p:nvSpPr>
        <p:spPr>
          <a:xfrm flipH="1">
            <a:off x="7009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2" name="平行四边形 9"/>
          <p:cNvSpPr/>
          <p:nvPr/>
        </p:nvSpPr>
        <p:spPr>
          <a:xfrm flipH="1">
            <a:off x="13968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3" name="平行四边形 10"/>
          <p:cNvSpPr/>
          <p:nvPr/>
        </p:nvSpPr>
        <p:spPr>
          <a:xfrm flipH="1">
            <a:off x="20923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4" name="平行四边形 11"/>
          <p:cNvSpPr/>
          <p:nvPr/>
        </p:nvSpPr>
        <p:spPr>
          <a:xfrm flipH="1">
            <a:off x="278820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5" name="平行四边形 12"/>
          <p:cNvSpPr/>
          <p:nvPr/>
        </p:nvSpPr>
        <p:spPr>
          <a:xfrm flipH="1">
            <a:off x="34837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6" name="平行四边形 13"/>
          <p:cNvSpPr/>
          <p:nvPr/>
        </p:nvSpPr>
        <p:spPr>
          <a:xfrm flipH="1">
            <a:off x="41792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7" name="平行四边形 14"/>
          <p:cNvSpPr/>
          <p:nvPr/>
        </p:nvSpPr>
        <p:spPr>
          <a:xfrm flipH="1">
            <a:off x="487512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8" name="平行四边形 15"/>
          <p:cNvSpPr/>
          <p:nvPr/>
        </p:nvSpPr>
        <p:spPr>
          <a:xfrm flipH="1">
            <a:off x="55706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999" name="平行四边形 16"/>
          <p:cNvSpPr/>
          <p:nvPr/>
        </p:nvSpPr>
        <p:spPr>
          <a:xfrm flipH="1">
            <a:off x="62661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0" name="平行四边形 17"/>
          <p:cNvSpPr/>
          <p:nvPr/>
        </p:nvSpPr>
        <p:spPr>
          <a:xfrm flipH="1">
            <a:off x="69620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1" name="平行四边形 18"/>
          <p:cNvSpPr/>
          <p:nvPr/>
        </p:nvSpPr>
        <p:spPr>
          <a:xfrm flipH="1">
            <a:off x="76575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2" name="平行四边形 19"/>
          <p:cNvSpPr/>
          <p:nvPr/>
        </p:nvSpPr>
        <p:spPr>
          <a:xfrm flipH="1">
            <a:off x="835344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3" name="平行四边形 20"/>
          <p:cNvSpPr/>
          <p:nvPr/>
        </p:nvSpPr>
        <p:spPr>
          <a:xfrm flipH="1">
            <a:off x="90489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4" name="平行四边形 21"/>
          <p:cNvSpPr/>
          <p:nvPr/>
        </p:nvSpPr>
        <p:spPr>
          <a:xfrm flipH="1">
            <a:off x="9744480" y="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5" name="平行四边形 22"/>
          <p:cNvSpPr/>
          <p:nvPr/>
        </p:nvSpPr>
        <p:spPr>
          <a:xfrm flipH="1">
            <a:off x="105300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6" name="平行四边形 23"/>
          <p:cNvSpPr/>
          <p:nvPr/>
        </p:nvSpPr>
        <p:spPr>
          <a:xfrm flipH="1">
            <a:off x="174528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7" name="平行四边形 24"/>
          <p:cNvSpPr/>
          <p:nvPr/>
        </p:nvSpPr>
        <p:spPr>
          <a:xfrm flipH="1">
            <a:off x="243792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8" name="平行四边形 25"/>
          <p:cNvSpPr/>
          <p:nvPr/>
        </p:nvSpPr>
        <p:spPr>
          <a:xfrm flipH="1">
            <a:off x="313020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09" name="平行四边形 26"/>
          <p:cNvSpPr/>
          <p:nvPr/>
        </p:nvSpPr>
        <p:spPr>
          <a:xfrm flipH="1">
            <a:off x="382284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0" name="平行四边形 27"/>
          <p:cNvSpPr/>
          <p:nvPr/>
        </p:nvSpPr>
        <p:spPr>
          <a:xfrm flipH="1">
            <a:off x="451548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1" name="平行四边形 28"/>
          <p:cNvSpPr/>
          <p:nvPr/>
        </p:nvSpPr>
        <p:spPr>
          <a:xfrm flipH="1">
            <a:off x="520776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2" name="平行四边形 29"/>
          <p:cNvSpPr/>
          <p:nvPr/>
        </p:nvSpPr>
        <p:spPr>
          <a:xfrm flipH="1">
            <a:off x="590040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3" name="平行四边形 30"/>
          <p:cNvSpPr/>
          <p:nvPr/>
        </p:nvSpPr>
        <p:spPr>
          <a:xfrm flipH="1">
            <a:off x="659304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4" name="平行四边形 31"/>
          <p:cNvSpPr/>
          <p:nvPr/>
        </p:nvSpPr>
        <p:spPr>
          <a:xfrm flipH="1">
            <a:off x="728532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5" name="平行四边形 32"/>
          <p:cNvSpPr/>
          <p:nvPr/>
        </p:nvSpPr>
        <p:spPr>
          <a:xfrm flipH="1">
            <a:off x="797796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6" name="平行四边形 33"/>
          <p:cNvSpPr/>
          <p:nvPr/>
        </p:nvSpPr>
        <p:spPr>
          <a:xfrm flipH="1">
            <a:off x="867024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7" name="平行四边形 34"/>
          <p:cNvSpPr/>
          <p:nvPr/>
        </p:nvSpPr>
        <p:spPr>
          <a:xfrm flipH="1">
            <a:off x="9362880" y="611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8" name="平行四边形 35"/>
          <p:cNvSpPr/>
          <p:nvPr/>
        </p:nvSpPr>
        <p:spPr>
          <a:xfrm flipH="1">
            <a:off x="10055520" y="611964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19" name="平行四边形 37"/>
          <p:cNvSpPr/>
          <p:nvPr/>
        </p:nvSpPr>
        <p:spPr>
          <a:xfrm flipH="1" rot="16200000">
            <a:off x="-180360" y="526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0" name="平行四边形 38"/>
          <p:cNvSpPr/>
          <p:nvPr/>
        </p:nvSpPr>
        <p:spPr>
          <a:xfrm flipH="1" rot="16200000">
            <a:off x="-180360" y="459000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1" name="平行四边形 39"/>
          <p:cNvSpPr/>
          <p:nvPr/>
        </p:nvSpPr>
        <p:spPr>
          <a:xfrm flipH="1" rot="16200000">
            <a:off x="-180360" y="391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2" name="平行四边形 40"/>
          <p:cNvSpPr/>
          <p:nvPr/>
        </p:nvSpPr>
        <p:spPr>
          <a:xfrm flipH="1" rot="16200000">
            <a:off x="-180360" y="324000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3" name="平行四边形 41"/>
          <p:cNvSpPr/>
          <p:nvPr/>
        </p:nvSpPr>
        <p:spPr>
          <a:xfrm flipH="1" rot="16200000">
            <a:off x="-180360" y="2565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4" name="平行四边形 42"/>
          <p:cNvSpPr/>
          <p:nvPr/>
        </p:nvSpPr>
        <p:spPr>
          <a:xfrm flipH="1" rot="16200000">
            <a:off x="-180360" y="18903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5" name="平行四边形 43"/>
          <p:cNvSpPr/>
          <p:nvPr/>
        </p:nvSpPr>
        <p:spPr>
          <a:xfrm flipH="1" rot="16200000">
            <a:off x="-180360" y="121536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6" name="平行四边形 44"/>
          <p:cNvSpPr/>
          <p:nvPr/>
        </p:nvSpPr>
        <p:spPr>
          <a:xfrm flipH="1" rot="16200000">
            <a:off x="-180360" y="5403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7" name="平行四边形 45"/>
          <p:cNvSpPr/>
          <p:nvPr/>
        </p:nvSpPr>
        <p:spPr>
          <a:xfrm flipH="1" rot="16200000">
            <a:off x="10981800" y="557532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8" name="平行四边形 46"/>
          <p:cNvSpPr/>
          <p:nvPr/>
        </p:nvSpPr>
        <p:spPr>
          <a:xfrm flipH="1" rot="16200000">
            <a:off x="10981800" y="490068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29" name="平行四边形 47"/>
          <p:cNvSpPr/>
          <p:nvPr/>
        </p:nvSpPr>
        <p:spPr>
          <a:xfrm flipH="1" rot="16200000">
            <a:off x="10981800" y="42264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0" name="平行四边形 48"/>
          <p:cNvSpPr/>
          <p:nvPr/>
        </p:nvSpPr>
        <p:spPr>
          <a:xfrm flipH="1" rot="16200000">
            <a:off x="10981800" y="35517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1" name="平行四边形 49"/>
          <p:cNvSpPr/>
          <p:nvPr/>
        </p:nvSpPr>
        <p:spPr>
          <a:xfrm flipH="1" rot="16200000">
            <a:off x="10981800" y="287712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2" name="平行四边形 50"/>
          <p:cNvSpPr/>
          <p:nvPr/>
        </p:nvSpPr>
        <p:spPr>
          <a:xfrm flipH="1" rot="16200000">
            <a:off x="10981800" y="22028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3" name="平行四边形 51"/>
          <p:cNvSpPr/>
          <p:nvPr/>
        </p:nvSpPr>
        <p:spPr>
          <a:xfrm flipH="1" rot="16200000">
            <a:off x="10981800" y="15282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4" name="平行四边形 52"/>
          <p:cNvSpPr/>
          <p:nvPr/>
        </p:nvSpPr>
        <p:spPr>
          <a:xfrm flipH="1">
            <a:off x="10440360" y="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5" name="平行四边形 53"/>
          <p:cNvSpPr/>
          <p:nvPr/>
        </p:nvSpPr>
        <p:spPr>
          <a:xfrm flipH="1" rot="16200000">
            <a:off x="10981440" y="17928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6" name="平行四边形 54"/>
          <p:cNvSpPr/>
          <p:nvPr/>
        </p:nvSpPr>
        <p:spPr>
          <a:xfrm flipH="1" rot="16200000">
            <a:off x="10981800" y="85356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7" name="平行四边形 55"/>
          <p:cNvSpPr/>
          <p:nvPr/>
        </p:nvSpPr>
        <p:spPr>
          <a:xfrm flipH="1">
            <a:off x="360360" y="6120000"/>
            <a:ext cx="719640" cy="359640"/>
          </a:xfrm>
          <a:prstGeom prst="parallelogram">
            <a:avLst>
              <a:gd name="adj" fmla="val 94029"/>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8" name="平行四边形 56"/>
          <p:cNvSpPr/>
          <p:nvPr/>
        </p:nvSpPr>
        <p:spPr>
          <a:xfrm flipH="1" rot="16200000">
            <a:off x="-180360" y="5939640"/>
            <a:ext cx="719640" cy="359640"/>
          </a:xfrm>
          <a:prstGeom prst="parallelogram">
            <a:avLst>
              <a:gd name="adj" fmla="val 94029"/>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39" name="五边形 65"/>
          <p:cNvSpPr/>
          <p:nvPr/>
        </p:nvSpPr>
        <p:spPr>
          <a:xfrm rot="5400000">
            <a:off x="4206600" y="-3483360"/>
            <a:ext cx="3108960" cy="10801080"/>
          </a:xfrm>
          <a:custGeom>
            <a:avLst/>
            <a:gdLst>
              <a:gd name="textAreaLeft" fmla="*/ 0 w 3108960"/>
              <a:gd name="textAreaRight" fmla="*/ 3109320 w 3108960"/>
              <a:gd name="textAreaTop" fmla="*/ 0 h 10801080"/>
              <a:gd name="textAreaBottom" fmla="*/ 10801440 h 10801080"/>
            </a:gdLst>
            <a:ahLst/>
            <a:rect l="textAreaLeft" t="textAreaTop" r="textAreaRight" b="textAreaBottom"/>
            <a:pathLst>
              <a:path w="3109197" h="10801351">
                <a:moveTo>
                  <a:pt x="0" y="10801351"/>
                </a:moveTo>
                <a:lnTo>
                  <a:pt x="0" y="0"/>
                </a:lnTo>
                <a:lnTo>
                  <a:pt x="345050" y="0"/>
                </a:lnTo>
                <a:lnTo>
                  <a:pt x="3034494" y="5020624"/>
                </a:lnTo>
                <a:cubicBezTo>
                  <a:pt x="3082842" y="5137758"/>
                  <a:pt x="3109197" y="5266141"/>
                  <a:pt x="3109197" y="5400678"/>
                </a:cubicBezTo>
                <a:cubicBezTo>
                  <a:pt x="3109197" y="5535213"/>
                  <a:pt x="3082843" y="5663592"/>
                  <a:pt x="3034497" y="5780723"/>
                </a:cubicBezTo>
                <a:lnTo>
                  <a:pt x="345050" y="10801351"/>
                </a:lnTo>
                <a:close/>
              </a:path>
            </a:pathLst>
          </a:cu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040" name="TextBox 70"/>
          <p:cNvSpPr/>
          <p:nvPr/>
        </p:nvSpPr>
        <p:spPr>
          <a:xfrm>
            <a:off x="4984200" y="3811680"/>
            <a:ext cx="155268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6000" spc="-1" strike="noStrike">
                <a:solidFill>
                  <a:srgbClr val="262626"/>
                </a:solidFill>
                <a:latin typeface="Candara"/>
                <a:ea typeface="微软雅黑"/>
              </a:rPr>
              <a:t>谢谢！</a:t>
            </a:r>
            <a:endParaRPr b="0" lang="en-US" sz="6000" spc="-1" strike="noStrike">
              <a:solidFill>
                <a:srgbClr val="000000"/>
              </a:solidFill>
              <a:latin typeface="Arial"/>
            </a:endParaRPr>
          </a:p>
        </p:txBody>
      </p:sp>
      <p:sp>
        <p:nvSpPr>
          <p:cNvPr id="1041" name="PlaceHolder 1"/>
          <p:cNvSpPr>
            <a:spLocks noGrp="1"/>
          </p:cNvSpPr>
          <p:nvPr>
            <p:ph type="title"/>
          </p:nvPr>
        </p:nvSpPr>
        <p:spPr>
          <a:xfrm>
            <a:off x="576000" y="258480"/>
            <a:ext cx="10369440" cy="1081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ndara"/>
              </a:rPr>
              <a:t>Click to edit the title text format</a:t>
            </a:r>
            <a:endParaRPr b="0" lang="en-US" sz="1800" spc="-1" strike="noStrike">
              <a:solidFill>
                <a:srgbClr val="000000"/>
              </a:solidFill>
              <a:latin typeface="Candara"/>
            </a:endParaRPr>
          </a:p>
        </p:txBody>
      </p:sp>
      <p:sp>
        <p:nvSpPr>
          <p:cNvPr id="1042" name="PlaceHolder 2"/>
          <p:cNvSpPr>
            <a:spLocks noGrp="1"/>
          </p:cNvSpPr>
          <p:nvPr>
            <p:ph type="body"/>
          </p:nvPr>
        </p:nvSpPr>
        <p:spPr>
          <a:xfrm>
            <a:off x="576000" y="1516320"/>
            <a:ext cx="10369440" cy="37580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ndara"/>
              </a:rPr>
              <a:t>Second Outline Level</a:t>
            </a:r>
            <a:endParaRPr b="0" lang="en-US" sz="1800" spc="-1" strike="noStrike">
              <a:solidFill>
                <a:srgbClr val="000000"/>
              </a:solidFill>
              <a:latin typeface="Candar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ndara"/>
              </a:rPr>
              <a:t>Third Outline Level</a:t>
            </a:r>
            <a:endParaRPr b="0" lang="en-US" sz="2000" spc="-1" strike="noStrike">
              <a:solidFill>
                <a:srgbClr val="000000"/>
              </a:solidFill>
              <a:latin typeface="Candar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ndara"/>
              </a:rPr>
              <a:t>Fourth Outline Level</a:t>
            </a:r>
            <a:endParaRPr b="0" lang="en-US" sz="2000" spc="-1" strike="noStrike">
              <a:solidFill>
                <a:srgbClr val="000000"/>
              </a:solidFill>
              <a:latin typeface="Candar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ndara"/>
              </a:rPr>
              <a:t>Fifth Outline Level</a:t>
            </a:r>
            <a:endParaRPr b="0" lang="en-US" sz="2000" spc="-1" strike="noStrike">
              <a:solidFill>
                <a:srgbClr val="000000"/>
              </a:solidFill>
              <a:latin typeface="Candar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ndara"/>
              </a:rPr>
              <a:t>Sixth Outline Level</a:t>
            </a:r>
            <a:endParaRPr b="0" lang="en-US" sz="2000" spc="-1" strike="noStrike">
              <a:solidFill>
                <a:srgbClr val="000000"/>
              </a:solidFill>
              <a:latin typeface="Candar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ndara"/>
              </a:rPr>
              <a:t>Seventh Outline Level</a:t>
            </a:r>
            <a:endParaRPr b="0" lang="en-US" sz="20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yanj.cn/"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1440000" y="2013120"/>
            <a:ext cx="8497440" cy="866160"/>
          </a:xfrm>
          <a:prstGeom prst="rect">
            <a:avLst/>
          </a:prstGeom>
          <a:noFill/>
          <a:ln w="0">
            <a:noFill/>
          </a:ln>
        </p:spPr>
        <p:txBody>
          <a:bodyPr anchor="ctr">
            <a:noAutofit/>
          </a:bodyPr>
          <a:p>
            <a:pPr indent="0">
              <a:lnSpc>
                <a:spcPct val="100000"/>
              </a:lnSpc>
              <a:buNone/>
            </a:pPr>
            <a:r>
              <a:rPr b="0" lang="zh-CN" sz="4000" spc="-1" strike="noStrike">
                <a:solidFill>
                  <a:srgbClr val="262626"/>
                </a:solidFill>
                <a:latin typeface="微软雅黑"/>
                <a:ea typeface="微软雅黑"/>
              </a:rPr>
              <a:t>信封信件元素创意通用</a:t>
            </a:r>
            <a:r>
              <a:rPr b="0" lang="en-US" sz="4000" spc="-1" strike="noStrike">
                <a:solidFill>
                  <a:srgbClr val="262626"/>
                </a:solidFill>
                <a:latin typeface="微软雅黑"/>
                <a:ea typeface="微软雅黑"/>
              </a:rPr>
              <a:t>PPT</a:t>
            </a:r>
            <a:r>
              <a:rPr b="0" lang="zh-CN" sz="4000" spc="-1" strike="noStrike">
                <a:solidFill>
                  <a:srgbClr val="262626"/>
                </a:solidFill>
                <a:latin typeface="微软雅黑"/>
                <a:ea typeface="微软雅黑"/>
              </a:rPr>
              <a:t>模板下载</a:t>
            </a:r>
            <a:endParaRPr b="0" lang="en-US" sz="4000" spc="-1" strike="noStrike">
              <a:solidFill>
                <a:srgbClr val="000000"/>
              </a:solidFill>
              <a:latin typeface="Candara"/>
            </a:endParaRPr>
          </a:p>
        </p:txBody>
      </p:sp>
      <p:pic>
        <p:nvPicPr>
          <p:cNvPr id="1080" name="Picture 2" descr="C:\Documents and Settings\Administrator\桌面\Blue hills.jpg"/>
          <p:cNvPicPr/>
          <p:nvPr/>
        </p:nvPicPr>
        <p:blipFill>
          <a:blip r:embed="rId1"/>
          <a:stretch/>
        </p:blipFill>
        <p:spPr>
          <a:xfrm>
            <a:off x="9433440" y="791640"/>
            <a:ext cx="1295640" cy="1295640"/>
          </a:xfrm>
          <a:prstGeom prst="rect">
            <a:avLst/>
          </a:prstGeom>
          <a:ln w="0">
            <a:noFill/>
          </a:ln>
        </p:spPr>
      </p:pic>
      <p:grpSp>
        <p:nvGrpSpPr>
          <p:cNvPr id="1081" name="组合 8"/>
          <p:cNvGrpSpPr/>
          <p:nvPr/>
        </p:nvGrpSpPr>
        <p:grpSpPr>
          <a:xfrm>
            <a:off x="9429480" y="61200"/>
            <a:ext cx="2036160" cy="2035800"/>
            <a:chOff x="9429480" y="61200"/>
            <a:chExt cx="2036160" cy="2035800"/>
          </a:xfrm>
        </p:grpSpPr>
        <p:pic>
          <p:nvPicPr>
            <p:cNvPr id="1082" name="Picture 2" descr="F:\PPT\BLOG\LOGO\Slide[Small][White].png"/>
            <p:cNvPicPr/>
            <p:nvPr/>
          </p:nvPicPr>
          <p:blipFill>
            <a:blip r:embed="rId2"/>
            <a:stretch/>
          </p:blipFill>
          <p:spPr>
            <a:xfrm rot="2700000">
              <a:off x="10056600" y="923400"/>
              <a:ext cx="795600" cy="302040"/>
            </a:xfrm>
            <a:prstGeom prst="rect">
              <a:avLst/>
            </a:prstGeom>
            <a:ln w="0">
              <a:noFill/>
            </a:ln>
          </p:spPr>
        </p:pic>
        <p:sp>
          <p:nvSpPr>
            <p:cNvPr id="1083" name="椭圆 4"/>
            <p:cNvSpPr/>
            <p:nvPr/>
          </p:nvSpPr>
          <p:spPr>
            <a:xfrm rot="2700000">
              <a:off x="9727560" y="359280"/>
              <a:ext cx="1439640" cy="1439640"/>
            </a:xfrm>
            <a:prstGeom prst="ellipse">
              <a:avLst/>
            </a:prstGeom>
            <a:noFill/>
            <a:ln w="19050">
              <a:solidFill>
                <a:srgbClr val="000000">
                  <a:lumMod val="75000"/>
                  <a:lumOff val="2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en-US" sz="1200" spc="-1" strike="noStrike">
                  <a:solidFill>
                    <a:srgbClr val="404040"/>
                  </a:solidFill>
                  <a:latin typeface="Candara"/>
                  <a:ea typeface="微软雅黑"/>
                </a:rPr>
                <a:t>2012.06.26</a:t>
              </a:r>
              <a:endParaRPr b="0" lang="en-US" sz="1200" spc="-1" strike="noStrike">
                <a:solidFill>
                  <a:srgbClr val="000000"/>
                </a:solidFill>
                <a:latin typeface="Arial"/>
              </a:endParaRPr>
            </a:p>
          </p:txBody>
        </p:sp>
        <p:sp>
          <p:nvSpPr>
            <p:cNvPr id="1084" name="矩形 6"/>
            <p:cNvSpPr txBox="1"/>
            <p:nvPr/>
          </p:nvSpPr>
          <p:spPr>
            <a:xfrm rot="2700000">
              <a:off x="9847800" y="479520"/>
              <a:ext cx="1199520" cy="1199520"/>
            </a:xfrm>
            <a:prstGeom prst="rect">
              <a:avLst/>
            </a:prstGeom>
          </p:spPr>
          <p:txBody>
            <a:bodyPr wrap="none" anchor="b" anchorCtr="1">
              <a:prstTxWarp prst="textArchUp">
                <a:avLst>
                  <a:gd name="adj" fmla="val 10857986"/>
                </a:avLst>
              </a:prstTxWarp>
              <a:noAutofit/>
            </a:bodyPr>
            <a:p>
              <a:pPr algn="ctr">
                <a:lnSpc>
                  <a:spcPct val="100000"/>
                </a:lnSpc>
              </a:pPr>
              <a:r>
                <a:rPr b="1" lang="zh-CN" sz="1200" spc="-1" strike="noStrike">
                  <a:ln w="0">
                    <a:noFill/>
                  </a:ln>
                  <a:solidFill>
                    <a:srgbClr val="404040"/>
                  </a:solidFill>
                  <a:latin typeface="微软雅黑"/>
                  <a:ea typeface="微软雅黑"/>
                </a:rPr>
                <a:t>请在此输入您的公司或其他组织机构名称</a:t>
              </a:r>
              <a:endParaRPr b="0" lang="en-US" sz="1200" spc="-1" strike="noStrike">
                <a:ln w="0">
                  <a:noFill/>
                </a:ln>
                <a:solidFill>
                  <a:srgbClr val="404040"/>
                </a:solidFill>
                <a:latin typeface="Arial"/>
              </a:endParaRPr>
            </a:p>
          </p:txBody>
        </p:sp>
      </p:grpSp>
      <p:sp>
        <p:nvSpPr>
          <p:cNvPr id="1085" name="TextBox 7"/>
          <p:cNvSpPr/>
          <p:nvPr/>
        </p:nvSpPr>
        <p:spPr>
          <a:xfrm>
            <a:off x="8640720" y="3963240"/>
            <a:ext cx="2160360" cy="179748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0" lang="zh-CN" sz="1600" spc="-1" strike="noStrike">
                <a:solidFill>
                  <a:srgbClr val="000000"/>
                </a:solidFill>
                <a:latin typeface="微软雅黑"/>
                <a:ea typeface="微软雅黑"/>
              </a:rPr>
              <a:t>姓名：</a:t>
            </a:r>
            <a:r>
              <a:rPr b="0" lang="en-US" sz="1600" spc="-1" strike="noStrike">
                <a:solidFill>
                  <a:srgbClr val="000000"/>
                </a:solidFill>
                <a:latin typeface="微软雅黑"/>
                <a:ea typeface="微软雅黑"/>
              </a:rPr>
              <a:t>XXX</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职务：</a:t>
            </a:r>
            <a:r>
              <a:rPr b="0" lang="en-US" sz="1600" spc="-1" strike="noStrike">
                <a:solidFill>
                  <a:srgbClr val="000000"/>
                </a:solidFill>
                <a:latin typeface="微软雅黑"/>
                <a:ea typeface="微软雅黑"/>
              </a:rPr>
              <a:t>XXX</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电话：</a:t>
            </a:r>
            <a:r>
              <a:rPr b="0" lang="en-US" sz="1600" spc="-1" strike="noStrike">
                <a:solidFill>
                  <a:srgbClr val="000000"/>
                </a:solidFill>
                <a:latin typeface="微软雅黑"/>
                <a:ea typeface="微软雅黑"/>
              </a:rPr>
              <a:t>1**********</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电邮：</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地址：</a:t>
            </a:r>
            <a:r>
              <a:rPr b="0" lang="en-US" sz="1600" spc="-1" strike="noStrike">
                <a:solidFill>
                  <a:srgbClr val="000000"/>
                </a:solidFill>
                <a:latin typeface="微软雅黑"/>
                <a:ea typeface="微软雅黑"/>
              </a:rPr>
              <a:t>XXXXXX</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邮编：</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p:txBody>
      </p:sp>
      <p:sp>
        <p:nvSpPr>
          <p:cNvPr id="1086"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
        <p:nvSpPr>
          <p:cNvPr id="1087" name="PlaceHolder 2"/>
          <p:cNvSpPr>
            <a:spLocks noGrp="1"/>
          </p:cNvSpPr>
          <p:nvPr>
            <p:ph type="subTitle"/>
          </p:nvPr>
        </p:nvSpPr>
        <p:spPr>
          <a:xfrm>
            <a:off x="1728360" y="3672000"/>
            <a:ext cx="8065080" cy="1655640"/>
          </a:xfrm>
          <a:prstGeom prst="rect">
            <a:avLst/>
          </a:prstGeom>
          <a:noFill/>
          <a:ln w="0">
            <a:noFill/>
          </a:ln>
        </p:spPr>
        <p:txBody>
          <a:bodyPr anchor="t">
            <a:noAutofit/>
          </a:bodyPr>
          <a:p>
            <a:pPr algn="ctr"/>
            <a:endParaRPr b="0" lang="en-US" sz="2400" spc="-1" strike="noStrike">
              <a:solidFill>
                <a:srgbClr val="8b8b8b"/>
              </a:solidFill>
              <a:latin typeface="Candara"/>
              <a:ea typeface="微软雅黑"/>
            </a:endParaRPr>
          </a:p>
        </p:txBody>
      </p:sp>
    </p:spTree>
  </p:cSld>
  <mc:AlternateContent>
    <mc:Choice Requires="p14">
      <p:transition spd="slow" advTm="2000" p14:dur="2000"/>
    </mc:Choice>
    <mc:Fallback>
      <p:transition spd="slow" advTm="2000"/>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矩形 16"/>
          <p:cNvSpPr/>
          <p:nvPr/>
        </p:nvSpPr>
        <p:spPr>
          <a:xfrm>
            <a:off x="4680720" y="4319640"/>
            <a:ext cx="1439640" cy="14400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119" name="矩形 17"/>
          <p:cNvSpPr/>
          <p:nvPr/>
        </p:nvSpPr>
        <p:spPr>
          <a:xfrm>
            <a:off x="6840360" y="4319640"/>
            <a:ext cx="1439640" cy="14400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120" name="矩形 18"/>
          <p:cNvSpPr/>
          <p:nvPr/>
        </p:nvSpPr>
        <p:spPr>
          <a:xfrm>
            <a:off x="9001080" y="4324680"/>
            <a:ext cx="1439640" cy="14400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121" name="矩形 15"/>
          <p:cNvSpPr/>
          <p:nvPr/>
        </p:nvSpPr>
        <p:spPr>
          <a:xfrm>
            <a:off x="6480000" y="1799640"/>
            <a:ext cx="2160360" cy="14400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
        <p:nvSpPr>
          <p:cNvPr id="1122"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形</a:t>
            </a:r>
            <a:endParaRPr b="0" lang="en-US" sz="4400" spc="-1" strike="noStrike">
              <a:solidFill>
                <a:srgbClr val="000000"/>
              </a:solidFill>
              <a:latin typeface="Candara"/>
            </a:endParaRPr>
          </a:p>
        </p:txBody>
      </p:sp>
      <p:sp>
        <p:nvSpPr>
          <p:cNvPr id="1123" name="矩形 3"/>
          <p:cNvSpPr/>
          <p:nvPr/>
        </p:nvSpPr>
        <p:spPr>
          <a:xfrm>
            <a:off x="6481800" y="1800360"/>
            <a:ext cx="2159280" cy="1439640"/>
          </a:xfrm>
          <a:custGeom>
            <a:avLst/>
            <a:gdLst>
              <a:gd name="textAreaLeft" fmla="*/ 0 w 2159280"/>
              <a:gd name="textAreaRight" fmla="*/ 2159640 w 2159280"/>
              <a:gd name="textAreaTop" fmla="*/ 0 h 1439640"/>
              <a:gd name="textAreaBottom" fmla="*/ 1440000 h 1439640"/>
            </a:gdLst>
            <a:ahLst/>
            <a:rect l="textAreaLeft" t="textAreaTop" r="textAreaRight" b="textAreaBottom"/>
            <a:pathLst>
              <a:path w="9720263" h="6480175">
                <a:moveTo>
                  <a:pt x="125592" y="0"/>
                </a:moveTo>
                <a:lnTo>
                  <a:pt x="234416" y="0"/>
                </a:lnTo>
                <a:lnTo>
                  <a:pt x="234416" y="1"/>
                </a:lnTo>
                <a:cubicBezTo>
                  <a:pt x="234416" y="69364"/>
                  <a:pt x="290646" y="125594"/>
                  <a:pt x="360009" y="125594"/>
                </a:cubicBezTo>
                <a:cubicBezTo>
                  <a:pt x="429372" y="125594"/>
                  <a:pt x="485602" y="69364"/>
                  <a:pt x="485602" y="1"/>
                </a:cubicBezTo>
                <a:cubicBezTo>
                  <a:pt x="485602" y="1"/>
                  <a:pt x="485602" y="0"/>
                  <a:pt x="485602" y="0"/>
                </a:cubicBezTo>
                <a:lnTo>
                  <a:pt x="594426" y="0"/>
                </a:lnTo>
                <a:lnTo>
                  <a:pt x="594426" y="1"/>
                </a:lnTo>
                <a:cubicBezTo>
                  <a:pt x="594426" y="69364"/>
                  <a:pt x="650656" y="125594"/>
                  <a:pt x="720019" y="125594"/>
                </a:cubicBezTo>
                <a:cubicBezTo>
                  <a:pt x="789382" y="125594"/>
                  <a:pt x="845612" y="69364"/>
                  <a:pt x="845612" y="1"/>
                </a:cubicBezTo>
                <a:cubicBezTo>
                  <a:pt x="845612" y="1"/>
                  <a:pt x="845612" y="0"/>
                  <a:pt x="845612" y="0"/>
                </a:cubicBezTo>
                <a:lnTo>
                  <a:pt x="954436" y="0"/>
                </a:lnTo>
                <a:lnTo>
                  <a:pt x="954436" y="1"/>
                </a:lnTo>
                <a:cubicBezTo>
                  <a:pt x="954436" y="69364"/>
                  <a:pt x="1010666" y="125594"/>
                  <a:pt x="1080029" y="125594"/>
                </a:cubicBezTo>
                <a:cubicBezTo>
                  <a:pt x="1149392" y="125594"/>
                  <a:pt x="1205622" y="69364"/>
                  <a:pt x="1205622" y="1"/>
                </a:cubicBezTo>
                <a:cubicBezTo>
                  <a:pt x="1205622" y="1"/>
                  <a:pt x="1205622" y="0"/>
                  <a:pt x="1205622" y="0"/>
                </a:cubicBezTo>
                <a:lnTo>
                  <a:pt x="1314446" y="0"/>
                </a:lnTo>
                <a:lnTo>
                  <a:pt x="1314446" y="1"/>
                </a:lnTo>
                <a:cubicBezTo>
                  <a:pt x="1314446" y="69364"/>
                  <a:pt x="1370676" y="125594"/>
                  <a:pt x="1440039" y="125594"/>
                </a:cubicBezTo>
                <a:cubicBezTo>
                  <a:pt x="1509402" y="125594"/>
                  <a:pt x="1565632" y="69364"/>
                  <a:pt x="1565632" y="1"/>
                </a:cubicBezTo>
                <a:cubicBezTo>
                  <a:pt x="1565632" y="1"/>
                  <a:pt x="1565632" y="0"/>
                  <a:pt x="1565632" y="0"/>
                </a:cubicBezTo>
                <a:lnTo>
                  <a:pt x="1674456" y="0"/>
                </a:lnTo>
                <a:lnTo>
                  <a:pt x="1674456" y="1"/>
                </a:lnTo>
                <a:cubicBezTo>
                  <a:pt x="1674456" y="69364"/>
                  <a:pt x="1730686" y="125594"/>
                  <a:pt x="1800049" y="125594"/>
                </a:cubicBezTo>
                <a:cubicBezTo>
                  <a:pt x="1869412" y="125594"/>
                  <a:pt x="1925642" y="69364"/>
                  <a:pt x="1925642" y="1"/>
                </a:cubicBezTo>
                <a:cubicBezTo>
                  <a:pt x="1925642" y="1"/>
                  <a:pt x="1925642" y="0"/>
                  <a:pt x="1925642" y="0"/>
                </a:cubicBezTo>
                <a:lnTo>
                  <a:pt x="2034466" y="0"/>
                </a:lnTo>
                <a:lnTo>
                  <a:pt x="2034466" y="1"/>
                </a:lnTo>
                <a:cubicBezTo>
                  <a:pt x="2034466" y="69364"/>
                  <a:pt x="2090696" y="125594"/>
                  <a:pt x="2160059" y="125594"/>
                </a:cubicBezTo>
                <a:cubicBezTo>
                  <a:pt x="2229422" y="125594"/>
                  <a:pt x="2285652" y="69364"/>
                  <a:pt x="2285652" y="1"/>
                </a:cubicBezTo>
                <a:cubicBezTo>
                  <a:pt x="2285652" y="1"/>
                  <a:pt x="2285652" y="0"/>
                  <a:pt x="2285652" y="0"/>
                </a:cubicBezTo>
                <a:lnTo>
                  <a:pt x="2394476" y="0"/>
                </a:lnTo>
                <a:lnTo>
                  <a:pt x="2394476" y="1"/>
                </a:lnTo>
                <a:cubicBezTo>
                  <a:pt x="2394476" y="69364"/>
                  <a:pt x="2450706" y="125594"/>
                  <a:pt x="2520069" y="125594"/>
                </a:cubicBezTo>
                <a:cubicBezTo>
                  <a:pt x="2589432" y="125594"/>
                  <a:pt x="2645662" y="69364"/>
                  <a:pt x="2645662" y="1"/>
                </a:cubicBezTo>
                <a:cubicBezTo>
                  <a:pt x="2645662" y="1"/>
                  <a:pt x="2645662" y="0"/>
                  <a:pt x="2645662" y="0"/>
                </a:cubicBezTo>
                <a:lnTo>
                  <a:pt x="2754486" y="0"/>
                </a:lnTo>
                <a:lnTo>
                  <a:pt x="2754486" y="1"/>
                </a:lnTo>
                <a:cubicBezTo>
                  <a:pt x="2754486" y="69364"/>
                  <a:pt x="2810716" y="125594"/>
                  <a:pt x="2880079" y="125594"/>
                </a:cubicBezTo>
                <a:cubicBezTo>
                  <a:pt x="2949442" y="125594"/>
                  <a:pt x="3005672" y="69364"/>
                  <a:pt x="3005672" y="1"/>
                </a:cubicBezTo>
                <a:cubicBezTo>
                  <a:pt x="3005672" y="1"/>
                  <a:pt x="3005672" y="0"/>
                  <a:pt x="3005672" y="0"/>
                </a:cubicBezTo>
                <a:lnTo>
                  <a:pt x="3114496" y="0"/>
                </a:lnTo>
                <a:lnTo>
                  <a:pt x="3114496" y="1"/>
                </a:lnTo>
                <a:cubicBezTo>
                  <a:pt x="3114496" y="69364"/>
                  <a:pt x="3170726" y="125594"/>
                  <a:pt x="3240089" y="125594"/>
                </a:cubicBezTo>
                <a:cubicBezTo>
                  <a:pt x="3309452" y="125594"/>
                  <a:pt x="3365682" y="69364"/>
                  <a:pt x="3365682" y="1"/>
                </a:cubicBezTo>
                <a:cubicBezTo>
                  <a:pt x="3365682" y="1"/>
                  <a:pt x="3365682" y="0"/>
                  <a:pt x="3365682" y="0"/>
                </a:cubicBezTo>
                <a:lnTo>
                  <a:pt x="3474506" y="0"/>
                </a:lnTo>
                <a:lnTo>
                  <a:pt x="3474506" y="1"/>
                </a:lnTo>
                <a:cubicBezTo>
                  <a:pt x="3474506" y="69364"/>
                  <a:pt x="3530736" y="125594"/>
                  <a:pt x="3600099" y="125594"/>
                </a:cubicBezTo>
                <a:cubicBezTo>
                  <a:pt x="3669462" y="125594"/>
                  <a:pt x="3725692" y="69364"/>
                  <a:pt x="3725692" y="1"/>
                </a:cubicBezTo>
                <a:cubicBezTo>
                  <a:pt x="3725692" y="1"/>
                  <a:pt x="3725692" y="0"/>
                  <a:pt x="3725692" y="0"/>
                </a:cubicBezTo>
                <a:lnTo>
                  <a:pt x="3834516" y="0"/>
                </a:lnTo>
                <a:lnTo>
                  <a:pt x="3834516" y="1"/>
                </a:lnTo>
                <a:cubicBezTo>
                  <a:pt x="3834516" y="69364"/>
                  <a:pt x="3890746" y="125594"/>
                  <a:pt x="3960109" y="125594"/>
                </a:cubicBezTo>
                <a:cubicBezTo>
                  <a:pt x="4029472" y="125594"/>
                  <a:pt x="4085702" y="69364"/>
                  <a:pt x="4085702" y="1"/>
                </a:cubicBezTo>
                <a:cubicBezTo>
                  <a:pt x="4085702" y="1"/>
                  <a:pt x="4085702" y="0"/>
                  <a:pt x="4085702" y="0"/>
                </a:cubicBezTo>
                <a:lnTo>
                  <a:pt x="4194526" y="0"/>
                </a:lnTo>
                <a:lnTo>
                  <a:pt x="4194526" y="1"/>
                </a:lnTo>
                <a:cubicBezTo>
                  <a:pt x="4194526" y="69364"/>
                  <a:pt x="4250756" y="125594"/>
                  <a:pt x="4320119" y="125594"/>
                </a:cubicBezTo>
                <a:cubicBezTo>
                  <a:pt x="4389482" y="125594"/>
                  <a:pt x="4445712" y="69364"/>
                  <a:pt x="4445712" y="1"/>
                </a:cubicBezTo>
                <a:cubicBezTo>
                  <a:pt x="4445712" y="1"/>
                  <a:pt x="4445712" y="0"/>
                  <a:pt x="4445712" y="0"/>
                </a:cubicBezTo>
                <a:lnTo>
                  <a:pt x="4554536" y="0"/>
                </a:lnTo>
                <a:lnTo>
                  <a:pt x="4554536" y="1"/>
                </a:lnTo>
                <a:cubicBezTo>
                  <a:pt x="4554536" y="69364"/>
                  <a:pt x="4610766" y="125594"/>
                  <a:pt x="4680129" y="125594"/>
                </a:cubicBezTo>
                <a:cubicBezTo>
                  <a:pt x="4749492" y="125594"/>
                  <a:pt x="4805722" y="69364"/>
                  <a:pt x="4805722" y="1"/>
                </a:cubicBezTo>
                <a:cubicBezTo>
                  <a:pt x="4805722" y="1"/>
                  <a:pt x="4805722" y="0"/>
                  <a:pt x="4805722" y="0"/>
                </a:cubicBezTo>
                <a:lnTo>
                  <a:pt x="4914546" y="0"/>
                </a:lnTo>
                <a:lnTo>
                  <a:pt x="4914546" y="1"/>
                </a:lnTo>
                <a:cubicBezTo>
                  <a:pt x="4914546" y="69364"/>
                  <a:pt x="4970776" y="125594"/>
                  <a:pt x="5040139" y="125594"/>
                </a:cubicBezTo>
                <a:cubicBezTo>
                  <a:pt x="5109502" y="125594"/>
                  <a:pt x="5165732" y="69364"/>
                  <a:pt x="5165732" y="1"/>
                </a:cubicBezTo>
                <a:cubicBezTo>
                  <a:pt x="5165732" y="1"/>
                  <a:pt x="5165732" y="0"/>
                  <a:pt x="5165732" y="0"/>
                </a:cubicBezTo>
                <a:lnTo>
                  <a:pt x="5274556" y="0"/>
                </a:lnTo>
                <a:lnTo>
                  <a:pt x="5274556" y="1"/>
                </a:lnTo>
                <a:cubicBezTo>
                  <a:pt x="5274556" y="69364"/>
                  <a:pt x="5330786" y="125594"/>
                  <a:pt x="5400149" y="125594"/>
                </a:cubicBezTo>
                <a:cubicBezTo>
                  <a:pt x="5469512" y="125594"/>
                  <a:pt x="5525742" y="69364"/>
                  <a:pt x="5525742" y="1"/>
                </a:cubicBezTo>
                <a:cubicBezTo>
                  <a:pt x="5525742" y="1"/>
                  <a:pt x="5525742" y="0"/>
                  <a:pt x="5525742" y="0"/>
                </a:cubicBezTo>
                <a:lnTo>
                  <a:pt x="5634566" y="0"/>
                </a:lnTo>
                <a:lnTo>
                  <a:pt x="5634566" y="1"/>
                </a:lnTo>
                <a:cubicBezTo>
                  <a:pt x="5634566" y="69364"/>
                  <a:pt x="5690796" y="125594"/>
                  <a:pt x="5760159" y="125594"/>
                </a:cubicBezTo>
                <a:cubicBezTo>
                  <a:pt x="5829522" y="125594"/>
                  <a:pt x="5885752" y="69364"/>
                  <a:pt x="5885752" y="1"/>
                </a:cubicBezTo>
                <a:cubicBezTo>
                  <a:pt x="5885752" y="1"/>
                  <a:pt x="5885752" y="0"/>
                  <a:pt x="5885752" y="0"/>
                </a:cubicBezTo>
                <a:lnTo>
                  <a:pt x="5994576" y="0"/>
                </a:lnTo>
                <a:lnTo>
                  <a:pt x="5994576" y="1"/>
                </a:lnTo>
                <a:cubicBezTo>
                  <a:pt x="5994576" y="69364"/>
                  <a:pt x="6050806" y="125594"/>
                  <a:pt x="6120169" y="125594"/>
                </a:cubicBezTo>
                <a:cubicBezTo>
                  <a:pt x="6189532" y="125594"/>
                  <a:pt x="6245762" y="69364"/>
                  <a:pt x="6245762" y="1"/>
                </a:cubicBezTo>
                <a:cubicBezTo>
                  <a:pt x="6245762" y="1"/>
                  <a:pt x="6245762" y="0"/>
                  <a:pt x="6245762" y="0"/>
                </a:cubicBezTo>
                <a:lnTo>
                  <a:pt x="6354586" y="0"/>
                </a:lnTo>
                <a:lnTo>
                  <a:pt x="6354586" y="1"/>
                </a:lnTo>
                <a:cubicBezTo>
                  <a:pt x="6354586" y="69364"/>
                  <a:pt x="6410816" y="125594"/>
                  <a:pt x="6480179" y="125594"/>
                </a:cubicBezTo>
                <a:cubicBezTo>
                  <a:pt x="6549542" y="125594"/>
                  <a:pt x="6605772" y="69364"/>
                  <a:pt x="6605772" y="1"/>
                </a:cubicBezTo>
                <a:cubicBezTo>
                  <a:pt x="6605772" y="1"/>
                  <a:pt x="6605772" y="0"/>
                  <a:pt x="6605772" y="0"/>
                </a:cubicBezTo>
                <a:lnTo>
                  <a:pt x="6714596" y="0"/>
                </a:lnTo>
                <a:lnTo>
                  <a:pt x="6714596" y="1"/>
                </a:lnTo>
                <a:cubicBezTo>
                  <a:pt x="6714596" y="69364"/>
                  <a:pt x="6770826" y="125594"/>
                  <a:pt x="6840189" y="125594"/>
                </a:cubicBezTo>
                <a:cubicBezTo>
                  <a:pt x="6909552" y="125594"/>
                  <a:pt x="6965782" y="69364"/>
                  <a:pt x="6965782" y="1"/>
                </a:cubicBezTo>
                <a:cubicBezTo>
                  <a:pt x="6965782" y="1"/>
                  <a:pt x="6965782" y="0"/>
                  <a:pt x="6965782" y="0"/>
                </a:cubicBezTo>
                <a:lnTo>
                  <a:pt x="7074606" y="0"/>
                </a:lnTo>
                <a:lnTo>
                  <a:pt x="7074606" y="1"/>
                </a:lnTo>
                <a:cubicBezTo>
                  <a:pt x="7074606" y="69364"/>
                  <a:pt x="7130836" y="125594"/>
                  <a:pt x="7200199" y="125594"/>
                </a:cubicBezTo>
                <a:cubicBezTo>
                  <a:pt x="7269562" y="125594"/>
                  <a:pt x="7325792" y="69364"/>
                  <a:pt x="7325792" y="1"/>
                </a:cubicBezTo>
                <a:cubicBezTo>
                  <a:pt x="7325792" y="1"/>
                  <a:pt x="7325792" y="0"/>
                  <a:pt x="7325792" y="0"/>
                </a:cubicBezTo>
                <a:lnTo>
                  <a:pt x="7434616" y="0"/>
                </a:lnTo>
                <a:lnTo>
                  <a:pt x="7434616" y="1"/>
                </a:lnTo>
                <a:cubicBezTo>
                  <a:pt x="7434616" y="69364"/>
                  <a:pt x="7490846" y="125594"/>
                  <a:pt x="7560209" y="125594"/>
                </a:cubicBezTo>
                <a:cubicBezTo>
                  <a:pt x="7629572" y="125594"/>
                  <a:pt x="7685802" y="69364"/>
                  <a:pt x="7685802" y="1"/>
                </a:cubicBezTo>
                <a:cubicBezTo>
                  <a:pt x="7685802" y="1"/>
                  <a:pt x="7685802" y="0"/>
                  <a:pt x="7685802" y="0"/>
                </a:cubicBezTo>
                <a:lnTo>
                  <a:pt x="7794626" y="0"/>
                </a:lnTo>
                <a:lnTo>
                  <a:pt x="7794626" y="1"/>
                </a:lnTo>
                <a:cubicBezTo>
                  <a:pt x="7794626" y="69364"/>
                  <a:pt x="7850856" y="125594"/>
                  <a:pt x="7920219" y="125594"/>
                </a:cubicBezTo>
                <a:cubicBezTo>
                  <a:pt x="7989582" y="125594"/>
                  <a:pt x="8045812" y="69364"/>
                  <a:pt x="8045812" y="1"/>
                </a:cubicBezTo>
                <a:cubicBezTo>
                  <a:pt x="8045812" y="1"/>
                  <a:pt x="8045812" y="0"/>
                  <a:pt x="8045812" y="0"/>
                </a:cubicBezTo>
                <a:lnTo>
                  <a:pt x="8154636" y="0"/>
                </a:lnTo>
                <a:lnTo>
                  <a:pt x="8154636" y="1"/>
                </a:lnTo>
                <a:cubicBezTo>
                  <a:pt x="8154636" y="69364"/>
                  <a:pt x="8210866" y="125594"/>
                  <a:pt x="8280229" y="125594"/>
                </a:cubicBezTo>
                <a:cubicBezTo>
                  <a:pt x="8349592" y="125594"/>
                  <a:pt x="8405822" y="69364"/>
                  <a:pt x="8405822" y="1"/>
                </a:cubicBezTo>
                <a:cubicBezTo>
                  <a:pt x="8405822" y="1"/>
                  <a:pt x="8405822" y="0"/>
                  <a:pt x="8405822" y="0"/>
                </a:cubicBezTo>
                <a:lnTo>
                  <a:pt x="8514646" y="0"/>
                </a:lnTo>
                <a:lnTo>
                  <a:pt x="8514646" y="1"/>
                </a:lnTo>
                <a:cubicBezTo>
                  <a:pt x="8514646" y="69364"/>
                  <a:pt x="8570876" y="125594"/>
                  <a:pt x="8640239" y="125594"/>
                </a:cubicBezTo>
                <a:cubicBezTo>
                  <a:pt x="8709602" y="125594"/>
                  <a:pt x="8765832" y="69364"/>
                  <a:pt x="8765832" y="1"/>
                </a:cubicBezTo>
                <a:cubicBezTo>
                  <a:pt x="8765832" y="1"/>
                  <a:pt x="8765832" y="0"/>
                  <a:pt x="8765832" y="0"/>
                </a:cubicBezTo>
                <a:lnTo>
                  <a:pt x="8874656" y="0"/>
                </a:lnTo>
                <a:lnTo>
                  <a:pt x="8874656" y="1"/>
                </a:lnTo>
                <a:cubicBezTo>
                  <a:pt x="8874656" y="69364"/>
                  <a:pt x="8930886" y="125594"/>
                  <a:pt x="9000249" y="125594"/>
                </a:cubicBezTo>
                <a:cubicBezTo>
                  <a:pt x="9069612" y="125594"/>
                  <a:pt x="9125842" y="69364"/>
                  <a:pt x="9125842" y="1"/>
                </a:cubicBezTo>
                <a:cubicBezTo>
                  <a:pt x="9125842" y="1"/>
                  <a:pt x="9125842" y="0"/>
                  <a:pt x="9125842" y="0"/>
                </a:cubicBezTo>
                <a:lnTo>
                  <a:pt x="9234666" y="0"/>
                </a:lnTo>
                <a:lnTo>
                  <a:pt x="9234666" y="1"/>
                </a:lnTo>
                <a:cubicBezTo>
                  <a:pt x="9234666" y="69364"/>
                  <a:pt x="9290896" y="125594"/>
                  <a:pt x="9360259" y="125594"/>
                </a:cubicBezTo>
                <a:cubicBezTo>
                  <a:pt x="9429622" y="125594"/>
                  <a:pt x="9485852" y="69364"/>
                  <a:pt x="9485852" y="1"/>
                </a:cubicBezTo>
                <a:cubicBezTo>
                  <a:pt x="9485852" y="1"/>
                  <a:pt x="9485852" y="0"/>
                  <a:pt x="9485852" y="0"/>
                </a:cubicBezTo>
                <a:lnTo>
                  <a:pt x="9594669" y="0"/>
                </a:lnTo>
                <a:lnTo>
                  <a:pt x="9594669" y="1"/>
                </a:lnTo>
                <a:cubicBezTo>
                  <a:pt x="9594669" y="69364"/>
                  <a:pt x="9650899" y="125594"/>
                  <a:pt x="9720262" y="125594"/>
                </a:cubicBezTo>
                <a:cubicBezTo>
                  <a:pt x="9720262" y="125594"/>
                  <a:pt x="9720263" y="125594"/>
                  <a:pt x="9720263" y="125594"/>
                </a:cubicBezTo>
                <a:lnTo>
                  <a:pt x="9720263" y="233888"/>
                </a:lnTo>
                <a:lnTo>
                  <a:pt x="9720261" y="233888"/>
                </a:lnTo>
                <a:cubicBezTo>
                  <a:pt x="9650898" y="233888"/>
                  <a:pt x="9594668" y="290118"/>
                  <a:pt x="9594668" y="359481"/>
                </a:cubicBezTo>
                <a:cubicBezTo>
                  <a:pt x="9594668" y="428844"/>
                  <a:pt x="9650898" y="485074"/>
                  <a:pt x="9720261" y="485074"/>
                </a:cubicBezTo>
                <a:cubicBezTo>
                  <a:pt x="9720262" y="485074"/>
                  <a:pt x="9720262" y="485074"/>
                  <a:pt x="9720263" y="485074"/>
                </a:cubicBezTo>
                <a:lnTo>
                  <a:pt x="9720263" y="593898"/>
                </a:lnTo>
                <a:lnTo>
                  <a:pt x="9720261" y="593898"/>
                </a:lnTo>
                <a:cubicBezTo>
                  <a:pt x="9650898" y="593898"/>
                  <a:pt x="9594668" y="650128"/>
                  <a:pt x="9594668" y="719491"/>
                </a:cubicBezTo>
                <a:cubicBezTo>
                  <a:pt x="9594668" y="788854"/>
                  <a:pt x="9650898" y="845084"/>
                  <a:pt x="9720261" y="845084"/>
                </a:cubicBezTo>
                <a:cubicBezTo>
                  <a:pt x="9720262" y="845084"/>
                  <a:pt x="9720262" y="845084"/>
                  <a:pt x="9720263" y="845084"/>
                </a:cubicBezTo>
                <a:lnTo>
                  <a:pt x="9720263" y="953908"/>
                </a:lnTo>
                <a:lnTo>
                  <a:pt x="9720261" y="953908"/>
                </a:lnTo>
                <a:cubicBezTo>
                  <a:pt x="9650898" y="953908"/>
                  <a:pt x="9594668" y="1010138"/>
                  <a:pt x="9594668" y="1079501"/>
                </a:cubicBezTo>
                <a:cubicBezTo>
                  <a:pt x="9594668" y="1148864"/>
                  <a:pt x="9650898" y="1205094"/>
                  <a:pt x="9720261" y="1205094"/>
                </a:cubicBezTo>
                <a:cubicBezTo>
                  <a:pt x="9720262" y="1205094"/>
                  <a:pt x="9720262" y="1205094"/>
                  <a:pt x="9720263" y="1205094"/>
                </a:cubicBezTo>
                <a:lnTo>
                  <a:pt x="9720263" y="1313918"/>
                </a:lnTo>
                <a:lnTo>
                  <a:pt x="9720261" y="1313918"/>
                </a:lnTo>
                <a:cubicBezTo>
                  <a:pt x="9650898" y="1313918"/>
                  <a:pt x="9594668" y="1370148"/>
                  <a:pt x="9594668" y="1439511"/>
                </a:cubicBezTo>
                <a:cubicBezTo>
                  <a:pt x="9594668" y="1508874"/>
                  <a:pt x="9650898" y="1565104"/>
                  <a:pt x="9720261" y="1565104"/>
                </a:cubicBezTo>
                <a:cubicBezTo>
                  <a:pt x="9720262" y="1565104"/>
                  <a:pt x="9720262" y="1565104"/>
                  <a:pt x="9720263" y="1565104"/>
                </a:cubicBezTo>
                <a:lnTo>
                  <a:pt x="9720263" y="1673929"/>
                </a:lnTo>
                <a:lnTo>
                  <a:pt x="9720261" y="1673928"/>
                </a:lnTo>
                <a:cubicBezTo>
                  <a:pt x="9650898" y="1673928"/>
                  <a:pt x="9594668" y="1730158"/>
                  <a:pt x="9594668" y="1799521"/>
                </a:cubicBezTo>
                <a:cubicBezTo>
                  <a:pt x="9594668" y="1868884"/>
                  <a:pt x="9650898" y="1925114"/>
                  <a:pt x="9720261" y="1925114"/>
                </a:cubicBezTo>
                <a:cubicBezTo>
                  <a:pt x="9720262" y="1925114"/>
                  <a:pt x="9720262" y="1925114"/>
                  <a:pt x="9720263" y="1925114"/>
                </a:cubicBezTo>
                <a:lnTo>
                  <a:pt x="9720263" y="2033939"/>
                </a:lnTo>
                <a:lnTo>
                  <a:pt x="9720261" y="2033938"/>
                </a:lnTo>
                <a:cubicBezTo>
                  <a:pt x="9650898" y="2033938"/>
                  <a:pt x="9594668" y="2090168"/>
                  <a:pt x="9594668" y="2159531"/>
                </a:cubicBezTo>
                <a:cubicBezTo>
                  <a:pt x="9594668" y="2228894"/>
                  <a:pt x="9650898" y="2285124"/>
                  <a:pt x="9720261" y="2285124"/>
                </a:cubicBezTo>
                <a:cubicBezTo>
                  <a:pt x="9720262" y="2285124"/>
                  <a:pt x="9720262" y="2285124"/>
                  <a:pt x="9720263" y="2285124"/>
                </a:cubicBezTo>
                <a:lnTo>
                  <a:pt x="9720263" y="2393948"/>
                </a:lnTo>
                <a:lnTo>
                  <a:pt x="9720261" y="2393948"/>
                </a:lnTo>
                <a:cubicBezTo>
                  <a:pt x="9650898" y="2393948"/>
                  <a:pt x="9594668" y="2450178"/>
                  <a:pt x="9594668" y="2519541"/>
                </a:cubicBezTo>
                <a:cubicBezTo>
                  <a:pt x="9594668" y="2588904"/>
                  <a:pt x="9650898" y="2645134"/>
                  <a:pt x="9720261" y="2645134"/>
                </a:cubicBezTo>
                <a:cubicBezTo>
                  <a:pt x="9720262" y="2645134"/>
                  <a:pt x="9720262" y="2645134"/>
                  <a:pt x="9720263" y="2645134"/>
                </a:cubicBezTo>
                <a:lnTo>
                  <a:pt x="9720263" y="2753959"/>
                </a:lnTo>
                <a:lnTo>
                  <a:pt x="9720261" y="2753958"/>
                </a:lnTo>
                <a:cubicBezTo>
                  <a:pt x="9650898" y="2753958"/>
                  <a:pt x="9594668" y="2810188"/>
                  <a:pt x="9594668" y="2879551"/>
                </a:cubicBezTo>
                <a:cubicBezTo>
                  <a:pt x="9594668" y="2948914"/>
                  <a:pt x="9650898" y="3005144"/>
                  <a:pt x="9720261" y="3005144"/>
                </a:cubicBezTo>
                <a:cubicBezTo>
                  <a:pt x="9720262" y="3005144"/>
                  <a:pt x="9720262" y="3005144"/>
                  <a:pt x="9720263" y="3005144"/>
                </a:cubicBezTo>
                <a:lnTo>
                  <a:pt x="9720263" y="3113968"/>
                </a:lnTo>
                <a:lnTo>
                  <a:pt x="9720261" y="3113968"/>
                </a:lnTo>
                <a:cubicBezTo>
                  <a:pt x="9650898" y="3113968"/>
                  <a:pt x="9594668" y="3170198"/>
                  <a:pt x="9594668" y="3239561"/>
                </a:cubicBezTo>
                <a:cubicBezTo>
                  <a:pt x="9594668" y="3308924"/>
                  <a:pt x="9650898" y="3365154"/>
                  <a:pt x="9720261" y="3365154"/>
                </a:cubicBezTo>
                <a:cubicBezTo>
                  <a:pt x="9720262" y="3365154"/>
                  <a:pt x="9720262" y="3365154"/>
                  <a:pt x="9720263" y="3365154"/>
                </a:cubicBezTo>
                <a:lnTo>
                  <a:pt x="9720263" y="3473979"/>
                </a:lnTo>
                <a:lnTo>
                  <a:pt x="9720261" y="3473978"/>
                </a:lnTo>
                <a:cubicBezTo>
                  <a:pt x="9650898" y="3473978"/>
                  <a:pt x="9594668" y="3530208"/>
                  <a:pt x="9594668" y="3599571"/>
                </a:cubicBezTo>
                <a:cubicBezTo>
                  <a:pt x="9594668" y="3668934"/>
                  <a:pt x="9650898" y="3725164"/>
                  <a:pt x="9720261" y="3725164"/>
                </a:cubicBezTo>
                <a:cubicBezTo>
                  <a:pt x="9720262" y="3725164"/>
                  <a:pt x="9720262" y="3725164"/>
                  <a:pt x="9720263" y="3725164"/>
                </a:cubicBezTo>
                <a:lnTo>
                  <a:pt x="9720263" y="3833989"/>
                </a:lnTo>
                <a:lnTo>
                  <a:pt x="9720261" y="3833988"/>
                </a:lnTo>
                <a:cubicBezTo>
                  <a:pt x="9650898" y="3833988"/>
                  <a:pt x="9594668" y="3890218"/>
                  <a:pt x="9594668" y="3959581"/>
                </a:cubicBezTo>
                <a:cubicBezTo>
                  <a:pt x="9594668" y="4028944"/>
                  <a:pt x="9650898" y="4085174"/>
                  <a:pt x="9720261" y="4085174"/>
                </a:cubicBezTo>
                <a:cubicBezTo>
                  <a:pt x="9720262" y="4085174"/>
                  <a:pt x="9720262" y="4085174"/>
                  <a:pt x="9720263" y="4085174"/>
                </a:cubicBezTo>
                <a:lnTo>
                  <a:pt x="9720263" y="4193999"/>
                </a:lnTo>
                <a:lnTo>
                  <a:pt x="9720261" y="4193998"/>
                </a:lnTo>
                <a:cubicBezTo>
                  <a:pt x="9650898" y="4193998"/>
                  <a:pt x="9594668" y="4250228"/>
                  <a:pt x="9594668" y="4319591"/>
                </a:cubicBezTo>
                <a:cubicBezTo>
                  <a:pt x="9594668" y="4388954"/>
                  <a:pt x="9650898" y="4445184"/>
                  <a:pt x="9720261" y="4445184"/>
                </a:cubicBezTo>
                <a:cubicBezTo>
                  <a:pt x="9720262" y="4445184"/>
                  <a:pt x="9720262" y="4445184"/>
                  <a:pt x="9720263" y="4445184"/>
                </a:cubicBezTo>
                <a:lnTo>
                  <a:pt x="9720263" y="4554009"/>
                </a:lnTo>
                <a:lnTo>
                  <a:pt x="9720261" y="4554008"/>
                </a:lnTo>
                <a:cubicBezTo>
                  <a:pt x="9650898" y="4554008"/>
                  <a:pt x="9594668" y="4610238"/>
                  <a:pt x="9594668" y="4679601"/>
                </a:cubicBezTo>
                <a:cubicBezTo>
                  <a:pt x="9594668" y="4748964"/>
                  <a:pt x="9650898" y="4805194"/>
                  <a:pt x="9720261" y="4805194"/>
                </a:cubicBezTo>
                <a:cubicBezTo>
                  <a:pt x="9720262" y="4805194"/>
                  <a:pt x="9720262" y="4805194"/>
                  <a:pt x="9720263" y="4805194"/>
                </a:cubicBezTo>
                <a:lnTo>
                  <a:pt x="9720263" y="4914019"/>
                </a:lnTo>
                <a:lnTo>
                  <a:pt x="9720261" y="4914018"/>
                </a:lnTo>
                <a:cubicBezTo>
                  <a:pt x="9650898" y="4914018"/>
                  <a:pt x="9594668" y="4970248"/>
                  <a:pt x="9594668" y="5039611"/>
                </a:cubicBezTo>
                <a:cubicBezTo>
                  <a:pt x="9594668" y="5108974"/>
                  <a:pt x="9650898" y="5165204"/>
                  <a:pt x="9720261" y="5165204"/>
                </a:cubicBezTo>
                <a:cubicBezTo>
                  <a:pt x="9720262" y="5165204"/>
                  <a:pt x="9720262" y="5165204"/>
                  <a:pt x="9720263" y="5165204"/>
                </a:cubicBezTo>
                <a:lnTo>
                  <a:pt x="9720263" y="5274029"/>
                </a:lnTo>
                <a:lnTo>
                  <a:pt x="9720261" y="5274028"/>
                </a:lnTo>
                <a:cubicBezTo>
                  <a:pt x="9650898" y="5274028"/>
                  <a:pt x="9594668" y="5330258"/>
                  <a:pt x="9594668" y="5399621"/>
                </a:cubicBezTo>
                <a:cubicBezTo>
                  <a:pt x="9594668" y="5468984"/>
                  <a:pt x="9650898" y="5525214"/>
                  <a:pt x="9720261" y="5525214"/>
                </a:cubicBezTo>
                <a:cubicBezTo>
                  <a:pt x="9720262" y="5525214"/>
                  <a:pt x="9720262" y="5525214"/>
                  <a:pt x="9720263" y="5525214"/>
                </a:cubicBezTo>
                <a:lnTo>
                  <a:pt x="9720263" y="5634039"/>
                </a:lnTo>
                <a:lnTo>
                  <a:pt x="9720261" y="5634038"/>
                </a:lnTo>
                <a:cubicBezTo>
                  <a:pt x="9650898" y="5634038"/>
                  <a:pt x="9594668" y="5690268"/>
                  <a:pt x="9594668" y="5759631"/>
                </a:cubicBezTo>
                <a:cubicBezTo>
                  <a:pt x="9594668" y="5828994"/>
                  <a:pt x="9650898" y="5885224"/>
                  <a:pt x="9720261" y="5885224"/>
                </a:cubicBezTo>
                <a:cubicBezTo>
                  <a:pt x="9720262" y="5885224"/>
                  <a:pt x="9720262" y="5885224"/>
                  <a:pt x="9720263" y="5885224"/>
                </a:cubicBezTo>
                <a:lnTo>
                  <a:pt x="9720263" y="5994049"/>
                </a:lnTo>
                <a:lnTo>
                  <a:pt x="9720261" y="5994048"/>
                </a:lnTo>
                <a:cubicBezTo>
                  <a:pt x="9650898" y="5994048"/>
                  <a:pt x="9594668" y="6050278"/>
                  <a:pt x="9594668" y="6119641"/>
                </a:cubicBezTo>
                <a:cubicBezTo>
                  <a:pt x="9594668" y="6189004"/>
                  <a:pt x="9650898" y="6245234"/>
                  <a:pt x="9720261" y="6245234"/>
                </a:cubicBezTo>
                <a:cubicBezTo>
                  <a:pt x="9720262" y="6245234"/>
                  <a:pt x="9720262" y="6245234"/>
                  <a:pt x="9720263" y="6245234"/>
                </a:cubicBezTo>
                <a:lnTo>
                  <a:pt x="9720263" y="6354583"/>
                </a:lnTo>
                <a:lnTo>
                  <a:pt x="9720262" y="6354583"/>
                </a:lnTo>
                <a:cubicBezTo>
                  <a:pt x="9650899" y="6354583"/>
                  <a:pt x="9594670" y="6410813"/>
                  <a:pt x="9594669" y="6480175"/>
                </a:cubicBezTo>
                <a:lnTo>
                  <a:pt x="9485852" y="6480175"/>
                </a:lnTo>
                <a:cubicBezTo>
                  <a:pt x="9485851" y="6410813"/>
                  <a:pt x="9429622" y="6354583"/>
                  <a:pt x="9360259" y="6354583"/>
                </a:cubicBezTo>
                <a:cubicBezTo>
                  <a:pt x="9290896" y="6354583"/>
                  <a:pt x="9234667" y="6410813"/>
                  <a:pt x="9234666" y="6480175"/>
                </a:cubicBezTo>
                <a:lnTo>
                  <a:pt x="9125842" y="6480175"/>
                </a:lnTo>
                <a:cubicBezTo>
                  <a:pt x="9125841" y="6410813"/>
                  <a:pt x="9069612" y="6354583"/>
                  <a:pt x="9000249" y="6354583"/>
                </a:cubicBezTo>
                <a:cubicBezTo>
                  <a:pt x="8930886" y="6354583"/>
                  <a:pt x="8874657" y="6410813"/>
                  <a:pt x="8874656" y="6480175"/>
                </a:cubicBezTo>
                <a:lnTo>
                  <a:pt x="8765832" y="6480175"/>
                </a:lnTo>
                <a:cubicBezTo>
                  <a:pt x="8765831" y="6410813"/>
                  <a:pt x="8709602" y="6354583"/>
                  <a:pt x="8640239" y="6354583"/>
                </a:cubicBezTo>
                <a:cubicBezTo>
                  <a:pt x="8570876" y="6354583"/>
                  <a:pt x="8514647" y="6410813"/>
                  <a:pt x="8514646" y="6480175"/>
                </a:cubicBezTo>
                <a:lnTo>
                  <a:pt x="8405822" y="6480175"/>
                </a:lnTo>
                <a:cubicBezTo>
                  <a:pt x="8405821" y="6410813"/>
                  <a:pt x="8349592" y="6354583"/>
                  <a:pt x="8280229" y="6354583"/>
                </a:cubicBezTo>
                <a:cubicBezTo>
                  <a:pt x="8210866" y="6354583"/>
                  <a:pt x="8154637" y="6410813"/>
                  <a:pt x="8154636" y="6480175"/>
                </a:cubicBezTo>
                <a:lnTo>
                  <a:pt x="8045812" y="6480175"/>
                </a:lnTo>
                <a:cubicBezTo>
                  <a:pt x="8045811" y="6410813"/>
                  <a:pt x="7989582" y="6354583"/>
                  <a:pt x="7920219" y="6354583"/>
                </a:cubicBezTo>
                <a:cubicBezTo>
                  <a:pt x="7850856" y="6354583"/>
                  <a:pt x="7794627" y="6410813"/>
                  <a:pt x="7794626" y="6480175"/>
                </a:cubicBezTo>
                <a:lnTo>
                  <a:pt x="7685802" y="6480175"/>
                </a:lnTo>
                <a:cubicBezTo>
                  <a:pt x="7685801" y="6410813"/>
                  <a:pt x="7629572" y="6354583"/>
                  <a:pt x="7560209" y="6354583"/>
                </a:cubicBezTo>
                <a:cubicBezTo>
                  <a:pt x="7490847" y="6354583"/>
                  <a:pt x="7434617" y="6410813"/>
                  <a:pt x="7434616" y="6480175"/>
                </a:cubicBezTo>
                <a:lnTo>
                  <a:pt x="7325792" y="6480175"/>
                </a:lnTo>
                <a:cubicBezTo>
                  <a:pt x="7325792" y="6410813"/>
                  <a:pt x="7269562" y="6354583"/>
                  <a:pt x="7200199" y="6354583"/>
                </a:cubicBezTo>
                <a:cubicBezTo>
                  <a:pt x="7130837" y="6354583"/>
                  <a:pt x="7074607" y="6410813"/>
                  <a:pt x="7074606" y="6480175"/>
                </a:cubicBezTo>
                <a:lnTo>
                  <a:pt x="6965782" y="6480175"/>
                </a:lnTo>
                <a:cubicBezTo>
                  <a:pt x="6965782" y="6410813"/>
                  <a:pt x="6909552" y="6354583"/>
                  <a:pt x="6840189" y="6354583"/>
                </a:cubicBezTo>
                <a:cubicBezTo>
                  <a:pt x="6770827" y="6354583"/>
                  <a:pt x="6714597" y="6410813"/>
                  <a:pt x="6714596" y="6480175"/>
                </a:cubicBezTo>
                <a:lnTo>
                  <a:pt x="6605772" y="6480175"/>
                </a:lnTo>
                <a:cubicBezTo>
                  <a:pt x="6605772" y="6410813"/>
                  <a:pt x="6549542" y="6354583"/>
                  <a:pt x="6480179" y="6354583"/>
                </a:cubicBezTo>
                <a:cubicBezTo>
                  <a:pt x="6410817" y="6354583"/>
                  <a:pt x="6354587" y="6410813"/>
                  <a:pt x="6354587" y="6480175"/>
                </a:cubicBezTo>
                <a:lnTo>
                  <a:pt x="6245762" y="6480175"/>
                </a:lnTo>
                <a:cubicBezTo>
                  <a:pt x="6245762" y="6410813"/>
                  <a:pt x="6189532" y="6354583"/>
                  <a:pt x="6120169" y="6354583"/>
                </a:cubicBezTo>
                <a:cubicBezTo>
                  <a:pt x="6050807" y="6354583"/>
                  <a:pt x="5994577" y="6410813"/>
                  <a:pt x="5994576" y="6480175"/>
                </a:cubicBezTo>
                <a:lnTo>
                  <a:pt x="5885752" y="6480175"/>
                </a:lnTo>
                <a:cubicBezTo>
                  <a:pt x="5885752" y="6410813"/>
                  <a:pt x="5829522" y="6354583"/>
                  <a:pt x="5760159" y="6354583"/>
                </a:cubicBezTo>
                <a:cubicBezTo>
                  <a:pt x="5690797" y="6354583"/>
                  <a:pt x="5634567" y="6410813"/>
                  <a:pt x="5634566" y="6480175"/>
                </a:cubicBezTo>
                <a:lnTo>
                  <a:pt x="5525742" y="6480175"/>
                </a:lnTo>
                <a:cubicBezTo>
                  <a:pt x="5525742" y="6410813"/>
                  <a:pt x="5469512" y="6354583"/>
                  <a:pt x="5400149" y="6354583"/>
                </a:cubicBezTo>
                <a:cubicBezTo>
                  <a:pt x="5330787" y="6354583"/>
                  <a:pt x="5274557" y="6410813"/>
                  <a:pt x="5274556" y="6480175"/>
                </a:cubicBezTo>
                <a:lnTo>
                  <a:pt x="5165732" y="6480175"/>
                </a:lnTo>
                <a:cubicBezTo>
                  <a:pt x="5165732" y="6410813"/>
                  <a:pt x="5109502" y="6354583"/>
                  <a:pt x="5040139" y="6354583"/>
                </a:cubicBezTo>
                <a:cubicBezTo>
                  <a:pt x="4970777" y="6354583"/>
                  <a:pt x="4914547" y="6410813"/>
                  <a:pt x="4914546" y="6480175"/>
                </a:cubicBezTo>
                <a:lnTo>
                  <a:pt x="4805722" y="6480175"/>
                </a:lnTo>
                <a:cubicBezTo>
                  <a:pt x="4805722" y="6410813"/>
                  <a:pt x="4749492" y="6354583"/>
                  <a:pt x="4680129" y="6354583"/>
                </a:cubicBezTo>
                <a:cubicBezTo>
                  <a:pt x="4610767" y="6354583"/>
                  <a:pt x="4554537" y="6410813"/>
                  <a:pt x="4554537" y="6480175"/>
                </a:cubicBezTo>
                <a:lnTo>
                  <a:pt x="4445712" y="6480175"/>
                </a:lnTo>
                <a:cubicBezTo>
                  <a:pt x="4445712" y="6410813"/>
                  <a:pt x="4389482" y="6354583"/>
                  <a:pt x="4320119" y="6354583"/>
                </a:cubicBezTo>
                <a:cubicBezTo>
                  <a:pt x="4250757" y="6354583"/>
                  <a:pt x="4194527" y="6410813"/>
                  <a:pt x="4194526" y="6480175"/>
                </a:cubicBezTo>
                <a:lnTo>
                  <a:pt x="4085702" y="6480175"/>
                </a:lnTo>
                <a:cubicBezTo>
                  <a:pt x="4085702" y="6410813"/>
                  <a:pt x="4029472" y="6354583"/>
                  <a:pt x="3960109" y="6354583"/>
                </a:cubicBezTo>
                <a:cubicBezTo>
                  <a:pt x="3890747" y="6354583"/>
                  <a:pt x="3834517" y="6410813"/>
                  <a:pt x="3834516" y="6480175"/>
                </a:cubicBezTo>
                <a:lnTo>
                  <a:pt x="3725692" y="6480175"/>
                </a:lnTo>
                <a:cubicBezTo>
                  <a:pt x="3725692" y="6410813"/>
                  <a:pt x="3669462" y="6354583"/>
                  <a:pt x="3600099" y="6354583"/>
                </a:cubicBezTo>
                <a:cubicBezTo>
                  <a:pt x="3530737" y="6354583"/>
                  <a:pt x="3474507" y="6410813"/>
                  <a:pt x="3474506" y="6480175"/>
                </a:cubicBezTo>
                <a:lnTo>
                  <a:pt x="3365682" y="6480175"/>
                </a:lnTo>
                <a:cubicBezTo>
                  <a:pt x="3365682" y="6410813"/>
                  <a:pt x="3309452" y="6354583"/>
                  <a:pt x="3240089" y="6354583"/>
                </a:cubicBezTo>
                <a:cubicBezTo>
                  <a:pt x="3170726" y="6354583"/>
                  <a:pt x="3114497" y="6410813"/>
                  <a:pt x="3114496" y="6480175"/>
                </a:cubicBezTo>
                <a:lnTo>
                  <a:pt x="3005672" y="6480175"/>
                </a:lnTo>
                <a:cubicBezTo>
                  <a:pt x="3005672" y="6410813"/>
                  <a:pt x="2949442" y="6354583"/>
                  <a:pt x="2880079" y="6354583"/>
                </a:cubicBezTo>
                <a:cubicBezTo>
                  <a:pt x="2810716" y="6354583"/>
                  <a:pt x="2754487" y="6410813"/>
                  <a:pt x="2754486" y="6480175"/>
                </a:cubicBezTo>
                <a:lnTo>
                  <a:pt x="2645662" y="6480175"/>
                </a:lnTo>
                <a:cubicBezTo>
                  <a:pt x="2645662" y="6410813"/>
                  <a:pt x="2589432" y="6354583"/>
                  <a:pt x="2520069" y="6354583"/>
                </a:cubicBezTo>
                <a:cubicBezTo>
                  <a:pt x="2450706" y="6354583"/>
                  <a:pt x="2394477" y="6410813"/>
                  <a:pt x="2394476" y="6480175"/>
                </a:cubicBezTo>
                <a:lnTo>
                  <a:pt x="2285652" y="6480175"/>
                </a:lnTo>
                <a:cubicBezTo>
                  <a:pt x="2285652" y="6410813"/>
                  <a:pt x="2229422" y="6354583"/>
                  <a:pt x="2160059" y="6354583"/>
                </a:cubicBezTo>
                <a:cubicBezTo>
                  <a:pt x="2090696" y="6354583"/>
                  <a:pt x="2034467" y="6410813"/>
                  <a:pt x="2034466" y="6480175"/>
                </a:cubicBezTo>
                <a:lnTo>
                  <a:pt x="1925642" y="6480175"/>
                </a:lnTo>
                <a:cubicBezTo>
                  <a:pt x="1925642" y="6410813"/>
                  <a:pt x="1869412" y="6354583"/>
                  <a:pt x="1800049" y="6354583"/>
                </a:cubicBezTo>
                <a:cubicBezTo>
                  <a:pt x="1730686" y="6354583"/>
                  <a:pt x="1674457" y="6410813"/>
                  <a:pt x="1674456" y="6480175"/>
                </a:cubicBezTo>
                <a:lnTo>
                  <a:pt x="1565632" y="6480175"/>
                </a:lnTo>
                <a:cubicBezTo>
                  <a:pt x="1565632" y="6410813"/>
                  <a:pt x="1509402" y="6354583"/>
                  <a:pt x="1440039" y="6354583"/>
                </a:cubicBezTo>
                <a:cubicBezTo>
                  <a:pt x="1370676" y="6354583"/>
                  <a:pt x="1314447" y="6410813"/>
                  <a:pt x="1314446" y="6480175"/>
                </a:cubicBezTo>
                <a:lnTo>
                  <a:pt x="1205622" y="6480175"/>
                </a:lnTo>
                <a:cubicBezTo>
                  <a:pt x="1205622" y="6410813"/>
                  <a:pt x="1149392" y="6354583"/>
                  <a:pt x="1080029" y="6354583"/>
                </a:cubicBezTo>
                <a:cubicBezTo>
                  <a:pt x="1010666" y="6354583"/>
                  <a:pt x="954437" y="6410813"/>
                  <a:pt x="954436" y="6480175"/>
                </a:cubicBezTo>
                <a:lnTo>
                  <a:pt x="845612" y="6480175"/>
                </a:lnTo>
                <a:cubicBezTo>
                  <a:pt x="845612" y="6410813"/>
                  <a:pt x="789382" y="6354583"/>
                  <a:pt x="720019" y="6354583"/>
                </a:cubicBezTo>
                <a:cubicBezTo>
                  <a:pt x="650656" y="6354583"/>
                  <a:pt x="594427" y="6410813"/>
                  <a:pt x="594426" y="6480175"/>
                </a:cubicBezTo>
                <a:lnTo>
                  <a:pt x="485602" y="6480175"/>
                </a:lnTo>
                <a:cubicBezTo>
                  <a:pt x="485602" y="6410813"/>
                  <a:pt x="429372" y="6354583"/>
                  <a:pt x="360009" y="6354583"/>
                </a:cubicBezTo>
                <a:cubicBezTo>
                  <a:pt x="290646" y="6354583"/>
                  <a:pt x="234417" y="6410813"/>
                  <a:pt x="234416" y="6480175"/>
                </a:cubicBezTo>
                <a:lnTo>
                  <a:pt x="125592" y="6480175"/>
                </a:lnTo>
                <a:cubicBezTo>
                  <a:pt x="125592" y="6410813"/>
                  <a:pt x="69362" y="6354584"/>
                  <a:pt x="0" y="6354583"/>
                </a:cubicBezTo>
                <a:lnTo>
                  <a:pt x="0" y="6245234"/>
                </a:lnTo>
                <a:cubicBezTo>
                  <a:pt x="69362" y="6245233"/>
                  <a:pt x="125591" y="6189004"/>
                  <a:pt x="125591" y="6119641"/>
                </a:cubicBezTo>
                <a:cubicBezTo>
                  <a:pt x="125591" y="6050279"/>
                  <a:pt x="69362" y="5994049"/>
                  <a:pt x="0" y="5994049"/>
                </a:cubicBezTo>
                <a:lnTo>
                  <a:pt x="0" y="5885224"/>
                </a:lnTo>
                <a:cubicBezTo>
                  <a:pt x="69362" y="5885223"/>
                  <a:pt x="125591" y="5828994"/>
                  <a:pt x="125591" y="5759631"/>
                </a:cubicBezTo>
                <a:cubicBezTo>
                  <a:pt x="125591" y="5690269"/>
                  <a:pt x="69362" y="5634039"/>
                  <a:pt x="0" y="5634039"/>
                </a:cubicBezTo>
                <a:lnTo>
                  <a:pt x="0" y="5525214"/>
                </a:lnTo>
                <a:cubicBezTo>
                  <a:pt x="69362" y="5525213"/>
                  <a:pt x="125591" y="5468984"/>
                  <a:pt x="125591" y="5399621"/>
                </a:cubicBezTo>
                <a:cubicBezTo>
                  <a:pt x="125591" y="5330259"/>
                  <a:pt x="69362" y="5274029"/>
                  <a:pt x="0" y="5274029"/>
                </a:cubicBezTo>
                <a:lnTo>
                  <a:pt x="0" y="5165204"/>
                </a:lnTo>
                <a:cubicBezTo>
                  <a:pt x="69362" y="5165203"/>
                  <a:pt x="125591" y="5108974"/>
                  <a:pt x="125591" y="5039611"/>
                </a:cubicBezTo>
                <a:cubicBezTo>
                  <a:pt x="125591" y="4970249"/>
                  <a:pt x="69362" y="4914019"/>
                  <a:pt x="0" y="4914019"/>
                </a:cubicBezTo>
                <a:lnTo>
                  <a:pt x="0" y="4805194"/>
                </a:lnTo>
                <a:cubicBezTo>
                  <a:pt x="69362" y="4805193"/>
                  <a:pt x="125591" y="4748964"/>
                  <a:pt x="125591" y="4679601"/>
                </a:cubicBezTo>
                <a:cubicBezTo>
                  <a:pt x="125591" y="4610239"/>
                  <a:pt x="69362" y="4554009"/>
                  <a:pt x="0" y="4554009"/>
                </a:cubicBezTo>
                <a:lnTo>
                  <a:pt x="0" y="4445184"/>
                </a:lnTo>
                <a:cubicBezTo>
                  <a:pt x="69362" y="4445183"/>
                  <a:pt x="125591" y="4388954"/>
                  <a:pt x="125591" y="4319591"/>
                </a:cubicBezTo>
                <a:cubicBezTo>
                  <a:pt x="125591" y="4250229"/>
                  <a:pt x="69362" y="4193999"/>
                  <a:pt x="0" y="4193999"/>
                </a:cubicBezTo>
                <a:lnTo>
                  <a:pt x="0" y="4085174"/>
                </a:lnTo>
                <a:cubicBezTo>
                  <a:pt x="69362" y="4085173"/>
                  <a:pt x="125591" y="4028944"/>
                  <a:pt x="125591" y="3959581"/>
                </a:cubicBezTo>
                <a:cubicBezTo>
                  <a:pt x="125591" y="3890219"/>
                  <a:pt x="69362" y="3833989"/>
                  <a:pt x="0" y="3833989"/>
                </a:cubicBezTo>
                <a:lnTo>
                  <a:pt x="0" y="3725164"/>
                </a:lnTo>
                <a:cubicBezTo>
                  <a:pt x="69362" y="3725163"/>
                  <a:pt x="125591" y="3668934"/>
                  <a:pt x="125591" y="3599571"/>
                </a:cubicBezTo>
                <a:cubicBezTo>
                  <a:pt x="125591" y="3530209"/>
                  <a:pt x="69362" y="3473979"/>
                  <a:pt x="0" y="3473979"/>
                </a:cubicBezTo>
                <a:lnTo>
                  <a:pt x="0" y="3365154"/>
                </a:lnTo>
                <a:cubicBezTo>
                  <a:pt x="69362" y="3365153"/>
                  <a:pt x="125591" y="3308923"/>
                  <a:pt x="125591" y="3239561"/>
                </a:cubicBezTo>
                <a:cubicBezTo>
                  <a:pt x="125591" y="3170199"/>
                  <a:pt x="69362" y="3113969"/>
                  <a:pt x="0" y="3113968"/>
                </a:cubicBezTo>
                <a:lnTo>
                  <a:pt x="0" y="3005144"/>
                </a:lnTo>
                <a:cubicBezTo>
                  <a:pt x="69362" y="3005143"/>
                  <a:pt x="125591" y="2948913"/>
                  <a:pt x="125591" y="2879551"/>
                </a:cubicBezTo>
                <a:cubicBezTo>
                  <a:pt x="125591" y="2810189"/>
                  <a:pt x="69362" y="2753959"/>
                  <a:pt x="0" y="2753959"/>
                </a:cubicBezTo>
                <a:lnTo>
                  <a:pt x="0" y="2645134"/>
                </a:lnTo>
                <a:cubicBezTo>
                  <a:pt x="69362" y="2645133"/>
                  <a:pt x="125591" y="2588903"/>
                  <a:pt x="125591" y="2519541"/>
                </a:cubicBezTo>
                <a:cubicBezTo>
                  <a:pt x="125591" y="2450179"/>
                  <a:pt x="69362" y="2393949"/>
                  <a:pt x="0" y="2393948"/>
                </a:cubicBezTo>
                <a:lnTo>
                  <a:pt x="0" y="2285124"/>
                </a:lnTo>
                <a:cubicBezTo>
                  <a:pt x="69362" y="2285123"/>
                  <a:pt x="125591" y="2228893"/>
                  <a:pt x="125591" y="2159531"/>
                </a:cubicBezTo>
                <a:cubicBezTo>
                  <a:pt x="125591" y="2090169"/>
                  <a:pt x="69362" y="2033939"/>
                  <a:pt x="0" y="2033939"/>
                </a:cubicBezTo>
                <a:lnTo>
                  <a:pt x="0" y="1925114"/>
                </a:lnTo>
                <a:cubicBezTo>
                  <a:pt x="69362" y="1925113"/>
                  <a:pt x="125591" y="1868883"/>
                  <a:pt x="125591" y="1799521"/>
                </a:cubicBezTo>
                <a:cubicBezTo>
                  <a:pt x="125591" y="1730159"/>
                  <a:pt x="69362" y="1673929"/>
                  <a:pt x="0" y="1673929"/>
                </a:cubicBezTo>
                <a:lnTo>
                  <a:pt x="0" y="1565104"/>
                </a:lnTo>
                <a:cubicBezTo>
                  <a:pt x="69362" y="1565103"/>
                  <a:pt x="125591" y="1508873"/>
                  <a:pt x="125591" y="1439511"/>
                </a:cubicBezTo>
                <a:cubicBezTo>
                  <a:pt x="125591" y="1370149"/>
                  <a:pt x="69362" y="1313919"/>
                  <a:pt x="0" y="1313918"/>
                </a:cubicBezTo>
                <a:lnTo>
                  <a:pt x="0" y="1205094"/>
                </a:lnTo>
                <a:cubicBezTo>
                  <a:pt x="69362" y="1205093"/>
                  <a:pt x="125591" y="1148863"/>
                  <a:pt x="125591" y="1079501"/>
                </a:cubicBezTo>
                <a:cubicBezTo>
                  <a:pt x="125591" y="1010139"/>
                  <a:pt x="69362" y="953909"/>
                  <a:pt x="0" y="953908"/>
                </a:cubicBezTo>
                <a:lnTo>
                  <a:pt x="0" y="845084"/>
                </a:lnTo>
                <a:cubicBezTo>
                  <a:pt x="69362" y="845083"/>
                  <a:pt x="125591" y="788853"/>
                  <a:pt x="125591" y="719491"/>
                </a:cubicBezTo>
                <a:cubicBezTo>
                  <a:pt x="125591" y="650129"/>
                  <a:pt x="69362" y="593899"/>
                  <a:pt x="0" y="593898"/>
                </a:cubicBezTo>
                <a:lnTo>
                  <a:pt x="0" y="485074"/>
                </a:lnTo>
                <a:cubicBezTo>
                  <a:pt x="69362" y="485073"/>
                  <a:pt x="125591" y="428843"/>
                  <a:pt x="125591" y="359481"/>
                </a:cubicBezTo>
                <a:cubicBezTo>
                  <a:pt x="125591" y="290119"/>
                  <a:pt x="69362" y="233889"/>
                  <a:pt x="0" y="233888"/>
                </a:cubicBezTo>
                <a:lnTo>
                  <a:pt x="0" y="125594"/>
                </a:lnTo>
                <a:cubicBezTo>
                  <a:pt x="69363" y="125593"/>
                  <a:pt x="125592" y="69364"/>
                  <a:pt x="125592" y="1"/>
                </a:cubicBezTo>
                <a:cubicBezTo>
                  <a:pt x="125592" y="1"/>
                  <a:pt x="125592" y="0"/>
                  <a:pt x="125592" y="0"/>
                </a:cubicBezTo>
                <a:close/>
              </a:path>
            </a:pathLst>
          </a:custGeom>
          <a:gradFill rotWithShape="0">
            <a:gsLst>
              <a:gs pos="0">
                <a:srgbClr val="004271"/>
              </a:gs>
              <a:gs pos="100000">
                <a:srgbClr val="005ea1"/>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2400" spc="-1" strike="noStrike">
                <a:solidFill>
                  <a:schemeClr val="lt1"/>
                </a:solidFill>
                <a:latin typeface="Candara"/>
                <a:ea typeface="微软雅黑"/>
              </a:rPr>
              <a:t>文字</a:t>
            </a:r>
            <a:endParaRPr b="0" lang="en-US" sz="2400" spc="-1" strike="noStrike">
              <a:solidFill>
                <a:srgbClr val="000000"/>
              </a:solidFill>
              <a:latin typeface="Arial"/>
            </a:endParaRPr>
          </a:p>
        </p:txBody>
      </p:sp>
      <p:sp>
        <p:nvSpPr>
          <p:cNvPr id="1124"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sp>
        <p:nvSpPr>
          <p:cNvPr id="1125" name="矩形 3"/>
          <p:cNvSpPr/>
          <p:nvPr/>
        </p:nvSpPr>
        <p:spPr>
          <a:xfrm>
            <a:off x="6824520" y="4319640"/>
            <a:ext cx="1439640" cy="1439640"/>
          </a:xfrm>
          <a:custGeom>
            <a:avLst/>
            <a:gdLst>
              <a:gd name="textAreaLeft" fmla="*/ 0 w 1439640"/>
              <a:gd name="textAreaRight" fmla="*/ 1440000 w 1439640"/>
              <a:gd name="textAreaTop" fmla="*/ 0 h 1439640"/>
              <a:gd name="textAreaBottom" fmla="*/ 1440000 h 1439640"/>
            </a:gdLst>
            <a:ahLst/>
            <a:rect l="textAreaLeft" t="textAreaTop" r="textAreaRight" b="textAreaBottom"/>
            <a:pathLst>
              <a:path w="6480000" h="6480175">
                <a:moveTo>
                  <a:pt x="125593" y="0"/>
                </a:moveTo>
                <a:lnTo>
                  <a:pt x="234417" y="0"/>
                </a:lnTo>
                <a:lnTo>
                  <a:pt x="234417" y="1"/>
                </a:lnTo>
                <a:cubicBezTo>
                  <a:pt x="234417" y="69364"/>
                  <a:pt x="290647" y="125594"/>
                  <a:pt x="360010" y="125594"/>
                </a:cubicBezTo>
                <a:cubicBezTo>
                  <a:pt x="429373" y="125594"/>
                  <a:pt x="485603" y="69364"/>
                  <a:pt x="485603" y="1"/>
                </a:cubicBezTo>
                <a:cubicBezTo>
                  <a:pt x="485603" y="1"/>
                  <a:pt x="485603" y="0"/>
                  <a:pt x="485603" y="0"/>
                </a:cubicBezTo>
                <a:lnTo>
                  <a:pt x="594427" y="0"/>
                </a:lnTo>
                <a:lnTo>
                  <a:pt x="594427" y="1"/>
                </a:lnTo>
                <a:cubicBezTo>
                  <a:pt x="594427" y="69364"/>
                  <a:pt x="650657" y="125594"/>
                  <a:pt x="720020" y="125594"/>
                </a:cubicBezTo>
                <a:cubicBezTo>
                  <a:pt x="789383" y="125594"/>
                  <a:pt x="845613" y="69364"/>
                  <a:pt x="845613" y="1"/>
                </a:cubicBezTo>
                <a:cubicBezTo>
                  <a:pt x="845613" y="1"/>
                  <a:pt x="845613" y="0"/>
                  <a:pt x="845613" y="0"/>
                </a:cubicBezTo>
                <a:lnTo>
                  <a:pt x="954437" y="0"/>
                </a:lnTo>
                <a:lnTo>
                  <a:pt x="954437" y="1"/>
                </a:lnTo>
                <a:cubicBezTo>
                  <a:pt x="954437" y="69364"/>
                  <a:pt x="1010667" y="125594"/>
                  <a:pt x="1080030" y="125594"/>
                </a:cubicBezTo>
                <a:cubicBezTo>
                  <a:pt x="1149393" y="125594"/>
                  <a:pt x="1205623" y="69364"/>
                  <a:pt x="1205623" y="1"/>
                </a:cubicBezTo>
                <a:cubicBezTo>
                  <a:pt x="1205623" y="1"/>
                  <a:pt x="1205623" y="0"/>
                  <a:pt x="1205623" y="0"/>
                </a:cubicBezTo>
                <a:lnTo>
                  <a:pt x="1314447" y="0"/>
                </a:lnTo>
                <a:lnTo>
                  <a:pt x="1314447" y="1"/>
                </a:lnTo>
                <a:cubicBezTo>
                  <a:pt x="1314447" y="69364"/>
                  <a:pt x="1370677" y="125594"/>
                  <a:pt x="1440040" y="125594"/>
                </a:cubicBezTo>
                <a:cubicBezTo>
                  <a:pt x="1509403" y="125594"/>
                  <a:pt x="1565633" y="69364"/>
                  <a:pt x="1565633" y="1"/>
                </a:cubicBezTo>
                <a:cubicBezTo>
                  <a:pt x="1565633" y="1"/>
                  <a:pt x="1565633" y="0"/>
                  <a:pt x="1565633" y="0"/>
                </a:cubicBezTo>
                <a:lnTo>
                  <a:pt x="1674457" y="0"/>
                </a:lnTo>
                <a:lnTo>
                  <a:pt x="1674457" y="1"/>
                </a:lnTo>
                <a:cubicBezTo>
                  <a:pt x="1674457" y="69364"/>
                  <a:pt x="1730687" y="125594"/>
                  <a:pt x="1800050" y="125594"/>
                </a:cubicBezTo>
                <a:cubicBezTo>
                  <a:pt x="1869413" y="125594"/>
                  <a:pt x="1925643" y="69364"/>
                  <a:pt x="1925643" y="1"/>
                </a:cubicBezTo>
                <a:cubicBezTo>
                  <a:pt x="1925643" y="1"/>
                  <a:pt x="1925643" y="0"/>
                  <a:pt x="1925643" y="0"/>
                </a:cubicBezTo>
                <a:lnTo>
                  <a:pt x="2034467" y="0"/>
                </a:lnTo>
                <a:lnTo>
                  <a:pt x="2034467" y="1"/>
                </a:lnTo>
                <a:cubicBezTo>
                  <a:pt x="2034467" y="69364"/>
                  <a:pt x="2090697" y="125594"/>
                  <a:pt x="2160060" y="125594"/>
                </a:cubicBezTo>
                <a:cubicBezTo>
                  <a:pt x="2229423" y="125594"/>
                  <a:pt x="2285653" y="69364"/>
                  <a:pt x="2285653" y="1"/>
                </a:cubicBezTo>
                <a:cubicBezTo>
                  <a:pt x="2285653" y="1"/>
                  <a:pt x="2285653" y="0"/>
                  <a:pt x="2285653" y="0"/>
                </a:cubicBezTo>
                <a:lnTo>
                  <a:pt x="2394477" y="0"/>
                </a:lnTo>
                <a:lnTo>
                  <a:pt x="2394477" y="1"/>
                </a:lnTo>
                <a:cubicBezTo>
                  <a:pt x="2394477" y="69364"/>
                  <a:pt x="2450707" y="125594"/>
                  <a:pt x="2520070" y="125594"/>
                </a:cubicBezTo>
                <a:cubicBezTo>
                  <a:pt x="2589433" y="125594"/>
                  <a:pt x="2645663" y="69364"/>
                  <a:pt x="2645663" y="1"/>
                </a:cubicBezTo>
                <a:cubicBezTo>
                  <a:pt x="2645663" y="1"/>
                  <a:pt x="2645663" y="0"/>
                  <a:pt x="2645663" y="0"/>
                </a:cubicBezTo>
                <a:lnTo>
                  <a:pt x="2754487" y="0"/>
                </a:lnTo>
                <a:lnTo>
                  <a:pt x="2754487" y="1"/>
                </a:lnTo>
                <a:cubicBezTo>
                  <a:pt x="2754487" y="69364"/>
                  <a:pt x="2810717" y="125594"/>
                  <a:pt x="2880080" y="125594"/>
                </a:cubicBezTo>
                <a:cubicBezTo>
                  <a:pt x="2949443" y="125594"/>
                  <a:pt x="3005673" y="69364"/>
                  <a:pt x="3005673" y="1"/>
                </a:cubicBezTo>
                <a:cubicBezTo>
                  <a:pt x="3005673" y="1"/>
                  <a:pt x="3005673" y="0"/>
                  <a:pt x="3005673" y="0"/>
                </a:cubicBezTo>
                <a:lnTo>
                  <a:pt x="3114497" y="0"/>
                </a:lnTo>
                <a:lnTo>
                  <a:pt x="3114497" y="1"/>
                </a:lnTo>
                <a:cubicBezTo>
                  <a:pt x="3114497" y="69364"/>
                  <a:pt x="3170727" y="125594"/>
                  <a:pt x="3240090" y="125594"/>
                </a:cubicBezTo>
                <a:cubicBezTo>
                  <a:pt x="3309453" y="125594"/>
                  <a:pt x="3365683" y="69364"/>
                  <a:pt x="3365683" y="1"/>
                </a:cubicBezTo>
                <a:cubicBezTo>
                  <a:pt x="3365683" y="1"/>
                  <a:pt x="3365683" y="0"/>
                  <a:pt x="3365683" y="0"/>
                </a:cubicBezTo>
                <a:lnTo>
                  <a:pt x="3474507" y="0"/>
                </a:lnTo>
                <a:lnTo>
                  <a:pt x="3474507" y="1"/>
                </a:lnTo>
                <a:cubicBezTo>
                  <a:pt x="3474507" y="69364"/>
                  <a:pt x="3530737" y="125594"/>
                  <a:pt x="3600100" y="125594"/>
                </a:cubicBezTo>
                <a:cubicBezTo>
                  <a:pt x="3669463" y="125594"/>
                  <a:pt x="3725693" y="69364"/>
                  <a:pt x="3725693" y="1"/>
                </a:cubicBezTo>
                <a:cubicBezTo>
                  <a:pt x="3725693" y="1"/>
                  <a:pt x="3725693" y="0"/>
                  <a:pt x="3725693" y="0"/>
                </a:cubicBezTo>
                <a:lnTo>
                  <a:pt x="3834517" y="0"/>
                </a:lnTo>
                <a:lnTo>
                  <a:pt x="3834517" y="1"/>
                </a:lnTo>
                <a:cubicBezTo>
                  <a:pt x="3834517" y="69364"/>
                  <a:pt x="3890747" y="125594"/>
                  <a:pt x="3960110" y="125594"/>
                </a:cubicBezTo>
                <a:cubicBezTo>
                  <a:pt x="4029473" y="125594"/>
                  <a:pt x="4085703" y="69364"/>
                  <a:pt x="4085703" y="1"/>
                </a:cubicBezTo>
                <a:cubicBezTo>
                  <a:pt x="4085703" y="1"/>
                  <a:pt x="4085703" y="0"/>
                  <a:pt x="4085703" y="0"/>
                </a:cubicBezTo>
                <a:lnTo>
                  <a:pt x="4194527" y="0"/>
                </a:lnTo>
                <a:lnTo>
                  <a:pt x="4194527" y="1"/>
                </a:lnTo>
                <a:cubicBezTo>
                  <a:pt x="4194527" y="69364"/>
                  <a:pt x="4250757" y="125594"/>
                  <a:pt x="4320120" y="125594"/>
                </a:cubicBezTo>
                <a:cubicBezTo>
                  <a:pt x="4389483" y="125594"/>
                  <a:pt x="4445713" y="69364"/>
                  <a:pt x="4445713" y="1"/>
                </a:cubicBezTo>
                <a:cubicBezTo>
                  <a:pt x="4445713" y="1"/>
                  <a:pt x="4445713" y="0"/>
                  <a:pt x="4445713" y="0"/>
                </a:cubicBezTo>
                <a:lnTo>
                  <a:pt x="4554537" y="0"/>
                </a:lnTo>
                <a:lnTo>
                  <a:pt x="4554537" y="1"/>
                </a:lnTo>
                <a:cubicBezTo>
                  <a:pt x="4554537" y="69364"/>
                  <a:pt x="4610767" y="125594"/>
                  <a:pt x="4680130" y="125594"/>
                </a:cubicBezTo>
                <a:cubicBezTo>
                  <a:pt x="4749493" y="125594"/>
                  <a:pt x="4805723" y="69364"/>
                  <a:pt x="4805723" y="1"/>
                </a:cubicBezTo>
                <a:cubicBezTo>
                  <a:pt x="4805723" y="1"/>
                  <a:pt x="4805723" y="0"/>
                  <a:pt x="4805723" y="0"/>
                </a:cubicBezTo>
                <a:lnTo>
                  <a:pt x="4914547" y="0"/>
                </a:lnTo>
                <a:lnTo>
                  <a:pt x="4914547" y="1"/>
                </a:lnTo>
                <a:cubicBezTo>
                  <a:pt x="4914547" y="69364"/>
                  <a:pt x="4970777" y="125594"/>
                  <a:pt x="5040140" y="125594"/>
                </a:cubicBezTo>
                <a:cubicBezTo>
                  <a:pt x="5109503" y="125594"/>
                  <a:pt x="5165733" y="69364"/>
                  <a:pt x="5165733" y="1"/>
                </a:cubicBezTo>
                <a:cubicBezTo>
                  <a:pt x="5165733" y="1"/>
                  <a:pt x="5165733" y="0"/>
                  <a:pt x="5165733" y="0"/>
                </a:cubicBezTo>
                <a:lnTo>
                  <a:pt x="5274557" y="0"/>
                </a:lnTo>
                <a:lnTo>
                  <a:pt x="5274557" y="1"/>
                </a:lnTo>
                <a:cubicBezTo>
                  <a:pt x="5274557" y="69364"/>
                  <a:pt x="5330787" y="125594"/>
                  <a:pt x="5400150" y="125594"/>
                </a:cubicBezTo>
                <a:cubicBezTo>
                  <a:pt x="5469513" y="125594"/>
                  <a:pt x="5525743" y="69364"/>
                  <a:pt x="5525743" y="1"/>
                </a:cubicBezTo>
                <a:cubicBezTo>
                  <a:pt x="5525743" y="1"/>
                  <a:pt x="5525743" y="0"/>
                  <a:pt x="5525743" y="0"/>
                </a:cubicBezTo>
                <a:lnTo>
                  <a:pt x="5634567" y="0"/>
                </a:lnTo>
                <a:lnTo>
                  <a:pt x="5634567" y="1"/>
                </a:lnTo>
                <a:cubicBezTo>
                  <a:pt x="5634567" y="69364"/>
                  <a:pt x="5690797" y="125594"/>
                  <a:pt x="5760160" y="125594"/>
                </a:cubicBezTo>
                <a:cubicBezTo>
                  <a:pt x="5829523" y="125594"/>
                  <a:pt x="5885753" y="69364"/>
                  <a:pt x="5885753" y="1"/>
                </a:cubicBezTo>
                <a:cubicBezTo>
                  <a:pt x="5885753" y="1"/>
                  <a:pt x="5885753" y="0"/>
                  <a:pt x="5885753" y="0"/>
                </a:cubicBezTo>
                <a:lnTo>
                  <a:pt x="5994577" y="0"/>
                </a:lnTo>
                <a:lnTo>
                  <a:pt x="5994577" y="1"/>
                </a:lnTo>
                <a:cubicBezTo>
                  <a:pt x="5994577" y="69364"/>
                  <a:pt x="6050807" y="125594"/>
                  <a:pt x="6120170" y="125594"/>
                </a:cubicBezTo>
                <a:cubicBezTo>
                  <a:pt x="6189533" y="125594"/>
                  <a:pt x="6245763" y="69364"/>
                  <a:pt x="6245763" y="1"/>
                </a:cubicBezTo>
                <a:cubicBezTo>
                  <a:pt x="6245763" y="1"/>
                  <a:pt x="6245763" y="0"/>
                  <a:pt x="6245763" y="0"/>
                </a:cubicBezTo>
                <a:lnTo>
                  <a:pt x="6354587" y="0"/>
                </a:lnTo>
                <a:lnTo>
                  <a:pt x="6354587" y="1"/>
                </a:lnTo>
                <a:cubicBezTo>
                  <a:pt x="6354587" y="69304"/>
                  <a:pt x="6410720" y="125497"/>
                  <a:pt x="6480000" y="125558"/>
                </a:cubicBezTo>
                <a:lnTo>
                  <a:pt x="6480000" y="233923"/>
                </a:lnTo>
                <a:cubicBezTo>
                  <a:pt x="6410717" y="233982"/>
                  <a:pt x="6354581" y="290176"/>
                  <a:pt x="6354581" y="359481"/>
                </a:cubicBezTo>
                <a:cubicBezTo>
                  <a:pt x="6354581" y="428786"/>
                  <a:pt x="6410717" y="484980"/>
                  <a:pt x="6480000" y="485039"/>
                </a:cubicBezTo>
                <a:lnTo>
                  <a:pt x="6480000" y="593933"/>
                </a:lnTo>
                <a:cubicBezTo>
                  <a:pt x="6410717" y="593992"/>
                  <a:pt x="6354581" y="650186"/>
                  <a:pt x="6354581" y="719491"/>
                </a:cubicBezTo>
                <a:cubicBezTo>
                  <a:pt x="6354581" y="788796"/>
                  <a:pt x="6410717" y="844990"/>
                  <a:pt x="6480000" y="845049"/>
                </a:cubicBezTo>
                <a:lnTo>
                  <a:pt x="6480000" y="953943"/>
                </a:lnTo>
                <a:cubicBezTo>
                  <a:pt x="6410717" y="954002"/>
                  <a:pt x="6354581" y="1010196"/>
                  <a:pt x="6354581" y="1079501"/>
                </a:cubicBezTo>
                <a:cubicBezTo>
                  <a:pt x="6354581" y="1148806"/>
                  <a:pt x="6410717" y="1205000"/>
                  <a:pt x="6480000" y="1205059"/>
                </a:cubicBezTo>
                <a:lnTo>
                  <a:pt x="6480000" y="1313953"/>
                </a:lnTo>
                <a:cubicBezTo>
                  <a:pt x="6410717" y="1314012"/>
                  <a:pt x="6354581" y="1370206"/>
                  <a:pt x="6354581" y="1439511"/>
                </a:cubicBezTo>
                <a:cubicBezTo>
                  <a:pt x="6354581" y="1508816"/>
                  <a:pt x="6410717" y="1565010"/>
                  <a:pt x="6480000" y="1565069"/>
                </a:cubicBezTo>
                <a:lnTo>
                  <a:pt x="6480000" y="1673963"/>
                </a:lnTo>
                <a:cubicBezTo>
                  <a:pt x="6410717" y="1674022"/>
                  <a:pt x="6354581" y="1730216"/>
                  <a:pt x="6354581" y="1799521"/>
                </a:cubicBezTo>
                <a:cubicBezTo>
                  <a:pt x="6354581" y="1868826"/>
                  <a:pt x="6410717" y="1925020"/>
                  <a:pt x="6480000" y="1925079"/>
                </a:cubicBezTo>
                <a:lnTo>
                  <a:pt x="6480000" y="2033973"/>
                </a:lnTo>
                <a:cubicBezTo>
                  <a:pt x="6410717" y="2034032"/>
                  <a:pt x="6354581" y="2090226"/>
                  <a:pt x="6354581" y="2159531"/>
                </a:cubicBezTo>
                <a:cubicBezTo>
                  <a:pt x="6354581" y="2228836"/>
                  <a:pt x="6410717" y="2285030"/>
                  <a:pt x="6480000" y="2285089"/>
                </a:cubicBezTo>
                <a:lnTo>
                  <a:pt x="6480000" y="2393983"/>
                </a:lnTo>
                <a:cubicBezTo>
                  <a:pt x="6410717" y="2394042"/>
                  <a:pt x="6354581" y="2450236"/>
                  <a:pt x="6354581" y="2519541"/>
                </a:cubicBezTo>
                <a:cubicBezTo>
                  <a:pt x="6354581" y="2588846"/>
                  <a:pt x="6410717" y="2645040"/>
                  <a:pt x="6480000" y="2645099"/>
                </a:cubicBezTo>
                <a:lnTo>
                  <a:pt x="6480000" y="2753993"/>
                </a:lnTo>
                <a:cubicBezTo>
                  <a:pt x="6410717" y="2754052"/>
                  <a:pt x="6354581" y="2810246"/>
                  <a:pt x="6354581" y="2879551"/>
                </a:cubicBezTo>
                <a:cubicBezTo>
                  <a:pt x="6354581" y="2948856"/>
                  <a:pt x="6410717" y="3005050"/>
                  <a:pt x="6480000" y="3005109"/>
                </a:cubicBezTo>
                <a:lnTo>
                  <a:pt x="6480000" y="3114003"/>
                </a:lnTo>
                <a:cubicBezTo>
                  <a:pt x="6410717" y="3114062"/>
                  <a:pt x="6354581" y="3170256"/>
                  <a:pt x="6354581" y="3239561"/>
                </a:cubicBezTo>
                <a:cubicBezTo>
                  <a:pt x="6354581" y="3308866"/>
                  <a:pt x="6410717" y="3365060"/>
                  <a:pt x="6480000" y="3365119"/>
                </a:cubicBezTo>
                <a:lnTo>
                  <a:pt x="6480000" y="3474013"/>
                </a:lnTo>
                <a:cubicBezTo>
                  <a:pt x="6410717" y="3474072"/>
                  <a:pt x="6354581" y="3530266"/>
                  <a:pt x="6354581" y="3599571"/>
                </a:cubicBezTo>
                <a:cubicBezTo>
                  <a:pt x="6354581" y="3668876"/>
                  <a:pt x="6410717" y="3725070"/>
                  <a:pt x="6480000" y="3725129"/>
                </a:cubicBezTo>
                <a:lnTo>
                  <a:pt x="6480000" y="3834023"/>
                </a:lnTo>
                <a:cubicBezTo>
                  <a:pt x="6410717" y="3834082"/>
                  <a:pt x="6354581" y="3890276"/>
                  <a:pt x="6354581" y="3959581"/>
                </a:cubicBezTo>
                <a:cubicBezTo>
                  <a:pt x="6354581" y="4028886"/>
                  <a:pt x="6410717" y="4085080"/>
                  <a:pt x="6480000" y="4085139"/>
                </a:cubicBezTo>
                <a:lnTo>
                  <a:pt x="6480000" y="4194033"/>
                </a:lnTo>
                <a:cubicBezTo>
                  <a:pt x="6410717" y="4194092"/>
                  <a:pt x="6354581" y="4250286"/>
                  <a:pt x="6354581" y="4319591"/>
                </a:cubicBezTo>
                <a:cubicBezTo>
                  <a:pt x="6354581" y="4388896"/>
                  <a:pt x="6410717" y="4445090"/>
                  <a:pt x="6480000" y="4445149"/>
                </a:cubicBezTo>
                <a:lnTo>
                  <a:pt x="6480000" y="4554043"/>
                </a:lnTo>
                <a:cubicBezTo>
                  <a:pt x="6410717" y="4554102"/>
                  <a:pt x="6354581" y="4610296"/>
                  <a:pt x="6354581" y="4679601"/>
                </a:cubicBezTo>
                <a:cubicBezTo>
                  <a:pt x="6354581" y="4748906"/>
                  <a:pt x="6410717" y="4805100"/>
                  <a:pt x="6480000" y="4805159"/>
                </a:cubicBezTo>
                <a:lnTo>
                  <a:pt x="6480000" y="4914053"/>
                </a:lnTo>
                <a:cubicBezTo>
                  <a:pt x="6410717" y="4914112"/>
                  <a:pt x="6354581" y="4970306"/>
                  <a:pt x="6354581" y="5039611"/>
                </a:cubicBezTo>
                <a:cubicBezTo>
                  <a:pt x="6354581" y="5108916"/>
                  <a:pt x="6410717" y="5165110"/>
                  <a:pt x="6480000" y="5165169"/>
                </a:cubicBezTo>
                <a:lnTo>
                  <a:pt x="6480000" y="5274063"/>
                </a:lnTo>
                <a:cubicBezTo>
                  <a:pt x="6410717" y="5274122"/>
                  <a:pt x="6354581" y="5330316"/>
                  <a:pt x="6354581" y="5399621"/>
                </a:cubicBezTo>
                <a:cubicBezTo>
                  <a:pt x="6354581" y="5468926"/>
                  <a:pt x="6410717" y="5525120"/>
                  <a:pt x="6480000" y="5525179"/>
                </a:cubicBezTo>
                <a:lnTo>
                  <a:pt x="6480000" y="5634073"/>
                </a:lnTo>
                <a:cubicBezTo>
                  <a:pt x="6410717" y="5634132"/>
                  <a:pt x="6354581" y="5690326"/>
                  <a:pt x="6354581" y="5759631"/>
                </a:cubicBezTo>
                <a:cubicBezTo>
                  <a:pt x="6354581" y="5828936"/>
                  <a:pt x="6410717" y="5885130"/>
                  <a:pt x="6480000" y="5885189"/>
                </a:cubicBezTo>
                <a:lnTo>
                  <a:pt x="6480000" y="5994083"/>
                </a:lnTo>
                <a:cubicBezTo>
                  <a:pt x="6410717" y="5994142"/>
                  <a:pt x="6354581" y="6050336"/>
                  <a:pt x="6354581" y="6119641"/>
                </a:cubicBezTo>
                <a:cubicBezTo>
                  <a:pt x="6354581" y="6188946"/>
                  <a:pt x="6410717" y="6245140"/>
                  <a:pt x="6480000" y="6245199"/>
                </a:cubicBezTo>
                <a:lnTo>
                  <a:pt x="6480000" y="6354620"/>
                </a:lnTo>
                <a:cubicBezTo>
                  <a:pt x="6410720" y="6354681"/>
                  <a:pt x="6354588" y="6410873"/>
                  <a:pt x="6354587" y="6480175"/>
                </a:cubicBezTo>
                <a:lnTo>
                  <a:pt x="6245763" y="6480175"/>
                </a:lnTo>
                <a:cubicBezTo>
                  <a:pt x="6245763" y="6410813"/>
                  <a:pt x="6189533" y="6354583"/>
                  <a:pt x="6120170" y="6354583"/>
                </a:cubicBezTo>
                <a:cubicBezTo>
                  <a:pt x="6050808" y="6354583"/>
                  <a:pt x="5994578" y="6410813"/>
                  <a:pt x="5994577" y="6480175"/>
                </a:cubicBezTo>
                <a:lnTo>
                  <a:pt x="5885753" y="6480175"/>
                </a:lnTo>
                <a:cubicBezTo>
                  <a:pt x="5885753" y="6410813"/>
                  <a:pt x="5829523" y="6354583"/>
                  <a:pt x="5760160" y="6354583"/>
                </a:cubicBezTo>
                <a:cubicBezTo>
                  <a:pt x="5690798" y="6354583"/>
                  <a:pt x="5634568" y="6410813"/>
                  <a:pt x="5634567" y="6480175"/>
                </a:cubicBezTo>
                <a:lnTo>
                  <a:pt x="5525743" y="6480175"/>
                </a:lnTo>
                <a:cubicBezTo>
                  <a:pt x="5525743" y="6410813"/>
                  <a:pt x="5469513" y="6354583"/>
                  <a:pt x="5400150" y="6354583"/>
                </a:cubicBezTo>
                <a:cubicBezTo>
                  <a:pt x="5330788" y="6354583"/>
                  <a:pt x="5274558" y="6410813"/>
                  <a:pt x="5274557" y="6480175"/>
                </a:cubicBezTo>
                <a:lnTo>
                  <a:pt x="5165733" y="6480175"/>
                </a:lnTo>
                <a:cubicBezTo>
                  <a:pt x="5165733" y="6410813"/>
                  <a:pt x="5109503" y="6354583"/>
                  <a:pt x="5040140" y="6354583"/>
                </a:cubicBezTo>
                <a:cubicBezTo>
                  <a:pt x="4970778" y="6354583"/>
                  <a:pt x="4914548" y="6410813"/>
                  <a:pt x="4914547" y="6480175"/>
                </a:cubicBezTo>
                <a:lnTo>
                  <a:pt x="4805723" y="6480175"/>
                </a:lnTo>
                <a:cubicBezTo>
                  <a:pt x="4805723" y="6410813"/>
                  <a:pt x="4749493" y="6354583"/>
                  <a:pt x="4680130" y="6354583"/>
                </a:cubicBezTo>
                <a:cubicBezTo>
                  <a:pt x="4610768" y="6354583"/>
                  <a:pt x="4554538" y="6410813"/>
                  <a:pt x="4554537" y="6480175"/>
                </a:cubicBezTo>
                <a:lnTo>
                  <a:pt x="4445713" y="6480175"/>
                </a:lnTo>
                <a:cubicBezTo>
                  <a:pt x="4445713" y="6410813"/>
                  <a:pt x="4389483" y="6354583"/>
                  <a:pt x="4320120" y="6354583"/>
                </a:cubicBezTo>
                <a:cubicBezTo>
                  <a:pt x="4250758" y="6354583"/>
                  <a:pt x="4194528" y="6410813"/>
                  <a:pt x="4194527" y="6480175"/>
                </a:cubicBezTo>
                <a:lnTo>
                  <a:pt x="4085703" y="6480175"/>
                </a:lnTo>
                <a:cubicBezTo>
                  <a:pt x="4085703" y="6410813"/>
                  <a:pt x="4029473" y="6354583"/>
                  <a:pt x="3960110" y="6354583"/>
                </a:cubicBezTo>
                <a:cubicBezTo>
                  <a:pt x="3890748" y="6354583"/>
                  <a:pt x="3834518" y="6410813"/>
                  <a:pt x="3834517" y="6480175"/>
                </a:cubicBezTo>
                <a:lnTo>
                  <a:pt x="3725693" y="6480175"/>
                </a:lnTo>
                <a:cubicBezTo>
                  <a:pt x="3725693" y="6410813"/>
                  <a:pt x="3669463" y="6354583"/>
                  <a:pt x="3600100" y="6354583"/>
                </a:cubicBezTo>
                <a:cubicBezTo>
                  <a:pt x="3530738" y="6354583"/>
                  <a:pt x="3474508" y="6410813"/>
                  <a:pt x="3474507" y="6480175"/>
                </a:cubicBezTo>
                <a:lnTo>
                  <a:pt x="3365683" y="6480175"/>
                </a:lnTo>
                <a:cubicBezTo>
                  <a:pt x="3365683" y="6410813"/>
                  <a:pt x="3309453" y="6354583"/>
                  <a:pt x="3240090" y="6354583"/>
                </a:cubicBezTo>
                <a:cubicBezTo>
                  <a:pt x="3170727" y="6354583"/>
                  <a:pt x="3114498" y="6410813"/>
                  <a:pt x="3114497" y="6480175"/>
                </a:cubicBezTo>
                <a:lnTo>
                  <a:pt x="3005673" y="6480175"/>
                </a:lnTo>
                <a:cubicBezTo>
                  <a:pt x="3005673" y="6410813"/>
                  <a:pt x="2949443" y="6354583"/>
                  <a:pt x="2880080" y="6354583"/>
                </a:cubicBezTo>
                <a:cubicBezTo>
                  <a:pt x="2810717" y="6354583"/>
                  <a:pt x="2754488" y="6410813"/>
                  <a:pt x="2754487" y="6480175"/>
                </a:cubicBezTo>
                <a:lnTo>
                  <a:pt x="2645663" y="6480175"/>
                </a:lnTo>
                <a:cubicBezTo>
                  <a:pt x="2645663" y="6410813"/>
                  <a:pt x="2589433" y="6354583"/>
                  <a:pt x="2520070" y="6354583"/>
                </a:cubicBezTo>
                <a:cubicBezTo>
                  <a:pt x="2450707" y="6354583"/>
                  <a:pt x="2394478" y="6410813"/>
                  <a:pt x="2394477" y="6480175"/>
                </a:cubicBezTo>
                <a:lnTo>
                  <a:pt x="2285653" y="6480175"/>
                </a:lnTo>
                <a:cubicBezTo>
                  <a:pt x="2285653" y="6410813"/>
                  <a:pt x="2229423" y="6354583"/>
                  <a:pt x="2160060" y="6354583"/>
                </a:cubicBezTo>
                <a:cubicBezTo>
                  <a:pt x="2090697" y="6354583"/>
                  <a:pt x="2034468" y="6410813"/>
                  <a:pt x="2034467" y="6480175"/>
                </a:cubicBezTo>
                <a:lnTo>
                  <a:pt x="1925643" y="6480175"/>
                </a:lnTo>
                <a:cubicBezTo>
                  <a:pt x="1925643" y="6410813"/>
                  <a:pt x="1869413" y="6354583"/>
                  <a:pt x="1800050" y="6354583"/>
                </a:cubicBezTo>
                <a:cubicBezTo>
                  <a:pt x="1730687" y="6354583"/>
                  <a:pt x="1674458" y="6410813"/>
                  <a:pt x="1674457" y="6480175"/>
                </a:cubicBezTo>
                <a:lnTo>
                  <a:pt x="1565633" y="6480175"/>
                </a:lnTo>
                <a:cubicBezTo>
                  <a:pt x="1565633" y="6410813"/>
                  <a:pt x="1509403" y="6354583"/>
                  <a:pt x="1440040" y="6354583"/>
                </a:cubicBezTo>
                <a:cubicBezTo>
                  <a:pt x="1370677" y="6354583"/>
                  <a:pt x="1314448" y="6410813"/>
                  <a:pt x="1314447" y="6480175"/>
                </a:cubicBezTo>
                <a:lnTo>
                  <a:pt x="1205623" y="6480175"/>
                </a:lnTo>
                <a:cubicBezTo>
                  <a:pt x="1205623" y="6410813"/>
                  <a:pt x="1149393" y="6354583"/>
                  <a:pt x="1080030" y="6354583"/>
                </a:cubicBezTo>
                <a:cubicBezTo>
                  <a:pt x="1010667" y="6354583"/>
                  <a:pt x="954438" y="6410813"/>
                  <a:pt x="954437" y="6480175"/>
                </a:cubicBezTo>
                <a:lnTo>
                  <a:pt x="845613" y="6480175"/>
                </a:lnTo>
                <a:cubicBezTo>
                  <a:pt x="845613" y="6410813"/>
                  <a:pt x="789383" y="6354583"/>
                  <a:pt x="720020" y="6354583"/>
                </a:cubicBezTo>
                <a:cubicBezTo>
                  <a:pt x="650657" y="6354583"/>
                  <a:pt x="594428" y="6410813"/>
                  <a:pt x="594427" y="6480175"/>
                </a:cubicBezTo>
                <a:lnTo>
                  <a:pt x="485603" y="6480175"/>
                </a:lnTo>
                <a:cubicBezTo>
                  <a:pt x="485603" y="6410813"/>
                  <a:pt x="429373" y="6354583"/>
                  <a:pt x="360010" y="6354583"/>
                </a:cubicBezTo>
                <a:cubicBezTo>
                  <a:pt x="290647" y="6354583"/>
                  <a:pt x="234418" y="6410813"/>
                  <a:pt x="234417" y="6480175"/>
                </a:cubicBezTo>
                <a:lnTo>
                  <a:pt x="125593" y="6480175"/>
                </a:lnTo>
                <a:cubicBezTo>
                  <a:pt x="125592" y="6410813"/>
                  <a:pt x="69363" y="6354583"/>
                  <a:pt x="0" y="6354583"/>
                </a:cubicBezTo>
                <a:lnTo>
                  <a:pt x="0" y="6245234"/>
                </a:lnTo>
                <a:cubicBezTo>
                  <a:pt x="69363" y="6245234"/>
                  <a:pt x="125592" y="6189004"/>
                  <a:pt x="125592" y="6119641"/>
                </a:cubicBezTo>
                <a:cubicBezTo>
                  <a:pt x="125592" y="6050279"/>
                  <a:pt x="69363" y="5994049"/>
                  <a:pt x="0" y="5994048"/>
                </a:cubicBezTo>
                <a:lnTo>
                  <a:pt x="0" y="5885224"/>
                </a:lnTo>
                <a:cubicBezTo>
                  <a:pt x="69363" y="5885224"/>
                  <a:pt x="125592" y="5828994"/>
                  <a:pt x="125592" y="5759631"/>
                </a:cubicBezTo>
                <a:cubicBezTo>
                  <a:pt x="125592" y="5690269"/>
                  <a:pt x="69363" y="5634039"/>
                  <a:pt x="0" y="5634038"/>
                </a:cubicBezTo>
                <a:lnTo>
                  <a:pt x="0" y="5525214"/>
                </a:lnTo>
                <a:cubicBezTo>
                  <a:pt x="69363" y="5525214"/>
                  <a:pt x="125592" y="5468984"/>
                  <a:pt x="125592" y="5399621"/>
                </a:cubicBezTo>
                <a:cubicBezTo>
                  <a:pt x="125592" y="5330259"/>
                  <a:pt x="69363" y="5274029"/>
                  <a:pt x="0" y="5274028"/>
                </a:cubicBezTo>
                <a:lnTo>
                  <a:pt x="0" y="5165204"/>
                </a:lnTo>
                <a:cubicBezTo>
                  <a:pt x="69363" y="5165204"/>
                  <a:pt x="125592" y="5108974"/>
                  <a:pt x="125592" y="5039611"/>
                </a:cubicBezTo>
                <a:cubicBezTo>
                  <a:pt x="125592" y="4970249"/>
                  <a:pt x="69363" y="4914019"/>
                  <a:pt x="0" y="4914018"/>
                </a:cubicBezTo>
                <a:lnTo>
                  <a:pt x="0" y="4805194"/>
                </a:lnTo>
                <a:cubicBezTo>
                  <a:pt x="69363" y="4805194"/>
                  <a:pt x="125592" y="4748964"/>
                  <a:pt x="125592" y="4679601"/>
                </a:cubicBezTo>
                <a:cubicBezTo>
                  <a:pt x="125592" y="4610239"/>
                  <a:pt x="69363" y="4554009"/>
                  <a:pt x="0" y="4554008"/>
                </a:cubicBezTo>
                <a:lnTo>
                  <a:pt x="0" y="4445184"/>
                </a:lnTo>
                <a:cubicBezTo>
                  <a:pt x="69363" y="4445184"/>
                  <a:pt x="125592" y="4388954"/>
                  <a:pt x="125592" y="4319591"/>
                </a:cubicBezTo>
                <a:cubicBezTo>
                  <a:pt x="125592" y="4250229"/>
                  <a:pt x="69363" y="4193999"/>
                  <a:pt x="0" y="4193998"/>
                </a:cubicBezTo>
                <a:lnTo>
                  <a:pt x="0" y="4085174"/>
                </a:lnTo>
                <a:cubicBezTo>
                  <a:pt x="69363" y="4085174"/>
                  <a:pt x="125592" y="4028944"/>
                  <a:pt x="125592" y="3959581"/>
                </a:cubicBezTo>
                <a:cubicBezTo>
                  <a:pt x="125592" y="3890219"/>
                  <a:pt x="69363" y="3833989"/>
                  <a:pt x="0" y="3833988"/>
                </a:cubicBezTo>
                <a:lnTo>
                  <a:pt x="0" y="3725164"/>
                </a:lnTo>
                <a:cubicBezTo>
                  <a:pt x="69363" y="3725164"/>
                  <a:pt x="125592" y="3668934"/>
                  <a:pt x="125592" y="3599571"/>
                </a:cubicBezTo>
                <a:cubicBezTo>
                  <a:pt x="125592" y="3530209"/>
                  <a:pt x="69363" y="3473979"/>
                  <a:pt x="0" y="3473978"/>
                </a:cubicBezTo>
                <a:lnTo>
                  <a:pt x="0" y="3365154"/>
                </a:lnTo>
                <a:cubicBezTo>
                  <a:pt x="69363" y="3365154"/>
                  <a:pt x="125592" y="3308924"/>
                  <a:pt x="125592" y="3239561"/>
                </a:cubicBezTo>
                <a:cubicBezTo>
                  <a:pt x="125592" y="3170198"/>
                  <a:pt x="69363" y="3113969"/>
                  <a:pt x="0" y="3113968"/>
                </a:cubicBezTo>
                <a:lnTo>
                  <a:pt x="0" y="3005144"/>
                </a:lnTo>
                <a:cubicBezTo>
                  <a:pt x="69363" y="3005144"/>
                  <a:pt x="125592" y="2948914"/>
                  <a:pt x="125592" y="2879551"/>
                </a:cubicBezTo>
                <a:cubicBezTo>
                  <a:pt x="125592" y="2810188"/>
                  <a:pt x="69363" y="2753959"/>
                  <a:pt x="0" y="2753958"/>
                </a:cubicBezTo>
                <a:lnTo>
                  <a:pt x="0" y="2645134"/>
                </a:lnTo>
                <a:cubicBezTo>
                  <a:pt x="69363" y="2645134"/>
                  <a:pt x="125592" y="2588904"/>
                  <a:pt x="125592" y="2519541"/>
                </a:cubicBezTo>
                <a:cubicBezTo>
                  <a:pt x="125592" y="2450178"/>
                  <a:pt x="69363" y="2393949"/>
                  <a:pt x="0" y="2393948"/>
                </a:cubicBezTo>
                <a:lnTo>
                  <a:pt x="0" y="2285124"/>
                </a:lnTo>
                <a:cubicBezTo>
                  <a:pt x="69363" y="2285124"/>
                  <a:pt x="125592" y="2228894"/>
                  <a:pt x="125592" y="2159531"/>
                </a:cubicBezTo>
                <a:cubicBezTo>
                  <a:pt x="125592" y="2090168"/>
                  <a:pt x="69363" y="2033939"/>
                  <a:pt x="0" y="2033938"/>
                </a:cubicBezTo>
                <a:lnTo>
                  <a:pt x="0" y="1925114"/>
                </a:lnTo>
                <a:cubicBezTo>
                  <a:pt x="69363" y="1925114"/>
                  <a:pt x="125592" y="1868884"/>
                  <a:pt x="125592" y="1799521"/>
                </a:cubicBezTo>
                <a:cubicBezTo>
                  <a:pt x="125592" y="1730158"/>
                  <a:pt x="69363" y="1673929"/>
                  <a:pt x="0" y="1673928"/>
                </a:cubicBezTo>
                <a:lnTo>
                  <a:pt x="0" y="1565104"/>
                </a:lnTo>
                <a:cubicBezTo>
                  <a:pt x="69363" y="1565104"/>
                  <a:pt x="125592" y="1508874"/>
                  <a:pt x="125592" y="1439511"/>
                </a:cubicBezTo>
                <a:cubicBezTo>
                  <a:pt x="125592" y="1370148"/>
                  <a:pt x="69363" y="1313919"/>
                  <a:pt x="0" y="1313918"/>
                </a:cubicBezTo>
                <a:lnTo>
                  <a:pt x="0" y="1205094"/>
                </a:lnTo>
                <a:cubicBezTo>
                  <a:pt x="69363" y="1205094"/>
                  <a:pt x="125592" y="1148864"/>
                  <a:pt x="125592" y="1079501"/>
                </a:cubicBezTo>
                <a:cubicBezTo>
                  <a:pt x="125592" y="1010138"/>
                  <a:pt x="69363" y="953909"/>
                  <a:pt x="0" y="953908"/>
                </a:cubicBezTo>
                <a:lnTo>
                  <a:pt x="0" y="845084"/>
                </a:lnTo>
                <a:cubicBezTo>
                  <a:pt x="69363" y="845084"/>
                  <a:pt x="125592" y="788854"/>
                  <a:pt x="125592" y="719491"/>
                </a:cubicBezTo>
                <a:cubicBezTo>
                  <a:pt x="125592" y="650128"/>
                  <a:pt x="69363" y="593899"/>
                  <a:pt x="0" y="593898"/>
                </a:cubicBezTo>
                <a:lnTo>
                  <a:pt x="0" y="485074"/>
                </a:lnTo>
                <a:cubicBezTo>
                  <a:pt x="69363" y="485074"/>
                  <a:pt x="125592" y="428844"/>
                  <a:pt x="125592" y="359481"/>
                </a:cubicBezTo>
                <a:cubicBezTo>
                  <a:pt x="125592" y="290118"/>
                  <a:pt x="69363" y="233889"/>
                  <a:pt x="0" y="233888"/>
                </a:cubicBezTo>
                <a:lnTo>
                  <a:pt x="0" y="125594"/>
                </a:lnTo>
                <a:cubicBezTo>
                  <a:pt x="69363" y="125594"/>
                  <a:pt x="125593" y="69364"/>
                  <a:pt x="125593" y="1"/>
                </a:cubicBezTo>
                <a:cubicBezTo>
                  <a:pt x="125593" y="1"/>
                  <a:pt x="125593" y="0"/>
                  <a:pt x="125593" y="0"/>
                </a:cubicBezTo>
                <a:close/>
              </a:path>
            </a:pathLst>
          </a:custGeom>
          <a:gradFill rotWithShape="0">
            <a:gsLst>
              <a:gs pos="0">
                <a:srgbClr val="343434"/>
              </a:gs>
              <a:gs pos="100000">
                <a:srgbClr val="4b4b4b"/>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800" spc="-1" strike="noStrike">
                <a:solidFill>
                  <a:srgbClr val="ffffff"/>
                </a:solidFill>
                <a:latin typeface="Candara"/>
                <a:ea typeface="微软雅黑"/>
              </a:rPr>
              <a:t>文字</a:t>
            </a:r>
            <a:endParaRPr b="0" lang="en-US" sz="1800" spc="-1" strike="noStrike">
              <a:solidFill>
                <a:srgbClr val="000000"/>
              </a:solidFill>
              <a:latin typeface="Arial"/>
            </a:endParaRPr>
          </a:p>
        </p:txBody>
      </p:sp>
      <p:sp>
        <p:nvSpPr>
          <p:cNvPr id="1126" name="矩形 3"/>
          <p:cNvSpPr/>
          <p:nvPr/>
        </p:nvSpPr>
        <p:spPr>
          <a:xfrm>
            <a:off x="8989920" y="4319640"/>
            <a:ext cx="1439640" cy="1439640"/>
          </a:xfrm>
          <a:custGeom>
            <a:avLst/>
            <a:gdLst>
              <a:gd name="textAreaLeft" fmla="*/ 0 w 1439640"/>
              <a:gd name="textAreaRight" fmla="*/ 1440000 w 1439640"/>
              <a:gd name="textAreaTop" fmla="*/ 0 h 1439640"/>
              <a:gd name="textAreaBottom" fmla="*/ 1440000 h 1439640"/>
            </a:gdLst>
            <a:ahLst/>
            <a:rect l="textAreaLeft" t="textAreaTop" r="textAreaRight" b="textAreaBottom"/>
            <a:pathLst>
              <a:path w="6480000" h="6480175">
                <a:moveTo>
                  <a:pt x="125593" y="0"/>
                </a:moveTo>
                <a:lnTo>
                  <a:pt x="234417" y="0"/>
                </a:lnTo>
                <a:lnTo>
                  <a:pt x="234417" y="1"/>
                </a:lnTo>
                <a:cubicBezTo>
                  <a:pt x="234417" y="69364"/>
                  <a:pt x="290647" y="125594"/>
                  <a:pt x="360010" y="125594"/>
                </a:cubicBezTo>
                <a:cubicBezTo>
                  <a:pt x="429373" y="125594"/>
                  <a:pt x="485603" y="69364"/>
                  <a:pt x="485603" y="1"/>
                </a:cubicBezTo>
                <a:cubicBezTo>
                  <a:pt x="485603" y="1"/>
                  <a:pt x="485603" y="0"/>
                  <a:pt x="485603" y="0"/>
                </a:cubicBezTo>
                <a:lnTo>
                  <a:pt x="594427" y="0"/>
                </a:lnTo>
                <a:lnTo>
                  <a:pt x="594427" y="1"/>
                </a:lnTo>
                <a:cubicBezTo>
                  <a:pt x="594427" y="69364"/>
                  <a:pt x="650657" y="125594"/>
                  <a:pt x="720020" y="125594"/>
                </a:cubicBezTo>
                <a:cubicBezTo>
                  <a:pt x="789383" y="125594"/>
                  <a:pt x="845613" y="69364"/>
                  <a:pt x="845613" y="1"/>
                </a:cubicBezTo>
                <a:cubicBezTo>
                  <a:pt x="845613" y="1"/>
                  <a:pt x="845613" y="0"/>
                  <a:pt x="845613" y="0"/>
                </a:cubicBezTo>
                <a:lnTo>
                  <a:pt x="954437" y="0"/>
                </a:lnTo>
                <a:lnTo>
                  <a:pt x="954437" y="1"/>
                </a:lnTo>
                <a:cubicBezTo>
                  <a:pt x="954437" y="69364"/>
                  <a:pt x="1010667" y="125594"/>
                  <a:pt x="1080030" y="125594"/>
                </a:cubicBezTo>
                <a:cubicBezTo>
                  <a:pt x="1149393" y="125594"/>
                  <a:pt x="1205623" y="69364"/>
                  <a:pt x="1205623" y="1"/>
                </a:cubicBezTo>
                <a:cubicBezTo>
                  <a:pt x="1205623" y="1"/>
                  <a:pt x="1205623" y="0"/>
                  <a:pt x="1205623" y="0"/>
                </a:cubicBezTo>
                <a:lnTo>
                  <a:pt x="1314447" y="0"/>
                </a:lnTo>
                <a:lnTo>
                  <a:pt x="1314447" y="1"/>
                </a:lnTo>
                <a:cubicBezTo>
                  <a:pt x="1314447" y="69364"/>
                  <a:pt x="1370677" y="125594"/>
                  <a:pt x="1440040" y="125594"/>
                </a:cubicBezTo>
                <a:cubicBezTo>
                  <a:pt x="1509403" y="125594"/>
                  <a:pt x="1565633" y="69364"/>
                  <a:pt x="1565633" y="1"/>
                </a:cubicBezTo>
                <a:cubicBezTo>
                  <a:pt x="1565633" y="1"/>
                  <a:pt x="1565633" y="0"/>
                  <a:pt x="1565633" y="0"/>
                </a:cubicBezTo>
                <a:lnTo>
                  <a:pt x="1674457" y="0"/>
                </a:lnTo>
                <a:lnTo>
                  <a:pt x="1674457" y="1"/>
                </a:lnTo>
                <a:cubicBezTo>
                  <a:pt x="1674457" y="69364"/>
                  <a:pt x="1730687" y="125594"/>
                  <a:pt x="1800050" y="125594"/>
                </a:cubicBezTo>
                <a:cubicBezTo>
                  <a:pt x="1869413" y="125594"/>
                  <a:pt x="1925643" y="69364"/>
                  <a:pt x="1925643" y="1"/>
                </a:cubicBezTo>
                <a:cubicBezTo>
                  <a:pt x="1925643" y="1"/>
                  <a:pt x="1925643" y="0"/>
                  <a:pt x="1925643" y="0"/>
                </a:cubicBezTo>
                <a:lnTo>
                  <a:pt x="2034467" y="0"/>
                </a:lnTo>
                <a:lnTo>
                  <a:pt x="2034467" y="1"/>
                </a:lnTo>
                <a:cubicBezTo>
                  <a:pt x="2034467" y="69364"/>
                  <a:pt x="2090697" y="125594"/>
                  <a:pt x="2160060" y="125594"/>
                </a:cubicBezTo>
                <a:cubicBezTo>
                  <a:pt x="2229423" y="125594"/>
                  <a:pt x="2285653" y="69364"/>
                  <a:pt x="2285653" y="1"/>
                </a:cubicBezTo>
                <a:cubicBezTo>
                  <a:pt x="2285653" y="1"/>
                  <a:pt x="2285653" y="0"/>
                  <a:pt x="2285653" y="0"/>
                </a:cubicBezTo>
                <a:lnTo>
                  <a:pt x="2394477" y="0"/>
                </a:lnTo>
                <a:lnTo>
                  <a:pt x="2394477" y="1"/>
                </a:lnTo>
                <a:cubicBezTo>
                  <a:pt x="2394477" y="69364"/>
                  <a:pt x="2450707" y="125594"/>
                  <a:pt x="2520070" y="125594"/>
                </a:cubicBezTo>
                <a:cubicBezTo>
                  <a:pt x="2589433" y="125594"/>
                  <a:pt x="2645663" y="69364"/>
                  <a:pt x="2645663" y="1"/>
                </a:cubicBezTo>
                <a:cubicBezTo>
                  <a:pt x="2645663" y="1"/>
                  <a:pt x="2645663" y="0"/>
                  <a:pt x="2645663" y="0"/>
                </a:cubicBezTo>
                <a:lnTo>
                  <a:pt x="2754487" y="0"/>
                </a:lnTo>
                <a:lnTo>
                  <a:pt x="2754487" y="1"/>
                </a:lnTo>
                <a:cubicBezTo>
                  <a:pt x="2754487" y="69364"/>
                  <a:pt x="2810717" y="125594"/>
                  <a:pt x="2880080" y="125594"/>
                </a:cubicBezTo>
                <a:cubicBezTo>
                  <a:pt x="2949443" y="125594"/>
                  <a:pt x="3005673" y="69364"/>
                  <a:pt x="3005673" y="1"/>
                </a:cubicBezTo>
                <a:cubicBezTo>
                  <a:pt x="3005673" y="1"/>
                  <a:pt x="3005673" y="0"/>
                  <a:pt x="3005673" y="0"/>
                </a:cubicBezTo>
                <a:lnTo>
                  <a:pt x="3114497" y="0"/>
                </a:lnTo>
                <a:lnTo>
                  <a:pt x="3114497" y="1"/>
                </a:lnTo>
                <a:cubicBezTo>
                  <a:pt x="3114497" y="69364"/>
                  <a:pt x="3170727" y="125594"/>
                  <a:pt x="3240090" y="125594"/>
                </a:cubicBezTo>
                <a:cubicBezTo>
                  <a:pt x="3309453" y="125594"/>
                  <a:pt x="3365683" y="69364"/>
                  <a:pt x="3365683" y="1"/>
                </a:cubicBezTo>
                <a:cubicBezTo>
                  <a:pt x="3365683" y="1"/>
                  <a:pt x="3365683" y="0"/>
                  <a:pt x="3365683" y="0"/>
                </a:cubicBezTo>
                <a:lnTo>
                  <a:pt x="3474507" y="0"/>
                </a:lnTo>
                <a:lnTo>
                  <a:pt x="3474507" y="1"/>
                </a:lnTo>
                <a:cubicBezTo>
                  <a:pt x="3474507" y="69364"/>
                  <a:pt x="3530737" y="125594"/>
                  <a:pt x="3600100" y="125594"/>
                </a:cubicBezTo>
                <a:cubicBezTo>
                  <a:pt x="3669463" y="125594"/>
                  <a:pt x="3725693" y="69364"/>
                  <a:pt x="3725693" y="1"/>
                </a:cubicBezTo>
                <a:cubicBezTo>
                  <a:pt x="3725693" y="1"/>
                  <a:pt x="3725693" y="0"/>
                  <a:pt x="3725693" y="0"/>
                </a:cubicBezTo>
                <a:lnTo>
                  <a:pt x="3834517" y="0"/>
                </a:lnTo>
                <a:lnTo>
                  <a:pt x="3834517" y="1"/>
                </a:lnTo>
                <a:cubicBezTo>
                  <a:pt x="3834517" y="69364"/>
                  <a:pt x="3890747" y="125594"/>
                  <a:pt x="3960110" y="125594"/>
                </a:cubicBezTo>
                <a:cubicBezTo>
                  <a:pt x="4029473" y="125594"/>
                  <a:pt x="4085703" y="69364"/>
                  <a:pt x="4085703" y="1"/>
                </a:cubicBezTo>
                <a:cubicBezTo>
                  <a:pt x="4085703" y="1"/>
                  <a:pt x="4085703" y="0"/>
                  <a:pt x="4085703" y="0"/>
                </a:cubicBezTo>
                <a:lnTo>
                  <a:pt x="4194527" y="0"/>
                </a:lnTo>
                <a:lnTo>
                  <a:pt x="4194527" y="1"/>
                </a:lnTo>
                <a:cubicBezTo>
                  <a:pt x="4194527" y="69364"/>
                  <a:pt x="4250757" y="125594"/>
                  <a:pt x="4320120" y="125594"/>
                </a:cubicBezTo>
                <a:cubicBezTo>
                  <a:pt x="4389483" y="125594"/>
                  <a:pt x="4445713" y="69364"/>
                  <a:pt x="4445713" y="1"/>
                </a:cubicBezTo>
                <a:cubicBezTo>
                  <a:pt x="4445713" y="1"/>
                  <a:pt x="4445713" y="0"/>
                  <a:pt x="4445713" y="0"/>
                </a:cubicBezTo>
                <a:lnTo>
                  <a:pt x="4554537" y="0"/>
                </a:lnTo>
                <a:lnTo>
                  <a:pt x="4554537" y="1"/>
                </a:lnTo>
                <a:cubicBezTo>
                  <a:pt x="4554537" y="69364"/>
                  <a:pt x="4610767" y="125594"/>
                  <a:pt x="4680130" y="125594"/>
                </a:cubicBezTo>
                <a:cubicBezTo>
                  <a:pt x="4749493" y="125594"/>
                  <a:pt x="4805723" y="69364"/>
                  <a:pt x="4805723" y="1"/>
                </a:cubicBezTo>
                <a:cubicBezTo>
                  <a:pt x="4805723" y="1"/>
                  <a:pt x="4805723" y="0"/>
                  <a:pt x="4805723" y="0"/>
                </a:cubicBezTo>
                <a:lnTo>
                  <a:pt x="4914547" y="0"/>
                </a:lnTo>
                <a:lnTo>
                  <a:pt x="4914547" y="1"/>
                </a:lnTo>
                <a:cubicBezTo>
                  <a:pt x="4914547" y="69364"/>
                  <a:pt x="4970777" y="125594"/>
                  <a:pt x="5040140" y="125594"/>
                </a:cubicBezTo>
                <a:cubicBezTo>
                  <a:pt x="5109503" y="125594"/>
                  <a:pt x="5165733" y="69364"/>
                  <a:pt x="5165733" y="1"/>
                </a:cubicBezTo>
                <a:cubicBezTo>
                  <a:pt x="5165733" y="1"/>
                  <a:pt x="5165733" y="0"/>
                  <a:pt x="5165733" y="0"/>
                </a:cubicBezTo>
                <a:lnTo>
                  <a:pt x="5274557" y="0"/>
                </a:lnTo>
                <a:lnTo>
                  <a:pt x="5274557" y="1"/>
                </a:lnTo>
                <a:cubicBezTo>
                  <a:pt x="5274557" y="69364"/>
                  <a:pt x="5330787" y="125594"/>
                  <a:pt x="5400150" y="125594"/>
                </a:cubicBezTo>
                <a:cubicBezTo>
                  <a:pt x="5469513" y="125594"/>
                  <a:pt x="5525743" y="69364"/>
                  <a:pt x="5525743" y="1"/>
                </a:cubicBezTo>
                <a:cubicBezTo>
                  <a:pt x="5525743" y="1"/>
                  <a:pt x="5525743" y="0"/>
                  <a:pt x="5525743" y="0"/>
                </a:cubicBezTo>
                <a:lnTo>
                  <a:pt x="5634567" y="0"/>
                </a:lnTo>
                <a:lnTo>
                  <a:pt x="5634567" y="1"/>
                </a:lnTo>
                <a:cubicBezTo>
                  <a:pt x="5634567" y="69364"/>
                  <a:pt x="5690797" y="125594"/>
                  <a:pt x="5760160" y="125594"/>
                </a:cubicBezTo>
                <a:cubicBezTo>
                  <a:pt x="5829523" y="125594"/>
                  <a:pt x="5885753" y="69364"/>
                  <a:pt x="5885753" y="1"/>
                </a:cubicBezTo>
                <a:cubicBezTo>
                  <a:pt x="5885753" y="1"/>
                  <a:pt x="5885753" y="0"/>
                  <a:pt x="5885753" y="0"/>
                </a:cubicBezTo>
                <a:lnTo>
                  <a:pt x="5994577" y="0"/>
                </a:lnTo>
                <a:lnTo>
                  <a:pt x="5994577" y="1"/>
                </a:lnTo>
                <a:cubicBezTo>
                  <a:pt x="5994577" y="69364"/>
                  <a:pt x="6050807" y="125594"/>
                  <a:pt x="6120170" y="125594"/>
                </a:cubicBezTo>
                <a:cubicBezTo>
                  <a:pt x="6189533" y="125594"/>
                  <a:pt x="6245763" y="69364"/>
                  <a:pt x="6245763" y="1"/>
                </a:cubicBezTo>
                <a:cubicBezTo>
                  <a:pt x="6245763" y="1"/>
                  <a:pt x="6245763" y="0"/>
                  <a:pt x="6245763" y="0"/>
                </a:cubicBezTo>
                <a:lnTo>
                  <a:pt x="6354587" y="0"/>
                </a:lnTo>
                <a:lnTo>
                  <a:pt x="6354587" y="1"/>
                </a:lnTo>
                <a:cubicBezTo>
                  <a:pt x="6354587" y="69304"/>
                  <a:pt x="6410720" y="125497"/>
                  <a:pt x="6480000" y="125558"/>
                </a:cubicBezTo>
                <a:lnTo>
                  <a:pt x="6480000" y="233923"/>
                </a:lnTo>
                <a:cubicBezTo>
                  <a:pt x="6410717" y="233982"/>
                  <a:pt x="6354581" y="290176"/>
                  <a:pt x="6354581" y="359481"/>
                </a:cubicBezTo>
                <a:cubicBezTo>
                  <a:pt x="6354581" y="428786"/>
                  <a:pt x="6410717" y="484980"/>
                  <a:pt x="6480000" y="485039"/>
                </a:cubicBezTo>
                <a:lnTo>
                  <a:pt x="6480000" y="593933"/>
                </a:lnTo>
                <a:cubicBezTo>
                  <a:pt x="6410717" y="593992"/>
                  <a:pt x="6354581" y="650186"/>
                  <a:pt x="6354581" y="719491"/>
                </a:cubicBezTo>
                <a:cubicBezTo>
                  <a:pt x="6354581" y="788796"/>
                  <a:pt x="6410717" y="844990"/>
                  <a:pt x="6480000" y="845049"/>
                </a:cubicBezTo>
                <a:lnTo>
                  <a:pt x="6480000" y="953943"/>
                </a:lnTo>
                <a:cubicBezTo>
                  <a:pt x="6410717" y="954002"/>
                  <a:pt x="6354581" y="1010196"/>
                  <a:pt x="6354581" y="1079501"/>
                </a:cubicBezTo>
                <a:cubicBezTo>
                  <a:pt x="6354581" y="1148806"/>
                  <a:pt x="6410717" y="1205000"/>
                  <a:pt x="6480000" y="1205059"/>
                </a:cubicBezTo>
                <a:lnTo>
                  <a:pt x="6480000" y="1313953"/>
                </a:lnTo>
                <a:cubicBezTo>
                  <a:pt x="6410717" y="1314012"/>
                  <a:pt x="6354581" y="1370206"/>
                  <a:pt x="6354581" y="1439511"/>
                </a:cubicBezTo>
                <a:cubicBezTo>
                  <a:pt x="6354581" y="1508816"/>
                  <a:pt x="6410717" y="1565010"/>
                  <a:pt x="6480000" y="1565069"/>
                </a:cubicBezTo>
                <a:lnTo>
                  <a:pt x="6480000" y="1673963"/>
                </a:lnTo>
                <a:cubicBezTo>
                  <a:pt x="6410717" y="1674022"/>
                  <a:pt x="6354581" y="1730216"/>
                  <a:pt x="6354581" y="1799521"/>
                </a:cubicBezTo>
                <a:cubicBezTo>
                  <a:pt x="6354581" y="1868826"/>
                  <a:pt x="6410717" y="1925020"/>
                  <a:pt x="6480000" y="1925079"/>
                </a:cubicBezTo>
                <a:lnTo>
                  <a:pt x="6480000" y="2033973"/>
                </a:lnTo>
                <a:cubicBezTo>
                  <a:pt x="6410717" y="2034032"/>
                  <a:pt x="6354581" y="2090226"/>
                  <a:pt x="6354581" y="2159531"/>
                </a:cubicBezTo>
                <a:cubicBezTo>
                  <a:pt x="6354581" y="2228836"/>
                  <a:pt x="6410717" y="2285030"/>
                  <a:pt x="6480000" y="2285089"/>
                </a:cubicBezTo>
                <a:lnTo>
                  <a:pt x="6480000" y="2393983"/>
                </a:lnTo>
                <a:cubicBezTo>
                  <a:pt x="6410717" y="2394042"/>
                  <a:pt x="6354581" y="2450236"/>
                  <a:pt x="6354581" y="2519541"/>
                </a:cubicBezTo>
                <a:cubicBezTo>
                  <a:pt x="6354581" y="2588846"/>
                  <a:pt x="6410717" y="2645040"/>
                  <a:pt x="6480000" y="2645099"/>
                </a:cubicBezTo>
                <a:lnTo>
                  <a:pt x="6480000" y="2753993"/>
                </a:lnTo>
                <a:cubicBezTo>
                  <a:pt x="6410717" y="2754052"/>
                  <a:pt x="6354581" y="2810246"/>
                  <a:pt x="6354581" y="2879551"/>
                </a:cubicBezTo>
                <a:cubicBezTo>
                  <a:pt x="6354581" y="2948856"/>
                  <a:pt x="6410717" y="3005050"/>
                  <a:pt x="6480000" y="3005109"/>
                </a:cubicBezTo>
                <a:lnTo>
                  <a:pt x="6480000" y="3114003"/>
                </a:lnTo>
                <a:cubicBezTo>
                  <a:pt x="6410717" y="3114062"/>
                  <a:pt x="6354581" y="3170256"/>
                  <a:pt x="6354581" y="3239561"/>
                </a:cubicBezTo>
                <a:cubicBezTo>
                  <a:pt x="6354581" y="3308866"/>
                  <a:pt x="6410717" y="3365060"/>
                  <a:pt x="6480000" y="3365119"/>
                </a:cubicBezTo>
                <a:lnTo>
                  <a:pt x="6480000" y="3474013"/>
                </a:lnTo>
                <a:cubicBezTo>
                  <a:pt x="6410717" y="3474072"/>
                  <a:pt x="6354581" y="3530266"/>
                  <a:pt x="6354581" y="3599571"/>
                </a:cubicBezTo>
                <a:cubicBezTo>
                  <a:pt x="6354581" y="3668876"/>
                  <a:pt x="6410717" y="3725070"/>
                  <a:pt x="6480000" y="3725129"/>
                </a:cubicBezTo>
                <a:lnTo>
                  <a:pt x="6480000" y="3834023"/>
                </a:lnTo>
                <a:cubicBezTo>
                  <a:pt x="6410717" y="3834082"/>
                  <a:pt x="6354581" y="3890276"/>
                  <a:pt x="6354581" y="3959581"/>
                </a:cubicBezTo>
                <a:cubicBezTo>
                  <a:pt x="6354581" y="4028886"/>
                  <a:pt x="6410717" y="4085080"/>
                  <a:pt x="6480000" y="4085139"/>
                </a:cubicBezTo>
                <a:lnTo>
                  <a:pt x="6480000" y="4194033"/>
                </a:lnTo>
                <a:cubicBezTo>
                  <a:pt x="6410717" y="4194092"/>
                  <a:pt x="6354581" y="4250286"/>
                  <a:pt x="6354581" y="4319591"/>
                </a:cubicBezTo>
                <a:cubicBezTo>
                  <a:pt x="6354581" y="4388896"/>
                  <a:pt x="6410717" y="4445090"/>
                  <a:pt x="6480000" y="4445149"/>
                </a:cubicBezTo>
                <a:lnTo>
                  <a:pt x="6480000" y="4554043"/>
                </a:lnTo>
                <a:cubicBezTo>
                  <a:pt x="6410717" y="4554102"/>
                  <a:pt x="6354581" y="4610296"/>
                  <a:pt x="6354581" y="4679601"/>
                </a:cubicBezTo>
                <a:cubicBezTo>
                  <a:pt x="6354581" y="4748906"/>
                  <a:pt x="6410717" y="4805100"/>
                  <a:pt x="6480000" y="4805159"/>
                </a:cubicBezTo>
                <a:lnTo>
                  <a:pt x="6480000" y="4914053"/>
                </a:lnTo>
                <a:cubicBezTo>
                  <a:pt x="6410717" y="4914112"/>
                  <a:pt x="6354581" y="4970306"/>
                  <a:pt x="6354581" y="5039611"/>
                </a:cubicBezTo>
                <a:cubicBezTo>
                  <a:pt x="6354581" y="5108916"/>
                  <a:pt x="6410717" y="5165110"/>
                  <a:pt x="6480000" y="5165169"/>
                </a:cubicBezTo>
                <a:lnTo>
                  <a:pt x="6480000" y="5274063"/>
                </a:lnTo>
                <a:cubicBezTo>
                  <a:pt x="6410717" y="5274122"/>
                  <a:pt x="6354581" y="5330316"/>
                  <a:pt x="6354581" y="5399621"/>
                </a:cubicBezTo>
                <a:cubicBezTo>
                  <a:pt x="6354581" y="5468926"/>
                  <a:pt x="6410717" y="5525120"/>
                  <a:pt x="6480000" y="5525179"/>
                </a:cubicBezTo>
                <a:lnTo>
                  <a:pt x="6480000" y="5634073"/>
                </a:lnTo>
                <a:cubicBezTo>
                  <a:pt x="6410717" y="5634132"/>
                  <a:pt x="6354581" y="5690326"/>
                  <a:pt x="6354581" y="5759631"/>
                </a:cubicBezTo>
                <a:cubicBezTo>
                  <a:pt x="6354581" y="5828936"/>
                  <a:pt x="6410717" y="5885130"/>
                  <a:pt x="6480000" y="5885189"/>
                </a:cubicBezTo>
                <a:lnTo>
                  <a:pt x="6480000" y="5994083"/>
                </a:lnTo>
                <a:cubicBezTo>
                  <a:pt x="6410717" y="5994142"/>
                  <a:pt x="6354581" y="6050336"/>
                  <a:pt x="6354581" y="6119641"/>
                </a:cubicBezTo>
                <a:cubicBezTo>
                  <a:pt x="6354581" y="6188946"/>
                  <a:pt x="6410717" y="6245140"/>
                  <a:pt x="6480000" y="6245199"/>
                </a:cubicBezTo>
                <a:lnTo>
                  <a:pt x="6480000" y="6354620"/>
                </a:lnTo>
                <a:cubicBezTo>
                  <a:pt x="6410720" y="6354681"/>
                  <a:pt x="6354588" y="6410873"/>
                  <a:pt x="6354587" y="6480175"/>
                </a:cubicBezTo>
                <a:lnTo>
                  <a:pt x="6245763" y="6480175"/>
                </a:lnTo>
                <a:cubicBezTo>
                  <a:pt x="6245763" y="6410813"/>
                  <a:pt x="6189533" y="6354583"/>
                  <a:pt x="6120170" y="6354583"/>
                </a:cubicBezTo>
                <a:cubicBezTo>
                  <a:pt x="6050808" y="6354583"/>
                  <a:pt x="5994578" y="6410813"/>
                  <a:pt x="5994577" y="6480175"/>
                </a:cubicBezTo>
                <a:lnTo>
                  <a:pt x="5885753" y="6480175"/>
                </a:lnTo>
                <a:cubicBezTo>
                  <a:pt x="5885753" y="6410813"/>
                  <a:pt x="5829523" y="6354583"/>
                  <a:pt x="5760160" y="6354583"/>
                </a:cubicBezTo>
                <a:cubicBezTo>
                  <a:pt x="5690798" y="6354583"/>
                  <a:pt x="5634568" y="6410813"/>
                  <a:pt x="5634567" y="6480175"/>
                </a:cubicBezTo>
                <a:lnTo>
                  <a:pt x="5525743" y="6480175"/>
                </a:lnTo>
                <a:cubicBezTo>
                  <a:pt x="5525743" y="6410813"/>
                  <a:pt x="5469513" y="6354583"/>
                  <a:pt x="5400150" y="6354583"/>
                </a:cubicBezTo>
                <a:cubicBezTo>
                  <a:pt x="5330788" y="6354583"/>
                  <a:pt x="5274558" y="6410813"/>
                  <a:pt x="5274557" y="6480175"/>
                </a:cubicBezTo>
                <a:lnTo>
                  <a:pt x="5165733" y="6480175"/>
                </a:lnTo>
                <a:cubicBezTo>
                  <a:pt x="5165733" y="6410813"/>
                  <a:pt x="5109503" y="6354583"/>
                  <a:pt x="5040140" y="6354583"/>
                </a:cubicBezTo>
                <a:cubicBezTo>
                  <a:pt x="4970778" y="6354583"/>
                  <a:pt x="4914548" y="6410813"/>
                  <a:pt x="4914547" y="6480175"/>
                </a:cubicBezTo>
                <a:lnTo>
                  <a:pt x="4805723" y="6480175"/>
                </a:lnTo>
                <a:cubicBezTo>
                  <a:pt x="4805723" y="6410813"/>
                  <a:pt x="4749493" y="6354583"/>
                  <a:pt x="4680130" y="6354583"/>
                </a:cubicBezTo>
                <a:cubicBezTo>
                  <a:pt x="4610768" y="6354583"/>
                  <a:pt x="4554538" y="6410813"/>
                  <a:pt x="4554537" y="6480175"/>
                </a:cubicBezTo>
                <a:lnTo>
                  <a:pt x="4445713" y="6480175"/>
                </a:lnTo>
                <a:cubicBezTo>
                  <a:pt x="4445713" y="6410813"/>
                  <a:pt x="4389483" y="6354583"/>
                  <a:pt x="4320120" y="6354583"/>
                </a:cubicBezTo>
                <a:cubicBezTo>
                  <a:pt x="4250758" y="6354583"/>
                  <a:pt x="4194528" y="6410813"/>
                  <a:pt x="4194527" y="6480175"/>
                </a:cubicBezTo>
                <a:lnTo>
                  <a:pt x="4085703" y="6480175"/>
                </a:lnTo>
                <a:cubicBezTo>
                  <a:pt x="4085703" y="6410813"/>
                  <a:pt x="4029473" y="6354583"/>
                  <a:pt x="3960110" y="6354583"/>
                </a:cubicBezTo>
                <a:cubicBezTo>
                  <a:pt x="3890748" y="6354583"/>
                  <a:pt x="3834518" y="6410813"/>
                  <a:pt x="3834517" y="6480175"/>
                </a:cubicBezTo>
                <a:lnTo>
                  <a:pt x="3725693" y="6480175"/>
                </a:lnTo>
                <a:cubicBezTo>
                  <a:pt x="3725693" y="6410813"/>
                  <a:pt x="3669463" y="6354583"/>
                  <a:pt x="3600100" y="6354583"/>
                </a:cubicBezTo>
                <a:cubicBezTo>
                  <a:pt x="3530738" y="6354583"/>
                  <a:pt x="3474508" y="6410813"/>
                  <a:pt x="3474507" y="6480175"/>
                </a:cubicBezTo>
                <a:lnTo>
                  <a:pt x="3365683" y="6480175"/>
                </a:lnTo>
                <a:cubicBezTo>
                  <a:pt x="3365683" y="6410813"/>
                  <a:pt x="3309453" y="6354583"/>
                  <a:pt x="3240090" y="6354583"/>
                </a:cubicBezTo>
                <a:cubicBezTo>
                  <a:pt x="3170727" y="6354583"/>
                  <a:pt x="3114498" y="6410813"/>
                  <a:pt x="3114497" y="6480175"/>
                </a:cubicBezTo>
                <a:lnTo>
                  <a:pt x="3005673" y="6480175"/>
                </a:lnTo>
                <a:cubicBezTo>
                  <a:pt x="3005673" y="6410813"/>
                  <a:pt x="2949443" y="6354583"/>
                  <a:pt x="2880080" y="6354583"/>
                </a:cubicBezTo>
                <a:cubicBezTo>
                  <a:pt x="2810717" y="6354583"/>
                  <a:pt x="2754488" y="6410813"/>
                  <a:pt x="2754487" y="6480175"/>
                </a:cubicBezTo>
                <a:lnTo>
                  <a:pt x="2645663" y="6480175"/>
                </a:lnTo>
                <a:cubicBezTo>
                  <a:pt x="2645663" y="6410813"/>
                  <a:pt x="2589433" y="6354583"/>
                  <a:pt x="2520070" y="6354583"/>
                </a:cubicBezTo>
                <a:cubicBezTo>
                  <a:pt x="2450707" y="6354583"/>
                  <a:pt x="2394478" y="6410813"/>
                  <a:pt x="2394477" y="6480175"/>
                </a:cubicBezTo>
                <a:lnTo>
                  <a:pt x="2285653" y="6480175"/>
                </a:lnTo>
                <a:cubicBezTo>
                  <a:pt x="2285653" y="6410813"/>
                  <a:pt x="2229423" y="6354583"/>
                  <a:pt x="2160060" y="6354583"/>
                </a:cubicBezTo>
                <a:cubicBezTo>
                  <a:pt x="2090697" y="6354583"/>
                  <a:pt x="2034468" y="6410813"/>
                  <a:pt x="2034467" y="6480175"/>
                </a:cubicBezTo>
                <a:lnTo>
                  <a:pt x="1925643" y="6480175"/>
                </a:lnTo>
                <a:cubicBezTo>
                  <a:pt x="1925643" y="6410813"/>
                  <a:pt x="1869413" y="6354583"/>
                  <a:pt x="1800050" y="6354583"/>
                </a:cubicBezTo>
                <a:cubicBezTo>
                  <a:pt x="1730687" y="6354583"/>
                  <a:pt x="1674458" y="6410813"/>
                  <a:pt x="1674457" y="6480175"/>
                </a:cubicBezTo>
                <a:lnTo>
                  <a:pt x="1565633" y="6480175"/>
                </a:lnTo>
                <a:cubicBezTo>
                  <a:pt x="1565633" y="6410813"/>
                  <a:pt x="1509403" y="6354583"/>
                  <a:pt x="1440040" y="6354583"/>
                </a:cubicBezTo>
                <a:cubicBezTo>
                  <a:pt x="1370677" y="6354583"/>
                  <a:pt x="1314448" y="6410813"/>
                  <a:pt x="1314447" y="6480175"/>
                </a:cubicBezTo>
                <a:lnTo>
                  <a:pt x="1205623" y="6480175"/>
                </a:lnTo>
                <a:cubicBezTo>
                  <a:pt x="1205623" y="6410813"/>
                  <a:pt x="1149393" y="6354583"/>
                  <a:pt x="1080030" y="6354583"/>
                </a:cubicBezTo>
                <a:cubicBezTo>
                  <a:pt x="1010667" y="6354583"/>
                  <a:pt x="954438" y="6410813"/>
                  <a:pt x="954437" y="6480175"/>
                </a:cubicBezTo>
                <a:lnTo>
                  <a:pt x="845613" y="6480175"/>
                </a:lnTo>
                <a:cubicBezTo>
                  <a:pt x="845613" y="6410813"/>
                  <a:pt x="789383" y="6354583"/>
                  <a:pt x="720020" y="6354583"/>
                </a:cubicBezTo>
                <a:cubicBezTo>
                  <a:pt x="650657" y="6354583"/>
                  <a:pt x="594428" y="6410813"/>
                  <a:pt x="594427" y="6480175"/>
                </a:cubicBezTo>
                <a:lnTo>
                  <a:pt x="485603" y="6480175"/>
                </a:lnTo>
                <a:cubicBezTo>
                  <a:pt x="485603" y="6410813"/>
                  <a:pt x="429373" y="6354583"/>
                  <a:pt x="360010" y="6354583"/>
                </a:cubicBezTo>
                <a:cubicBezTo>
                  <a:pt x="290647" y="6354583"/>
                  <a:pt x="234418" y="6410813"/>
                  <a:pt x="234417" y="6480175"/>
                </a:cubicBezTo>
                <a:lnTo>
                  <a:pt x="125593" y="6480175"/>
                </a:lnTo>
                <a:cubicBezTo>
                  <a:pt x="125592" y="6410813"/>
                  <a:pt x="69363" y="6354583"/>
                  <a:pt x="0" y="6354583"/>
                </a:cubicBezTo>
                <a:lnTo>
                  <a:pt x="0" y="6245234"/>
                </a:lnTo>
                <a:cubicBezTo>
                  <a:pt x="69363" y="6245234"/>
                  <a:pt x="125592" y="6189004"/>
                  <a:pt x="125592" y="6119641"/>
                </a:cubicBezTo>
                <a:cubicBezTo>
                  <a:pt x="125592" y="6050279"/>
                  <a:pt x="69363" y="5994049"/>
                  <a:pt x="0" y="5994048"/>
                </a:cubicBezTo>
                <a:lnTo>
                  <a:pt x="0" y="5885224"/>
                </a:lnTo>
                <a:cubicBezTo>
                  <a:pt x="69363" y="5885224"/>
                  <a:pt x="125592" y="5828994"/>
                  <a:pt x="125592" y="5759631"/>
                </a:cubicBezTo>
                <a:cubicBezTo>
                  <a:pt x="125592" y="5690269"/>
                  <a:pt x="69363" y="5634039"/>
                  <a:pt x="0" y="5634038"/>
                </a:cubicBezTo>
                <a:lnTo>
                  <a:pt x="0" y="5525214"/>
                </a:lnTo>
                <a:cubicBezTo>
                  <a:pt x="69363" y="5525214"/>
                  <a:pt x="125592" y="5468984"/>
                  <a:pt x="125592" y="5399621"/>
                </a:cubicBezTo>
                <a:cubicBezTo>
                  <a:pt x="125592" y="5330259"/>
                  <a:pt x="69363" y="5274029"/>
                  <a:pt x="0" y="5274028"/>
                </a:cubicBezTo>
                <a:lnTo>
                  <a:pt x="0" y="5165204"/>
                </a:lnTo>
                <a:cubicBezTo>
                  <a:pt x="69363" y="5165204"/>
                  <a:pt x="125592" y="5108974"/>
                  <a:pt x="125592" y="5039611"/>
                </a:cubicBezTo>
                <a:cubicBezTo>
                  <a:pt x="125592" y="4970249"/>
                  <a:pt x="69363" y="4914019"/>
                  <a:pt x="0" y="4914018"/>
                </a:cubicBezTo>
                <a:lnTo>
                  <a:pt x="0" y="4805194"/>
                </a:lnTo>
                <a:cubicBezTo>
                  <a:pt x="69363" y="4805194"/>
                  <a:pt x="125592" y="4748964"/>
                  <a:pt x="125592" y="4679601"/>
                </a:cubicBezTo>
                <a:cubicBezTo>
                  <a:pt x="125592" y="4610239"/>
                  <a:pt x="69363" y="4554009"/>
                  <a:pt x="0" y="4554008"/>
                </a:cubicBezTo>
                <a:lnTo>
                  <a:pt x="0" y="4445184"/>
                </a:lnTo>
                <a:cubicBezTo>
                  <a:pt x="69363" y="4445184"/>
                  <a:pt x="125592" y="4388954"/>
                  <a:pt x="125592" y="4319591"/>
                </a:cubicBezTo>
                <a:cubicBezTo>
                  <a:pt x="125592" y="4250229"/>
                  <a:pt x="69363" y="4193999"/>
                  <a:pt x="0" y="4193998"/>
                </a:cubicBezTo>
                <a:lnTo>
                  <a:pt x="0" y="4085174"/>
                </a:lnTo>
                <a:cubicBezTo>
                  <a:pt x="69363" y="4085174"/>
                  <a:pt x="125592" y="4028944"/>
                  <a:pt x="125592" y="3959581"/>
                </a:cubicBezTo>
                <a:cubicBezTo>
                  <a:pt x="125592" y="3890219"/>
                  <a:pt x="69363" y="3833989"/>
                  <a:pt x="0" y="3833988"/>
                </a:cubicBezTo>
                <a:lnTo>
                  <a:pt x="0" y="3725164"/>
                </a:lnTo>
                <a:cubicBezTo>
                  <a:pt x="69363" y="3725164"/>
                  <a:pt x="125592" y="3668934"/>
                  <a:pt x="125592" y="3599571"/>
                </a:cubicBezTo>
                <a:cubicBezTo>
                  <a:pt x="125592" y="3530209"/>
                  <a:pt x="69363" y="3473979"/>
                  <a:pt x="0" y="3473978"/>
                </a:cubicBezTo>
                <a:lnTo>
                  <a:pt x="0" y="3365154"/>
                </a:lnTo>
                <a:cubicBezTo>
                  <a:pt x="69363" y="3365154"/>
                  <a:pt x="125592" y="3308924"/>
                  <a:pt x="125592" y="3239561"/>
                </a:cubicBezTo>
                <a:cubicBezTo>
                  <a:pt x="125592" y="3170198"/>
                  <a:pt x="69363" y="3113969"/>
                  <a:pt x="0" y="3113968"/>
                </a:cubicBezTo>
                <a:lnTo>
                  <a:pt x="0" y="3005144"/>
                </a:lnTo>
                <a:cubicBezTo>
                  <a:pt x="69363" y="3005144"/>
                  <a:pt x="125592" y="2948914"/>
                  <a:pt x="125592" y="2879551"/>
                </a:cubicBezTo>
                <a:cubicBezTo>
                  <a:pt x="125592" y="2810188"/>
                  <a:pt x="69363" y="2753959"/>
                  <a:pt x="0" y="2753958"/>
                </a:cubicBezTo>
                <a:lnTo>
                  <a:pt x="0" y="2645134"/>
                </a:lnTo>
                <a:cubicBezTo>
                  <a:pt x="69363" y="2645134"/>
                  <a:pt x="125592" y="2588904"/>
                  <a:pt x="125592" y="2519541"/>
                </a:cubicBezTo>
                <a:cubicBezTo>
                  <a:pt x="125592" y="2450178"/>
                  <a:pt x="69363" y="2393949"/>
                  <a:pt x="0" y="2393948"/>
                </a:cubicBezTo>
                <a:lnTo>
                  <a:pt x="0" y="2285124"/>
                </a:lnTo>
                <a:cubicBezTo>
                  <a:pt x="69363" y="2285124"/>
                  <a:pt x="125592" y="2228894"/>
                  <a:pt x="125592" y="2159531"/>
                </a:cubicBezTo>
                <a:cubicBezTo>
                  <a:pt x="125592" y="2090168"/>
                  <a:pt x="69363" y="2033939"/>
                  <a:pt x="0" y="2033938"/>
                </a:cubicBezTo>
                <a:lnTo>
                  <a:pt x="0" y="1925114"/>
                </a:lnTo>
                <a:cubicBezTo>
                  <a:pt x="69363" y="1925114"/>
                  <a:pt x="125592" y="1868884"/>
                  <a:pt x="125592" y="1799521"/>
                </a:cubicBezTo>
                <a:cubicBezTo>
                  <a:pt x="125592" y="1730158"/>
                  <a:pt x="69363" y="1673929"/>
                  <a:pt x="0" y="1673928"/>
                </a:cubicBezTo>
                <a:lnTo>
                  <a:pt x="0" y="1565104"/>
                </a:lnTo>
                <a:cubicBezTo>
                  <a:pt x="69363" y="1565104"/>
                  <a:pt x="125592" y="1508874"/>
                  <a:pt x="125592" y="1439511"/>
                </a:cubicBezTo>
                <a:cubicBezTo>
                  <a:pt x="125592" y="1370148"/>
                  <a:pt x="69363" y="1313919"/>
                  <a:pt x="0" y="1313918"/>
                </a:cubicBezTo>
                <a:lnTo>
                  <a:pt x="0" y="1205094"/>
                </a:lnTo>
                <a:cubicBezTo>
                  <a:pt x="69363" y="1205094"/>
                  <a:pt x="125592" y="1148864"/>
                  <a:pt x="125592" y="1079501"/>
                </a:cubicBezTo>
                <a:cubicBezTo>
                  <a:pt x="125592" y="1010138"/>
                  <a:pt x="69363" y="953909"/>
                  <a:pt x="0" y="953908"/>
                </a:cubicBezTo>
                <a:lnTo>
                  <a:pt x="0" y="845084"/>
                </a:lnTo>
                <a:cubicBezTo>
                  <a:pt x="69363" y="845084"/>
                  <a:pt x="125592" y="788854"/>
                  <a:pt x="125592" y="719491"/>
                </a:cubicBezTo>
                <a:cubicBezTo>
                  <a:pt x="125592" y="650128"/>
                  <a:pt x="69363" y="593899"/>
                  <a:pt x="0" y="593898"/>
                </a:cubicBezTo>
                <a:lnTo>
                  <a:pt x="0" y="485074"/>
                </a:lnTo>
                <a:cubicBezTo>
                  <a:pt x="69363" y="485074"/>
                  <a:pt x="125592" y="428844"/>
                  <a:pt x="125592" y="359481"/>
                </a:cubicBezTo>
                <a:cubicBezTo>
                  <a:pt x="125592" y="290118"/>
                  <a:pt x="69363" y="233889"/>
                  <a:pt x="0" y="233888"/>
                </a:cubicBezTo>
                <a:lnTo>
                  <a:pt x="0" y="125594"/>
                </a:lnTo>
                <a:cubicBezTo>
                  <a:pt x="69363" y="125594"/>
                  <a:pt x="125593" y="69364"/>
                  <a:pt x="125593" y="1"/>
                </a:cubicBezTo>
                <a:cubicBezTo>
                  <a:pt x="125593" y="1"/>
                  <a:pt x="125593" y="0"/>
                  <a:pt x="125593" y="0"/>
                </a:cubicBezTo>
                <a:close/>
              </a:path>
            </a:pathLst>
          </a:custGeom>
          <a:gradFill rotWithShape="0">
            <a:gsLst>
              <a:gs pos="0">
                <a:srgbClr val="343434"/>
              </a:gs>
              <a:gs pos="100000">
                <a:srgbClr val="4b4b4b"/>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800" spc="-1" strike="noStrike">
                <a:solidFill>
                  <a:srgbClr val="ffffff"/>
                </a:solidFill>
                <a:latin typeface="Candara"/>
                <a:ea typeface="微软雅黑"/>
              </a:rPr>
              <a:t>文字</a:t>
            </a:r>
            <a:endParaRPr b="0" lang="en-US" sz="1800" spc="-1" strike="noStrike">
              <a:solidFill>
                <a:srgbClr val="000000"/>
              </a:solidFill>
              <a:latin typeface="Arial"/>
            </a:endParaRPr>
          </a:p>
        </p:txBody>
      </p:sp>
      <p:sp>
        <p:nvSpPr>
          <p:cNvPr id="1127" name="矩形 3"/>
          <p:cNvSpPr/>
          <p:nvPr/>
        </p:nvSpPr>
        <p:spPr>
          <a:xfrm>
            <a:off x="4681440" y="4313880"/>
            <a:ext cx="1439640" cy="1439640"/>
          </a:xfrm>
          <a:custGeom>
            <a:avLst/>
            <a:gdLst>
              <a:gd name="textAreaLeft" fmla="*/ 0 w 1439640"/>
              <a:gd name="textAreaRight" fmla="*/ 1440000 w 1439640"/>
              <a:gd name="textAreaTop" fmla="*/ 0 h 1439640"/>
              <a:gd name="textAreaBottom" fmla="*/ 1440000 h 1439640"/>
            </a:gdLst>
            <a:ahLst/>
            <a:rect l="textAreaLeft" t="textAreaTop" r="textAreaRight" b="textAreaBottom"/>
            <a:pathLst>
              <a:path w="6480000" h="6480175">
                <a:moveTo>
                  <a:pt x="125593" y="0"/>
                </a:moveTo>
                <a:lnTo>
                  <a:pt x="234417" y="0"/>
                </a:lnTo>
                <a:lnTo>
                  <a:pt x="234417" y="1"/>
                </a:lnTo>
                <a:cubicBezTo>
                  <a:pt x="234417" y="69364"/>
                  <a:pt x="290647" y="125594"/>
                  <a:pt x="360010" y="125594"/>
                </a:cubicBezTo>
                <a:cubicBezTo>
                  <a:pt x="429373" y="125594"/>
                  <a:pt x="485603" y="69364"/>
                  <a:pt x="485603" y="1"/>
                </a:cubicBezTo>
                <a:cubicBezTo>
                  <a:pt x="485603" y="1"/>
                  <a:pt x="485603" y="0"/>
                  <a:pt x="485603" y="0"/>
                </a:cubicBezTo>
                <a:lnTo>
                  <a:pt x="594427" y="0"/>
                </a:lnTo>
                <a:lnTo>
                  <a:pt x="594427" y="1"/>
                </a:lnTo>
                <a:cubicBezTo>
                  <a:pt x="594427" y="69364"/>
                  <a:pt x="650657" y="125594"/>
                  <a:pt x="720020" y="125594"/>
                </a:cubicBezTo>
                <a:cubicBezTo>
                  <a:pt x="789383" y="125594"/>
                  <a:pt x="845613" y="69364"/>
                  <a:pt x="845613" y="1"/>
                </a:cubicBezTo>
                <a:cubicBezTo>
                  <a:pt x="845613" y="1"/>
                  <a:pt x="845613" y="0"/>
                  <a:pt x="845613" y="0"/>
                </a:cubicBezTo>
                <a:lnTo>
                  <a:pt x="954437" y="0"/>
                </a:lnTo>
                <a:lnTo>
                  <a:pt x="954437" y="1"/>
                </a:lnTo>
                <a:cubicBezTo>
                  <a:pt x="954437" y="69364"/>
                  <a:pt x="1010667" y="125594"/>
                  <a:pt x="1080030" y="125594"/>
                </a:cubicBezTo>
                <a:cubicBezTo>
                  <a:pt x="1149393" y="125594"/>
                  <a:pt x="1205623" y="69364"/>
                  <a:pt x="1205623" y="1"/>
                </a:cubicBezTo>
                <a:cubicBezTo>
                  <a:pt x="1205623" y="1"/>
                  <a:pt x="1205623" y="0"/>
                  <a:pt x="1205623" y="0"/>
                </a:cubicBezTo>
                <a:lnTo>
                  <a:pt x="1314447" y="0"/>
                </a:lnTo>
                <a:lnTo>
                  <a:pt x="1314447" y="1"/>
                </a:lnTo>
                <a:cubicBezTo>
                  <a:pt x="1314447" y="69364"/>
                  <a:pt x="1370677" y="125594"/>
                  <a:pt x="1440040" y="125594"/>
                </a:cubicBezTo>
                <a:cubicBezTo>
                  <a:pt x="1509403" y="125594"/>
                  <a:pt x="1565633" y="69364"/>
                  <a:pt x="1565633" y="1"/>
                </a:cubicBezTo>
                <a:cubicBezTo>
                  <a:pt x="1565633" y="1"/>
                  <a:pt x="1565633" y="0"/>
                  <a:pt x="1565633" y="0"/>
                </a:cubicBezTo>
                <a:lnTo>
                  <a:pt x="1674457" y="0"/>
                </a:lnTo>
                <a:lnTo>
                  <a:pt x="1674457" y="1"/>
                </a:lnTo>
                <a:cubicBezTo>
                  <a:pt x="1674457" y="69364"/>
                  <a:pt x="1730687" y="125594"/>
                  <a:pt x="1800050" y="125594"/>
                </a:cubicBezTo>
                <a:cubicBezTo>
                  <a:pt x="1869413" y="125594"/>
                  <a:pt x="1925643" y="69364"/>
                  <a:pt x="1925643" y="1"/>
                </a:cubicBezTo>
                <a:cubicBezTo>
                  <a:pt x="1925643" y="1"/>
                  <a:pt x="1925643" y="0"/>
                  <a:pt x="1925643" y="0"/>
                </a:cubicBezTo>
                <a:lnTo>
                  <a:pt x="2034467" y="0"/>
                </a:lnTo>
                <a:lnTo>
                  <a:pt x="2034467" y="1"/>
                </a:lnTo>
                <a:cubicBezTo>
                  <a:pt x="2034467" y="69364"/>
                  <a:pt x="2090697" y="125594"/>
                  <a:pt x="2160060" y="125594"/>
                </a:cubicBezTo>
                <a:cubicBezTo>
                  <a:pt x="2229423" y="125594"/>
                  <a:pt x="2285653" y="69364"/>
                  <a:pt x="2285653" y="1"/>
                </a:cubicBezTo>
                <a:cubicBezTo>
                  <a:pt x="2285653" y="1"/>
                  <a:pt x="2285653" y="0"/>
                  <a:pt x="2285653" y="0"/>
                </a:cubicBezTo>
                <a:lnTo>
                  <a:pt x="2394477" y="0"/>
                </a:lnTo>
                <a:lnTo>
                  <a:pt x="2394477" y="1"/>
                </a:lnTo>
                <a:cubicBezTo>
                  <a:pt x="2394477" y="69364"/>
                  <a:pt x="2450707" y="125594"/>
                  <a:pt x="2520070" y="125594"/>
                </a:cubicBezTo>
                <a:cubicBezTo>
                  <a:pt x="2589433" y="125594"/>
                  <a:pt x="2645663" y="69364"/>
                  <a:pt x="2645663" y="1"/>
                </a:cubicBezTo>
                <a:cubicBezTo>
                  <a:pt x="2645663" y="1"/>
                  <a:pt x="2645663" y="0"/>
                  <a:pt x="2645663" y="0"/>
                </a:cubicBezTo>
                <a:lnTo>
                  <a:pt x="2754487" y="0"/>
                </a:lnTo>
                <a:lnTo>
                  <a:pt x="2754487" y="1"/>
                </a:lnTo>
                <a:cubicBezTo>
                  <a:pt x="2754487" y="69364"/>
                  <a:pt x="2810717" y="125594"/>
                  <a:pt x="2880080" y="125594"/>
                </a:cubicBezTo>
                <a:cubicBezTo>
                  <a:pt x="2949443" y="125594"/>
                  <a:pt x="3005673" y="69364"/>
                  <a:pt x="3005673" y="1"/>
                </a:cubicBezTo>
                <a:cubicBezTo>
                  <a:pt x="3005673" y="1"/>
                  <a:pt x="3005673" y="0"/>
                  <a:pt x="3005673" y="0"/>
                </a:cubicBezTo>
                <a:lnTo>
                  <a:pt x="3114497" y="0"/>
                </a:lnTo>
                <a:lnTo>
                  <a:pt x="3114497" y="1"/>
                </a:lnTo>
                <a:cubicBezTo>
                  <a:pt x="3114497" y="69364"/>
                  <a:pt x="3170727" y="125594"/>
                  <a:pt x="3240090" y="125594"/>
                </a:cubicBezTo>
                <a:cubicBezTo>
                  <a:pt x="3309453" y="125594"/>
                  <a:pt x="3365683" y="69364"/>
                  <a:pt x="3365683" y="1"/>
                </a:cubicBezTo>
                <a:cubicBezTo>
                  <a:pt x="3365683" y="1"/>
                  <a:pt x="3365683" y="0"/>
                  <a:pt x="3365683" y="0"/>
                </a:cubicBezTo>
                <a:lnTo>
                  <a:pt x="3474507" y="0"/>
                </a:lnTo>
                <a:lnTo>
                  <a:pt x="3474507" y="1"/>
                </a:lnTo>
                <a:cubicBezTo>
                  <a:pt x="3474507" y="69364"/>
                  <a:pt x="3530737" y="125594"/>
                  <a:pt x="3600100" y="125594"/>
                </a:cubicBezTo>
                <a:cubicBezTo>
                  <a:pt x="3669463" y="125594"/>
                  <a:pt x="3725693" y="69364"/>
                  <a:pt x="3725693" y="1"/>
                </a:cubicBezTo>
                <a:cubicBezTo>
                  <a:pt x="3725693" y="1"/>
                  <a:pt x="3725693" y="0"/>
                  <a:pt x="3725693" y="0"/>
                </a:cubicBezTo>
                <a:lnTo>
                  <a:pt x="3834517" y="0"/>
                </a:lnTo>
                <a:lnTo>
                  <a:pt x="3834517" y="1"/>
                </a:lnTo>
                <a:cubicBezTo>
                  <a:pt x="3834517" y="69364"/>
                  <a:pt x="3890747" y="125594"/>
                  <a:pt x="3960110" y="125594"/>
                </a:cubicBezTo>
                <a:cubicBezTo>
                  <a:pt x="4029473" y="125594"/>
                  <a:pt x="4085703" y="69364"/>
                  <a:pt x="4085703" y="1"/>
                </a:cubicBezTo>
                <a:cubicBezTo>
                  <a:pt x="4085703" y="1"/>
                  <a:pt x="4085703" y="0"/>
                  <a:pt x="4085703" y="0"/>
                </a:cubicBezTo>
                <a:lnTo>
                  <a:pt x="4194527" y="0"/>
                </a:lnTo>
                <a:lnTo>
                  <a:pt x="4194527" y="1"/>
                </a:lnTo>
                <a:cubicBezTo>
                  <a:pt x="4194527" y="69364"/>
                  <a:pt x="4250757" y="125594"/>
                  <a:pt x="4320120" y="125594"/>
                </a:cubicBezTo>
                <a:cubicBezTo>
                  <a:pt x="4389483" y="125594"/>
                  <a:pt x="4445713" y="69364"/>
                  <a:pt x="4445713" y="1"/>
                </a:cubicBezTo>
                <a:cubicBezTo>
                  <a:pt x="4445713" y="1"/>
                  <a:pt x="4445713" y="0"/>
                  <a:pt x="4445713" y="0"/>
                </a:cubicBezTo>
                <a:lnTo>
                  <a:pt x="4554537" y="0"/>
                </a:lnTo>
                <a:lnTo>
                  <a:pt x="4554537" y="1"/>
                </a:lnTo>
                <a:cubicBezTo>
                  <a:pt x="4554537" y="69364"/>
                  <a:pt x="4610767" y="125594"/>
                  <a:pt x="4680130" y="125594"/>
                </a:cubicBezTo>
                <a:cubicBezTo>
                  <a:pt x="4749493" y="125594"/>
                  <a:pt x="4805723" y="69364"/>
                  <a:pt x="4805723" y="1"/>
                </a:cubicBezTo>
                <a:cubicBezTo>
                  <a:pt x="4805723" y="1"/>
                  <a:pt x="4805723" y="0"/>
                  <a:pt x="4805723" y="0"/>
                </a:cubicBezTo>
                <a:lnTo>
                  <a:pt x="4914547" y="0"/>
                </a:lnTo>
                <a:lnTo>
                  <a:pt x="4914547" y="1"/>
                </a:lnTo>
                <a:cubicBezTo>
                  <a:pt x="4914547" y="69364"/>
                  <a:pt x="4970777" y="125594"/>
                  <a:pt x="5040140" y="125594"/>
                </a:cubicBezTo>
                <a:cubicBezTo>
                  <a:pt x="5109503" y="125594"/>
                  <a:pt x="5165733" y="69364"/>
                  <a:pt x="5165733" y="1"/>
                </a:cubicBezTo>
                <a:cubicBezTo>
                  <a:pt x="5165733" y="1"/>
                  <a:pt x="5165733" y="0"/>
                  <a:pt x="5165733" y="0"/>
                </a:cubicBezTo>
                <a:lnTo>
                  <a:pt x="5274557" y="0"/>
                </a:lnTo>
                <a:lnTo>
                  <a:pt x="5274557" y="1"/>
                </a:lnTo>
                <a:cubicBezTo>
                  <a:pt x="5274557" y="69364"/>
                  <a:pt x="5330787" y="125594"/>
                  <a:pt x="5400150" y="125594"/>
                </a:cubicBezTo>
                <a:cubicBezTo>
                  <a:pt x="5469513" y="125594"/>
                  <a:pt x="5525743" y="69364"/>
                  <a:pt x="5525743" y="1"/>
                </a:cubicBezTo>
                <a:cubicBezTo>
                  <a:pt x="5525743" y="1"/>
                  <a:pt x="5525743" y="0"/>
                  <a:pt x="5525743" y="0"/>
                </a:cubicBezTo>
                <a:lnTo>
                  <a:pt x="5634567" y="0"/>
                </a:lnTo>
                <a:lnTo>
                  <a:pt x="5634567" y="1"/>
                </a:lnTo>
                <a:cubicBezTo>
                  <a:pt x="5634567" y="69364"/>
                  <a:pt x="5690797" y="125594"/>
                  <a:pt x="5760160" y="125594"/>
                </a:cubicBezTo>
                <a:cubicBezTo>
                  <a:pt x="5829523" y="125594"/>
                  <a:pt x="5885753" y="69364"/>
                  <a:pt x="5885753" y="1"/>
                </a:cubicBezTo>
                <a:cubicBezTo>
                  <a:pt x="5885753" y="1"/>
                  <a:pt x="5885753" y="0"/>
                  <a:pt x="5885753" y="0"/>
                </a:cubicBezTo>
                <a:lnTo>
                  <a:pt x="5994577" y="0"/>
                </a:lnTo>
                <a:lnTo>
                  <a:pt x="5994577" y="1"/>
                </a:lnTo>
                <a:cubicBezTo>
                  <a:pt x="5994577" y="69364"/>
                  <a:pt x="6050807" y="125594"/>
                  <a:pt x="6120170" y="125594"/>
                </a:cubicBezTo>
                <a:cubicBezTo>
                  <a:pt x="6189533" y="125594"/>
                  <a:pt x="6245763" y="69364"/>
                  <a:pt x="6245763" y="1"/>
                </a:cubicBezTo>
                <a:cubicBezTo>
                  <a:pt x="6245763" y="1"/>
                  <a:pt x="6245763" y="0"/>
                  <a:pt x="6245763" y="0"/>
                </a:cubicBezTo>
                <a:lnTo>
                  <a:pt x="6354587" y="0"/>
                </a:lnTo>
                <a:lnTo>
                  <a:pt x="6354587" y="1"/>
                </a:lnTo>
                <a:cubicBezTo>
                  <a:pt x="6354587" y="69304"/>
                  <a:pt x="6410720" y="125497"/>
                  <a:pt x="6480000" y="125558"/>
                </a:cubicBezTo>
                <a:lnTo>
                  <a:pt x="6480000" y="233923"/>
                </a:lnTo>
                <a:cubicBezTo>
                  <a:pt x="6410717" y="233982"/>
                  <a:pt x="6354581" y="290176"/>
                  <a:pt x="6354581" y="359481"/>
                </a:cubicBezTo>
                <a:cubicBezTo>
                  <a:pt x="6354581" y="428786"/>
                  <a:pt x="6410717" y="484980"/>
                  <a:pt x="6480000" y="485039"/>
                </a:cubicBezTo>
                <a:lnTo>
                  <a:pt x="6480000" y="593933"/>
                </a:lnTo>
                <a:cubicBezTo>
                  <a:pt x="6410717" y="593992"/>
                  <a:pt x="6354581" y="650186"/>
                  <a:pt x="6354581" y="719491"/>
                </a:cubicBezTo>
                <a:cubicBezTo>
                  <a:pt x="6354581" y="788796"/>
                  <a:pt x="6410717" y="844990"/>
                  <a:pt x="6480000" y="845049"/>
                </a:cubicBezTo>
                <a:lnTo>
                  <a:pt x="6480000" y="953943"/>
                </a:lnTo>
                <a:cubicBezTo>
                  <a:pt x="6410717" y="954002"/>
                  <a:pt x="6354581" y="1010196"/>
                  <a:pt x="6354581" y="1079501"/>
                </a:cubicBezTo>
                <a:cubicBezTo>
                  <a:pt x="6354581" y="1148806"/>
                  <a:pt x="6410717" y="1205000"/>
                  <a:pt x="6480000" y="1205059"/>
                </a:cubicBezTo>
                <a:lnTo>
                  <a:pt x="6480000" y="1313953"/>
                </a:lnTo>
                <a:cubicBezTo>
                  <a:pt x="6410717" y="1314012"/>
                  <a:pt x="6354581" y="1370206"/>
                  <a:pt x="6354581" y="1439511"/>
                </a:cubicBezTo>
                <a:cubicBezTo>
                  <a:pt x="6354581" y="1508816"/>
                  <a:pt x="6410717" y="1565010"/>
                  <a:pt x="6480000" y="1565069"/>
                </a:cubicBezTo>
                <a:lnTo>
                  <a:pt x="6480000" y="1673963"/>
                </a:lnTo>
                <a:cubicBezTo>
                  <a:pt x="6410717" y="1674022"/>
                  <a:pt x="6354581" y="1730216"/>
                  <a:pt x="6354581" y="1799521"/>
                </a:cubicBezTo>
                <a:cubicBezTo>
                  <a:pt x="6354581" y="1868826"/>
                  <a:pt x="6410717" y="1925020"/>
                  <a:pt x="6480000" y="1925079"/>
                </a:cubicBezTo>
                <a:lnTo>
                  <a:pt x="6480000" y="2033973"/>
                </a:lnTo>
                <a:cubicBezTo>
                  <a:pt x="6410717" y="2034032"/>
                  <a:pt x="6354581" y="2090226"/>
                  <a:pt x="6354581" y="2159531"/>
                </a:cubicBezTo>
                <a:cubicBezTo>
                  <a:pt x="6354581" y="2228836"/>
                  <a:pt x="6410717" y="2285030"/>
                  <a:pt x="6480000" y="2285089"/>
                </a:cubicBezTo>
                <a:lnTo>
                  <a:pt x="6480000" y="2393983"/>
                </a:lnTo>
                <a:cubicBezTo>
                  <a:pt x="6410717" y="2394042"/>
                  <a:pt x="6354581" y="2450236"/>
                  <a:pt x="6354581" y="2519541"/>
                </a:cubicBezTo>
                <a:cubicBezTo>
                  <a:pt x="6354581" y="2588846"/>
                  <a:pt x="6410717" y="2645040"/>
                  <a:pt x="6480000" y="2645099"/>
                </a:cubicBezTo>
                <a:lnTo>
                  <a:pt x="6480000" y="2753993"/>
                </a:lnTo>
                <a:cubicBezTo>
                  <a:pt x="6410717" y="2754052"/>
                  <a:pt x="6354581" y="2810246"/>
                  <a:pt x="6354581" y="2879551"/>
                </a:cubicBezTo>
                <a:cubicBezTo>
                  <a:pt x="6354581" y="2948856"/>
                  <a:pt x="6410717" y="3005050"/>
                  <a:pt x="6480000" y="3005109"/>
                </a:cubicBezTo>
                <a:lnTo>
                  <a:pt x="6480000" y="3114003"/>
                </a:lnTo>
                <a:cubicBezTo>
                  <a:pt x="6410717" y="3114062"/>
                  <a:pt x="6354581" y="3170256"/>
                  <a:pt x="6354581" y="3239561"/>
                </a:cubicBezTo>
                <a:cubicBezTo>
                  <a:pt x="6354581" y="3308866"/>
                  <a:pt x="6410717" y="3365060"/>
                  <a:pt x="6480000" y="3365119"/>
                </a:cubicBezTo>
                <a:lnTo>
                  <a:pt x="6480000" y="3474013"/>
                </a:lnTo>
                <a:cubicBezTo>
                  <a:pt x="6410717" y="3474072"/>
                  <a:pt x="6354581" y="3530266"/>
                  <a:pt x="6354581" y="3599571"/>
                </a:cubicBezTo>
                <a:cubicBezTo>
                  <a:pt x="6354581" y="3668876"/>
                  <a:pt x="6410717" y="3725070"/>
                  <a:pt x="6480000" y="3725129"/>
                </a:cubicBezTo>
                <a:lnTo>
                  <a:pt x="6480000" y="3834023"/>
                </a:lnTo>
                <a:cubicBezTo>
                  <a:pt x="6410717" y="3834082"/>
                  <a:pt x="6354581" y="3890276"/>
                  <a:pt x="6354581" y="3959581"/>
                </a:cubicBezTo>
                <a:cubicBezTo>
                  <a:pt x="6354581" y="4028886"/>
                  <a:pt x="6410717" y="4085080"/>
                  <a:pt x="6480000" y="4085139"/>
                </a:cubicBezTo>
                <a:lnTo>
                  <a:pt x="6480000" y="4194033"/>
                </a:lnTo>
                <a:cubicBezTo>
                  <a:pt x="6410717" y="4194092"/>
                  <a:pt x="6354581" y="4250286"/>
                  <a:pt x="6354581" y="4319591"/>
                </a:cubicBezTo>
                <a:cubicBezTo>
                  <a:pt x="6354581" y="4388896"/>
                  <a:pt x="6410717" y="4445090"/>
                  <a:pt x="6480000" y="4445149"/>
                </a:cubicBezTo>
                <a:lnTo>
                  <a:pt x="6480000" y="4554043"/>
                </a:lnTo>
                <a:cubicBezTo>
                  <a:pt x="6410717" y="4554102"/>
                  <a:pt x="6354581" y="4610296"/>
                  <a:pt x="6354581" y="4679601"/>
                </a:cubicBezTo>
                <a:cubicBezTo>
                  <a:pt x="6354581" y="4748906"/>
                  <a:pt x="6410717" y="4805100"/>
                  <a:pt x="6480000" y="4805159"/>
                </a:cubicBezTo>
                <a:lnTo>
                  <a:pt x="6480000" y="4914053"/>
                </a:lnTo>
                <a:cubicBezTo>
                  <a:pt x="6410717" y="4914112"/>
                  <a:pt x="6354581" y="4970306"/>
                  <a:pt x="6354581" y="5039611"/>
                </a:cubicBezTo>
                <a:cubicBezTo>
                  <a:pt x="6354581" y="5108916"/>
                  <a:pt x="6410717" y="5165110"/>
                  <a:pt x="6480000" y="5165169"/>
                </a:cubicBezTo>
                <a:lnTo>
                  <a:pt x="6480000" y="5274063"/>
                </a:lnTo>
                <a:cubicBezTo>
                  <a:pt x="6410717" y="5274122"/>
                  <a:pt x="6354581" y="5330316"/>
                  <a:pt x="6354581" y="5399621"/>
                </a:cubicBezTo>
                <a:cubicBezTo>
                  <a:pt x="6354581" y="5468926"/>
                  <a:pt x="6410717" y="5525120"/>
                  <a:pt x="6480000" y="5525179"/>
                </a:cubicBezTo>
                <a:lnTo>
                  <a:pt x="6480000" y="5634073"/>
                </a:lnTo>
                <a:cubicBezTo>
                  <a:pt x="6410717" y="5634132"/>
                  <a:pt x="6354581" y="5690326"/>
                  <a:pt x="6354581" y="5759631"/>
                </a:cubicBezTo>
                <a:cubicBezTo>
                  <a:pt x="6354581" y="5828936"/>
                  <a:pt x="6410717" y="5885130"/>
                  <a:pt x="6480000" y="5885189"/>
                </a:cubicBezTo>
                <a:lnTo>
                  <a:pt x="6480000" y="5994083"/>
                </a:lnTo>
                <a:cubicBezTo>
                  <a:pt x="6410717" y="5994142"/>
                  <a:pt x="6354581" y="6050336"/>
                  <a:pt x="6354581" y="6119641"/>
                </a:cubicBezTo>
                <a:cubicBezTo>
                  <a:pt x="6354581" y="6188946"/>
                  <a:pt x="6410717" y="6245140"/>
                  <a:pt x="6480000" y="6245199"/>
                </a:cubicBezTo>
                <a:lnTo>
                  <a:pt x="6480000" y="6354620"/>
                </a:lnTo>
                <a:cubicBezTo>
                  <a:pt x="6410720" y="6354681"/>
                  <a:pt x="6354588" y="6410873"/>
                  <a:pt x="6354587" y="6480175"/>
                </a:cubicBezTo>
                <a:lnTo>
                  <a:pt x="6245763" y="6480175"/>
                </a:lnTo>
                <a:cubicBezTo>
                  <a:pt x="6245763" y="6410813"/>
                  <a:pt x="6189533" y="6354583"/>
                  <a:pt x="6120170" y="6354583"/>
                </a:cubicBezTo>
                <a:cubicBezTo>
                  <a:pt x="6050808" y="6354583"/>
                  <a:pt x="5994578" y="6410813"/>
                  <a:pt x="5994577" y="6480175"/>
                </a:cubicBezTo>
                <a:lnTo>
                  <a:pt x="5885753" y="6480175"/>
                </a:lnTo>
                <a:cubicBezTo>
                  <a:pt x="5885753" y="6410813"/>
                  <a:pt x="5829523" y="6354583"/>
                  <a:pt x="5760160" y="6354583"/>
                </a:cubicBezTo>
                <a:cubicBezTo>
                  <a:pt x="5690798" y="6354583"/>
                  <a:pt x="5634568" y="6410813"/>
                  <a:pt x="5634567" y="6480175"/>
                </a:cubicBezTo>
                <a:lnTo>
                  <a:pt x="5525743" y="6480175"/>
                </a:lnTo>
                <a:cubicBezTo>
                  <a:pt x="5525743" y="6410813"/>
                  <a:pt x="5469513" y="6354583"/>
                  <a:pt x="5400150" y="6354583"/>
                </a:cubicBezTo>
                <a:cubicBezTo>
                  <a:pt x="5330788" y="6354583"/>
                  <a:pt x="5274558" y="6410813"/>
                  <a:pt x="5274557" y="6480175"/>
                </a:cubicBezTo>
                <a:lnTo>
                  <a:pt x="5165733" y="6480175"/>
                </a:lnTo>
                <a:cubicBezTo>
                  <a:pt x="5165733" y="6410813"/>
                  <a:pt x="5109503" y="6354583"/>
                  <a:pt x="5040140" y="6354583"/>
                </a:cubicBezTo>
                <a:cubicBezTo>
                  <a:pt x="4970778" y="6354583"/>
                  <a:pt x="4914548" y="6410813"/>
                  <a:pt x="4914547" y="6480175"/>
                </a:cubicBezTo>
                <a:lnTo>
                  <a:pt x="4805723" y="6480175"/>
                </a:lnTo>
                <a:cubicBezTo>
                  <a:pt x="4805723" y="6410813"/>
                  <a:pt x="4749493" y="6354583"/>
                  <a:pt x="4680130" y="6354583"/>
                </a:cubicBezTo>
                <a:cubicBezTo>
                  <a:pt x="4610768" y="6354583"/>
                  <a:pt x="4554538" y="6410813"/>
                  <a:pt x="4554537" y="6480175"/>
                </a:cubicBezTo>
                <a:lnTo>
                  <a:pt x="4445713" y="6480175"/>
                </a:lnTo>
                <a:cubicBezTo>
                  <a:pt x="4445713" y="6410813"/>
                  <a:pt x="4389483" y="6354583"/>
                  <a:pt x="4320120" y="6354583"/>
                </a:cubicBezTo>
                <a:cubicBezTo>
                  <a:pt x="4250758" y="6354583"/>
                  <a:pt x="4194528" y="6410813"/>
                  <a:pt x="4194527" y="6480175"/>
                </a:cubicBezTo>
                <a:lnTo>
                  <a:pt x="4085703" y="6480175"/>
                </a:lnTo>
                <a:cubicBezTo>
                  <a:pt x="4085703" y="6410813"/>
                  <a:pt x="4029473" y="6354583"/>
                  <a:pt x="3960110" y="6354583"/>
                </a:cubicBezTo>
                <a:cubicBezTo>
                  <a:pt x="3890748" y="6354583"/>
                  <a:pt x="3834518" y="6410813"/>
                  <a:pt x="3834517" y="6480175"/>
                </a:cubicBezTo>
                <a:lnTo>
                  <a:pt x="3725693" y="6480175"/>
                </a:lnTo>
                <a:cubicBezTo>
                  <a:pt x="3725693" y="6410813"/>
                  <a:pt x="3669463" y="6354583"/>
                  <a:pt x="3600100" y="6354583"/>
                </a:cubicBezTo>
                <a:cubicBezTo>
                  <a:pt x="3530738" y="6354583"/>
                  <a:pt x="3474508" y="6410813"/>
                  <a:pt x="3474507" y="6480175"/>
                </a:cubicBezTo>
                <a:lnTo>
                  <a:pt x="3365683" y="6480175"/>
                </a:lnTo>
                <a:cubicBezTo>
                  <a:pt x="3365683" y="6410813"/>
                  <a:pt x="3309453" y="6354583"/>
                  <a:pt x="3240090" y="6354583"/>
                </a:cubicBezTo>
                <a:cubicBezTo>
                  <a:pt x="3170727" y="6354583"/>
                  <a:pt x="3114498" y="6410813"/>
                  <a:pt x="3114497" y="6480175"/>
                </a:cubicBezTo>
                <a:lnTo>
                  <a:pt x="3005673" y="6480175"/>
                </a:lnTo>
                <a:cubicBezTo>
                  <a:pt x="3005673" y="6410813"/>
                  <a:pt x="2949443" y="6354583"/>
                  <a:pt x="2880080" y="6354583"/>
                </a:cubicBezTo>
                <a:cubicBezTo>
                  <a:pt x="2810717" y="6354583"/>
                  <a:pt x="2754488" y="6410813"/>
                  <a:pt x="2754487" y="6480175"/>
                </a:cubicBezTo>
                <a:lnTo>
                  <a:pt x="2645663" y="6480175"/>
                </a:lnTo>
                <a:cubicBezTo>
                  <a:pt x="2645663" y="6410813"/>
                  <a:pt x="2589433" y="6354583"/>
                  <a:pt x="2520070" y="6354583"/>
                </a:cubicBezTo>
                <a:cubicBezTo>
                  <a:pt x="2450707" y="6354583"/>
                  <a:pt x="2394478" y="6410813"/>
                  <a:pt x="2394477" y="6480175"/>
                </a:cubicBezTo>
                <a:lnTo>
                  <a:pt x="2285653" y="6480175"/>
                </a:lnTo>
                <a:cubicBezTo>
                  <a:pt x="2285653" y="6410813"/>
                  <a:pt x="2229423" y="6354583"/>
                  <a:pt x="2160060" y="6354583"/>
                </a:cubicBezTo>
                <a:cubicBezTo>
                  <a:pt x="2090697" y="6354583"/>
                  <a:pt x="2034468" y="6410813"/>
                  <a:pt x="2034467" y="6480175"/>
                </a:cubicBezTo>
                <a:lnTo>
                  <a:pt x="1925643" y="6480175"/>
                </a:lnTo>
                <a:cubicBezTo>
                  <a:pt x="1925643" y="6410813"/>
                  <a:pt x="1869413" y="6354583"/>
                  <a:pt x="1800050" y="6354583"/>
                </a:cubicBezTo>
                <a:cubicBezTo>
                  <a:pt x="1730687" y="6354583"/>
                  <a:pt x="1674458" y="6410813"/>
                  <a:pt x="1674457" y="6480175"/>
                </a:cubicBezTo>
                <a:lnTo>
                  <a:pt x="1565633" y="6480175"/>
                </a:lnTo>
                <a:cubicBezTo>
                  <a:pt x="1565633" y="6410813"/>
                  <a:pt x="1509403" y="6354583"/>
                  <a:pt x="1440040" y="6354583"/>
                </a:cubicBezTo>
                <a:cubicBezTo>
                  <a:pt x="1370677" y="6354583"/>
                  <a:pt x="1314448" y="6410813"/>
                  <a:pt x="1314447" y="6480175"/>
                </a:cubicBezTo>
                <a:lnTo>
                  <a:pt x="1205623" y="6480175"/>
                </a:lnTo>
                <a:cubicBezTo>
                  <a:pt x="1205623" y="6410813"/>
                  <a:pt x="1149393" y="6354583"/>
                  <a:pt x="1080030" y="6354583"/>
                </a:cubicBezTo>
                <a:cubicBezTo>
                  <a:pt x="1010667" y="6354583"/>
                  <a:pt x="954438" y="6410813"/>
                  <a:pt x="954437" y="6480175"/>
                </a:cubicBezTo>
                <a:lnTo>
                  <a:pt x="845613" y="6480175"/>
                </a:lnTo>
                <a:cubicBezTo>
                  <a:pt x="845613" y="6410813"/>
                  <a:pt x="789383" y="6354583"/>
                  <a:pt x="720020" y="6354583"/>
                </a:cubicBezTo>
                <a:cubicBezTo>
                  <a:pt x="650657" y="6354583"/>
                  <a:pt x="594428" y="6410813"/>
                  <a:pt x="594427" y="6480175"/>
                </a:cubicBezTo>
                <a:lnTo>
                  <a:pt x="485603" y="6480175"/>
                </a:lnTo>
                <a:cubicBezTo>
                  <a:pt x="485603" y="6410813"/>
                  <a:pt x="429373" y="6354583"/>
                  <a:pt x="360010" y="6354583"/>
                </a:cubicBezTo>
                <a:cubicBezTo>
                  <a:pt x="290647" y="6354583"/>
                  <a:pt x="234418" y="6410813"/>
                  <a:pt x="234417" y="6480175"/>
                </a:cubicBezTo>
                <a:lnTo>
                  <a:pt x="125593" y="6480175"/>
                </a:lnTo>
                <a:cubicBezTo>
                  <a:pt x="125592" y="6410813"/>
                  <a:pt x="69363" y="6354583"/>
                  <a:pt x="0" y="6354583"/>
                </a:cubicBezTo>
                <a:lnTo>
                  <a:pt x="0" y="6245234"/>
                </a:lnTo>
                <a:cubicBezTo>
                  <a:pt x="69363" y="6245234"/>
                  <a:pt x="125592" y="6189004"/>
                  <a:pt x="125592" y="6119641"/>
                </a:cubicBezTo>
                <a:cubicBezTo>
                  <a:pt x="125592" y="6050279"/>
                  <a:pt x="69363" y="5994049"/>
                  <a:pt x="0" y="5994048"/>
                </a:cubicBezTo>
                <a:lnTo>
                  <a:pt x="0" y="5885224"/>
                </a:lnTo>
                <a:cubicBezTo>
                  <a:pt x="69363" y="5885224"/>
                  <a:pt x="125592" y="5828994"/>
                  <a:pt x="125592" y="5759631"/>
                </a:cubicBezTo>
                <a:cubicBezTo>
                  <a:pt x="125592" y="5690269"/>
                  <a:pt x="69363" y="5634039"/>
                  <a:pt x="0" y="5634038"/>
                </a:cubicBezTo>
                <a:lnTo>
                  <a:pt x="0" y="5525214"/>
                </a:lnTo>
                <a:cubicBezTo>
                  <a:pt x="69363" y="5525214"/>
                  <a:pt x="125592" y="5468984"/>
                  <a:pt x="125592" y="5399621"/>
                </a:cubicBezTo>
                <a:cubicBezTo>
                  <a:pt x="125592" y="5330259"/>
                  <a:pt x="69363" y="5274029"/>
                  <a:pt x="0" y="5274028"/>
                </a:cubicBezTo>
                <a:lnTo>
                  <a:pt x="0" y="5165204"/>
                </a:lnTo>
                <a:cubicBezTo>
                  <a:pt x="69363" y="5165204"/>
                  <a:pt x="125592" y="5108974"/>
                  <a:pt x="125592" y="5039611"/>
                </a:cubicBezTo>
                <a:cubicBezTo>
                  <a:pt x="125592" y="4970249"/>
                  <a:pt x="69363" y="4914019"/>
                  <a:pt x="0" y="4914018"/>
                </a:cubicBezTo>
                <a:lnTo>
                  <a:pt x="0" y="4805194"/>
                </a:lnTo>
                <a:cubicBezTo>
                  <a:pt x="69363" y="4805194"/>
                  <a:pt x="125592" y="4748964"/>
                  <a:pt x="125592" y="4679601"/>
                </a:cubicBezTo>
                <a:cubicBezTo>
                  <a:pt x="125592" y="4610239"/>
                  <a:pt x="69363" y="4554009"/>
                  <a:pt x="0" y="4554008"/>
                </a:cubicBezTo>
                <a:lnTo>
                  <a:pt x="0" y="4445184"/>
                </a:lnTo>
                <a:cubicBezTo>
                  <a:pt x="69363" y="4445184"/>
                  <a:pt x="125592" y="4388954"/>
                  <a:pt x="125592" y="4319591"/>
                </a:cubicBezTo>
                <a:cubicBezTo>
                  <a:pt x="125592" y="4250229"/>
                  <a:pt x="69363" y="4193999"/>
                  <a:pt x="0" y="4193998"/>
                </a:cubicBezTo>
                <a:lnTo>
                  <a:pt x="0" y="4085174"/>
                </a:lnTo>
                <a:cubicBezTo>
                  <a:pt x="69363" y="4085174"/>
                  <a:pt x="125592" y="4028944"/>
                  <a:pt x="125592" y="3959581"/>
                </a:cubicBezTo>
                <a:cubicBezTo>
                  <a:pt x="125592" y="3890219"/>
                  <a:pt x="69363" y="3833989"/>
                  <a:pt x="0" y="3833988"/>
                </a:cubicBezTo>
                <a:lnTo>
                  <a:pt x="0" y="3725164"/>
                </a:lnTo>
                <a:cubicBezTo>
                  <a:pt x="69363" y="3725164"/>
                  <a:pt x="125592" y="3668934"/>
                  <a:pt x="125592" y="3599571"/>
                </a:cubicBezTo>
                <a:cubicBezTo>
                  <a:pt x="125592" y="3530209"/>
                  <a:pt x="69363" y="3473979"/>
                  <a:pt x="0" y="3473978"/>
                </a:cubicBezTo>
                <a:lnTo>
                  <a:pt x="0" y="3365154"/>
                </a:lnTo>
                <a:cubicBezTo>
                  <a:pt x="69363" y="3365154"/>
                  <a:pt x="125592" y="3308924"/>
                  <a:pt x="125592" y="3239561"/>
                </a:cubicBezTo>
                <a:cubicBezTo>
                  <a:pt x="125592" y="3170198"/>
                  <a:pt x="69363" y="3113969"/>
                  <a:pt x="0" y="3113968"/>
                </a:cubicBezTo>
                <a:lnTo>
                  <a:pt x="0" y="3005144"/>
                </a:lnTo>
                <a:cubicBezTo>
                  <a:pt x="69363" y="3005144"/>
                  <a:pt x="125592" y="2948914"/>
                  <a:pt x="125592" y="2879551"/>
                </a:cubicBezTo>
                <a:cubicBezTo>
                  <a:pt x="125592" y="2810188"/>
                  <a:pt x="69363" y="2753959"/>
                  <a:pt x="0" y="2753958"/>
                </a:cubicBezTo>
                <a:lnTo>
                  <a:pt x="0" y="2645134"/>
                </a:lnTo>
                <a:cubicBezTo>
                  <a:pt x="69363" y="2645134"/>
                  <a:pt x="125592" y="2588904"/>
                  <a:pt x="125592" y="2519541"/>
                </a:cubicBezTo>
                <a:cubicBezTo>
                  <a:pt x="125592" y="2450178"/>
                  <a:pt x="69363" y="2393949"/>
                  <a:pt x="0" y="2393948"/>
                </a:cubicBezTo>
                <a:lnTo>
                  <a:pt x="0" y="2285124"/>
                </a:lnTo>
                <a:cubicBezTo>
                  <a:pt x="69363" y="2285124"/>
                  <a:pt x="125592" y="2228894"/>
                  <a:pt x="125592" y="2159531"/>
                </a:cubicBezTo>
                <a:cubicBezTo>
                  <a:pt x="125592" y="2090168"/>
                  <a:pt x="69363" y="2033939"/>
                  <a:pt x="0" y="2033938"/>
                </a:cubicBezTo>
                <a:lnTo>
                  <a:pt x="0" y="1925114"/>
                </a:lnTo>
                <a:cubicBezTo>
                  <a:pt x="69363" y="1925114"/>
                  <a:pt x="125592" y="1868884"/>
                  <a:pt x="125592" y="1799521"/>
                </a:cubicBezTo>
                <a:cubicBezTo>
                  <a:pt x="125592" y="1730158"/>
                  <a:pt x="69363" y="1673929"/>
                  <a:pt x="0" y="1673928"/>
                </a:cubicBezTo>
                <a:lnTo>
                  <a:pt x="0" y="1565104"/>
                </a:lnTo>
                <a:cubicBezTo>
                  <a:pt x="69363" y="1565104"/>
                  <a:pt x="125592" y="1508874"/>
                  <a:pt x="125592" y="1439511"/>
                </a:cubicBezTo>
                <a:cubicBezTo>
                  <a:pt x="125592" y="1370148"/>
                  <a:pt x="69363" y="1313919"/>
                  <a:pt x="0" y="1313918"/>
                </a:cubicBezTo>
                <a:lnTo>
                  <a:pt x="0" y="1205094"/>
                </a:lnTo>
                <a:cubicBezTo>
                  <a:pt x="69363" y="1205094"/>
                  <a:pt x="125592" y="1148864"/>
                  <a:pt x="125592" y="1079501"/>
                </a:cubicBezTo>
                <a:cubicBezTo>
                  <a:pt x="125592" y="1010138"/>
                  <a:pt x="69363" y="953909"/>
                  <a:pt x="0" y="953908"/>
                </a:cubicBezTo>
                <a:lnTo>
                  <a:pt x="0" y="845084"/>
                </a:lnTo>
                <a:cubicBezTo>
                  <a:pt x="69363" y="845084"/>
                  <a:pt x="125592" y="788854"/>
                  <a:pt x="125592" y="719491"/>
                </a:cubicBezTo>
                <a:cubicBezTo>
                  <a:pt x="125592" y="650128"/>
                  <a:pt x="69363" y="593899"/>
                  <a:pt x="0" y="593898"/>
                </a:cubicBezTo>
                <a:lnTo>
                  <a:pt x="0" y="485074"/>
                </a:lnTo>
                <a:cubicBezTo>
                  <a:pt x="69363" y="485074"/>
                  <a:pt x="125592" y="428844"/>
                  <a:pt x="125592" y="359481"/>
                </a:cubicBezTo>
                <a:cubicBezTo>
                  <a:pt x="125592" y="290118"/>
                  <a:pt x="69363" y="233889"/>
                  <a:pt x="0" y="233888"/>
                </a:cubicBezTo>
                <a:lnTo>
                  <a:pt x="0" y="125594"/>
                </a:lnTo>
                <a:cubicBezTo>
                  <a:pt x="69363" y="125594"/>
                  <a:pt x="125593" y="69364"/>
                  <a:pt x="125593" y="1"/>
                </a:cubicBezTo>
                <a:cubicBezTo>
                  <a:pt x="125593" y="1"/>
                  <a:pt x="125593" y="0"/>
                  <a:pt x="125593" y="0"/>
                </a:cubicBezTo>
                <a:close/>
              </a:path>
            </a:pathLst>
          </a:custGeom>
          <a:gradFill rotWithShape="0">
            <a:gsLst>
              <a:gs pos="0">
                <a:srgbClr val="343434"/>
              </a:gs>
              <a:gs pos="100000">
                <a:srgbClr val="4b4b4b"/>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zh-CN" sz="1800" spc="-1" strike="noStrike">
                <a:solidFill>
                  <a:srgbClr val="ffffff"/>
                </a:solidFill>
                <a:latin typeface="Candara"/>
                <a:ea typeface="微软雅黑"/>
              </a:rPr>
              <a:t>文字</a:t>
            </a:r>
            <a:endParaRPr b="0" lang="en-US" sz="1800" spc="-1" strike="noStrike">
              <a:solidFill>
                <a:srgbClr val="000000"/>
              </a:solidFill>
              <a:latin typeface="Arial"/>
            </a:endParaRPr>
          </a:p>
        </p:txBody>
      </p:sp>
      <p:cxnSp>
        <p:nvCxnSpPr>
          <p:cNvPr id="1128" name="肘形连接符 20"/>
          <p:cNvCxnSpPr>
            <a:stCxn id="1121" idx="2"/>
            <a:endCxn id="1118" idx="0"/>
          </p:cNvCxnSpPr>
          <p:nvPr/>
        </p:nvCxnSpPr>
        <p:spPr>
          <a:xfrm flipV="1" rot="10800000">
            <a:off x="5400360" y="3240000"/>
            <a:ext cx="2160360" cy="1079640"/>
          </a:xfrm>
          <a:prstGeom prst="bentConnector2">
            <a:avLst/>
          </a:prstGeom>
          <a:ln w="12700">
            <a:solidFill>
              <a:srgbClr val="000000">
                <a:lumMod val="75000"/>
                <a:lumOff val="25000"/>
              </a:srgbClr>
            </a:solidFill>
            <a:prstDash val="dash"/>
            <a:round/>
            <a:tailEnd len="lg" type="triangle" w="lg"/>
          </a:ln>
        </p:spPr>
      </p:cxnSp>
      <p:cxnSp>
        <p:nvCxnSpPr>
          <p:cNvPr id="1129" name="肘形连接符 23"/>
          <p:cNvCxnSpPr>
            <a:stCxn id="1121" idx="2"/>
            <a:endCxn id="1119" idx="0"/>
          </p:cNvCxnSpPr>
          <p:nvPr/>
        </p:nvCxnSpPr>
        <p:spPr>
          <a:xfrm rot="16200000">
            <a:off x="7020720" y="3779640"/>
            <a:ext cx="1079640" cy="360"/>
          </a:xfrm>
          <a:prstGeom prst="bentConnector2">
            <a:avLst/>
          </a:prstGeom>
          <a:ln w="12700">
            <a:solidFill>
              <a:srgbClr val="000000">
                <a:lumMod val="75000"/>
                <a:lumOff val="25000"/>
              </a:srgbClr>
            </a:solidFill>
            <a:prstDash val="dash"/>
            <a:round/>
            <a:tailEnd len="lg" type="triangle" w="lg"/>
          </a:ln>
        </p:spPr>
      </p:cxnSp>
      <p:cxnSp>
        <p:nvCxnSpPr>
          <p:cNvPr id="1130" name="肘形连接符 28"/>
          <p:cNvCxnSpPr>
            <a:stCxn id="1121" idx="2"/>
            <a:endCxn id="1120" idx="0"/>
          </p:cNvCxnSpPr>
          <p:nvPr/>
        </p:nvCxnSpPr>
        <p:spPr>
          <a:xfrm>
            <a:off x="7560360" y="3240000"/>
            <a:ext cx="2160720" cy="1085040"/>
          </a:xfrm>
          <a:prstGeom prst="bentConnector2">
            <a:avLst/>
          </a:prstGeom>
          <a:ln w="12700">
            <a:solidFill>
              <a:srgbClr val="000000">
                <a:lumMod val="75000"/>
                <a:lumOff val="25000"/>
              </a:srgbClr>
            </a:solidFill>
            <a:prstDash val="dash"/>
            <a:round/>
            <a:tailEnd len="lg" type="triangle" w="lg"/>
          </a:ln>
        </p:spPr>
      </p:cxnSp>
    </p:spTree>
  </p:cSld>
  <mc:AlternateContent>
    <mc:Choice Requires="p14">
      <p:transition spd="slow" advTm="2000" p14:dur="2000"/>
    </mc:Choice>
    <mc:Fallback>
      <p:transition spd="slow" advTm="2000"/>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advTm="2000" p14:dur="2000"/>
    </mc:Choice>
    <mc:Fallback>
      <p:transition spd="slow" advTm="2000"/>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目录</a:t>
            </a:r>
            <a:endParaRPr b="0" lang="en-US" sz="4400" spc="-1" strike="noStrike">
              <a:solidFill>
                <a:srgbClr val="000000"/>
              </a:solidFill>
              <a:latin typeface="Candara"/>
            </a:endParaRPr>
          </a:p>
        </p:txBody>
      </p:sp>
      <p:sp>
        <p:nvSpPr>
          <p:cNvPr id="1089" name="TextBox 3"/>
          <p:cNvSpPr/>
          <p:nvPr/>
        </p:nvSpPr>
        <p:spPr>
          <a:xfrm>
            <a:off x="4938840" y="1800360"/>
            <a:ext cx="1644120" cy="3747240"/>
          </a:xfrm>
          <a:prstGeom prst="rect">
            <a:avLst/>
          </a:prstGeom>
          <a:noFill/>
          <a:ln w="0">
            <a:noFill/>
          </a:ln>
        </p:spPr>
        <p:style>
          <a:lnRef idx="0"/>
          <a:fillRef idx="0"/>
          <a:effectRef idx="0"/>
          <a:fontRef idx="minor"/>
        </p:style>
        <p:txBody>
          <a:bodyPr wrap="none" lIns="90000" rIns="90000" tIns="45000" bIns="45000" anchor="t">
            <a:spAutoFit/>
          </a:bodyPr>
          <a:p>
            <a:pPr>
              <a:lnSpc>
                <a:spcPct val="200000"/>
              </a:lnSpc>
            </a:pPr>
            <a:r>
              <a:rPr b="1" lang="zh-CN" sz="2400" spc="-1" strike="noStrike">
                <a:solidFill>
                  <a:srgbClr val="262626"/>
                </a:solidFill>
                <a:latin typeface="Candara"/>
                <a:ea typeface="微软雅黑"/>
              </a:rPr>
              <a:t>一、文字文字文字</a:t>
            </a:r>
            <a:endParaRPr b="0" lang="en-US" sz="2400" spc="-1" strike="noStrike">
              <a:solidFill>
                <a:srgbClr val="000000"/>
              </a:solidFill>
              <a:latin typeface="Arial"/>
            </a:endParaRPr>
          </a:p>
          <a:p>
            <a:pPr>
              <a:lnSpc>
                <a:spcPct val="200000"/>
              </a:lnSpc>
            </a:pPr>
            <a:r>
              <a:rPr b="1" lang="zh-CN" sz="2400" spc="-1" strike="noStrike">
                <a:solidFill>
                  <a:srgbClr val="808080"/>
                </a:solidFill>
                <a:latin typeface="Candara"/>
                <a:ea typeface="微软雅黑"/>
              </a:rPr>
              <a:t>二、文字文字文字</a:t>
            </a:r>
            <a:endParaRPr b="0" lang="en-US" sz="2400" spc="-1" strike="noStrike">
              <a:solidFill>
                <a:srgbClr val="000000"/>
              </a:solidFill>
              <a:latin typeface="Arial"/>
            </a:endParaRPr>
          </a:p>
          <a:p>
            <a:pPr>
              <a:lnSpc>
                <a:spcPct val="200000"/>
              </a:lnSpc>
            </a:pPr>
            <a:r>
              <a:rPr b="1" lang="zh-CN" sz="2400" spc="-1" strike="noStrike">
                <a:solidFill>
                  <a:srgbClr val="808080"/>
                </a:solidFill>
                <a:latin typeface="Candara"/>
                <a:ea typeface="微软雅黑"/>
              </a:rPr>
              <a:t>三、文字文字文字</a:t>
            </a:r>
            <a:endParaRPr b="0" lang="en-US" sz="2400" spc="-1" strike="noStrike">
              <a:solidFill>
                <a:srgbClr val="000000"/>
              </a:solidFill>
              <a:latin typeface="Arial"/>
            </a:endParaRPr>
          </a:p>
          <a:p>
            <a:pPr>
              <a:lnSpc>
                <a:spcPct val="200000"/>
              </a:lnSpc>
            </a:pPr>
            <a:r>
              <a:rPr b="1" lang="zh-CN" sz="2400" spc="-1" strike="noStrike">
                <a:solidFill>
                  <a:srgbClr val="808080"/>
                </a:solidFill>
                <a:latin typeface="Candara"/>
                <a:ea typeface="微软雅黑"/>
              </a:rPr>
              <a:t>四、文字文字文字</a:t>
            </a:r>
            <a:endParaRPr b="0" lang="en-US" sz="2400" spc="-1" strike="noStrike">
              <a:solidFill>
                <a:srgbClr val="000000"/>
              </a:solidFill>
              <a:latin typeface="Arial"/>
            </a:endParaRPr>
          </a:p>
          <a:p>
            <a:pPr>
              <a:lnSpc>
                <a:spcPct val="200000"/>
              </a:lnSpc>
            </a:pPr>
            <a:r>
              <a:rPr b="1" lang="zh-CN" sz="2400" spc="-1" strike="noStrike">
                <a:solidFill>
                  <a:srgbClr val="808080"/>
                </a:solidFill>
                <a:latin typeface="Candara"/>
                <a:ea typeface="微软雅黑"/>
              </a:rPr>
              <a:t>五、文字文字文字</a:t>
            </a:r>
            <a:endParaRPr b="0" lang="en-US" sz="24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文本框</a:t>
            </a:r>
            <a:endParaRPr b="0" lang="en-US" sz="4400" spc="-1" strike="noStrike">
              <a:solidFill>
                <a:srgbClr val="000000"/>
              </a:solidFill>
              <a:latin typeface="Candara"/>
            </a:endParaRPr>
          </a:p>
        </p:txBody>
      </p:sp>
      <p:sp>
        <p:nvSpPr>
          <p:cNvPr id="1091" name="PlaceHolder 2"/>
          <p:cNvSpPr>
            <a:spLocks noGrp="1"/>
          </p:cNvSpPr>
          <p:nvPr>
            <p:ph/>
          </p:nvPr>
        </p:nvSpPr>
        <p:spPr>
          <a:xfrm>
            <a:off x="360360" y="1440000"/>
            <a:ext cx="10801080" cy="4679640"/>
          </a:xfrm>
          <a:prstGeom prst="rect">
            <a:avLst/>
          </a:prstGeom>
          <a:noFill/>
          <a:ln w="0">
            <a:noFill/>
          </a:ln>
        </p:spPr>
        <p:txBody>
          <a:bodyPr anchor="t">
            <a:no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文字文字文字文字文字文字文字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文字文字文字文字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文字文字文字文字文字文字文字文字文字文字文字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文字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文字文字文字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文字文字</a:t>
            </a:r>
            <a:endParaRPr b="0" lang="en-US" sz="2000" spc="-1" strike="noStrike">
              <a:solidFill>
                <a:srgbClr val="404040"/>
              </a:solidFill>
              <a:latin typeface="Candara"/>
            </a:endParaRPr>
          </a:p>
        </p:txBody>
      </p:sp>
    </p:spTree>
  </p:cSld>
  <mc:AlternateContent>
    <mc:Choice Requires="p14">
      <p:transition spd="slow" advTm="2000" p14:dur="2000"/>
    </mc:Choice>
    <mc:Fallback>
      <p:transition spd="slow" advTm="2000"/>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文本框</a:t>
            </a:r>
            <a:endParaRPr b="0" lang="en-US" sz="4400" spc="-1" strike="noStrike">
              <a:solidFill>
                <a:srgbClr val="000000"/>
              </a:solidFill>
              <a:latin typeface="Candara"/>
            </a:endParaRPr>
          </a:p>
        </p:txBody>
      </p:sp>
      <p:sp>
        <p:nvSpPr>
          <p:cNvPr id="1093" name="PlaceHolder 2"/>
          <p:cNvSpPr>
            <a:spLocks noGrp="1"/>
          </p:cNvSpPr>
          <p:nvPr>
            <p:ph/>
          </p:nvPr>
        </p:nvSpPr>
        <p:spPr>
          <a:xfrm>
            <a:off x="360360" y="1440000"/>
            <a:ext cx="3239640" cy="4679640"/>
          </a:xfrm>
          <a:prstGeom prst="rect">
            <a:avLst/>
          </a:prstGeom>
          <a:noFill/>
          <a:ln w="0">
            <a:noFill/>
          </a:ln>
        </p:spPr>
        <p:txBody>
          <a:bodyPr anchor="t">
            <a:no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404040"/>
              </a:solidFill>
              <a:latin typeface="Candara"/>
            </a:endParaRPr>
          </a:p>
        </p:txBody>
      </p:sp>
      <p:sp>
        <p:nvSpPr>
          <p:cNvPr id="1094" name="内容占位符 2"/>
          <p:cNvSpPr/>
          <p:nvPr/>
        </p:nvSpPr>
        <p:spPr>
          <a:xfrm>
            <a:off x="414108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sp>
        <p:nvSpPr>
          <p:cNvPr id="1095" name="内容占位符 2"/>
          <p:cNvSpPr/>
          <p:nvPr/>
        </p:nvSpPr>
        <p:spPr>
          <a:xfrm>
            <a:off x="792180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表</a:t>
            </a:r>
            <a:r>
              <a:rPr b="0" lang="en-US" sz="4400" spc="-1" strike="noStrike">
                <a:solidFill>
                  <a:srgbClr val="262626"/>
                </a:solidFill>
                <a:latin typeface="Candara"/>
                <a:ea typeface="微软雅黑"/>
              </a:rPr>
              <a:t>——柱形图</a:t>
            </a:r>
            <a:endParaRPr b="0" lang="en-US" sz="4400" spc="-1" strike="noStrike">
              <a:solidFill>
                <a:srgbClr val="000000"/>
              </a:solidFill>
              <a:latin typeface="Candara"/>
            </a:endParaRPr>
          </a:p>
        </p:txBody>
      </p:sp>
      <p:graphicFrame>
        <p:nvGraphicFramePr>
          <p:cNvPr id="1097" name="内容占位符 3"/>
          <p:cNvGraphicFramePr/>
          <p:nvPr/>
        </p:nvGraphicFramePr>
        <p:xfrm>
          <a:off x="3960720" y="1440000"/>
          <a:ext cx="7200360" cy="4679640"/>
        </p:xfrm>
        <a:graphic>
          <a:graphicData uri="http://schemas.openxmlformats.org/drawingml/2006/chart">
            <c:chart xmlns:c="http://schemas.openxmlformats.org/drawingml/2006/chart" xmlns:r="http://schemas.openxmlformats.org/officeDocument/2006/relationships" r:id="rId1"/>
          </a:graphicData>
        </a:graphic>
      </p:graphicFrame>
      <p:sp>
        <p:nvSpPr>
          <p:cNvPr id="1098"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表</a:t>
            </a:r>
            <a:r>
              <a:rPr b="0" lang="en-US" sz="4400" spc="-1" strike="noStrike">
                <a:solidFill>
                  <a:srgbClr val="262626"/>
                </a:solidFill>
                <a:latin typeface="Candara"/>
                <a:ea typeface="微软雅黑"/>
              </a:rPr>
              <a:t>——饼图</a:t>
            </a:r>
            <a:endParaRPr b="0" lang="en-US" sz="4400" spc="-1" strike="noStrike">
              <a:solidFill>
                <a:srgbClr val="000000"/>
              </a:solidFill>
              <a:latin typeface="Candara"/>
            </a:endParaRPr>
          </a:p>
        </p:txBody>
      </p:sp>
      <p:sp>
        <p:nvSpPr>
          <p:cNvPr id="1100"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graphicFrame>
        <p:nvGraphicFramePr>
          <p:cNvPr id="1101" name="内容占位符 5"/>
          <p:cNvGraphicFramePr/>
          <p:nvPr/>
        </p:nvGraphicFramePr>
        <p:xfrm>
          <a:off x="3960720" y="1440000"/>
          <a:ext cx="7200720" cy="46796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advTm="2000" p14:dur="2000"/>
    </mc:Choice>
    <mc:Fallback>
      <p:transition spd="slow" advTm="2000"/>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形</a:t>
            </a:r>
            <a:r>
              <a:rPr b="0" lang="en-US" sz="4400" spc="-1" strike="noStrike">
                <a:solidFill>
                  <a:srgbClr val="262626"/>
                </a:solidFill>
                <a:latin typeface="Candara"/>
                <a:ea typeface="微软雅黑"/>
              </a:rPr>
              <a:t>——小型张</a:t>
            </a:r>
            <a:endParaRPr b="0" lang="en-US" sz="4400" spc="-1" strike="noStrike">
              <a:solidFill>
                <a:srgbClr val="000000"/>
              </a:solidFill>
              <a:latin typeface="Candara"/>
            </a:endParaRPr>
          </a:p>
        </p:txBody>
      </p:sp>
      <p:sp>
        <p:nvSpPr>
          <p:cNvPr id="1103" name="矩形 1"/>
          <p:cNvSpPr/>
          <p:nvPr/>
        </p:nvSpPr>
        <p:spPr>
          <a:xfrm>
            <a:off x="3960720" y="1440000"/>
            <a:ext cx="7200720" cy="4679640"/>
          </a:xfrm>
          <a:custGeom>
            <a:avLst/>
            <a:gdLst>
              <a:gd name="textAreaLeft" fmla="*/ 0 w 7200720"/>
              <a:gd name="textAreaRight" fmla="*/ 7201080 w 7200720"/>
              <a:gd name="textAreaTop" fmla="*/ 0 h 4679640"/>
              <a:gd name="textAreaBottom" fmla="*/ 4680000 h 4679640"/>
            </a:gdLst>
            <a:ahLst/>
            <a:rect l="textAreaLeft" t="textAreaTop" r="textAreaRight" b="textAreaBottom"/>
            <a:pathLst>
              <a:path w="10792791" h="7196954">
                <a:moveTo>
                  <a:pt x="9659724" y="5875503"/>
                </a:moveTo>
                <a:cubicBezTo>
                  <a:pt x="9626338" y="5875503"/>
                  <a:pt x="9599273" y="5902569"/>
                  <a:pt x="9599273" y="5935955"/>
                </a:cubicBezTo>
                <a:cubicBezTo>
                  <a:pt x="9599273" y="5969341"/>
                  <a:pt x="9626338" y="5996407"/>
                  <a:pt x="9659724" y="5996407"/>
                </a:cubicBezTo>
                <a:cubicBezTo>
                  <a:pt x="9693111" y="5996407"/>
                  <a:pt x="9720176" y="5969341"/>
                  <a:pt x="9720176" y="5935955"/>
                </a:cubicBezTo>
                <a:cubicBezTo>
                  <a:pt x="9720176" y="5902569"/>
                  <a:pt x="9693111" y="5875503"/>
                  <a:pt x="9659724" y="5875503"/>
                </a:cubicBezTo>
                <a:close/>
                <a:moveTo>
                  <a:pt x="6540628" y="5875503"/>
                </a:moveTo>
                <a:cubicBezTo>
                  <a:pt x="6507241" y="5875503"/>
                  <a:pt x="6480176" y="5902569"/>
                  <a:pt x="6480176" y="5935955"/>
                </a:cubicBezTo>
                <a:cubicBezTo>
                  <a:pt x="6480176" y="5969341"/>
                  <a:pt x="6507241" y="5996407"/>
                  <a:pt x="6540628" y="5996407"/>
                </a:cubicBezTo>
                <a:cubicBezTo>
                  <a:pt x="6574014" y="5996407"/>
                  <a:pt x="6601079" y="5969341"/>
                  <a:pt x="6601079" y="5935955"/>
                </a:cubicBezTo>
                <a:cubicBezTo>
                  <a:pt x="6601079" y="5902569"/>
                  <a:pt x="6574014" y="5875503"/>
                  <a:pt x="6540628" y="5875503"/>
                </a:cubicBezTo>
                <a:close/>
                <a:moveTo>
                  <a:pt x="9486696" y="5875248"/>
                </a:moveTo>
                <a:cubicBezTo>
                  <a:pt x="9453310" y="5875248"/>
                  <a:pt x="9426245" y="5902313"/>
                  <a:pt x="9426245" y="5935699"/>
                </a:cubicBezTo>
                <a:cubicBezTo>
                  <a:pt x="9426245" y="5969086"/>
                  <a:pt x="9453310" y="5996151"/>
                  <a:pt x="9486696" y="5996151"/>
                </a:cubicBezTo>
                <a:cubicBezTo>
                  <a:pt x="9520083" y="5996151"/>
                  <a:pt x="9547148" y="5969086"/>
                  <a:pt x="9547148" y="5935699"/>
                </a:cubicBezTo>
                <a:cubicBezTo>
                  <a:pt x="9547148" y="5902313"/>
                  <a:pt x="9520083" y="5875248"/>
                  <a:pt x="9486696" y="5875248"/>
                </a:cubicBezTo>
                <a:close/>
                <a:moveTo>
                  <a:pt x="9313413" y="5875248"/>
                </a:moveTo>
                <a:cubicBezTo>
                  <a:pt x="9280027" y="5875248"/>
                  <a:pt x="9252961" y="5902313"/>
                  <a:pt x="9252961" y="5935699"/>
                </a:cubicBezTo>
                <a:cubicBezTo>
                  <a:pt x="9252961" y="5969086"/>
                  <a:pt x="9280027" y="5996151"/>
                  <a:pt x="9313413" y="5996151"/>
                </a:cubicBezTo>
                <a:cubicBezTo>
                  <a:pt x="9346799" y="5996151"/>
                  <a:pt x="9373865" y="5969086"/>
                  <a:pt x="9373865" y="5935699"/>
                </a:cubicBezTo>
                <a:cubicBezTo>
                  <a:pt x="9373865" y="5902313"/>
                  <a:pt x="9346799" y="5875248"/>
                  <a:pt x="9313413" y="5875248"/>
                </a:cubicBezTo>
                <a:close/>
                <a:moveTo>
                  <a:pt x="9140130" y="5875248"/>
                </a:moveTo>
                <a:cubicBezTo>
                  <a:pt x="9106743" y="5875248"/>
                  <a:pt x="9079678" y="5902313"/>
                  <a:pt x="9079678" y="5935699"/>
                </a:cubicBezTo>
                <a:cubicBezTo>
                  <a:pt x="9079678" y="5969086"/>
                  <a:pt x="9106743" y="5996151"/>
                  <a:pt x="9140130" y="5996151"/>
                </a:cubicBezTo>
                <a:cubicBezTo>
                  <a:pt x="9173516" y="5996151"/>
                  <a:pt x="9200581" y="5969086"/>
                  <a:pt x="9200581" y="5935699"/>
                </a:cubicBezTo>
                <a:cubicBezTo>
                  <a:pt x="9200581" y="5902313"/>
                  <a:pt x="9173516" y="5875248"/>
                  <a:pt x="9140130" y="5875248"/>
                </a:cubicBezTo>
                <a:close/>
                <a:moveTo>
                  <a:pt x="8966846" y="5875248"/>
                </a:moveTo>
                <a:cubicBezTo>
                  <a:pt x="8933460" y="5875248"/>
                  <a:pt x="8906395" y="5902313"/>
                  <a:pt x="8906395" y="5935699"/>
                </a:cubicBezTo>
                <a:cubicBezTo>
                  <a:pt x="8906395" y="5969086"/>
                  <a:pt x="8933460" y="5996151"/>
                  <a:pt x="8966846" y="5996151"/>
                </a:cubicBezTo>
                <a:cubicBezTo>
                  <a:pt x="9000233" y="5996151"/>
                  <a:pt x="9027298" y="5969086"/>
                  <a:pt x="9027298" y="5935699"/>
                </a:cubicBezTo>
                <a:cubicBezTo>
                  <a:pt x="9027298" y="5902313"/>
                  <a:pt x="9000233" y="5875248"/>
                  <a:pt x="8966846" y="5875248"/>
                </a:cubicBezTo>
                <a:close/>
                <a:moveTo>
                  <a:pt x="8793563" y="5875248"/>
                </a:moveTo>
                <a:cubicBezTo>
                  <a:pt x="8760177" y="5875248"/>
                  <a:pt x="8733112" y="5902313"/>
                  <a:pt x="8733112" y="5935699"/>
                </a:cubicBezTo>
                <a:cubicBezTo>
                  <a:pt x="8733112" y="5969086"/>
                  <a:pt x="8760177" y="5996151"/>
                  <a:pt x="8793563" y="5996151"/>
                </a:cubicBezTo>
                <a:cubicBezTo>
                  <a:pt x="8826950" y="5996151"/>
                  <a:pt x="8854015" y="5969086"/>
                  <a:pt x="8854015" y="5935699"/>
                </a:cubicBezTo>
                <a:cubicBezTo>
                  <a:pt x="8854015" y="5902313"/>
                  <a:pt x="8826950" y="5875248"/>
                  <a:pt x="8793563" y="5875248"/>
                </a:cubicBezTo>
                <a:close/>
                <a:moveTo>
                  <a:pt x="8620280" y="5875248"/>
                </a:moveTo>
                <a:cubicBezTo>
                  <a:pt x="8586893" y="5875248"/>
                  <a:pt x="8559828" y="5902313"/>
                  <a:pt x="8559828" y="5935699"/>
                </a:cubicBezTo>
                <a:cubicBezTo>
                  <a:pt x="8559828" y="5969086"/>
                  <a:pt x="8586893" y="5996151"/>
                  <a:pt x="8620280" y="5996151"/>
                </a:cubicBezTo>
                <a:cubicBezTo>
                  <a:pt x="8653666" y="5996151"/>
                  <a:pt x="8680731" y="5969086"/>
                  <a:pt x="8680731" y="5935699"/>
                </a:cubicBezTo>
                <a:cubicBezTo>
                  <a:pt x="8680731" y="5902313"/>
                  <a:pt x="8653666" y="5875248"/>
                  <a:pt x="8620280" y="5875248"/>
                </a:cubicBezTo>
                <a:close/>
                <a:moveTo>
                  <a:pt x="8446997" y="5875248"/>
                </a:moveTo>
                <a:cubicBezTo>
                  <a:pt x="8413610" y="5875248"/>
                  <a:pt x="8386545" y="5902313"/>
                  <a:pt x="8386545" y="5935699"/>
                </a:cubicBezTo>
                <a:cubicBezTo>
                  <a:pt x="8386545" y="5969086"/>
                  <a:pt x="8413610" y="5996151"/>
                  <a:pt x="8446997" y="5996151"/>
                </a:cubicBezTo>
                <a:cubicBezTo>
                  <a:pt x="8480383" y="5996151"/>
                  <a:pt x="8507448" y="5969086"/>
                  <a:pt x="8507448" y="5935699"/>
                </a:cubicBezTo>
                <a:cubicBezTo>
                  <a:pt x="8507448" y="5902313"/>
                  <a:pt x="8480383" y="5875248"/>
                  <a:pt x="8446997" y="5875248"/>
                </a:cubicBezTo>
                <a:close/>
                <a:moveTo>
                  <a:pt x="8273713" y="5875248"/>
                </a:moveTo>
                <a:cubicBezTo>
                  <a:pt x="8240327" y="5875248"/>
                  <a:pt x="8213262" y="5902313"/>
                  <a:pt x="8213262" y="5935699"/>
                </a:cubicBezTo>
                <a:cubicBezTo>
                  <a:pt x="8213262" y="5969086"/>
                  <a:pt x="8240327" y="5996151"/>
                  <a:pt x="8273713" y="5996151"/>
                </a:cubicBezTo>
                <a:cubicBezTo>
                  <a:pt x="8307100" y="5996151"/>
                  <a:pt x="8334165" y="5969086"/>
                  <a:pt x="8334165" y="5935699"/>
                </a:cubicBezTo>
                <a:cubicBezTo>
                  <a:pt x="8334165" y="5902313"/>
                  <a:pt x="8307100" y="5875248"/>
                  <a:pt x="8273713" y="5875248"/>
                </a:cubicBezTo>
                <a:close/>
                <a:moveTo>
                  <a:pt x="8100430" y="5875248"/>
                </a:moveTo>
                <a:cubicBezTo>
                  <a:pt x="8067044" y="5875248"/>
                  <a:pt x="8039978" y="5902313"/>
                  <a:pt x="8039978" y="5935699"/>
                </a:cubicBezTo>
                <a:cubicBezTo>
                  <a:pt x="8039978" y="5969086"/>
                  <a:pt x="8067044" y="5996151"/>
                  <a:pt x="8100430" y="5996151"/>
                </a:cubicBezTo>
                <a:cubicBezTo>
                  <a:pt x="8133816" y="5996151"/>
                  <a:pt x="8160882" y="5969086"/>
                  <a:pt x="8160882" y="5935699"/>
                </a:cubicBezTo>
                <a:cubicBezTo>
                  <a:pt x="8160882" y="5902313"/>
                  <a:pt x="8133816" y="5875248"/>
                  <a:pt x="8100430" y="5875248"/>
                </a:cubicBezTo>
                <a:close/>
                <a:moveTo>
                  <a:pt x="7927147" y="5875248"/>
                </a:moveTo>
                <a:cubicBezTo>
                  <a:pt x="7893760" y="5875248"/>
                  <a:pt x="7866695" y="5902313"/>
                  <a:pt x="7866695" y="5935699"/>
                </a:cubicBezTo>
                <a:cubicBezTo>
                  <a:pt x="7866695" y="5969086"/>
                  <a:pt x="7893760" y="5996151"/>
                  <a:pt x="7927147" y="5996151"/>
                </a:cubicBezTo>
                <a:cubicBezTo>
                  <a:pt x="7960533" y="5996151"/>
                  <a:pt x="7987598" y="5969086"/>
                  <a:pt x="7987598" y="5935699"/>
                </a:cubicBezTo>
                <a:cubicBezTo>
                  <a:pt x="7987598" y="5902313"/>
                  <a:pt x="7960533" y="5875248"/>
                  <a:pt x="7927147" y="5875248"/>
                </a:cubicBezTo>
                <a:close/>
                <a:moveTo>
                  <a:pt x="7753864" y="5875248"/>
                </a:moveTo>
                <a:cubicBezTo>
                  <a:pt x="7720477" y="5875248"/>
                  <a:pt x="7693412" y="5902313"/>
                  <a:pt x="7693412" y="5935699"/>
                </a:cubicBezTo>
                <a:cubicBezTo>
                  <a:pt x="7693412" y="5969086"/>
                  <a:pt x="7720477" y="5996151"/>
                  <a:pt x="7753864" y="5996151"/>
                </a:cubicBezTo>
                <a:cubicBezTo>
                  <a:pt x="7787250" y="5996151"/>
                  <a:pt x="7814315" y="5969086"/>
                  <a:pt x="7814315" y="5935699"/>
                </a:cubicBezTo>
                <a:cubicBezTo>
                  <a:pt x="7814315" y="5902313"/>
                  <a:pt x="7787250" y="5875248"/>
                  <a:pt x="7753864" y="5875248"/>
                </a:cubicBezTo>
                <a:close/>
                <a:moveTo>
                  <a:pt x="7580580" y="5875248"/>
                </a:moveTo>
                <a:cubicBezTo>
                  <a:pt x="7547194" y="5875248"/>
                  <a:pt x="7520129" y="5902313"/>
                  <a:pt x="7520129" y="5935699"/>
                </a:cubicBezTo>
                <a:cubicBezTo>
                  <a:pt x="7520129" y="5969086"/>
                  <a:pt x="7547194" y="5996151"/>
                  <a:pt x="7580580" y="5996151"/>
                </a:cubicBezTo>
                <a:cubicBezTo>
                  <a:pt x="7613967" y="5996151"/>
                  <a:pt x="7641032" y="5969086"/>
                  <a:pt x="7641032" y="5935699"/>
                </a:cubicBezTo>
                <a:cubicBezTo>
                  <a:pt x="7641032" y="5902313"/>
                  <a:pt x="7613967" y="5875248"/>
                  <a:pt x="7580580" y="5875248"/>
                </a:cubicBezTo>
                <a:close/>
                <a:moveTo>
                  <a:pt x="7407297" y="5875248"/>
                </a:moveTo>
                <a:cubicBezTo>
                  <a:pt x="7373911" y="5875248"/>
                  <a:pt x="7346846" y="5902313"/>
                  <a:pt x="7346846" y="5935699"/>
                </a:cubicBezTo>
                <a:cubicBezTo>
                  <a:pt x="7346846" y="5969086"/>
                  <a:pt x="7373911" y="5996151"/>
                  <a:pt x="7407297" y="5996151"/>
                </a:cubicBezTo>
                <a:cubicBezTo>
                  <a:pt x="7440684" y="5996151"/>
                  <a:pt x="7467749" y="5969086"/>
                  <a:pt x="7467749" y="5935699"/>
                </a:cubicBezTo>
                <a:cubicBezTo>
                  <a:pt x="7467749" y="5902313"/>
                  <a:pt x="7440684" y="5875248"/>
                  <a:pt x="7407297" y="5875248"/>
                </a:cubicBezTo>
                <a:close/>
                <a:moveTo>
                  <a:pt x="7234014" y="5875248"/>
                </a:moveTo>
                <a:cubicBezTo>
                  <a:pt x="7200627" y="5875248"/>
                  <a:pt x="7173562" y="5902313"/>
                  <a:pt x="7173562" y="5935699"/>
                </a:cubicBezTo>
                <a:cubicBezTo>
                  <a:pt x="7173562" y="5969086"/>
                  <a:pt x="7200627" y="5996151"/>
                  <a:pt x="7234014" y="5996151"/>
                </a:cubicBezTo>
                <a:cubicBezTo>
                  <a:pt x="7267400" y="5996151"/>
                  <a:pt x="7294465" y="5969086"/>
                  <a:pt x="7294465" y="5935699"/>
                </a:cubicBezTo>
                <a:cubicBezTo>
                  <a:pt x="7294465" y="5902313"/>
                  <a:pt x="7267400" y="5875248"/>
                  <a:pt x="7234014" y="5875248"/>
                </a:cubicBezTo>
                <a:close/>
                <a:moveTo>
                  <a:pt x="7060731" y="5875248"/>
                </a:moveTo>
                <a:cubicBezTo>
                  <a:pt x="7027344" y="5875248"/>
                  <a:pt x="7000279" y="5902313"/>
                  <a:pt x="7000279" y="5935699"/>
                </a:cubicBezTo>
                <a:cubicBezTo>
                  <a:pt x="7000279" y="5969086"/>
                  <a:pt x="7027344" y="5996151"/>
                  <a:pt x="7060731" y="5996151"/>
                </a:cubicBezTo>
                <a:cubicBezTo>
                  <a:pt x="7094117" y="5996151"/>
                  <a:pt x="7121182" y="5969086"/>
                  <a:pt x="7121182" y="5935699"/>
                </a:cubicBezTo>
                <a:cubicBezTo>
                  <a:pt x="7121182" y="5902313"/>
                  <a:pt x="7094117" y="5875248"/>
                  <a:pt x="7060731" y="5875248"/>
                </a:cubicBezTo>
                <a:close/>
                <a:moveTo>
                  <a:pt x="6887447" y="5875248"/>
                </a:moveTo>
                <a:cubicBezTo>
                  <a:pt x="6854061" y="5875248"/>
                  <a:pt x="6826996" y="5902313"/>
                  <a:pt x="6826996" y="5935699"/>
                </a:cubicBezTo>
                <a:cubicBezTo>
                  <a:pt x="6826996" y="5969086"/>
                  <a:pt x="6854061" y="5996151"/>
                  <a:pt x="6887447" y="5996151"/>
                </a:cubicBezTo>
                <a:cubicBezTo>
                  <a:pt x="6920834" y="5996151"/>
                  <a:pt x="6947899" y="5969086"/>
                  <a:pt x="6947899" y="5935699"/>
                </a:cubicBezTo>
                <a:cubicBezTo>
                  <a:pt x="6947899" y="5902313"/>
                  <a:pt x="6920834" y="5875248"/>
                  <a:pt x="6887447" y="5875248"/>
                </a:cubicBezTo>
                <a:close/>
                <a:moveTo>
                  <a:pt x="6714164" y="5875248"/>
                </a:moveTo>
                <a:cubicBezTo>
                  <a:pt x="6680777" y="5875248"/>
                  <a:pt x="6653712" y="5902313"/>
                  <a:pt x="6653712" y="5935699"/>
                </a:cubicBezTo>
                <a:cubicBezTo>
                  <a:pt x="6653712" y="5969086"/>
                  <a:pt x="6680777" y="5996151"/>
                  <a:pt x="6714164" y="5996151"/>
                </a:cubicBezTo>
                <a:cubicBezTo>
                  <a:pt x="6747550" y="5996151"/>
                  <a:pt x="6774615" y="5969086"/>
                  <a:pt x="6774615" y="5935699"/>
                </a:cubicBezTo>
                <a:cubicBezTo>
                  <a:pt x="6774615" y="5902313"/>
                  <a:pt x="6747550" y="5875248"/>
                  <a:pt x="6714164" y="5875248"/>
                </a:cubicBezTo>
                <a:close/>
                <a:moveTo>
                  <a:pt x="9659724" y="5702220"/>
                </a:moveTo>
                <a:cubicBezTo>
                  <a:pt x="9626338" y="5702220"/>
                  <a:pt x="9599273" y="5729285"/>
                  <a:pt x="9599273" y="5762672"/>
                </a:cubicBezTo>
                <a:cubicBezTo>
                  <a:pt x="9599273" y="5796058"/>
                  <a:pt x="9626338" y="5823123"/>
                  <a:pt x="9659724" y="5823123"/>
                </a:cubicBezTo>
                <a:cubicBezTo>
                  <a:pt x="9693111" y="5823123"/>
                  <a:pt x="9720176" y="5796058"/>
                  <a:pt x="9720176" y="5762672"/>
                </a:cubicBezTo>
                <a:cubicBezTo>
                  <a:pt x="9720176" y="5729285"/>
                  <a:pt x="9693111" y="5702220"/>
                  <a:pt x="9659724" y="5702220"/>
                </a:cubicBezTo>
                <a:close/>
                <a:moveTo>
                  <a:pt x="6540628" y="5702220"/>
                </a:moveTo>
                <a:cubicBezTo>
                  <a:pt x="6507241" y="5702220"/>
                  <a:pt x="6480176" y="5729285"/>
                  <a:pt x="6480176" y="5762672"/>
                </a:cubicBezTo>
                <a:cubicBezTo>
                  <a:pt x="6480176" y="5796058"/>
                  <a:pt x="6507241" y="5823123"/>
                  <a:pt x="6540628" y="5823123"/>
                </a:cubicBezTo>
                <a:cubicBezTo>
                  <a:pt x="6574014" y="5823123"/>
                  <a:pt x="6601079" y="5796058"/>
                  <a:pt x="6601079" y="5762672"/>
                </a:cubicBezTo>
                <a:cubicBezTo>
                  <a:pt x="6601079" y="5729285"/>
                  <a:pt x="6574014" y="5702220"/>
                  <a:pt x="6540628" y="5702220"/>
                </a:cubicBezTo>
                <a:close/>
                <a:moveTo>
                  <a:pt x="9659724" y="5528937"/>
                </a:moveTo>
                <a:cubicBezTo>
                  <a:pt x="9626338" y="5528937"/>
                  <a:pt x="9599273" y="5556002"/>
                  <a:pt x="9599273" y="5589388"/>
                </a:cubicBezTo>
                <a:cubicBezTo>
                  <a:pt x="9599273" y="5622775"/>
                  <a:pt x="9626338" y="5649840"/>
                  <a:pt x="9659724" y="5649840"/>
                </a:cubicBezTo>
                <a:cubicBezTo>
                  <a:pt x="9693111" y="5649840"/>
                  <a:pt x="9720176" y="5622775"/>
                  <a:pt x="9720176" y="5589388"/>
                </a:cubicBezTo>
                <a:cubicBezTo>
                  <a:pt x="9720176" y="5556002"/>
                  <a:pt x="9693111" y="5528937"/>
                  <a:pt x="9659724" y="5528937"/>
                </a:cubicBezTo>
                <a:close/>
                <a:moveTo>
                  <a:pt x="6540628" y="5528937"/>
                </a:moveTo>
                <a:cubicBezTo>
                  <a:pt x="6507241" y="5528937"/>
                  <a:pt x="6480176" y="5556002"/>
                  <a:pt x="6480176" y="5589388"/>
                </a:cubicBezTo>
                <a:cubicBezTo>
                  <a:pt x="6480176" y="5622775"/>
                  <a:pt x="6507241" y="5649840"/>
                  <a:pt x="6540628" y="5649840"/>
                </a:cubicBezTo>
                <a:cubicBezTo>
                  <a:pt x="6574014" y="5649840"/>
                  <a:pt x="6601079" y="5622775"/>
                  <a:pt x="6601079" y="5589388"/>
                </a:cubicBezTo>
                <a:cubicBezTo>
                  <a:pt x="6601079" y="5556002"/>
                  <a:pt x="6574014" y="5528937"/>
                  <a:pt x="6540628" y="5528937"/>
                </a:cubicBezTo>
                <a:close/>
                <a:moveTo>
                  <a:pt x="9659724" y="5355654"/>
                </a:moveTo>
                <a:cubicBezTo>
                  <a:pt x="9626338" y="5355654"/>
                  <a:pt x="9599273" y="5382719"/>
                  <a:pt x="9599273" y="5416105"/>
                </a:cubicBezTo>
                <a:cubicBezTo>
                  <a:pt x="9599273" y="5449492"/>
                  <a:pt x="9626338" y="5476557"/>
                  <a:pt x="9659724" y="5476557"/>
                </a:cubicBezTo>
                <a:cubicBezTo>
                  <a:pt x="9693111" y="5476557"/>
                  <a:pt x="9720176" y="5449492"/>
                  <a:pt x="9720176" y="5416105"/>
                </a:cubicBezTo>
                <a:cubicBezTo>
                  <a:pt x="9720176" y="5382719"/>
                  <a:pt x="9693111" y="5355654"/>
                  <a:pt x="9659724" y="5355654"/>
                </a:cubicBezTo>
                <a:close/>
                <a:moveTo>
                  <a:pt x="6540628" y="5355654"/>
                </a:moveTo>
                <a:cubicBezTo>
                  <a:pt x="6507241" y="5355654"/>
                  <a:pt x="6480176" y="5382719"/>
                  <a:pt x="6480176" y="5416105"/>
                </a:cubicBezTo>
                <a:cubicBezTo>
                  <a:pt x="6480176" y="5449492"/>
                  <a:pt x="6507241" y="5476557"/>
                  <a:pt x="6540628" y="5476557"/>
                </a:cubicBezTo>
                <a:cubicBezTo>
                  <a:pt x="6574014" y="5476557"/>
                  <a:pt x="6601079" y="5449492"/>
                  <a:pt x="6601079" y="5416105"/>
                </a:cubicBezTo>
                <a:cubicBezTo>
                  <a:pt x="6601079" y="5382719"/>
                  <a:pt x="6574014" y="5355654"/>
                  <a:pt x="6540628" y="5355654"/>
                </a:cubicBezTo>
                <a:close/>
                <a:moveTo>
                  <a:pt x="9659724" y="5182370"/>
                </a:moveTo>
                <a:cubicBezTo>
                  <a:pt x="9626338" y="5182370"/>
                  <a:pt x="9599273" y="5209435"/>
                  <a:pt x="9599273" y="5242822"/>
                </a:cubicBezTo>
                <a:cubicBezTo>
                  <a:pt x="9599273" y="5276208"/>
                  <a:pt x="9626338" y="5303273"/>
                  <a:pt x="9659724" y="5303273"/>
                </a:cubicBezTo>
                <a:cubicBezTo>
                  <a:pt x="9693111" y="5303273"/>
                  <a:pt x="9720176" y="5276208"/>
                  <a:pt x="9720176" y="5242822"/>
                </a:cubicBezTo>
                <a:cubicBezTo>
                  <a:pt x="9720176" y="5209435"/>
                  <a:pt x="9693111" y="5182370"/>
                  <a:pt x="9659724" y="5182370"/>
                </a:cubicBezTo>
                <a:close/>
                <a:moveTo>
                  <a:pt x="6540628" y="5182370"/>
                </a:moveTo>
                <a:cubicBezTo>
                  <a:pt x="6507241" y="5182370"/>
                  <a:pt x="6480176" y="5209435"/>
                  <a:pt x="6480176" y="5242822"/>
                </a:cubicBezTo>
                <a:cubicBezTo>
                  <a:pt x="6480176" y="5276208"/>
                  <a:pt x="6507241" y="5303273"/>
                  <a:pt x="6540628" y="5303273"/>
                </a:cubicBezTo>
                <a:cubicBezTo>
                  <a:pt x="6574014" y="5303273"/>
                  <a:pt x="6601079" y="5276208"/>
                  <a:pt x="6601079" y="5242822"/>
                </a:cubicBezTo>
                <a:cubicBezTo>
                  <a:pt x="6601079" y="5209435"/>
                  <a:pt x="6574014" y="5182370"/>
                  <a:pt x="6540628" y="5182370"/>
                </a:cubicBezTo>
                <a:close/>
                <a:moveTo>
                  <a:pt x="9659724" y="5009087"/>
                </a:moveTo>
                <a:cubicBezTo>
                  <a:pt x="9626338" y="5009087"/>
                  <a:pt x="9599273" y="5036152"/>
                  <a:pt x="9599273" y="5069539"/>
                </a:cubicBezTo>
                <a:cubicBezTo>
                  <a:pt x="9599273" y="5102925"/>
                  <a:pt x="9626338" y="5129990"/>
                  <a:pt x="9659724" y="5129990"/>
                </a:cubicBezTo>
                <a:cubicBezTo>
                  <a:pt x="9693111" y="5129990"/>
                  <a:pt x="9720176" y="5102925"/>
                  <a:pt x="9720176" y="5069538"/>
                </a:cubicBezTo>
                <a:cubicBezTo>
                  <a:pt x="9720176" y="5036152"/>
                  <a:pt x="9693111" y="5009087"/>
                  <a:pt x="9659724" y="5009087"/>
                </a:cubicBezTo>
                <a:close/>
                <a:moveTo>
                  <a:pt x="6540628" y="5009087"/>
                </a:moveTo>
                <a:cubicBezTo>
                  <a:pt x="6507241" y="5009087"/>
                  <a:pt x="6480176" y="5036152"/>
                  <a:pt x="6480176" y="5069539"/>
                </a:cubicBezTo>
                <a:cubicBezTo>
                  <a:pt x="6480176" y="5102925"/>
                  <a:pt x="6507241" y="5129990"/>
                  <a:pt x="6540628" y="5129990"/>
                </a:cubicBezTo>
                <a:cubicBezTo>
                  <a:pt x="6574014" y="5129990"/>
                  <a:pt x="6601079" y="5102925"/>
                  <a:pt x="6601079" y="5069539"/>
                </a:cubicBezTo>
                <a:cubicBezTo>
                  <a:pt x="6601079" y="5036152"/>
                  <a:pt x="6574014" y="5009087"/>
                  <a:pt x="6540628" y="5009087"/>
                </a:cubicBezTo>
                <a:close/>
                <a:moveTo>
                  <a:pt x="9659724" y="4835804"/>
                </a:moveTo>
                <a:cubicBezTo>
                  <a:pt x="9626338" y="4835804"/>
                  <a:pt x="9599273" y="4862869"/>
                  <a:pt x="9599273" y="4896255"/>
                </a:cubicBezTo>
                <a:cubicBezTo>
                  <a:pt x="9599273" y="4929642"/>
                  <a:pt x="9626338" y="4956707"/>
                  <a:pt x="9659724" y="4956707"/>
                </a:cubicBezTo>
                <a:cubicBezTo>
                  <a:pt x="9693111" y="4956707"/>
                  <a:pt x="9720176" y="4929641"/>
                  <a:pt x="9720176" y="4896255"/>
                </a:cubicBezTo>
                <a:cubicBezTo>
                  <a:pt x="9720176" y="4862869"/>
                  <a:pt x="9693111" y="4835804"/>
                  <a:pt x="9659724" y="4835804"/>
                </a:cubicBezTo>
                <a:close/>
                <a:moveTo>
                  <a:pt x="6540628" y="4835804"/>
                </a:moveTo>
                <a:cubicBezTo>
                  <a:pt x="6507241" y="4835804"/>
                  <a:pt x="6480176" y="4862869"/>
                  <a:pt x="6480176" y="4896255"/>
                </a:cubicBezTo>
                <a:cubicBezTo>
                  <a:pt x="6480176" y="4929642"/>
                  <a:pt x="6507241" y="4956707"/>
                  <a:pt x="6540628" y="4956707"/>
                </a:cubicBezTo>
                <a:cubicBezTo>
                  <a:pt x="6574014" y="4956707"/>
                  <a:pt x="6601079" y="4929642"/>
                  <a:pt x="6601079" y="4896255"/>
                </a:cubicBezTo>
                <a:cubicBezTo>
                  <a:pt x="6601079" y="4862869"/>
                  <a:pt x="6574014" y="4835804"/>
                  <a:pt x="6540628" y="4835804"/>
                </a:cubicBezTo>
                <a:close/>
                <a:moveTo>
                  <a:pt x="9659724" y="4662520"/>
                </a:moveTo>
                <a:cubicBezTo>
                  <a:pt x="9626338" y="4662520"/>
                  <a:pt x="9599273" y="4689586"/>
                  <a:pt x="9599273" y="4722972"/>
                </a:cubicBezTo>
                <a:cubicBezTo>
                  <a:pt x="9599273" y="4756358"/>
                  <a:pt x="9626338" y="4783424"/>
                  <a:pt x="9659724" y="4783424"/>
                </a:cubicBezTo>
                <a:cubicBezTo>
                  <a:pt x="9693111" y="4783424"/>
                  <a:pt x="9720176" y="4756358"/>
                  <a:pt x="9720176" y="4722972"/>
                </a:cubicBezTo>
                <a:cubicBezTo>
                  <a:pt x="9720176" y="4689585"/>
                  <a:pt x="9693111" y="4662520"/>
                  <a:pt x="9659724" y="4662520"/>
                </a:cubicBezTo>
                <a:close/>
                <a:moveTo>
                  <a:pt x="6540628" y="4662520"/>
                </a:moveTo>
                <a:cubicBezTo>
                  <a:pt x="6507241" y="4662520"/>
                  <a:pt x="6480176" y="4689586"/>
                  <a:pt x="6480176" y="4722972"/>
                </a:cubicBezTo>
                <a:cubicBezTo>
                  <a:pt x="6480176" y="4756358"/>
                  <a:pt x="6507241" y="4783424"/>
                  <a:pt x="6540628" y="4783424"/>
                </a:cubicBezTo>
                <a:cubicBezTo>
                  <a:pt x="6574014" y="4783424"/>
                  <a:pt x="6601079" y="4756358"/>
                  <a:pt x="6601079" y="4722972"/>
                </a:cubicBezTo>
                <a:cubicBezTo>
                  <a:pt x="6601079" y="4689586"/>
                  <a:pt x="6574014" y="4662520"/>
                  <a:pt x="6540628" y="4662520"/>
                </a:cubicBezTo>
                <a:close/>
                <a:moveTo>
                  <a:pt x="9659724" y="4489237"/>
                </a:moveTo>
                <a:cubicBezTo>
                  <a:pt x="9626338" y="4489237"/>
                  <a:pt x="9599273" y="4516302"/>
                  <a:pt x="9599273" y="4549689"/>
                </a:cubicBezTo>
                <a:cubicBezTo>
                  <a:pt x="9599273" y="4583075"/>
                  <a:pt x="9626338" y="4610140"/>
                  <a:pt x="9659724" y="4610140"/>
                </a:cubicBezTo>
                <a:cubicBezTo>
                  <a:pt x="9693111" y="4610140"/>
                  <a:pt x="9720176" y="4583075"/>
                  <a:pt x="9720176" y="4549688"/>
                </a:cubicBezTo>
                <a:cubicBezTo>
                  <a:pt x="9720176" y="4516302"/>
                  <a:pt x="9693111" y="4489237"/>
                  <a:pt x="9659724" y="4489237"/>
                </a:cubicBezTo>
                <a:close/>
                <a:moveTo>
                  <a:pt x="6540628" y="4489237"/>
                </a:moveTo>
                <a:cubicBezTo>
                  <a:pt x="6507241" y="4489237"/>
                  <a:pt x="6480176" y="4516302"/>
                  <a:pt x="6480176" y="4549689"/>
                </a:cubicBezTo>
                <a:cubicBezTo>
                  <a:pt x="6480176" y="4583075"/>
                  <a:pt x="6507241" y="4610140"/>
                  <a:pt x="6540628" y="4610140"/>
                </a:cubicBezTo>
                <a:cubicBezTo>
                  <a:pt x="6574014" y="4610140"/>
                  <a:pt x="6601079" y="4583075"/>
                  <a:pt x="6601079" y="4549689"/>
                </a:cubicBezTo>
                <a:cubicBezTo>
                  <a:pt x="6601079" y="4516302"/>
                  <a:pt x="6574014" y="4489237"/>
                  <a:pt x="6540628" y="4489237"/>
                </a:cubicBezTo>
                <a:close/>
                <a:moveTo>
                  <a:pt x="9659724" y="4315702"/>
                </a:moveTo>
                <a:cubicBezTo>
                  <a:pt x="9626338" y="4315702"/>
                  <a:pt x="9599273" y="4342767"/>
                  <a:pt x="9599273" y="4376154"/>
                </a:cubicBezTo>
                <a:cubicBezTo>
                  <a:pt x="9599273" y="4409540"/>
                  <a:pt x="9626338" y="4436605"/>
                  <a:pt x="9659724" y="4436605"/>
                </a:cubicBezTo>
                <a:cubicBezTo>
                  <a:pt x="9693111" y="4436605"/>
                  <a:pt x="9720176" y="4409540"/>
                  <a:pt x="9720176" y="4376153"/>
                </a:cubicBezTo>
                <a:cubicBezTo>
                  <a:pt x="9720176" y="4342767"/>
                  <a:pt x="9693111" y="4315702"/>
                  <a:pt x="9659724" y="4315702"/>
                </a:cubicBezTo>
                <a:close/>
                <a:moveTo>
                  <a:pt x="6540628" y="4315702"/>
                </a:moveTo>
                <a:cubicBezTo>
                  <a:pt x="6507241" y="4315702"/>
                  <a:pt x="6480176" y="4342767"/>
                  <a:pt x="6480176" y="4376154"/>
                </a:cubicBezTo>
                <a:cubicBezTo>
                  <a:pt x="6480176" y="4409540"/>
                  <a:pt x="6507241" y="4436605"/>
                  <a:pt x="6540628" y="4436605"/>
                </a:cubicBezTo>
                <a:cubicBezTo>
                  <a:pt x="6574014" y="4436605"/>
                  <a:pt x="6601079" y="4409540"/>
                  <a:pt x="6601079" y="4376154"/>
                </a:cubicBezTo>
                <a:cubicBezTo>
                  <a:pt x="6601079" y="4342767"/>
                  <a:pt x="6574014" y="4315702"/>
                  <a:pt x="6540628" y="4315702"/>
                </a:cubicBezTo>
                <a:close/>
                <a:moveTo>
                  <a:pt x="9659724" y="4142419"/>
                </a:moveTo>
                <a:cubicBezTo>
                  <a:pt x="9626338" y="4142419"/>
                  <a:pt x="9599273" y="4169484"/>
                  <a:pt x="9599273" y="4202870"/>
                </a:cubicBezTo>
                <a:cubicBezTo>
                  <a:pt x="9599273" y="4236257"/>
                  <a:pt x="9626338" y="4263322"/>
                  <a:pt x="9659724" y="4263322"/>
                </a:cubicBezTo>
                <a:cubicBezTo>
                  <a:pt x="9693111" y="4263322"/>
                  <a:pt x="9720176" y="4236256"/>
                  <a:pt x="9720176" y="4202870"/>
                </a:cubicBezTo>
                <a:cubicBezTo>
                  <a:pt x="9720176" y="4169484"/>
                  <a:pt x="9693111" y="4142419"/>
                  <a:pt x="9659724" y="4142419"/>
                </a:cubicBezTo>
                <a:close/>
                <a:moveTo>
                  <a:pt x="6540628" y="4142419"/>
                </a:moveTo>
                <a:cubicBezTo>
                  <a:pt x="6507241" y="4142419"/>
                  <a:pt x="6480176" y="4169484"/>
                  <a:pt x="6480176" y="4202870"/>
                </a:cubicBezTo>
                <a:cubicBezTo>
                  <a:pt x="6480176" y="4236257"/>
                  <a:pt x="6507241" y="4263322"/>
                  <a:pt x="6540628" y="4263322"/>
                </a:cubicBezTo>
                <a:cubicBezTo>
                  <a:pt x="6574014" y="4263322"/>
                  <a:pt x="6601079" y="4236257"/>
                  <a:pt x="6601079" y="4202870"/>
                </a:cubicBezTo>
                <a:cubicBezTo>
                  <a:pt x="6601079" y="4169484"/>
                  <a:pt x="6574014" y="4142419"/>
                  <a:pt x="6540628" y="4142419"/>
                </a:cubicBezTo>
                <a:close/>
                <a:moveTo>
                  <a:pt x="9659724" y="3969135"/>
                </a:moveTo>
                <a:cubicBezTo>
                  <a:pt x="9626338" y="3969135"/>
                  <a:pt x="9599273" y="3996201"/>
                  <a:pt x="9599273" y="4029587"/>
                </a:cubicBezTo>
                <a:cubicBezTo>
                  <a:pt x="9599273" y="4062973"/>
                  <a:pt x="9626338" y="4090039"/>
                  <a:pt x="9659724" y="4090039"/>
                </a:cubicBezTo>
                <a:cubicBezTo>
                  <a:pt x="9693111" y="4090039"/>
                  <a:pt x="9720176" y="4062973"/>
                  <a:pt x="9720176" y="4029587"/>
                </a:cubicBezTo>
                <a:cubicBezTo>
                  <a:pt x="9720176" y="3996200"/>
                  <a:pt x="9693111" y="3969135"/>
                  <a:pt x="9659724" y="3969135"/>
                </a:cubicBezTo>
                <a:close/>
                <a:moveTo>
                  <a:pt x="6540628" y="3969135"/>
                </a:moveTo>
                <a:cubicBezTo>
                  <a:pt x="6507241" y="3969135"/>
                  <a:pt x="6480176" y="3996201"/>
                  <a:pt x="6480176" y="4029587"/>
                </a:cubicBezTo>
                <a:cubicBezTo>
                  <a:pt x="6480176" y="4062973"/>
                  <a:pt x="6507241" y="4090039"/>
                  <a:pt x="6540628" y="4090039"/>
                </a:cubicBezTo>
                <a:cubicBezTo>
                  <a:pt x="6574014" y="4090039"/>
                  <a:pt x="6601079" y="4062973"/>
                  <a:pt x="6601079" y="4029587"/>
                </a:cubicBezTo>
                <a:cubicBezTo>
                  <a:pt x="6601079" y="3996201"/>
                  <a:pt x="6574014" y="3969135"/>
                  <a:pt x="6540628" y="3969135"/>
                </a:cubicBezTo>
                <a:close/>
                <a:moveTo>
                  <a:pt x="9659724" y="3795852"/>
                </a:moveTo>
                <a:cubicBezTo>
                  <a:pt x="9626338" y="3795852"/>
                  <a:pt x="9599273" y="3822917"/>
                  <a:pt x="9599273" y="3856304"/>
                </a:cubicBezTo>
                <a:cubicBezTo>
                  <a:pt x="9599273" y="3889690"/>
                  <a:pt x="9626338" y="3916755"/>
                  <a:pt x="9659724" y="3916755"/>
                </a:cubicBezTo>
                <a:cubicBezTo>
                  <a:pt x="9693111" y="3916755"/>
                  <a:pt x="9720176" y="3889690"/>
                  <a:pt x="9720176" y="3856303"/>
                </a:cubicBezTo>
                <a:cubicBezTo>
                  <a:pt x="9720176" y="3822917"/>
                  <a:pt x="9693111" y="3795852"/>
                  <a:pt x="9659724" y="3795852"/>
                </a:cubicBezTo>
                <a:close/>
                <a:moveTo>
                  <a:pt x="6540628" y="3795852"/>
                </a:moveTo>
                <a:cubicBezTo>
                  <a:pt x="6507241" y="3795852"/>
                  <a:pt x="6480176" y="3822917"/>
                  <a:pt x="6480176" y="3856304"/>
                </a:cubicBezTo>
                <a:cubicBezTo>
                  <a:pt x="6480176" y="3889690"/>
                  <a:pt x="6507241" y="3916755"/>
                  <a:pt x="6540628" y="3916755"/>
                </a:cubicBezTo>
                <a:cubicBezTo>
                  <a:pt x="6574014" y="3916755"/>
                  <a:pt x="6601079" y="3889690"/>
                  <a:pt x="6601079" y="3856304"/>
                </a:cubicBezTo>
                <a:cubicBezTo>
                  <a:pt x="6601079" y="3822917"/>
                  <a:pt x="6574014" y="3795852"/>
                  <a:pt x="6540628" y="3795852"/>
                </a:cubicBezTo>
                <a:close/>
                <a:moveTo>
                  <a:pt x="9659724" y="3622569"/>
                </a:moveTo>
                <a:cubicBezTo>
                  <a:pt x="9626338" y="3622569"/>
                  <a:pt x="9599273" y="3649634"/>
                  <a:pt x="9599273" y="3683020"/>
                </a:cubicBezTo>
                <a:cubicBezTo>
                  <a:pt x="9599273" y="3716407"/>
                  <a:pt x="9626338" y="3743472"/>
                  <a:pt x="9659724" y="3743472"/>
                </a:cubicBezTo>
                <a:cubicBezTo>
                  <a:pt x="9693111" y="3743472"/>
                  <a:pt x="9720176" y="3716407"/>
                  <a:pt x="9720176" y="3683020"/>
                </a:cubicBezTo>
                <a:cubicBezTo>
                  <a:pt x="9720176" y="3649634"/>
                  <a:pt x="9693111" y="3622569"/>
                  <a:pt x="9659724" y="3622569"/>
                </a:cubicBezTo>
                <a:close/>
                <a:moveTo>
                  <a:pt x="6540628" y="3622569"/>
                </a:moveTo>
                <a:cubicBezTo>
                  <a:pt x="6507241" y="3622569"/>
                  <a:pt x="6480176" y="3649634"/>
                  <a:pt x="6480176" y="3683020"/>
                </a:cubicBezTo>
                <a:cubicBezTo>
                  <a:pt x="6480176" y="3716407"/>
                  <a:pt x="6507241" y="3743472"/>
                  <a:pt x="6540628" y="3743472"/>
                </a:cubicBezTo>
                <a:cubicBezTo>
                  <a:pt x="6574014" y="3743472"/>
                  <a:pt x="6601079" y="3716407"/>
                  <a:pt x="6601079" y="3683020"/>
                </a:cubicBezTo>
                <a:cubicBezTo>
                  <a:pt x="6601079" y="3649634"/>
                  <a:pt x="6574014" y="3622569"/>
                  <a:pt x="6540628" y="3622569"/>
                </a:cubicBezTo>
                <a:close/>
                <a:moveTo>
                  <a:pt x="9659724" y="3449285"/>
                </a:moveTo>
                <a:cubicBezTo>
                  <a:pt x="9626338" y="3449285"/>
                  <a:pt x="9599273" y="3476351"/>
                  <a:pt x="9599273" y="3509737"/>
                </a:cubicBezTo>
                <a:cubicBezTo>
                  <a:pt x="9599273" y="3543123"/>
                  <a:pt x="9626338" y="3570189"/>
                  <a:pt x="9659724" y="3570189"/>
                </a:cubicBezTo>
                <a:cubicBezTo>
                  <a:pt x="9693111" y="3570189"/>
                  <a:pt x="9720176" y="3543123"/>
                  <a:pt x="9720176" y="3509737"/>
                </a:cubicBezTo>
                <a:cubicBezTo>
                  <a:pt x="9720176" y="3476350"/>
                  <a:pt x="9693111" y="3449285"/>
                  <a:pt x="9659724" y="3449285"/>
                </a:cubicBezTo>
                <a:close/>
                <a:moveTo>
                  <a:pt x="6540628" y="3449285"/>
                </a:moveTo>
                <a:cubicBezTo>
                  <a:pt x="6507241" y="3449285"/>
                  <a:pt x="6480176" y="3476351"/>
                  <a:pt x="6480176" y="3509737"/>
                </a:cubicBezTo>
                <a:cubicBezTo>
                  <a:pt x="6480176" y="3543123"/>
                  <a:pt x="6507241" y="3570189"/>
                  <a:pt x="6540628" y="3570189"/>
                </a:cubicBezTo>
                <a:cubicBezTo>
                  <a:pt x="6574014" y="3570189"/>
                  <a:pt x="6601079" y="3543123"/>
                  <a:pt x="6601079" y="3509737"/>
                </a:cubicBezTo>
                <a:cubicBezTo>
                  <a:pt x="6601079" y="3476351"/>
                  <a:pt x="6574014" y="3449285"/>
                  <a:pt x="6540628" y="3449285"/>
                </a:cubicBezTo>
                <a:close/>
                <a:moveTo>
                  <a:pt x="9659724" y="3276002"/>
                </a:moveTo>
                <a:cubicBezTo>
                  <a:pt x="9626338" y="3276002"/>
                  <a:pt x="9599273" y="3303067"/>
                  <a:pt x="9599273" y="3336453"/>
                </a:cubicBezTo>
                <a:cubicBezTo>
                  <a:pt x="9599273" y="3369840"/>
                  <a:pt x="9626338" y="3396905"/>
                  <a:pt x="9659724" y="3396905"/>
                </a:cubicBezTo>
                <a:cubicBezTo>
                  <a:pt x="9693111" y="3396905"/>
                  <a:pt x="9720176" y="3369840"/>
                  <a:pt x="9720176" y="3336453"/>
                </a:cubicBezTo>
                <a:cubicBezTo>
                  <a:pt x="9720176" y="3303067"/>
                  <a:pt x="9693111" y="3276002"/>
                  <a:pt x="9659724" y="3276002"/>
                </a:cubicBezTo>
                <a:close/>
                <a:moveTo>
                  <a:pt x="6540628" y="3276002"/>
                </a:moveTo>
                <a:cubicBezTo>
                  <a:pt x="6507241" y="3276002"/>
                  <a:pt x="6480176" y="3303067"/>
                  <a:pt x="6480176" y="3336453"/>
                </a:cubicBezTo>
                <a:cubicBezTo>
                  <a:pt x="6480176" y="3369840"/>
                  <a:pt x="6507241" y="3396905"/>
                  <a:pt x="6540628" y="3396905"/>
                </a:cubicBezTo>
                <a:cubicBezTo>
                  <a:pt x="6574014" y="3396905"/>
                  <a:pt x="6601079" y="3369840"/>
                  <a:pt x="6601079" y="3336453"/>
                </a:cubicBezTo>
                <a:cubicBezTo>
                  <a:pt x="6601079" y="3303067"/>
                  <a:pt x="6574014" y="3276002"/>
                  <a:pt x="6540628" y="3276002"/>
                </a:cubicBezTo>
                <a:close/>
                <a:moveTo>
                  <a:pt x="9659724" y="3102719"/>
                </a:moveTo>
                <a:cubicBezTo>
                  <a:pt x="9626338" y="3102719"/>
                  <a:pt x="9599273" y="3129784"/>
                  <a:pt x="9599273" y="3163170"/>
                </a:cubicBezTo>
                <a:cubicBezTo>
                  <a:pt x="9599273" y="3196557"/>
                  <a:pt x="9626338" y="3223622"/>
                  <a:pt x="9659724" y="3223622"/>
                </a:cubicBezTo>
                <a:cubicBezTo>
                  <a:pt x="9693111" y="3223622"/>
                  <a:pt x="9720176" y="3196557"/>
                  <a:pt x="9720176" y="3163170"/>
                </a:cubicBezTo>
                <a:cubicBezTo>
                  <a:pt x="9720176" y="3129784"/>
                  <a:pt x="9693111" y="3102719"/>
                  <a:pt x="9659724" y="3102719"/>
                </a:cubicBezTo>
                <a:close/>
                <a:moveTo>
                  <a:pt x="6540628" y="3102719"/>
                </a:moveTo>
                <a:cubicBezTo>
                  <a:pt x="6507241" y="3102719"/>
                  <a:pt x="6480176" y="3129784"/>
                  <a:pt x="6480176" y="3163170"/>
                </a:cubicBezTo>
                <a:cubicBezTo>
                  <a:pt x="6480176" y="3196557"/>
                  <a:pt x="6507241" y="3223622"/>
                  <a:pt x="6540628" y="3223622"/>
                </a:cubicBezTo>
                <a:cubicBezTo>
                  <a:pt x="6574014" y="3223622"/>
                  <a:pt x="6601079" y="3196557"/>
                  <a:pt x="6601079" y="3163170"/>
                </a:cubicBezTo>
                <a:cubicBezTo>
                  <a:pt x="6601079" y="3129784"/>
                  <a:pt x="6574014" y="3102719"/>
                  <a:pt x="6540628" y="3102719"/>
                </a:cubicBezTo>
                <a:close/>
                <a:moveTo>
                  <a:pt x="9659724" y="2929435"/>
                </a:moveTo>
                <a:cubicBezTo>
                  <a:pt x="9626338" y="2929435"/>
                  <a:pt x="9599273" y="2956500"/>
                  <a:pt x="9599273" y="2989887"/>
                </a:cubicBezTo>
                <a:cubicBezTo>
                  <a:pt x="9599273" y="3023273"/>
                  <a:pt x="9626338" y="3050338"/>
                  <a:pt x="9659724" y="3050338"/>
                </a:cubicBezTo>
                <a:cubicBezTo>
                  <a:pt x="9693111" y="3050338"/>
                  <a:pt x="9720176" y="3023273"/>
                  <a:pt x="9720176" y="2989887"/>
                </a:cubicBezTo>
                <a:cubicBezTo>
                  <a:pt x="9720176" y="2956500"/>
                  <a:pt x="9693111" y="2929435"/>
                  <a:pt x="9659724" y="2929435"/>
                </a:cubicBezTo>
                <a:close/>
                <a:moveTo>
                  <a:pt x="6540628" y="2929435"/>
                </a:moveTo>
                <a:cubicBezTo>
                  <a:pt x="6507241" y="2929435"/>
                  <a:pt x="6480176" y="2956500"/>
                  <a:pt x="6480176" y="2989887"/>
                </a:cubicBezTo>
                <a:cubicBezTo>
                  <a:pt x="6480176" y="3023273"/>
                  <a:pt x="6507241" y="3050338"/>
                  <a:pt x="6540628" y="3050338"/>
                </a:cubicBezTo>
                <a:cubicBezTo>
                  <a:pt x="6574014" y="3050338"/>
                  <a:pt x="6601079" y="3023273"/>
                  <a:pt x="6601079" y="2989887"/>
                </a:cubicBezTo>
                <a:cubicBezTo>
                  <a:pt x="6601079" y="2956500"/>
                  <a:pt x="6574014" y="2929435"/>
                  <a:pt x="6540628" y="2929435"/>
                </a:cubicBezTo>
                <a:close/>
                <a:moveTo>
                  <a:pt x="9659724" y="2756152"/>
                </a:moveTo>
                <a:cubicBezTo>
                  <a:pt x="9626338" y="2756152"/>
                  <a:pt x="9599273" y="2783217"/>
                  <a:pt x="9599273" y="2816604"/>
                </a:cubicBezTo>
                <a:cubicBezTo>
                  <a:pt x="9599273" y="2849990"/>
                  <a:pt x="9626338" y="2877055"/>
                  <a:pt x="9659724" y="2877055"/>
                </a:cubicBezTo>
                <a:cubicBezTo>
                  <a:pt x="9693111" y="2877055"/>
                  <a:pt x="9720176" y="2849990"/>
                  <a:pt x="9720176" y="2816604"/>
                </a:cubicBezTo>
                <a:cubicBezTo>
                  <a:pt x="9720176" y="2783217"/>
                  <a:pt x="9693111" y="2756152"/>
                  <a:pt x="9659724" y="2756152"/>
                </a:cubicBezTo>
                <a:close/>
                <a:moveTo>
                  <a:pt x="6540628" y="2756152"/>
                </a:moveTo>
                <a:cubicBezTo>
                  <a:pt x="6507241" y="2756152"/>
                  <a:pt x="6480176" y="2783217"/>
                  <a:pt x="6480176" y="2816604"/>
                </a:cubicBezTo>
                <a:cubicBezTo>
                  <a:pt x="6480176" y="2849990"/>
                  <a:pt x="6507241" y="2877055"/>
                  <a:pt x="6540628" y="2877055"/>
                </a:cubicBezTo>
                <a:cubicBezTo>
                  <a:pt x="6574014" y="2877055"/>
                  <a:pt x="6601079" y="2849990"/>
                  <a:pt x="6601079" y="2816604"/>
                </a:cubicBezTo>
                <a:cubicBezTo>
                  <a:pt x="6601079" y="2783217"/>
                  <a:pt x="6574014" y="2756152"/>
                  <a:pt x="6540628" y="2756152"/>
                </a:cubicBezTo>
                <a:close/>
                <a:moveTo>
                  <a:pt x="9659724" y="2582869"/>
                </a:moveTo>
                <a:cubicBezTo>
                  <a:pt x="9626338" y="2582869"/>
                  <a:pt x="9599273" y="2609934"/>
                  <a:pt x="9599273" y="2643320"/>
                </a:cubicBezTo>
                <a:cubicBezTo>
                  <a:pt x="9599273" y="2676707"/>
                  <a:pt x="9626338" y="2703772"/>
                  <a:pt x="9659724" y="2703772"/>
                </a:cubicBezTo>
                <a:cubicBezTo>
                  <a:pt x="9693111" y="2703772"/>
                  <a:pt x="9720176" y="2676707"/>
                  <a:pt x="9720176" y="2643320"/>
                </a:cubicBezTo>
                <a:cubicBezTo>
                  <a:pt x="9720176" y="2609934"/>
                  <a:pt x="9693111" y="2582869"/>
                  <a:pt x="9659724" y="2582869"/>
                </a:cubicBezTo>
                <a:close/>
                <a:moveTo>
                  <a:pt x="6540628" y="2582869"/>
                </a:moveTo>
                <a:cubicBezTo>
                  <a:pt x="6507241" y="2582869"/>
                  <a:pt x="6480176" y="2609934"/>
                  <a:pt x="6480176" y="2643320"/>
                </a:cubicBezTo>
                <a:cubicBezTo>
                  <a:pt x="6480176" y="2676707"/>
                  <a:pt x="6507241" y="2703772"/>
                  <a:pt x="6540628" y="2703772"/>
                </a:cubicBezTo>
                <a:cubicBezTo>
                  <a:pt x="6574014" y="2703772"/>
                  <a:pt x="6601079" y="2676707"/>
                  <a:pt x="6601079" y="2643320"/>
                </a:cubicBezTo>
                <a:cubicBezTo>
                  <a:pt x="6601079" y="2609934"/>
                  <a:pt x="6574014" y="2582869"/>
                  <a:pt x="6540628" y="2582869"/>
                </a:cubicBezTo>
                <a:close/>
                <a:moveTo>
                  <a:pt x="9659724" y="2409585"/>
                </a:moveTo>
                <a:cubicBezTo>
                  <a:pt x="9626338" y="2409585"/>
                  <a:pt x="9599273" y="2436651"/>
                  <a:pt x="9599273" y="2470037"/>
                </a:cubicBezTo>
                <a:cubicBezTo>
                  <a:pt x="9599273" y="2503423"/>
                  <a:pt x="9626338" y="2530489"/>
                  <a:pt x="9659724" y="2530489"/>
                </a:cubicBezTo>
                <a:cubicBezTo>
                  <a:pt x="9693111" y="2530489"/>
                  <a:pt x="9720176" y="2503423"/>
                  <a:pt x="9720176" y="2470037"/>
                </a:cubicBezTo>
                <a:cubicBezTo>
                  <a:pt x="9720176" y="2436651"/>
                  <a:pt x="9693111" y="2409585"/>
                  <a:pt x="9659724" y="2409585"/>
                </a:cubicBezTo>
                <a:close/>
                <a:moveTo>
                  <a:pt x="6540628" y="2409585"/>
                </a:moveTo>
                <a:cubicBezTo>
                  <a:pt x="6507241" y="2409585"/>
                  <a:pt x="6480176" y="2436651"/>
                  <a:pt x="6480176" y="2470037"/>
                </a:cubicBezTo>
                <a:cubicBezTo>
                  <a:pt x="6480176" y="2503423"/>
                  <a:pt x="6507241" y="2530489"/>
                  <a:pt x="6540628" y="2530489"/>
                </a:cubicBezTo>
                <a:cubicBezTo>
                  <a:pt x="6574014" y="2530489"/>
                  <a:pt x="6601079" y="2503423"/>
                  <a:pt x="6601079" y="2470037"/>
                </a:cubicBezTo>
                <a:cubicBezTo>
                  <a:pt x="6601079" y="2436651"/>
                  <a:pt x="6574014" y="2409585"/>
                  <a:pt x="6540628" y="2409585"/>
                </a:cubicBezTo>
                <a:close/>
                <a:moveTo>
                  <a:pt x="9659724" y="2236302"/>
                </a:moveTo>
                <a:cubicBezTo>
                  <a:pt x="9626338" y="2236302"/>
                  <a:pt x="9599273" y="2263367"/>
                  <a:pt x="9599273" y="2296754"/>
                </a:cubicBezTo>
                <a:cubicBezTo>
                  <a:pt x="9599273" y="2330140"/>
                  <a:pt x="9626338" y="2357205"/>
                  <a:pt x="9659724" y="2357205"/>
                </a:cubicBezTo>
                <a:cubicBezTo>
                  <a:pt x="9693111" y="2357205"/>
                  <a:pt x="9720176" y="2330140"/>
                  <a:pt x="9720176" y="2296754"/>
                </a:cubicBezTo>
                <a:cubicBezTo>
                  <a:pt x="9720176" y="2263367"/>
                  <a:pt x="9693111" y="2236302"/>
                  <a:pt x="9659724" y="2236302"/>
                </a:cubicBezTo>
                <a:close/>
                <a:moveTo>
                  <a:pt x="6540628" y="2236302"/>
                </a:moveTo>
                <a:cubicBezTo>
                  <a:pt x="6507241" y="2236302"/>
                  <a:pt x="6480176" y="2263367"/>
                  <a:pt x="6480176" y="2296754"/>
                </a:cubicBezTo>
                <a:cubicBezTo>
                  <a:pt x="6480176" y="2330140"/>
                  <a:pt x="6507241" y="2357205"/>
                  <a:pt x="6540628" y="2357205"/>
                </a:cubicBezTo>
                <a:cubicBezTo>
                  <a:pt x="6574014" y="2357205"/>
                  <a:pt x="6601079" y="2330140"/>
                  <a:pt x="6601079" y="2296754"/>
                </a:cubicBezTo>
                <a:cubicBezTo>
                  <a:pt x="6601079" y="2263367"/>
                  <a:pt x="6574014" y="2236302"/>
                  <a:pt x="6540628" y="2236302"/>
                </a:cubicBezTo>
                <a:close/>
                <a:moveTo>
                  <a:pt x="9659724" y="2063019"/>
                </a:moveTo>
                <a:cubicBezTo>
                  <a:pt x="9626338" y="2063019"/>
                  <a:pt x="9599273" y="2090084"/>
                  <a:pt x="9599273" y="2123470"/>
                </a:cubicBezTo>
                <a:cubicBezTo>
                  <a:pt x="9599273" y="2156857"/>
                  <a:pt x="9626338" y="2183922"/>
                  <a:pt x="9659724" y="2183922"/>
                </a:cubicBezTo>
                <a:cubicBezTo>
                  <a:pt x="9693111" y="2183922"/>
                  <a:pt x="9720176" y="2156857"/>
                  <a:pt x="9720176" y="2123470"/>
                </a:cubicBezTo>
                <a:cubicBezTo>
                  <a:pt x="9720176" y="2090084"/>
                  <a:pt x="9693111" y="2063019"/>
                  <a:pt x="9659724" y="2063019"/>
                </a:cubicBezTo>
                <a:close/>
                <a:moveTo>
                  <a:pt x="6540628" y="2063019"/>
                </a:moveTo>
                <a:cubicBezTo>
                  <a:pt x="6507241" y="2063019"/>
                  <a:pt x="6480176" y="2090084"/>
                  <a:pt x="6480176" y="2123470"/>
                </a:cubicBezTo>
                <a:cubicBezTo>
                  <a:pt x="6480176" y="2156857"/>
                  <a:pt x="6507241" y="2183922"/>
                  <a:pt x="6540628" y="2183922"/>
                </a:cubicBezTo>
                <a:cubicBezTo>
                  <a:pt x="6574014" y="2183922"/>
                  <a:pt x="6601079" y="2156857"/>
                  <a:pt x="6601079" y="2123470"/>
                </a:cubicBezTo>
                <a:cubicBezTo>
                  <a:pt x="6601079" y="2090084"/>
                  <a:pt x="6574014" y="2063019"/>
                  <a:pt x="6540628" y="2063019"/>
                </a:cubicBezTo>
                <a:close/>
                <a:moveTo>
                  <a:pt x="9659724" y="1889735"/>
                </a:moveTo>
                <a:cubicBezTo>
                  <a:pt x="9626338" y="1889735"/>
                  <a:pt x="9599273" y="1916801"/>
                  <a:pt x="9599273" y="1950187"/>
                </a:cubicBezTo>
                <a:cubicBezTo>
                  <a:pt x="9599273" y="1983573"/>
                  <a:pt x="9626338" y="2010639"/>
                  <a:pt x="9659724" y="2010639"/>
                </a:cubicBezTo>
                <a:cubicBezTo>
                  <a:pt x="9693111" y="2010639"/>
                  <a:pt x="9720176" y="1983573"/>
                  <a:pt x="9720176" y="1950187"/>
                </a:cubicBezTo>
                <a:cubicBezTo>
                  <a:pt x="9720176" y="1916801"/>
                  <a:pt x="9693111" y="1889735"/>
                  <a:pt x="9659724" y="1889735"/>
                </a:cubicBezTo>
                <a:close/>
                <a:moveTo>
                  <a:pt x="6540628" y="1889735"/>
                </a:moveTo>
                <a:cubicBezTo>
                  <a:pt x="6507241" y="1889735"/>
                  <a:pt x="6480176" y="1916801"/>
                  <a:pt x="6480176" y="1950187"/>
                </a:cubicBezTo>
                <a:cubicBezTo>
                  <a:pt x="6480176" y="1983573"/>
                  <a:pt x="6507241" y="2010639"/>
                  <a:pt x="6540628" y="2010639"/>
                </a:cubicBezTo>
                <a:cubicBezTo>
                  <a:pt x="6574014" y="2010639"/>
                  <a:pt x="6601079" y="1983573"/>
                  <a:pt x="6601079" y="1950187"/>
                </a:cubicBezTo>
                <a:cubicBezTo>
                  <a:pt x="6601079" y="1916801"/>
                  <a:pt x="6574014" y="1889735"/>
                  <a:pt x="6540628" y="1889735"/>
                </a:cubicBezTo>
                <a:close/>
                <a:moveTo>
                  <a:pt x="9659724" y="1716452"/>
                </a:moveTo>
                <a:cubicBezTo>
                  <a:pt x="9626338" y="1716452"/>
                  <a:pt x="9599273" y="1743517"/>
                  <a:pt x="9599273" y="1776904"/>
                </a:cubicBezTo>
                <a:cubicBezTo>
                  <a:pt x="9599273" y="1810290"/>
                  <a:pt x="9626338" y="1837355"/>
                  <a:pt x="9659724" y="1837355"/>
                </a:cubicBezTo>
                <a:cubicBezTo>
                  <a:pt x="9693111" y="1837355"/>
                  <a:pt x="9720176" y="1810290"/>
                  <a:pt x="9720176" y="1776904"/>
                </a:cubicBezTo>
                <a:cubicBezTo>
                  <a:pt x="9720176" y="1743517"/>
                  <a:pt x="9693111" y="1716452"/>
                  <a:pt x="9659724" y="1716452"/>
                </a:cubicBezTo>
                <a:close/>
                <a:moveTo>
                  <a:pt x="6540628" y="1716452"/>
                </a:moveTo>
                <a:cubicBezTo>
                  <a:pt x="6507241" y="1716452"/>
                  <a:pt x="6480176" y="1743517"/>
                  <a:pt x="6480176" y="1776904"/>
                </a:cubicBezTo>
                <a:cubicBezTo>
                  <a:pt x="6480176" y="1810290"/>
                  <a:pt x="6507241" y="1837355"/>
                  <a:pt x="6540628" y="1837355"/>
                </a:cubicBezTo>
                <a:cubicBezTo>
                  <a:pt x="6574014" y="1837355"/>
                  <a:pt x="6601079" y="1810290"/>
                  <a:pt x="6601079" y="1776904"/>
                </a:cubicBezTo>
                <a:cubicBezTo>
                  <a:pt x="6601079" y="1743517"/>
                  <a:pt x="6574014" y="1716452"/>
                  <a:pt x="6540628" y="1716452"/>
                </a:cubicBezTo>
                <a:close/>
                <a:moveTo>
                  <a:pt x="9659724" y="1543169"/>
                </a:moveTo>
                <a:cubicBezTo>
                  <a:pt x="9626338" y="1543169"/>
                  <a:pt x="9599273" y="1570234"/>
                  <a:pt x="9599273" y="1603620"/>
                </a:cubicBezTo>
                <a:cubicBezTo>
                  <a:pt x="9599273" y="1637007"/>
                  <a:pt x="9626338" y="1664072"/>
                  <a:pt x="9659724" y="1664072"/>
                </a:cubicBezTo>
                <a:cubicBezTo>
                  <a:pt x="9693111" y="1664072"/>
                  <a:pt x="9720176" y="1637007"/>
                  <a:pt x="9720176" y="1603620"/>
                </a:cubicBezTo>
                <a:cubicBezTo>
                  <a:pt x="9720176" y="1570234"/>
                  <a:pt x="9693111" y="1543169"/>
                  <a:pt x="9659724" y="1543169"/>
                </a:cubicBezTo>
                <a:close/>
                <a:moveTo>
                  <a:pt x="6540628" y="1543169"/>
                </a:moveTo>
                <a:cubicBezTo>
                  <a:pt x="6507241" y="1543169"/>
                  <a:pt x="6480176" y="1570234"/>
                  <a:pt x="6480176" y="1603620"/>
                </a:cubicBezTo>
                <a:cubicBezTo>
                  <a:pt x="6480176" y="1637007"/>
                  <a:pt x="6507241" y="1664072"/>
                  <a:pt x="6540628" y="1664072"/>
                </a:cubicBezTo>
                <a:cubicBezTo>
                  <a:pt x="6574014" y="1664072"/>
                  <a:pt x="6601079" y="1637007"/>
                  <a:pt x="6601079" y="1603620"/>
                </a:cubicBezTo>
                <a:cubicBezTo>
                  <a:pt x="6601079" y="1570234"/>
                  <a:pt x="6574014" y="1543169"/>
                  <a:pt x="6540628" y="1543169"/>
                </a:cubicBezTo>
                <a:close/>
                <a:moveTo>
                  <a:pt x="9659724" y="1369885"/>
                </a:moveTo>
                <a:cubicBezTo>
                  <a:pt x="9626338" y="1369885"/>
                  <a:pt x="9599273" y="1396951"/>
                  <a:pt x="9599273" y="1430337"/>
                </a:cubicBezTo>
                <a:cubicBezTo>
                  <a:pt x="9599273" y="1463723"/>
                  <a:pt x="9626338" y="1490789"/>
                  <a:pt x="9659724" y="1490789"/>
                </a:cubicBezTo>
                <a:cubicBezTo>
                  <a:pt x="9693111" y="1490789"/>
                  <a:pt x="9720176" y="1463723"/>
                  <a:pt x="9720176" y="1430337"/>
                </a:cubicBezTo>
                <a:cubicBezTo>
                  <a:pt x="9720176" y="1396951"/>
                  <a:pt x="9693111" y="1369885"/>
                  <a:pt x="9659724" y="1369885"/>
                </a:cubicBezTo>
                <a:close/>
                <a:moveTo>
                  <a:pt x="6540628" y="1369885"/>
                </a:moveTo>
                <a:cubicBezTo>
                  <a:pt x="6507241" y="1369885"/>
                  <a:pt x="6480176" y="1396951"/>
                  <a:pt x="6480176" y="1430337"/>
                </a:cubicBezTo>
                <a:cubicBezTo>
                  <a:pt x="6480176" y="1463723"/>
                  <a:pt x="6507241" y="1490789"/>
                  <a:pt x="6540628" y="1490789"/>
                </a:cubicBezTo>
                <a:cubicBezTo>
                  <a:pt x="6574014" y="1490789"/>
                  <a:pt x="6601079" y="1463723"/>
                  <a:pt x="6601079" y="1430337"/>
                </a:cubicBezTo>
                <a:cubicBezTo>
                  <a:pt x="6601079" y="1396951"/>
                  <a:pt x="6574014" y="1369885"/>
                  <a:pt x="6540628" y="1369885"/>
                </a:cubicBezTo>
                <a:close/>
                <a:moveTo>
                  <a:pt x="9659724" y="1196602"/>
                </a:moveTo>
                <a:cubicBezTo>
                  <a:pt x="9626338" y="1196602"/>
                  <a:pt x="9599273" y="1223667"/>
                  <a:pt x="9599273" y="1257054"/>
                </a:cubicBezTo>
                <a:cubicBezTo>
                  <a:pt x="9599273" y="1290440"/>
                  <a:pt x="9626338" y="1317505"/>
                  <a:pt x="9659724" y="1317505"/>
                </a:cubicBezTo>
                <a:cubicBezTo>
                  <a:pt x="9693111" y="1317505"/>
                  <a:pt x="9720176" y="1290440"/>
                  <a:pt x="9720176" y="1257054"/>
                </a:cubicBezTo>
                <a:cubicBezTo>
                  <a:pt x="9720176" y="1223667"/>
                  <a:pt x="9693111" y="1196602"/>
                  <a:pt x="9659724" y="1196602"/>
                </a:cubicBezTo>
                <a:close/>
                <a:moveTo>
                  <a:pt x="6540628" y="1196602"/>
                </a:moveTo>
                <a:cubicBezTo>
                  <a:pt x="6507241" y="1196602"/>
                  <a:pt x="6480176" y="1223667"/>
                  <a:pt x="6480176" y="1257054"/>
                </a:cubicBezTo>
                <a:cubicBezTo>
                  <a:pt x="6480176" y="1290440"/>
                  <a:pt x="6507241" y="1317505"/>
                  <a:pt x="6540628" y="1317505"/>
                </a:cubicBezTo>
                <a:cubicBezTo>
                  <a:pt x="6574014" y="1317505"/>
                  <a:pt x="6601079" y="1290440"/>
                  <a:pt x="6601079" y="1257054"/>
                </a:cubicBezTo>
                <a:cubicBezTo>
                  <a:pt x="6601079" y="1223667"/>
                  <a:pt x="6574014" y="1196602"/>
                  <a:pt x="6540628" y="1196602"/>
                </a:cubicBezTo>
                <a:close/>
                <a:moveTo>
                  <a:pt x="9486696" y="1196602"/>
                </a:moveTo>
                <a:cubicBezTo>
                  <a:pt x="9453310" y="1196602"/>
                  <a:pt x="9426245" y="1223667"/>
                  <a:pt x="9426245" y="1257053"/>
                </a:cubicBezTo>
                <a:cubicBezTo>
                  <a:pt x="9426245" y="1290440"/>
                  <a:pt x="9453310" y="1317505"/>
                  <a:pt x="9486696" y="1317505"/>
                </a:cubicBezTo>
                <a:cubicBezTo>
                  <a:pt x="9520083" y="1317505"/>
                  <a:pt x="9547148" y="1290440"/>
                  <a:pt x="9547148" y="1257053"/>
                </a:cubicBezTo>
                <a:cubicBezTo>
                  <a:pt x="9547148" y="1223667"/>
                  <a:pt x="9520083" y="1196602"/>
                  <a:pt x="9486696" y="1196602"/>
                </a:cubicBezTo>
                <a:close/>
                <a:moveTo>
                  <a:pt x="9313413" y="1196602"/>
                </a:moveTo>
                <a:cubicBezTo>
                  <a:pt x="9280027" y="1196602"/>
                  <a:pt x="9252961" y="1223667"/>
                  <a:pt x="9252961" y="1257053"/>
                </a:cubicBezTo>
                <a:cubicBezTo>
                  <a:pt x="9252961" y="1290440"/>
                  <a:pt x="9280027" y="1317505"/>
                  <a:pt x="9313413" y="1317505"/>
                </a:cubicBezTo>
                <a:cubicBezTo>
                  <a:pt x="9346799" y="1317505"/>
                  <a:pt x="9373865" y="1290440"/>
                  <a:pt x="9373865" y="1257053"/>
                </a:cubicBezTo>
                <a:cubicBezTo>
                  <a:pt x="9373865" y="1223667"/>
                  <a:pt x="9346799" y="1196602"/>
                  <a:pt x="9313413" y="1196602"/>
                </a:cubicBezTo>
                <a:close/>
                <a:moveTo>
                  <a:pt x="9140130" y="1196602"/>
                </a:moveTo>
                <a:cubicBezTo>
                  <a:pt x="9106743" y="1196602"/>
                  <a:pt x="9079678" y="1223667"/>
                  <a:pt x="9079678" y="1257053"/>
                </a:cubicBezTo>
                <a:cubicBezTo>
                  <a:pt x="9079678" y="1290440"/>
                  <a:pt x="9106743" y="1317505"/>
                  <a:pt x="9140130" y="1317505"/>
                </a:cubicBezTo>
                <a:cubicBezTo>
                  <a:pt x="9173516" y="1317505"/>
                  <a:pt x="9200581" y="1290440"/>
                  <a:pt x="9200581" y="1257053"/>
                </a:cubicBezTo>
                <a:cubicBezTo>
                  <a:pt x="9200581" y="1223667"/>
                  <a:pt x="9173516" y="1196602"/>
                  <a:pt x="9140130" y="1196602"/>
                </a:cubicBezTo>
                <a:close/>
                <a:moveTo>
                  <a:pt x="8966846" y="1196602"/>
                </a:moveTo>
                <a:cubicBezTo>
                  <a:pt x="8933460" y="1196602"/>
                  <a:pt x="8906395" y="1223667"/>
                  <a:pt x="8906395" y="1257053"/>
                </a:cubicBezTo>
                <a:cubicBezTo>
                  <a:pt x="8906395" y="1290440"/>
                  <a:pt x="8933460" y="1317505"/>
                  <a:pt x="8966846" y="1317505"/>
                </a:cubicBezTo>
                <a:cubicBezTo>
                  <a:pt x="9000233" y="1317505"/>
                  <a:pt x="9027298" y="1290440"/>
                  <a:pt x="9027298" y="1257053"/>
                </a:cubicBezTo>
                <a:cubicBezTo>
                  <a:pt x="9027298" y="1223667"/>
                  <a:pt x="9000233" y="1196602"/>
                  <a:pt x="8966846" y="1196602"/>
                </a:cubicBezTo>
                <a:close/>
                <a:moveTo>
                  <a:pt x="8793563" y="1196602"/>
                </a:moveTo>
                <a:cubicBezTo>
                  <a:pt x="8760177" y="1196602"/>
                  <a:pt x="8733112" y="1223667"/>
                  <a:pt x="8733112" y="1257053"/>
                </a:cubicBezTo>
                <a:cubicBezTo>
                  <a:pt x="8733112" y="1290440"/>
                  <a:pt x="8760177" y="1317505"/>
                  <a:pt x="8793563" y="1317505"/>
                </a:cubicBezTo>
                <a:cubicBezTo>
                  <a:pt x="8826950" y="1317505"/>
                  <a:pt x="8854015" y="1290440"/>
                  <a:pt x="8854015" y="1257053"/>
                </a:cubicBezTo>
                <a:cubicBezTo>
                  <a:pt x="8854015" y="1223667"/>
                  <a:pt x="8826950" y="1196602"/>
                  <a:pt x="8793563" y="1196602"/>
                </a:cubicBezTo>
                <a:close/>
                <a:moveTo>
                  <a:pt x="8620280" y="1196602"/>
                </a:moveTo>
                <a:cubicBezTo>
                  <a:pt x="8586893" y="1196602"/>
                  <a:pt x="8559828" y="1223667"/>
                  <a:pt x="8559828" y="1257053"/>
                </a:cubicBezTo>
                <a:cubicBezTo>
                  <a:pt x="8559828" y="1290440"/>
                  <a:pt x="8586893" y="1317505"/>
                  <a:pt x="8620280" y="1317505"/>
                </a:cubicBezTo>
                <a:cubicBezTo>
                  <a:pt x="8653666" y="1317505"/>
                  <a:pt x="8680731" y="1290440"/>
                  <a:pt x="8680731" y="1257053"/>
                </a:cubicBezTo>
                <a:cubicBezTo>
                  <a:pt x="8680731" y="1223667"/>
                  <a:pt x="8653666" y="1196602"/>
                  <a:pt x="8620280" y="1196602"/>
                </a:cubicBezTo>
                <a:close/>
                <a:moveTo>
                  <a:pt x="8446996" y="1196602"/>
                </a:moveTo>
                <a:cubicBezTo>
                  <a:pt x="8413610" y="1196602"/>
                  <a:pt x="8386545" y="1223667"/>
                  <a:pt x="8386545" y="1257053"/>
                </a:cubicBezTo>
                <a:cubicBezTo>
                  <a:pt x="8386545" y="1290440"/>
                  <a:pt x="8413610" y="1317505"/>
                  <a:pt x="8446997" y="1317505"/>
                </a:cubicBezTo>
                <a:cubicBezTo>
                  <a:pt x="8480383" y="1317505"/>
                  <a:pt x="8507448" y="1290440"/>
                  <a:pt x="8507448" y="1257053"/>
                </a:cubicBezTo>
                <a:cubicBezTo>
                  <a:pt x="8507448" y="1223667"/>
                  <a:pt x="8480383" y="1196602"/>
                  <a:pt x="8446996" y="1196602"/>
                </a:cubicBezTo>
                <a:close/>
                <a:moveTo>
                  <a:pt x="8273713" y="1196602"/>
                </a:moveTo>
                <a:cubicBezTo>
                  <a:pt x="8240327" y="1196602"/>
                  <a:pt x="8213262" y="1223667"/>
                  <a:pt x="8213262" y="1257053"/>
                </a:cubicBezTo>
                <a:cubicBezTo>
                  <a:pt x="8213262" y="1290440"/>
                  <a:pt x="8240327" y="1317505"/>
                  <a:pt x="8273713" y="1317505"/>
                </a:cubicBezTo>
                <a:cubicBezTo>
                  <a:pt x="8307100" y="1317505"/>
                  <a:pt x="8334165" y="1290440"/>
                  <a:pt x="8334165" y="1257053"/>
                </a:cubicBezTo>
                <a:cubicBezTo>
                  <a:pt x="8334165" y="1223667"/>
                  <a:pt x="8307100" y="1196602"/>
                  <a:pt x="8273713" y="1196602"/>
                </a:cubicBezTo>
                <a:close/>
                <a:moveTo>
                  <a:pt x="8100430" y="1196602"/>
                </a:moveTo>
                <a:cubicBezTo>
                  <a:pt x="8067044" y="1196602"/>
                  <a:pt x="8039978" y="1223667"/>
                  <a:pt x="8039978" y="1257053"/>
                </a:cubicBezTo>
                <a:cubicBezTo>
                  <a:pt x="8039978" y="1290440"/>
                  <a:pt x="8067044" y="1317505"/>
                  <a:pt x="8100430" y="1317505"/>
                </a:cubicBezTo>
                <a:cubicBezTo>
                  <a:pt x="8133816" y="1317505"/>
                  <a:pt x="8160882" y="1290440"/>
                  <a:pt x="8160882" y="1257053"/>
                </a:cubicBezTo>
                <a:cubicBezTo>
                  <a:pt x="8160882" y="1223667"/>
                  <a:pt x="8133816" y="1196602"/>
                  <a:pt x="8100430" y="1196602"/>
                </a:cubicBezTo>
                <a:close/>
                <a:moveTo>
                  <a:pt x="7927147" y="1196602"/>
                </a:moveTo>
                <a:cubicBezTo>
                  <a:pt x="7893760" y="1196602"/>
                  <a:pt x="7866695" y="1223667"/>
                  <a:pt x="7866695" y="1257053"/>
                </a:cubicBezTo>
                <a:cubicBezTo>
                  <a:pt x="7866695" y="1290440"/>
                  <a:pt x="7893760" y="1317505"/>
                  <a:pt x="7927147" y="1317505"/>
                </a:cubicBezTo>
                <a:cubicBezTo>
                  <a:pt x="7960533" y="1317505"/>
                  <a:pt x="7987598" y="1290440"/>
                  <a:pt x="7987598" y="1257053"/>
                </a:cubicBezTo>
                <a:cubicBezTo>
                  <a:pt x="7987598" y="1223667"/>
                  <a:pt x="7960533" y="1196602"/>
                  <a:pt x="7927147" y="1196602"/>
                </a:cubicBezTo>
                <a:close/>
                <a:moveTo>
                  <a:pt x="7753863" y="1196602"/>
                </a:moveTo>
                <a:cubicBezTo>
                  <a:pt x="7720477" y="1196602"/>
                  <a:pt x="7693412" y="1223667"/>
                  <a:pt x="7693412" y="1257053"/>
                </a:cubicBezTo>
                <a:cubicBezTo>
                  <a:pt x="7693412" y="1290440"/>
                  <a:pt x="7720477" y="1317505"/>
                  <a:pt x="7753864" y="1317505"/>
                </a:cubicBezTo>
                <a:cubicBezTo>
                  <a:pt x="7787250" y="1317505"/>
                  <a:pt x="7814315" y="1290440"/>
                  <a:pt x="7814315" y="1257053"/>
                </a:cubicBezTo>
                <a:cubicBezTo>
                  <a:pt x="7814315" y="1223667"/>
                  <a:pt x="7787250" y="1196602"/>
                  <a:pt x="7753863" y="1196602"/>
                </a:cubicBezTo>
                <a:close/>
                <a:moveTo>
                  <a:pt x="7580580" y="1196602"/>
                </a:moveTo>
                <a:cubicBezTo>
                  <a:pt x="7547194" y="1196602"/>
                  <a:pt x="7520129" y="1223667"/>
                  <a:pt x="7520129" y="1257053"/>
                </a:cubicBezTo>
                <a:cubicBezTo>
                  <a:pt x="7520129" y="1290440"/>
                  <a:pt x="7547194" y="1317505"/>
                  <a:pt x="7580580" y="1317505"/>
                </a:cubicBezTo>
                <a:cubicBezTo>
                  <a:pt x="7613967" y="1317505"/>
                  <a:pt x="7641032" y="1290440"/>
                  <a:pt x="7641032" y="1257053"/>
                </a:cubicBezTo>
                <a:cubicBezTo>
                  <a:pt x="7641032" y="1223667"/>
                  <a:pt x="7613967" y="1196602"/>
                  <a:pt x="7580580" y="1196602"/>
                </a:cubicBezTo>
                <a:close/>
                <a:moveTo>
                  <a:pt x="7407297" y="1196602"/>
                </a:moveTo>
                <a:cubicBezTo>
                  <a:pt x="7373910" y="1196602"/>
                  <a:pt x="7346846" y="1223667"/>
                  <a:pt x="7346846" y="1257053"/>
                </a:cubicBezTo>
                <a:cubicBezTo>
                  <a:pt x="7346846" y="1290440"/>
                  <a:pt x="7373911" y="1317505"/>
                  <a:pt x="7407297" y="1317505"/>
                </a:cubicBezTo>
                <a:cubicBezTo>
                  <a:pt x="7440684" y="1317505"/>
                  <a:pt x="7467749" y="1290440"/>
                  <a:pt x="7467749" y="1257053"/>
                </a:cubicBezTo>
                <a:cubicBezTo>
                  <a:pt x="7467749" y="1223667"/>
                  <a:pt x="7440683" y="1196602"/>
                  <a:pt x="7407297" y="1196602"/>
                </a:cubicBezTo>
                <a:close/>
                <a:moveTo>
                  <a:pt x="7234014" y="1196602"/>
                </a:moveTo>
                <a:cubicBezTo>
                  <a:pt x="7200627" y="1196602"/>
                  <a:pt x="7173562" y="1223667"/>
                  <a:pt x="7173562" y="1257053"/>
                </a:cubicBezTo>
                <a:cubicBezTo>
                  <a:pt x="7173562" y="1290440"/>
                  <a:pt x="7200627" y="1317505"/>
                  <a:pt x="7234014" y="1317505"/>
                </a:cubicBezTo>
                <a:cubicBezTo>
                  <a:pt x="7267400" y="1317505"/>
                  <a:pt x="7294465" y="1290440"/>
                  <a:pt x="7294465" y="1257053"/>
                </a:cubicBezTo>
                <a:cubicBezTo>
                  <a:pt x="7294465" y="1223667"/>
                  <a:pt x="7267400" y="1196602"/>
                  <a:pt x="7234014" y="1196602"/>
                </a:cubicBezTo>
                <a:close/>
                <a:moveTo>
                  <a:pt x="7060730" y="1196602"/>
                </a:moveTo>
                <a:cubicBezTo>
                  <a:pt x="7027344" y="1196602"/>
                  <a:pt x="7000279" y="1223667"/>
                  <a:pt x="7000279" y="1257053"/>
                </a:cubicBezTo>
                <a:cubicBezTo>
                  <a:pt x="7000279" y="1290440"/>
                  <a:pt x="7027344" y="1317505"/>
                  <a:pt x="7060731" y="1317505"/>
                </a:cubicBezTo>
                <a:cubicBezTo>
                  <a:pt x="7094117" y="1317505"/>
                  <a:pt x="7121182" y="1290440"/>
                  <a:pt x="7121182" y="1257053"/>
                </a:cubicBezTo>
                <a:cubicBezTo>
                  <a:pt x="7121182" y="1223667"/>
                  <a:pt x="7094117" y="1196602"/>
                  <a:pt x="7060730" y="1196602"/>
                </a:cubicBezTo>
                <a:close/>
                <a:moveTo>
                  <a:pt x="6887447" y="1196602"/>
                </a:moveTo>
                <a:cubicBezTo>
                  <a:pt x="6854061" y="1196602"/>
                  <a:pt x="6826996" y="1223667"/>
                  <a:pt x="6826996" y="1257053"/>
                </a:cubicBezTo>
                <a:cubicBezTo>
                  <a:pt x="6826996" y="1290440"/>
                  <a:pt x="6854061" y="1317505"/>
                  <a:pt x="6887447" y="1317505"/>
                </a:cubicBezTo>
                <a:cubicBezTo>
                  <a:pt x="6920834" y="1317505"/>
                  <a:pt x="6947899" y="1290440"/>
                  <a:pt x="6947899" y="1257053"/>
                </a:cubicBezTo>
                <a:cubicBezTo>
                  <a:pt x="6947899" y="1223667"/>
                  <a:pt x="6920833" y="1196602"/>
                  <a:pt x="6887447" y="1196602"/>
                </a:cubicBezTo>
                <a:close/>
                <a:moveTo>
                  <a:pt x="6714164" y="1196602"/>
                </a:moveTo>
                <a:cubicBezTo>
                  <a:pt x="6680777" y="1196602"/>
                  <a:pt x="6653712" y="1223667"/>
                  <a:pt x="6653712" y="1257053"/>
                </a:cubicBezTo>
                <a:cubicBezTo>
                  <a:pt x="6653712" y="1290440"/>
                  <a:pt x="6680777" y="1317505"/>
                  <a:pt x="6714164" y="1317505"/>
                </a:cubicBezTo>
                <a:cubicBezTo>
                  <a:pt x="6747550" y="1317505"/>
                  <a:pt x="6774615" y="1290440"/>
                  <a:pt x="6774615" y="1257053"/>
                </a:cubicBezTo>
                <a:cubicBezTo>
                  <a:pt x="6774615" y="1223667"/>
                  <a:pt x="6747550" y="1196602"/>
                  <a:pt x="6714164" y="1196602"/>
                </a:cubicBezTo>
                <a:close/>
                <a:moveTo>
                  <a:pt x="0" y="0"/>
                </a:moveTo>
                <a:lnTo>
                  <a:pt x="10792791" y="0"/>
                </a:lnTo>
                <a:lnTo>
                  <a:pt x="10792791" y="7196954"/>
                </a:lnTo>
                <a:lnTo>
                  <a:pt x="0" y="7196954"/>
                </a:lnTo>
                <a:close/>
              </a:path>
            </a:pathLst>
          </a:custGeom>
          <a:gradFill rotWithShape="0">
            <a:gsLst>
              <a:gs pos="0">
                <a:srgbClr val="004271"/>
              </a:gs>
              <a:gs pos="100000">
                <a:srgbClr val="005ea1"/>
              </a:gs>
            </a:gsLst>
            <a:lin ang="13500000"/>
          </a:gradFill>
          <a:ln>
            <a:noFill/>
          </a:ln>
        </p:spPr>
        <p:style>
          <a:lnRef idx="2">
            <a:schemeClr val="accent1">
              <a:shade val="50000"/>
            </a:schemeClr>
          </a:lnRef>
          <a:fillRef idx="1">
            <a:schemeClr val="accent1"/>
          </a:fillRef>
          <a:effectRef idx="0">
            <a:schemeClr val="accent1"/>
          </a:effectRef>
          <a:fontRef idx="minor"/>
        </p:style>
        <p:txBody>
          <a:bodyPr lIns="360000" rIns="90000" tIns="360000" bIns="45000" anchor="t">
            <a:noAutofit/>
          </a:bodyPr>
          <a:p>
            <a:pPr>
              <a:lnSpc>
                <a:spcPct val="100000"/>
              </a:lnSpc>
            </a:pPr>
            <a:r>
              <a:rPr b="1" lang="zh-CN" sz="1800" spc="-1" strike="noStrike">
                <a:solidFill>
                  <a:srgbClr val="ffffff"/>
                </a:solidFill>
                <a:latin typeface="Candara"/>
                <a:ea typeface="微软雅黑"/>
              </a:rPr>
              <a:t>文字说明：</a:t>
            </a:r>
            <a:endParaRPr b="0" lang="en-US" sz="1800" spc="-1" strike="noStrike">
              <a:solidFill>
                <a:srgbClr val="000000"/>
              </a:solidFill>
              <a:latin typeface="Arial"/>
            </a:endParaRPr>
          </a:p>
        </p:txBody>
      </p:sp>
      <p:sp>
        <p:nvSpPr>
          <p:cNvPr id="1104"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文字文字文字</a:t>
            </a:r>
            <a:endParaRPr b="0" lang="en-US" sz="2000" spc="-1" strike="noStrike">
              <a:solidFill>
                <a:srgbClr val="000000"/>
              </a:solidFill>
              <a:latin typeface="Arial"/>
            </a:endParaRPr>
          </a:p>
        </p:txBody>
      </p:sp>
      <p:sp>
        <p:nvSpPr>
          <p:cNvPr id="1105" name="TextBox 3"/>
          <p:cNvSpPr/>
          <p:nvPr/>
        </p:nvSpPr>
        <p:spPr>
          <a:xfrm>
            <a:off x="9162000" y="359136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
        <p:nvSpPr>
          <p:cNvPr id="1106" name="矩形 5">
            <a:hlinkClick r:id="rId1"/>
          </p:cNvPr>
          <p:cNvSpPr/>
          <p:nvPr/>
        </p:nvSpPr>
        <p:spPr>
          <a:xfrm>
            <a:off x="0" y="0"/>
            <a:ext cx="11521800" cy="64796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a typeface="微软雅黑"/>
            </a:endParaRPr>
          </a:p>
        </p:txBody>
      </p:sp>
    </p:spTree>
  </p:cSld>
  <mc:AlternateContent>
    <mc:Choice Requires="p14">
      <p:transition spd="slow" advTm="2000" p14:dur="2000"/>
    </mc:Choice>
    <mc:Fallback>
      <p:transition spd="slow" advTm="2000"/>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形</a:t>
            </a:r>
            <a:r>
              <a:rPr b="0" lang="en-US" sz="4400" spc="-1" strike="noStrike">
                <a:solidFill>
                  <a:srgbClr val="262626"/>
                </a:solidFill>
                <a:latin typeface="Candara"/>
                <a:ea typeface="微软雅黑"/>
              </a:rPr>
              <a:t>——小型张</a:t>
            </a:r>
            <a:endParaRPr b="0" lang="en-US" sz="4400" spc="-1" strike="noStrike">
              <a:solidFill>
                <a:srgbClr val="000000"/>
              </a:solidFill>
              <a:latin typeface="Candara"/>
            </a:endParaRPr>
          </a:p>
        </p:txBody>
      </p:sp>
      <p:sp>
        <p:nvSpPr>
          <p:cNvPr id="1108" name="矩形 1"/>
          <p:cNvSpPr/>
          <p:nvPr/>
        </p:nvSpPr>
        <p:spPr>
          <a:xfrm>
            <a:off x="3960720" y="1440000"/>
            <a:ext cx="7200720" cy="4679640"/>
          </a:xfrm>
          <a:custGeom>
            <a:avLst/>
            <a:gdLst>
              <a:gd name="textAreaLeft" fmla="*/ 0 w 7200720"/>
              <a:gd name="textAreaRight" fmla="*/ 7201080 w 7200720"/>
              <a:gd name="textAreaTop" fmla="*/ 0 h 4679640"/>
              <a:gd name="textAreaBottom" fmla="*/ 4680000 h 4679640"/>
            </a:gdLst>
            <a:ahLst/>
            <a:rect l="textAreaLeft" t="textAreaTop" r="textAreaRight" b="textAreaBottom"/>
            <a:pathLst>
              <a:path w="10792791" h="7196954">
                <a:moveTo>
                  <a:pt x="9659724" y="5875503"/>
                </a:moveTo>
                <a:cubicBezTo>
                  <a:pt x="9626338" y="5875503"/>
                  <a:pt x="9599273" y="5902569"/>
                  <a:pt x="9599273" y="5935955"/>
                </a:cubicBezTo>
                <a:cubicBezTo>
                  <a:pt x="9599273" y="5969341"/>
                  <a:pt x="9626338" y="5996407"/>
                  <a:pt x="9659724" y="5996407"/>
                </a:cubicBezTo>
                <a:cubicBezTo>
                  <a:pt x="9693111" y="5996407"/>
                  <a:pt x="9720176" y="5969341"/>
                  <a:pt x="9720176" y="5935955"/>
                </a:cubicBezTo>
                <a:cubicBezTo>
                  <a:pt x="9720176" y="5902569"/>
                  <a:pt x="9693111" y="5875503"/>
                  <a:pt x="9659724" y="5875503"/>
                </a:cubicBezTo>
                <a:close/>
                <a:moveTo>
                  <a:pt x="6540628" y="5875503"/>
                </a:moveTo>
                <a:cubicBezTo>
                  <a:pt x="6507241" y="5875503"/>
                  <a:pt x="6480176" y="5902569"/>
                  <a:pt x="6480176" y="5935955"/>
                </a:cubicBezTo>
                <a:cubicBezTo>
                  <a:pt x="6480176" y="5969341"/>
                  <a:pt x="6507241" y="5996407"/>
                  <a:pt x="6540628" y="5996407"/>
                </a:cubicBezTo>
                <a:cubicBezTo>
                  <a:pt x="6574014" y="5996407"/>
                  <a:pt x="6601079" y="5969341"/>
                  <a:pt x="6601079" y="5935955"/>
                </a:cubicBezTo>
                <a:cubicBezTo>
                  <a:pt x="6601079" y="5902569"/>
                  <a:pt x="6574014" y="5875503"/>
                  <a:pt x="6540628" y="5875503"/>
                </a:cubicBezTo>
                <a:close/>
                <a:moveTo>
                  <a:pt x="9486696" y="5875248"/>
                </a:moveTo>
                <a:cubicBezTo>
                  <a:pt x="9453310" y="5875248"/>
                  <a:pt x="9426245" y="5902313"/>
                  <a:pt x="9426245" y="5935699"/>
                </a:cubicBezTo>
                <a:cubicBezTo>
                  <a:pt x="9426245" y="5969086"/>
                  <a:pt x="9453310" y="5996151"/>
                  <a:pt x="9486696" y="5996151"/>
                </a:cubicBezTo>
                <a:cubicBezTo>
                  <a:pt x="9520083" y="5996151"/>
                  <a:pt x="9547148" y="5969086"/>
                  <a:pt x="9547148" y="5935699"/>
                </a:cubicBezTo>
                <a:cubicBezTo>
                  <a:pt x="9547148" y="5902313"/>
                  <a:pt x="9520083" y="5875248"/>
                  <a:pt x="9486696" y="5875248"/>
                </a:cubicBezTo>
                <a:close/>
                <a:moveTo>
                  <a:pt x="9313413" y="5875248"/>
                </a:moveTo>
                <a:cubicBezTo>
                  <a:pt x="9280027" y="5875248"/>
                  <a:pt x="9252961" y="5902313"/>
                  <a:pt x="9252961" y="5935699"/>
                </a:cubicBezTo>
                <a:cubicBezTo>
                  <a:pt x="9252961" y="5969086"/>
                  <a:pt x="9280027" y="5996151"/>
                  <a:pt x="9313413" y="5996151"/>
                </a:cubicBezTo>
                <a:cubicBezTo>
                  <a:pt x="9346799" y="5996151"/>
                  <a:pt x="9373865" y="5969086"/>
                  <a:pt x="9373865" y="5935699"/>
                </a:cubicBezTo>
                <a:cubicBezTo>
                  <a:pt x="9373865" y="5902313"/>
                  <a:pt x="9346799" y="5875248"/>
                  <a:pt x="9313413" y="5875248"/>
                </a:cubicBezTo>
                <a:close/>
                <a:moveTo>
                  <a:pt x="9140130" y="5875248"/>
                </a:moveTo>
                <a:cubicBezTo>
                  <a:pt x="9106743" y="5875248"/>
                  <a:pt x="9079678" y="5902313"/>
                  <a:pt x="9079678" y="5935699"/>
                </a:cubicBezTo>
                <a:cubicBezTo>
                  <a:pt x="9079678" y="5969086"/>
                  <a:pt x="9106743" y="5996151"/>
                  <a:pt x="9140130" y="5996151"/>
                </a:cubicBezTo>
                <a:cubicBezTo>
                  <a:pt x="9173516" y="5996151"/>
                  <a:pt x="9200581" y="5969086"/>
                  <a:pt x="9200581" y="5935699"/>
                </a:cubicBezTo>
                <a:cubicBezTo>
                  <a:pt x="9200581" y="5902313"/>
                  <a:pt x="9173516" y="5875248"/>
                  <a:pt x="9140130" y="5875248"/>
                </a:cubicBezTo>
                <a:close/>
                <a:moveTo>
                  <a:pt x="8966846" y="5875248"/>
                </a:moveTo>
                <a:cubicBezTo>
                  <a:pt x="8933460" y="5875248"/>
                  <a:pt x="8906395" y="5902313"/>
                  <a:pt x="8906395" y="5935699"/>
                </a:cubicBezTo>
                <a:cubicBezTo>
                  <a:pt x="8906395" y="5969086"/>
                  <a:pt x="8933460" y="5996151"/>
                  <a:pt x="8966846" y="5996151"/>
                </a:cubicBezTo>
                <a:cubicBezTo>
                  <a:pt x="9000233" y="5996151"/>
                  <a:pt x="9027298" y="5969086"/>
                  <a:pt x="9027298" y="5935699"/>
                </a:cubicBezTo>
                <a:cubicBezTo>
                  <a:pt x="9027298" y="5902313"/>
                  <a:pt x="9000233" y="5875248"/>
                  <a:pt x="8966846" y="5875248"/>
                </a:cubicBezTo>
                <a:close/>
                <a:moveTo>
                  <a:pt x="8793563" y="5875248"/>
                </a:moveTo>
                <a:cubicBezTo>
                  <a:pt x="8760177" y="5875248"/>
                  <a:pt x="8733112" y="5902313"/>
                  <a:pt x="8733112" y="5935699"/>
                </a:cubicBezTo>
                <a:cubicBezTo>
                  <a:pt x="8733112" y="5969086"/>
                  <a:pt x="8760177" y="5996151"/>
                  <a:pt x="8793563" y="5996151"/>
                </a:cubicBezTo>
                <a:cubicBezTo>
                  <a:pt x="8826950" y="5996151"/>
                  <a:pt x="8854015" y="5969086"/>
                  <a:pt x="8854015" y="5935699"/>
                </a:cubicBezTo>
                <a:cubicBezTo>
                  <a:pt x="8854015" y="5902313"/>
                  <a:pt x="8826950" y="5875248"/>
                  <a:pt x="8793563" y="5875248"/>
                </a:cubicBezTo>
                <a:close/>
                <a:moveTo>
                  <a:pt x="8620280" y="5875248"/>
                </a:moveTo>
                <a:cubicBezTo>
                  <a:pt x="8586893" y="5875248"/>
                  <a:pt x="8559828" y="5902313"/>
                  <a:pt x="8559828" y="5935699"/>
                </a:cubicBezTo>
                <a:cubicBezTo>
                  <a:pt x="8559828" y="5969086"/>
                  <a:pt x="8586893" y="5996151"/>
                  <a:pt x="8620280" y="5996151"/>
                </a:cubicBezTo>
                <a:cubicBezTo>
                  <a:pt x="8653666" y="5996151"/>
                  <a:pt x="8680731" y="5969086"/>
                  <a:pt x="8680731" y="5935699"/>
                </a:cubicBezTo>
                <a:cubicBezTo>
                  <a:pt x="8680731" y="5902313"/>
                  <a:pt x="8653666" y="5875248"/>
                  <a:pt x="8620280" y="5875248"/>
                </a:cubicBezTo>
                <a:close/>
                <a:moveTo>
                  <a:pt x="8446997" y="5875248"/>
                </a:moveTo>
                <a:cubicBezTo>
                  <a:pt x="8413610" y="5875248"/>
                  <a:pt x="8386545" y="5902313"/>
                  <a:pt x="8386545" y="5935699"/>
                </a:cubicBezTo>
                <a:cubicBezTo>
                  <a:pt x="8386545" y="5969086"/>
                  <a:pt x="8413610" y="5996151"/>
                  <a:pt x="8446997" y="5996151"/>
                </a:cubicBezTo>
                <a:cubicBezTo>
                  <a:pt x="8480383" y="5996151"/>
                  <a:pt x="8507448" y="5969086"/>
                  <a:pt x="8507448" y="5935699"/>
                </a:cubicBezTo>
                <a:cubicBezTo>
                  <a:pt x="8507448" y="5902313"/>
                  <a:pt x="8480383" y="5875248"/>
                  <a:pt x="8446997" y="5875248"/>
                </a:cubicBezTo>
                <a:close/>
                <a:moveTo>
                  <a:pt x="8273713" y="5875248"/>
                </a:moveTo>
                <a:cubicBezTo>
                  <a:pt x="8240327" y="5875248"/>
                  <a:pt x="8213262" y="5902313"/>
                  <a:pt x="8213262" y="5935699"/>
                </a:cubicBezTo>
                <a:cubicBezTo>
                  <a:pt x="8213262" y="5969086"/>
                  <a:pt x="8240327" y="5996151"/>
                  <a:pt x="8273713" y="5996151"/>
                </a:cubicBezTo>
                <a:cubicBezTo>
                  <a:pt x="8307100" y="5996151"/>
                  <a:pt x="8334165" y="5969086"/>
                  <a:pt x="8334165" y="5935699"/>
                </a:cubicBezTo>
                <a:cubicBezTo>
                  <a:pt x="8334165" y="5902313"/>
                  <a:pt x="8307100" y="5875248"/>
                  <a:pt x="8273713" y="5875248"/>
                </a:cubicBezTo>
                <a:close/>
                <a:moveTo>
                  <a:pt x="8100430" y="5875248"/>
                </a:moveTo>
                <a:cubicBezTo>
                  <a:pt x="8067044" y="5875248"/>
                  <a:pt x="8039978" y="5902313"/>
                  <a:pt x="8039978" y="5935699"/>
                </a:cubicBezTo>
                <a:cubicBezTo>
                  <a:pt x="8039978" y="5969086"/>
                  <a:pt x="8067044" y="5996151"/>
                  <a:pt x="8100430" y="5996151"/>
                </a:cubicBezTo>
                <a:cubicBezTo>
                  <a:pt x="8133816" y="5996151"/>
                  <a:pt x="8160882" y="5969086"/>
                  <a:pt x="8160882" y="5935699"/>
                </a:cubicBezTo>
                <a:cubicBezTo>
                  <a:pt x="8160882" y="5902313"/>
                  <a:pt x="8133816" y="5875248"/>
                  <a:pt x="8100430" y="5875248"/>
                </a:cubicBezTo>
                <a:close/>
                <a:moveTo>
                  <a:pt x="7927147" y="5875248"/>
                </a:moveTo>
                <a:cubicBezTo>
                  <a:pt x="7893760" y="5875248"/>
                  <a:pt x="7866695" y="5902313"/>
                  <a:pt x="7866695" y="5935699"/>
                </a:cubicBezTo>
                <a:cubicBezTo>
                  <a:pt x="7866695" y="5969086"/>
                  <a:pt x="7893760" y="5996151"/>
                  <a:pt x="7927147" y="5996151"/>
                </a:cubicBezTo>
                <a:cubicBezTo>
                  <a:pt x="7960533" y="5996151"/>
                  <a:pt x="7987598" y="5969086"/>
                  <a:pt x="7987598" y="5935699"/>
                </a:cubicBezTo>
                <a:cubicBezTo>
                  <a:pt x="7987598" y="5902313"/>
                  <a:pt x="7960533" y="5875248"/>
                  <a:pt x="7927147" y="5875248"/>
                </a:cubicBezTo>
                <a:close/>
                <a:moveTo>
                  <a:pt x="7753864" y="5875248"/>
                </a:moveTo>
                <a:cubicBezTo>
                  <a:pt x="7720477" y="5875248"/>
                  <a:pt x="7693412" y="5902313"/>
                  <a:pt x="7693412" y="5935699"/>
                </a:cubicBezTo>
                <a:cubicBezTo>
                  <a:pt x="7693412" y="5969086"/>
                  <a:pt x="7720477" y="5996151"/>
                  <a:pt x="7753864" y="5996151"/>
                </a:cubicBezTo>
                <a:cubicBezTo>
                  <a:pt x="7787250" y="5996151"/>
                  <a:pt x="7814315" y="5969086"/>
                  <a:pt x="7814315" y="5935699"/>
                </a:cubicBezTo>
                <a:cubicBezTo>
                  <a:pt x="7814315" y="5902313"/>
                  <a:pt x="7787250" y="5875248"/>
                  <a:pt x="7753864" y="5875248"/>
                </a:cubicBezTo>
                <a:close/>
                <a:moveTo>
                  <a:pt x="7580580" y="5875248"/>
                </a:moveTo>
                <a:cubicBezTo>
                  <a:pt x="7547194" y="5875248"/>
                  <a:pt x="7520129" y="5902313"/>
                  <a:pt x="7520129" y="5935699"/>
                </a:cubicBezTo>
                <a:cubicBezTo>
                  <a:pt x="7520129" y="5969086"/>
                  <a:pt x="7547194" y="5996151"/>
                  <a:pt x="7580580" y="5996151"/>
                </a:cubicBezTo>
                <a:cubicBezTo>
                  <a:pt x="7613967" y="5996151"/>
                  <a:pt x="7641032" y="5969086"/>
                  <a:pt x="7641032" y="5935699"/>
                </a:cubicBezTo>
                <a:cubicBezTo>
                  <a:pt x="7641032" y="5902313"/>
                  <a:pt x="7613967" y="5875248"/>
                  <a:pt x="7580580" y="5875248"/>
                </a:cubicBezTo>
                <a:close/>
                <a:moveTo>
                  <a:pt x="7407297" y="5875248"/>
                </a:moveTo>
                <a:cubicBezTo>
                  <a:pt x="7373911" y="5875248"/>
                  <a:pt x="7346846" y="5902313"/>
                  <a:pt x="7346846" y="5935699"/>
                </a:cubicBezTo>
                <a:cubicBezTo>
                  <a:pt x="7346846" y="5969086"/>
                  <a:pt x="7373911" y="5996151"/>
                  <a:pt x="7407297" y="5996151"/>
                </a:cubicBezTo>
                <a:cubicBezTo>
                  <a:pt x="7440684" y="5996151"/>
                  <a:pt x="7467749" y="5969086"/>
                  <a:pt x="7467749" y="5935699"/>
                </a:cubicBezTo>
                <a:cubicBezTo>
                  <a:pt x="7467749" y="5902313"/>
                  <a:pt x="7440684" y="5875248"/>
                  <a:pt x="7407297" y="5875248"/>
                </a:cubicBezTo>
                <a:close/>
                <a:moveTo>
                  <a:pt x="7234014" y="5875248"/>
                </a:moveTo>
                <a:cubicBezTo>
                  <a:pt x="7200627" y="5875248"/>
                  <a:pt x="7173562" y="5902313"/>
                  <a:pt x="7173562" y="5935699"/>
                </a:cubicBezTo>
                <a:cubicBezTo>
                  <a:pt x="7173562" y="5969086"/>
                  <a:pt x="7200627" y="5996151"/>
                  <a:pt x="7234014" y="5996151"/>
                </a:cubicBezTo>
                <a:cubicBezTo>
                  <a:pt x="7267400" y="5996151"/>
                  <a:pt x="7294465" y="5969086"/>
                  <a:pt x="7294465" y="5935699"/>
                </a:cubicBezTo>
                <a:cubicBezTo>
                  <a:pt x="7294465" y="5902313"/>
                  <a:pt x="7267400" y="5875248"/>
                  <a:pt x="7234014" y="5875248"/>
                </a:cubicBezTo>
                <a:close/>
                <a:moveTo>
                  <a:pt x="7060731" y="5875248"/>
                </a:moveTo>
                <a:cubicBezTo>
                  <a:pt x="7027344" y="5875248"/>
                  <a:pt x="7000279" y="5902313"/>
                  <a:pt x="7000279" y="5935699"/>
                </a:cubicBezTo>
                <a:cubicBezTo>
                  <a:pt x="7000279" y="5969086"/>
                  <a:pt x="7027344" y="5996151"/>
                  <a:pt x="7060731" y="5996151"/>
                </a:cubicBezTo>
                <a:cubicBezTo>
                  <a:pt x="7094117" y="5996151"/>
                  <a:pt x="7121182" y="5969086"/>
                  <a:pt x="7121182" y="5935699"/>
                </a:cubicBezTo>
                <a:cubicBezTo>
                  <a:pt x="7121182" y="5902313"/>
                  <a:pt x="7094117" y="5875248"/>
                  <a:pt x="7060731" y="5875248"/>
                </a:cubicBezTo>
                <a:close/>
                <a:moveTo>
                  <a:pt x="6887447" y="5875248"/>
                </a:moveTo>
                <a:cubicBezTo>
                  <a:pt x="6854061" y="5875248"/>
                  <a:pt x="6826996" y="5902313"/>
                  <a:pt x="6826996" y="5935699"/>
                </a:cubicBezTo>
                <a:cubicBezTo>
                  <a:pt x="6826996" y="5969086"/>
                  <a:pt x="6854061" y="5996151"/>
                  <a:pt x="6887447" y="5996151"/>
                </a:cubicBezTo>
                <a:cubicBezTo>
                  <a:pt x="6920834" y="5996151"/>
                  <a:pt x="6947899" y="5969086"/>
                  <a:pt x="6947899" y="5935699"/>
                </a:cubicBezTo>
                <a:cubicBezTo>
                  <a:pt x="6947899" y="5902313"/>
                  <a:pt x="6920834" y="5875248"/>
                  <a:pt x="6887447" y="5875248"/>
                </a:cubicBezTo>
                <a:close/>
                <a:moveTo>
                  <a:pt x="6714164" y="5875248"/>
                </a:moveTo>
                <a:cubicBezTo>
                  <a:pt x="6680777" y="5875248"/>
                  <a:pt x="6653712" y="5902313"/>
                  <a:pt x="6653712" y="5935699"/>
                </a:cubicBezTo>
                <a:cubicBezTo>
                  <a:pt x="6653712" y="5969086"/>
                  <a:pt x="6680777" y="5996151"/>
                  <a:pt x="6714164" y="5996151"/>
                </a:cubicBezTo>
                <a:cubicBezTo>
                  <a:pt x="6747550" y="5996151"/>
                  <a:pt x="6774615" y="5969086"/>
                  <a:pt x="6774615" y="5935699"/>
                </a:cubicBezTo>
                <a:cubicBezTo>
                  <a:pt x="6774615" y="5902313"/>
                  <a:pt x="6747550" y="5875248"/>
                  <a:pt x="6714164" y="5875248"/>
                </a:cubicBezTo>
                <a:close/>
                <a:moveTo>
                  <a:pt x="9659724" y="5702220"/>
                </a:moveTo>
                <a:cubicBezTo>
                  <a:pt x="9626338" y="5702220"/>
                  <a:pt x="9599273" y="5729285"/>
                  <a:pt x="9599273" y="5762672"/>
                </a:cubicBezTo>
                <a:cubicBezTo>
                  <a:pt x="9599273" y="5796058"/>
                  <a:pt x="9626338" y="5823123"/>
                  <a:pt x="9659724" y="5823123"/>
                </a:cubicBezTo>
                <a:cubicBezTo>
                  <a:pt x="9693111" y="5823123"/>
                  <a:pt x="9720176" y="5796058"/>
                  <a:pt x="9720176" y="5762672"/>
                </a:cubicBezTo>
                <a:cubicBezTo>
                  <a:pt x="9720176" y="5729285"/>
                  <a:pt x="9693111" y="5702220"/>
                  <a:pt x="9659724" y="5702220"/>
                </a:cubicBezTo>
                <a:close/>
                <a:moveTo>
                  <a:pt x="6540628" y="5702220"/>
                </a:moveTo>
                <a:cubicBezTo>
                  <a:pt x="6507241" y="5702220"/>
                  <a:pt x="6480176" y="5729285"/>
                  <a:pt x="6480176" y="5762672"/>
                </a:cubicBezTo>
                <a:cubicBezTo>
                  <a:pt x="6480176" y="5796058"/>
                  <a:pt x="6507241" y="5823123"/>
                  <a:pt x="6540628" y="5823123"/>
                </a:cubicBezTo>
                <a:cubicBezTo>
                  <a:pt x="6574014" y="5823123"/>
                  <a:pt x="6601079" y="5796058"/>
                  <a:pt x="6601079" y="5762672"/>
                </a:cubicBezTo>
                <a:cubicBezTo>
                  <a:pt x="6601079" y="5729285"/>
                  <a:pt x="6574014" y="5702220"/>
                  <a:pt x="6540628" y="5702220"/>
                </a:cubicBezTo>
                <a:close/>
                <a:moveTo>
                  <a:pt x="9659724" y="5528937"/>
                </a:moveTo>
                <a:cubicBezTo>
                  <a:pt x="9626338" y="5528937"/>
                  <a:pt x="9599273" y="5556002"/>
                  <a:pt x="9599273" y="5589388"/>
                </a:cubicBezTo>
                <a:cubicBezTo>
                  <a:pt x="9599273" y="5622775"/>
                  <a:pt x="9626338" y="5649840"/>
                  <a:pt x="9659724" y="5649840"/>
                </a:cubicBezTo>
                <a:cubicBezTo>
                  <a:pt x="9693111" y="5649840"/>
                  <a:pt x="9720176" y="5622775"/>
                  <a:pt x="9720176" y="5589388"/>
                </a:cubicBezTo>
                <a:cubicBezTo>
                  <a:pt x="9720176" y="5556002"/>
                  <a:pt x="9693111" y="5528937"/>
                  <a:pt x="9659724" y="5528937"/>
                </a:cubicBezTo>
                <a:close/>
                <a:moveTo>
                  <a:pt x="6540628" y="5528937"/>
                </a:moveTo>
                <a:cubicBezTo>
                  <a:pt x="6507241" y="5528937"/>
                  <a:pt x="6480176" y="5556002"/>
                  <a:pt x="6480176" y="5589388"/>
                </a:cubicBezTo>
                <a:cubicBezTo>
                  <a:pt x="6480176" y="5622775"/>
                  <a:pt x="6507241" y="5649840"/>
                  <a:pt x="6540628" y="5649840"/>
                </a:cubicBezTo>
                <a:cubicBezTo>
                  <a:pt x="6574014" y="5649840"/>
                  <a:pt x="6601079" y="5622775"/>
                  <a:pt x="6601079" y="5589388"/>
                </a:cubicBezTo>
                <a:cubicBezTo>
                  <a:pt x="6601079" y="5556002"/>
                  <a:pt x="6574014" y="5528937"/>
                  <a:pt x="6540628" y="5528937"/>
                </a:cubicBezTo>
                <a:close/>
                <a:moveTo>
                  <a:pt x="9659724" y="5355654"/>
                </a:moveTo>
                <a:cubicBezTo>
                  <a:pt x="9626338" y="5355654"/>
                  <a:pt x="9599273" y="5382719"/>
                  <a:pt x="9599273" y="5416105"/>
                </a:cubicBezTo>
                <a:cubicBezTo>
                  <a:pt x="9599273" y="5449492"/>
                  <a:pt x="9626338" y="5476557"/>
                  <a:pt x="9659724" y="5476557"/>
                </a:cubicBezTo>
                <a:cubicBezTo>
                  <a:pt x="9693111" y="5476557"/>
                  <a:pt x="9720176" y="5449492"/>
                  <a:pt x="9720176" y="5416105"/>
                </a:cubicBezTo>
                <a:cubicBezTo>
                  <a:pt x="9720176" y="5382719"/>
                  <a:pt x="9693111" y="5355654"/>
                  <a:pt x="9659724" y="5355654"/>
                </a:cubicBezTo>
                <a:close/>
                <a:moveTo>
                  <a:pt x="6540628" y="5355654"/>
                </a:moveTo>
                <a:cubicBezTo>
                  <a:pt x="6507241" y="5355654"/>
                  <a:pt x="6480176" y="5382719"/>
                  <a:pt x="6480176" y="5416105"/>
                </a:cubicBezTo>
                <a:cubicBezTo>
                  <a:pt x="6480176" y="5449492"/>
                  <a:pt x="6507241" y="5476557"/>
                  <a:pt x="6540628" y="5476557"/>
                </a:cubicBezTo>
                <a:cubicBezTo>
                  <a:pt x="6574014" y="5476557"/>
                  <a:pt x="6601079" y="5449492"/>
                  <a:pt x="6601079" y="5416105"/>
                </a:cubicBezTo>
                <a:cubicBezTo>
                  <a:pt x="6601079" y="5382719"/>
                  <a:pt x="6574014" y="5355654"/>
                  <a:pt x="6540628" y="5355654"/>
                </a:cubicBezTo>
                <a:close/>
                <a:moveTo>
                  <a:pt x="9659724" y="5182370"/>
                </a:moveTo>
                <a:cubicBezTo>
                  <a:pt x="9626338" y="5182370"/>
                  <a:pt x="9599273" y="5209435"/>
                  <a:pt x="9599273" y="5242822"/>
                </a:cubicBezTo>
                <a:cubicBezTo>
                  <a:pt x="9599273" y="5276208"/>
                  <a:pt x="9626338" y="5303273"/>
                  <a:pt x="9659724" y="5303273"/>
                </a:cubicBezTo>
                <a:cubicBezTo>
                  <a:pt x="9693111" y="5303273"/>
                  <a:pt x="9720176" y="5276208"/>
                  <a:pt x="9720176" y="5242822"/>
                </a:cubicBezTo>
                <a:cubicBezTo>
                  <a:pt x="9720176" y="5209435"/>
                  <a:pt x="9693111" y="5182370"/>
                  <a:pt x="9659724" y="5182370"/>
                </a:cubicBezTo>
                <a:close/>
                <a:moveTo>
                  <a:pt x="6540628" y="5182370"/>
                </a:moveTo>
                <a:cubicBezTo>
                  <a:pt x="6507241" y="5182370"/>
                  <a:pt x="6480176" y="5209435"/>
                  <a:pt x="6480176" y="5242822"/>
                </a:cubicBezTo>
                <a:cubicBezTo>
                  <a:pt x="6480176" y="5276208"/>
                  <a:pt x="6507241" y="5303273"/>
                  <a:pt x="6540628" y="5303273"/>
                </a:cubicBezTo>
                <a:cubicBezTo>
                  <a:pt x="6574014" y="5303273"/>
                  <a:pt x="6601079" y="5276208"/>
                  <a:pt x="6601079" y="5242822"/>
                </a:cubicBezTo>
                <a:cubicBezTo>
                  <a:pt x="6601079" y="5209435"/>
                  <a:pt x="6574014" y="5182370"/>
                  <a:pt x="6540628" y="5182370"/>
                </a:cubicBezTo>
                <a:close/>
                <a:moveTo>
                  <a:pt x="9659724" y="5009087"/>
                </a:moveTo>
                <a:cubicBezTo>
                  <a:pt x="9626338" y="5009087"/>
                  <a:pt x="9599273" y="5036152"/>
                  <a:pt x="9599273" y="5069539"/>
                </a:cubicBezTo>
                <a:cubicBezTo>
                  <a:pt x="9599273" y="5102925"/>
                  <a:pt x="9626338" y="5129990"/>
                  <a:pt x="9659724" y="5129990"/>
                </a:cubicBezTo>
                <a:cubicBezTo>
                  <a:pt x="9693111" y="5129990"/>
                  <a:pt x="9720176" y="5102925"/>
                  <a:pt x="9720176" y="5069538"/>
                </a:cubicBezTo>
                <a:cubicBezTo>
                  <a:pt x="9720176" y="5036152"/>
                  <a:pt x="9693111" y="5009087"/>
                  <a:pt x="9659724" y="5009087"/>
                </a:cubicBezTo>
                <a:close/>
                <a:moveTo>
                  <a:pt x="6540628" y="5009087"/>
                </a:moveTo>
                <a:cubicBezTo>
                  <a:pt x="6507241" y="5009087"/>
                  <a:pt x="6480176" y="5036152"/>
                  <a:pt x="6480176" y="5069539"/>
                </a:cubicBezTo>
                <a:cubicBezTo>
                  <a:pt x="6480176" y="5102925"/>
                  <a:pt x="6507241" y="5129990"/>
                  <a:pt x="6540628" y="5129990"/>
                </a:cubicBezTo>
                <a:cubicBezTo>
                  <a:pt x="6574014" y="5129990"/>
                  <a:pt x="6601079" y="5102925"/>
                  <a:pt x="6601079" y="5069539"/>
                </a:cubicBezTo>
                <a:cubicBezTo>
                  <a:pt x="6601079" y="5036152"/>
                  <a:pt x="6574014" y="5009087"/>
                  <a:pt x="6540628" y="5009087"/>
                </a:cubicBezTo>
                <a:close/>
                <a:moveTo>
                  <a:pt x="9659724" y="4835804"/>
                </a:moveTo>
                <a:cubicBezTo>
                  <a:pt x="9626338" y="4835804"/>
                  <a:pt x="9599273" y="4862869"/>
                  <a:pt x="9599273" y="4896255"/>
                </a:cubicBezTo>
                <a:cubicBezTo>
                  <a:pt x="9599273" y="4929642"/>
                  <a:pt x="9626338" y="4956707"/>
                  <a:pt x="9659724" y="4956707"/>
                </a:cubicBezTo>
                <a:cubicBezTo>
                  <a:pt x="9693111" y="4956707"/>
                  <a:pt x="9720176" y="4929641"/>
                  <a:pt x="9720176" y="4896255"/>
                </a:cubicBezTo>
                <a:cubicBezTo>
                  <a:pt x="9720176" y="4862869"/>
                  <a:pt x="9693111" y="4835804"/>
                  <a:pt x="9659724" y="4835804"/>
                </a:cubicBezTo>
                <a:close/>
                <a:moveTo>
                  <a:pt x="6540628" y="4835804"/>
                </a:moveTo>
                <a:cubicBezTo>
                  <a:pt x="6507241" y="4835804"/>
                  <a:pt x="6480176" y="4862869"/>
                  <a:pt x="6480176" y="4896255"/>
                </a:cubicBezTo>
                <a:cubicBezTo>
                  <a:pt x="6480176" y="4929642"/>
                  <a:pt x="6507241" y="4956707"/>
                  <a:pt x="6540628" y="4956707"/>
                </a:cubicBezTo>
                <a:cubicBezTo>
                  <a:pt x="6574014" y="4956707"/>
                  <a:pt x="6601079" y="4929642"/>
                  <a:pt x="6601079" y="4896255"/>
                </a:cubicBezTo>
                <a:cubicBezTo>
                  <a:pt x="6601079" y="4862869"/>
                  <a:pt x="6574014" y="4835804"/>
                  <a:pt x="6540628" y="4835804"/>
                </a:cubicBezTo>
                <a:close/>
                <a:moveTo>
                  <a:pt x="9659724" y="4662520"/>
                </a:moveTo>
                <a:cubicBezTo>
                  <a:pt x="9626338" y="4662520"/>
                  <a:pt x="9599273" y="4689586"/>
                  <a:pt x="9599273" y="4722972"/>
                </a:cubicBezTo>
                <a:cubicBezTo>
                  <a:pt x="9599273" y="4756358"/>
                  <a:pt x="9626338" y="4783424"/>
                  <a:pt x="9659724" y="4783424"/>
                </a:cubicBezTo>
                <a:cubicBezTo>
                  <a:pt x="9693111" y="4783424"/>
                  <a:pt x="9720176" y="4756358"/>
                  <a:pt x="9720176" y="4722972"/>
                </a:cubicBezTo>
                <a:cubicBezTo>
                  <a:pt x="9720176" y="4689585"/>
                  <a:pt x="9693111" y="4662520"/>
                  <a:pt x="9659724" y="4662520"/>
                </a:cubicBezTo>
                <a:close/>
                <a:moveTo>
                  <a:pt x="6540628" y="4662520"/>
                </a:moveTo>
                <a:cubicBezTo>
                  <a:pt x="6507241" y="4662520"/>
                  <a:pt x="6480176" y="4689586"/>
                  <a:pt x="6480176" y="4722972"/>
                </a:cubicBezTo>
                <a:cubicBezTo>
                  <a:pt x="6480176" y="4756358"/>
                  <a:pt x="6507241" y="4783424"/>
                  <a:pt x="6540628" y="4783424"/>
                </a:cubicBezTo>
                <a:cubicBezTo>
                  <a:pt x="6574014" y="4783424"/>
                  <a:pt x="6601079" y="4756358"/>
                  <a:pt x="6601079" y="4722972"/>
                </a:cubicBezTo>
                <a:cubicBezTo>
                  <a:pt x="6601079" y="4689586"/>
                  <a:pt x="6574014" y="4662520"/>
                  <a:pt x="6540628" y="4662520"/>
                </a:cubicBezTo>
                <a:close/>
                <a:moveTo>
                  <a:pt x="9659724" y="4489237"/>
                </a:moveTo>
                <a:cubicBezTo>
                  <a:pt x="9626338" y="4489237"/>
                  <a:pt x="9599273" y="4516302"/>
                  <a:pt x="9599273" y="4549689"/>
                </a:cubicBezTo>
                <a:cubicBezTo>
                  <a:pt x="9599273" y="4583075"/>
                  <a:pt x="9626338" y="4610140"/>
                  <a:pt x="9659724" y="4610140"/>
                </a:cubicBezTo>
                <a:cubicBezTo>
                  <a:pt x="9693111" y="4610140"/>
                  <a:pt x="9720176" y="4583075"/>
                  <a:pt x="9720176" y="4549688"/>
                </a:cubicBezTo>
                <a:cubicBezTo>
                  <a:pt x="9720176" y="4516302"/>
                  <a:pt x="9693111" y="4489237"/>
                  <a:pt x="9659724" y="4489237"/>
                </a:cubicBezTo>
                <a:close/>
                <a:moveTo>
                  <a:pt x="6540628" y="4489237"/>
                </a:moveTo>
                <a:cubicBezTo>
                  <a:pt x="6507241" y="4489237"/>
                  <a:pt x="6480176" y="4516302"/>
                  <a:pt x="6480176" y="4549689"/>
                </a:cubicBezTo>
                <a:cubicBezTo>
                  <a:pt x="6480176" y="4583075"/>
                  <a:pt x="6507241" y="4610140"/>
                  <a:pt x="6540628" y="4610140"/>
                </a:cubicBezTo>
                <a:cubicBezTo>
                  <a:pt x="6574014" y="4610140"/>
                  <a:pt x="6601079" y="4583075"/>
                  <a:pt x="6601079" y="4549689"/>
                </a:cubicBezTo>
                <a:cubicBezTo>
                  <a:pt x="6601079" y="4516302"/>
                  <a:pt x="6574014" y="4489237"/>
                  <a:pt x="6540628" y="4489237"/>
                </a:cubicBezTo>
                <a:close/>
                <a:moveTo>
                  <a:pt x="9659724" y="4315702"/>
                </a:moveTo>
                <a:cubicBezTo>
                  <a:pt x="9626338" y="4315702"/>
                  <a:pt x="9599273" y="4342767"/>
                  <a:pt x="9599273" y="4376154"/>
                </a:cubicBezTo>
                <a:cubicBezTo>
                  <a:pt x="9599273" y="4409540"/>
                  <a:pt x="9626338" y="4436605"/>
                  <a:pt x="9659724" y="4436605"/>
                </a:cubicBezTo>
                <a:cubicBezTo>
                  <a:pt x="9693111" y="4436605"/>
                  <a:pt x="9720176" y="4409540"/>
                  <a:pt x="9720176" y="4376153"/>
                </a:cubicBezTo>
                <a:cubicBezTo>
                  <a:pt x="9720176" y="4342767"/>
                  <a:pt x="9693111" y="4315702"/>
                  <a:pt x="9659724" y="4315702"/>
                </a:cubicBezTo>
                <a:close/>
                <a:moveTo>
                  <a:pt x="6540628" y="4315702"/>
                </a:moveTo>
                <a:cubicBezTo>
                  <a:pt x="6507241" y="4315702"/>
                  <a:pt x="6480176" y="4342767"/>
                  <a:pt x="6480176" y="4376154"/>
                </a:cubicBezTo>
                <a:cubicBezTo>
                  <a:pt x="6480176" y="4409540"/>
                  <a:pt x="6507241" y="4436605"/>
                  <a:pt x="6540628" y="4436605"/>
                </a:cubicBezTo>
                <a:cubicBezTo>
                  <a:pt x="6574014" y="4436605"/>
                  <a:pt x="6601079" y="4409540"/>
                  <a:pt x="6601079" y="4376154"/>
                </a:cubicBezTo>
                <a:cubicBezTo>
                  <a:pt x="6601079" y="4342767"/>
                  <a:pt x="6574014" y="4315702"/>
                  <a:pt x="6540628" y="4315702"/>
                </a:cubicBezTo>
                <a:close/>
                <a:moveTo>
                  <a:pt x="9659724" y="4142419"/>
                </a:moveTo>
                <a:cubicBezTo>
                  <a:pt x="9626338" y="4142419"/>
                  <a:pt x="9599273" y="4169484"/>
                  <a:pt x="9599273" y="4202870"/>
                </a:cubicBezTo>
                <a:cubicBezTo>
                  <a:pt x="9599273" y="4236257"/>
                  <a:pt x="9626338" y="4263322"/>
                  <a:pt x="9659724" y="4263322"/>
                </a:cubicBezTo>
                <a:cubicBezTo>
                  <a:pt x="9693111" y="4263322"/>
                  <a:pt x="9720176" y="4236256"/>
                  <a:pt x="9720176" y="4202870"/>
                </a:cubicBezTo>
                <a:cubicBezTo>
                  <a:pt x="9720176" y="4169484"/>
                  <a:pt x="9693111" y="4142419"/>
                  <a:pt x="9659724" y="4142419"/>
                </a:cubicBezTo>
                <a:close/>
                <a:moveTo>
                  <a:pt x="6540628" y="4142419"/>
                </a:moveTo>
                <a:cubicBezTo>
                  <a:pt x="6507241" y="4142419"/>
                  <a:pt x="6480176" y="4169484"/>
                  <a:pt x="6480176" y="4202870"/>
                </a:cubicBezTo>
                <a:cubicBezTo>
                  <a:pt x="6480176" y="4236257"/>
                  <a:pt x="6507241" y="4263322"/>
                  <a:pt x="6540628" y="4263322"/>
                </a:cubicBezTo>
                <a:cubicBezTo>
                  <a:pt x="6574014" y="4263322"/>
                  <a:pt x="6601079" y="4236257"/>
                  <a:pt x="6601079" y="4202870"/>
                </a:cubicBezTo>
                <a:cubicBezTo>
                  <a:pt x="6601079" y="4169484"/>
                  <a:pt x="6574014" y="4142419"/>
                  <a:pt x="6540628" y="4142419"/>
                </a:cubicBezTo>
                <a:close/>
                <a:moveTo>
                  <a:pt x="9659724" y="3969135"/>
                </a:moveTo>
                <a:cubicBezTo>
                  <a:pt x="9626338" y="3969135"/>
                  <a:pt x="9599273" y="3996201"/>
                  <a:pt x="9599273" y="4029587"/>
                </a:cubicBezTo>
                <a:cubicBezTo>
                  <a:pt x="9599273" y="4062973"/>
                  <a:pt x="9626338" y="4090039"/>
                  <a:pt x="9659724" y="4090039"/>
                </a:cubicBezTo>
                <a:cubicBezTo>
                  <a:pt x="9693111" y="4090039"/>
                  <a:pt x="9720176" y="4062973"/>
                  <a:pt x="9720176" y="4029587"/>
                </a:cubicBezTo>
                <a:cubicBezTo>
                  <a:pt x="9720176" y="3996200"/>
                  <a:pt x="9693111" y="3969135"/>
                  <a:pt x="9659724" y="3969135"/>
                </a:cubicBezTo>
                <a:close/>
                <a:moveTo>
                  <a:pt x="6540628" y="3969135"/>
                </a:moveTo>
                <a:cubicBezTo>
                  <a:pt x="6507241" y="3969135"/>
                  <a:pt x="6480176" y="3996201"/>
                  <a:pt x="6480176" y="4029587"/>
                </a:cubicBezTo>
                <a:cubicBezTo>
                  <a:pt x="6480176" y="4062973"/>
                  <a:pt x="6507241" y="4090039"/>
                  <a:pt x="6540628" y="4090039"/>
                </a:cubicBezTo>
                <a:cubicBezTo>
                  <a:pt x="6574014" y="4090039"/>
                  <a:pt x="6601079" y="4062973"/>
                  <a:pt x="6601079" y="4029587"/>
                </a:cubicBezTo>
                <a:cubicBezTo>
                  <a:pt x="6601079" y="3996201"/>
                  <a:pt x="6574014" y="3969135"/>
                  <a:pt x="6540628" y="3969135"/>
                </a:cubicBezTo>
                <a:close/>
                <a:moveTo>
                  <a:pt x="9659724" y="3795852"/>
                </a:moveTo>
                <a:cubicBezTo>
                  <a:pt x="9626338" y="3795852"/>
                  <a:pt x="9599273" y="3822917"/>
                  <a:pt x="9599273" y="3856304"/>
                </a:cubicBezTo>
                <a:cubicBezTo>
                  <a:pt x="9599273" y="3889690"/>
                  <a:pt x="9626338" y="3916755"/>
                  <a:pt x="9659724" y="3916755"/>
                </a:cubicBezTo>
                <a:cubicBezTo>
                  <a:pt x="9693111" y="3916755"/>
                  <a:pt x="9720176" y="3889690"/>
                  <a:pt x="9720176" y="3856303"/>
                </a:cubicBezTo>
                <a:cubicBezTo>
                  <a:pt x="9720176" y="3822917"/>
                  <a:pt x="9693111" y="3795852"/>
                  <a:pt x="9659724" y="3795852"/>
                </a:cubicBezTo>
                <a:close/>
                <a:moveTo>
                  <a:pt x="6540628" y="3795852"/>
                </a:moveTo>
                <a:cubicBezTo>
                  <a:pt x="6507241" y="3795852"/>
                  <a:pt x="6480176" y="3822917"/>
                  <a:pt x="6480176" y="3856304"/>
                </a:cubicBezTo>
                <a:cubicBezTo>
                  <a:pt x="6480176" y="3889690"/>
                  <a:pt x="6507241" y="3916755"/>
                  <a:pt x="6540628" y="3916755"/>
                </a:cubicBezTo>
                <a:cubicBezTo>
                  <a:pt x="6574014" y="3916755"/>
                  <a:pt x="6601079" y="3889690"/>
                  <a:pt x="6601079" y="3856304"/>
                </a:cubicBezTo>
                <a:cubicBezTo>
                  <a:pt x="6601079" y="3822917"/>
                  <a:pt x="6574014" y="3795852"/>
                  <a:pt x="6540628" y="3795852"/>
                </a:cubicBezTo>
                <a:close/>
                <a:moveTo>
                  <a:pt x="9659724" y="3622569"/>
                </a:moveTo>
                <a:cubicBezTo>
                  <a:pt x="9626338" y="3622569"/>
                  <a:pt x="9599273" y="3649634"/>
                  <a:pt x="9599273" y="3683020"/>
                </a:cubicBezTo>
                <a:cubicBezTo>
                  <a:pt x="9599273" y="3716407"/>
                  <a:pt x="9626338" y="3743472"/>
                  <a:pt x="9659724" y="3743472"/>
                </a:cubicBezTo>
                <a:cubicBezTo>
                  <a:pt x="9693111" y="3743472"/>
                  <a:pt x="9720176" y="3716407"/>
                  <a:pt x="9720176" y="3683020"/>
                </a:cubicBezTo>
                <a:cubicBezTo>
                  <a:pt x="9720176" y="3649634"/>
                  <a:pt x="9693111" y="3622569"/>
                  <a:pt x="9659724" y="3622569"/>
                </a:cubicBezTo>
                <a:close/>
                <a:moveTo>
                  <a:pt x="6540628" y="3622569"/>
                </a:moveTo>
                <a:cubicBezTo>
                  <a:pt x="6507241" y="3622569"/>
                  <a:pt x="6480176" y="3649634"/>
                  <a:pt x="6480176" y="3683020"/>
                </a:cubicBezTo>
                <a:cubicBezTo>
                  <a:pt x="6480176" y="3716407"/>
                  <a:pt x="6507241" y="3743472"/>
                  <a:pt x="6540628" y="3743472"/>
                </a:cubicBezTo>
                <a:cubicBezTo>
                  <a:pt x="6574014" y="3743472"/>
                  <a:pt x="6601079" y="3716407"/>
                  <a:pt x="6601079" y="3683020"/>
                </a:cubicBezTo>
                <a:cubicBezTo>
                  <a:pt x="6601079" y="3649634"/>
                  <a:pt x="6574014" y="3622569"/>
                  <a:pt x="6540628" y="3622569"/>
                </a:cubicBezTo>
                <a:close/>
                <a:moveTo>
                  <a:pt x="9659724" y="3449285"/>
                </a:moveTo>
                <a:cubicBezTo>
                  <a:pt x="9626338" y="3449285"/>
                  <a:pt x="9599273" y="3476351"/>
                  <a:pt x="9599273" y="3509737"/>
                </a:cubicBezTo>
                <a:cubicBezTo>
                  <a:pt x="9599273" y="3543123"/>
                  <a:pt x="9626338" y="3570189"/>
                  <a:pt x="9659724" y="3570189"/>
                </a:cubicBezTo>
                <a:cubicBezTo>
                  <a:pt x="9693111" y="3570189"/>
                  <a:pt x="9720176" y="3543123"/>
                  <a:pt x="9720176" y="3509737"/>
                </a:cubicBezTo>
                <a:cubicBezTo>
                  <a:pt x="9720176" y="3476350"/>
                  <a:pt x="9693111" y="3449285"/>
                  <a:pt x="9659724" y="3449285"/>
                </a:cubicBezTo>
                <a:close/>
                <a:moveTo>
                  <a:pt x="6540628" y="3449285"/>
                </a:moveTo>
                <a:cubicBezTo>
                  <a:pt x="6507241" y="3449285"/>
                  <a:pt x="6480176" y="3476351"/>
                  <a:pt x="6480176" y="3509737"/>
                </a:cubicBezTo>
                <a:cubicBezTo>
                  <a:pt x="6480176" y="3543123"/>
                  <a:pt x="6507241" y="3570189"/>
                  <a:pt x="6540628" y="3570189"/>
                </a:cubicBezTo>
                <a:cubicBezTo>
                  <a:pt x="6574014" y="3570189"/>
                  <a:pt x="6601079" y="3543123"/>
                  <a:pt x="6601079" y="3509737"/>
                </a:cubicBezTo>
                <a:cubicBezTo>
                  <a:pt x="6601079" y="3476351"/>
                  <a:pt x="6574014" y="3449285"/>
                  <a:pt x="6540628" y="3449285"/>
                </a:cubicBezTo>
                <a:close/>
                <a:moveTo>
                  <a:pt x="9659724" y="3276002"/>
                </a:moveTo>
                <a:cubicBezTo>
                  <a:pt x="9626338" y="3276002"/>
                  <a:pt x="9599273" y="3303067"/>
                  <a:pt x="9599273" y="3336453"/>
                </a:cubicBezTo>
                <a:cubicBezTo>
                  <a:pt x="9599273" y="3369840"/>
                  <a:pt x="9626338" y="3396905"/>
                  <a:pt x="9659724" y="3396905"/>
                </a:cubicBezTo>
                <a:cubicBezTo>
                  <a:pt x="9693111" y="3396905"/>
                  <a:pt x="9720176" y="3369840"/>
                  <a:pt x="9720176" y="3336453"/>
                </a:cubicBezTo>
                <a:cubicBezTo>
                  <a:pt x="9720176" y="3303067"/>
                  <a:pt x="9693111" y="3276002"/>
                  <a:pt x="9659724" y="3276002"/>
                </a:cubicBezTo>
                <a:close/>
                <a:moveTo>
                  <a:pt x="6540628" y="3276002"/>
                </a:moveTo>
                <a:cubicBezTo>
                  <a:pt x="6507241" y="3276002"/>
                  <a:pt x="6480176" y="3303067"/>
                  <a:pt x="6480176" y="3336453"/>
                </a:cubicBezTo>
                <a:cubicBezTo>
                  <a:pt x="6480176" y="3369840"/>
                  <a:pt x="6507241" y="3396905"/>
                  <a:pt x="6540628" y="3396905"/>
                </a:cubicBezTo>
                <a:cubicBezTo>
                  <a:pt x="6574014" y="3396905"/>
                  <a:pt x="6601079" y="3369840"/>
                  <a:pt x="6601079" y="3336453"/>
                </a:cubicBezTo>
                <a:cubicBezTo>
                  <a:pt x="6601079" y="3303067"/>
                  <a:pt x="6574014" y="3276002"/>
                  <a:pt x="6540628" y="3276002"/>
                </a:cubicBezTo>
                <a:close/>
                <a:moveTo>
                  <a:pt x="9659724" y="3102719"/>
                </a:moveTo>
                <a:cubicBezTo>
                  <a:pt x="9626338" y="3102719"/>
                  <a:pt x="9599273" y="3129784"/>
                  <a:pt x="9599273" y="3163170"/>
                </a:cubicBezTo>
                <a:cubicBezTo>
                  <a:pt x="9599273" y="3196557"/>
                  <a:pt x="9626338" y="3223622"/>
                  <a:pt x="9659724" y="3223622"/>
                </a:cubicBezTo>
                <a:cubicBezTo>
                  <a:pt x="9693111" y="3223622"/>
                  <a:pt x="9720176" y="3196557"/>
                  <a:pt x="9720176" y="3163170"/>
                </a:cubicBezTo>
                <a:cubicBezTo>
                  <a:pt x="9720176" y="3129784"/>
                  <a:pt x="9693111" y="3102719"/>
                  <a:pt x="9659724" y="3102719"/>
                </a:cubicBezTo>
                <a:close/>
                <a:moveTo>
                  <a:pt x="6540628" y="3102719"/>
                </a:moveTo>
                <a:cubicBezTo>
                  <a:pt x="6507241" y="3102719"/>
                  <a:pt x="6480176" y="3129784"/>
                  <a:pt x="6480176" y="3163170"/>
                </a:cubicBezTo>
                <a:cubicBezTo>
                  <a:pt x="6480176" y="3196557"/>
                  <a:pt x="6507241" y="3223622"/>
                  <a:pt x="6540628" y="3223622"/>
                </a:cubicBezTo>
                <a:cubicBezTo>
                  <a:pt x="6574014" y="3223622"/>
                  <a:pt x="6601079" y="3196557"/>
                  <a:pt x="6601079" y="3163170"/>
                </a:cubicBezTo>
                <a:cubicBezTo>
                  <a:pt x="6601079" y="3129784"/>
                  <a:pt x="6574014" y="3102719"/>
                  <a:pt x="6540628" y="3102719"/>
                </a:cubicBezTo>
                <a:close/>
                <a:moveTo>
                  <a:pt x="9659724" y="2929435"/>
                </a:moveTo>
                <a:cubicBezTo>
                  <a:pt x="9626338" y="2929435"/>
                  <a:pt x="9599273" y="2956500"/>
                  <a:pt x="9599273" y="2989887"/>
                </a:cubicBezTo>
                <a:cubicBezTo>
                  <a:pt x="9599273" y="3023273"/>
                  <a:pt x="9626338" y="3050338"/>
                  <a:pt x="9659724" y="3050338"/>
                </a:cubicBezTo>
                <a:cubicBezTo>
                  <a:pt x="9693111" y="3050338"/>
                  <a:pt x="9720176" y="3023273"/>
                  <a:pt x="9720176" y="2989887"/>
                </a:cubicBezTo>
                <a:cubicBezTo>
                  <a:pt x="9720176" y="2956500"/>
                  <a:pt x="9693111" y="2929435"/>
                  <a:pt x="9659724" y="2929435"/>
                </a:cubicBezTo>
                <a:close/>
                <a:moveTo>
                  <a:pt x="6540628" y="2929435"/>
                </a:moveTo>
                <a:cubicBezTo>
                  <a:pt x="6507241" y="2929435"/>
                  <a:pt x="6480176" y="2956500"/>
                  <a:pt x="6480176" y="2989887"/>
                </a:cubicBezTo>
                <a:cubicBezTo>
                  <a:pt x="6480176" y="3023273"/>
                  <a:pt x="6507241" y="3050338"/>
                  <a:pt x="6540628" y="3050338"/>
                </a:cubicBezTo>
                <a:cubicBezTo>
                  <a:pt x="6574014" y="3050338"/>
                  <a:pt x="6601079" y="3023273"/>
                  <a:pt x="6601079" y="2989887"/>
                </a:cubicBezTo>
                <a:cubicBezTo>
                  <a:pt x="6601079" y="2956500"/>
                  <a:pt x="6574014" y="2929435"/>
                  <a:pt x="6540628" y="2929435"/>
                </a:cubicBezTo>
                <a:close/>
                <a:moveTo>
                  <a:pt x="9659724" y="2756152"/>
                </a:moveTo>
                <a:cubicBezTo>
                  <a:pt x="9626338" y="2756152"/>
                  <a:pt x="9599273" y="2783217"/>
                  <a:pt x="9599273" y="2816604"/>
                </a:cubicBezTo>
                <a:cubicBezTo>
                  <a:pt x="9599273" y="2849990"/>
                  <a:pt x="9626338" y="2877055"/>
                  <a:pt x="9659724" y="2877055"/>
                </a:cubicBezTo>
                <a:cubicBezTo>
                  <a:pt x="9693111" y="2877055"/>
                  <a:pt x="9720176" y="2849990"/>
                  <a:pt x="9720176" y="2816604"/>
                </a:cubicBezTo>
                <a:cubicBezTo>
                  <a:pt x="9720176" y="2783217"/>
                  <a:pt x="9693111" y="2756152"/>
                  <a:pt x="9659724" y="2756152"/>
                </a:cubicBezTo>
                <a:close/>
                <a:moveTo>
                  <a:pt x="6540628" y="2756152"/>
                </a:moveTo>
                <a:cubicBezTo>
                  <a:pt x="6507241" y="2756152"/>
                  <a:pt x="6480176" y="2783217"/>
                  <a:pt x="6480176" y="2816604"/>
                </a:cubicBezTo>
                <a:cubicBezTo>
                  <a:pt x="6480176" y="2849990"/>
                  <a:pt x="6507241" y="2877055"/>
                  <a:pt x="6540628" y="2877055"/>
                </a:cubicBezTo>
                <a:cubicBezTo>
                  <a:pt x="6574014" y="2877055"/>
                  <a:pt x="6601079" y="2849990"/>
                  <a:pt x="6601079" y="2816604"/>
                </a:cubicBezTo>
                <a:cubicBezTo>
                  <a:pt x="6601079" y="2783217"/>
                  <a:pt x="6574014" y="2756152"/>
                  <a:pt x="6540628" y="2756152"/>
                </a:cubicBezTo>
                <a:close/>
                <a:moveTo>
                  <a:pt x="9659724" y="2582869"/>
                </a:moveTo>
                <a:cubicBezTo>
                  <a:pt x="9626338" y="2582869"/>
                  <a:pt x="9599273" y="2609934"/>
                  <a:pt x="9599273" y="2643320"/>
                </a:cubicBezTo>
                <a:cubicBezTo>
                  <a:pt x="9599273" y="2676707"/>
                  <a:pt x="9626338" y="2703772"/>
                  <a:pt x="9659724" y="2703772"/>
                </a:cubicBezTo>
                <a:cubicBezTo>
                  <a:pt x="9693111" y="2703772"/>
                  <a:pt x="9720176" y="2676707"/>
                  <a:pt x="9720176" y="2643320"/>
                </a:cubicBezTo>
                <a:cubicBezTo>
                  <a:pt x="9720176" y="2609934"/>
                  <a:pt x="9693111" y="2582869"/>
                  <a:pt x="9659724" y="2582869"/>
                </a:cubicBezTo>
                <a:close/>
                <a:moveTo>
                  <a:pt x="6540628" y="2582869"/>
                </a:moveTo>
                <a:cubicBezTo>
                  <a:pt x="6507241" y="2582869"/>
                  <a:pt x="6480176" y="2609934"/>
                  <a:pt x="6480176" y="2643320"/>
                </a:cubicBezTo>
                <a:cubicBezTo>
                  <a:pt x="6480176" y="2676707"/>
                  <a:pt x="6507241" y="2703772"/>
                  <a:pt x="6540628" y="2703772"/>
                </a:cubicBezTo>
                <a:cubicBezTo>
                  <a:pt x="6574014" y="2703772"/>
                  <a:pt x="6601079" y="2676707"/>
                  <a:pt x="6601079" y="2643320"/>
                </a:cubicBezTo>
                <a:cubicBezTo>
                  <a:pt x="6601079" y="2609934"/>
                  <a:pt x="6574014" y="2582869"/>
                  <a:pt x="6540628" y="2582869"/>
                </a:cubicBezTo>
                <a:close/>
                <a:moveTo>
                  <a:pt x="9659724" y="2409585"/>
                </a:moveTo>
                <a:cubicBezTo>
                  <a:pt x="9626338" y="2409585"/>
                  <a:pt x="9599273" y="2436651"/>
                  <a:pt x="9599273" y="2470037"/>
                </a:cubicBezTo>
                <a:cubicBezTo>
                  <a:pt x="9599273" y="2503423"/>
                  <a:pt x="9626338" y="2530489"/>
                  <a:pt x="9659724" y="2530489"/>
                </a:cubicBezTo>
                <a:cubicBezTo>
                  <a:pt x="9693111" y="2530489"/>
                  <a:pt x="9720176" y="2503423"/>
                  <a:pt x="9720176" y="2470037"/>
                </a:cubicBezTo>
                <a:cubicBezTo>
                  <a:pt x="9720176" y="2436651"/>
                  <a:pt x="9693111" y="2409585"/>
                  <a:pt x="9659724" y="2409585"/>
                </a:cubicBezTo>
                <a:close/>
                <a:moveTo>
                  <a:pt x="6540628" y="2409585"/>
                </a:moveTo>
                <a:cubicBezTo>
                  <a:pt x="6507241" y="2409585"/>
                  <a:pt x="6480176" y="2436651"/>
                  <a:pt x="6480176" y="2470037"/>
                </a:cubicBezTo>
                <a:cubicBezTo>
                  <a:pt x="6480176" y="2503423"/>
                  <a:pt x="6507241" y="2530489"/>
                  <a:pt x="6540628" y="2530489"/>
                </a:cubicBezTo>
                <a:cubicBezTo>
                  <a:pt x="6574014" y="2530489"/>
                  <a:pt x="6601079" y="2503423"/>
                  <a:pt x="6601079" y="2470037"/>
                </a:cubicBezTo>
                <a:cubicBezTo>
                  <a:pt x="6601079" y="2436651"/>
                  <a:pt x="6574014" y="2409585"/>
                  <a:pt x="6540628" y="2409585"/>
                </a:cubicBezTo>
                <a:close/>
                <a:moveTo>
                  <a:pt x="9659724" y="2236302"/>
                </a:moveTo>
                <a:cubicBezTo>
                  <a:pt x="9626338" y="2236302"/>
                  <a:pt x="9599273" y="2263367"/>
                  <a:pt x="9599273" y="2296754"/>
                </a:cubicBezTo>
                <a:cubicBezTo>
                  <a:pt x="9599273" y="2330140"/>
                  <a:pt x="9626338" y="2357205"/>
                  <a:pt x="9659724" y="2357205"/>
                </a:cubicBezTo>
                <a:cubicBezTo>
                  <a:pt x="9693111" y="2357205"/>
                  <a:pt x="9720176" y="2330140"/>
                  <a:pt x="9720176" y="2296754"/>
                </a:cubicBezTo>
                <a:cubicBezTo>
                  <a:pt x="9720176" y="2263367"/>
                  <a:pt x="9693111" y="2236302"/>
                  <a:pt x="9659724" y="2236302"/>
                </a:cubicBezTo>
                <a:close/>
                <a:moveTo>
                  <a:pt x="6540628" y="2236302"/>
                </a:moveTo>
                <a:cubicBezTo>
                  <a:pt x="6507241" y="2236302"/>
                  <a:pt x="6480176" y="2263367"/>
                  <a:pt x="6480176" y="2296754"/>
                </a:cubicBezTo>
                <a:cubicBezTo>
                  <a:pt x="6480176" y="2330140"/>
                  <a:pt x="6507241" y="2357205"/>
                  <a:pt x="6540628" y="2357205"/>
                </a:cubicBezTo>
                <a:cubicBezTo>
                  <a:pt x="6574014" y="2357205"/>
                  <a:pt x="6601079" y="2330140"/>
                  <a:pt x="6601079" y="2296754"/>
                </a:cubicBezTo>
                <a:cubicBezTo>
                  <a:pt x="6601079" y="2263367"/>
                  <a:pt x="6574014" y="2236302"/>
                  <a:pt x="6540628" y="2236302"/>
                </a:cubicBezTo>
                <a:close/>
                <a:moveTo>
                  <a:pt x="9659724" y="2063019"/>
                </a:moveTo>
                <a:cubicBezTo>
                  <a:pt x="9626338" y="2063019"/>
                  <a:pt x="9599273" y="2090084"/>
                  <a:pt x="9599273" y="2123470"/>
                </a:cubicBezTo>
                <a:cubicBezTo>
                  <a:pt x="9599273" y="2156857"/>
                  <a:pt x="9626338" y="2183922"/>
                  <a:pt x="9659724" y="2183922"/>
                </a:cubicBezTo>
                <a:cubicBezTo>
                  <a:pt x="9693111" y="2183922"/>
                  <a:pt x="9720176" y="2156857"/>
                  <a:pt x="9720176" y="2123470"/>
                </a:cubicBezTo>
                <a:cubicBezTo>
                  <a:pt x="9720176" y="2090084"/>
                  <a:pt x="9693111" y="2063019"/>
                  <a:pt x="9659724" y="2063019"/>
                </a:cubicBezTo>
                <a:close/>
                <a:moveTo>
                  <a:pt x="6540628" y="2063019"/>
                </a:moveTo>
                <a:cubicBezTo>
                  <a:pt x="6507241" y="2063019"/>
                  <a:pt x="6480176" y="2090084"/>
                  <a:pt x="6480176" y="2123470"/>
                </a:cubicBezTo>
                <a:cubicBezTo>
                  <a:pt x="6480176" y="2156857"/>
                  <a:pt x="6507241" y="2183922"/>
                  <a:pt x="6540628" y="2183922"/>
                </a:cubicBezTo>
                <a:cubicBezTo>
                  <a:pt x="6574014" y="2183922"/>
                  <a:pt x="6601079" y="2156857"/>
                  <a:pt x="6601079" y="2123470"/>
                </a:cubicBezTo>
                <a:cubicBezTo>
                  <a:pt x="6601079" y="2090084"/>
                  <a:pt x="6574014" y="2063019"/>
                  <a:pt x="6540628" y="2063019"/>
                </a:cubicBezTo>
                <a:close/>
                <a:moveTo>
                  <a:pt x="9659724" y="1889735"/>
                </a:moveTo>
                <a:cubicBezTo>
                  <a:pt x="9626338" y="1889735"/>
                  <a:pt x="9599273" y="1916801"/>
                  <a:pt x="9599273" y="1950187"/>
                </a:cubicBezTo>
                <a:cubicBezTo>
                  <a:pt x="9599273" y="1983573"/>
                  <a:pt x="9626338" y="2010639"/>
                  <a:pt x="9659724" y="2010639"/>
                </a:cubicBezTo>
                <a:cubicBezTo>
                  <a:pt x="9693111" y="2010639"/>
                  <a:pt x="9720176" y="1983573"/>
                  <a:pt x="9720176" y="1950187"/>
                </a:cubicBezTo>
                <a:cubicBezTo>
                  <a:pt x="9720176" y="1916801"/>
                  <a:pt x="9693111" y="1889735"/>
                  <a:pt x="9659724" y="1889735"/>
                </a:cubicBezTo>
                <a:close/>
                <a:moveTo>
                  <a:pt x="6540628" y="1889735"/>
                </a:moveTo>
                <a:cubicBezTo>
                  <a:pt x="6507241" y="1889735"/>
                  <a:pt x="6480176" y="1916801"/>
                  <a:pt x="6480176" y="1950187"/>
                </a:cubicBezTo>
                <a:cubicBezTo>
                  <a:pt x="6480176" y="1983573"/>
                  <a:pt x="6507241" y="2010639"/>
                  <a:pt x="6540628" y="2010639"/>
                </a:cubicBezTo>
                <a:cubicBezTo>
                  <a:pt x="6574014" y="2010639"/>
                  <a:pt x="6601079" y="1983573"/>
                  <a:pt x="6601079" y="1950187"/>
                </a:cubicBezTo>
                <a:cubicBezTo>
                  <a:pt x="6601079" y="1916801"/>
                  <a:pt x="6574014" y="1889735"/>
                  <a:pt x="6540628" y="1889735"/>
                </a:cubicBezTo>
                <a:close/>
                <a:moveTo>
                  <a:pt x="9659724" y="1716452"/>
                </a:moveTo>
                <a:cubicBezTo>
                  <a:pt x="9626338" y="1716452"/>
                  <a:pt x="9599273" y="1743517"/>
                  <a:pt x="9599273" y="1776904"/>
                </a:cubicBezTo>
                <a:cubicBezTo>
                  <a:pt x="9599273" y="1810290"/>
                  <a:pt x="9626338" y="1837355"/>
                  <a:pt x="9659724" y="1837355"/>
                </a:cubicBezTo>
                <a:cubicBezTo>
                  <a:pt x="9693111" y="1837355"/>
                  <a:pt x="9720176" y="1810290"/>
                  <a:pt x="9720176" y="1776904"/>
                </a:cubicBezTo>
                <a:cubicBezTo>
                  <a:pt x="9720176" y="1743517"/>
                  <a:pt x="9693111" y="1716452"/>
                  <a:pt x="9659724" y="1716452"/>
                </a:cubicBezTo>
                <a:close/>
                <a:moveTo>
                  <a:pt x="6540628" y="1716452"/>
                </a:moveTo>
                <a:cubicBezTo>
                  <a:pt x="6507241" y="1716452"/>
                  <a:pt x="6480176" y="1743517"/>
                  <a:pt x="6480176" y="1776904"/>
                </a:cubicBezTo>
                <a:cubicBezTo>
                  <a:pt x="6480176" y="1810290"/>
                  <a:pt x="6507241" y="1837355"/>
                  <a:pt x="6540628" y="1837355"/>
                </a:cubicBezTo>
                <a:cubicBezTo>
                  <a:pt x="6574014" y="1837355"/>
                  <a:pt x="6601079" y="1810290"/>
                  <a:pt x="6601079" y="1776904"/>
                </a:cubicBezTo>
                <a:cubicBezTo>
                  <a:pt x="6601079" y="1743517"/>
                  <a:pt x="6574014" y="1716452"/>
                  <a:pt x="6540628" y="1716452"/>
                </a:cubicBezTo>
                <a:close/>
                <a:moveTo>
                  <a:pt x="9659724" y="1543169"/>
                </a:moveTo>
                <a:cubicBezTo>
                  <a:pt x="9626338" y="1543169"/>
                  <a:pt x="9599273" y="1570234"/>
                  <a:pt x="9599273" y="1603620"/>
                </a:cubicBezTo>
                <a:cubicBezTo>
                  <a:pt x="9599273" y="1637007"/>
                  <a:pt x="9626338" y="1664072"/>
                  <a:pt x="9659724" y="1664072"/>
                </a:cubicBezTo>
                <a:cubicBezTo>
                  <a:pt x="9693111" y="1664072"/>
                  <a:pt x="9720176" y="1637007"/>
                  <a:pt x="9720176" y="1603620"/>
                </a:cubicBezTo>
                <a:cubicBezTo>
                  <a:pt x="9720176" y="1570234"/>
                  <a:pt x="9693111" y="1543169"/>
                  <a:pt x="9659724" y="1543169"/>
                </a:cubicBezTo>
                <a:close/>
                <a:moveTo>
                  <a:pt x="6540628" y="1543169"/>
                </a:moveTo>
                <a:cubicBezTo>
                  <a:pt x="6507241" y="1543169"/>
                  <a:pt x="6480176" y="1570234"/>
                  <a:pt x="6480176" y="1603620"/>
                </a:cubicBezTo>
                <a:cubicBezTo>
                  <a:pt x="6480176" y="1637007"/>
                  <a:pt x="6507241" y="1664072"/>
                  <a:pt x="6540628" y="1664072"/>
                </a:cubicBezTo>
                <a:cubicBezTo>
                  <a:pt x="6574014" y="1664072"/>
                  <a:pt x="6601079" y="1637007"/>
                  <a:pt x="6601079" y="1603620"/>
                </a:cubicBezTo>
                <a:cubicBezTo>
                  <a:pt x="6601079" y="1570234"/>
                  <a:pt x="6574014" y="1543169"/>
                  <a:pt x="6540628" y="1543169"/>
                </a:cubicBezTo>
                <a:close/>
                <a:moveTo>
                  <a:pt x="9659724" y="1369885"/>
                </a:moveTo>
                <a:cubicBezTo>
                  <a:pt x="9626338" y="1369885"/>
                  <a:pt x="9599273" y="1396951"/>
                  <a:pt x="9599273" y="1430337"/>
                </a:cubicBezTo>
                <a:cubicBezTo>
                  <a:pt x="9599273" y="1463723"/>
                  <a:pt x="9626338" y="1490789"/>
                  <a:pt x="9659724" y="1490789"/>
                </a:cubicBezTo>
                <a:cubicBezTo>
                  <a:pt x="9693111" y="1490789"/>
                  <a:pt x="9720176" y="1463723"/>
                  <a:pt x="9720176" y="1430337"/>
                </a:cubicBezTo>
                <a:cubicBezTo>
                  <a:pt x="9720176" y="1396951"/>
                  <a:pt x="9693111" y="1369885"/>
                  <a:pt x="9659724" y="1369885"/>
                </a:cubicBezTo>
                <a:close/>
                <a:moveTo>
                  <a:pt x="6540628" y="1369885"/>
                </a:moveTo>
                <a:cubicBezTo>
                  <a:pt x="6507241" y="1369885"/>
                  <a:pt x="6480176" y="1396951"/>
                  <a:pt x="6480176" y="1430337"/>
                </a:cubicBezTo>
                <a:cubicBezTo>
                  <a:pt x="6480176" y="1463723"/>
                  <a:pt x="6507241" y="1490789"/>
                  <a:pt x="6540628" y="1490789"/>
                </a:cubicBezTo>
                <a:cubicBezTo>
                  <a:pt x="6574014" y="1490789"/>
                  <a:pt x="6601079" y="1463723"/>
                  <a:pt x="6601079" y="1430337"/>
                </a:cubicBezTo>
                <a:cubicBezTo>
                  <a:pt x="6601079" y="1396951"/>
                  <a:pt x="6574014" y="1369885"/>
                  <a:pt x="6540628" y="1369885"/>
                </a:cubicBezTo>
                <a:close/>
                <a:moveTo>
                  <a:pt x="9659724" y="1196602"/>
                </a:moveTo>
                <a:cubicBezTo>
                  <a:pt x="9626338" y="1196602"/>
                  <a:pt x="9599273" y="1223667"/>
                  <a:pt x="9599273" y="1257054"/>
                </a:cubicBezTo>
                <a:cubicBezTo>
                  <a:pt x="9599273" y="1290440"/>
                  <a:pt x="9626338" y="1317505"/>
                  <a:pt x="9659724" y="1317505"/>
                </a:cubicBezTo>
                <a:cubicBezTo>
                  <a:pt x="9693111" y="1317505"/>
                  <a:pt x="9720176" y="1290440"/>
                  <a:pt x="9720176" y="1257054"/>
                </a:cubicBezTo>
                <a:cubicBezTo>
                  <a:pt x="9720176" y="1223667"/>
                  <a:pt x="9693111" y="1196602"/>
                  <a:pt x="9659724" y="1196602"/>
                </a:cubicBezTo>
                <a:close/>
                <a:moveTo>
                  <a:pt x="6540628" y="1196602"/>
                </a:moveTo>
                <a:cubicBezTo>
                  <a:pt x="6507241" y="1196602"/>
                  <a:pt x="6480176" y="1223667"/>
                  <a:pt x="6480176" y="1257054"/>
                </a:cubicBezTo>
                <a:cubicBezTo>
                  <a:pt x="6480176" y="1290440"/>
                  <a:pt x="6507241" y="1317505"/>
                  <a:pt x="6540628" y="1317505"/>
                </a:cubicBezTo>
                <a:cubicBezTo>
                  <a:pt x="6574014" y="1317505"/>
                  <a:pt x="6601079" y="1290440"/>
                  <a:pt x="6601079" y="1257054"/>
                </a:cubicBezTo>
                <a:cubicBezTo>
                  <a:pt x="6601079" y="1223667"/>
                  <a:pt x="6574014" y="1196602"/>
                  <a:pt x="6540628" y="1196602"/>
                </a:cubicBezTo>
                <a:close/>
                <a:moveTo>
                  <a:pt x="9486696" y="1196602"/>
                </a:moveTo>
                <a:cubicBezTo>
                  <a:pt x="9453310" y="1196602"/>
                  <a:pt x="9426245" y="1223667"/>
                  <a:pt x="9426245" y="1257053"/>
                </a:cubicBezTo>
                <a:cubicBezTo>
                  <a:pt x="9426245" y="1290440"/>
                  <a:pt x="9453310" y="1317505"/>
                  <a:pt x="9486696" y="1317505"/>
                </a:cubicBezTo>
                <a:cubicBezTo>
                  <a:pt x="9520083" y="1317505"/>
                  <a:pt x="9547148" y="1290440"/>
                  <a:pt x="9547148" y="1257053"/>
                </a:cubicBezTo>
                <a:cubicBezTo>
                  <a:pt x="9547148" y="1223667"/>
                  <a:pt x="9520083" y="1196602"/>
                  <a:pt x="9486696" y="1196602"/>
                </a:cubicBezTo>
                <a:close/>
                <a:moveTo>
                  <a:pt x="9313413" y="1196602"/>
                </a:moveTo>
                <a:cubicBezTo>
                  <a:pt x="9280027" y="1196602"/>
                  <a:pt x="9252961" y="1223667"/>
                  <a:pt x="9252961" y="1257053"/>
                </a:cubicBezTo>
                <a:cubicBezTo>
                  <a:pt x="9252961" y="1290440"/>
                  <a:pt x="9280027" y="1317505"/>
                  <a:pt x="9313413" y="1317505"/>
                </a:cubicBezTo>
                <a:cubicBezTo>
                  <a:pt x="9346799" y="1317505"/>
                  <a:pt x="9373865" y="1290440"/>
                  <a:pt x="9373865" y="1257053"/>
                </a:cubicBezTo>
                <a:cubicBezTo>
                  <a:pt x="9373865" y="1223667"/>
                  <a:pt x="9346799" y="1196602"/>
                  <a:pt x="9313413" y="1196602"/>
                </a:cubicBezTo>
                <a:close/>
                <a:moveTo>
                  <a:pt x="9140130" y="1196602"/>
                </a:moveTo>
                <a:cubicBezTo>
                  <a:pt x="9106743" y="1196602"/>
                  <a:pt x="9079678" y="1223667"/>
                  <a:pt x="9079678" y="1257053"/>
                </a:cubicBezTo>
                <a:cubicBezTo>
                  <a:pt x="9079678" y="1290440"/>
                  <a:pt x="9106743" y="1317505"/>
                  <a:pt x="9140130" y="1317505"/>
                </a:cubicBezTo>
                <a:cubicBezTo>
                  <a:pt x="9173516" y="1317505"/>
                  <a:pt x="9200581" y="1290440"/>
                  <a:pt x="9200581" y="1257053"/>
                </a:cubicBezTo>
                <a:cubicBezTo>
                  <a:pt x="9200581" y="1223667"/>
                  <a:pt x="9173516" y="1196602"/>
                  <a:pt x="9140130" y="1196602"/>
                </a:cubicBezTo>
                <a:close/>
                <a:moveTo>
                  <a:pt x="8966846" y="1196602"/>
                </a:moveTo>
                <a:cubicBezTo>
                  <a:pt x="8933460" y="1196602"/>
                  <a:pt x="8906395" y="1223667"/>
                  <a:pt x="8906395" y="1257053"/>
                </a:cubicBezTo>
                <a:cubicBezTo>
                  <a:pt x="8906395" y="1290440"/>
                  <a:pt x="8933460" y="1317505"/>
                  <a:pt x="8966846" y="1317505"/>
                </a:cubicBezTo>
                <a:cubicBezTo>
                  <a:pt x="9000233" y="1317505"/>
                  <a:pt x="9027298" y="1290440"/>
                  <a:pt x="9027298" y="1257053"/>
                </a:cubicBezTo>
                <a:cubicBezTo>
                  <a:pt x="9027298" y="1223667"/>
                  <a:pt x="9000233" y="1196602"/>
                  <a:pt x="8966846" y="1196602"/>
                </a:cubicBezTo>
                <a:close/>
                <a:moveTo>
                  <a:pt x="8793563" y="1196602"/>
                </a:moveTo>
                <a:cubicBezTo>
                  <a:pt x="8760177" y="1196602"/>
                  <a:pt x="8733112" y="1223667"/>
                  <a:pt x="8733112" y="1257053"/>
                </a:cubicBezTo>
                <a:cubicBezTo>
                  <a:pt x="8733112" y="1290440"/>
                  <a:pt x="8760177" y="1317505"/>
                  <a:pt x="8793563" y="1317505"/>
                </a:cubicBezTo>
                <a:cubicBezTo>
                  <a:pt x="8826950" y="1317505"/>
                  <a:pt x="8854015" y="1290440"/>
                  <a:pt x="8854015" y="1257053"/>
                </a:cubicBezTo>
                <a:cubicBezTo>
                  <a:pt x="8854015" y="1223667"/>
                  <a:pt x="8826950" y="1196602"/>
                  <a:pt x="8793563" y="1196602"/>
                </a:cubicBezTo>
                <a:close/>
                <a:moveTo>
                  <a:pt x="8620280" y="1196602"/>
                </a:moveTo>
                <a:cubicBezTo>
                  <a:pt x="8586893" y="1196602"/>
                  <a:pt x="8559828" y="1223667"/>
                  <a:pt x="8559828" y="1257053"/>
                </a:cubicBezTo>
                <a:cubicBezTo>
                  <a:pt x="8559828" y="1290440"/>
                  <a:pt x="8586893" y="1317505"/>
                  <a:pt x="8620280" y="1317505"/>
                </a:cubicBezTo>
                <a:cubicBezTo>
                  <a:pt x="8653666" y="1317505"/>
                  <a:pt x="8680731" y="1290440"/>
                  <a:pt x="8680731" y="1257053"/>
                </a:cubicBezTo>
                <a:cubicBezTo>
                  <a:pt x="8680731" y="1223667"/>
                  <a:pt x="8653666" y="1196602"/>
                  <a:pt x="8620280" y="1196602"/>
                </a:cubicBezTo>
                <a:close/>
                <a:moveTo>
                  <a:pt x="8446996" y="1196602"/>
                </a:moveTo>
                <a:cubicBezTo>
                  <a:pt x="8413610" y="1196602"/>
                  <a:pt x="8386545" y="1223667"/>
                  <a:pt x="8386545" y="1257053"/>
                </a:cubicBezTo>
                <a:cubicBezTo>
                  <a:pt x="8386545" y="1290440"/>
                  <a:pt x="8413610" y="1317505"/>
                  <a:pt x="8446997" y="1317505"/>
                </a:cubicBezTo>
                <a:cubicBezTo>
                  <a:pt x="8480383" y="1317505"/>
                  <a:pt x="8507448" y="1290440"/>
                  <a:pt x="8507448" y="1257053"/>
                </a:cubicBezTo>
                <a:cubicBezTo>
                  <a:pt x="8507448" y="1223667"/>
                  <a:pt x="8480383" y="1196602"/>
                  <a:pt x="8446996" y="1196602"/>
                </a:cubicBezTo>
                <a:close/>
                <a:moveTo>
                  <a:pt x="8273713" y="1196602"/>
                </a:moveTo>
                <a:cubicBezTo>
                  <a:pt x="8240327" y="1196602"/>
                  <a:pt x="8213262" y="1223667"/>
                  <a:pt x="8213262" y="1257053"/>
                </a:cubicBezTo>
                <a:cubicBezTo>
                  <a:pt x="8213262" y="1290440"/>
                  <a:pt x="8240327" y="1317505"/>
                  <a:pt x="8273713" y="1317505"/>
                </a:cubicBezTo>
                <a:cubicBezTo>
                  <a:pt x="8307100" y="1317505"/>
                  <a:pt x="8334165" y="1290440"/>
                  <a:pt x="8334165" y="1257053"/>
                </a:cubicBezTo>
                <a:cubicBezTo>
                  <a:pt x="8334165" y="1223667"/>
                  <a:pt x="8307100" y="1196602"/>
                  <a:pt x="8273713" y="1196602"/>
                </a:cubicBezTo>
                <a:close/>
                <a:moveTo>
                  <a:pt x="8100430" y="1196602"/>
                </a:moveTo>
                <a:cubicBezTo>
                  <a:pt x="8067044" y="1196602"/>
                  <a:pt x="8039978" y="1223667"/>
                  <a:pt x="8039978" y="1257053"/>
                </a:cubicBezTo>
                <a:cubicBezTo>
                  <a:pt x="8039978" y="1290440"/>
                  <a:pt x="8067044" y="1317505"/>
                  <a:pt x="8100430" y="1317505"/>
                </a:cubicBezTo>
                <a:cubicBezTo>
                  <a:pt x="8133816" y="1317505"/>
                  <a:pt x="8160882" y="1290440"/>
                  <a:pt x="8160882" y="1257053"/>
                </a:cubicBezTo>
                <a:cubicBezTo>
                  <a:pt x="8160882" y="1223667"/>
                  <a:pt x="8133816" y="1196602"/>
                  <a:pt x="8100430" y="1196602"/>
                </a:cubicBezTo>
                <a:close/>
                <a:moveTo>
                  <a:pt x="7927147" y="1196602"/>
                </a:moveTo>
                <a:cubicBezTo>
                  <a:pt x="7893760" y="1196602"/>
                  <a:pt x="7866695" y="1223667"/>
                  <a:pt x="7866695" y="1257053"/>
                </a:cubicBezTo>
                <a:cubicBezTo>
                  <a:pt x="7866695" y="1290440"/>
                  <a:pt x="7893760" y="1317505"/>
                  <a:pt x="7927147" y="1317505"/>
                </a:cubicBezTo>
                <a:cubicBezTo>
                  <a:pt x="7960533" y="1317505"/>
                  <a:pt x="7987598" y="1290440"/>
                  <a:pt x="7987598" y="1257053"/>
                </a:cubicBezTo>
                <a:cubicBezTo>
                  <a:pt x="7987598" y="1223667"/>
                  <a:pt x="7960533" y="1196602"/>
                  <a:pt x="7927147" y="1196602"/>
                </a:cubicBezTo>
                <a:close/>
                <a:moveTo>
                  <a:pt x="7753863" y="1196602"/>
                </a:moveTo>
                <a:cubicBezTo>
                  <a:pt x="7720477" y="1196602"/>
                  <a:pt x="7693412" y="1223667"/>
                  <a:pt x="7693412" y="1257053"/>
                </a:cubicBezTo>
                <a:cubicBezTo>
                  <a:pt x="7693412" y="1290440"/>
                  <a:pt x="7720477" y="1317505"/>
                  <a:pt x="7753864" y="1317505"/>
                </a:cubicBezTo>
                <a:cubicBezTo>
                  <a:pt x="7787250" y="1317505"/>
                  <a:pt x="7814315" y="1290440"/>
                  <a:pt x="7814315" y="1257053"/>
                </a:cubicBezTo>
                <a:cubicBezTo>
                  <a:pt x="7814315" y="1223667"/>
                  <a:pt x="7787250" y="1196602"/>
                  <a:pt x="7753863" y="1196602"/>
                </a:cubicBezTo>
                <a:close/>
                <a:moveTo>
                  <a:pt x="7580580" y="1196602"/>
                </a:moveTo>
                <a:cubicBezTo>
                  <a:pt x="7547194" y="1196602"/>
                  <a:pt x="7520129" y="1223667"/>
                  <a:pt x="7520129" y="1257053"/>
                </a:cubicBezTo>
                <a:cubicBezTo>
                  <a:pt x="7520129" y="1290440"/>
                  <a:pt x="7547194" y="1317505"/>
                  <a:pt x="7580580" y="1317505"/>
                </a:cubicBezTo>
                <a:cubicBezTo>
                  <a:pt x="7613967" y="1317505"/>
                  <a:pt x="7641032" y="1290440"/>
                  <a:pt x="7641032" y="1257053"/>
                </a:cubicBezTo>
                <a:cubicBezTo>
                  <a:pt x="7641032" y="1223667"/>
                  <a:pt x="7613967" y="1196602"/>
                  <a:pt x="7580580" y="1196602"/>
                </a:cubicBezTo>
                <a:close/>
                <a:moveTo>
                  <a:pt x="7407297" y="1196602"/>
                </a:moveTo>
                <a:cubicBezTo>
                  <a:pt x="7373910" y="1196602"/>
                  <a:pt x="7346846" y="1223667"/>
                  <a:pt x="7346846" y="1257053"/>
                </a:cubicBezTo>
                <a:cubicBezTo>
                  <a:pt x="7346846" y="1290440"/>
                  <a:pt x="7373911" y="1317505"/>
                  <a:pt x="7407297" y="1317505"/>
                </a:cubicBezTo>
                <a:cubicBezTo>
                  <a:pt x="7440684" y="1317505"/>
                  <a:pt x="7467749" y="1290440"/>
                  <a:pt x="7467749" y="1257053"/>
                </a:cubicBezTo>
                <a:cubicBezTo>
                  <a:pt x="7467749" y="1223667"/>
                  <a:pt x="7440683" y="1196602"/>
                  <a:pt x="7407297" y="1196602"/>
                </a:cubicBezTo>
                <a:close/>
                <a:moveTo>
                  <a:pt x="7234014" y="1196602"/>
                </a:moveTo>
                <a:cubicBezTo>
                  <a:pt x="7200627" y="1196602"/>
                  <a:pt x="7173562" y="1223667"/>
                  <a:pt x="7173562" y="1257053"/>
                </a:cubicBezTo>
                <a:cubicBezTo>
                  <a:pt x="7173562" y="1290440"/>
                  <a:pt x="7200627" y="1317505"/>
                  <a:pt x="7234014" y="1317505"/>
                </a:cubicBezTo>
                <a:cubicBezTo>
                  <a:pt x="7267400" y="1317505"/>
                  <a:pt x="7294465" y="1290440"/>
                  <a:pt x="7294465" y="1257053"/>
                </a:cubicBezTo>
                <a:cubicBezTo>
                  <a:pt x="7294465" y="1223667"/>
                  <a:pt x="7267400" y="1196602"/>
                  <a:pt x="7234014" y="1196602"/>
                </a:cubicBezTo>
                <a:close/>
                <a:moveTo>
                  <a:pt x="7060730" y="1196602"/>
                </a:moveTo>
                <a:cubicBezTo>
                  <a:pt x="7027344" y="1196602"/>
                  <a:pt x="7000279" y="1223667"/>
                  <a:pt x="7000279" y="1257053"/>
                </a:cubicBezTo>
                <a:cubicBezTo>
                  <a:pt x="7000279" y="1290440"/>
                  <a:pt x="7027344" y="1317505"/>
                  <a:pt x="7060731" y="1317505"/>
                </a:cubicBezTo>
                <a:cubicBezTo>
                  <a:pt x="7094117" y="1317505"/>
                  <a:pt x="7121182" y="1290440"/>
                  <a:pt x="7121182" y="1257053"/>
                </a:cubicBezTo>
                <a:cubicBezTo>
                  <a:pt x="7121182" y="1223667"/>
                  <a:pt x="7094117" y="1196602"/>
                  <a:pt x="7060730" y="1196602"/>
                </a:cubicBezTo>
                <a:close/>
                <a:moveTo>
                  <a:pt x="6887447" y="1196602"/>
                </a:moveTo>
                <a:cubicBezTo>
                  <a:pt x="6854061" y="1196602"/>
                  <a:pt x="6826996" y="1223667"/>
                  <a:pt x="6826996" y="1257053"/>
                </a:cubicBezTo>
                <a:cubicBezTo>
                  <a:pt x="6826996" y="1290440"/>
                  <a:pt x="6854061" y="1317505"/>
                  <a:pt x="6887447" y="1317505"/>
                </a:cubicBezTo>
                <a:cubicBezTo>
                  <a:pt x="6920834" y="1317505"/>
                  <a:pt x="6947899" y="1290440"/>
                  <a:pt x="6947899" y="1257053"/>
                </a:cubicBezTo>
                <a:cubicBezTo>
                  <a:pt x="6947899" y="1223667"/>
                  <a:pt x="6920833" y="1196602"/>
                  <a:pt x="6887447" y="1196602"/>
                </a:cubicBezTo>
                <a:close/>
                <a:moveTo>
                  <a:pt x="6714164" y="1196602"/>
                </a:moveTo>
                <a:cubicBezTo>
                  <a:pt x="6680777" y="1196602"/>
                  <a:pt x="6653712" y="1223667"/>
                  <a:pt x="6653712" y="1257053"/>
                </a:cubicBezTo>
                <a:cubicBezTo>
                  <a:pt x="6653712" y="1290440"/>
                  <a:pt x="6680777" y="1317505"/>
                  <a:pt x="6714164" y="1317505"/>
                </a:cubicBezTo>
                <a:cubicBezTo>
                  <a:pt x="6747550" y="1317505"/>
                  <a:pt x="6774615" y="1290440"/>
                  <a:pt x="6774615" y="1257053"/>
                </a:cubicBezTo>
                <a:cubicBezTo>
                  <a:pt x="6774615" y="1223667"/>
                  <a:pt x="6747550" y="1196602"/>
                  <a:pt x="6714164" y="1196602"/>
                </a:cubicBezTo>
                <a:close/>
                <a:moveTo>
                  <a:pt x="0" y="0"/>
                </a:moveTo>
                <a:lnTo>
                  <a:pt x="10792791" y="0"/>
                </a:lnTo>
                <a:lnTo>
                  <a:pt x="10792791" y="7196954"/>
                </a:lnTo>
                <a:lnTo>
                  <a:pt x="0" y="7196954"/>
                </a:lnTo>
                <a:close/>
              </a:path>
            </a:pathLst>
          </a:cu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360000" rIns="90000" tIns="360000" bIns="45000" anchor="t">
            <a:noAutofit/>
          </a:bodyPr>
          <a:p>
            <a:pPr>
              <a:lnSpc>
                <a:spcPct val="100000"/>
              </a:lnSpc>
            </a:pPr>
            <a:r>
              <a:rPr b="1" lang="zh-CN" sz="1800" spc="-1" strike="noStrike">
                <a:solidFill>
                  <a:srgbClr val="ffffff"/>
                </a:solidFill>
                <a:latin typeface="Candara"/>
                <a:ea typeface="微软雅黑"/>
              </a:rPr>
              <a:t>文字说明：</a:t>
            </a:r>
            <a:endParaRPr b="0" lang="en-US" sz="1800" spc="-1" strike="noStrike">
              <a:solidFill>
                <a:srgbClr val="000000"/>
              </a:solidFill>
              <a:latin typeface="Arial"/>
            </a:endParaRPr>
          </a:p>
        </p:txBody>
      </p:sp>
      <p:sp>
        <p:nvSpPr>
          <p:cNvPr id="1109"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右侧形状可更改填充内容，可改为其他图片填充，或颜色、纹理等等。</a:t>
            </a:r>
            <a:endParaRPr b="0" lang="en-US" sz="2000" spc="-1" strike="noStrike">
              <a:solidFill>
                <a:srgbClr val="000000"/>
              </a:solidFill>
              <a:latin typeface="Arial"/>
            </a:endParaRPr>
          </a:p>
        </p:txBody>
      </p:sp>
      <p:sp>
        <p:nvSpPr>
          <p:cNvPr id="1110" name="Text Box 9"/>
          <p:cNvSpPr/>
          <p:nvPr/>
        </p:nvSpPr>
        <p:spPr>
          <a:xfrm>
            <a:off x="684360" y="578484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d0007b"/>
                </a:solidFill>
                <a:uFillTx/>
                <a:latin typeface="Arial"/>
                <a:ea typeface="宋体"/>
                <a:hlinkClick r:id="rId2"/>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360360" y="360360"/>
            <a:ext cx="10801080" cy="718920"/>
          </a:xfrm>
          <a:prstGeom prst="rect">
            <a:avLst/>
          </a:prstGeom>
          <a:noFill/>
          <a:ln w="0">
            <a:noFill/>
          </a:ln>
        </p:spPr>
        <p:txBody>
          <a:bodyPr anchor="ctr">
            <a:normAutofit fontScale="93000"/>
          </a:bodyPr>
          <a:p>
            <a:pPr indent="0" algn="ctr">
              <a:lnSpc>
                <a:spcPct val="100000"/>
              </a:lnSpc>
              <a:buNone/>
            </a:pPr>
            <a:r>
              <a:rPr b="0" lang="zh-CN" sz="4400" spc="-1" strike="noStrike">
                <a:solidFill>
                  <a:srgbClr val="262626"/>
                </a:solidFill>
                <a:latin typeface="Candara"/>
                <a:ea typeface="微软雅黑"/>
              </a:rPr>
              <a:t>图形</a:t>
            </a:r>
            <a:r>
              <a:rPr b="0" lang="en-US" sz="4400" spc="-1" strike="noStrike">
                <a:solidFill>
                  <a:srgbClr val="262626"/>
                </a:solidFill>
                <a:latin typeface="Candara"/>
                <a:ea typeface="微软雅黑"/>
              </a:rPr>
              <a:t>——小全张</a:t>
            </a:r>
            <a:endParaRPr b="0" lang="en-US" sz="4400" spc="-1" strike="noStrike">
              <a:solidFill>
                <a:srgbClr val="000000"/>
              </a:solidFill>
              <a:latin typeface="Candara"/>
            </a:endParaRPr>
          </a:p>
        </p:txBody>
      </p:sp>
      <p:sp>
        <p:nvSpPr>
          <p:cNvPr id="1112" name="矩形 206"/>
          <p:cNvSpPr/>
          <p:nvPr/>
        </p:nvSpPr>
        <p:spPr>
          <a:xfrm>
            <a:off x="3960720" y="1444320"/>
            <a:ext cx="7199640" cy="4679640"/>
          </a:xfrm>
          <a:custGeom>
            <a:avLst/>
            <a:gdLst>
              <a:gd name="textAreaLeft" fmla="*/ 0 w 7199640"/>
              <a:gd name="textAreaRight" fmla="*/ 7200000 w 7199640"/>
              <a:gd name="textAreaTop" fmla="*/ 0 h 4679640"/>
              <a:gd name="textAreaBottom" fmla="*/ 4680000 h 4679640"/>
            </a:gdLst>
            <a:ahLst/>
            <a:rect l="textAreaLeft" t="textAreaTop" r="textAreaRight" b="textAreaBottom"/>
            <a:pathLst>
              <a:path w="7200000" h="4680000">
                <a:moveTo>
                  <a:pt x="5699016" y="3868474"/>
                </a:moveTo>
                <a:cubicBezTo>
                  <a:pt x="5673742" y="3868474"/>
                  <a:pt x="5653253" y="3888963"/>
                  <a:pt x="5653253" y="3914237"/>
                </a:cubicBezTo>
                <a:cubicBezTo>
                  <a:pt x="5653253" y="3939511"/>
                  <a:pt x="5673742" y="3960000"/>
                  <a:pt x="5699016" y="3960000"/>
                </a:cubicBezTo>
                <a:cubicBezTo>
                  <a:pt x="5724290" y="3960000"/>
                  <a:pt x="5744779" y="3939511"/>
                  <a:pt x="5744779" y="3914237"/>
                </a:cubicBezTo>
                <a:cubicBezTo>
                  <a:pt x="5744779" y="3888963"/>
                  <a:pt x="5724290" y="3868474"/>
                  <a:pt x="5699016" y="3868474"/>
                </a:cubicBezTo>
                <a:close/>
                <a:moveTo>
                  <a:pt x="5567838" y="3868474"/>
                </a:moveTo>
                <a:cubicBezTo>
                  <a:pt x="5542564" y="3868474"/>
                  <a:pt x="5522075" y="3888963"/>
                  <a:pt x="5522075" y="3914237"/>
                </a:cubicBezTo>
                <a:cubicBezTo>
                  <a:pt x="5522075" y="3939511"/>
                  <a:pt x="5542564" y="3960000"/>
                  <a:pt x="5567838" y="3960000"/>
                </a:cubicBezTo>
                <a:cubicBezTo>
                  <a:pt x="5593112" y="3960000"/>
                  <a:pt x="5613601" y="3939511"/>
                  <a:pt x="5613601" y="3914237"/>
                </a:cubicBezTo>
                <a:cubicBezTo>
                  <a:pt x="5613601" y="3888963"/>
                  <a:pt x="5593112" y="3868474"/>
                  <a:pt x="5567838" y="3868474"/>
                </a:cubicBezTo>
                <a:close/>
                <a:moveTo>
                  <a:pt x="5436659" y="3868474"/>
                </a:moveTo>
                <a:cubicBezTo>
                  <a:pt x="5411385" y="3868474"/>
                  <a:pt x="5390896" y="3888963"/>
                  <a:pt x="5390896" y="3914237"/>
                </a:cubicBezTo>
                <a:cubicBezTo>
                  <a:pt x="5390896" y="3939511"/>
                  <a:pt x="5411385" y="3960000"/>
                  <a:pt x="5436659" y="3960000"/>
                </a:cubicBezTo>
                <a:cubicBezTo>
                  <a:pt x="5461933" y="3960000"/>
                  <a:pt x="5482422" y="3939511"/>
                  <a:pt x="5482422" y="3914237"/>
                </a:cubicBezTo>
                <a:cubicBezTo>
                  <a:pt x="5482422" y="3888963"/>
                  <a:pt x="5461933" y="3868474"/>
                  <a:pt x="5436659" y="3868474"/>
                </a:cubicBezTo>
                <a:close/>
                <a:moveTo>
                  <a:pt x="5305481" y="3868474"/>
                </a:moveTo>
                <a:cubicBezTo>
                  <a:pt x="5280207" y="3868474"/>
                  <a:pt x="5259718" y="3888963"/>
                  <a:pt x="5259718" y="3914237"/>
                </a:cubicBezTo>
                <a:cubicBezTo>
                  <a:pt x="5259718" y="3939511"/>
                  <a:pt x="5280207" y="3960000"/>
                  <a:pt x="5305481" y="3960000"/>
                </a:cubicBezTo>
                <a:cubicBezTo>
                  <a:pt x="5330755" y="3960000"/>
                  <a:pt x="5351244" y="3939511"/>
                  <a:pt x="5351244" y="3914237"/>
                </a:cubicBezTo>
                <a:cubicBezTo>
                  <a:pt x="5351244" y="3888963"/>
                  <a:pt x="5330755" y="3868474"/>
                  <a:pt x="5305481" y="3868474"/>
                </a:cubicBezTo>
                <a:close/>
                <a:moveTo>
                  <a:pt x="5174302" y="3868474"/>
                </a:moveTo>
                <a:cubicBezTo>
                  <a:pt x="5149028" y="3868474"/>
                  <a:pt x="5128539" y="3888963"/>
                  <a:pt x="5128539" y="3914237"/>
                </a:cubicBezTo>
                <a:cubicBezTo>
                  <a:pt x="5128539" y="3939511"/>
                  <a:pt x="5149028" y="3960000"/>
                  <a:pt x="5174302" y="3960000"/>
                </a:cubicBezTo>
                <a:cubicBezTo>
                  <a:pt x="5199576" y="3960000"/>
                  <a:pt x="5220065" y="3939511"/>
                  <a:pt x="5220065" y="3914237"/>
                </a:cubicBezTo>
                <a:cubicBezTo>
                  <a:pt x="5220065" y="3888963"/>
                  <a:pt x="5199576" y="3868474"/>
                  <a:pt x="5174302" y="3868474"/>
                </a:cubicBezTo>
                <a:close/>
                <a:moveTo>
                  <a:pt x="5043124" y="3868474"/>
                </a:moveTo>
                <a:cubicBezTo>
                  <a:pt x="5017850" y="3868474"/>
                  <a:pt x="4997361" y="3888963"/>
                  <a:pt x="4997361" y="3914237"/>
                </a:cubicBezTo>
                <a:cubicBezTo>
                  <a:pt x="4997361" y="3939511"/>
                  <a:pt x="5017850" y="3960000"/>
                  <a:pt x="5043124" y="3960000"/>
                </a:cubicBezTo>
                <a:cubicBezTo>
                  <a:pt x="5068398" y="3960000"/>
                  <a:pt x="5088887" y="3939511"/>
                  <a:pt x="5088887" y="3914237"/>
                </a:cubicBezTo>
                <a:cubicBezTo>
                  <a:pt x="5088887" y="3888963"/>
                  <a:pt x="5068398" y="3868474"/>
                  <a:pt x="5043124" y="3868474"/>
                </a:cubicBezTo>
                <a:close/>
                <a:moveTo>
                  <a:pt x="4911560" y="3868474"/>
                </a:moveTo>
                <a:cubicBezTo>
                  <a:pt x="4886286" y="3868474"/>
                  <a:pt x="4865797" y="3888963"/>
                  <a:pt x="4865797" y="3914237"/>
                </a:cubicBezTo>
                <a:cubicBezTo>
                  <a:pt x="4865797" y="3939511"/>
                  <a:pt x="4886286" y="3960000"/>
                  <a:pt x="4911560" y="3960000"/>
                </a:cubicBezTo>
                <a:cubicBezTo>
                  <a:pt x="4936834" y="3960000"/>
                  <a:pt x="4957323" y="3939511"/>
                  <a:pt x="4957323" y="3914237"/>
                </a:cubicBezTo>
                <a:cubicBezTo>
                  <a:pt x="4957323" y="3888963"/>
                  <a:pt x="4936834" y="3868474"/>
                  <a:pt x="4911560" y="3868474"/>
                </a:cubicBezTo>
                <a:close/>
                <a:moveTo>
                  <a:pt x="4780382" y="3868474"/>
                </a:moveTo>
                <a:cubicBezTo>
                  <a:pt x="4755107" y="3868474"/>
                  <a:pt x="4734619" y="3888963"/>
                  <a:pt x="4734619" y="3914237"/>
                </a:cubicBezTo>
                <a:cubicBezTo>
                  <a:pt x="4734619" y="3939511"/>
                  <a:pt x="4755107" y="3960000"/>
                  <a:pt x="4780382" y="3960000"/>
                </a:cubicBezTo>
                <a:cubicBezTo>
                  <a:pt x="4805656" y="3960000"/>
                  <a:pt x="4826144" y="3939511"/>
                  <a:pt x="4826144" y="3914237"/>
                </a:cubicBezTo>
                <a:cubicBezTo>
                  <a:pt x="4826144" y="3888963"/>
                  <a:pt x="4805656" y="3868474"/>
                  <a:pt x="4780382" y="3868474"/>
                </a:cubicBezTo>
                <a:close/>
                <a:moveTo>
                  <a:pt x="4649203" y="3868474"/>
                </a:moveTo>
                <a:cubicBezTo>
                  <a:pt x="4623929" y="3868474"/>
                  <a:pt x="4603440" y="3888963"/>
                  <a:pt x="4603440" y="3914237"/>
                </a:cubicBezTo>
                <a:cubicBezTo>
                  <a:pt x="4603440" y="3939511"/>
                  <a:pt x="4623929" y="3960000"/>
                  <a:pt x="4649203" y="3960000"/>
                </a:cubicBezTo>
                <a:cubicBezTo>
                  <a:pt x="4674477" y="3960000"/>
                  <a:pt x="4694966" y="3939511"/>
                  <a:pt x="4694966" y="3914237"/>
                </a:cubicBezTo>
                <a:cubicBezTo>
                  <a:pt x="4694966" y="3888963"/>
                  <a:pt x="4674477" y="3868474"/>
                  <a:pt x="4649203" y="3868474"/>
                </a:cubicBezTo>
                <a:close/>
                <a:moveTo>
                  <a:pt x="4518025" y="3868474"/>
                </a:moveTo>
                <a:cubicBezTo>
                  <a:pt x="4492750" y="3868474"/>
                  <a:pt x="4472262" y="3888963"/>
                  <a:pt x="4472262" y="3914237"/>
                </a:cubicBezTo>
                <a:cubicBezTo>
                  <a:pt x="4472262" y="3939511"/>
                  <a:pt x="4492750" y="3960000"/>
                  <a:pt x="4518025" y="3960000"/>
                </a:cubicBezTo>
                <a:cubicBezTo>
                  <a:pt x="4543299" y="3960000"/>
                  <a:pt x="4563787" y="3939511"/>
                  <a:pt x="4563787" y="3914237"/>
                </a:cubicBezTo>
                <a:cubicBezTo>
                  <a:pt x="4563787" y="3888963"/>
                  <a:pt x="4543299" y="3868474"/>
                  <a:pt x="4518025" y="3868474"/>
                </a:cubicBezTo>
                <a:close/>
                <a:moveTo>
                  <a:pt x="4386846" y="3868474"/>
                </a:moveTo>
                <a:cubicBezTo>
                  <a:pt x="4361572" y="3868474"/>
                  <a:pt x="4341083" y="3888963"/>
                  <a:pt x="4341083" y="3914237"/>
                </a:cubicBezTo>
                <a:cubicBezTo>
                  <a:pt x="4341083" y="3939511"/>
                  <a:pt x="4361572" y="3960000"/>
                  <a:pt x="4386846" y="3960000"/>
                </a:cubicBezTo>
                <a:cubicBezTo>
                  <a:pt x="4412120" y="3960000"/>
                  <a:pt x="4432609" y="3939511"/>
                  <a:pt x="4432609" y="3914237"/>
                </a:cubicBezTo>
                <a:cubicBezTo>
                  <a:pt x="4432609" y="3888963"/>
                  <a:pt x="4412120" y="3868474"/>
                  <a:pt x="4386846" y="3868474"/>
                </a:cubicBezTo>
                <a:close/>
                <a:moveTo>
                  <a:pt x="4255668" y="3868474"/>
                </a:moveTo>
                <a:cubicBezTo>
                  <a:pt x="4230393" y="3868474"/>
                  <a:pt x="4209905" y="3888963"/>
                  <a:pt x="4209905" y="3914237"/>
                </a:cubicBezTo>
                <a:cubicBezTo>
                  <a:pt x="4209905" y="3939511"/>
                  <a:pt x="4230393" y="3960000"/>
                  <a:pt x="4255668" y="3960000"/>
                </a:cubicBezTo>
                <a:cubicBezTo>
                  <a:pt x="4280942" y="3960000"/>
                  <a:pt x="4301430" y="3939511"/>
                  <a:pt x="4301430" y="3914237"/>
                </a:cubicBezTo>
                <a:cubicBezTo>
                  <a:pt x="4301430" y="3888963"/>
                  <a:pt x="4280942" y="3868474"/>
                  <a:pt x="4255668" y="3868474"/>
                </a:cubicBezTo>
                <a:close/>
                <a:moveTo>
                  <a:pt x="4124489" y="3868474"/>
                </a:moveTo>
                <a:cubicBezTo>
                  <a:pt x="4099215" y="3868474"/>
                  <a:pt x="4078726" y="3888963"/>
                  <a:pt x="4078726" y="3914237"/>
                </a:cubicBezTo>
                <a:cubicBezTo>
                  <a:pt x="4078726" y="3939511"/>
                  <a:pt x="4099215" y="3960000"/>
                  <a:pt x="4124489" y="3960000"/>
                </a:cubicBezTo>
                <a:cubicBezTo>
                  <a:pt x="4149763" y="3960000"/>
                  <a:pt x="4170252" y="3939511"/>
                  <a:pt x="4170252" y="3914237"/>
                </a:cubicBezTo>
                <a:cubicBezTo>
                  <a:pt x="4170252" y="3888963"/>
                  <a:pt x="4149763" y="3868474"/>
                  <a:pt x="4124489" y="3868474"/>
                </a:cubicBezTo>
                <a:close/>
                <a:moveTo>
                  <a:pt x="3993311" y="3868474"/>
                </a:moveTo>
                <a:cubicBezTo>
                  <a:pt x="3968036" y="3868474"/>
                  <a:pt x="3947548" y="3888963"/>
                  <a:pt x="3947548" y="3914237"/>
                </a:cubicBezTo>
                <a:cubicBezTo>
                  <a:pt x="3947548" y="3939511"/>
                  <a:pt x="3968036" y="3960000"/>
                  <a:pt x="3993311" y="3960000"/>
                </a:cubicBezTo>
                <a:cubicBezTo>
                  <a:pt x="4018585" y="3960000"/>
                  <a:pt x="4039073" y="3939511"/>
                  <a:pt x="4039073" y="3914237"/>
                </a:cubicBezTo>
                <a:cubicBezTo>
                  <a:pt x="4039073" y="3888963"/>
                  <a:pt x="4018585" y="3868474"/>
                  <a:pt x="3993311" y="3868474"/>
                </a:cubicBezTo>
                <a:close/>
                <a:moveTo>
                  <a:pt x="3861941" y="3868474"/>
                </a:moveTo>
                <a:cubicBezTo>
                  <a:pt x="3836667" y="3868474"/>
                  <a:pt x="3816179" y="3888963"/>
                  <a:pt x="3816179" y="3914237"/>
                </a:cubicBezTo>
                <a:cubicBezTo>
                  <a:pt x="3816179" y="3939511"/>
                  <a:pt x="3836667" y="3960000"/>
                  <a:pt x="3861941" y="3960000"/>
                </a:cubicBezTo>
                <a:cubicBezTo>
                  <a:pt x="3887216" y="3960000"/>
                  <a:pt x="3907704" y="3939511"/>
                  <a:pt x="3907704" y="3914237"/>
                </a:cubicBezTo>
                <a:cubicBezTo>
                  <a:pt x="3907704" y="3888963"/>
                  <a:pt x="3887216" y="3868474"/>
                  <a:pt x="3861941" y="3868474"/>
                </a:cubicBezTo>
                <a:close/>
                <a:moveTo>
                  <a:pt x="3730763" y="3868474"/>
                </a:moveTo>
                <a:cubicBezTo>
                  <a:pt x="3705489" y="3868474"/>
                  <a:pt x="3685000" y="3888963"/>
                  <a:pt x="3685000" y="3914237"/>
                </a:cubicBezTo>
                <a:cubicBezTo>
                  <a:pt x="3685000" y="3939511"/>
                  <a:pt x="3705489" y="3960000"/>
                  <a:pt x="3730763" y="3960000"/>
                </a:cubicBezTo>
                <a:cubicBezTo>
                  <a:pt x="3756037" y="3960000"/>
                  <a:pt x="3776526" y="3939511"/>
                  <a:pt x="3776526" y="3914237"/>
                </a:cubicBezTo>
                <a:cubicBezTo>
                  <a:pt x="3776526" y="3888963"/>
                  <a:pt x="3756037" y="3868474"/>
                  <a:pt x="3730763" y="3868474"/>
                </a:cubicBezTo>
                <a:close/>
                <a:moveTo>
                  <a:pt x="3599584" y="3868474"/>
                </a:moveTo>
                <a:cubicBezTo>
                  <a:pt x="3574310" y="3868474"/>
                  <a:pt x="3553822" y="3888963"/>
                  <a:pt x="3553822" y="3914237"/>
                </a:cubicBezTo>
                <a:cubicBezTo>
                  <a:pt x="3553822" y="3939511"/>
                  <a:pt x="3574310" y="3960000"/>
                  <a:pt x="3599584" y="3960000"/>
                </a:cubicBezTo>
                <a:cubicBezTo>
                  <a:pt x="3624859" y="3960000"/>
                  <a:pt x="3645347" y="3939511"/>
                  <a:pt x="3645347" y="3914237"/>
                </a:cubicBezTo>
                <a:cubicBezTo>
                  <a:pt x="3645347" y="3888963"/>
                  <a:pt x="3624859" y="3868474"/>
                  <a:pt x="3599584" y="3868474"/>
                </a:cubicBezTo>
                <a:close/>
                <a:moveTo>
                  <a:pt x="3468406" y="3868474"/>
                </a:moveTo>
                <a:cubicBezTo>
                  <a:pt x="3443132" y="3868474"/>
                  <a:pt x="3422643" y="3888963"/>
                  <a:pt x="3422643" y="3914237"/>
                </a:cubicBezTo>
                <a:cubicBezTo>
                  <a:pt x="3422643" y="3939511"/>
                  <a:pt x="3443132" y="3960000"/>
                  <a:pt x="3468406" y="3960000"/>
                </a:cubicBezTo>
                <a:cubicBezTo>
                  <a:pt x="3493680" y="3960000"/>
                  <a:pt x="3514169" y="3939511"/>
                  <a:pt x="3514169" y="3914237"/>
                </a:cubicBezTo>
                <a:cubicBezTo>
                  <a:pt x="3514169" y="3888963"/>
                  <a:pt x="3493680" y="3868474"/>
                  <a:pt x="3468406" y="3868474"/>
                </a:cubicBezTo>
                <a:close/>
                <a:moveTo>
                  <a:pt x="3337227" y="3868474"/>
                </a:moveTo>
                <a:cubicBezTo>
                  <a:pt x="3311953" y="3868474"/>
                  <a:pt x="3291465" y="3888963"/>
                  <a:pt x="3291465" y="3914237"/>
                </a:cubicBezTo>
                <a:cubicBezTo>
                  <a:pt x="3291465" y="3939511"/>
                  <a:pt x="3311953" y="3960000"/>
                  <a:pt x="3337227" y="3960000"/>
                </a:cubicBezTo>
                <a:cubicBezTo>
                  <a:pt x="3362502" y="3960000"/>
                  <a:pt x="3382990" y="3939511"/>
                  <a:pt x="3382990" y="3914237"/>
                </a:cubicBezTo>
                <a:cubicBezTo>
                  <a:pt x="3382990" y="3888963"/>
                  <a:pt x="3362502" y="3868474"/>
                  <a:pt x="3337227" y="3868474"/>
                </a:cubicBezTo>
                <a:close/>
                <a:moveTo>
                  <a:pt x="3206049" y="3868474"/>
                </a:moveTo>
                <a:cubicBezTo>
                  <a:pt x="3180775" y="3868474"/>
                  <a:pt x="3160286" y="3888963"/>
                  <a:pt x="3160286" y="3914237"/>
                </a:cubicBezTo>
                <a:cubicBezTo>
                  <a:pt x="3160286" y="3939511"/>
                  <a:pt x="3180775" y="3960000"/>
                  <a:pt x="3206049" y="3960000"/>
                </a:cubicBezTo>
                <a:cubicBezTo>
                  <a:pt x="3231323" y="3960000"/>
                  <a:pt x="3251812" y="3939511"/>
                  <a:pt x="3251812" y="3914237"/>
                </a:cubicBezTo>
                <a:cubicBezTo>
                  <a:pt x="3251812" y="3888963"/>
                  <a:pt x="3231323" y="3868474"/>
                  <a:pt x="3206049" y="3868474"/>
                </a:cubicBezTo>
                <a:close/>
                <a:moveTo>
                  <a:pt x="3074870" y="3868474"/>
                </a:moveTo>
                <a:cubicBezTo>
                  <a:pt x="3049596" y="3868474"/>
                  <a:pt x="3029108" y="3888963"/>
                  <a:pt x="3029108" y="3914237"/>
                </a:cubicBezTo>
                <a:cubicBezTo>
                  <a:pt x="3029108" y="3939511"/>
                  <a:pt x="3049596" y="3960000"/>
                  <a:pt x="3074870" y="3960000"/>
                </a:cubicBezTo>
                <a:cubicBezTo>
                  <a:pt x="3100145" y="3960000"/>
                  <a:pt x="3120633" y="3939511"/>
                  <a:pt x="3120633" y="3914237"/>
                </a:cubicBezTo>
                <a:cubicBezTo>
                  <a:pt x="3120633" y="3888963"/>
                  <a:pt x="3100145" y="3868474"/>
                  <a:pt x="3074870" y="3868474"/>
                </a:cubicBezTo>
                <a:close/>
                <a:moveTo>
                  <a:pt x="2943692" y="3868474"/>
                </a:moveTo>
                <a:cubicBezTo>
                  <a:pt x="2918418" y="3868474"/>
                  <a:pt x="2897929" y="3888963"/>
                  <a:pt x="2897929" y="3914237"/>
                </a:cubicBezTo>
                <a:cubicBezTo>
                  <a:pt x="2897929" y="3939511"/>
                  <a:pt x="2918418" y="3960000"/>
                  <a:pt x="2943692" y="3960000"/>
                </a:cubicBezTo>
                <a:cubicBezTo>
                  <a:pt x="2968966" y="3960000"/>
                  <a:pt x="2989455" y="3939511"/>
                  <a:pt x="2989455" y="3914237"/>
                </a:cubicBezTo>
                <a:cubicBezTo>
                  <a:pt x="2989455" y="3888963"/>
                  <a:pt x="2968966" y="3868474"/>
                  <a:pt x="2943692" y="3868474"/>
                </a:cubicBezTo>
                <a:close/>
                <a:moveTo>
                  <a:pt x="2812513" y="3868474"/>
                </a:moveTo>
                <a:cubicBezTo>
                  <a:pt x="2787239" y="3868474"/>
                  <a:pt x="2766751" y="3888963"/>
                  <a:pt x="2766751" y="3914237"/>
                </a:cubicBezTo>
                <a:cubicBezTo>
                  <a:pt x="2766751" y="3939511"/>
                  <a:pt x="2787239" y="3960000"/>
                  <a:pt x="2812513" y="3960000"/>
                </a:cubicBezTo>
                <a:cubicBezTo>
                  <a:pt x="2837788" y="3960000"/>
                  <a:pt x="2858276" y="3939511"/>
                  <a:pt x="2858276" y="3914237"/>
                </a:cubicBezTo>
                <a:cubicBezTo>
                  <a:pt x="2858276" y="3888963"/>
                  <a:pt x="2837788" y="3868474"/>
                  <a:pt x="2812513" y="3868474"/>
                </a:cubicBezTo>
                <a:close/>
                <a:moveTo>
                  <a:pt x="2681335" y="3868474"/>
                </a:moveTo>
                <a:cubicBezTo>
                  <a:pt x="2656061" y="3868474"/>
                  <a:pt x="2635572" y="3888963"/>
                  <a:pt x="2635572" y="3914237"/>
                </a:cubicBezTo>
                <a:cubicBezTo>
                  <a:pt x="2635572" y="3939511"/>
                  <a:pt x="2656061" y="3960000"/>
                  <a:pt x="2681335" y="3960000"/>
                </a:cubicBezTo>
                <a:cubicBezTo>
                  <a:pt x="2706609" y="3960000"/>
                  <a:pt x="2727098" y="3939511"/>
                  <a:pt x="2727098" y="3914237"/>
                </a:cubicBezTo>
                <a:cubicBezTo>
                  <a:pt x="2727098" y="3888963"/>
                  <a:pt x="2706609" y="3868474"/>
                  <a:pt x="2681335" y="3868474"/>
                </a:cubicBezTo>
                <a:close/>
                <a:moveTo>
                  <a:pt x="2550156" y="3868474"/>
                </a:moveTo>
                <a:cubicBezTo>
                  <a:pt x="2524882" y="3868474"/>
                  <a:pt x="2504394" y="3888963"/>
                  <a:pt x="2504394" y="3914237"/>
                </a:cubicBezTo>
                <a:cubicBezTo>
                  <a:pt x="2504394" y="3939511"/>
                  <a:pt x="2524882" y="3960000"/>
                  <a:pt x="2550156" y="3960000"/>
                </a:cubicBezTo>
                <a:cubicBezTo>
                  <a:pt x="2575431" y="3960000"/>
                  <a:pt x="2595919" y="3939511"/>
                  <a:pt x="2595919" y="3914237"/>
                </a:cubicBezTo>
                <a:cubicBezTo>
                  <a:pt x="2595919" y="3888963"/>
                  <a:pt x="2575431" y="3868474"/>
                  <a:pt x="2550156" y="3868474"/>
                </a:cubicBezTo>
                <a:close/>
                <a:moveTo>
                  <a:pt x="2418978" y="3868474"/>
                </a:moveTo>
                <a:cubicBezTo>
                  <a:pt x="2393704" y="3868474"/>
                  <a:pt x="2373215" y="3888963"/>
                  <a:pt x="2373215" y="3914237"/>
                </a:cubicBezTo>
                <a:cubicBezTo>
                  <a:pt x="2373215" y="3939511"/>
                  <a:pt x="2393704" y="3960000"/>
                  <a:pt x="2418978" y="3960000"/>
                </a:cubicBezTo>
                <a:cubicBezTo>
                  <a:pt x="2444252" y="3960000"/>
                  <a:pt x="2464741" y="3939511"/>
                  <a:pt x="2464741" y="3914237"/>
                </a:cubicBezTo>
                <a:cubicBezTo>
                  <a:pt x="2464741" y="3888963"/>
                  <a:pt x="2444252" y="3868474"/>
                  <a:pt x="2418978" y="3868474"/>
                </a:cubicBezTo>
                <a:close/>
                <a:moveTo>
                  <a:pt x="2287799" y="3868474"/>
                </a:moveTo>
                <a:cubicBezTo>
                  <a:pt x="2262525" y="3868474"/>
                  <a:pt x="2242037" y="3888963"/>
                  <a:pt x="2242037" y="3914237"/>
                </a:cubicBezTo>
                <a:cubicBezTo>
                  <a:pt x="2242037" y="3939511"/>
                  <a:pt x="2262525" y="3960000"/>
                  <a:pt x="2287799" y="3960000"/>
                </a:cubicBezTo>
                <a:cubicBezTo>
                  <a:pt x="2313074" y="3960000"/>
                  <a:pt x="2333562" y="3939511"/>
                  <a:pt x="2333562" y="3914237"/>
                </a:cubicBezTo>
                <a:cubicBezTo>
                  <a:pt x="2333562" y="3888963"/>
                  <a:pt x="2313074" y="3868474"/>
                  <a:pt x="2287799" y="3868474"/>
                </a:cubicBezTo>
                <a:close/>
                <a:moveTo>
                  <a:pt x="2156621" y="3868474"/>
                </a:moveTo>
                <a:cubicBezTo>
                  <a:pt x="2131347" y="3868474"/>
                  <a:pt x="2110858" y="3888963"/>
                  <a:pt x="2110858" y="3914237"/>
                </a:cubicBezTo>
                <a:cubicBezTo>
                  <a:pt x="2110858" y="3939511"/>
                  <a:pt x="2131347" y="3960000"/>
                  <a:pt x="2156621" y="3960000"/>
                </a:cubicBezTo>
                <a:cubicBezTo>
                  <a:pt x="2181895" y="3960000"/>
                  <a:pt x="2202384" y="3939511"/>
                  <a:pt x="2202384" y="3914237"/>
                </a:cubicBezTo>
                <a:cubicBezTo>
                  <a:pt x="2202384" y="3888963"/>
                  <a:pt x="2181895" y="3868474"/>
                  <a:pt x="2156621" y="3868474"/>
                </a:cubicBezTo>
                <a:close/>
                <a:moveTo>
                  <a:pt x="2025442" y="3868474"/>
                </a:moveTo>
                <a:cubicBezTo>
                  <a:pt x="2000168" y="3868474"/>
                  <a:pt x="1979680" y="3888963"/>
                  <a:pt x="1979680" y="3914237"/>
                </a:cubicBezTo>
                <a:cubicBezTo>
                  <a:pt x="1979680" y="3939511"/>
                  <a:pt x="2000168" y="3960000"/>
                  <a:pt x="2025442" y="3960000"/>
                </a:cubicBezTo>
                <a:cubicBezTo>
                  <a:pt x="2050717" y="3960000"/>
                  <a:pt x="2071205" y="3939511"/>
                  <a:pt x="2071205" y="3914237"/>
                </a:cubicBezTo>
                <a:cubicBezTo>
                  <a:pt x="2071205" y="3888963"/>
                  <a:pt x="2050717" y="3868474"/>
                  <a:pt x="2025442" y="3868474"/>
                </a:cubicBezTo>
                <a:close/>
                <a:moveTo>
                  <a:pt x="1894264" y="3868474"/>
                </a:moveTo>
                <a:cubicBezTo>
                  <a:pt x="1868990" y="3868474"/>
                  <a:pt x="1848501" y="3888963"/>
                  <a:pt x="1848501" y="3914237"/>
                </a:cubicBezTo>
                <a:cubicBezTo>
                  <a:pt x="1848501" y="3939511"/>
                  <a:pt x="1868990" y="3960000"/>
                  <a:pt x="1894264" y="3960000"/>
                </a:cubicBezTo>
                <a:cubicBezTo>
                  <a:pt x="1919538" y="3960000"/>
                  <a:pt x="1940027" y="3939511"/>
                  <a:pt x="1940027" y="3914237"/>
                </a:cubicBezTo>
                <a:cubicBezTo>
                  <a:pt x="1940027" y="3888963"/>
                  <a:pt x="1919538" y="3868474"/>
                  <a:pt x="1894264" y="3868474"/>
                </a:cubicBezTo>
                <a:close/>
                <a:moveTo>
                  <a:pt x="1763085" y="3868474"/>
                </a:moveTo>
                <a:cubicBezTo>
                  <a:pt x="1737811" y="3868474"/>
                  <a:pt x="1717323" y="3888963"/>
                  <a:pt x="1717323" y="3914237"/>
                </a:cubicBezTo>
                <a:cubicBezTo>
                  <a:pt x="1717323" y="3939511"/>
                  <a:pt x="1737811" y="3960000"/>
                  <a:pt x="1763085" y="3960000"/>
                </a:cubicBezTo>
                <a:cubicBezTo>
                  <a:pt x="1788360" y="3960000"/>
                  <a:pt x="1808848" y="3939511"/>
                  <a:pt x="1808848" y="3914237"/>
                </a:cubicBezTo>
                <a:cubicBezTo>
                  <a:pt x="1808848" y="3888963"/>
                  <a:pt x="1788360" y="3868474"/>
                  <a:pt x="1763085" y="3868474"/>
                </a:cubicBezTo>
                <a:close/>
                <a:moveTo>
                  <a:pt x="1631907" y="3868474"/>
                </a:moveTo>
                <a:cubicBezTo>
                  <a:pt x="1606633" y="3868474"/>
                  <a:pt x="1586144" y="3888963"/>
                  <a:pt x="1586144" y="3914237"/>
                </a:cubicBezTo>
                <a:cubicBezTo>
                  <a:pt x="1586144" y="3939511"/>
                  <a:pt x="1606633" y="3960000"/>
                  <a:pt x="1631907" y="3960000"/>
                </a:cubicBezTo>
                <a:cubicBezTo>
                  <a:pt x="1657181" y="3960000"/>
                  <a:pt x="1677670" y="3939511"/>
                  <a:pt x="1677670" y="3914237"/>
                </a:cubicBezTo>
                <a:cubicBezTo>
                  <a:pt x="1677670" y="3888963"/>
                  <a:pt x="1657181" y="3868474"/>
                  <a:pt x="1631907" y="3868474"/>
                </a:cubicBezTo>
                <a:close/>
                <a:moveTo>
                  <a:pt x="1500728" y="3868474"/>
                </a:moveTo>
                <a:cubicBezTo>
                  <a:pt x="1475454" y="3868474"/>
                  <a:pt x="1454965" y="3888963"/>
                  <a:pt x="1454965" y="3914237"/>
                </a:cubicBezTo>
                <a:cubicBezTo>
                  <a:pt x="1454965" y="3939511"/>
                  <a:pt x="1475454" y="3960000"/>
                  <a:pt x="1500728" y="3960000"/>
                </a:cubicBezTo>
                <a:cubicBezTo>
                  <a:pt x="1526003" y="3960000"/>
                  <a:pt x="1546491" y="3939511"/>
                  <a:pt x="1546491" y="3914237"/>
                </a:cubicBezTo>
                <a:cubicBezTo>
                  <a:pt x="1546491" y="3888963"/>
                  <a:pt x="1526003" y="3868474"/>
                  <a:pt x="1500728" y="3868474"/>
                </a:cubicBezTo>
                <a:close/>
                <a:moveTo>
                  <a:pt x="5699080" y="3737167"/>
                </a:moveTo>
                <a:cubicBezTo>
                  <a:pt x="5673806" y="3737167"/>
                  <a:pt x="5653317" y="3757656"/>
                  <a:pt x="5653317" y="3782930"/>
                </a:cubicBezTo>
                <a:cubicBezTo>
                  <a:pt x="5653317" y="3808204"/>
                  <a:pt x="5673806" y="3828693"/>
                  <a:pt x="5699080" y="3828693"/>
                </a:cubicBezTo>
                <a:cubicBezTo>
                  <a:pt x="5724354" y="3828693"/>
                  <a:pt x="5744843" y="3808204"/>
                  <a:pt x="5744843" y="3782930"/>
                </a:cubicBezTo>
                <a:cubicBezTo>
                  <a:pt x="5744843" y="3757656"/>
                  <a:pt x="5724354" y="3737167"/>
                  <a:pt x="5699080" y="3737167"/>
                </a:cubicBezTo>
                <a:close/>
                <a:moveTo>
                  <a:pt x="1500728" y="3737104"/>
                </a:moveTo>
                <a:cubicBezTo>
                  <a:pt x="1475454" y="3737104"/>
                  <a:pt x="1454965" y="3757593"/>
                  <a:pt x="1454965" y="3782867"/>
                </a:cubicBezTo>
                <a:cubicBezTo>
                  <a:pt x="1454965" y="3808141"/>
                  <a:pt x="1475454" y="3828630"/>
                  <a:pt x="1500728" y="3828630"/>
                </a:cubicBezTo>
                <a:cubicBezTo>
                  <a:pt x="1526002" y="3828630"/>
                  <a:pt x="1546491" y="3808141"/>
                  <a:pt x="1546491" y="3782867"/>
                </a:cubicBezTo>
                <a:cubicBezTo>
                  <a:pt x="1546491" y="3757593"/>
                  <a:pt x="1526002" y="3737104"/>
                  <a:pt x="1500728" y="3737104"/>
                </a:cubicBezTo>
                <a:close/>
                <a:moveTo>
                  <a:pt x="3599904" y="3736975"/>
                </a:moveTo>
                <a:cubicBezTo>
                  <a:pt x="3574630" y="3736975"/>
                  <a:pt x="3554141" y="3757464"/>
                  <a:pt x="3554141" y="3782738"/>
                </a:cubicBezTo>
                <a:cubicBezTo>
                  <a:pt x="3554141" y="3808012"/>
                  <a:pt x="3574630" y="3828501"/>
                  <a:pt x="3599904" y="3828501"/>
                </a:cubicBezTo>
                <a:cubicBezTo>
                  <a:pt x="3625178" y="3828501"/>
                  <a:pt x="3645667" y="3808012"/>
                  <a:pt x="3645667" y="3782738"/>
                </a:cubicBezTo>
                <a:cubicBezTo>
                  <a:pt x="3645667" y="3757464"/>
                  <a:pt x="3625178" y="3736975"/>
                  <a:pt x="3599904" y="3736975"/>
                </a:cubicBezTo>
                <a:close/>
                <a:moveTo>
                  <a:pt x="1500728" y="3605926"/>
                </a:moveTo>
                <a:cubicBezTo>
                  <a:pt x="1475454" y="3605926"/>
                  <a:pt x="1454965" y="3626415"/>
                  <a:pt x="1454965" y="3651689"/>
                </a:cubicBezTo>
                <a:cubicBezTo>
                  <a:pt x="1454965" y="3676963"/>
                  <a:pt x="1475454" y="3697452"/>
                  <a:pt x="1500728" y="3697452"/>
                </a:cubicBezTo>
                <a:cubicBezTo>
                  <a:pt x="1526002" y="3697452"/>
                  <a:pt x="1546491" y="3676963"/>
                  <a:pt x="1546491" y="3651689"/>
                </a:cubicBezTo>
                <a:cubicBezTo>
                  <a:pt x="1546491" y="3626415"/>
                  <a:pt x="1526002" y="3605926"/>
                  <a:pt x="1500728" y="3605926"/>
                </a:cubicBezTo>
                <a:close/>
                <a:moveTo>
                  <a:pt x="5698887" y="3605797"/>
                </a:moveTo>
                <a:cubicBezTo>
                  <a:pt x="5673612" y="3605797"/>
                  <a:pt x="5653124" y="3626286"/>
                  <a:pt x="5653124" y="3651560"/>
                </a:cubicBezTo>
                <a:cubicBezTo>
                  <a:pt x="5653124" y="3676834"/>
                  <a:pt x="5673612" y="3697323"/>
                  <a:pt x="5698887" y="3697323"/>
                </a:cubicBezTo>
                <a:cubicBezTo>
                  <a:pt x="5724161" y="3697323"/>
                  <a:pt x="5744649" y="3676834"/>
                  <a:pt x="5744649" y="3651560"/>
                </a:cubicBezTo>
                <a:cubicBezTo>
                  <a:pt x="5744649" y="3626286"/>
                  <a:pt x="5724161" y="3605797"/>
                  <a:pt x="5698887" y="3605797"/>
                </a:cubicBezTo>
                <a:close/>
                <a:moveTo>
                  <a:pt x="3599904" y="3605797"/>
                </a:moveTo>
                <a:cubicBezTo>
                  <a:pt x="3574630" y="3605797"/>
                  <a:pt x="3554141" y="3626285"/>
                  <a:pt x="3554141" y="3651560"/>
                </a:cubicBezTo>
                <a:cubicBezTo>
                  <a:pt x="3554141" y="3676834"/>
                  <a:pt x="3574630" y="3697322"/>
                  <a:pt x="3599904" y="3697322"/>
                </a:cubicBezTo>
                <a:cubicBezTo>
                  <a:pt x="3625178" y="3697322"/>
                  <a:pt x="3645667" y="3676834"/>
                  <a:pt x="3645667" y="3651560"/>
                </a:cubicBezTo>
                <a:cubicBezTo>
                  <a:pt x="3645667" y="3626285"/>
                  <a:pt x="3625178" y="3605797"/>
                  <a:pt x="3599904" y="3605797"/>
                </a:cubicBezTo>
                <a:close/>
                <a:moveTo>
                  <a:pt x="1500728" y="3474747"/>
                </a:moveTo>
                <a:cubicBezTo>
                  <a:pt x="1475454" y="3474747"/>
                  <a:pt x="1454965" y="3495236"/>
                  <a:pt x="1454965" y="3520510"/>
                </a:cubicBezTo>
                <a:cubicBezTo>
                  <a:pt x="1454965" y="3545785"/>
                  <a:pt x="1475454" y="3566273"/>
                  <a:pt x="1500728" y="3566273"/>
                </a:cubicBezTo>
                <a:cubicBezTo>
                  <a:pt x="1526002" y="3566273"/>
                  <a:pt x="1546491" y="3545785"/>
                  <a:pt x="1546491" y="3520510"/>
                </a:cubicBezTo>
                <a:cubicBezTo>
                  <a:pt x="1546491" y="3495236"/>
                  <a:pt x="1526002" y="3474747"/>
                  <a:pt x="1500728" y="3474747"/>
                </a:cubicBezTo>
                <a:close/>
                <a:moveTo>
                  <a:pt x="5698887" y="3474619"/>
                </a:moveTo>
                <a:cubicBezTo>
                  <a:pt x="5673612" y="3474619"/>
                  <a:pt x="5653124" y="3495108"/>
                  <a:pt x="5653124" y="3520382"/>
                </a:cubicBezTo>
                <a:cubicBezTo>
                  <a:pt x="5653124" y="3545656"/>
                  <a:pt x="5673612" y="3566145"/>
                  <a:pt x="5698887" y="3566145"/>
                </a:cubicBezTo>
                <a:cubicBezTo>
                  <a:pt x="5724161" y="3566145"/>
                  <a:pt x="5744649" y="3545656"/>
                  <a:pt x="5744649" y="3520382"/>
                </a:cubicBezTo>
                <a:cubicBezTo>
                  <a:pt x="5744649" y="3495108"/>
                  <a:pt x="5724161" y="3474619"/>
                  <a:pt x="5698887" y="3474619"/>
                </a:cubicBezTo>
                <a:close/>
                <a:moveTo>
                  <a:pt x="3599904" y="3474618"/>
                </a:moveTo>
                <a:cubicBezTo>
                  <a:pt x="3574630" y="3474618"/>
                  <a:pt x="3554141" y="3495107"/>
                  <a:pt x="3554141" y="3520381"/>
                </a:cubicBezTo>
                <a:cubicBezTo>
                  <a:pt x="3554141" y="3545655"/>
                  <a:pt x="3574630" y="3566144"/>
                  <a:pt x="3599904" y="3566144"/>
                </a:cubicBezTo>
                <a:cubicBezTo>
                  <a:pt x="3625178" y="3566144"/>
                  <a:pt x="3645667" y="3545655"/>
                  <a:pt x="3645667" y="3520381"/>
                </a:cubicBezTo>
                <a:cubicBezTo>
                  <a:pt x="3645667" y="3495107"/>
                  <a:pt x="3625178" y="3474618"/>
                  <a:pt x="3599904" y="3474618"/>
                </a:cubicBezTo>
                <a:close/>
                <a:moveTo>
                  <a:pt x="1500728" y="3343569"/>
                </a:moveTo>
                <a:cubicBezTo>
                  <a:pt x="1475454" y="3343569"/>
                  <a:pt x="1454965" y="3364058"/>
                  <a:pt x="1454965" y="3389332"/>
                </a:cubicBezTo>
                <a:cubicBezTo>
                  <a:pt x="1454965" y="3414606"/>
                  <a:pt x="1475454" y="3435095"/>
                  <a:pt x="1500728" y="3435095"/>
                </a:cubicBezTo>
                <a:cubicBezTo>
                  <a:pt x="1526002" y="3435095"/>
                  <a:pt x="1546491" y="3414606"/>
                  <a:pt x="1546491" y="3389332"/>
                </a:cubicBezTo>
                <a:cubicBezTo>
                  <a:pt x="1546491" y="3364058"/>
                  <a:pt x="1526002" y="3343569"/>
                  <a:pt x="1500728" y="3343569"/>
                </a:cubicBezTo>
                <a:close/>
                <a:moveTo>
                  <a:pt x="5698887" y="3343440"/>
                </a:moveTo>
                <a:cubicBezTo>
                  <a:pt x="5673612" y="3343440"/>
                  <a:pt x="5653124" y="3363929"/>
                  <a:pt x="5653124" y="3389203"/>
                </a:cubicBezTo>
                <a:cubicBezTo>
                  <a:pt x="5653124" y="3414477"/>
                  <a:pt x="5673612" y="3434966"/>
                  <a:pt x="5698887" y="3434966"/>
                </a:cubicBezTo>
                <a:cubicBezTo>
                  <a:pt x="5724161" y="3434966"/>
                  <a:pt x="5744649" y="3414477"/>
                  <a:pt x="5744649" y="3389203"/>
                </a:cubicBezTo>
                <a:cubicBezTo>
                  <a:pt x="5744649" y="3363929"/>
                  <a:pt x="5724161" y="3343440"/>
                  <a:pt x="5698887" y="3343440"/>
                </a:cubicBezTo>
                <a:close/>
                <a:moveTo>
                  <a:pt x="3599904" y="3343440"/>
                </a:moveTo>
                <a:cubicBezTo>
                  <a:pt x="3574630" y="3343440"/>
                  <a:pt x="3554141" y="3363928"/>
                  <a:pt x="3554141" y="3389203"/>
                </a:cubicBezTo>
                <a:cubicBezTo>
                  <a:pt x="3554141" y="3414477"/>
                  <a:pt x="3574630" y="3434965"/>
                  <a:pt x="3599904" y="3434965"/>
                </a:cubicBezTo>
                <a:cubicBezTo>
                  <a:pt x="3625178" y="3434965"/>
                  <a:pt x="3645667" y="3414477"/>
                  <a:pt x="3645667" y="3389203"/>
                </a:cubicBezTo>
                <a:cubicBezTo>
                  <a:pt x="3645667" y="3363928"/>
                  <a:pt x="3625178" y="3343440"/>
                  <a:pt x="3599904" y="3343440"/>
                </a:cubicBezTo>
                <a:close/>
                <a:moveTo>
                  <a:pt x="1500728" y="3212391"/>
                </a:moveTo>
                <a:cubicBezTo>
                  <a:pt x="1475454" y="3212391"/>
                  <a:pt x="1454965" y="3232879"/>
                  <a:pt x="1454965" y="3258153"/>
                </a:cubicBezTo>
                <a:cubicBezTo>
                  <a:pt x="1454965" y="3283428"/>
                  <a:pt x="1475454" y="3303916"/>
                  <a:pt x="1500728" y="3303916"/>
                </a:cubicBezTo>
                <a:cubicBezTo>
                  <a:pt x="1526002" y="3303916"/>
                  <a:pt x="1546491" y="3283428"/>
                  <a:pt x="1546491" y="3258153"/>
                </a:cubicBezTo>
                <a:cubicBezTo>
                  <a:pt x="1546491" y="3232879"/>
                  <a:pt x="1526002" y="3212391"/>
                  <a:pt x="1500728" y="3212391"/>
                </a:cubicBezTo>
                <a:close/>
                <a:moveTo>
                  <a:pt x="5698887" y="3212262"/>
                </a:moveTo>
                <a:cubicBezTo>
                  <a:pt x="5673612" y="3212262"/>
                  <a:pt x="5653124" y="3232751"/>
                  <a:pt x="5653124" y="3258025"/>
                </a:cubicBezTo>
                <a:cubicBezTo>
                  <a:pt x="5653124" y="3283299"/>
                  <a:pt x="5673612" y="3303788"/>
                  <a:pt x="5698887" y="3303788"/>
                </a:cubicBezTo>
                <a:cubicBezTo>
                  <a:pt x="5724161" y="3303788"/>
                  <a:pt x="5744649" y="3283299"/>
                  <a:pt x="5744649" y="3258025"/>
                </a:cubicBezTo>
                <a:cubicBezTo>
                  <a:pt x="5744649" y="3232751"/>
                  <a:pt x="5724161" y="3212262"/>
                  <a:pt x="5698887" y="3212262"/>
                </a:cubicBezTo>
                <a:close/>
                <a:moveTo>
                  <a:pt x="3599904" y="3212261"/>
                </a:moveTo>
                <a:cubicBezTo>
                  <a:pt x="3574630" y="3212261"/>
                  <a:pt x="3554141" y="3232750"/>
                  <a:pt x="3554141" y="3258024"/>
                </a:cubicBezTo>
                <a:cubicBezTo>
                  <a:pt x="3554141" y="3283298"/>
                  <a:pt x="3574630" y="3303787"/>
                  <a:pt x="3599904" y="3303787"/>
                </a:cubicBezTo>
                <a:cubicBezTo>
                  <a:pt x="3625178" y="3303787"/>
                  <a:pt x="3645667" y="3283298"/>
                  <a:pt x="3645667" y="3258024"/>
                </a:cubicBezTo>
                <a:cubicBezTo>
                  <a:pt x="3645667" y="3232750"/>
                  <a:pt x="3625178" y="3212261"/>
                  <a:pt x="3599904" y="3212261"/>
                </a:cubicBezTo>
                <a:close/>
                <a:moveTo>
                  <a:pt x="5699273" y="3081211"/>
                </a:moveTo>
                <a:cubicBezTo>
                  <a:pt x="5673999" y="3081211"/>
                  <a:pt x="5653510" y="3101700"/>
                  <a:pt x="5653510" y="3126974"/>
                </a:cubicBezTo>
                <a:cubicBezTo>
                  <a:pt x="5653510" y="3152248"/>
                  <a:pt x="5673999" y="3172737"/>
                  <a:pt x="5699273" y="3172737"/>
                </a:cubicBezTo>
                <a:cubicBezTo>
                  <a:pt x="5724547" y="3172737"/>
                  <a:pt x="5745036" y="3152248"/>
                  <a:pt x="5745036" y="3126974"/>
                </a:cubicBezTo>
                <a:cubicBezTo>
                  <a:pt x="5745036" y="3101700"/>
                  <a:pt x="5724547" y="3081211"/>
                  <a:pt x="5699273" y="3081211"/>
                </a:cubicBezTo>
                <a:close/>
                <a:moveTo>
                  <a:pt x="1500728" y="3081211"/>
                </a:moveTo>
                <a:cubicBezTo>
                  <a:pt x="1475454" y="3081211"/>
                  <a:pt x="1454965" y="3101700"/>
                  <a:pt x="1454965" y="3126974"/>
                </a:cubicBezTo>
                <a:cubicBezTo>
                  <a:pt x="1454965" y="3152248"/>
                  <a:pt x="1475454" y="3172737"/>
                  <a:pt x="1500728" y="3172737"/>
                </a:cubicBezTo>
                <a:cubicBezTo>
                  <a:pt x="1526003" y="3172737"/>
                  <a:pt x="1546491" y="3152248"/>
                  <a:pt x="1546491" y="3126974"/>
                </a:cubicBezTo>
                <a:cubicBezTo>
                  <a:pt x="1546491" y="3101700"/>
                  <a:pt x="1526003" y="3081211"/>
                  <a:pt x="1500728" y="3081211"/>
                </a:cubicBezTo>
                <a:close/>
                <a:moveTo>
                  <a:pt x="3599904" y="3081082"/>
                </a:moveTo>
                <a:cubicBezTo>
                  <a:pt x="3574630" y="3081082"/>
                  <a:pt x="3554141" y="3101570"/>
                  <a:pt x="3554141" y="3126845"/>
                </a:cubicBezTo>
                <a:cubicBezTo>
                  <a:pt x="3554141" y="3152119"/>
                  <a:pt x="3574630" y="3172607"/>
                  <a:pt x="3599904" y="3172607"/>
                </a:cubicBezTo>
                <a:cubicBezTo>
                  <a:pt x="3625178" y="3172607"/>
                  <a:pt x="3645667" y="3152119"/>
                  <a:pt x="3645667" y="3126845"/>
                </a:cubicBezTo>
                <a:cubicBezTo>
                  <a:pt x="3645667" y="3101570"/>
                  <a:pt x="3625178" y="3081082"/>
                  <a:pt x="3599904" y="3081082"/>
                </a:cubicBezTo>
                <a:close/>
                <a:moveTo>
                  <a:pt x="5699080" y="2949841"/>
                </a:moveTo>
                <a:cubicBezTo>
                  <a:pt x="5673806" y="2949841"/>
                  <a:pt x="5653317" y="2970330"/>
                  <a:pt x="5653317" y="2995604"/>
                </a:cubicBezTo>
                <a:cubicBezTo>
                  <a:pt x="5653317" y="3020878"/>
                  <a:pt x="5673806" y="3041367"/>
                  <a:pt x="5699080" y="3041367"/>
                </a:cubicBezTo>
                <a:cubicBezTo>
                  <a:pt x="5724354" y="3041367"/>
                  <a:pt x="5744843" y="3020878"/>
                  <a:pt x="5744843" y="2995604"/>
                </a:cubicBezTo>
                <a:cubicBezTo>
                  <a:pt x="5744843" y="2970330"/>
                  <a:pt x="5724354" y="2949841"/>
                  <a:pt x="5699080" y="2949841"/>
                </a:cubicBezTo>
                <a:close/>
                <a:moveTo>
                  <a:pt x="1500728" y="2949841"/>
                </a:moveTo>
                <a:cubicBezTo>
                  <a:pt x="1475454" y="2949841"/>
                  <a:pt x="1454965" y="2970330"/>
                  <a:pt x="1454965" y="2995604"/>
                </a:cubicBezTo>
                <a:cubicBezTo>
                  <a:pt x="1454965" y="3020878"/>
                  <a:pt x="1475454" y="3041367"/>
                  <a:pt x="1500728" y="3041367"/>
                </a:cubicBezTo>
                <a:cubicBezTo>
                  <a:pt x="1526002" y="3041367"/>
                  <a:pt x="1546491" y="3020878"/>
                  <a:pt x="1546491" y="2995604"/>
                </a:cubicBezTo>
                <a:cubicBezTo>
                  <a:pt x="1546491" y="2970330"/>
                  <a:pt x="1526002" y="2949841"/>
                  <a:pt x="1500728" y="2949841"/>
                </a:cubicBezTo>
                <a:close/>
                <a:moveTo>
                  <a:pt x="3599904" y="2949712"/>
                </a:moveTo>
                <a:cubicBezTo>
                  <a:pt x="3574630" y="2949712"/>
                  <a:pt x="3554141" y="2970201"/>
                  <a:pt x="3554141" y="2995475"/>
                </a:cubicBezTo>
                <a:cubicBezTo>
                  <a:pt x="3554141" y="3020749"/>
                  <a:pt x="3574630" y="3041238"/>
                  <a:pt x="3599904" y="3041238"/>
                </a:cubicBezTo>
                <a:cubicBezTo>
                  <a:pt x="3625178" y="3041238"/>
                  <a:pt x="3645667" y="3020749"/>
                  <a:pt x="3645667" y="2995475"/>
                </a:cubicBezTo>
                <a:cubicBezTo>
                  <a:pt x="3645667" y="2970201"/>
                  <a:pt x="3625178" y="2949712"/>
                  <a:pt x="3599904" y="2949712"/>
                </a:cubicBezTo>
                <a:close/>
                <a:moveTo>
                  <a:pt x="5699080" y="2818663"/>
                </a:moveTo>
                <a:cubicBezTo>
                  <a:pt x="5673806" y="2818663"/>
                  <a:pt x="5653317" y="2839151"/>
                  <a:pt x="5653317" y="2864426"/>
                </a:cubicBezTo>
                <a:cubicBezTo>
                  <a:pt x="5653317" y="2889700"/>
                  <a:pt x="5673806" y="2910188"/>
                  <a:pt x="5699080" y="2910188"/>
                </a:cubicBezTo>
                <a:cubicBezTo>
                  <a:pt x="5724354" y="2910188"/>
                  <a:pt x="5744843" y="2889700"/>
                  <a:pt x="5744843" y="2864426"/>
                </a:cubicBezTo>
                <a:cubicBezTo>
                  <a:pt x="5744843" y="2839151"/>
                  <a:pt x="5724354" y="2818663"/>
                  <a:pt x="5699080" y="2818663"/>
                </a:cubicBezTo>
                <a:close/>
                <a:moveTo>
                  <a:pt x="1500728" y="2818663"/>
                </a:moveTo>
                <a:cubicBezTo>
                  <a:pt x="1475454" y="2818663"/>
                  <a:pt x="1454965" y="2839151"/>
                  <a:pt x="1454965" y="2864426"/>
                </a:cubicBezTo>
                <a:cubicBezTo>
                  <a:pt x="1454965" y="2889700"/>
                  <a:pt x="1475454" y="2910188"/>
                  <a:pt x="1500728" y="2910188"/>
                </a:cubicBezTo>
                <a:cubicBezTo>
                  <a:pt x="1526002" y="2910188"/>
                  <a:pt x="1546491" y="2889700"/>
                  <a:pt x="1546491" y="2864426"/>
                </a:cubicBezTo>
                <a:cubicBezTo>
                  <a:pt x="1546491" y="2839151"/>
                  <a:pt x="1526002" y="2818663"/>
                  <a:pt x="1500728" y="2818663"/>
                </a:cubicBezTo>
                <a:close/>
                <a:moveTo>
                  <a:pt x="3599904" y="2818533"/>
                </a:moveTo>
                <a:cubicBezTo>
                  <a:pt x="3574630" y="2818533"/>
                  <a:pt x="3554141" y="2839022"/>
                  <a:pt x="3554141" y="2864296"/>
                </a:cubicBezTo>
                <a:cubicBezTo>
                  <a:pt x="3554141" y="2889570"/>
                  <a:pt x="3574630" y="2910059"/>
                  <a:pt x="3599904" y="2910059"/>
                </a:cubicBezTo>
                <a:cubicBezTo>
                  <a:pt x="3625178" y="2910059"/>
                  <a:pt x="3645667" y="2889570"/>
                  <a:pt x="3645667" y="2864296"/>
                </a:cubicBezTo>
                <a:cubicBezTo>
                  <a:pt x="3645667" y="2839022"/>
                  <a:pt x="3625178" y="2818533"/>
                  <a:pt x="3599904" y="2818533"/>
                </a:cubicBezTo>
                <a:close/>
                <a:moveTo>
                  <a:pt x="5699080" y="2687484"/>
                </a:moveTo>
                <a:cubicBezTo>
                  <a:pt x="5673806" y="2687484"/>
                  <a:pt x="5653317" y="2707973"/>
                  <a:pt x="5653317" y="2733247"/>
                </a:cubicBezTo>
                <a:cubicBezTo>
                  <a:pt x="5653317" y="2758521"/>
                  <a:pt x="5673806" y="2779010"/>
                  <a:pt x="5699080" y="2779010"/>
                </a:cubicBezTo>
                <a:cubicBezTo>
                  <a:pt x="5724354" y="2779010"/>
                  <a:pt x="5744843" y="2758521"/>
                  <a:pt x="5744843" y="2733247"/>
                </a:cubicBezTo>
                <a:cubicBezTo>
                  <a:pt x="5744843" y="2707973"/>
                  <a:pt x="5724354" y="2687484"/>
                  <a:pt x="5699080" y="2687484"/>
                </a:cubicBezTo>
                <a:close/>
                <a:moveTo>
                  <a:pt x="1500728" y="2687484"/>
                </a:moveTo>
                <a:cubicBezTo>
                  <a:pt x="1475454" y="2687484"/>
                  <a:pt x="1454965" y="2707973"/>
                  <a:pt x="1454965" y="2733247"/>
                </a:cubicBezTo>
                <a:cubicBezTo>
                  <a:pt x="1454965" y="2758521"/>
                  <a:pt x="1475454" y="2779010"/>
                  <a:pt x="1500728" y="2779010"/>
                </a:cubicBezTo>
                <a:cubicBezTo>
                  <a:pt x="1526002" y="2779010"/>
                  <a:pt x="1546491" y="2758521"/>
                  <a:pt x="1546491" y="2733247"/>
                </a:cubicBezTo>
                <a:cubicBezTo>
                  <a:pt x="1546491" y="2707973"/>
                  <a:pt x="1526002" y="2687484"/>
                  <a:pt x="1500728" y="2687484"/>
                </a:cubicBezTo>
                <a:close/>
                <a:moveTo>
                  <a:pt x="3599904" y="2687355"/>
                </a:moveTo>
                <a:cubicBezTo>
                  <a:pt x="3574630" y="2687355"/>
                  <a:pt x="3554141" y="2707844"/>
                  <a:pt x="3554141" y="2733118"/>
                </a:cubicBezTo>
                <a:cubicBezTo>
                  <a:pt x="3554141" y="2758392"/>
                  <a:pt x="3574630" y="2778881"/>
                  <a:pt x="3599904" y="2778881"/>
                </a:cubicBezTo>
                <a:cubicBezTo>
                  <a:pt x="3625178" y="2778881"/>
                  <a:pt x="3645667" y="2758392"/>
                  <a:pt x="3645667" y="2733118"/>
                </a:cubicBezTo>
                <a:cubicBezTo>
                  <a:pt x="3645667" y="2707844"/>
                  <a:pt x="3625178" y="2687355"/>
                  <a:pt x="3599904" y="2687355"/>
                </a:cubicBezTo>
                <a:close/>
                <a:moveTo>
                  <a:pt x="5699080" y="2556306"/>
                </a:moveTo>
                <a:cubicBezTo>
                  <a:pt x="5673806" y="2556306"/>
                  <a:pt x="5653317" y="2576795"/>
                  <a:pt x="5653317" y="2602069"/>
                </a:cubicBezTo>
                <a:cubicBezTo>
                  <a:pt x="5653317" y="2627343"/>
                  <a:pt x="5673806" y="2647832"/>
                  <a:pt x="5699080" y="2647832"/>
                </a:cubicBezTo>
                <a:cubicBezTo>
                  <a:pt x="5724354" y="2647832"/>
                  <a:pt x="5744843" y="2627343"/>
                  <a:pt x="5744843" y="2602069"/>
                </a:cubicBezTo>
                <a:cubicBezTo>
                  <a:pt x="5744843" y="2576795"/>
                  <a:pt x="5724354" y="2556306"/>
                  <a:pt x="5699080" y="2556306"/>
                </a:cubicBezTo>
                <a:close/>
                <a:moveTo>
                  <a:pt x="1500728" y="2556306"/>
                </a:moveTo>
                <a:cubicBezTo>
                  <a:pt x="1475454" y="2556306"/>
                  <a:pt x="1454965" y="2576795"/>
                  <a:pt x="1454965" y="2602069"/>
                </a:cubicBezTo>
                <a:cubicBezTo>
                  <a:pt x="1454965" y="2627343"/>
                  <a:pt x="1475454" y="2647832"/>
                  <a:pt x="1500728" y="2647832"/>
                </a:cubicBezTo>
                <a:cubicBezTo>
                  <a:pt x="1526002" y="2647832"/>
                  <a:pt x="1546491" y="2627343"/>
                  <a:pt x="1546491" y="2602069"/>
                </a:cubicBezTo>
                <a:cubicBezTo>
                  <a:pt x="1546491" y="2576795"/>
                  <a:pt x="1526002" y="2556306"/>
                  <a:pt x="1500728" y="2556306"/>
                </a:cubicBezTo>
                <a:close/>
                <a:moveTo>
                  <a:pt x="3599904" y="2556176"/>
                </a:moveTo>
                <a:cubicBezTo>
                  <a:pt x="3574630" y="2556176"/>
                  <a:pt x="3554141" y="2576665"/>
                  <a:pt x="3554141" y="2601939"/>
                </a:cubicBezTo>
                <a:cubicBezTo>
                  <a:pt x="3554141" y="2627213"/>
                  <a:pt x="3574630" y="2647702"/>
                  <a:pt x="3599904" y="2647702"/>
                </a:cubicBezTo>
                <a:cubicBezTo>
                  <a:pt x="3625178" y="2647702"/>
                  <a:pt x="3645667" y="2627213"/>
                  <a:pt x="3645667" y="2601939"/>
                </a:cubicBezTo>
                <a:cubicBezTo>
                  <a:pt x="3645667" y="2576665"/>
                  <a:pt x="3625178" y="2556176"/>
                  <a:pt x="3599904" y="2556176"/>
                </a:cubicBezTo>
                <a:close/>
                <a:moveTo>
                  <a:pt x="5699080" y="2425127"/>
                </a:moveTo>
                <a:cubicBezTo>
                  <a:pt x="5673806" y="2425127"/>
                  <a:pt x="5653317" y="2445616"/>
                  <a:pt x="5653317" y="2470890"/>
                </a:cubicBezTo>
                <a:cubicBezTo>
                  <a:pt x="5653317" y="2496164"/>
                  <a:pt x="5673806" y="2516653"/>
                  <a:pt x="5699080" y="2516653"/>
                </a:cubicBezTo>
                <a:cubicBezTo>
                  <a:pt x="5724354" y="2516653"/>
                  <a:pt x="5744843" y="2496164"/>
                  <a:pt x="5744843" y="2470890"/>
                </a:cubicBezTo>
                <a:cubicBezTo>
                  <a:pt x="5744843" y="2445616"/>
                  <a:pt x="5724354" y="2425127"/>
                  <a:pt x="5699080" y="2425127"/>
                </a:cubicBezTo>
                <a:close/>
                <a:moveTo>
                  <a:pt x="1500728" y="2425127"/>
                </a:moveTo>
                <a:cubicBezTo>
                  <a:pt x="1475454" y="2425127"/>
                  <a:pt x="1454965" y="2445616"/>
                  <a:pt x="1454965" y="2470890"/>
                </a:cubicBezTo>
                <a:cubicBezTo>
                  <a:pt x="1454965" y="2496164"/>
                  <a:pt x="1475454" y="2516653"/>
                  <a:pt x="1500728" y="2516653"/>
                </a:cubicBezTo>
                <a:cubicBezTo>
                  <a:pt x="1526002" y="2516653"/>
                  <a:pt x="1546491" y="2496164"/>
                  <a:pt x="1546491" y="2470890"/>
                </a:cubicBezTo>
                <a:cubicBezTo>
                  <a:pt x="1546491" y="2445616"/>
                  <a:pt x="1526002" y="2425127"/>
                  <a:pt x="1500728" y="2425127"/>
                </a:cubicBezTo>
                <a:close/>
                <a:moveTo>
                  <a:pt x="3599904" y="2424998"/>
                </a:moveTo>
                <a:cubicBezTo>
                  <a:pt x="3574630" y="2424998"/>
                  <a:pt x="3554141" y="2445487"/>
                  <a:pt x="3554141" y="2470761"/>
                </a:cubicBezTo>
                <a:cubicBezTo>
                  <a:pt x="3554141" y="2496035"/>
                  <a:pt x="3574630" y="2516524"/>
                  <a:pt x="3599904" y="2516524"/>
                </a:cubicBezTo>
                <a:cubicBezTo>
                  <a:pt x="3625178" y="2516524"/>
                  <a:pt x="3645667" y="2496035"/>
                  <a:pt x="3645667" y="2470761"/>
                </a:cubicBezTo>
                <a:cubicBezTo>
                  <a:pt x="3645667" y="2445487"/>
                  <a:pt x="3625178" y="2424998"/>
                  <a:pt x="3599904" y="2424998"/>
                </a:cubicBezTo>
                <a:close/>
                <a:moveTo>
                  <a:pt x="5699080" y="2293949"/>
                </a:moveTo>
                <a:cubicBezTo>
                  <a:pt x="5673806" y="2293949"/>
                  <a:pt x="5653317" y="2314438"/>
                  <a:pt x="5653317" y="2339712"/>
                </a:cubicBezTo>
                <a:cubicBezTo>
                  <a:pt x="5653317" y="2364986"/>
                  <a:pt x="5673806" y="2385475"/>
                  <a:pt x="5699080" y="2385475"/>
                </a:cubicBezTo>
                <a:cubicBezTo>
                  <a:pt x="5724354" y="2385475"/>
                  <a:pt x="5744843" y="2364986"/>
                  <a:pt x="5744843" y="2339712"/>
                </a:cubicBezTo>
                <a:cubicBezTo>
                  <a:pt x="5744843" y="2314438"/>
                  <a:pt x="5724354" y="2293949"/>
                  <a:pt x="5699080" y="2293949"/>
                </a:cubicBezTo>
                <a:close/>
                <a:moveTo>
                  <a:pt x="1500728" y="2293949"/>
                </a:moveTo>
                <a:cubicBezTo>
                  <a:pt x="1475454" y="2293949"/>
                  <a:pt x="1454965" y="2314438"/>
                  <a:pt x="1454965" y="2339712"/>
                </a:cubicBezTo>
                <a:cubicBezTo>
                  <a:pt x="1454965" y="2364986"/>
                  <a:pt x="1475454" y="2385475"/>
                  <a:pt x="1500728" y="2385475"/>
                </a:cubicBezTo>
                <a:cubicBezTo>
                  <a:pt x="1526002" y="2385475"/>
                  <a:pt x="1546491" y="2364986"/>
                  <a:pt x="1546491" y="2339712"/>
                </a:cubicBezTo>
                <a:cubicBezTo>
                  <a:pt x="1546491" y="2314438"/>
                  <a:pt x="1526002" y="2293949"/>
                  <a:pt x="1500728" y="2293949"/>
                </a:cubicBezTo>
                <a:close/>
                <a:moveTo>
                  <a:pt x="5567966" y="2293948"/>
                </a:moveTo>
                <a:cubicBezTo>
                  <a:pt x="5542692" y="2293948"/>
                  <a:pt x="5522203" y="2314437"/>
                  <a:pt x="5522203" y="2339711"/>
                </a:cubicBezTo>
                <a:cubicBezTo>
                  <a:pt x="5522203" y="2364985"/>
                  <a:pt x="5542692" y="2385474"/>
                  <a:pt x="5567966" y="2385474"/>
                </a:cubicBezTo>
                <a:cubicBezTo>
                  <a:pt x="5593240" y="2385474"/>
                  <a:pt x="5613729" y="2364985"/>
                  <a:pt x="5613729" y="2339711"/>
                </a:cubicBezTo>
                <a:cubicBezTo>
                  <a:pt x="5613729" y="2314437"/>
                  <a:pt x="5593240" y="2293948"/>
                  <a:pt x="5567966" y="2293948"/>
                </a:cubicBezTo>
                <a:close/>
                <a:moveTo>
                  <a:pt x="5436788" y="2293948"/>
                </a:moveTo>
                <a:cubicBezTo>
                  <a:pt x="5411514" y="2293948"/>
                  <a:pt x="5391025" y="2314437"/>
                  <a:pt x="5391025" y="2339711"/>
                </a:cubicBezTo>
                <a:cubicBezTo>
                  <a:pt x="5391025" y="2364985"/>
                  <a:pt x="5411514" y="2385474"/>
                  <a:pt x="5436788" y="2385474"/>
                </a:cubicBezTo>
                <a:cubicBezTo>
                  <a:pt x="5462062" y="2385474"/>
                  <a:pt x="5482551" y="2364985"/>
                  <a:pt x="5482551" y="2339711"/>
                </a:cubicBezTo>
                <a:cubicBezTo>
                  <a:pt x="5482551" y="2314437"/>
                  <a:pt x="5462062" y="2293948"/>
                  <a:pt x="5436788" y="2293948"/>
                </a:cubicBezTo>
                <a:close/>
                <a:moveTo>
                  <a:pt x="5305609" y="2293948"/>
                </a:moveTo>
                <a:cubicBezTo>
                  <a:pt x="5280335" y="2293948"/>
                  <a:pt x="5259846" y="2314437"/>
                  <a:pt x="5259846" y="2339711"/>
                </a:cubicBezTo>
                <a:cubicBezTo>
                  <a:pt x="5259846" y="2364985"/>
                  <a:pt x="5280335" y="2385474"/>
                  <a:pt x="5305609" y="2385474"/>
                </a:cubicBezTo>
                <a:cubicBezTo>
                  <a:pt x="5330883" y="2385474"/>
                  <a:pt x="5351372" y="2364985"/>
                  <a:pt x="5351372" y="2339711"/>
                </a:cubicBezTo>
                <a:cubicBezTo>
                  <a:pt x="5351372" y="2314437"/>
                  <a:pt x="5330883" y="2293948"/>
                  <a:pt x="5305609" y="2293948"/>
                </a:cubicBezTo>
                <a:close/>
                <a:moveTo>
                  <a:pt x="5174431" y="2293948"/>
                </a:moveTo>
                <a:cubicBezTo>
                  <a:pt x="5149157" y="2293948"/>
                  <a:pt x="5128668" y="2314437"/>
                  <a:pt x="5128668" y="2339711"/>
                </a:cubicBezTo>
                <a:cubicBezTo>
                  <a:pt x="5128668" y="2364985"/>
                  <a:pt x="5149157" y="2385474"/>
                  <a:pt x="5174431" y="2385474"/>
                </a:cubicBezTo>
                <a:cubicBezTo>
                  <a:pt x="5199705" y="2385474"/>
                  <a:pt x="5220194" y="2364985"/>
                  <a:pt x="5220194" y="2339711"/>
                </a:cubicBezTo>
                <a:cubicBezTo>
                  <a:pt x="5220194" y="2314437"/>
                  <a:pt x="5199705" y="2293948"/>
                  <a:pt x="5174431" y="2293948"/>
                </a:cubicBezTo>
                <a:close/>
                <a:moveTo>
                  <a:pt x="5043252" y="2293948"/>
                </a:moveTo>
                <a:cubicBezTo>
                  <a:pt x="5017978" y="2293948"/>
                  <a:pt x="4997489" y="2314437"/>
                  <a:pt x="4997489" y="2339711"/>
                </a:cubicBezTo>
                <a:cubicBezTo>
                  <a:pt x="4997489" y="2364985"/>
                  <a:pt x="5017978" y="2385474"/>
                  <a:pt x="5043252" y="2385474"/>
                </a:cubicBezTo>
                <a:cubicBezTo>
                  <a:pt x="5068526" y="2385474"/>
                  <a:pt x="5089015" y="2364985"/>
                  <a:pt x="5089015" y="2339711"/>
                </a:cubicBezTo>
                <a:cubicBezTo>
                  <a:pt x="5089015" y="2314437"/>
                  <a:pt x="5068526" y="2293948"/>
                  <a:pt x="5043252" y="2293948"/>
                </a:cubicBezTo>
                <a:close/>
                <a:moveTo>
                  <a:pt x="4911689" y="2293948"/>
                </a:moveTo>
                <a:cubicBezTo>
                  <a:pt x="4886415" y="2293948"/>
                  <a:pt x="4865926" y="2314437"/>
                  <a:pt x="4865926" y="2339711"/>
                </a:cubicBezTo>
                <a:cubicBezTo>
                  <a:pt x="4865926" y="2364985"/>
                  <a:pt x="4886415" y="2385474"/>
                  <a:pt x="4911689" y="2385474"/>
                </a:cubicBezTo>
                <a:cubicBezTo>
                  <a:pt x="4936963" y="2385474"/>
                  <a:pt x="4957452" y="2364985"/>
                  <a:pt x="4957452" y="2339711"/>
                </a:cubicBezTo>
                <a:cubicBezTo>
                  <a:pt x="4957452" y="2314437"/>
                  <a:pt x="4936963" y="2293948"/>
                  <a:pt x="4911689" y="2293948"/>
                </a:cubicBezTo>
                <a:close/>
                <a:moveTo>
                  <a:pt x="4780510" y="2293948"/>
                </a:moveTo>
                <a:cubicBezTo>
                  <a:pt x="4755236" y="2293948"/>
                  <a:pt x="4734747" y="2314437"/>
                  <a:pt x="4734747" y="2339711"/>
                </a:cubicBezTo>
                <a:cubicBezTo>
                  <a:pt x="4734747" y="2364985"/>
                  <a:pt x="4755236" y="2385474"/>
                  <a:pt x="4780510" y="2385474"/>
                </a:cubicBezTo>
                <a:cubicBezTo>
                  <a:pt x="4805784" y="2385474"/>
                  <a:pt x="4826273" y="2364985"/>
                  <a:pt x="4826273" y="2339711"/>
                </a:cubicBezTo>
                <a:cubicBezTo>
                  <a:pt x="4826273" y="2314437"/>
                  <a:pt x="4805784" y="2293948"/>
                  <a:pt x="4780510" y="2293948"/>
                </a:cubicBezTo>
                <a:close/>
                <a:moveTo>
                  <a:pt x="4649332" y="2293948"/>
                </a:moveTo>
                <a:cubicBezTo>
                  <a:pt x="4624058" y="2293948"/>
                  <a:pt x="4603569" y="2314437"/>
                  <a:pt x="4603569" y="2339711"/>
                </a:cubicBezTo>
                <a:cubicBezTo>
                  <a:pt x="4603569" y="2364985"/>
                  <a:pt x="4624058" y="2385474"/>
                  <a:pt x="4649332" y="2385474"/>
                </a:cubicBezTo>
                <a:cubicBezTo>
                  <a:pt x="4674606" y="2385474"/>
                  <a:pt x="4695095" y="2364985"/>
                  <a:pt x="4695095" y="2339711"/>
                </a:cubicBezTo>
                <a:cubicBezTo>
                  <a:pt x="4695095" y="2314437"/>
                  <a:pt x="4674606" y="2293948"/>
                  <a:pt x="4649332" y="2293948"/>
                </a:cubicBezTo>
                <a:close/>
                <a:moveTo>
                  <a:pt x="4518153" y="2293948"/>
                </a:moveTo>
                <a:cubicBezTo>
                  <a:pt x="4492879" y="2293948"/>
                  <a:pt x="4472390" y="2314437"/>
                  <a:pt x="4472390" y="2339711"/>
                </a:cubicBezTo>
                <a:cubicBezTo>
                  <a:pt x="4472390" y="2364985"/>
                  <a:pt x="4492879" y="2385474"/>
                  <a:pt x="4518153" y="2385474"/>
                </a:cubicBezTo>
                <a:cubicBezTo>
                  <a:pt x="4543427" y="2385474"/>
                  <a:pt x="4563916" y="2364985"/>
                  <a:pt x="4563916" y="2339711"/>
                </a:cubicBezTo>
                <a:cubicBezTo>
                  <a:pt x="4563916" y="2314437"/>
                  <a:pt x="4543427" y="2293948"/>
                  <a:pt x="4518153" y="2293948"/>
                </a:cubicBezTo>
                <a:close/>
                <a:moveTo>
                  <a:pt x="4386975" y="2293948"/>
                </a:moveTo>
                <a:cubicBezTo>
                  <a:pt x="4361701" y="2293948"/>
                  <a:pt x="4341212" y="2314437"/>
                  <a:pt x="4341212" y="2339711"/>
                </a:cubicBezTo>
                <a:cubicBezTo>
                  <a:pt x="4341212" y="2364985"/>
                  <a:pt x="4361701" y="2385474"/>
                  <a:pt x="4386975" y="2385474"/>
                </a:cubicBezTo>
                <a:cubicBezTo>
                  <a:pt x="4412249" y="2385474"/>
                  <a:pt x="4432738" y="2364985"/>
                  <a:pt x="4432738" y="2339711"/>
                </a:cubicBezTo>
                <a:cubicBezTo>
                  <a:pt x="4432738" y="2314437"/>
                  <a:pt x="4412249" y="2293948"/>
                  <a:pt x="4386975" y="2293948"/>
                </a:cubicBezTo>
                <a:close/>
                <a:moveTo>
                  <a:pt x="4255796" y="2293948"/>
                </a:moveTo>
                <a:cubicBezTo>
                  <a:pt x="4230522" y="2293948"/>
                  <a:pt x="4210033" y="2314437"/>
                  <a:pt x="4210033" y="2339711"/>
                </a:cubicBezTo>
                <a:cubicBezTo>
                  <a:pt x="4210033" y="2364985"/>
                  <a:pt x="4230522" y="2385474"/>
                  <a:pt x="4255796" y="2385474"/>
                </a:cubicBezTo>
                <a:cubicBezTo>
                  <a:pt x="4281070" y="2385474"/>
                  <a:pt x="4301559" y="2364985"/>
                  <a:pt x="4301559" y="2339711"/>
                </a:cubicBezTo>
                <a:cubicBezTo>
                  <a:pt x="4301559" y="2314437"/>
                  <a:pt x="4281070" y="2293948"/>
                  <a:pt x="4255796" y="2293948"/>
                </a:cubicBezTo>
                <a:close/>
                <a:moveTo>
                  <a:pt x="4124618" y="2293948"/>
                </a:moveTo>
                <a:cubicBezTo>
                  <a:pt x="4099344" y="2293948"/>
                  <a:pt x="4078855" y="2314437"/>
                  <a:pt x="4078855" y="2339711"/>
                </a:cubicBezTo>
                <a:cubicBezTo>
                  <a:pt x="4078855" y="2364985"/>
                  <a:pt x="4099344" y="2385474"/>
                  <a:pt x="4124618" y="2385474"/>
                </a:cubicBezTo>
                <a:cubicBezTo>
                  <a:pt x="4149892" y="2385474"/>
                  <a:pt x="4170381" y="2364985"/>
                  <a:pt x="4170381" y="2339711"/>
                </a:cubicBezTo>
                <a:cubicBezTo>
                  <a:pt x="4170381" y="2314437"/>
                  <a:pt x="4149892" y="2293948"/>
                  <a:pt x="4124618" y="2293948"/>
                </a:cubicBezTo>
                <a:close/>
                <a:moveTo>
                  <a:pt x="3993439" y="2293948"/>
                </a:moveTo>
                <a:cubicBezTo>
                  <a:pt x="3968165" y="2293948"/>
                  <a:pt x="3947676" y="2314437"/>
                  <a:pt x="3947676" y="2339711"/>
                </a:cubicBezTo>
                <a:cubicBezTo>
                  <a:pt x="3947676" y="2364985"/>
                  <a:pt x="3968165" y="2385474"/>
                  <a:pt x="3993439" y="2385474"/>
                </a:cubicBezTo>
                <a:cubicBezTo>
                  <a:pt x="4018713" y="2385474"/>
                  <a:pt x="4039202" y="2364985"/>
                  <a:pt x="4039202" y="2339711"/>
                </a:cubicBezTo>
                <a:cubicBezTo>
                  <a:pt x="4039202" y="2314437"/>
                  <a:pt x="4018713" y="2293948"/>
                  <a:pt x="3993439" y="2293948"/>
                </a:cubicBezTo>
                <a:close/>
                <a:moveTo>
                  <a:pt x="3862070" y="2293948"/>
                </a:moveTo>
                <a:cubicBezTo>
                  <a:pt x="3836796" y="2293948"/>
                  <a:pt x="3816307" y="2314437"/>
                  <a:pt x="3816307" y="2339711"/>
                </a:cubicBezTo>
                <a:cubicBezTo>
                  <a:pt x="3816307" y="2364985"/>
                  <a:pt x="3836796" y="2385474"/>
                  <a:pt x="3862070" y="2385474"/>
                </a:cubicBezTo>
                <a:cubicBezTo>
                  <a:pt x="3887344" y="2385474"/>
                  <a:pt x="3907833" y="2364985"/>
                  <a:pt x="3907833" y="2339711"/>
                </a:cubicBezTo>
                <a:cubicBezTo>
                  <a:pt x="3907833" y="2314437"/>
                  <a:pt x="3887344" y="2293948"/>
                  <a:pt x="3862070" y="2293948"/>
                </a:cubicBezTo>
                <a:close/>
                <a:moveTo>
                  <a:pt x="3730892" y="2293948"/>
                </a:moveTo>
                <a:cubicBezTo>
                  <a:pt x="3705617" y="2293948"/>
                  <a:pt x="3685129" y="2314437"/>
                  <a:pt x="3685129" y="2339711"/>
                </a:cubicBezTo>
                <a:cubicBezTo>
                  <a:pt x="3685129" y="2364985"/>
                  <a:pt x="3705617" y="2385474"/>
                  <a:pt x="3730892" y="2385474"/>
                </a:cubicBezTo>
                <a:cubicBezTo>
                  <a:pt x="3756166" y="2385474"/>
                  <a:pt x="3776654" y="2364985"/>
                  <a:pt x="3776654" y="2339711"/>
                </a:cubicBezTo>
                <a:cubicBezTo>
                  <a:pt x="3776654" y="2314437"/>
                  <a:pt x="3756166" y="2293948"/>
                  <a:pt x="3730892" y="2293948"/>
                </a:cubicBezTo>
                <a:close/>
                <a:moveTo>
                  <a:pt x="3599713" y="2293948"/>
                </a:moveTo>
                <a:cubicBezTo>
                  <a:pt x="3574439" y="2293948"/>
                  <a:pt x="3553950" y="2314437"/>
                  <a:pt x="3553950" y="2339711"/>
                </a:cubicBezTo>
                <a:cubicBezTo>
                  <a:pt x="3553950" y="2364985"/>
                  <a:pt x="3574439" y="2385474"/>
                  <a:pt x="3599713" y="2385474"/>
                </a:cubicBezTo>
                <a:cubicBezTo>
                  <a:pt x="3624987" y="2385474"/>
                  <a:pt x="3645476" y="2364985"/>
                  <a:pt x="3645476" y="2339711"/>
                </a:cubicBezTo>
                <a:cubicBezTo>
                  <a:pt x="3645476" y="2314437"/>
                  <a:pt x="3624987" y="2293948"/>
                  <a:pt x="3599713" y="2293948"/>
                </a:cubicBezTo>
                <a:close/>
                <a:moveTo>
                  <a:pt x="3468535" y="2293948"/>
                </a:moveTo>
                <a:cubicBezTo>
                  <a:pt x="3443260" y="2293948"/>
                  <a:pt x="3422772" y="2314437"/>
                  <a:pt x="3422772" y="2339711"/>
                </a:cubicBezTo>
                <a:cubicBezTo>
                  <a:pt x="3422772" y="2364985"/>
                  <a:pt x="3443260" y="2385474"/>
                  <a:pt x="3468535" y="2385474"/>
                </a:cubicBezTo>
                <a:cubicBezTo>
                  <a:pt x="3493809" y="2385474"/>
                  <a:pt x="3514298" y="2364985"/>
                  <a:pt x="3514298" y="2339711"/>
                </a:cubicBezTo>
                <a:cubicBezTo>
                  <a:pt x="3514298" y="2314437"/>
                  <a:pt x="3493809" y="2293948"/>
                  <a:pt x="3468535" y="2293948"/>
                </a:cubicBezTo>
                <a:close/>
                <a:moveTo>
                  <a:pt x="3337356" y="2293948"/>
                </a:moveTo>
                <a:cubicBezTo>
                  <a:pt x="3312082" y="2293948"/>
                  <a:pt x="3291593" y="2314437"/>
                  <a:pt x="3291593" y="2339711"/>
                </a:cubicBezTo>
                <a:cubicBezTo>
                  <a:pt x="3291593" y="2364985"/>
                  <a:pt x="3312082" y="2385474"/>
                  <a:pt x="3337356" y="2385474"/>
                </a:cubicBezTo>
                <a:cubicBezTo>
                  <a:pt x="3362630" y="2385474"/>
                  <a:pt x="3383119" y="2364985"/>
                  <a:pt x="3383119" y="2339711"/>
                </a:cubicBezTo>
                <a:cubicBezTo>
                  <a:pt x="3383119" y="2314437"/>
                  <a:pt x="3362630" y="2293948"/>
                  <a:pt x="3337356" y="2293948"/>
                </a:cubicBezTo>
                <a:close/>
                <a:moveTo>
                  <a:pt x="3206178" y="2293948"/>
                </a:moveTo>
                <a:cubicBezTo>
                  <a:pt x="3180903" y="2293948"/>
                  <a:pt x="3160415" y="2314437"/>
                  <a:pt x="3160415" y="2339711"/>
                </a:cubicBezTo>
                <a:cubicBezTo>
                  <a:pt x="3160415" y="2364985"/>
                  <a:pt x="3180903" y="2385474"/>
                  <a:pt x="3206178" y="2385474"/>
                </a:cubicBezTo>
                <a:cubicBezTo>
                  <a:pt x="3231452" y="2385474"/>
                  <a:pt x="3251941" y="2364985"/>
                  <a:pt x="3251941" y="2339711"/>
                </a:cubicBezTo>
                <a:cubicBezTo>
                  <a:pt x="3251941" y="2314437"/>
                  <a:pt x="3231452" y="2293948"/>
                  <a:pt x="3206178" y="2293948"/>
                </a:cubicBezTo>
                <a:close/>
                <a:moveTo>
                  <a:pt x="3074999" y="2293948"/>
                </a:moveTo>
                <a:cubicBezTo>
                  <a:pt x="3049725" y="2293948"/>
                  <a:pt x="3029236" y="2314437"/>
                  <a:pt x="3029236" y="2339711"/>
                </a:cubicBezTo>
                <a:cubicBezTo>
                  <a:pt x="3029236" y="2364985"/>
                  <a:pt x="3049725" y="2385474"/>
                  <a:pt x="3074999" y="2385474"/>
                </a:cubicBezTo>
                <a:cubicBezTo>
                  <a:pt x="3100273" y="2385474"/>
                  <a:pt x="3120762" y="2364985"/>
                  <a:pt x="3120762" y="2339711"/>
                </a:cubicBezTo>
                <a:cubicBezTo>
                  <a:pt x="3120762" y="2314437"/>
                  <a:pt x="3100273" y="2293948"/>
                  <a:pt x="3074999" y="2293948"/>
                </a:cubicBezTo>
                <a:close/>
                <a:moveTo>
                  <a:pt x="2943821" y="2293948"/>
                </a:moveTo>
                <a:cubicBezTo>
                  <a:pt x="2918546" y="2293948"/>
                  <a:pt x="2898058" y="2314437"/>
                  <a:pt x="2898058" y="2339711"/>
                </a:cubicBezTo>
                <a:cubicBezTo>
                  <a:pt x="2898058" y="2364985"/>
                  <a:pt x="2918546" y="2385474"/>
                  <a:pt x="2943821" y="2385474"/>
                </a:cubicBezTo>
                <a:cubicBezTo>
                  <a:pt x="2969095" y="2385474"/>
                  <a:pt x="2989584" y="2364985"/>
                  <a:pt x="2989584" y="2339711"/>
                </a:cubicBezTo>
                <a:cubicBezTo>
                  <a:pt x="2989584" y="2314437"/>
                  <a:pt x="2969095" y="2293948"/>
                  <a:pt x="2943821" y="2293948"/>
                </a:cubicBezTo>
                <a:close/>
                <a:moveTo>
                  <a:pt x="2812642" y="2293948"/>
                </a:moveTo>
                <a:cubicBezTo>
                  <a:pt x="2787368" y="2293948"/>
                  <a:pt x="2766879" y="2314437"/>
                  <a:pt x="2766879" y="2339711"/>
                </a:cubicBezTo>
                <a:cubicBezTo>
                  <a:pt x="2766879" y="2364985"/>
                  <a:pt x="2787368" y="2385474"/>
                  <a:pt x="2812642" y="2385474"/>
                </a:cubicBezTo>
                <a:cubicBezTo>
                  <a:pt x="2837916" y="2385474"/>
                  <a:pt x="2858405" y="2364985"/>
                  <a:pt x="2858405" y="2339711"/>
                </a:cubicBezTo>
                <a:cubicBezTo>
                  <a:pt x="2858405" y="2314437"/>
                  <a:pt x="2837916" y="2293948"/>
                  <a:pt x="2812642" y="2293948"/>
                </a:cubicBezTo>
                <a:close/>
                <a:moveTo>
                  <a:pt x="2681464" y="2293948"/>
                </a:moveTo>
                <a:cubicBezTo>
                  <a:pt x="2656189" y="2293948"/>
                  <a:pt x="2635701" y="2314437"/>
                  <a:pt x="2635701" y="2339711"/>
                </a:cubicBezTo>
                <a:cubicBezTo>
                  <a:pt x="2635701" y="2364985"/>
                  <a:pt x="2656189" y="2385474"/>
                  <a:pt x="2681464" y="2385474"/>
                </a:cubicBezTo>
                <a:cubicBezTo>
                  <a:pt x="2706738" y="2385474"/>
                  <a:pt x="2727226" y="2364985"/>
                  <a:pt x="2727226" y="2339711"/>
                </a:cubicBezTo>
                <a:cubicBezTo>
                  <a:pt x="2727226" y="2314437"/>
                  <a:pt x="2706738" y="2293948"/>
                  <a:pt x="2681464" y="2293948"/>
                </a:cubicBezTo>
                <a:close/>
                <a:moveTo>
                  <a:pt x="2550285" y="2293948"/>
                </a:moveTo>
                <a:cubicBezTo>
                  <a:pt x="2525011" y="2293948"/>
                  <a:pt x="2504522" y="2314437"/>
                  <a:pt x="2504522" y="2339711"/>
                </a:cubicBezTo>
                <a:cubicBezTo>
                  <a:pt x="2504522" y="2364985"/>
                  <a:pt x="2525011" y="2385474"/>
                  <a:pt x="2550285" y="2385474"/>
                </a:cubicBezTo>
                <a:cubicBezTo>
                  <a:pt x="2575559" y="2385474"/>
                  <a:pt x="2596048" y="2364985"/>
                  <a:pt x="2596048" y="2339711"/>
                </a:cubicBezTo>
                <a:cubicBezTo>
                  <a:pt x="2596048" y="2314437"/>
                  <a:pt x="2575559" y="2293948"/>
                  <a:pt x="2550285" y="2293948"/>
                </a:cubicBezTo>
                <a:close/>
                <a:moveTo>
                  <a:pt x="2419107" y="2293948"/>
                </a:moveTo>
                <a:cubicBezTo>
                  <a:pt x="2393832" y="2293948"/>
                  <a:pt x="2373344" y="2314437"/>
                  <a:pt x="2373344" y="2339711"/>
                </a:cubicBezTo>
                <a:cubicBezTo>
                  <a:pt x="2373344" y="2364985"/>
                  <a:pt x="2393832" y="2385474"/>
                  <a:pt x="2419107" y="2385474"/>
                </a:cubicBezTo>
                <a:cubicBezTo>
                  <a:pt x="2444381" y="2385474"/>
                  <a:pt x="2464869" y="2364985"/>
                  <a:pt x="2464869" y="2339711"/>
                </a:cubicBezTo>
                <a:cubicBezTo>
                  <a:pt x="2464869" y="2314437"/>
                  <a:pt x="2444381" y="2293948"/>
                  <a:pt x="2419107" y="2293948"/>
                </a:cubicBezTo>
                <a:close/>
                <a:moveTo>
                  <a:pt x="2287928" y="2293948"/>
                </a:moveTo>
                <a:cubicBezTo>
                  <a:pt x="2262654" y="2293948"/>
                  <a:pt x="2242165" y="2314437"/>
                  <a:pt x="2242165" y="2339711"/>
                </a:cubicBezTo>
                <a:cubicBezTo>
                  <a:pt x="2242165" y="2364985"/>
                  <a:pt x="2262654" y="2385474"/>
                  <a:pt x="2287928" y="2385474"/>
                </a:cubicBezTo>
                <a:cubicBezTo>
                  <a:pt x="2313202" y="2385474"/>
                  <a:pt x="2333691" y="2364985"/>
                  <a:pt x="2333691" y="2339711"/>
                </a:cubicBezTo>
                <a:cubicBezTo>
                  <a:pt x="2333691" y="2314437"/>
                  <a:pt x="2313202" y="2293948"/>
                  <a:pt x="2287928" y="2293948"/>
                </a:cubicBezTo>
                <a:close/>
                <a:moveTo>
                  <a:pt x="2156750" y="2293948"/>
                </a:moveTo>
                <a:cubicBezTo>
                  <a:pt x="2131475" y="2293948"/>
                  <a:pt x="2110987" y="2314437"/>
                  <a:pt x="2110987" y="2339711"/>
                </a:cubicBezTo>
                <a:cubicBezTo>
                  <a:pt x="2110987" y="2364985"/>
                  <a:pt x="2131475" y="2385474"/>
                  <a:pt x="2156750" y="2385474"/>
                </a:cubicBezTo>
                <a:cubicBezTo>
                  <a:pt x="2182024" y="2385474"/>
                  <a:pt x="2202512" y="2364985"/>
                  <a:pt x="2202512" y="2339711"/>
                </a:cubicBezTo>
                <a:cubicBezTo>
                  <a:pt x="2202512" y="2314437"/>
                  <a:pt x="2182024" y="2293948"/>
                  <a:pt x="2156750" y="2293948"/>
                </a:cubicBezTo>
                <a:close/>
                <a:moveTo>
                  <a:pt x="2025571" y="2293948"/>
                </a:moveTo>
                <a:cubicBezTo>
                  <a:pt x="2000297" y="2293948"/>
                  <a:pt x="1979808" y="2314437"/>
                  <a:pt x="1979808" y="2339711"/>
                </a:cubicBezTo>
                <a:cubicBezTo>
                  <a:pt x="1979808" y="2364985"/>
                  <a:pt x="2000297" y="2385474"/>
                  <a:pt x="2025571" y="2385474"/>
                </a:cubicBezTo>
                <a:cubicBezTo>
                  <a:pt x="2050845" y="2385474"/>
                  <a:pt x="2071334" y="2364985"/>
                  <a:pt x="2071334" y="2339711"/>
                </a:cubicBezTo>
                <a:cubicBezTo>
                  <a:pt x="2071334" y="2314437"/>
                  <a:pt x="2050845" y="2293948"/>
                  <a:pt x="2025571" y="2293948"/>
                </a:cubicBezTo>
                <a:close/>
                <a:moveTo>
                  <a:pt x="1894393" y="2293948"/>
                </a:moveTo>
                <a:cubicBezTo>
                  <a:pt x="1869118" y="2293948"/>
                  <a:pt x="1848630" y="2314437"/>
                  <a:pt x="1848630" y="2339711"/>
                </a:cubicBezTo>
                <a:cubicBezTo>
                  <a:pt x="1848630" y="2364985"/>
                  <a:pt x="1869118" y="2385474"/>
                  <a:pt x="1894393" y="2385474"/>
                </a:cubicBezTo>
                <a:cubicBezTo>
                  <a:pt x="1919667" y="2385474"/>
                  <a:pt x="1940155" y="2364985"/>
                  <a:pt x="1940155" y="2339711"/>
                </a:cubicBezTo>
                <a:cubicBezTo>
                  <a:pt x="1940155" y="2314437"/>
                  <a:pt x="1919667" y="2293948"/>
                  <a:pt x="1894393" y="2293948"/>
                </a:cubicBezTo>
                <a:close/>
                <a:moveTo>
                  <a:pt x="1763214" y="2293948"/>
                </a:moveTo>
                <a:cubicBezTo>
                  <a:pt x="1737940" y="2293948"/>
                  <a:pt x="1717451" y="2314437"/>
                  <a:pt x="1717451" y="2339711"/>
                </a:cubicBezTo>
                <a:cubicBezTo>
                  <a:pt x="1717451" y="2364985"/>
                  <a:pt x="1737940" y="2385474"/>
                  <a:pt x="1763214" y="2385474"/>
                </a:cubicBezTo>
                <a:cubicBezTo>
                  <a:pt x="1788488" y="2385474"/>
                  <a:pt x="1808977" y="2364985"/>
                  <a:pt x="1808977" y="2339711"/>
                </a:cubicBezTo>
                <a:cubicBezTo>
                  <a:pt x="1808977" y="2314437"/>
                  <a:pt x="1788488" y="2293948"/>
                  <a:pt x="1763214" y="2293948"/>
                </a:cubicBezTo>
                <a:close/>
                <a:moveTo>
                  <a:pt x="1632036" y="2293948"/>
                </a:moveTo>
                <a:cubicBezTo>
                  <a:pt x="1606761" y="2293948"/>
                  <a:pt x="1586273" y="2314437"/>
                  <a:pt x="1586273" y="2339711"/>
                </a:cubicBezTo>
                <a:cubicBezTo>
                  <a:pt x="1586273" y="2364985"/>
                  <a:pt x="1606761" y="2385474"/>
                  <a:pt x="1632036" y="2385474"/>
                </a:cubicBezTo>
                <a:cubicBezTo>
                  <a:pt x="1657310" y="2385474"/>
                  <a:pt x="1677798" y="2364985"/>
                  <a:pt x="1677798" y="2339711"/>
                </a:cubicBezTo>
                <a:cubicBezTo>
                  <a:pt x="1677798" y="2314437"/>
                  <a:pt x="1657310" y="2293948"/>
                  <a:pt x="1632036" y="2293948"/>
                </a:cubicBezTo>
                <a:close/>
                <a:moveTo>
                  <a:pt x="5699080" y="2162770"/>
                </a:moveTo>
                <a:cubicBezTo>
                  <a:pt x="5673806" y="2162770"/>
                  <a:pt x="5653317" y="2183259"/>
                  <a:pt x="5653317" y="2208533"/>
                </a:cubicBezTo>
                <a:cubicBezTo>
                  <a:pt x="5653317" y="2233807"/>
                  <a:pt x="5673806" y="2254296"/>
                  <a:pt x="5699080" y="2254296"/>
                </a:cubicBezTo>
                <a:cubicBezTo>
                  <a:pt x="5724354" y="2254296"/>
                  <a:pt x="5744843" y="2233807"/>
                  <a:pt x="5744843" y="2208533"/>
                </a:cubicBezTo>
                <a:cubicBezTo>
                  <a:pt x="5744843" y="2183259"/>
                  <a:pt x="5724354" y="2162770"/>
                  <a:pt x="5699080" y="2162770"/>
                </a:cubicBezTo>
                <a:close/>
                <a:moveTo>
                  <a:pt x="1500728" y="2162770"/>
                </a:moveTo>
                <a:cubicBezTo>
                  <a:pt x="1475454" y="2162770"/>
                  <a:pt x="1454965" y="2183259"/>
                  <a:pt x="1454965" y="2208533"/>
                </a:cubicBezTo>
                <a:cubicBezTo>
                  <a:pt x="1454965" y="2233807"/>
                  <a:pt x="1475454" y="2254296"/>
                  <a:pt x="1500728" y="2254296"/>
                </a:cubicBezTo>
                <a:cubicBezTo>
                  <a:pt x="1526002" y="2254296"/>
                  <a:pt x="1546491" y="2233807"/>
                  <a:pt x="1546491" y="2208533"/>
                </a:cubicBezTo>
                <a:cubicBezTo>
                  <a:pt x="1546491" y="2183259"/>
                  <a:pt x="1526002" y="2162770"/>
                  <a:pt x="1500728" y="2162770"/>
                </a:cubicBezTo>
                <a:close/>
                <a:moveTo>
                  <a:pt x="3599904" y="2162641"/>
                </a:moveTo>
                <a:cubicBezTo>
                  <a:pt x="3574630" y="2162641"/>
                  <a:pt x="3554141" y="2183130"/>
                  <a:pt x="3554141" y="2208404"/>
                </a:cubicBezTo>
                <a:cubicBezTo>
                  <a:pt x="3554141" y="2233678"/>
                  <a:pt x="3574630" y="2254167"/>
                  <a:pt x="3599904" y="2254167"/>
                </a:cubicBezTo>
                <a:cubicBezTo>
                  <a:pt x="3625178" y="2254167"/>
                  <a:pt x="3645667" y="2233678"/>
                  <a:pt x="3645667" y="2208404"/>
                </a:cubicBezTo>
                <a:cubicBezTo>
                  <a:pt x="3645667" y="2183130"/>
                  <a:pt x="3625178" y="2162641"/>
                  <a:pt x="3599904" y="2162641"/>
                </a:cubicBezTo>
                <a:close/>
                <a:moveTo>
                  <a:pt x="5699080" y="2031592"/>
                </a:moveTo>
                <a:cubicBezTo>
                  <a:pt x="5673806" y="2031592"/>
                  <a:pt x="5653317" y="2052081"/>
                  <a:pt x="5653317" y="2077355"/>
                </a:cubicBezTo>
                <a:cubicBezTo>
                  <a:pt x="5653317" y="2102629"/>
                  <a:pt x="5673806" y="2123118"/>
                  <a:pt x="5699080" y="2123118"/>
                </a:cubicBezTo>
                <a:cubicBezTo>
                  <a:pt x="5724354" y="2123118"/>
                  <a:pt x="5744843" y="2102629"/>
                  <a:pt x="5744843" y="2077355"/>
                </a:cubicBezTo>
                <a:cubicBezTo>
                  <a:pt x="5744843" y="2052081"/>
                  <a:pt x="5724354" y="2031592"/>
                  <a:pt x="5699080" y="2031592"/>
                </a:cubicBezTo>
                <a:close/>
                <a:moveTo>
                  <a:pt x="1500728" y="2031592"/>
                </a:moveTo>
                <a:cubicBezTo>
                  <a:pt x="1475454" y="2031592"/>
                  <a:pt x="1454965" y="2052081"/>
                  <a:pt x="1454965" y="2077355"/>
                </a:cubicBezTo>
                <a:cubicBezTo>
                  <a:pt x="1454965" y="2102629"/>
                  <a:pt x="1475454" y="2123118"/>
                  <a:pt x="1500728" y="2123118"/>
                </a:cubicBezTo>
                <a:cubicBezTo>
                  <a:pt x="1526002" y="2123118"/>
                  <a:pt x="1546491" y="2102629"/>
                  <a:pt x="1546491" y="2077355"/>
                </a:cubicBezTo>
                <a:cubicBezTo>
                  <a:pt x="1546491" y="2052081"/>
                  <a:pt x="1526002" y="2031592"/>
                  <a:pt x="1500728" y="2031592"/>
                </a:cubicBezTo>
                <a:close/>
                <a:moveTo>
                  <a:pt x="3599904" y="2031463"/>
                </a:moveTo>
                <a:cubicBezTo>
                  <a:pt x="3574630" y="2031463"/>
                  <a:pt x="3554141" y="2051951"/>
                  <a:pt x="3554141" y="2077225"/>
                </a:cubicBezTo>
                <a:cubicBezTo>
                  <a:pt x="3554141" y="2102500"/>
                  <a:pt x="3574630" y="2122988"/>
                  <a:pt x="3599904" y="2122988"/>
                </a:cubicBezTo>
                <a:cubicBezTo>
                  <a:pt x="3625178" y="2122988"/>
                  <a:pt x="3645667" y="2102500"/>
                  <a:pt x="3645667" y="2077225"/>
                </a:cubicBezTo>
                <a:cubicBezTo>
                  <a:pt x="3645667" y="2051951"/>
                  <a:pt x="3625178" y="2031463"/>
                  <a:pt x="3599904" y="2031463"/>
                </a:cubicBezTo>
                <a:close/>
                <a:moveTo>
                  <a:pt x="5699080" y="1900413"/>
                </a:moveTo>
                <a:cubicBezTo>
                  <a:pt x="5673806" y="1900413"/>
                  <a:pt x="5653317" y="1920902"/>
                  <a:pt x="5653317" y="1946176"/>
                </a:cubicBezTo>
                <a:cubicBezTo>
                  <a:pt x="5653317" y="1971450"/>
                  <a:pt x="5673806" y="1991939"/>
                  <a:pt x="5699080" y="1991939"/>
                </a:cubicBezTo>
                <a:cubicBezTo>
                  <a:pt x="5724354" y="1991939"/>
                  <a:pt x="5744843" y="1971450"/>
                  <a:pt x="5744843" y="1946176"/>
                </a:cubicBezTo>
                <a:cubicBezTo>
                  <a:pt x="5744843" y="1920902"/>
                  <a:pt x="5724354" y="1900413"/>
                  <a:pt x="5699080" y="1900413"/>
                </a:cubicBezTo>
                <a:close/>
                <a:moveTo>
                  <a:pt x="1500728" y="1900413"/>
                </a:moveTo>
                <a:cubicBezTo>
                  <a:pt x="1475454" y="1900413"/>
                  <a:pt x="1454965" y="1920902"/>
                  <a:pt x="1454965" y="1946176"/>
                </a:cubicBezTo>
                <a:cubicBezTo>
                  <a:pt x="1454965" y="1971450"/>
                  <a:pt x="1475454" y="1991939"/>
                  <a:pt x="1500728" y="1991939"/>
                </a:cubicBezTo>
                <a:cubicBezTo>
                  <a:pt x="1526002" y="1991939"/>
                  <a:pt x="1546491" y="1971450"/>
                  <a:pt x="1546491" y="1946176"/>
                </a:cubicBezTo>
                <a:cubicBezTo>
                  <a:pt x="1546491" y="1920902"/>
                  <a:pt x="1526002" y="1900413"/>
                  <a:pt x="1500728" y="1900413"/>
                </a:cubicBezTo>
                <a:close/>
                <a:moveTo>
                  <a:pt x="3599904" y="1900284"/>
                </a:moveTo>
                <a:cubicBezTo>
                  <a:pt x="3574630" y="1900284"/>
                  <a:pt x="3554141" y="1920773"/>
                  <a:pt x="3554141" y="1946047"/>
                </a:cubicBezTo>
                <a:cubicBezTo>
                  <a:pt x="3554141" y="1971321"/>
                  <a:pt x="3574630" y="1991810"/>
                  <a:pt x="3599904" y="1991810"/>
                </a:cubicBezTo>
                <a:cubicBezTo>
                  <a:pt x="3625178" y="1991810"/>
                  <a:pt x="3645667" y="1971321"/>
                  <a:pt x="3645667" y="1946047"/>
                </a:cubicBezTo>
                <a:cubicBezTo>
                  <a:pt x="3645667" y="1920773"/>
                  <a:pt x="3625178" y="1900284"/>
                  <a:pt x="3599904" y="1900284"/>
                </a:cubicBezTo>
                <a:close/>
                <a:moveTo>
                  <a:pt x="5699080" y="1769235"/>
                </a:moveTo>
                <a:cubicBezTo>
                  <a:pt x="5673806" y="1769235"/>
                  <a:pt x="5653317" y="1789724"/>
                  <a:pt x="5653317" y="1814998"/>
                </a:cubicBezTo>
                <a:cubicBezTo>
                  <a:pt x="5653317" y="1840272"/>
                  <a:pt x="5673806" y="1860761"/>
                  <a:pt x="5699080" y="1860761"/>
                </a:cubicBezTo>
                <a:cubicBezTo>
                  <a:pt x="5724354" y="1860761"/>
                  <a:pt x="5744843" y="1840272"/>
                  <a:pt x="5744843" y="1814998"/>
                </a:cubicBezTo>
                <a:cubicBezTo>
                  <a:pt x="5744843" y="1789724"/>
                  <a:pt x="5724354" y="1769235"/>
                  <a:pt x="5699080" y="1769235"/>
                </a:cubicBezTo>
                <a:close/>
                <a:moveTo>
                  <a:pt x="1500728" y="1769235"/>
                </a:moveTo>
                <a:cubicBezTo>
                  <a:pt x="1475454" y="1769235"/>
                  <a:pt x="1454965" y="1789724"/>
                  <a:pt x="1454965" y="1814998"/>
                </a:cubicBezTo>
                <a:cubicBezTo>
                  <a:pt x="1454965" y="1840272"/>
                  <a:pt x="1475454" y="1860761"/>
                  <a:pt x="1500728" y="1860761"/>
                </a:cubicBezTo>
                <a:cubicBezTo>
                  <a:pt x="1526002" y="1860761"/>
                  <a:pt x="1546491" y="1840272"/>
                  <a:pt x="1546491" y="1814998"/>
                </a:cubicBezTo>
                <a:cubicBezTo>
                  <a:pt x="1546491" y="1789724"/>
                  <a:pt x="1526002" y="1769235"/>
                  <a:pt x="1500728" y="1769235"/>
                </a:cubicBezTo>
                <a:close/>
                <a:moveTo>
                  <a:pt x="3599904" y="1769106"/>
                </a:moveTo>
                <a:cubicBezTo>
                  <a:pt x="3574630" y="1769106"/>
                  <a:pt x="3554141" y="1789594"/>
                  <a:pt x="3554141" y="1814868"/>
                </a:cubicBezTo>
                <a:cubicBezTo>
                  <a:pt x="3554141" y="1840143"/>
                  <a:pt x="3574630" y="1860631"/>
                  <a:pt x="3599904" y="1860631"/>
                </a:cubicBezTo>
                <a:cubicBezTo>
                  <a:pt x="3625178" y="1860631"/>
                  <a:pt x="3645667" y="1840143"/>
                  <a:pt x="3645667" y="1814868"/>
                </a:cubicBezTo>
                <a:cubicBezTo>
                  <a:pt x="3645667" y="1789594"/>
                  <a:pt x="3625178" y="1769106"/>
                  <a:pt x="3599904" y="1769106"/>
                </a:cubicBezTo>
                <a:close/>
                <a:moveTo>
                  <a:pt x="5699080" y="1638056"/>
                </a:moveTo>
                <a:cubicBezTo>
                  <a:pt x="5673806" y="1638056"/>
                  <a:pt x="5653317" y="1658545"/>
                  <a:pt x="5653317" y="1683819"/>
                </a:cubicBezTo>
                <a:cubicBezTo>
                  <a:pt x="5653317" y="1709093"/>
                  <a:pt x="5673806" y="1729582"/>
                  <a:pt x="5699080" y="1729582"/>
                </a:cubicBezTo>
                <a:cubicBezTo>
                  <a:pt x="5724354" y="1729582"/>
                  <a:pt x="5744843" y="1709093"/>
                  <a:pt x="5744843" y="1683819"/>
                </a:cubicBezTo>
                <a:cubicBezTo>
                  <a:pt x="5744843" y="1658545"/>
                  <a:pt x="5724354" y="1638056"/>
                  <a:pt x="5699080" y="1638056"/>
                </a:cubicBezTo>
                <a:close/>
                <a:moveTo>
                  <a:pt x="1500728" y="1638056"/>
                </a:moveTo>
                <a:cubicBezTo>
                  <a:pt x="1475454" y="1638056"/>
                  <a:pt x="1454965" y="1658545"/>
                  <a:pt x="1454965" y="1683819"/>
                </a:cubicBezTo>
                <a:cubicBezTo>
                  <a:pt x="1454965" y="1709093"/>
                  <a:pt x="1475454" y="1729582"/>
                  <a:pt x="1500728" y="1729582"/>
                </a:cubicBezTo>
                <a:cubicBezTo>
                  <a:pt x="1526002" y="1729582"/>
                  <a:pt x="1546491" y="1709093"/>
                  <a:pt x="1546491" y="1683819"/>
                </a:cubicBezTo>
                <a:cubicBezTo>
                  <a:pt x="1546491" y="1658545"/>
                  <a:pt x="1526002" y="1638056"/>
                  <a:pt x="1500728" y="1638056"/>
                </a:cubicBezTo>
                <a:close/>
                <a:moveTo>
                  <a:pt x="3599904" y="1637927"/>
                </a:moveTo>
                <a:cubicBezTo>
                  <a:pt x="3574630" y="1637927"/>
                  <a:pt x="3554141" y="1658416"/>
                  <a:pt x="3554141" y="1683690"/>
                </a:cubicBezTo>
                <a:cubicBezTo>
                  <a:pt x="3554141" y="1708964"/>
                  <a:pt x="3574630" y="1729453"/>
                  <a:pt x="3599904" y="1729453"/>
                </a:cubicBezTo>
                <a:cubicBezTo>
                  <a:pt x="3625178" y="1729453"/>
                  <a:pt x="3645667" y="1708964"/>
                  <a:pt x="3645667" y="1683690"/>
                </a:cubicBezTo>
                <a:cubicBezTo>
                  <a:pt x="3645667" y="1658416"/>
                  <a:pt x="3625178" y="1637927"/>
                  <a:pt x="3599904" y="1637927"/>
                </a:cubicBezTo>
                <a:close/>
                <a:moveTo>
                  <a:pt x="5699080" y="1506878"/>
                </a:moveTo>
                <a:cubicBezTo>
                  <a:pt x="5673806" y="1506878"/>
                  <a:pt x="5653317" y="1527367"/>
                  <a:pt x="5653317" y="1552641"/>
                </a:cubicBezTo>
                <a:cubicBezTo>
                  <a:pt x="5653317" y="1577915"/>
                  <a:pt x="5673806" y="1598404"/>
                  <a:pt x="5699080" y="1598404"/>
                </a:cubicBezTo>
                <a:cubicBezTo>
                  <a:pt x="5724354" y="1598404"/>
                  <a:pt x="5744843" y="1577915"/>
                  <a:pt x="5744843" y="1552641"/>
                </a:cubicBezTo>
                <a:cubicBezTo>
                  <a:pt x="5744843" y="1527367"/>
                  <a:pt x="5724354" y="1506878"/>
                  <a:pt x="5699080" y="1506878"/>
                </a:cubicBezTo>
                <a:close/>
                <a:moveTo>
                  <a:pt x="1500728" y="1506878"/>
                </a:moveTo>
                <a:cubicBezTo>
                  <a:pt x="1475454" y="1506878"/>
                  <a:pt x="1454965" y="1527367"/>
                  <a:pt x="1454965" y="1552641"/>
                </a:cubicBezTo>
                <a:cubicBezTo>
                  <a:pt x="1454965" y="1577915"/>
                  <a:pt x="1475454" y="1598404"/>
                  <a:pt x="1500728" y="1598404"/>
                </a:cubicBezTo>
                <a:cubicBezTo>
                  <a:pt x="1526002" y="1598404"/>
                  <a:pt x="1546491" y="1577915"/>
                  <a:pt x="1546491" y="1552641"/>
                </a:cubicBezTo>
                <a:cubicBezTo>
                  <a:pt x="1546491" y="1527367"/>
                  <a:pt x="1526002" y="1506878"/>
                  <a:pt x="1500728" y="1506878"/>
                </a:cubicBezTo>
                <a:close/>
                <a:moveTo>
                  <a:pt x="3599904" y="1506749"/>
                </a:moveTo>
                <a:cubicBezTo>
                  <a:pt x="3574630" y="1506749"/>
                  <a:pt x="3554141" y="1527237"/>
                  <a:pt x="3554141" y="1552511"/>
                </a:cubicBezTo>
                <a:cubicBezTo>
                  <a:pt x="3554141" y="1577786"/>
                  <a:pt x="3574630" y="1598274"/>
                  <a:pt x="3599904" y="1598274"/>
                </a:cubicBezTo>
                <a:cubicBezTo>
                  <a:pt x="3625178" y="1598274"/>
                  <a:pt x="3645667" y="1577786"/>
                  <a:pt x="3645667" y="1552511"/>
                </a:cubicBezTo>
                <a:cubicBezTo>
                  <a:pt x="3645667" y="1527237"/>
                  <a:pt x="3625178" y="1506749"/>
                  <a:pt x="3599904" y="1506749"/>
                </a:cubicBezTo>
                <a:close/>
                <a:moveTo>
                  <a:pt x="5699080" y="1375699"/>
                </a:moveTo>
                <a:cubicBezTo>
                  <a:pt x="5673806" y="1375699"/>
                  <a:pt x="5653317" y="1396188"/>
                  <a:pt x="5653317" y="1421462"/>
                </a:cubicBezTo>
                <a:cubicBezTo>
                  <a:pt x="5653317" y="1446736"/>
                  <a:pt x="5673806" y="1467225"/>
                  <a:pt x="5699080" y="1467225"/>
                </a:cubicBezTo>
                <a:cubicBezTo>
                  <a:pt x="5724354" y="1467225"/>
                  <a:pt x="5744843" y="1446736"/>
                  <a:pt x="5744843" y="1421462"/>
                </a:cubicBezTo>
                <a:cubicBezTo>
                  <a:pt x="5744843" y="1396188"/>
                  <a:pt x="5724354" y="1375699"/>
                  <a:pt x="5699080" y="1375699"/>
                </a:cubicBezTo>
                <a:close/>
                <a:moveTo>
                  <a:pt x="1500728" y="1375699"/>
                </a:moveTo>
                <a:cubicBezTo>
                  <a:pt x="1475454" y="1375699"/>
                  <a:pt x="1454965" y="1396188"/>
                  <a:pt x="1454965" y="1421462"/>
                </a:cubicBezTo>
                <a:cubicBezTo>
                  <a:pt x="1454965" y="1446736"/>
                  <a:pt x="1475454" y="1467225"/>
                  <a:pt x="1500728" y="1467225"/>
                </a:cubicBezTo>
                <a:cubicBezTo>
                  <a:pt x="1526002" y="1467225"/>
                  <a:pt x="1546491" y="1446736"/>
                  <a:pt x="1546491" y="1421462"/>
                </a:cubicBezTo>
                <a:cubicBezTo>
                  <a:pt x="1546491" y="1396188"/>
                  <a:pt x="1526002" y="1375699"/>
                  <a:pt x="1500728" y="1375699"/>
                </a:cubicBezTo>
                <a:close/>
                <a:moveTo>
                  <a:pt x="3599904" y="1375570"/>
                </a:moveTo>
                <a:cubicBezTo>
                  <a:pt x="3574630" y="1375570"/>
                  <a:pt x="3554141" y="1396059"/>
                  <a:pt x="3554141" y="1421333"/>
                </a:cubicBezTo>
                <a:cubicBezTo>
                  <a:pt x="3554141" y="1446607"/>
                  <a:pt x="3574630" y="1467096"/>
                  <a:pt x="3599904" y="1467096"/>
                </a:cubicBezTo>
                <a:cubicBezTo>
                  <a:pt x="3625178" y="1467096"/>
                  <a:pt x="3645667" y="1446607"/>
                  <a:pt x="3645667" y="1421333"/>
                </a:cubicBezTo>
                <a:cubicBezTo>
                  <a:pt x="3645667" y="1396059"/>
                  <a:pt x="3625178" y="1375570"/>
                  <a:pt x="3599904" y="1375570"/>
                </a:cubicBezTo>
                <a:close/>
                <a:moveTo>
                  <a:pt x="5699080" y="1244521"/>
                </a:moveTo>
                <a:cubicBezTo>
                  <a:pt x="5673806" y="1244521"/>
                  <a:pt x="5653317" y="1265010"/>
                  <a:pt x="5653317" y="1290284"/>
                </a:cubicBezTo>
                <a:cubicBezTo>
                  <a:pt x="5653317" y="1315558"/>
                  <a:pt x="5673806" y="1336047"/>
                  <a:pt x="5699080" y="1336047"/>
                </a:cubicBezTo>
                <a:cubicBezTo>
                  <a:pt x="5724354" y="1336047"/>
                  <a:pt x="5744843" y="1315558"/>
                  <a:pt x="5744843" y="1290284"/>
                </a:cubicBezTo>
                <a:cubicBezTo>
                  <a:pt x="5744843" y="1265010"/>
                  <a:pt x="5724354" y="1244521"/>
                  <a:pt x="5699080" y="1244521"/>
                </a:cubicBezTo>
                <a:close/>
                <a:moveTo>
                  <a:pt x="1500728" y="1244521"/>
                </a:moveTo>
                <a:cubicBezTo>
                  <a:pt x="1475454" y="1244521"/>
                  <a:pt x="1454965" y="1265010"/>
                  <a:pt x="1454965" y="1290284"/>
                </a:cubicBezTo>
                <a:cubicBezTo>
                  <a:pt x="1454965" y="1315558"/>
                  <a:pt x="1475454" y="1336047"/>
                  <a:pt x="1500728" y="1336047"/>
                </a:cubicBezTo>
                <a:cubicBezTo>
                  <a:pt x="1526002" y="1336047"/>
                  <a:pt x="1546491" y="1315558"/>
                  <a:pt x="1546491" y="1290284"/>
                </a:cubicBezTo>
                <a:cubicBezTo>
                  <a:pt x="1546491" y="1265010"/>
                  <a:pt x="1526002" y="1244521"/>
                  <a:pt x="1500728" y="1244521"/>
                </a:cubicBezTo>
                <a:close/>
                <a:moveTo>
                  <a:pt x="3599904" y="1244392"/>
                </a:moveTo>
                <a:cubicBezTo>
                  <a:pt x="3574630" y="1244392"/>
                  <a:pt x="3554141" y="1264880"/>
                  <a:pt x="3554141" y="1290155"/>
                </a:cubicBezTo>
                <a:cubicBezTo>
                  <a:pt x="3554141" y="1315429"/>
                  <a:pt x="3574630" y="1335917"/>
                  <a:pt x="3599904" y="1335917"/>
                </a:cubicBezTo>
                <a:cubicBezTo>
                  <a:pt x="3625178" y="1335917"/>
                  <a:pt x="3645667" y="1315429"/>
                  <a:pt x="3645667" y="1290155"/>
                </a:cubicBezTo>
                <a:cubicBezTo>
                  <a:pt x="3645667" y="1264880"/>
                  <a:pt x="3625178" y="1244392"/>
                  <a:pt x="3599904" y="1244392"/>
                </a:cubicBezTo>
                <a:close/>
                <a:moveTo>
                  <a:pt x="5699080" y="1113342"/>
                </a:moveTo>
                <a:cubicBezTo>
                  <a:pt x="5673806" y="1113342"/>
                  <a:pt x="5653317" y="1133831"/>
                  <a:pt x="5653317" y="1159105"/>
                </a:cubicBezTo>
                <a:cubicBezTo>
                  <a:pt x="5653317" y="1184379"/>
                  <a:pt x="5673806" y="1204868"/>
                  <a:pt x="5699080" y="1204868"/>
                </a:cubicBezTo>
                <a:cubicBezTo>
                  <a:pt x="5724354" y="1204868"/>
                  <a:pt x="5744843" y="1184379"/>
                  <a:pt x="5744843" y="1159105"/>
                </a:cubicBezTo>
                <a:cubicBezTo>
                  <a:pt x="5744843" y="1133831"/>
                  <a:pt x="5724354" y="1113342"/>
                  <a:pt x="5699080" y="1113342"/>
                </a:cubicBezTo>
                <a:close/>
                <a:moveTo>
                  <a:pt x="1500728" y="1113342"/>
                </a:moveTo>
                <a:cubicBezTo>
                  <a:pt x="1475454" y="1113342"/>
                  <a:pt x="1454965" y="1133831"/>
                  <a:pt x="1454965" y="1159105"/>
                </a:cubicBezTo>
                <a:cubicBezTo>
                  <a:pt x="1454965" y="1184379"/>
                  <a:pt x="1475454" y="1204868"/>
                  <a:pt x="1500728" y="1204868"/>
                </a:cubicBezTo>
                <a:cubicBezTo>
                  <a:pt x="1526002" y="1204868"/>
                  <a:pt x="1546491" y="1184379"/>
                  <a:pt x="1546491" y="1159105"/>
                </a:cubicBezTo>
                <a:cubicBezTo>
                  <a:pt x="1546491" y="1133831"/>
                  <a:pt x="1526002" y="1113342"/>
                  <a:pt x="1500728" y="1113342"/>
                </a:cubicBezTo>
                <a:close/>
                <a:moveTo>
                  <a:pt x="3599904" y="1113213"/>
                </a:moveTo>
                <a:cubicBezTo>
                  <a:pt x="3574630" y="1113213"/>
                  <a:pt x="3554141" y="1133702"/>
                  <a:pt x="3554141" y="1158976"/>
                </a:cubicBezTo>
                <a:cubicBezTo>
                  <a:pt x="3554141" y="1184250"/>
                  <a:pt x="3574630" y="1204739"/>
                  <a:pt x="3599904" y="1204739"/>
                </a:cubicBezTo>
                <a:cubicBezTo>
                  <a:pt x="3625178" y="1204739"/>
                  <a:pt x="3645667" y="1184250"/>
                  <a:pt x="3645667" y="1158976"/>
                </a:cubicBezTo>
                <a:cubicBezTo>
                  <a:pt x="3645667" y="1133702"/>
                  <a:pt x="3625178" y="1113213"/>
                  <a:pt x="3599904" y="1113213"/>
                </a:cubicBezTo>
                <a:close/>
                <a:moveTo>
                  <a:pt x="5699080" y="982164"/>
                </a:moveTo>
                <a:cubicBezTo>
                  <a:pt x="5673806" y="982164"/>
                  <a:pt x="5653317" y="1002653"/>
                  <a:pt x="5653317" y="1027927"/>
                </a:cubicBezTo>
                <a:cubicBezTo>
                  <a:pt x="5653317" y="1053201"/>
                  <a:pt x="5673806" y="1073690"/>
                  <a:pt x="5699080" y="1073690"/>
                </a:cubicBezTo>
                <a:cubicBezTo>
                  <a:pt x="5724354" y="1073690"/>
                  <a:pt x="5744843" y="1053201"/>
                  <a:pt x="5744843" y="1027927"/>
                </a:cubicBezTo>
                <a:cubicBezTo>
                  <a:pt x="5744843" y="1002653"/>
                  <a:pt x="5724354" y="982164"/>
                  <a:pt x="5699080" y="982164"/>
                </a:cubicBezTo>
                <a:close/>
                <a:moveTo>
                  <a:pt x="1500728" y="982164"/>
                </a:moveTo>
                <a:cubicBezTo>
                  <a:pt x="1475454" y="982164"/>
                  <a:pt x="1454965" y="1002653"/>
                  <a:pt x="1454965" y="1027927"/>
                </a:cubicBezTo>
                <a:cubicBezTo>
                  <a:pt x="1454965" y="1053201"/>
                  <a:pt x="1475454" y="1073690"/>
                  <a:pt x="1500728" y="1073690"/>
                </a:cubicBezTo>
                <a:cubicBezTo>
                  <a:pt x="1526002" y="1073690"/>
                  <a:pt x="1546491" y="1053201"/>
                  <a:pt x="1546491" y="1027927"/>
                </a:cubicBezTo>
                <a:cubicBezTo>
                  <a:pt x="1546491" y="1002653"/>
                  <a:pt x="1526002" y="982164"/>
                  <a:pt x="1500728" y="982164"/>
                </a:cubicBezTo>
                <a:close/>
                <a:moveTo>
                  <a:pt x="3599904" y="982035"/>
                </a:moveTo>
                <a:cubicBezTo>
                  <a:pt x="3574630" y="982035"/>
                  <a:pt x="3554141" y="1002523"/>
                  <a:pt x="3554141" y="1027798"/>
                </a:cubicBezTo>
                <a:cubicBezTo>
                  <a:pt x="3554141" y="1053072"/>
                  <a:pt x="3574630" y="1073560"/>
                  <a:pt x="3599904" y="1073560"/>
                </a:cubicBezTo>
                <a:cubicBezTo>
                  <a:pt x="3625178" y="1073560"/>
                  <a:pt x="3645667" y="1053072"/>
                  <a:pt x="3645667" y="1027798"/>
                </a:cubicBezTo>
                <a:cubicBezTo>
                  <a:pt x="3645667" y="1002523"/>
                  <a:pt x="3625178" y="982035"/>
                  <a:pt x="3599904" y="982035"/>
                </a:cubicBezTo>
                <a:close/>
                <a:moveTo>
                  <a:pt x="5699080" y="850985"/>
                </a:moveTo>
                <a:cubicBezTo>
                  <a:pt x="5673806" y="850985"/>
                  <a:pt x="5653317" y="871474"/>
                  <a:pt x="5653317" y="896748"/>
                </a:cubicBezTo>
                <a:cubicBezTo>
                  <a:pt x="5653317" y="922022"/>
                  <a:pt x="5673806" y="942511"/>
                  <a:pt x="5699080" y="942511"/>
                </a:cubicBezTo>
                <a:cubicBezTo>
                  <a:pt x="5724354" y="942511"/>
                  <a:pt x="5744843" y="922022"/>
                  <a:pt x="5744843" y="896748"/>
                </a:cubicBezTo>
                <a:cubicBezTo>
                  <a:pt x="5744843" y="871474"/>
                  <a:pt x="5724354" y="850985"/>
                  <a:pt x="5699080" y="850985"/>
                </a:cubicBezTo>
                <a:close/>
                <a:moveTo>
                  <a:pt x="1500728" y="850985"/>
                </a:moveTo>
                <a:cubicBezTo>
                  <a:pt x="1475454" y="850985"/>
                  <a:pt x="1454965" y="871474"/>
                  <a:pt x="1454965" y="896748"/>
                </a:cubicBezTo>
                <a:cubicBezTo>
                  <a:pt x="1454965" y="922022"/>
                  <a:pt x="1475454" y="942511"/>
                  <a:pt x="1500728" y="942511"/>
                </a:cubicBezTo>
                <a:cubicBezTo>
                  <a:pt x="1526002" y="942511"/>
                  <a:pt x="1546491" y="922022"/>
                  <a:pt x="1546491" y="896748"/>
                </a:cubicBezTo>
                <a:cubicBezTo>
                  <a:pt x="1546491" y="871474"/>
                  <a:pt x="1526002" y="850985"/>
                  <a:pt x="1500728" y="850985"/>
                </a:cubicBezTo>
                <a:close/>
                <a:moveTo>
                  <a:pt x="3599904" y="850856"/>
                </a:moveTo>
                <a:cubicBezTo>
                  <a:pt x="3574630" y="850856"/>
                  <a:pt x="3554141" y="871345"/>
                  <a:pt x="3554141" y="896619"/>
                </a:cubicBezTo>
                <a:cubicBezTo>
                  <a:pt x="3554141" y="921893"/>
                  <a:pt x="3574630" y="942382"/>
                  <a:pt x="3599904" y="942382"/>
                </a:cubicBezTo>
                <a:cubicBezTo>
                  <a:pt x="3625178" y="942382"/>
                  <a:pt x="3645667" y="921893"/>
                  <a:pt x="3645667" y="896619"/>
                </a:cubicBezTo>
                <a:cubicBezTo>
                  <a:pt x="3645667" y="871345"/>
                  <a:pt x="3625178" y="850856"/>
                  <a:pt x="3599904" y="850856"/>
                </a:cubicBezTo>
                <a:close/>
                <a:moveTo>
                  <a:pt x="5699273" y="720000"/>
                </a:moveTo>
                <a:cubicBezTo>
                  <a:pt x="5673999" y="720000"/>
                  <a:pt x="5653510" y="740489"/>
                  <a:pt x="5653510" y="765763"/>
                </a:cubicBezTo>
                <a:cubicBezTo>
                  <a:pt x="5653510" y="791037"/>
                  <a:pt x="5673999" y="811526"/>
                  <a:pt x="5699273" y="811526"/>
                </a:cubicBezTo>
                <a:cubicBezTo>
                  <a:pt x="5724547" y="811526"/>
                  <a:pt x="5745036" y="791037"/>
                  <a:pt x="5745036" y="765763"/>
                </a:cubicBezTo>
                <a:cubicBezTo>
                  <a:pt x="5745036" y="740489"/>
                  <a:pt x="5724547" y="720000"/>
                  <a:pt x="5699273" y="720000"/>
                </a:cubicBezTo>
                <a:close/>
                <a:moveTo>
                  <a:pt x="5567838" y="720000"/>
                </a:moveTo>
                <a:cubicBezTo>
                  <a:pt x="5542564" y="720000"/>
                  <a:pt x="5522075" y="740489"/>
                  <a:pt x="5522075" y="765763"/>
                </a:cubicBezTo>
                <a:cubicBezTo>
                  <a:pt x="5522075" y="791037"/>
                  <a:pt x="5542564" y="811526"/>
                  <a:pt x="5567838" y="811526"/>
                </a:cubicBezTo>
                <a:cubicBezTo>
                  <a:pt x="5593112" y="811526"/>
                  <a:pt x="5613601" y="791037"/>
                  <a:pt x="5613601" y="765763"/>
                </a:cubicBezTo>
                <a:cubicBezTo>
                  <a:pt x="5613601" y="740489"/>
                  <a:pt x="5593112" y="720000"/>
                  <a:pt x="5567838" y="720000"/>
                </a:cubicBezTo>
                <a:close/>
                <a:moveTo>
                  <a:pt x="5436659" y="720000"/>
                </a:moveTo>
                <a:cubicBezTo>
                  <a:pt x="5411385" y="720000"/>
                  <a:pt x="5390896" y="740489"/>
                  <a:pt x="5390896" y="765763"/>
                </a:cubicBezTo>
                <a:cubicBezTo>
                  <a:pt x="5390896" y="791037"/>
                  <a:pt x="5411385" y="811526"/>
                  <a:pt x="5436659" y="811526"/>
                </a:cubicBezTo>
                <a:cubicBezTo>
                  <a:pt x="5461933" y="811526"/>
                  <a:pt x="5482422" y="791037"/>
                  <a:pt x="5482422" y="765763"/>
                </a:cubicBezTo>
                <a:cubicBezTo>
                  <a:pt x="5482422" y="740489"/>
                  <a:pt x="5461933" y="720000"/>
                  <a:pt x="5436659" y="720000"/>
                </a:cubicBezTo>
                <a:close/>
                <a:moveTo>
                  <a:pt x="5305481" y="720000"/>
                </a:moveTo>
                <a:cubicBezTo>
                  <a:pt x="5280207" y="720000"/>
                  <a:pt x="5259718" y="740489"/>
                  <a:pt x="5259718" y="765763"/>
                </a:cubicBezTo>
                <a:cubicBezTo>
                  <a:pt x="5259718" y="791037"/>
                  <a:pt x="5280207" y="811526"/>
                  <a:pt x="5305481" y="811526"/>
                </a:cubicBezTo>
                <a:cubicBezTo>
                  <a:pt x="5330755" y="811526"/>
                  <a:pt x="5351244" y="791037"/>
                  <a:pt x="5351244" y="765763"/>
                </a:cubicBezTo>
                <a:cubicBezTo>
                  <a:pt x="5351244" y="740489"/>
                  <a:pt x="5330755" y="720000"/>
                  <a:pt x="5305481" y="720000"/>
                </a:cubicBezTo>
                <a:close/>
                <a:moveTo>
                  <a:pt x="5174302" y="720000"/>
                </a:moveTo>
                <a:cubicBezTo>
                  <a:pt x="5149028" y="720000"/>
                  <a:pt x="5128539" y="740489"/>
                  <a:pt x="5128539" y="765763"/>
                </a:cubicBezTo>
                <a:cubicBezTo>
                  <a:pt x="5128539" y="791037"/>
                  <a:pt x="5149028" y="811526"/>
                  <a:pt x="5174302" y="811526"/>
                </a:cubicBezTo>
                <a:cubicBezTo>
                  <a:pt x="5199576" y="811526"/>
                  <a:pt x="5220065" y="791037"/>
                  <a:pt x="5220065" y="765763"/>
                </a:cubicBezTo>
                <a:cubicBezTo>
                  <a:pt x="5220065" y="740489"/>
                  <a:pt x="5199576" y="720000"/>
                  <a:pt x="5174302" y="720000"/>
                </a:cubicBezTo>
                <a:close/>
                <a:moveTo>
                  <a:pt x="5043124" y="720000"/>
                </a:moveTo>
                <a:cubicBezTo>
                  <a:pt x="5017850" y="720000"/>
                  <a:pt x="4997361" y="740489"/>
                  <a:pt x="4997361" y="765763"/>
                </a:cubicBezTo>
                <a:cubicBezTo>
                  <a:pt x="4997361" y="791037"/>
                  <a:pt x="5017850" y="811526"/>
                  <a:pt x="5043124" y="811526"/>
                </a:cubicBezTo>
                <a:cubicBezTo>
                  <a:pt x="5068398" y="811526"/>
                  <a:pt x="5088887" y="791037"/>
                  <a:pt x="5088887" y="765763"/>
                </a:cubicBezTo>
                <a:cubicBezTo>
                  <a:pt x="5088887" y="740489"/>
                  <a:pt x="5068398" y="720000"/>
                  <a:pt x="5043124" y="720000"/>
                </a:cubicBezTo>
                <a:close/>
                <a:moveTo>
                  <a:pt x="4911560" y="720000"/>
                </a:moveTo>
                <a:cubicBezTo>
                  <a:pt x="4886286" y="720000"/>
                  <a:pt x="4865797" y="740489"/>
                  <a:pt x="4865797" y="765763"/>
                </a:cubicBezTo>
                <a:cubicBezTo>
                  <a:pt x="4865797" y="791037"/>
                  <a:pt x="4886286" y="811526"/>
                  <a:pt x="4911560" y="811526"/>
                </a:cubicBezTo>
                <a:cubicBezTo>
                  <a:pt x="4936834" y="811526"/>
                  <a:pt x="4957323" y="791037"/>
                  <a:pt x="4957323" y="765763"/>
                </a:cubicBezTo>
                <a:cubicBezTo>
                  <a:pt x="4957323" y="740489"/>
                  <a:pt x="4936834" y="720000"/>
                  <a:pt x="4911560" y="720000"/>
                </a:cubicBezTo>
                <a:close/>
                <a:moveTo>
                  <a:pt x="4780382" y="720000"/>
                </a:moveTo>
                <a:cubicBezTo>
                  <a:pt x="4755107" y="720000"/>
                  <a:pt x="4734619" y="740489"/>
                  <a:pt x="4734619" y="765763"/>
                </a:cubicBezTo>
                <a:cubicBezTo>
                  <a:pt x="4734619" y="791037"/>
                  <a:pt x="4755107" y="811526"/>
                  <a:pt x="4780382" y="811526"/>
                </a:cubicBezTo>
                <a:cubicBezTo>
                  <a:pt x="4805656" y="811526"/>
                  <a:pt x="4826144" y="791037"/>
                  <a:pt x="4826144" y="765763"/>
                </a:cubicBezTo>
                <a:cubicBezTo>
                  <a:pt x="4826144" y="740489"/>
                  <a:pt x="4805656" y="720000"/>
                  <a:pt x="4780382" y="720000"/>
                </a:cubicBezTo>
                <a:close/>
                <a:moveTo>
                  <a:pt x="4649203" y="720000"/>
                </a:moveTo>
                <a:cubicBezTo>
                  <a:pt x="4623929" y="720000"/>
                  <a:pt x="4603440" y="740489"/>
                  <a:pt x="4603440" y="765763"/>
                </a:cubicBezTo>
                <a:cubicBezTo>
                  <a:pt x="4603440" y="791037"/>
                  <a:pt x="4623929" y="811526"/>
                  <a:pt x="4649203" y="811526"/>
                </a:cubicBezTo>
                <a:cubicBezTo>
                  <a:pt x="4674477" y="811526"/>
                  <a:pt x="4694966" y="791037"/>
                  <a:pt x="4694966" y="765763"/>
                </a:cubicBezTo>
                <a:cubicBezTo>
                  <a:pt x="4694966" y="740489"/>
                  <a:pt x="4674477" y="720000"/>
                  <a:pt x="4649203" y="720000"/>
                </a:cubicBezTo>
                <a:close/>
                <a:moveTo>
                  <a:pt x="4518025" y="720000"/>
                </a:moveTo>
                <a:cubicBezTo>
                  <a:pt x="4492750" y="720000"/>
                  <a:pt x="4472262" y="740489"/>
                  <a:pt x="4472262" y="765763"/>
                </a:cubicBezTo>
                <a:cubicBezTo>
                  <a:pt x="4472262" y="791037"/>
                  <a:pt x="4492750" y="811526"/>
                  <a:pt x="4518025" y="811526"/>
                </a:cubicBezTo>
                <a:cubicBezTo>
                  <a:pt x="4543299" y="811526"/>
                  <a:pt x="4563787" y="791037"/>
                  <a:pt x="4563787" y="765763"/>
                </a:cubicBezTo>
                <a:cubicBezTo>
                  <a:pt x="4563787" y="740489"/>
                  <a:pt x="4543299" y="720000"/>
                  <a:pt x="4518025" y="720000"/>
                </a:cubicBezTo>
                <a:close/>
                <a:moveTo>
                  <a:pt x="4386846" y="720000"/>
                </a:moveTo>
                <a:cubicBezTo>
                  <a:pt x="4361572" y="720000"/>
                  <a:pt x="4341083" y="740489"/>
                  <a:pt x="4341083" y="765763"/>
                </a:cubicBezTo>
                <a:cubicBezTo>
                  <a:pt x="4341083" y="791037"/>
                  <a:pt x="4361572" y="811526"/>
                  <a:pt x="4386846" y="811526"/>
                </a:cubicBezTo>
                <a:cubicBezTo>
                  <a:pt x="4412120" y="811526"/>
                  <a:pt x="4432609" y="791037"/>
                  <a:pt x="4432609" y="765763"/>
                </a:cubicBezTo>
                <a:cubicBezTo>
                  <a:pt x="4432609" y="740489"/>
                  <a:pt x="4412120" y="720000"/>
                  <a:pt x="4386846" y="720000"/>
                </a:cubicBezTo>
                <a:close/>
                <a:moveTo>
                  <a:pt x="4255668" y="720000"/>
                </a:moveTo>
                <a:cubicBezTo>
                  <a:pt x="4230393" y="720000"/>
                  <a:pt x="4209905" y="740489"/>
                  <a:pt x="4209905" y="765763"/>
                </a:cubicBezTo>
                <a:cubicBezTo>
                  <a:pt x="4209905" y="791037"/>
                  <a:pt x="4230393" y="811526"/>
                  <a:pt x="4255668" y="811526"/>
                </a:cubicBezTo>
                <a:cubicBezTo>
                  <a:pt x="4280942" y="811526"/>
                  <a:pt x="4301430" y="791037"/>
                  <a:pt x="4301430" y="765763"/>
                </a:cubicBezTo>
                <a:cubicBezTo>
                  <a:pt x="4301430" y="740489"/>
                  <a:pt x="4280942" y="720000"/>
                  <a:pt x="4255668" y="720000"/>
                </a:cubicBezTo>
                <a:close/>
                <a:moveTo>
                  <a:pt x="4124489" y="720000"/>
                </a:moveTo>
                <a:cubicBezTo>
                  <a:pt x="4099215" y="720000"/>
                  <a:pt x="4078726" y="740489"/>
                  <a:pt x="4078726" y="765763"/>
                </a:cubicBezTo>
                <a:cubicBezTo>
                  <a:pt x="4078726" y="791037"/>
                  <a:pt x="4099215" y="811526"/>
                  <a:pt x="4124489" y="811526"/>
                </a:cubicBezTo>
                <a:cubicBezTo>
                  <a:pt x="4149763" y="811526"/>
                  <a:pt x="4170252" y="791037"/>
                  <a:pt x="4170252" y="765763"/>
                </a:cubicBezTo>
                <a:cubicBezTo>
                  <a:pt x="4170252" y="740489"/>
                  <a:pt x="4149763" y="720000"/>
                  <a:pt x="4124489" y="720000"/>
                </a:cubicBezTo>
                <a:close/>
                <a:moveTo>
                  <a:pt x="3993311" y="720000"/>
                </a:moveTo>
                <a:cubicBezTo>
                  <a:pt x="3968036" y="720000"/>
                  <a:pt x="3947548" y="740489"/>
                  <a:pt x="3947548" y="765763"/>
                </a:cubicBezTo>
                <a:cubicBezTo>
                  <a:pt x="3947548" y="791037"/>
                  <a:pt x="3968036" y="811526"/>
                  <a:pt x="3993311" y="811526"/>
                </a:cubicBezTo>
                <a:cubicBezTo>
                  <a:pt x="4018585" y="811526"/>
                  <a:pt x="4039073" y="791037"/>
                  <a:pt x="4039073" y="765763"/>
                </a:cubicBezTo>
                <a:cubicBezTo>
                  <a:pt x="4039073" y="740489"/>
                  <a:pt x="4018585" y="720000"/>
                  <a:pt x="3993311" y="720000"/>
                </a:cubicBezTo>
                <a:close/>
                <a:moveTo>
                  <a:pt x="3861941" y="720000"/>
                </a:moveTo>
                <a:cubicBezTo>
                  <a:pt x="3836667" y="720000"/>
                  <a:pt x="3816179" y="740489"/>
                  <a:pt x="3816179" y="765763"/>
                </a:cubicBezTo>
                <a:cubicBezTo>
                  <a:pt x="3816179" y="791037"/>
                  <a:pt x="3836667" y="811526"/>
                  <a:pt x="3861941" y="811526"/>
                </a:cubicBezTo>
                <a:cubicBezTo>
                  <a:pt x="3887216" y="811526"/>
                  <a:pt x="3907704" y="791037"/>
                  <a:pt x="3907704" y="765763"/>
                </a:cubicBezTo>
                <a:cubicBezTo>
                  <a:pt x="3907704" y="740489"/>
                  <a:pt x="3887216" y="720000"/>
                  <a:pt x="3861941" y="720000"/>
                </a:cubicBezTo>
                <a:close/>
                <a:moveTo>
                  <a:pt x="3730763" y="720000"/>
                </a:moveTo>
                <a:cubicBezTo>
                  <a:pt x="3705489" y="720000"/>
                  <a:pt x="3685000" y="740489"/>
                  <a:pt x="3685000" y="765763"/>
                </a:cubicBezTo>
                <a:cubicBezTo>
                  <a:pt x="3685000" y="791037"/>
                  <a:pt x="3705489" y="811526"/>
                  <a:pt x="3730763" y="811526"/>
                </a:cubicBezTo>
                <a:cubicBezTo>
                  <a:pt x="3756037" y="811526"/>
                  <a:pt x="3776526" y="791037"/>
                  <a:pt x="3776526" y="765763"/>
                </a:cubicBezTo>
                <a:cubicBezTo>
                  <a:pt x="3776526" y="740489"/>
                  <a:pt x="3756037" y="720000"/>
                  <a:pt x="3730763" y="720000"/>
                </a:cubicBezTo>
                <a:close/>
                <a:moveTo>
                  <a:pt x="3599584" y="720000"/>
                </a:moveTo>
                <a:cubicBezTo>
                  <a:pt x="3574310" y="720000"/>
                  <a:pt x="3553822" y="740489"/>
                  <a:pt x="3553822" y="765763"/>
                </a:cubicBezTo>
                <a:cubicBezTo>
                  <a:pt x="3553822" y="791037"/>
                  <a:pt x="3574310" y="811526"/>
                  <a:pt x="3599584" y="811526"/>
                </a:cubicBezTo>
                <a:cubicBezTo>
                  <a:pt x="3624859" y="811526"/>
                  <a:pt x="3645347" y="791037"/>
                  <a:pt x="3645347" y="765763"/>
                </a:cubicBezTo>
                <a:cubicBezTo>
                  <a:pt x="3645347" y="740489"/>
                  <a:pt x="3624859" y="720000"/>
                  <a:pt x="3599584" y="720000"/>
                </a:cubicBezTo>
                <a:close/>
                <a:moveTo>
                  <a:pt x="3468406" y="720000"/>
                </a:moveTo>
                <a:cubicBezTo>
                  <a:pt x="3443132" y="720000"/>
                  <a:pt x="3422643" y="740489"/>
                  <a:pt x="3422643" y="765763"/>
                </a:cubicBezTo>
                <a:cubicBezTo>
                  <a:pt x="3422643" y="791037"/>
                  <a:pt x="3443132" y="811526"/>
                  <a:pt x="3468406" y="811526"/>
                </a:cubicBezTo>
                <a:cubicBezTo>
                  <a:pt x="3493680" y="811526"/>
                  <a:pt x="3514169" y="791037"/>
                  <a:pt x="3514169" y="765763"/>
                </a:cubicBezTo>
                <a:cubicBezTo>
                  <a:pt x="3514169" y="740489"/>
                  <a:pt x="3493680" y="720000"/>
                  <a:pt x="3468406" y="720000"/>
                </a:cubicBezTo>
                <a:close/>
                <a:moveTo>
                  <a:pt x="3337227" y="720000"/>
                </a:moveTo>
                <a:cubicBezTo>
                  <a:pt x="3311953" y="720000"/>
                  <a:pt x="3291465" y="740489"/>
                  <a:pt x="3291465" y="765763"/>
                </a:cubicBezTo>
                <a:cubicBezTo>
                  <a:pt x="3291465" y="791037"/>
                  <a:pt x="3311953" y="811526"/>
                  <a:pt x="3337227" y="811526"/>
                </a:cubicBezTo>
                <a:cubicBezTo>
                  <a:pt x="3362502" y="811526"/>
                  <a:pt x="3382990" y="791037"/>
                  <a:pt x="3382990" y="765763"/>
                </a:cubicBezTo>
                <a:cubicBezTo>
                  <a:pt x="3382990" y="740489"/>
                  <a:pt x="3362502" y="720000"/>
                  <a:pt x="3337227" y="720000"/>
                </a:cubicBezTo>
                <a:close/>
                <a:moveTo>
                  <a:pt x="3206049" y="720000"/>
                </a:moveTo>
                <a:cubicBezTo>
                  <a:pt x="3180775" y="720000"/>
                  <a:pt x="3160286" y="740489"/>
                  <a:pt x="3160286" y="765763"/>
                </a:cubicBezTo>
                <a:cubicBezTo>
                  <a:pt x="3160286" y="791037"/>
                  <a:pt x="3180775" y="811526"/>
                  <a:pt x="3206049" y="811526"/>
                </a:cubicBezTo>
                <a:cubicBezTo>
                  <a:pt x="3231323" y="811526"/>
                  <a:pt x="3251812" y="791037"/>
                  <a:pt x="3251812" y="765763"/>
                </a:cubicBezTo>
                <a:cubicBezTo>
                  <a:pt x="3251812" y="740489"/>
                  <a:pt x="3231323" y="720000"/>
                  <a:pt x="3206049" y="720000"/>
                </a:cubicBezTo>
                <a:close/>
                <a:moveTo>
                  <a:pt x="3074870" y="720000"/>
                </a:moveTo>
                <a:cubicBezTo>
                  <a:pt x="3049596" y="720000"/>
                  <a:pt x="3029108" y="740489"/>
                  <a:pt x="3029108" y="765763"/>
                </a:cubicBezTo>
                <a:cubicBezTo>
                  <a:pt x="3029108" y="791037"/>
                  <a:pt x="3049596" y="811526"/>
                  <a:pt x="3074870" y="811526"/>
                </a:cubicBezTo>
                <a:cubicBezTo>
                  <a:pt x="3100145" y="811526"/>
                  <a:pt x="3120633" y="791037"/>
                  <a:pt x="3120633" y="765763"/>
                </a:cubicBezTo>
                <a:cubicBezTo>
                  <a:pt x="3120633" y="740489"/>
                  <a:pt x="3100145" y="720000"/>
                  <a:pt x="3074870" y="720000"/>
                </a:cubicBezTo>
                <a:close/>
                <a:moveTo>
                  <a:pt x="2943692" y="720000"/>
                </a:moveTo>
                <a:cubicBezTo>
                  <a:pt x="2918418" y="720000"/>
                  <a:pt x="2897929" y="740489"/>
                  <a:pt x="2897929" y="765763"/>
                </a:cubicBezTo>
                <a:cubicBezTo>
                  <a:pt x="2897929" y="791037"/>
                  <a:pt x="2918418" y="811526"/>
                  <a:pt x="2943692" y="811526"/>
                </a:cubicBezTo>
                <a:cubicBezTo>
                  <a:pt x="2968966" y="811526"/>
                  <a:pt x="2989455" y="791037"/>
                  <a:pt x="2989455" y="765763"/>
                </a:cubicBezTo>
                <a:cubicBezTo>
                  <a:pt x="2989455" y="740489"/>
                  <a:pt x="2968966" y="720000"/>
                  <a:pt x="2943692" y="720000"/>
                </a:cubicBezTo>
                <a:close/>
                <a:moveTo>
                  <a:pt x="2812513" y="720000"/>
                </a:moveTo>
                <a:cubicBezTo>
                  <a:pt x="2787239" y="720000"/>
                  <a:pt x="2766751" y="740489"/>
                  <a:pt x="2766751" y="765763"/>
                </a:cubicBezTo>
                <a:cubicBezTo>
                  <a:pt x="2766751" y="791037"/>
                  <a:pt x="2787239" y="811526"/>
                  <a:pt x="2812513" y="811526"/>
                </a:cubicBezTo>
                <a:cubicBezTo>
                  <a:pt x="2837788" y="811526"/>
                  <a:pt x="2858276" y="791037"/>
                  <a:pt x="2858276" y="765763"/>
                </a:cubicBezTo>
                <a:cubicBezTo>
                  <a:pt x="2858276" y="740489"/>
                  <a:pt x="2837788" y="720000"/>
                  <a:pt x="2812513" y="720000"/>
                </a:cubicBezTo>
                <a:close/>
                <a:moveTo>
                  <a:pt x="2681335" y="720000"/>
                </a:moveTo>
                <a:cubicBezTo>
                  <a:pt x="2656061" y="720000"/>
                  <a:pt x="2635572" y="740489"/>
                  <a:pt x="2635572" y="765763"/>
                </a:cubicBezTo>
                <a:cubicBezTo>
                  <a:pt x="2635572" y="791037"/>
                  <a:pt x="2656061" y="811526"/>
                  <a:pt x="2681335" y="811526"/>
                </a:cubicBezTo>
                <a:cubicBezTo>
                  <a:pt x="2706609" y="811526"/>
                  <a:pt x="2727098" y="791037"/>
                  <a:pt x="2727098" y="765763"/>
                </a:cubicBezTo>
                <a:cubicBezTo>
                  <a:pt x="2727098" y="740489"/>
                  <a:pt x="2706609" y="720000"/>
                  <a:pt x="2681335" y="720000"/>
                </a:cubicBezTo>
                <a:close/>
                <a:moveTo>
                  <a:pt x="2550156" y="720000"/>
                </a:moveTo>
                <a:cubicBezTo>
                  <a:pt x="2524882" y="720000"/>
                  <a:pt x="2504394" y="740489"/>
                  <a:pt x="2504394" y="765763"/>
                </a:cubicBezTo>
                <a:cubicBezTo>
                  <a:pt x="2504394" y="791037"/>
                  <a:pt x="2524882" y="811526"/>
                  <a:pt x="2550156" y="811526"/>
                </a:cubicBezTo>
                <a:cubicBezTo>
                  <a:pt x="2575431" y="811526"/>
                  <a:pt x="2595919" y="791037"/>
                  <a:pt x="2595919" y="765763"/>
                </a:cubicBezTo>
                <a:cubicBezTo>
                  <a:pt x="2595919" y="740489"/>
                  <a:pt x="2575431" y="720000"/>
                  <a:pt x="2550156" y="720000"/>
                </a:cubicBezTo>
                <a:close/>
                <a:moveTo>
                  <a:pt x="2418978" y="720000"/>
                </a:moveTo>
                <a:cubicBezTo>
                  <a:pt x="2393704" y="720000"/>
                  <a:pt x="2373215" y="740489"/>
                  <a:pt x="2373215" y="765763"/>
                </a:cubicBezTo>
                <a:cubicBezTo>
                  <a:pt x="2373215" y="791037"/>
                  <a:pt x="2393704" y="811526"/>
                  <a:pt x="2418978" y="811526"/>
                </a:cubicBezTo>
                <a:cubicBezTo>
                  <a:pt x="2444252" y="811526"/>
                  <a:pt x="2464741" y="791037"/>
                  <a:pt x="2464741" y="765763"/>
                </a:cubicBezTo>
                <a:cubicBezTo>
                  <a:pt x="2464741" y="740489"/>
                  <a:pt x="2444252" y="720000"/>
                  <a:pt x="2418978" y="720000"/>
                </a:cubicBezTo>
                <a:close/>
                <a:moveTo>
                  <a:pt x="2287799" y="720000"/>
                </a:moveTo>
                <a:cubicBezTo>
                  <a:pt x="2262525" y="720000"/>
                  <a:pt x="2242037" y="740489"/>
                  <a:pt x="2242037" y="765763"/>
                </a:cubicBezTo>
                <a:cubicBezTo>
                  <a:pt x="2242037" y="791037"/>
                  <a:pt x="2262525" y="811526"/>
                  <a:pt x="2287799" y="811526"/>
                </a:cubicBezTo>
                <a:cubicBezTo>
                  <a:pt x="2313074" y="811526"/>
                  <a:pt x="2333562" y="791037"/>
                  <a:pt x="2333562" y="765763"/>
                </a:cubicBezTo>
                <a:cubicBezTo>
                  <a:pt x="2333562" y="740489"/>
                  <a:pt x="2313074" y="720000"/>
                  <a:pt x="2287799" y="720000"/>
                </a:cubicBezTo>
                <a:close/>
                <a:moveTo>
                  <a:pt x="2156621" y="720000"/>
                </a:moveTo>
                <a:cubicBezTo>
                  <a:pt x="2131347" y="720000"/>
                  <a:pt x="2110858" y="740489"/>
                  <a:pt x="2110858" y="765763"/>
                </a:cubicBezTo>
                <a:cubicBezTo>
                  <a:pt x="2110858" y="791037"/>
                  <a:pt x="2131347" y="811526"/>
                  <a:pt x="2156621" y="811526"/>
                </a:cubicBezTo>
                <a:cubicBezTo>
                  <a:pt x="2181895" y="811526"/>
                  <a:pt x="2202384" y="791037"/>
                  <a:pt x="2202384" y="765763"/>
                </a:cubicBezTo>
                <a:cubicBezTo>
                  <a:pt x="2202384" y="740489"/>
                  <a:pt x="2181895" y="720000"/>
                  <a:pt x="2156621" y="720000"/>
                </a:cubicBezTo>
                <a:close/>
                <a:moveTo>
                  <a:pt x="2025442" y="720000"/>
                </a:moveTo>
                <a:cubicBezTo>
                  <a:pt x="2000168" y="720000"/>
                  <a:pt x="1979680" y="740489"/>
                  <a:pt x="1979680" y="765763"/>
                </a:cubicBezTo>
                <a:cubicBezTo>
                  <a:pt x="1979680" y="791037"/>
                  <a:pt x="2000168" y="811526"/>
                  <a:pt x="2025442" y="811526"/>
                </a:cubicBezTo>
                <a:cubicBezTo>
                  <a:pt x="2050717" y="811526"/>
                  <a:pt x="2071205" y="791037"/>
                  <a:pt x="2071205" y="765763"/>
                </a:cubicBezTo>
                <a:cubicBezTo>
                  <a:pt x="2071205" y="740489"/>
                  <a:pt x="2050717" y="720000"/>
                  <a:pt x="2025442" y="720000"/>
                </a:cubicBezTo>
                <a:close/>
                <a:moveTo>
                  <a:pt x="1894264" y="720000"/>
                </a:moveTo>
                <a:cubicBezTo>
                  <a:pt x="1868990" y="720000"/>
                  <a:pt x="1848501" y="740489"/>
                  <a:pt x="1848501" y="765763"/>
                </a:cubicBezTo>
                <a:cubicBezTo>
                  <a:pt x="1848501" y="791037"/>
                  <a:pt x="1868990" y="811526"/>
                  <a:pt x="1894264" y="811526"/>
                </a:cubicBezTo>
                <a:cubicBezTo>
                  <a:pt x="1919538" y="811526"/>
                  <a:pt x="1940027" y="791037"/>
                  <a:pt x="1940027" y="765763"/>
                </a:cubicBezTo>
                <a:cubicBezTo>
                  <a:pt x="1940027" y="740489"/>
                  <a:pt x="1919538" y="720000"/>
                  <a:pt x="1894264" y="720000"/>
                </a:cubicBezTo>
                <a:close/>
                <a:moveTo>
                  <a:pt x="1763085" y="720000"/>
                </a:moveTo>
                <a:cubicBezTo>
                  <a:pt x="1737811" y="720000"/>
                  <a:pt x="1717323" y="740489"/>
                  <a:pt x="1717323" y="765763"/>
                </a:cubicBezTo>
                <a:cubicBezTo>
                  <a:pt x="1717323" y="791037"/>
                  <a:pt x="1737811" y="811526"/>
                  <a:pt x="1763085" y="811526"/>
                </a:cubicBezTo>
                <a:cubicBezTo>
                  <a:pt x="1788360" y="811526"/>
                  <a:pt x="1808848" y="791037"/>
                  <a:pt x="1808848" y="765763"/>
                </a:cubicBezTo>
                <a:cubicBezTo>
                  <a:pt x="1808848" y="740489"/>
                  <a:pt x="1788360" y="720000"/>
                  <a:pt x="1763085" y="720000"/>
                </a:cubicBezTo>
                <a:close/>
                <a:moveTo>
                  <a:pt x="1631907" y="720000"/>
                </a:moveTo>
                <a:cubicBezTo>
                  <a:pt x="1606633" y="720000"/>
                  <a:pt x="1586144" y="740489"/>
                  <a:pt x="1586144" y="765763"/>
                </a:cubicBezTo>
                <a:cubicBezTo>
                  <a:pt x="1586144" y="791037"/>
                  <a:pt x="1606633" y="811526"/>
                  <a:pt x="1631907" y="811526"/>
                </a:cubicBezTo>
                <a:cubicBezTo>
                  <a:pt x="1657181" y="811526"/>
                  <a:pt x="1677670" y="791037"/>
                  <a:pt x="1677670" y="765763"/>
                </a:cubicBezTo>
                <a:cubicBezTo>
                  <a:pt x="1677670" y="740489"/>
                  <a:pt x="1657181" y="720000"/>
                  <a:pt x="1631907" y="720000"/>
                </a:cubicBezTo>
                <a:close/>
                <a:moveTo>
                  <a:pt x="1500728" y="720000"/>
                </a:moveTo>
                <a:cubicBezTo>
                  <a:pt x="1475454" y="720000"/>
                  <a:pt x="1454965" y="740489"/>
                  <a:pt x="1454965" y="765763"/>
                </a:cubicBezTo>
                <a:cubicBezTo>
                  <a:pt x="1454965" y="791037"/>
                  <a:pt x="1475454" y="811526"/>
                  <a:pt x="1500728" y="811526"/>
                </a:cubicBezTo>
                <a:cubicBezTo>
                  <a:pt x="1526003" y="811526"/>
                  <a:pt x="1546491" y="791037"/>
                  <a:pt x="1546491" y="765763"/>
                </a:cubicBezTo>
                <a:cubicBezTo>
                  <a:pt x="1546491" y="740489"/>
                  <a:pt x="1526003" y="720000"/>
                  <a:pt x="1500728" y="720000"/>
                </a:cubicBezTo>
                <a:close/>
                <a:moveTo>
                  <a:pt x="0" y="0"/>
                </a:moveTo>
                <a:lnTo>
                  <a:pt x="7200000" y="0"/>
                </a:lnTo>
                <a:lnTo>
                  <a:pt x="7200000" y="4680000"/>
                </a:lnTo>
                <a:lnTo>
                  <a:pt x="0" y="4680000"/>
                </a:lnTo>
                <a:close/>
              </a:path>
            </a:pathLst>
          </a:custGeom>
          <a:gradFill rotWithShape="0">
            <a:gsLst>
              <a:gs pos="0">
                <a:srgbClr val="004271"/>
              </a:gs>
              <a:gs pos="100000">
                <a:srgbClr val="005ea1"/>
              </a:gs>
            </a:gsLst>
            <a:lin ang="13500000"/>
          </a:gradFill>
          <a:ln>
            <a:noFill/>
          </a:ln>
        </p:spPr>
        <p:style>
          <a:lnRef idx="2">
            <a:schemeClr val="accent1">
              <a:shade val="50000"/>
            </a:schemeClr>
          </a:lnRef>
          <a:fillRef idx="1">
            <a:schemeClr val="accent1"/>
          </a:fillRef>
          <a:effectRef idx="0">
            <a:schemeClr val="accent1"/>
          </a:effectRef>
          <a:fontRef idx="minor"/>
        </p:style>
        <p:txBody>
          <a:bodyPr lIns="360000" rIns="90000" tIns="360000" bIns="45000" anchor="t">
            <a:noAutofit/>
          </a:bodyPr>
          <a:p>
            <a:pPr>
              <a:lnSpc>
                <a:spcPct val="100000"/>
              </a:lnSpc>
            </a:pPr>
            <a:endParaRPr b="1" lang="en-US" sz="1800" spc="-1" strike="noStrike">
              <a:solidFill>
                <a:srgbClr val="ffffff"/>
              </a:solidFill>
              <a:latin typeface="Candara"/>
              <a:ea typeface="微软雅黑"/>
            </a:endParaRPr>
          </a:p>
        </p:txBody>
      </p:sp>
      <p:sp>
        <p:nvSpPr>
          <p:cNvPr id="1113" name="内容占位符 2"/>
          <p:cNvSpPr/>
          <p:nvPr/>
        </p:nvSpPr>
        <p:spPr>
          <a:xfrm>
            <a:off x="360360" y="1440000"/>
            <a:ext cx="3239640" cy="4679640"/>
          </a:xfrm>
          <a:prstGeom prst="rect">
            <a:avLst/>
          </a:prstGeom>
          <a:noFill/>
          <a:ln w="0">
            <a:noFill/>
          </a:ln>
        </p:spPr>
        <p:style>
          <a:lnRef idx="0"/>
          <a:fillRef idx="0"/>
          <a:effectRef idx="0"/>
          <a:fontRef idx="minor"/>
        </p:style>
        <p:txBody>
          <a:bodyPr anchor="t">
            <a:normAutofit/>
          </a:bodyPr>
          <a:p>
            <a:pPr marL="534960" indent="-534960">
              <a:lnSpc>
                <a:spcPct val="100000"/>
              </a:lnSpc>
              <a:spcBef>
                <a:spcPts val="400"/>
              </a:spcBef>
              <a:spcAft>
                <a:spcPts val="1341"/>
              </a:spcAft>
              <a:buClr>
                <a:srgbClr val="d00000"/>
              </a:buClr>
              <a:buFont typeface="Wingdings 2" charset="2"/>
              <a:buChar char=""/>
            </a:pPr>
            <a:r>
              <a:rPr b="0" lang="zh-CN" sz="2000" spc="-1" strike="noStrike">
                <a:solidFill>
                  <a:srgbClr val="404040"/>
                </a:solidFill>
                <a:latin typeface="Candara"/>
                <a:ea typeface="微软雅黑"/>
              </a:rPr>
              <a:t>右侧虚线框中科放置四张不同的图片</a:t>
            </a:r>
            <a:endParaRPr b="0" lang="en-US" sz="2000" spc="-1" strike="noStrike">
              <a:solidFill>
                <a:srgbClr val="000000"/>
              </a:solidFill>
              <a:latin typeface="Arial"/>
            </a:endParaRPr>
          </a:p>
        </p:txBody>
      </p:sp>
      <p:sp>
        <p:nvSpPr>
          <p:cNvPr id="1114" name="TextBox 5"/>
          <p:cNvSpPr/>
          <p:nvPr/>
        </p:nvSpPr>
        <p:spPr>
          <a:xfrm>
            <a:off x="6252480" y="28080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
        <p:nvSpPr>
          <p:cNvPr id="1115" name="TextBox 6"/>
          <p:cNvSpPr/>
          <p:nvPr/>
        </p:nvSpPr>
        <p:spPr>
          <a:xfrm>
            <a:off x="8412840" y="28080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
        <p:nvSpPr>
          <p:cNvPr id="1116" name="TextBox 7"/>
          <p:cNvSpPr/>
          <p:nvPr/>
        </p:nvSpPr>
        <p:spPr>
          <a:xfrm>
            <a:off x="8412840" y="43830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
        <p:nvSpPr>
          <p:cNvPr id="1117" name="TextBox 8"/>
          <p:cNvSpPr/>
          <p:nvPr/>
        </p:nvSpPr>
        <p:spPr>
          <a:xfrm>
            <a:off x="6252480" y="43830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andara"/>
                <a:ea typeface="微软雅黑"/>
              </a:rPr>
              <a:t>图片</a:t>
            </a:r>
            <a:endParaRPr b="0" lang="en-US" sz="1800" spc="-1" strike="noStrike">
              <a:solidFill>
                <a:srgbClr val="000000"/>
              </a:solidFill>
              <a:latin typeface="Arial"/>
            </a:endParaRPr>
          </a:p>
        </p:txBody>
      </p:sp>
    </p:spTree>
  </p:cSld>
  <mc:AlternateContent>
    <mc:Choice Requires="p14">
      <p:transition spd="slow" advTm="2000" p14:dur="2000"/>
    </mc:Choice>
    <mc:Fallback>
      <p:transition spd="slow" advTm="2000"/>
    </mc:Fallback>
  </mc:AlternateContent>
</p:sld>
</file>

<file path=ppt/theme/theme1.xml><?xml version="1.0" encoding="utf-8"?>
<a:theme xmlns:a="http://schemas.openxmlformats.org/drawingml/2006/main" name="Office 主题">
  <a:themeElements>
    <a:clrScheme name="自定义 2">
      <a:dk1>
        <a:srgbClr val="000000"/>
      </a:dk1>
      <a:lt1>
        <a:srgbClr val="ffffff"/>
      </a:lt1>
      <a:dk2>
        <a:srgbClr val="007bd0"/>
      </a:dk2>
      <a:lt2>
        <a:srgbClr val="7b7b7b"/>
      </a:lt2>
      <a:accent1>
        <a:srgbClr val="d00000"/>
      </a:accent1>
      <a:accent2>
        <a:srgbClr val="d07b00"/>
      </a:accent2>
      <a:accent3>
        <a:srgbClr val="d0d000"/>
      </a:accent3>
      <a:accent4>
        <a:srgbClr val="7bd000"/>
      </a:accent4>
      <a:accent5>
        <a:srgbClr val="007b00"/>
      </a:accent5>
      <a:accent6>
        <a:srgbClr val="007b7b"/>
      </a:accent6>
      <a:hlink>
        <a:srgbClr val="d0007b"/>
      </a:hlink>
      <a:folHlink>
        <a:srgbClr val="c9a67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自定义 2">
      <a:dk1>
        <a:srgbClr val="000000"/>
      </a:dk1>
      <a:lt1>
        <a:srgbClr val="ffffff"/>
      </a:lt1>
      <a:dk2>
        <a:srgbClr val="007bd0"/>
      </a:dk2>
      <a:lt2>
        <a:srgbClr val="7b7b7b"/>
      </a:lt2>
      <a:accent1>
        <a:srgbClr val="d00000"/>
      </a:accent1>
      <a:accent2>
        <a:srgbClr val="d07b00"/>
      </a:accent2>
      <a:accent3>
        <a:srgbClr val="d0d000"/>
      </a:accent3>
      <a:accent4>
        <a:srgbClr val="7bd000"/>
      </a:accent4>
      <a:accent5>
        <a:srgbClr val="007b00"/>
      </a:accent5>
      <a:accent6>
        <a:srgbClr val="007b7b"/>
      </a:accent6>
      <a:hlink>
        <a:srgbClr val="d0007b"/>
      </a:hlink>
      <a:folHlink>
        <a:srgbClr val="c9a67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自定义 2">
      <a:dk1>
        <a:srgbClr val="000000"/>
      </a:dk1>
      <a:lt1>
        <a:srgbClr val="ffffff"/>
      </a:lt1>
      <a:dk2>
        <a:srgbClr val="007bd0"/>
      </a:dk2>
      <a:lt2>
        <a:srgbClr val="7b7b7b"/>
      </a:lt2>
      <a:accent1>
        <a:srgbClr val="d00000"/>
      </a:accent1>
      <a:accent2>
        <a:srgbClr val="d07b00"/>
      </a:accent2>
      <a:accent3>
        <a:srgbClr val="d0d000"/>
      </a:accent3>
      <a:accent4>
        <a:srgbClr val="7bd000"/>
      </a:accent4>
      <a:accent5>
        <a:srgbClr val="007b00"/>
      </a:accent5>
      <a:accent6>
        <a:srgbClr val="007b7b"/>
      </a:accent6>
      <a:hlink>
        <a:srgbClr val="d0007b"/>
      </a:hlink>
      <a:folHlink>
        <a:srgbClr val="c9a67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Words>349</Words>
  <Paragraphs>8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王玉清</cp:lastModifiedBy>
  <dcterms:modified xsi:type="dcterms:W3CDTF">2016-02-23T03:09:26Z</dcterms:modified>
  <cp:revision>3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自定义</vt:lpwstr>
  </property>
  <property fmtid="{D5CDD505-2E9C-101B-9397-08002B2CF9AE}" pid="3" name="Slides">
    <vt:r8>11</vt:r8>
  </property>
</Properties>
</file>