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BB7-16AA-428C-872B-1B83B54655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297-8231-479B-8CBB-702B21859C2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D74-BB0C-40E9-9E19-2D0C7A6A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B15-4A88-4775-A3E2-0A4A2CF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625-B5B6-4062-ABEC-D98E87D3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D75-7106-485B-B274-FD14E150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EB4A-31D2-4183-AA18-0B1B9B7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2C7C-A5FC-48FE-8CB9-4FE121DC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2D7-6950-4D61-9C96-7CC84E2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C87-7731-4CD0-A9F0-21120A37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C6C-A93B-4DA4-B874-E74AD25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4582-6F28-4F43-A245-F33C4B11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0E4-445D-4D3D-AAF7-4638A88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D7F-518F-4CB0-B00C-BA2EB5B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9D80-841B-4D5C-A841-0C4E2DF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73FC-5E82-427D-8392-D84D381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DFCB-A2DC-43DD-A00D-33235E6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7A3C-761F-4124-A4ED-0BAB5A9F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F30-D6E8-446E-9619-823AD9BC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CAF-F0DA-411F-8838-1D2708FB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841-BAA6-4145-A81D-E6AB5F88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707-8A5F-40A0-A880-355EAB3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C39-D0AA-4AD9-8023-A7C449A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F8C-BF1A-4698-A091-AC6FF34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4B0-A2B4-4047-BF85-9573CB1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0E0-FB28-4CB7-BE93-C92B0A9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7F66-5338-4B8E-AFE2-1B2CF8938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289A-0AA2-436F-94F6-612604663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4286160" y="2457360"/>
            <a:ext cx="3857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击添加署名或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3429000" y="1600200"/>
            <a:ext cx="481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 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850040" y="1779480"/>
            <a:ext cx="59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西红柿蔬菜水果通用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6689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e14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/>
  <dc:description/>
  <cp:keywords/>
  <dc:language>en-US</dc:language>
  <cp:lastModifiedBy>王玉清</cp:lastModifiedBy>
  <dcterms:modified xsi:type="dcterms:W3CDTF">2016-03-01T07:27:05Z</dcterms:modified>
  <cp:revision>51</cp:revision>
  <dc:subject/>
  <dc:title>ppt.glzy8.com提供海量PPT模板免费下载！</dc:title>
</cp:coreProperties>
</file>