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FC7-083C-4450-AB35-9CE0B698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109-8C03-4CCF-84C3-96D130CB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876-0AA7-44CF-8242-F8BFE4FD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F66-9B64-4750-8473-FC13A802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3ED-3640-4197-B4E9-592801A2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A8A-1A6C-4F44-8DA2-8E239302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0D4-3092-4E91-840D-18B71E57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6DC-179A-4A7A-A7FA-FF2C4BE8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B1D-87FC-449A-972A-6B1F84DD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E0E-1807-49D8-95BE-F5D8790C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62B-DFB8-4082-9957-C549D20F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647-948E-444B-BEAB-A076653F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4861-2274-452E-8CF4-0B2FCEB107D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27628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d"/>
                </a:solidFill>
                <a:latin typeface="方正综艺简体"/>
                <a:ea typeface="方正综艺简体"/>
              </a:rPr>
              <a:t>幸运草通用</a:t>
            </a:r>
            <a:r>
              <a:rPr b="0" lang="en-US" sz="4000" spc="-1" strike="noStrike">
                <a:solidFill>
                  <a:srgbClr val="0d0d0d"/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rgbClr val="0d0d0d"/>
                </a:solidFill>
                <a:latin typeface="方正综艺简体"/>
                <a:ea typeface="方正综艺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王玉清</cp:lastModifiedBy>
  <dcterms:modified xsi:type="dcterms:W3CDTF">2016-02-22T03:11:55Z</dcterms:modified>
  <cp:revision>29</cp:revision>
  <dc:subject/>
  <dc:title>Diapositiva 1</dc:title>
</cp:coreProperties>
</file>