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99B-6EF3-45CE-B18A-96741D17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536-1B5B-4703-81B5-6D4DDD51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CFF-6298-47A1-88FF-9C0ED56B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241-24D9-4E29-98BF-42A9DBB8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F4A-B13A-482D-9C7D-8AD4149A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406-3DCD-4462-BAC0-CC978C0F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C7D-9C94-4C78-BBCE-8743C6DB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194-67E9-4FA6-A292-5A888FCD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2D1-6145-480A-96F4-C2DF1F5E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9CE-76DD-4DB2-8CEA-426F4E1C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AAE-38F8-4838-BBE0-081EDFC6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17C-E838-4483-A2A9-520DD16A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:\Documents and Settings\Administrator\桌面\河山图标.jpg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3" descr="D:\Documents and Settings\Administrator\桌面\20\06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B391-F5AA-4357-98E6-872EFFFD4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写字楼间的阳光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1:45:22Z</dcterms:created>
  <dc:creator>ppt宝藏</dc:creator>
  <dc:description/>
  <dc:language>en-US</dc:language>
  <cp:lastModifiedBy>a</cp:lastModifiedBy>
  <dcterms:modified xsi:type="dcterms:W3CDTF">2015-07-25T07:08:22Z</dcterms:modified>
  <cp:revision>8</cp:revision>
  <dc:subject/>
  <dc:title>www.pptbz.com</dc:title>
</cp:coreProperties>
</file>