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366-BBBD-4054-ABE9-B77806DB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6AD-06AF-41DD-9D8D-EF102273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5F66-6859-48FF-A1F7-CD5CD366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F92-94DA-4446-ADF8-563AF6A8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8F3-7651-4B97-B091-A70F2B63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19D-5CB5-4912-951B-229BAE90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49F-AFC2-473F-8A05-7C47A3E1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E78-75A3-4965-80C5-C5188ECE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106-CF6C-4FA0-B581-216BE30F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FB4-CFBB-4E52-8C2A-B8535B5B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B5F-5BE8-4E16-84C6-44D7CB3A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E2B-20D2-4690-9423-04C8B891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23DB-A54D-4B23-929B-EBA60EA0FC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"/>
          <p:cNvSpPr/>
          <p:nvPr/>
        </p:nvSpPr>
        <p:spPr>
          <a:xfrm>
            <a:off x="2613960" y="19162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方叠体简"/>
                <a:ea typeface="汉仪方叠体简"/>
              </a:rPr>
              <a:t>浴火迈克通用</a:t>
            </a:r>
            <a:r>
              <a:rPr b="0" lang="en-US" sz="4000" spc="-1" strike="noStrike">
                <a:solidFill>
                  <a:srgbClr val="ffffff"/>
                </a:solidFill>
                <a:latin typeface="汉仪方叠体简"/>
                <a:ea typeface="汉仪方叠体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方叠体简"/>
                <a:ea typeface="汉仪方叠体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6:33:27Z</dcterms:created>
  <dc:creator>User</dc:creator>
  <dc:description/>
  <dc:language>en-US</dc:language>
  <cp:lastModifiedBy>王玉清</cp:lastModifiedBy>
  <dcterms:modified xsi:type="dcterms:W3CDTF">2016-02-21T07:19:29Z</dcterms:modified>
  <cp:revision>2</cp:revision>
  <dc:subject/>
  <dc:title>幻灯片 1</dc:title>
</cp:coreProperties>
</file>