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ADC7CC-9127-4A06-BCE4-99116EBAF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CA75AB-2F27-4C12-B504-975A340B8CE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823-CFEC-4965-B3DF-DADE6E07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CE2-72C7-408E-A4CA-1AE5AAB7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3F6-76C4-4A04-AA34-7BC63AAF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37B-89BA-4D6D-B8F4-09A9C0D4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2EF4-9BA5-4975-97A2-1308F8E4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EC3A-CA8D-4B57-BE47-A9D65AE5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CBCE-1CFC-4FFA-B847-CE4F28F3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8F04-A6C7-4087-B44A-1A16672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FA98-E7AD-4FAA-A7B8-06EF4DB0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8167-0D56-4DAE-A07C-63D1C6C1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C03C-1E98-4325-A437-C886F32F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B47-D6C8-4EEF-A768-E6D3F55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F8B6-5DE9-4EB0-ABA6-3019DBF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6948-B821-4F01-9524-52587E5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485-1C01-4476-BCE9-7801CB48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6083-8C23-47B1-8A4B-F3A4D51A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96D1-FD5C-4526-BA3A-C282F913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FCE-DBBA-490B-B4CA-BC145AB9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B44-B877-45F2-BE6F-BF2F850B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812-EA26-4CD1-88FC-698B713E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003-0564-4D7B-BDB8-4678093D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22F-1178-4BAA-8224-AFA912A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C5F-838E-491E-B1B6-2FB854DA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F8A-9D14-467C-AA40-BA0FCEC4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3B1C12-5999-4CD8-B6E3-13BB9696BEF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83BB21-7FB1-4EAD-8A8B-6BAF67C3762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5"/>
          <p:cNvSpPr/>
          <p:nvPr/>
        </p:nvSpPr>
        <p:spPr>
          <a:xfrm rot="17482800">
            <a:off x="3544200" y="3418560"/>
            <a:ext cx="151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ngle" w="38100" h="38100"/>
            </a:sp3d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单元    单词讲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文本框 6"/>
          <p:cNvSpPr/>
          <p:nvPr/>
        </p:nvSpPr>
        <p:spPr>
          <a:xfrm rot="1336200">
            <a:off x="4244760" y="1860120"/>
            <a:ext cx="589608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Aharoni"/>
              </a:rPr>
              <a:t>U</a:t>
            </a:r>
            <a:r>
              <a:rPr b="0" lang="en-US" sz="7200" spc="-1" strike="noStrike">
                <a:solidFill>
                  <a:srgbClr val="0dc0ff"/>
                </a:solidFill>
                <a:latin typeface="Aharoni"/>
              </a:rPr>
              <a:t>NIT</a:t>
            </a:r>
            <a:r>
              <a:rPr b="0" lang="en-US" sz="11500" spc="-1" strike="noStrike">
                <a:solidFill>
                  <a:srgbClr val="0dc0ff"/>
                </a:solidFill>
                <a:latin typeface="Aharoni"/>
              </a:rPr>
              <a:t>2</a:t>
            </a:r>
            <a:r>
              <a:rPr b="0" lang="en-US" sz="7200" spc="-1" strike="noStrike">
                <a:solidFill>
                  <a:srgbClr val="0dc0ff"/>
                </a:solidFill>
                <a:latin typeface="Aharoni"/>
              </a:rPr>
              <a:t>  LOV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文本框 7"/>
          <p:cNvSpPr/>
          <p:nvPr/>
        </p:nvSpPr>
        <p:spPr>
          <a:xfrm rot="1177200">
            <a:off x="8297280" y="4896720"/>
            <a:ext cx="9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〉〉〉〉〉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任意多边形 10"/>
          <p:cNvSpPr/>
          <p:nvPr/>
        </p:nvSpPr>
        <p:spPr>
          <a:xfrm rot="1233000">
            <a:off x="4180680" y="3112200"/>
            <a:ext cx="3401280" cy="3938760"/>
          </a:xfrm>
          <a:custGeom>
            <a:avLst/>
            <a:gdLst>
              <a:gd name="textAreaLeft" fmla="*/ 0 w 3401280"/>
              <a:gd name="textAreaRight" fmla="*/ 3401640 w 3401280"/>
              <a:gd name="textAreaTop" fmla="*/ 0 h 3938760"/>
              <a:gd name="textAreaBottom" fmla="*/ 3939120 h 3938760"/>
            </a:gdLst>
            <a:ahLst/>
            <a:rect l="textAreaLeft" t="textAreaTop" r="textAreaRight" b="textAreaBottom"/>
            <a:pathLst>
              <a:path w="2658794" h="3363797">
                <a:moveTo>
                  <a:pt x="0" y="0"/>
                </a:moveTo>
                <a:lnTo>
                  <a:pt x="2658794" y="0"/>
                </a:lnTo>
                <a:lnTo>
                  <a:pt x="2658794" y="428935"/>
                </a:lnTo>
                <a:lnTo>
                  <a:pt x="1533379" y="428935"/>
                </a:lnTo>
                <a:lnTo>
                  <a:pt x="1533379" y="3363797"/>
                </a:lnTo>
                <a:lnTo>
                  <a:pt x="1097281" y="3363797"/>
                </a:lnTo>
                <a:lnTo>
                  <a:pt x="1097281" y="428935"/>
                </a:lnTo>
                <a:lnTo>
                  <a:pt x="0" y="428935"/>
                </a:lnTo>
                <a:close/>
              </a:path>
            </a:pathLst>
          </a:custGeom>
          <a:solidFill>
            <a:schemeClr val="bg2">
              <a:alpha val="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矩形 11"/>
          <p:cNvSpPr/>
          <p:nvPr/>
        </p:nvSpPr>
        <p:spPr>
          <a:xfrm rot="1258800">
            <a:off x="7966080" y="4013280"/>
            <a:ext cx="576360" cy="3367800"/>
          </a:xfrm>
          <a:prstGeom prst="rect">
            <a:avLst/>
          </a:prstGeom>
          <a:solidFill>
            <a:schemeClr val="bg2">
              <a:alpha val="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任意多边形 18"/>
          <p:cNvSpPr/>
          <p:nvPr/>
        </p:nvSpPr>
        <p:spPr>
          <a:xfrm rot="21058800">
            <a:off x="8559720" y="4302000"/>
            <a:ext cx="4561920" cy="4254840"/>
          </a:xfrm>
          <a:custGeom>
            <a:avLst/>
            <a:gdLst>
              <a:gd name="textAreaLeft" fmla="*/ 0 w 4561920"/>
              <a:gd name="textAreaRight" fmla="*/ 4562280 w 4561920"/>
              <a:gd name="textAreaTop" fmla="*/ 0 h 4254840"/>
              <a:gd name="textAreaBottom" fmla="*/ 4255200 h 4254840"/>
            </a:gdLst>
            <a:ahLst/>
            <a:rect l="textAreaLeft" t="textAreaTop" r="textAreaRight" b="textAreaBottom"/>
            <a:pathLst>
              <a:path w="4562262" h="4255071">
                <a:moveTo>
                  <a:pt x="1903335" y="0"/>
                </a:moveTo>
                <a:lnTo>
                  <a:pt x="2266961" y="223955"/>
                </a:lnTo>
                <a:lnTo>
                  <a:pt x="2303968" y="221886"/>
                </a:lnTo>
                <a:lnTo>
                  <a:pt x="2305407" y="247634"/>
                </a:lnTo>
                <a:lnTo>
                  <a:pt x="2358504" y="280336"/>
                </a:lnTo>
                <a:lnTo>
                  <a:pt x="2311502" y="356652"/>
                </a:lnTo>
                <a:lnTo>
                  <a:pt x="2460974" y="3030256"/>
                </a:lnTo>
                <a:lnTo>
                  <a:pt x="3975954" y="744644"/>
                </a:lnTo>
                <a:lnTo>
                  <a:pt x="3975954" y="625606"/>
                </a:lnTo>
                <a:lnTo>
                  <a:pt x="4054856" y="625606"/>
                </a:lnTo>
                <a:lnTo>
                  <a:pt x="4116684" y="532328"/>
                </a:lnTo>
                <a:lnTo>
                  <a:pt x="4257410" y="625606"/>
                </a:lnTo>
                <a:lnTo>
                  <a:pt x="4510526" y="625606"/>
                </a:lnTo>
                <a:lnTo>
                  <a:pt x="4510526" y="793380"/>
                </a:lnTo>
                <a:lnTo>
                  <a:pt x="4562262" y="827672"/>
                </a:lnTo>
                <a:lnTo>
                  <a:pt x="4510526" y="905724"/>
                </a:lnTo>
                <a:lnTo>
                  <a:pt x="4510526" y="4255071"/>
                </a:lnTo>
                <a:lnTo>
                  <a:pt x="3975954" y="4255071"/>
                </a:lnTo>
                <a:lnTo>
                  <a:pt x="3975954" y="1712220"/>
                </a:lnTo>
                <a:lnTo>
                  <a:pt x="2557032" y="3852911"/>
                </a:lnTo>
                <a:lnTo>
                  <a:pt x="2505040" y="3818448"/>
                </a:lnTo>
                <a:lnTo>
                  <a:pt x="2506563" y="3845692"/>
                </a:lnTo>
                <a:lnTo>
                  <a:pt x="1972824" y="3875532"/>
                </a:lnTo>
                <a:lnTo>
                  <a:pt x="1820651" y="1153624"/>
                </a:lnTo>
                <a:lnTo>
                  <a:pt x="455169" y="3370697"/>
                </a:lnTo>
                <a:lnTo>
                  <a:pt x="0" y="3090362"/>
                </a:lnTo>
                <a:close/>
              </a:path>
            </a:pathLst>
          </a:custGeom>
          <a:solidFill>
            <a:schemeClr val="bg2">
              <a:alpha val="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文本框 4"/>
          <p:cNvSpPr/>
          <p:nvPr/>
        </p:nvSpPr>
        <p:spPr>
          <a:xfrm rot="1332000">
            <a:off x="5249880" y="3413520"/>
            <a:ext cx="343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ngle" w="38100" h="38100"/>
            </a:sp3d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组别  组员一</a:t>
            </a:r>
            <a:r>
              <a:rPr b="1" lang="en-US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/</a:t>
            </a:r>
            <a:r>
              <a:rPr b="1" lang="zh-CN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组员二</a:t>
            </a:r>
            <a:r>
              <a:rPr b="1" lang="en-US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/</a:t>
            </a:r>
            <a:r>
              <a:rPr b="1" lang="zh-CN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组员三</a:t>
            </a:r>
            <a:r>
              <a:rPr b="1" lang="en-US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/</a:t>
            </a:r>
            <a:r>
              <a:rPr b="1" lang="zh-CN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组员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3256200" y="92088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英文单词教学讲解动态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8 -0.75347 L -3.54167E-006 -2.96296E-006 E">
                                      <p:cBhvr>
                                        <p:cTn id="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141 -0.51898 L 1.25E-006 7.40741E-007 E">
                                      <p:cBhvr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93 0.64838 L -3.125E-006 4.44444E-006 E">
                                      <p:cBhvr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95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96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8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0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1011240" y="906120"/>
            <a:ext cx="2549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nur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文本框 10"/>
          <p:cNvSpPr/>
          <p:nvPr/>
        </p:nvSpPr>
        <p:spPr>
          <a:xfrm>
            <a:off x="7325280" y="1213920"/>
            <a:ext cx="37594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t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养育 培育 滋养 培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教养 培育 营养物 食物 环境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207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208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10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2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文本框 9"/>
          <p:cNvSpPr/>
          <p:nvPr/>
        </p:nvSpPr>
        <p:spPr>
          <a:xfrm>
            <a:off x="1453320" y="878040"/>
            <a:ext cx="1665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fle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文本框 10"/>
          <p:cNvSpPr/>
          <p:nvPr/>
        </p:nvSpPr>
        <p:spPr>
          <a:xfrm>
            <a:off x="6928200" y="1042200"/>
            <a:ext cx="391932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.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肉，肉体，果肉，皮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.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用肉喂养；长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fleshy adj.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肉的 多肉的 肥胖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肉质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flesh out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充实 使有血有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in the flesh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活生生的 本人 亲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lose flesh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变瘦 消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等腰三角形 1"/>
          <p:cNvSpPr/>
          <p:nvPr/>
        </p:nvSpPr>
        <p:spPr>
          <a:xfrm flipH="1" rot="16200000">
            <a:off x="5033880" y="-304560"/>
            <a:ext cx="6857640" cy="7440480"/>
          </a:xfrm>
          <a:prstGeom prst="triangle">
            <a:avLst>
              <a:gd name="adj" fmla="val 50000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等腰三角形 2"/>
          <p:cNvSpPr/>
          <p:nvPr/>
        </p:nvSpPr>
        <p:spPr>
          <a:xfrm rot="5400000">
            <a:off x="-1044000" y="1057320"/>
            <a:ext cx="6857640" cy="4768920"/>
          </a:xfrm>
          <a:custGeom>
            <a:avLst/>
            <a:gdLst>
              <a:gd name="textAreaLeft" fmla="*/ 0 w 6857640"/>
              <a:gd name="textAreaRight" fmla="*/ 6858000 w 6857640"/>
              <a:gd name="textAreaTop" fmla="*/ 0 h 4768920"/>
              <a:gd name="textAreaBottom" fmla="*/ 4769280 h 4768920"/>
            </a:gdLst>
            <a:ahLst/>
            <a:rect l="textAreaLeft" t="textAreaTop" r="textAreaRight" b="textAreaBottom"/>
            <a:pathLst>
              <a:path w="6858003" h="4769226">
                <a:moveTo>
                  <a:pt x="0" y="4769226"/>
                </a:moveTo>
                <a:lnTo>
                  <a:pt x="3388667" y="0"/>
                </a:lnTo>
                <a:lnTo>
                  <a:pt x="6858003" y="4769226"/>
                </a:lnTo>
                <a:lnTo>
                  <a:pt x="0" y="4769226"/>
                </a:lnTo>
                <a:close/>
              </a:path>
            </a:pathLst>
          </a:custGeom>
          <a:solidFill>
            <a:schemeClr val="bg2">
              <a:lumMod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任意多边形 3"/>
          <p:cNvSpPr/>
          <p:nvPr/>
        </p:nvSpPr>
        <p:spPr>
          <a:xfrm>
            <a:off x="27000" y="0"/>
            <a:ext cx="12142440" cy="3428640"/>
          </a:xfrm>
          <a:custGeom>
            <a:avLst/>
            <a:gdLst>
              <a:gd name="textAreaLeft" fmla="*/ 0 w 12142440"/>
              <a:gd name="textAreaRight" fmla="*/ 12142800 w 12142440"/>
              <a:gd name="textAreaTop" fmla="*/ 0 h 3428640"/>
              <a:gd name="textAreaBottom" fmla="*/ 3429000 h 3428640"/>
            </a:gdLst>
            <a:ahLst/>
            <a:rect l="textAreaLeft" t="textAreaTop" r="textAreaRight" b="textAreaBottom"/>
            <a:pathLst>
              <a:path w="12959852" h="3429000">
                <a:moveTo>
                  <a:pt x="0" y="0"/>
                </a:moveTo>
                <a:lnTo>
                  <a:pt x="5042249" y="3429000"/>
                </a:lnTo>
                <a:lnTo>
                  <a:pt x="12959852" y="0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lumMod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任意多边形 4"/>
          <p:cNvSpPr/>
          <p:nvPr/>
        </p:nvSpPr>
        <p:spPr>
          <a:xfrm>
            <a:off x="13320" y="3415680"/>
            <a:ext cx="12182760" cy="3428640"/>
          </a:xfrm>
          <a:custGeom>
            <a:avLst/>
            <a:gdLst>
              <a:gd name="textAreaLeft" fmla="*/ 0 w 12182760"/>
              <a:gd name="textAreaRight" fmla="*/ 12183120 w 12182760"/>
              <a:gd name="textAreaTop" fmla="*/ 0 h 3428640"/>
              <a:gd name="textAreaBottom" fmla="*/ 3429000 h 3428640"/>
            </a:gdLst>
            <a:ahLst/>
            <a:rect l="textAreaLeft" t="textAreaTop" r="textAreaRight" b="textAreaBottom"/>
            <a:pathLst>
              <a:path w="12183035" h="3483213">
                <a:moveTo>
                  <a:pt x="0" y="3483213"/>
                </a:moveTo>
                <a:lnTo>
                  <a:pt x="4760259" y="0"/>
                </a:lnTo>
                <a:lnTo>
                  <a:pt x="12183035" y="3469766"/>
                </a:lnTo>
                <a:lnTo>
                  <a:pt x="0" y="3483213"/>
                </a:lnTo>
                <a:close/>
              </a:path>
            </a:pathLst>
          </a:custGeom>
          <a:solidFill>
            <a:schemeClr val="bg2">
              <a:lumMod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文本框 9"/>
          <p:cNvSpPr/>
          <p:nvPr/>
        </p:nvSpPr>
        <p:spPr>
          <a:xfrm>
            <a:off x="283680" y="2153520"/>
            <a:ext cx="158130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900" spc="-1" strike="noStrike">
                <a:solidFill>
                  <a:srgbClr val="8497b0">
                    <a:alpha val="20000"/>
                  </a:srgbClr>
                </a:solidFill>
                <a:latin typeface="hakuyokaishu7000"/>
                <a:ea typeface="hakuyokaishu7000"/>
              </a:rPr>
              <a:t>Thank you!</a:t>
            </a:r>
            <a:endParaRPr b="0" lang="en-US" sz="2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文本框 8"/>
          <p:cNvSpPr/>
          <p:nvPr/>
        </p:nvSpPr>
        <p:spPr>
          <a:xfrm>
            <a:off x="3597840" y="2603880"/>
            <a:ext cx="645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c000"/>
                </a:solidFill>
                <a:latin typeface="hakuyokaishu7000"/>
                <a:ea typeface="hakuyokaishu7000"/>
              </a:rPr>
              <a:t>Thank you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等腰三角形 15"/>
          <p:cNvSpPr/>
          <p:nvPr/>
        </p:nvSpPr>
        <p:spPr>
          <a:xfrm rot="19093200">
            <a:off x="9797040" y="4190400"/>
            <a:ext cx="502200" cy="5986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等腰三角形 16"/>
          <p:cNvSpPr/>
          <p:nvPr/>
        </p:nvSpPr>
        <p:spPr>
          <a:xfrm>
            <a:off x="3493080" y="4536360"/>
            <a:ext cx="218160" cy="154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等腰三角形 17"/>
          <p:cNvSpPr/>
          <p:nvPr/>
        </p:nvSpPr>
        <p:spPr>
          <a:xfrm rot="1860000">
            <a:off x="5165640" y="2150640"/>
            <a:ext cx="131040" cy="133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等腰三角形 18"/>
          <p:cNvSpPr/>
          <p:nvPr/>
        </p:nvSpPr>
        <p:spPr>
          <a:xfrm>
            <a:off x="1726920" y="2785680"/>
            <a:ext cx="266040" cy="197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等腰三角形 19"/>
          <p:cNvSpPr/>
          <p:nvPr/>
        </p:nvSpPr>
        <p:spPr>
          <a:xfrm rot="15265200">
            <a:off x="9987120" y="3580560"/>
            <a:ext cx="502200" cy="667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等腰三角形 20"/>
          <p:cNvSpPr/>
          <p:nvPr/>
        </p:nvSpPr>
        <p:spPr>
          <a:xfrm rot="7818600">
            <a:off x="3315240" y="2423520"/>
            <a:ext cx="502200" cy="58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等腰三角形 21"/>
          <p:cNvSpPr/>
          <p:nvPr/>
        </p:nvSpPr>
        <p:spPr>
          <a:xfrm rot="3997800">
            <a:off x="3180240" y="2962800"/>
            <a:ext cx="502200" cy="622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等腰三角形 23"/>
          <p:cNvSpPr/>
          <p:nvPr/>
        </p:nvSpPr>
        <p:spPr>
          <a:xfrm>
            <a:off x="4479120" y="5020200"/>
            <a:ext cx="219240" cy="219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等腰三角形 24"/>
          <p:cNvSpPr/>
          <p:nvPr/>
        </p:nvSpPr>
        <p:spPr>
          <a:xfrm rot="18480000">
            <a:off x="8658720" y="5244840"/>
            <a:ext cx="299160" cy="34776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等腰三角形 25"/>
          <p:cNvSpPr/>
          <p:nvPr/>
        </p:nvSpPr>
        <p:spPr>
          <a:xfrm>
            <a:off x="1617480" y="4240800"/>
            <a:ext cx="219240" cy="219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等腰三角形 26"/>
          <p:cNvSpPr/>
          <p:nvPr/>
        </p:nvSpPr>
        <p:spPr>
          <a:xfrm>
            <a:off x="3843720" y="1139400"/>
            <a:ext cx="200160" cy="166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等腰三角形 27"/>
          <p:cNvSpPr/>
          <p:nvPr/>
        </p:nvSpPr>
        <p:spPr>
          <a:xfrm>
            <a:off x="9848520" y="5356440"/>
            <a:ext cx="200160" cy="166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等腰三角形 28"/>
          <p:cNvSpPr/>
          <p:nvPr/>
        </p:nvSpPr>
        <p:spPr>
          <a:xfrm>
            <a:off x="2354760" y="5130000"/>
            <a:ext cx="200160" cy="166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平行四边形 9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8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99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00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2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4" name="矩形 1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595800" y="752040"/>
            <a:ext cx="3107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someh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7203600" y="1213920"/>
            <a:ext cx="3271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dv.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以某种方法；莫名其妙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6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图文框 18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平行四边形 9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0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11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12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3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4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6" name="矩形 1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925920" y="878040"/>
            <a:ext cx="2336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Settl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6990120" y="1213920"/>
            <a:ext cx="31924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66"/>
              </a:buClr>
              <a:buFont typeface="StarSymbol"/>
              <a:buAutoNum type="alphaLcPeriod"/>
            </a:pP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固定的；不大可能变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66"/>
              </a:buClr>
              <a:buFont typeface="StarSymbol"/>
              <a:buAutoNum type="romanLcPeriod" startAt="5"/>
            </a:pP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解决；定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settle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的过去分词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6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图文框 16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平行四边形 9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2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23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24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5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6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8" name="矩形 1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1037160" y="900720"/>
            <a:ext cx="2413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Ma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12"/>
          <p:cNvSpPr/>
          <p:nvPr/>
        </p:nvSpPr>
        <p:spPr>
          <a:xfrm>
            <a:off x="7152840" y="1316160"/>
            <a:ext cx="40003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dj.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成熟的；充分考虑的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 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到期的；成年人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66"/>
              </a:buClr>
              <a:buFont typeface="StarSymbol"/>
              <a:buAutoNum type="romanLcPeriod" startAt="6"/>
            </a:pP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成熟；到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t.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使…成熟；使…长成；慎重作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6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图文框 14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34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35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6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7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9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文本框 9"/>
          <p:cNvSpPr/>
          <p:nvPr/>
        </p:nvSpPr>
        <p:spPr>
          <a:xfrm>
            <a:off x="345240" y="900720"/>
            <a:ext cx="3579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found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文本框 10"/>
          <p:cNvSpPr/>
          <p:nvPr/>
        </p:nvSpPr>
        <p:spPr>
          <a:xfrm>
            <a:off x="7303320" y="1209600"/>
            <a:ext cx="35290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.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地基，基础，基金（会），粉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found vt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，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，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dj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foundations 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地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46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47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8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49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1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826560" y="906120"/>
            <a:ext cx="27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bloss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文本框 10"/>
          <p:cNvSpPr/>
          <p:nvPr/>
        </p:nvSpPr>
        <p:spPr>
          <a:xfrm>
            <a:off x="7216560" y="1213920"/>
            <a:ext cx="39272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花，群花；开花时期；兴旺时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i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开花，繁荣，兴旺，成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Cherry Blossom 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樱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come into blossom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开始开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in full blossom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正开着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58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59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0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61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3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文本框 9"/>
          <p:cNvSpPr/>
          <p:nvPr/>
        </p:nvSpPr>
        <p:spPr>
          <a:xfrm>
            <a:off x="600120" y="983160"/>
            <a:ext cx="2924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aff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文本框 10"/>
          <p:cNvSpPr/>
          <p:nvPr/>
        </p:nvSpPr>
        <p:spPr>
          <a:xfrm>
            <a:off x="6996960" y="1213920"/>
            <a:ext cx="430020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喜爱，慈爱；情感或感情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意向；疾病；病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ffect vt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ffectional adj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情感上的 爱情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ffectionate adj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深情地，挚爱的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       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亲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ffectionately adv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挚爱地，脉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71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72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3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74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6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1112400" y="900720"/>
            <a:ext cx="213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scho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文本框 10"/>
          <p:cNvSpPr/>
          <p:nvPr/>
        </p:nvSpPr>
        <p:spPr>
          <a:xfrm>
            <a:off x="6559560" y="1213920"/>
            <a:ext cx="33098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学派，流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school of thought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思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83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84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86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8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文本框 9"/>
          <p:cNvSpPr/>
          <p:nvPr/>
        </p:nvSpPr>
        <p:spPr>
          <a:xfrm>
            <a:off x="711720" y="900720"/>
            <a:ext cx="2864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ro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文本框 10"/>
          <p:cNvSpPr/>
          <p:nvPr/>
        </p:nvSpPr>
        <p:spPr>
          <a:xfrm>
            <a:off x="6996600" y="1263960"/>
            <a:ext cx="40917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浪漫史 爱情小说 恋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t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＆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i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虚构 渲染 谈情说爱 追求某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  <Words>303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9:08:46Z</dcterms:created>
  <dc:creator>www.pptbz.com</dc:creator>
  <dc:description/>
  <dc:language>en-US</dc:language>
  <cp:lastModifiedBy>王玉清</cp:lastModifiedBy>
  <dcterms:modified xsi:type="dcterms:W3CDTF">2016-02-23T03:15:41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2</vt:r8>
  </property>
</Properties>
</file>