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BD2-3A4C-4C00-8CC3-F2BC856C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0C0-1CE1-406A-9782-077ED347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916-75BF-4CB7-ADEB-0A6D8F2F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088-E234-47A1-9253-0ECAC327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9AC-D112-44B9-9ED6-0A68A26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B91-3850-423D-B5A5-D7AEB64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E92-AFD1-4AFB-B107-7EB19AAE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B36-8457-42D4-AF05-6845C87D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169-988F-461E-B1F9-E6C1B347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AAE-036C-450F-8A66-063A1B5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039-D942-4DBF-A8A8-F4D5239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067-2BC1-44D9-8F0D-E6CC9A1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B78C-08E2-4E48-820E-3206103E9C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550D-969D-450E-81BE-D4A13E93DB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6"/>
          <p:cNvSpPr/>
          <p:nvPr/>
        </p:nvSpPr>
        <p:spPr>
          <a:xfrm>
            <a:off x="299880" y="2857680"/>
            <a:ext cx="8568000" cy="1071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7" descr="转动的红地球.gif"/>
          <p:cNvPicPr/>
          <p:nvPr/>
        </p:nvPicPr>
        <p:blipFill>
          <a:blip r:embed="rId3"/>
          <a:stretch/>
        </p:blipFill>
        <p:spPr>
          <a:xfrm>
            <a:off x="4133880" y="295272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6"/>
          <p:cNvGrpSpPr/>
          <p:nvPr/>
        </p:nvGrpSpPr>
        <p:grpSpPr>
          <a:xfrm>
            <a:off x="3503160" y="2282760"/>
            <a:ext cx="2070720" cy="2111400"/>
            <a:chOff x="3503160" y="2282760"/>
            <a:chExt cx="2070720" cy="2111400"/>
          </a:xfrm>
        </p:grpSpPr>
        <p:sp>
          <p:nvSpPr>
            <p:cNvPr id="45" name="Oval 2"/>
            <p:cNvSpPr/>
            <p:nvPr/>
          </p:nvSpPr>
          <p:spPr>
            <a:xfrm>
              <a:off x="3645000" y="2463840"/>
              <a:ext cx="1928880" cy="1930320"/>
            </a:xfrm>
            <a:prstGeom prst="donut">
              <a:avLst>
                <a:gd name="adj" fmla="val 3079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30"/>
            <p:cNvSpPr/>
            <p:nvPr/>
          </p:nvSpPr>
          <p:spPr>
            <a:xfrm rot="19388400">
              <a:off x="3652920" y="2580840"/>
              <a:ext cx="1306080" cy="93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1" descr="转动的红地球.gif"/>
          <p:cNvPicPr/>
          <p:nvPr/>
        </p:nvPicPr>
        <p:blipFill>
          <a:blip r:embed="rId4"/>
          <a:stretch/>
        </p:blipFill>
        <p:spPr>
          <a:xfrm>
            <a:off x="1954080" y="2932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转动的红地球.gif"/>
          <p:cNvPicPr/>
          <p:nvPr/>
        </p:nvPicPr>
        <p:blipFill>
          <a:blip r:embed="rId5"/>
          <a:stretch/>
        </p:blipFill>
        <p:spPr>
          <a:xfrm>
            <a:off x="6311880" y="293220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6"/>
          <p:cNvGrpSpPr/>
          <p:nvPr/>
        </p:nvGrpSpPr>
        <p:grpSpPr>
          <a:xfrm>
            <a:off x="5683320" y="2261880"/>
            <a:ext cx="2070000" cy="2109960"/>
            <a:chOff x="5683320" y="2261880"/>
            <a:chExt cx="2070000" cy="2109960"/>
          </a:xfrm>
        </p:grpSpPr>
        <p:sp>
          <p:nvSpPr>
            <p:cNvPr id="50" name="Oval 2"/>
            <p:cNvSpPr/>
            <p:nvPr/>
          </p:nvSpPr>
          <p:spPr>
            <a:xfrm>
              <a:off x="5824440" y="2443320"/>
              <a:ext cx="1928880" cy="1928520"/>
            </a:xfrm>
            <a:prstGeom prst="donut">
              <a:avLst>
                <a:gd name="adj" fmla="val 255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35"/>
            <p:cNvSpPr/>
            <p:nvPr/>
          </p:nvSpPr>
          <p:spPr>
            <a:xfrm rot="19388400">
              <a:off x="5832720" y="2559960"/>
              <a:ext cx="1306080" cy="93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43"/>
          <p:cNvGrpSpPr/>
          <p:nvPr/>
        </p:nvGrpSpPr>
        <p:grpSpPr>
          <a:xfrm>
            <a:off x="1338120" y="2268360"/>
            <a:ext cx="2070360" cy="2109960"/>
            <a:chOff x="1338120" y="2268360"/>
            <a:chExt cx="2070360" cy="2109960"/>
          </a:xfrm>
        </p:grpSpPr>
        <p:sp>
          <p:nvSpPr>
            <p:cNvPr id="53" name="Oval 2"/>
            <p:cNvSpPr/>
            <p:nvPr/>
          </p:nvSpPr>
          <p:spPr>
            <a:xfrm>
              <a:off x="1479600" y="2449440"/>
              <a:ext cx="1928880" cy="1928880"/>
            </a:xfrm>
            <a:prstGeom prst="donut">
              <a:avLst>
                <a:gd name="adj" fmla="val 2884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38"/>
            <p:cNvSpPr/>
            <p:nvPr/>
          </p:nvSpPr>
          <p:spPr>
            <a:xfrm rot="19388400">
              <a:off x="1487880" y="2566440"/>
              <a:ext cx="1306080" cy="93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53"/>
          <p:cNvGrpSpPr/>
          <p:nvPr/>
        </p:nvGrpSpPr>
        <p:grpSpPr>
          <a:xfrm>
            <a:off x="5859360" y="4654440"/>
            <a:ext cx="2457360" cy="1438200"/>
            <a:chOff x="5859360" y="4654440"/>
            <a:chExt cx="2457360" cy="1438200"/>
          </a:xfrm>
        </p:grpSpPr>
        <p:sp>
          <p:nvSpPr>
            <p:cNvPr id="56" name="Oval 43"/>
            <p:cNvSpPr/>
            <p:nvPr/>
          </p:nvSpPr>
          <p:spPr>
            <a:xfrm>
              <a:off x="7478640" y="4724280"/>
              <a:ext cx="596880" cy="41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51"/>
            <p:cNvSpPr/>
            <p:nvPr/>
          </p:nvSpPr>
          <p:spPr>
            <a:xfrm>
              <a:off x="5859360" y="4654440"/>
              <a:ext cx="2457360" cy="1438200"/>
            </a:xfrm>
            <a:prstGeom prst="foldedCorner">
              <a:avLst>
                <a:gd name="adj" fmla="val 95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2"/>
            <p:cNvSpPr/>
            <p:nvPr/>
          </p:nvSpPr>
          <p:spPr>
            <a:xfrm>
              <a:off x="5916600" y="4733640"/>
              <a:ext cx="2354040" cy="24624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52"/>
            <p:cNvSpPr/>
            <p:nvPr/>
          </p:nvSpPr>
          <p:spPr>
            <a:xfrm>
              <a:off x="5916600" y="5089320"/>
              <a:ext cx="2354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个地球都是会转动的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32"/>
            <p:cNvSpPr/>
            <p:nvPr/>
          </p:nvSpPr>
          <p:spPr>
            <a:xfrm>
              <a:off x="7834320" y="4659120"/>
              <a:ext cx="395280" cy="3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59"/>
            <p:cNvGrpSpPr/>
            <p:nvPr/>
          </p:nvGrpSpPr>
          <p:grpSpPr>
            <a:xfrm>
              <a:off x="7950240" y="4725720"/>
              <a:ext cx="160200" cy="268560"/>
              <a:chOff x="7950240" y="4725720"/>
              <a:chExt cx="160200" cy="268560"/>
            </a:xfrm>
          </p:grpSpPr>
          <p:sp>
            <p:nvSpPr>
              <p:cNvPr id="62" name="Freeform 60"/>
              <p:cNvSpPr/>
              <p:nvPr/>
            </p:nvSpPr>
            <p:spPr>
              <a:xfrm>
                <a:off x="7950240" y="4725720"/>
                <a:ext cx="160200" cy="19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7989840" y="4932360"/>
                <a:ext cx="80640" cy="6192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2"/>
              <p:cNvSpPr/>
              <p:nvPr/>
            </p:nvSpPr>
            <p:spPr>
              <a:xfrm>
                <a:off x="7990560" y="4939560"/>
                <a:ext cx="77760" cy="46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3"/>
              <p:cNvSpPr/>
              <p:nvPr/>
            </p:nvSpPr>
            <p:spPr>
              <a:xfrm>
                <a:off x="7961760" y="4740840"/>
                <a:ext cx="49680" cy="5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252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44720" y="4762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转动的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2B3-6E9A-462F-BCE6-9A5A17401E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5:26Z</dcterms:modified>
  <cp:revision>7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