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b4a9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3492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-25"/>
        <c:axId val="76599310"/>
        <c:axId val="13071640"/>
      </c:barChart>
      <c:catAx>
        <c:axId val="7659931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3eff0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41b8ba"/>
                </a:solidFill>
                <a:latin typeface="Century Schoolbook"/>
              </a:defRPr>
            </a:pPr>
          </a:p>
        </c:txPr>
        <c:crossAx val="13071640"/>
        <c:crosses val="autoZero"/>
        <c:auto val="1"/>
        <c:lblAlgn val="ctr"/>
        <c:lblOffset val="100"/>
        <c:noMultiLvlLbl val="0"/>
      </c:catAx>
      <c:valAx>
        <c:axId val="13071640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c9898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d5253"/>
                </a:solidFill>
                <a:latin typeface="Century Schoolbook"/>
              </a:defRPr>
            </a:pPr>
          </a:p>
        </c:txPr>
        <c:crossAx val="76599310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41b8ba"/>
              </a:solidFill>
              <a:latin typeface="Century School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D46AA4-525B-4A6E-9D35-010EF0092B05}" type="doc">
      <dgm:prSet loTypeId="urn:microsoft.com/office/officeart/2005/8/layout/radial1" loCatId="cycle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B8C0B1C8-B2B9-400F-AABF-8485D682C9BA}">
      <dgm:prSet phldrT="[Text]"/>
      <dgm:spPr/>
      <dgm:t>
        <a:bodyPr/>
        <a:lstStyle/>
        <a:p>
          <a:r>
            <a:rPr lang="en-US" dirty="0" smtClean="0"/>
            <a:t>Group A</a:t>
          </a:r>
          <a:endParaRPr lang="en-US" dirty="0"/>
        </a:p>
      </dgm:t>
    </dgm:pt>
    <dgm:pt modelId="{51FDB88D-1894-4416-AA70-D9E2693B01FE}" type="parTrans" cxnId="{0E07CB7A-3EE5-4096-BD74-5BA3980334E4}">
      <dgm:prSet/>
      <dgm:spPr/>
      <dgm:t>
        <a:bodyPr/>
        <a:lstStyle/>
        <a:p>
          <a:endParaRPr lang="en-US"/>
        </a:p>
      </dgm:t>
    </dgm:pt>
    <dgm:pt modelId="{A7B7D98B-4FC8-4C20-A9CD-652C294217C8}" type="sibTrans" cxnId="{0E07CB7A-3EE5-4096-BD74-5BA3980334E4}">
      <dgm:prSet/>
      <dgm:spPr/>
      <dgm:t>
        <a:bodyPr/>
        <a:lstStyle/>
        <a:p>
          <a:endParaRPr lang="en-US"/>
        </a:p>
      </dgm:t>
    </dgm:pt>
    <dgm:pt modelId="{6939F7AB-09E5-467C-BAA7-FBF976F5EBFC}">
      <dgm:prSet phldrT="[Text]"/>
      <dgm:spPr/>
      <dgm:t>
        <a:bodyPr/>
        <a:lstStyle/>
        <a:p>
          <a:r>
            <a:rPr lang="en-US" dirty="0" smtClean="0"/>
            <a:t>Task 1</a:t>
          </a:r>
          <a:endParaRPr lang="en-US" dirty="0"/>
        </a:p>
      </dgm:t>
    </dgm:pt>
    <dgm:pt modelId="{56AD5051-D072-4F73-8B7F-44EDF0717926}" type="parTrans" cxnId="{9FD5E9B9-B5C0-440B-8D72-164D9236C435}">
      <dgm:prSet/>
      <dgm:spPr/>
      <dgm:t>
        <a:bodyPr/>
        <a:lstStyle/>
        <a:p>
          <a:endParaRPr lang="en-US"/>
        </a:p>
      </dgm:t>
    </dgm:pt>
    <dgm:pt modelId="{1E6B548D-51E8-404D-A070-49B5A2AB4EE7}" type="sibTrans" cxnId="{9FD5E9B9-B5C0-440B-8D72-164D9236C435}">
      <dgm:prSet/>
      <dgm:spPr/>
      <dgm:t>
        <a:bodyPr/>
        <a:lstStyle/>
        <a:p>
          <a:endParaRPr lang="en-US"/>
        </a:p>
      </dgm:t>
    </dgm:pt>
    <dgm:pt modelId="{1C5A8755-2FFC-4EC7-868A-935C02368183}">
      <dgm:prSet phldrT="[Text]"/>
      <dgm:spPr/>
      <dgm:t>
        <a:bodyPr/>
        <a:lstStyle/>
        <a:p>
          <a:r>
            <a:rPr lang="en-US" dirty="0" smtClean="0"/>
            <a:t>Task 2</a:t>
          </a:r>
          <a:endParaRPr lang="en-US" dirty="0"/>
        </a:p>
      </dgm:t>
    </dgm:pt>
    <dgm:pt modelId="{EE1B93C3-7F00-4B8C-9E74-C28DCB633462}" type="parTrans" cxnId="{E0C9669C-26F4-48EF-99C9-47434AC58364}">
      <dgm:prSet/>
      <dgm:spPr/>
      <dgm:t>
        <a:bodyPr/>
        <a:lstStyle/>
        <a:p>
          <a:endParaRPr lang="en-US"/>
        </a:p>
      </dgm:t>
    </dgm:pt>
    <dgm:pt modelId="{780E5391-A680-45C7-B17D-E634A338763A}" type="sibTrans" cxnId="{E0C9669C-26F4-48EF-99C9-47434AC58364}">
      <dgm:prSet/>
      <dgm:spPr/>
      <dgm:t>
        <a:bodyPr/>
        <a:lstStyle/>
        <a:p>
          <a:endParaRPr lang="en-US"/>
        </a:p>
      </dgm:t>
    </dgm:pt>
    <dgm:pt modelId="{3424415D-A506-4528-A875-275577C3D636}">
      <dgm:prSet phldrT="[Text]"/>
      <dgm:spPr/>
      <dgm:t>
        <a:bodyPr/>
        <a:lstStyle/>
        <a:p>
          <a:r>
            <a:rPr lang="en-US" dirty="0" smtClean="0"/>
            <a:t>Task 3</a:t>
          </a:r>
          <a:endParaRPr lang="en-US" dirty="0"/>
        </a:p>
      </dgm:t>
    </dgm:pt>
    <dgm:pt modelId="{5FDA453C-1C4A-47CC-BC6E-98D9740634AF}" type="parTrans" cxnId="{848D5712-20C4-4550-90EB-623031F20B5F}">
      <dgm:prSet/>
      <dgm:spPr/>
      <dgm:t>
        <a:bodyPr/>
        <a:lstStyle/>
        <a:p>
          <a:endParaRPr lang="en-US"/>
        </a:p>
      </dgm:t>
    </dgm:pt>
    <dgm:pt modelId="{498466F1-BB51-48A1-A25E-4E812D0348CD}" type="sibTrans" cxnId="{848D5712-20C4-4550-90EB-623031F20B5F}">
      <dgm:prSet/>
      <dgm:spPr/>
      <dgm:t>
        <a:bodyPr/>
        <a:lstStyle/>
        <a:p>
          <a:endParaRPr lang="en-US"/>
        </a:p>
      </dgm:t>
    </dgm:pt>
    <dgm:pt modelId="{843A5684-D7CB-42F3-B88A-2496BD8411C7}" type="pres">
      <dgm:prSet presAssocID="{94D46AA4-525B-4A6E-9D35-010EF0092B05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79392B8-76D1-4A5C-AB86-5DE6B3524CE9}" type="pres">
      <dgm:prSet presAssocID="{B8C0B1C8-B2B9-400F-AABF-8485D682C9BA}" presName="centerShape" presStyleLbl="node0" presStyleIdx="0" presStyleCnt="1"/>
      <dgm:spPr/>
      <dgm:t>
        <a:bodyPr/>
        <a:lstStyle/>
        <a:p>
          <a:endParaRPr lang="en-US"/>
        </a:p>
      </dgm:t>
    </dgm:pt>
    <dgm:pt modelId="{B9B7DDC7-2E8F-4126-B340-CFACCA6FC990}" type="pres">
      <dgm:prSet presAssocID="{56AD5051-D072-4F73-8B7F-44EDF0717926}" presName="Name9" presStyleLbl="parChTrans1D2" presStyleIdx="0" presStyleCnt="3"/>
      <dgm:spPr/>
      <dgm:t>
        <a:bodyPr/>
        <a:lstStyle/>
        <a:p>
          <a:endParaRPr lang="en-US"/>
        </a:p>
      </dgm:t>
    </dgm:pt>
    <dgm:pt modelId="{AF5D57E6-B207-479F-85E3-D4246D055A32}" type="pres">
      <dgm:prSet presAssocID="{56AD5051-D072-4F73-8B7F-44EDF0717926}" presName="connTx" presStyleLbl="parChTrans1D2" presStyleIdx="0" presStyleCnt="3"/>
      <dgm:spPr/>
      <dgm:t>
        <a:bodyPr/>
        <a:lstStyle/>
        <a:p>
          <a:endParaRPr lang="en-US"/>
        </a:p>
      </dgm:t>
    </dgm:pt>
    <dgm:pt modelId="{CE9BA46E-22DD-49B7-9054-532344B08733}" type="pres">
      <dgm:prSet presAssocID="{6939F7AB-09E5-467C-BAA7-FBF976F5EBFC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E89B881-432E-4854-BED0-3DF835649CEA}" type="pres">
      <dgm:prSet presAssocID="{EE1B93C3-7F00-4B8C-9E74-C28DCB633462}" presName="Name9" presStyleLbl="parChTrans1D2" presStyleIdx="1" presStyleCnt="3"/>
      <dgm:spPr/>
      <dgm:t>
        <a:bodyPr/>
        <a:lstStyle/>
        <a:p>
          <a:endParaRPr lang="en-US"/>
        </a:p>
      </dgm:t>
    </dgm:pt>
    <dgm:pt modelId="{DD109CFA-2D39-40CB-AFAF-6C45E5926F90}" type="pres">
      <dgm:prSet presAssocID="{EE1B93C3-7F00-4B8C-9E74-C28DCB633462}" presName="connTx" presStyleLbl="parChTrans1D2" presStyleIdx="1" presStyleCnt="3"/>
      <dgm:spPr/>
      <dgm:t>
        <a:bodyPr/>
        <a:lstStyle/>
        <a:p>
          <a:endParaRPr lang="en-US"/>
        </a:p>
      </dgm:t>
    </dgm:pt>
    <dgm:pt modelId="{6BF76865-717B-43A6-BB02-32B552F35CDD}" type="pres">
      <dgm:prSet presAssocID="{1C5A8755-2FFC-4EC7-868A-935C02368183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32BA6B1-6F2B-4619-99B0-9D1DF20792BD}" type="pres">
      <dgm:prSet presAssocID="{5FDA453C-1C4A-47CC-BC6E-98D9740634AF}" presName="Name9" presStyleLbl="parChTrans1D2" presStyleIdx="2" presStyleCnt="3"/>
      <dgm:spPr/>
      <dgm:t>
        <a:bodyPr/>
        <a:lstStyle/>
        <a:p>
          <a:endParaRPr lang="en-US"/>
        </a:p>
      </dgm:t>
    </dgm:pt>
    <dgm:pt modelId="{56497F68-985F-4670-AF26-6DD4CAEB5DB4}" type="pres">
      <dgm:prSet presAssocID="{5FDA453C-1C4A-47CC-BC6E-98D9740634AF}" presName="connTx" presStyleLbl="parChTrans1D2" presStyleIdx="2" presStyleCnt="3"/>
      <dgm:spPr/>
      <dgm:t>
        <a:bodyPr/>
        <a:lstStyle/>
        <a:p>
          <a:endParaRPr lang="en-US"/>
        </a:p>
      </dgm:t>
    </dgm:pt>
    <dgm:pt modelId="{57BF1041-6235-4146-9B37-1A10286DB56A}" type="pres">
      <dgm:prSet presAssocID="{3424415D-A506-4528-A875-275577C3D636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5893E364-0FF2-449A-B20E-66206913C69F}" type="presOf" srcId="{B8C0B1C8-B2B9-400F-AABF-8485D682C9BA}" destId="{479392B8-76D1-4A5C-AB86-5DE6B3524CE9}" srcOrd="0" destOrd="0" presId="urn:microsoft.com/office/officeart/2005/8/layout/radial1"/>
    <dgm:cxn modelId="{A58C062F-70B5-46BA-90FA-61D7ED21BBEE}" type="presOf" srcId="{EE1B93C3-7F00-4B8C-9E74-C28DCB633462}" destId="{DD109CFA-2D39-40CB-AFAF-6C45E5926F90}" srcOrd="1" destOrd="0" presId="urn:microsoft.com/office/officeart/2005/8/layout/radial1"/>
    <dgm:cxn modelId="{B08426E8-4AC3-4DEE-8D6D-1E69F0C5CEB9}" type="presOf" srcId="{56AD5051-D072-4F73-8B7F-44EDF0717926}" destId="{AF5D57E6-B207-479F-85E3-D4246D055A32}" srcOrd="1" destOrd="0" presId="urn:microsoft.com/office/officeart/2005/8/layout/radial1"/>
    <dgm:cxn modelId="{59256581-6939-450A-AB49-B2E61828BFE2}" type="presOf" srcId="{56AD5051-D072-4F73-8B7F-44EDF0717926}" destId="{B9B7DDC7-2E8F-4126-B340-CFACCA6FC990}" srcOrd="0" destOrd="0" presId="urn:microsoft.com/office/officeart/2005/8/layout/radial1"/>
    <dgm:cxn modelId="{CFC778CD-C82C-4EC0-9308-BDC3D360FC05}" type="presOf" srcId="{EE1B93C3-7F00-4B8C-9E74-C28DCB633462}" destId="{CE89B881-432E-4854-BED0-3DF835649CEA}" srcOrd="0" destOrd="0" presId="urn:microsoft.com/office/officeart/2005/8/layout/radial1"/>
    <dgm:cxn modelId="{2B0C0132-2529-47B9-9BA2-431BA990898A}" type="presOf" srcId="{6939F7AB-09E5-467C-BAA7-FBF976F5EBFC}" destId="{CE9BA46E-22DD-49B7-9054-532344B08733}" srcOrd="0" destOrd="0" presId="urn:microsoft.com/office/officeart/2005/8/layout/radial1"/>
    <dgm:cxn modelId="{0E07CB7A-3EE5-4096-BD74-5BA3980334E4}" srcId="{94D46AA4-525B-4A6E-9D35-010EF0092B05}" destId="{B8C0B1C8-B2B9-400F-AABF-8485D682C9BA}" srcOrd="0" destOrd="0" parTransId="{51FDB88D-1894-4416-AA70-D9E2693B01FE}" sibTransId="{A7B7D98B-4FC8-4C20-A9CD-652C294217C8}"/>
    <dgm:cxn modelId="{71C6A146-3D39-43A2-921D-793584BA7561}" type="presOf" srcId="{5FDA453C-1C4A-47CC-BC6E-98D9740634AF}" destId="{56497F68-985F-4670-AF26-6DD4CAEB5DB4}" srcOrd="1" destOrd="0" presId="urn:microsoft.com/office/officeart/2005/8/layout/radial1"/>
    <dgm:cxn modelId="{E27B7BAA-FE20-4329-9E95-0460ED4459BA}" type="presOf" srcId="{94D46AA4-525B-4A6E-9D35-010EF0092B05}" destId="{843A5684-D7CB-42F3-B88A-2496BD8411C7}" srcOrd="0" destOrd="0" presId="urn:microsoft.com/office/officeart/2005/8/layout/radial1"/>
    <dgm:cxn modelId="{989CA8E1-029F-4EEC-A89D-3258A76C83CB}" type="presOf" srcId="{5FDA453C-1C4A-47CC-BC6E-98D9740634AF}" destId="{C32BA6B1-6F2B-4619-99B0-9D1DF20792BD}" srcOrd="0" destOrd="0" presId="urn:microsoft.com/office/officeart/2005/8/layout/radial1"/>
    <dgm:cxn modelId="{9FD5E9B9-B5C0-440B-8D72-164D9236C435}" srcId="{B8C0B1C8-B2B9-400F-AABF-8485D682C9BA}" destId="{6939F7AB-09E5-467C-BAA7-FBF976F5EBFC}" srcOrd="0" destOrd="0" parTransId="{56AD5051-D072-4F73-8B7F-44EDF0717926}" sibTransId="{1E6B548D-51E8-404D-A070-49B5A2AB4EE7}"/>
    <dgm:cxn modelId="{FCD2C02F-3E25-4D80-8E77-13887B6F7B35}" type="presOf" srcId="{3424415D-A506-4528-A875-275577C3D636}" destId="{57BF1041-6235-4146-9B37-1A10286DB56A}" srcOrd="0" destOrd="0" presId="urn:microsoft.com/office/officeart/2005/8/layout/radial1"/>
    <dgm:cxn modelId="{FF7E51BD-39D0-46FB-8C7C-DD18189DF34D}" type="presOf" srcId="{1C5A8755-2FFC-4EC7-868A-935C02368183}" destId="{6BF76865-717B-43A6-BB02-32B552F35CDD}" srcOrd="0" destOrd="0" presId="urn:microsoft.com/office/officeart/2005/8/layout/radial1"/>
    <dgm:cxn modelId="{E0C9669C-26F4-48EF-99C9-47434AC58364}" srcId="{B8C0B1C8-B2B9-400F-AABF-8485D682C9BA}" destId="{1C5A8755-2FFC-4EC7-868A-935C02368183}" srcOrd="1" destOrd="0" parTransId="{EE1B93C3-7F00-4B8C-9E74-C28DCB633462}" sibTransId="{780E5391-A680-45C7-B17D-E634A338763A}"/>
    <dgm:cxn modelId="{848D5712-20C4-4550-90EB-623031F20B5F}" srcId="{B8C0B1C8-B2B9-400F-AABF-8485D682C9BA}" destId="{3424415D-A506-4528-A875-275577C3D636}" srcOrd="2" destOrd="0" parTransId="{5FDA453C-1C4A-47CC-BC6E-98D9740634AF}" sibTransId="{498466F1-BB51-48A1-A25E-4E812D0348CD}"/>
    <dgm:cxn modelId="{0A362395-65AE-4F76-8496-D35155BF1D5A}" type="presParOf" srcId="{843A5684-D7CB-42F3-B88A-2496BD8411C7}" destId="{479392B8-76D1-4A5C-AB86-5DE6B3524CE9}" srcOrd="0" destOrd="0" presId="urn:microsoft.com/office/officeart/2005/8/layout/radial1"/>
    <dgm:cxn modelId="{1F69EF8F-F316-4C8B-9A26-83C46BBD3914}" type="presParOf" srcId="{843A5684-D7CB-42F3-B88A-2496BD8411C7}" destId="{B9B7DDC7-2E8F-4126-B340-CFACCA6FC990}" srcOrd="1" destOrd="0" presId="urn:microsoft.com/office/officeart/2005/8/layout/radial1"/>
    <dgm:cxn modelId="{4C1EB2D0-F05A-4B30-B1DE-61F8CEA8706F}" type="presParOf" srcId="{B9B7DDC7-2E8F-4126-B340-CFACCA6FC990}" destId="{AF5D57E6-B207-479F-85E3-D4246D055A32}" srcOrd="0" destOrd="0" presId="urn:microsoft.com/office/officeart/2005/8/layout/radial1"/>
    <dgm:cxn modelId="{D30D1DD5-808F-47C3-A5A5-CCF7001652C5}" type="presParOf" srcId="{843A5684-D7CB-42F3-B88A-2496BD8411C7}" destId="{CE9BA46E-22DD-49B7-9054-532344B08733}" srcOrd="2" destOrd="0" presId="urn:microsoft.com/office/officeart/2005/8/layout/radial1"/>
    <dgm:cxn modelId="{95B85490-C0AC-4D68-B855-7148467C16D2}" type="presParOf" srcId="{843A5684-D7CB-42F3-B88A-2496BD8411C7}" destId="{CE89B881-432E-4854-BED0-3DF835649CEA}" srcOrd="3" destOrd="0" presId="urn:microsoft.com/office/officeart/2005/8/layout/radial1"/>
    <dgm:cxn modelId="{67C89D9C-44EB-407C-A45E-A4B13C019DFB}" type="presParOf" srcId="{CE89B881-432E-4854-BED0-3DF835649CEA}" destId="{DD109CFA-2D39-40CB-AFAF-6C45E5926F90}" srcOrd="0" destOrd="0" presId="urn:microsoft.com/office/officeart/2005/8/layout/radial1"/>
    <dgm:cxn modelId="{5D8C1BB7-EF23-4BF4-BCD9-D37158466A32}" type="presParOf" srcId="{843A5684-D7CB-42F3-B88A-2496BD8411C7}" destId="{6BF76865-717B-43A6-BB02-32B552F35CDD}" srcOrd="4" destOrd="0" presId="urn:microsoft.com/office/officeart/2005/8/layout/radial1"/>
    <dgm:cxn modelId="{3DEACED0-AA07-4DBD-A938-7B314F3CE26F}" type="presParOf" srcId="{843A5684-D7CB-42F3-B88A-2496BD8411C7}" destId="{C32BA6B1-6F2B-4619-99B0-9D1DF20792BD}" srcOrd="5" destOrd="0" presId="urn:microsoft.com/office/officeart/2005/8/layout/radial1"/>
    <dgm:cxn modelId="{198815C9-62E6-445C-A563-750675B0324A}" type="presParOf" srcId="{C32BA6B1-6F2B-4619-99B0-9D1DF20792BD}" destId="{56497F68-985F-4670-AF26-6DD4CAEB5DB4}" srcOrd="0" destOrd="0" presId="urn:microsoft.com/office/officeart/2005/8/layout/radial1"/>
    <dgm:cxn modelId="{565DD34A-F165-421B-B542-4612D13BA4C2}" type="presParOf" srcId="{843A5684-D7CB-42F3-B88A-2496BD8411C7}" destId="{57BF1041-6235-4146-9B37-1A10286DB56A}" srcOrd="6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95E-3859-4BEE-BC82-752A6308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F46-ABC3-4C13-8FDB-64F99D8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C24-6666-463F-B44D-0B7A5BA5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38C-F537-4F18-86C8-EA184103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B54-3F71-4EE5-9D5E-FAA933D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5A8-F7DF-44B4-9FC1-541F0E7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07A-DAAF-4AD3-BF86-1842D5F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059-E63D-43EC-8ACB-980DCE6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EAB-4CC2-4565-B96A-60EFFC0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E10-DF1E-45D6-A05B-EE3EE13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729-A6D8-4FCF-90BB-045AEC4C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EEC-A972-4B15-961C-1392AF7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9435-BE24-4ED4-ACB3-69F7AC6C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3CDF-9922-4F84-A97F-131831A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C6E-17B5-43B7-B8BF-0AA3841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A81-AAA1-4126-9DA0-0152A7C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2EE-057F-45F7-A35A-BBB1371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12A7-43C1-4DE8-A0E4-7A8D6D0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73C-2E90-49BB-BA47-5648482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0DC-3805-41A5-ABCB-EEA43DA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7060-5A50-44A2-9DE1-2B2B133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7071-F6F2-416F-8108-76314BB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11A-1435-44AF-ACE1-7B4E52BD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EDB-DFA6-4F4A-967D-FDB8E078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2A85-BF12-4C38-B68F-039EC1D0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F61B-F497-4F4D-8B9A-8CB96570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81DA-E045-4B4B-959B-799296D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60A6-0DCF-4257-B930-D51259C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A6B1-4227-4BA5-AA84-B90AC56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9FB8-3DE5-4DE6-BF20-8B2E667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9BD0-7FAD-413F-B78D-8FB7123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2A1C-7FA6-4BF5-BBA1-1781AF5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FE27-24FF-45FD-B7A3-394303B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5FFD-953A-4FE0-89E6-12BEA9B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D07A-4A67-4292-8503-6715054C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57AA-2EEB-4F88-BCCF-E63577E2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DB01-4DC7-413B-B2C7-06A9C0D0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FB83-C8FB-4B90-9BC8-0E332BE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7DD6-B068-4996-A8B8-E3458BC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7E33-D09A-4F5E-8386-81EC78B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869A-4CC9-486F-A7AC-EC069AC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D511-1B98-4B49-AA58-3E5BA4E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F25F-60B2-452B-A773-C974829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53CC-FA0C-4F1B-AE68-832C86E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838C-10C4-41D6-A2E0-CA11221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C5B1-EE5D-4BFB-95A6-10A5DBCA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370F-2255-4E52-9E7B-D37EE0CA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F178-A854-4DB6-BD40-F3C87FE3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5CA8-D6B1-4E66-8BDF-508D1784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3253-516A-4F41-B135-48E2C1A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526E-41E5-41D1-9689-7163B562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E60D-C2FF-44D3-9301-097AA94D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BDC1-9145-47C7-9548-8B0DE9B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2DA97-F7C8-4F92-9BA0-BD69B0E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5300-6C31-4A8F-AAF5-8A1FA23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BA30-B4A3-4FF7-8672-C039B84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45E7-B578-4FAD-9235-8FC8C84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07B6-5E2B-4881-AA12-0E9E7F6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80E5-4741-4485-BB13-C9ADF656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4564-6D7E-4A32-B7E6-10394D84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69A4-4FE3-474B-8CB8-A6196089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A79C-ECD5-4909-8553-7E9DA881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255D-3C64-4D19-840A-1E6A5A9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723B-6094-4CEA-AB74-3E59489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D228-FE2D-4928-9DFA-7B59770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7699320" y="1996560"/>
            <a:ext cx="3200040" cy="10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D403-3A11-49B9-911E-6D70A98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F30B-E309-418F-B3B2-5B74AFC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2764-1DED-4BB2-BC3D-138AEAE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C813-7A0B-4F58-BA28-027EFBD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0625-D9E2-44F7-B819-49F527E8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118040" y="354420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8F29-B853-4672-AE36-1335E52D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0204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166360" y="83808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0204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166360" y="3544200"/>
            <a:ext cx="20606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84CD3-B318-4B95-AFC5-A4F9A91B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8040" y="838080"/>
            <a:ext cx="3123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544200"/>
            <a:ext cx="64004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ced0"/>
            </a:gs>
            <a:gs pos="100000">
              <a:srgbClr val="276f7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1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3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3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3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4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5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5" name="Group 103"/>
          <p:cNvGrpSpPr/>
          <p:nvPr/>
        </p:nvGrpSpPr>
        <p:grpSpPr>
          <a:xfrm>
            <a:off x="285840" y="4191120"/>
            <a:ext cx="11616840" cy="2734920"/>
            <a:chOff x="285840" y="4191120"/>
            <a:chExt cx="11616840" cy="2734920"/>
          </a:xfrm>
        </p:grpSpPr>
        <p:sp>
          <p:nvSpPr>
            <p:cNvPr id="56" name="Freeform 5"/>
            <p:cNvSpPr/>
            <p:nvPr/>
          </p:nvSpPr>
          <p:spPr>
            <a:xfrm flipH="1">
              <a:off x="2410560" y="6283800"/>
              <a:ext cx="6120" cy="1224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7" name="Line 6"/>
            <p:cNvSpPr/>
            <p:nvPr/>
          </p:nvSpPr>
          <p:spPr>
            <a:xfrm flipV="1">
              <a:off x="241128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 flipH="1" rot="21252600">
              <a:off x="792000" y="5625360"/>
              <a:ext cx="1632600" cy="656640"/>
            </a:xfrm>
            <a:custGeom>
              <a:avLst/>
              <a:gdLst>
                <a:gd name="textAreaLeft" fmla="*/ -360 w 1632600"/>
                <a:gd name="textAreaRight" fmla="*/ 1632600 w 163260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59" name="Group 10"/>
            <p:cNvGrpSpPr/>
            <p:nvPr/>
          </p:nvGrpSpPr>
          <p:grpSpPr>
            <a:xfrm>
              <a:off x="402120" y="5418720"/>
              <a:ext cx="453240" cy="488160"/>
              <a:chOff x="402120" y="5418720"/>
              <a:chExt cx="453240" cy="488160"/>
            </a:xfrm>
          </p:grpSpPr>
          <p:sp>
            <p:nvSpPr>
              <p:cNvPr id="60" name="Freeform 8"/>
              <p:cNvSpPr/>
              <p:nvPr/>
            </p:nvSpPr>
            <p:spPr>
              <a:xfrm flipH="1" rot="20793600">
                <a:off x="442080" y="545400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 flipH="1" rot="20793600">
                <a:off x="462240" y="546516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62" name="Freeform 10"/>
            <p:cNvSpPr/>
            <p:nvPr/>
          </p:nvSpPr>
          <p:spPr>
            <a:xfrm flipH="1" rot="19613400">
              <a:off x="1681920" y="5812920"/>
              <a:ext cx="502200" cy="552240"/>
            </a:xfrm>
            <a:custGeom>
              <a:avLst/>
              <a:gdLst>
                <a:gd name="textAreaLeft" fmla="*/ -360 w 502200"/>
                <a:gd name="textAreaRight" fmla="*/ 50220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 flipH="1">
              <a:off x="2304720" y="5031360"/>
              <a:ext cx="344160" cy="34416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 flipH="1">
              <a:off x="3150360" y="5854320"/>
              <a:ext cx="608400" cy="327240"/>
            </a:xfrm>
            <a:custGeom>
              <a:avLst/>
              <a:gdLst>
                <a:gd name="textAreaLeft" fmla="*/ 360 w 608400"/>
                <a:gd name="textAreaRight" fmla="*/ 60912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 flipH="1">
              <a:off x="3120120" y="5377320"/>
              <a:ext cx="349200" cy="39636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 flipH="1">
              <a:off x="1933200" y="5246640"/>
              <a:ext cx="198000" cy="198000"/>
            </a:xfrm>
            <a:custGeom>
              <a:avLst/>
              <a:gdLst>
                <a:gd name="textAreaLeft" fmla="*/ 360 w 198000"/>
                <a:gd name="textAreaRight" fmla="*/ 19872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 flipH="1">
              <a:off x="1592280" y="6046560"/>
              <a:ext cx="193320" cy="19800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68" name="Group 19"/>
            <p:cNvGrpSpPr/>
            <p:nvPr/>
          </p:nvGrpSpPr>
          <p:grpSpPr>
            <a:xfrm>
              <a:off x="749520" y="5783400"/>
              <a:ext cx="325440" cy="363960"/>
              <a:chOff x="749520" y="5783400"/>
              <a:chExt cx="325440" cy="363960"/>
            </a:xfrm>
          </p:grpSpPr>
          <p:sp>
            <p:nvSpPr>
              <p:cNvPr id="69" name="Freeform 28"/>
              <p:cNvSpPr/>
              <p:nvPr/>
            </p:nvSpPr>
            <p:spPr>
              <a:xfrm flipH="1">
                <a:off x="749160" y="5821200"/>
                <a:ext cx="309240" cy="324000"/>
              </a:xfrm>
              <a:custGeom>
                <a:avLst/>
                <a:gdLst>
                  <a:gd name="textAreaLeft" fmla="*/ -360 w 309240"/>
                  <a:gd name="textAreaRight" fmla="*/ 30924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 flipH="1">
                <a:off x="756720" y="5783400"/>
                <a:ext cx="318240" cy="3639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71" name="Freeform 30"/>
            <p:cNvSpPr/>
            <p:nvPr/>
          </p:nvSpPr>
          <p:spPr>
            <a:xfrm flipH="1">
              <a:off x="1415160" y="5482800"/>
              <a:ext cx="4601880" cy="879120"/>
            </a:xfrm>
            <a:custGeom>
              <a:avLst/>
              <a:gdLst>
                <a:gd name="textAreaLeft" fmla="*/ -360 w 4601880"/>
                <a:gd name="textAreaRight" fmla="*/ 460188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flipH="1">
              <a:off x="2806920" y="5393520"/>
              <a:ext cx="149040" cy="150480"/>
            </a:xfrm>
            <a:custGeom>
              <a:avLst/>
              <a:gdLst>
                <a:gd name="textAreaLeft" fmla="*/ 360 w 149040"/>
                <a:gd name="textAreaRight" fmla="*/ 14976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flipH="1">
              <a:off x="2050200" y="5522760"/>
              <a:ext cx="891720" cy="895320"/>
            </a:xfrm>
            <a:custGeom>
              <a:avLst/>
              <a:gdLst>
                <a:gd name="textAreaLeft" fmla="*/ -360 w 891720"/>
                <a:gd name="textAreaRight" fmla="*/ 89172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flipH="1">
              <a:off x="2216520" y="5688360"/>
              <a:ext cx="560880" cy="563760"/>
            </a:xfrm>
            <a:custGeom>
              <a:avLst/>
              <a:gdLst>
                <a:gd name="textAreaLeft" fmla="*/ 360 w 560880"/>
                <a:gd name="textAreaRight" fmla="*/ 56160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flipH="1">
              <a:off x="690480" y="4988520"/>
              <a:ext cx="96480" cy="8856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6" name="Freeform 73"/>
            <p:cNvSpPr/>
            <p:nvPr/>
          </p:nvSpPr>
          <p:spPr>
            <a:xfrm flipH="1">
              <a:off x="3956760" y="5064480"/>
              <a:ext cx="161640" cy="15984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7" name="Freeform 74"/>
            <p:cNvSpPr/>
            <p:nvPr/>
          </p:nvSpPr>
          <p:spPr>
            <a:xfrm flipH="1">
              <a:off x="3615840" y="6129360"/>
              <a:ext cx="281880" cy="28296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8" name="Freeform 75"/>
            <p:cNvSpPr/>
            <p:nvPr/>
          </p:nvSpPr>
          <p:spPr>
            <a:xfrm flipH="1">
              <a:off x="4164120" y="644076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9" name="Line 76"/>
            <p:cNvSpPr/>
            <p:nvPr/>
          </p:nvSpPr>
          <p:spPr>
            <a:xfrm>
              <a:off x="4163760" y="644076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0" name="Freeform 78"/>
            <p:cNvSpPr/>
            <p:nvPr/>
          </p:nvSpPr>
          <p:spPr>
            <a:xfrm flipH="1">
              <a:off x="3669480" y="5452920"/>
              <a:ext cx="718920" cy="72360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1" name="Freeform 79"/>
            <p:cNvSpPr/>
            <p:nvPr/>
          </p:nvSpPr>
          <p:spPr>
            <a:xfrm flipH="1">
              <a:off x="3841920" y="5624280"/>
              <a:ext cx="375840" cy="380520"/>
            </a:xfrm>
            <a:custGeom>
              <a:avLst/>
              <a:gdLst>
                <a:gd name="textAreaLeft" fmla="*/ 360 w 375840"/>
                <a:gd name="textAreaRight" fmla="*/ 37656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2" name="Freeform 82"/>
            <p:cNvSpPr/>
            <p:nvPr/>
          </p:nvSpPr>
          <p:spPr>
            <a:xfrm flipH="1">
              <a:off x="4379760" y="5958720"/>
              <a:ext cx="95040" cy="10440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3" name="Freeform 83"/>
            <p:cNvSpPr/>
            <p:nvPr/>
          </p:nvSpPr>
          <p:spPr>
            <a:xfrm flipH="1">
              <a:off x="4529160" y="5694840"/>
              <a:ext cx="474840" cy="47304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4" name="Freeform 84"/>
            <p:cNvSpPr/>
            <p:nvPr/>
          </p:nvSpPr>
          <p:spPr>
            <a:xfrm flipH="1">
              <a:off x="2731320" y="5297400"/>
              <a:ext cx="301680" cy="295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5" name="Freeform 80"/>
            <p:cNvSpPr/>
            <p:nvPr/>
          </p:nvSpPr>
          <p:spPr>
            <a:xfrm flipH="1" flipV="1">
              <a:off x="285840" y="46087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45792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5335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36684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89" name="Group 40"/>
            <p:cNvGrpSpPr/>
            <p:nvPr/>
          </p:nvGrpSpPr>
          <p:grpSpPr>
            <a:xfrm>
              <a:off x="653760" y="4705920"/>
              <a:ext cx="1454400" cy="1454400"/>
              <a:chOff x="653760" y="4705920"/>
              <a:chExt cx="1454400" cy="1454400"/>
            </a:xfrm>
          </p:grpSpPr>
          <p:sp>
            <p:nvSpPr>
              <p:cNvPr id="90" name="Freeform 41"/>
              <p:cNvSpPr/>
              <p:nvPr/>
            </p:nvSpPr>
            <p:spPr>
              <a:xfrm flipH="1" rot="21259800">
                <a:off x="803520" y="4858200"/>
                <a:ext cx="1154160" cy="1149120"/>
              </a:xfrm>
              <a:custGeom>
                <a:avLst/>
                <a:gdLst>
                  <a:gd name="textAreaLeft" fmla="*/ 360 w 1154160"/>
                  <a:gd name="textAreaRight" fmla="*/ 115488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1" name="Freeform 35"/>
              <p:cNvSpPr/>
              <p:nvPr/>
            </p:nvSpPr>
            <p:spPr>
              <a:xfrm flipH="1" rot="18790800">
                <a:off x="865440" y="4919760"/>
                <a:ext cx="1031040" cy="1026720"/>
              </a:xfrm>
              <a:custGeom>
                <a:avLst/>
                <a:gdLst>
                  <a:gd name="textAreaLeft" fmla="*/ 360 w 1031040"/>
                  <a:gd name="textAreaRight" fmla="*/ 103176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2" name="Freeform 41"/>
              <p:cNvSpPr/>
              <p:nvPr/>
            </p:nvSpPr>
            <p:spPr>
              <a:xfrm flipH="1" rot="756600">
                <a:off x="928440" y="4961160"/>
                <a:ext cx="903240" cy="943560"/>
              </a:xfrm>
              <a:custGeom>
                <a:avLst/>
                <a:gdLst>
                  <a:gd name="textAreaLeft" fmla="*/ -360 w 903240"/>
                  <a:gd name="textAreaRight" fmla="*/ 90324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 flipH="1" rot="19656600">
                <a:off x="1145880" y="5188320"/>
                <a:ext cx="468360" cy="489240"/>
              </a:xfrm>
              <a:custGeom>
                <a:avLst/>
                <a:gdLst>
                  <a:gd name="textAreaLeft" fmla="*/ -360 w 468360"/>
                  <a:gd name="textAreaRight" fmla="*/ 46836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4" name="Freeform 42"/>
              <p:cNvSpPr/>
              <p:nvPr/>
            </p:nvSpPr>
            <p:spPr>
              <a:xfrm flipH="1" rot="19656600">
                <a:off x="1292040" y="5344920"/>
                <a:ext cx="177120" cy="175680"/>
              </a:xfrm>
              <a:custGeom>
                <a:avLst/>
                <a:gdLst>
                  <a:gd name="textAreaLeft" fmla="*/ 360 w 177120"/>
                  <a:gd name="textAreaRight" fmla="*/ 17784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95" name="Freeform 32"/>
            <p:cNvSpPr/>
            <p:nvPr/>
          </p:nvSpPr>
          <p:spPr>
            <a:xfrm flipH="1">
              <a:off x="2304000" y="5777280"/>
              <a:ext cx="384120" cy="385560"/>
            </a:xfrm>
            <a:custGeom>
              <a:avLst/>
              <a:gdLst>
                <a:gd name="textAreaLeft" fmla="*/ -360 w 384120"/>
                <a:gd name="textAreaRight" fmla="*/ 38412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6" name="Freeform 80"/>
            <p:cNvSpPr/>
            <p:nvPr/>
          </p:nvSpPr>
          <p:spPr>
            <a:xfrm flipH="1" flipV="1">
              <a:off x="2834280" y="53971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7" name="Freeform 80"/>
            <p:cNvSpPr/>
            <p:nvPr/>
          </p:nvSpPr>
          <p:spPr>
            <a:xfrm flipH="1">
              <a:off x="4645800" y="5810040"/>
              <a:ext cx="242640" cy="242640"/>
            </a:xfrm>
            <a:custGeom>
              <a:avLst/>
              <a:gdLst>
                <a:gd name="textAreaLeft" fmla="*/ 360 w 242640"/>
                <a:gd name="textAreaRight" fmla="*/ 24336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8" name="Freeform 84"/>
            <p:cNvSpPr/>
            <p:nvPr/>
          </p:nvSpPr>
          <p:spPr>
            <a:xfrm flipH="1">
              <a:off x="3947760" y="5734080"/>
              <a:ext cx="164160" cy="160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9" name="Freeform 84"/>
            <p:cNvSpPr/>
            <p:nvPr/>
          </p:nvSpPr>
          <p:spPr>
            <a:xfrm flipH="1">
              <a:off x="4713480" y="5884560"/>
              <a:ext cx="105480" cy="10332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0" name="Oval 51"/>
            <p:cNvSpPr/>
            <p:nvPr/>
          </p:nvSpPr>
          <p:spPr>
            <a:xfrm>
              <a:off x="24210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771120" y="62838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 flipV="1">
              <a:off x="977076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 rot="347400">
              <a:off x="9763560" y="5625360"/>
              <a:ext cx="1632600" cy="657000"/>
            </a:xfrm>
            <a:custGeom>
              <a:avLst/>
              <a:gdLst>
                <a:gd name="textAreaLeft" fmla="*/ 0 w 1632600"/>
                <a:gd name="textAreaRight" fmla="*/ 1632960 w 1632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04" name="Group 55"/>
            <p:cNvGrpSpPr/>
            <p:nvPr/>
          </p:nvGrpSpPr>
          <p:grpSpPr>
            <a:xfrm>
              <a:off x="11333520" y="5419080"/>
              <a:ext cx="453240" cy="488520"/>
              <a:chOff x="11333520" y="5419080"/>
              <a:chExt cx="453240" cy="488520"/>
            </a:xfrm>
          </p:grpSpPr>
          <p:sp>
            <p:nvSpPr>
              <p:cNvPr id="105" name="Freeform 8"/>
              <p:cNvSpPr/>
              <p:nvPr/>
            </p:nvSpPr>
            <p:spPr>
              <a:xfrm flipH="1" flipV="1" rot="11606400">
                <a:off x="11394360" y="545472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 flipH="1" flipV="1" rot="11606400">
                <a:off x="11375640" y="546588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-360 h 406440"/>
                  <a:gd name="textAreaBottom" fmla="*/ 40644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 rot="1986600">
              <a:off x="10004040" y="5812920"/>
              <a:ext cx="502200" cy="55224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9539640" y="503136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8429400" y="5854320"/>
              <a:ext cx="608400" cy="32724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8718840" y="5377320"/>
              <a:ext cx="349200" cy="396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10057320" y="5246640"/>
              <a:ext cx="198000" cy="1980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10402200" y="6046560"/>
              <a:ext cx="193320" cy="19800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13" name="Group 64"/>
            <p:cNvGrpSpPr/>
            <p:nvPr/>
          </p:nvGrpSpPr>
          <p:grpSpPr>
            <a:xfrm>
              <a:off x="11113560" y="5783400"/>
              <a:ext cx="325080" cy="363960"/>
              <a:chOff x="11113560" y="5783400"/>
              <a:chExt cx="325080" cy="36396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1129400" y="5821200"/>
                <a:ext cx="309240" cy="32400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1113560" y="5783400"/>
                <a:ext cx="318240" cy="363960"/>
              </a:xfrm>
              <a:custGeom>
                <a:avLst/>
                <a:gdLst>
                  <a:gd name="textAreaLeft" fmla="*/ 0 w 318240"/>
                  <a:gd name="textAreaRight" fmla="*/ 31860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16" name="Freeform 30"/>
            <p:cNvSpPr/>
            <p:nvPr/>
          </p:nvSpPr>
          <p:spPr>
            <a:xfrm>
              <a:off x="6170760" y="5482800"/>
              <a:ext cx="4601880" cy="879120"/>
            </a:xfrm>
            <a:custGeom>
              <a:avLst/>
              <a:gdLst>
                <a:gd name="textAreaLeft" fmla="*/ 0 w 4601880"/>
                <a:gd name="textAreaRight" fmla="*/ 460224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2560" y="5393520"/>
              <a:ext cx="149040" cy="15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9245520" y="5522760"/>
              <a:ext cx="891720" cy="8953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9411120" y="5688360"/>
              <a:ext cx="560880" cy="56376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1401560" y="4988520"/>
              <a:ext cx="96480" cy="88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8069400" y="5064480"/>
              <a:ext cx="161640" cy="159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8290080" y="6129360"/>
              <a:ext cx="281880" cy="282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8012160" y="644076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4" name="Line 76"/>
            <p:cNvSpPr/>
            <p:nvPr/>
          </p:nvSpPr>
          <p:spPr>
            <a:xfrm flipH="1">
              <a:off x="8011800" y="6440760"/>
              <a:ext cx="129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5" name="Freeform 78"/>
            <p:cNvSpPr/>
            <p:nvPr/>
          </p:nvSpPr>
          <p:spPr>
            <a:xfrm>
              <a:off x="7799400" y="5452920"/>
              <a:ext cx="718920" cy="72360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6" name="Freeform 79"/>
            <p:cNvSpPr/>
            <p:nvPr/>
          </p:nvSpPr>
          <p:spPr>
            <a:xfrm>
              <a:off x="7970760" y="5624280"/>
              <a:ext cx="375840" cy="3805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7713720" y="5958720"/>
              <a:ext cx="95040" cy="1044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7183800" y="5694840"/>
              <a:ext cx="474840" cy="4730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9155520" y="5297400"/>
              <a:ext cx="301680" cy="295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 flipV="1">
              <a:off x="11806920" y="46087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1" name="Oval 82"/>
            <p:cNvSpPr/>
            <p:nvPr/>
          </p:nvSpPr>
          <p:spPr>
            <a:xfrm flipH="1">
              <a:off x="1165320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 flipH="1">
              <a:off x="116179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3" name="Oval 84"/>
            <p:cNvSpPr/>
            <p:nvPr/>
          </p:nvSpPr>
          <p:spPr>
            <a:xfrm flipH="1">
              <a:off x="1178460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0080720" y="4705920"/>
              <a:ext cx="1454400" cy="1454400"/>
              <a:chOff x="10080720" y="4705920"/>
              <a:chExt cx="1454400" cy="1454400"/>
            </a:xfrm>
          </p:grpSpPr>
          <p:sp>
            <p:nvSpPr>
              <p:cNvPr id="135" name="Freeform 86"/>
              <p:cNvSpPr/>
              <p:nvPr/>
            </p:nvSpPr>
            <p:spPr>
              <a:xfrm rot="340200">
                <a:off x="10230480" y="4858200"/>
                <a:ext cx="1154160" cy="1149120"/>
              </a:xfrm>
              <a:custGeom>
                <a:avLst/>
                <a:gdLst>
                  <a:gd name="textAreaLeft" fmla="*/ 0 w 1154160"/>
                  <a:gd name="textAreaRight" fmla="*/ 115452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6" name="Freeform 35"/>
              <p:cNvSpPr/>
              <p:nvPr/>
            </p:nvSpPr>
            <p:spPr>
              <a:xfrm rot="2809200">
                <a:off x="10292400" y="4919760"/>
                <a:ext cx="1031040" cy="10267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7" name="Freeform 41"/>
              <p:cNvSpPr/>
              <p:nvPr/>
            </p:nvSpPr>
            <p:spPr>
              <a:xfrm rot="20843400">
                <a:off x="10355760" y="4961160"/>
                <a:ext cx="903240" cy="94356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8" name="Freeform 41"/>
              <p:cNvSpPr/>
              <p:nvPr/>
            </p:nvSpPr>
            <p:spPr>
              <a:xfrm rot="1943400">
                <a:off x="10573560" y="5188320"/>
                <a:ext cx="468360" cy="4892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9" name="Freeform 42"/>
              <p:cNvSpPr/>
              <p:nvPr/>
            </p:nvSpPr>
            <p:spPr>
              <a:xfrm rot="1943400">
                <a:off x="10719360" y="5344920"/>
                <a:ext cx="177120" cy="17568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40" name="Freeform 32"/>
            <p:cNvSpPr/>
            <p:nvPr/>
          </p:nvSpPr>
          <p:spPr>
            <a:xfrm>
              <a:off x="9499320" y="5777280"/>
              <a:ext cx="384120" cy="385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 flipV="1">
              <a:off x="9258480" y="53971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2" name="Freeform 80"/>
            <p:cNvSpPr/>
            <p:nvPr/>
          </p:nvSpPr>
          <p:spPr>
            <a:xfrm>
              <a:off x="7300080" y="5810040"/>
              <a:ext cx="242640" cy="2426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8076600" y="5734080"/>
              <a:ext cx="164160" cy="1609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4" name="Freeform 84"/>
            <p:cNvSpPr/>
            <p:nvPr/>
          </p:nvSpPr>
          <p:spPr>
            <a:xfrm>
              <a:off x="7368480" y="5884560"/>
              <a:ext cx="105480" cy="1033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5" name="Oval 96"/>
            <p:cNvSpPr/>
            <p:nvPr/>
          </p:nvSpPr>
          <p:spPr>
            <a:xfrm flipH="1">
              <a:off x="96156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46" name="Group 97"/>
            <p:cNvGrpSpPr/>
            <p:nvPr/>
          </p:nvGrpSpPr>
          <p:grpSpPr>
            <a:xfrm>
              <a:off x="4718880" y="5256720"/>
              <a:ext cx="2996280" cy="1669320"/>
              <a:chOff x="4718880" y="5256720"/>
              <a:chExt cx="2996280" cy="1669320"/>
            </a:xfrm>
          </p:grpSpPr>
          <p:sp>
            <p:nvSpPr>
              <p:cNvPr id="147" name="Freeform 67"/>
              <p:cNvSpPr/>
              <p:nvPr/>
            </p:nvSpPr>
            <p:spPr>
              <a:xfrm rot="8881800">
                <a:off x="6321600" y="5534640"/>
                <a:ext cx="1172880" cy="1169280"/>
              </a:xfrm>
              <a:custGeom>
                <a:avLst/>
                <a:gdLst>
                  <a:gd name="textAreaLeft" fmla="*/ 0 w 1172880"/>
                  <a:gd name="textAreaRight" fmla="*/ 1173240 w 1172880"/>
                  <a:gd name="textAreaTop" fmla="*/ 0 h 1169280"/>
                  <a:gd name="textAreaBottom" fmla="*/ 1169640 h 1169280"/>
                </a:gdLst>
                <a:ahLst/>
                <a:rect l="textAreaLeft" t="textAreaTop" r="textAreaRight" b="textAreaBottom"/>
                <a:pathLst>
                  <a:path w="10000" h="11388">
                    <a:moveTo>
                      <a:pt x="10000" y="9473"/>
                    </a:moveTo>
                    <a:lnTo>
                      <a:pt x="9799" y="9473"/>
                    </a:lnTo>
                    <a:cubicBezTo>
                      <a:pt x="9799" y="9473"/>
                      <a:pt x="9697" y="9357"/>
                      <a:pt x="9598" y="9127"/>
                    </a:cubicBezTo>
                    <a:cubicBezTo>
                      <a:pt x="9052" y="6455"/>
                      <a:pt x="4912" y="-1914"/>
                      <a:pt x="2972" y="399"/>
                    </a:cubicBezTo>
                    <a:cubicBezTo>
                      <a:pt x="1036" y="3143"/>
                      <a:pt x="7079" y="8438"/>
                      <a:pt x="8686" y="9130"/>
                    </a:cubicBezTo>
                    <a:cubicBezTo>
                      <a:pt x="6064" y="8088"/>
                      <a:pt x="302" y="5769"/>
                      <a:pt x="8" y="8998"/>
                    </a:cubicBezTo>
                    <a:cubicBezTo>
                      <a:pt x="-286" y="12227"/>
                      <a:pt x="6911" y="11984"/>
                      <a:pt x="10000" y="9473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8" name="Freeform 67"/>
              <p:cNvSpPr/>
              <p:nvPr/>
            </p:nvSpPr>
            <p:spPr>
              <a:xfrm rot="21088200">
                <a:off x="4803840" y="5332320"/>
                <a:ext cx="1116000" cy="1228320"/>
              </a:xfrm>
              <a:custGeom>
                <a:avLst/>
                <a:gdLst>
                  <a:gd name="textAreaLeft" fmla="*/ 0 w 1116000"/>
                  <a:gd name="textAreaRight" fmla="*/ 1116360 w 1116000"/>
                  <a:gd name="textAreaTop" fmla="*/ 0 h 1228320"/>
                  <a:gd name="textAreaBottom" fmla="*/ 1228680 h 1228320"/>
                </a:gdLst>
                <a:ahLst/>
                <a:rect l="textAreaLeft" t="textAreaTop" r="textAreaRight" b="textAreaBottom"/>
                <a:pathLst>
                  <a:path w="10010" h="10000">
                    <a:moveTo>
                      <a:pt x="10010" y="6240"/>
                    </a:moveTo>
                    <a:cubicBezTo>
                      <a:pt x="9939" y="6240"/>
                      <a:pt x="9869" y="6288"/>
                      <a:pt x="9798" y="6240"/>
                    </a:cubicBezTo>
                    <a:cubicBezTo>
                      <a:pt x="9727" y="6191"/>
                      <a:pt x="9692" y="6143"/>
                      <a:pt x="9586" y="5952"/>
                    </a:cubicBezTo>
                    <a:cubicBezTo>
                      <a:pt x="8966" y="4582"/>
                      <a:pt x="4839" y="-1788"/>
                      <a:pt x="2190" y="487"/>
                    </a:cubicBezTo>
                    <a:cubicBezTo>
                      <a:pt x="-459" y="2761"/>
                      <a:pt x="8035" y="5700"/>
                      <a:pt x="8627" y="5954"/>
                    </a:cubicBezTo>
                    <a:cubicBezTo>
                      <a:pt x="5379" y="6029"/>
                      <a:pt x="-792" y="6539"/>
                      <a:pt x="84" y="9220"/>
                    </a:cubicBezTo>
                    <a:cubicBezTo>
                      <a:pt x="1034" y="11720"/>
                      <a:pt x="8552" y="7527"/>
                      <a:pt x="10010" y="6240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9" name="Freeform 105"/>
              <p:cNvSpPr/>
              <p:nvPr/>
            </p:nvSpPr>
            <p:spPr>
              <a:xfrm>
                <a:off x="5386680" y="5319360"/>
                <a:ext cx="1356840" cy="1363680"/>
              </a:xfrm>
              <a:custGeom>
                <a:avLst/>
                <a:gdLst>
                  <a:gd name="textAreaLeft" fmla="*/ 0 w 1356840"/>
                  <a:gd name="textAreaRight" fmla="*/ 1357200 w 135684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200" h="200">
                    <a:moveTo>
                      <a:pt x="183" y="119"/>
                    </a:moveTo>
                    <a:cubicBezTo>
                      <a:pt x="190" y="113"/>
                      <a:pt x="194" y="105"/>
                      <a:pt x="196" y="97"/>
                    </a:cubicBezTo>
                    <a:cubicBezTo>
                      <a:pt x="200" y="81"/>
                      <a:pt x="194" y="64"/>
                      <a:pt x="180" y="50"/>
                    </a:cubicBezTo>
                    <a:cubicBezTo>
                      <a:pt x="173" y="32"/>
                      <a:pt x="161" y="19"/>
                      <a:pt x="145" y="15"/>
                    </a:cubicBezTo>
                    <a:cubicBezTo>
                      <a:pt x="137" y="13"/>
                      <a:pt x="128" y="14"/>
                      <a:pt x="120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2" y="10"/>
                      <a:pt x="105" y="6"/>
                      <a:pt x="97" y="4"/>
                    </a:cubicBezTo>
                    <a:cubicBezTo>
                      <a:pt x="81" y="0"/>
                      <a:pt x="64" y="7"/>
                      <a:pt x="50" y="20"/>
                    </a:cubicBezTo>
                    <a:cubicBezTo>
                      <a:pt x="32" y="27"/>
                      <a:pt x="19" y="39"/>
                      <a:pt x="15" y="55"/>
                    </a:cubicBezTo>
                    <a:cubicBezTo>
                      <a:pt x="13" y="63"/>
                      <a:pt x="14" y="72"/>
                      <a:pt x="17" y="80"/>
                    </a:cubicBezTo>
                    <a:cubicBezTo>
                      <a:pt x="17" y="81"/>
                      <a:pt x="17" y="81"/>
                      <a:pt x="17" y="81"/>
                    </a:cubicBezTo>
                    <a:cubicBezTo>
                      <a:pt x="17" y="82"/>
                      <a:pt x="17" y="82"/>
                      <a:pt x="17" y="82"/>
                    </a:cubicBezTo>
                    <a:cubicBezTo>
                      <a:pt x="10" y="88"/>
                      <a:pt x="6" y="95"/>
                      <a:pt x="4" y="103"/>
                    </a:cubicBezTo>
                    <a:cubicBezTo>
                      <a:pt x="0" y="119"/>
                      <a:pt x="6" y="136"/>
                      <a:pt x="20" y="150"/>
                    </a:cubicBezTo>
                    <a:cubicBezTo>
                      <a:pt x="27" y="168"/>
                      <a:pt x="39" y="181"/>
                      <a:pt x="55" y="185"/>
                    </a:cubicBezTo>
                    <a:cubicBezTo>
                      <a:pt x="63" y="187"/>
                      <a:pt x="72" y="186"/>
                      <a:pt x="80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8" y="190"/>
                      <a:pt x="95" y="195"/>
                      <a:pt x="103" y="196"/>
                    </a:cubicBezTo>
                    <a:cubicBezTo>
                      <a:pt x="119" y="200"/>
                      <a:pt x="136" y="194"/>
                      <a:pt x="150" y="180"/>
                    </a:cubicBezTo>
                    <a:cubicBezTo>
                      <a:pt x="168" y="174"/>
                      <a:pt x="181" y="161"/>
                      <a:pt x="185" y="146"/>
                    </a:cubicBezTo>
                    <a:cubicBezTo>
                      <a:pt x="187" y="137"/>
                      <a:pt x="186" y="129"/>
                      <a:pt x="183" y="120"/>
                    </a:cubicBezTo>
                    <a:cubicBezTo>
                      <a:pt x="183" y="120"/>
                      <a:pt x="183" y="120"/>
                      <a:pt x="183" y="120"/>
                    </a:cubicBezTo>
                    <a:lnTo>
                      <a:pt x="183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8bc4"/>
                  </a:gs>
                  <a:gs pos="100000">
                    <a:srgbClr val="68376c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0" name="Freeform 106"/>
              <p:cNvSpPr/>
              <p:nvPr/>
            </p:nvSpPr>
            <p:spPr>
              <a:xfrm>
                <a:off x="5596920" y="55328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5842080" y="5778000"/>
                <a:ext cx="446040" cy="44604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005840"/>
            <a:ext cx="9143640" cy="26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en-US" sz="7200" spc="-1" strike="noStrike">
                <a:solidFill>
                  <a:srgbClr val="ffffff"/>
                </a:solidFill>
                <a:latin typeface="Century Schoolbook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9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0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0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2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22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2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22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3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23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23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24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3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096171F-21C9-4117-AE7A-3BC57A9132C7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287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96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97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16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7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319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28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329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3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4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335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336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7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8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9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40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627876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dt" idx="4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5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6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E5987A-9F22-4336-AF39-E9DCFC4086D9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384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5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1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394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9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0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2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13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414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416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7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8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9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3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25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26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7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0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1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32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433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4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5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6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7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body"/>
          </p:nvPr>
        </p:nvSpPr>
        <p:spPr>
          <a:xfrm>
            <a:off x="152388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627876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body"/>
          </p:nvPr>
        </p:nvSpPr>
        <p:spPr>
          <a:xfrm>
            <a:off x="627876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dt" idx="7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 type="ftr" idx="8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8"/>
          <p:cNvSpPr>
            <a:spLocks noGrp="1"/>
          </p:cNvSpPr>
          <p:nvPr>
            <p:ph type="sldNum" idx="9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D1AA9B1-5E9C-4E1A-94A6-61A73BB30AEE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483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4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5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6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7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8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89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0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492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493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4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512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513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14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515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19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0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2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524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525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6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7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8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29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531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532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3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4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5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536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10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1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2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46DAF0-5584-4572-9E19-3BEAF77159C4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579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0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1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2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3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4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6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588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589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0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7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4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5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07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608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609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10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611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2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3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4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5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6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7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620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621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2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3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4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5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6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627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628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29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0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1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632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dt" idx="13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14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15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F39DF9-E956-4A0D-8263-BAE9911D95A3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Click to edit the title text format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675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6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7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8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79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0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1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684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685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6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7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8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89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1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2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3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4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8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699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0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1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2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3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704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705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06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707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1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2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3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4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716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717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18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19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0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2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723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724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5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6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7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728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29" name="Group 7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730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1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2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3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4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5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7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body"/>
          </p:nvPr>
        </p:nvSpPr>
        <p:spPr>
          <a:xfrm>
            <a:off x="7697880" y="4258440"/>
            <a:ext cx="3202920" cy="17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dt" idx="16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17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 type="sldNum" idx="18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6AC61E-DF6C-4F8C-AD23-DDC27E992336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1005840"/>
            <a:ext cx="9143640" cy="26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紫色小花清凉爽洁通用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523880" y="3719520"/>
            <a:ext cx="91436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Lis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Ch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787" name="Content Placeholder 5"/>
          <p:cNvGraphicFramePr/>
          <p:nvPr/>
        </p:nvGraphicFramePr>
        <p:xfrm>
          <a:off x="1523880" y="1900080"/>
          <a:ext cx="9143640" cy="4114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Tab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790" name="Content Placeholder 4"/>
          <p:cNvGraphicFramePr/>
          <p:nvPr/>
        </p:nvGraphicFramePr>
        <p:xfrm>
          <a:off x="6278400" y="1905120"/>
          <a:ext cx="4389120" cy="2507040"/>
        </p:xfrm>
        <a:graphic>
          <a:graphicData uri="http://schemas.openxmlformats.org/drawingml/2006/table">
            <a:tbl>
              <a:tblPr/>
              <a:tblGrid>
                <a:gridCol w="1463040"/>
                <a:gridCol w="1463040"/>
                <a:gridCol w="1463040"/>
              </a:tblGrid>
              <a:tr h="62676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Smart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33488354"/>
              </p:ext>
            </p:extLst>
          </p:nvPr>
        </p:nvGraphicFramePr>
        <p:xfrm>
          <a:off x="6278400" y="1905120"/>
          <a:ext cx="4389120" cy="4114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52388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78760" y="1905120"/>
            <a:ext cx="4388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278760" y="2588040"/>
            <a:ext cx="4388760" cy="34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211320" y="64227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b4a9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99320" y="1996560"/>
            <a:ext cx="3200040" cy="219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4004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7697880" y="4258440"/>
            <a:ext cx="3202920" cy="17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141aba3b8f8cb7f331be6546df69db50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f8e4ef66d87525153bd8907774ed28f8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22BC43D3-F613-494D-9E01-C9C518561F07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989990F5-3EBF-4065-8150-52244308CF40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B4B737B7-DF0C-49BE-A34F-CB638C39D0D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9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8:41:45Z</dcterms:created>
  <dc:creator/>
  <dc:description/>
  <dc:language>en-US</dc:language>
  <cp:lastModifiedBy/>
  <dcterms:modified xsi:type="dcterms:W3CDTF">2016-02-23T03:04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PresentationFormat">
    <vt:lpwstr>宽屏</vt:lpwstr>
  </property>
  <property fmtid="{D5CDD505-2E9C-101B-9397-08002B2CF9AE}" pid="8" name="ScenarioTags">
    <vt:lpwstr/>
  </property>
  <property fmtid="{D5CDD505-2E9C-101B-9397-08002B2CF9AE}" pid="9" name="Slides">
    <vt:r8>9</vt:r8>
  </property>
</Properties>
</file>