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53307E-4C99-40DF-A17F-41FD8663B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3CEB26-5DC1-4826-8AAA-F908683A8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5FCAE2-6A14-4B65-8C21-C41DAEA22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3749A9-7F1A-4365-AEF6-00F7921A5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9562A1-1DD5-479C-B473-7C0249E2F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776A65-EBEC-4A8D-A597-2BE21BAAA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0B87D9-81D3-43C1-B12E-D503261E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D7BDD2-4AB0-4BD2-A248-E0464245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8B5071-E6E9-4199-9159-8DDDF6BF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1622F1-0183-43E1-843C-587752B06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B197AA-4E1E-4C00-A54D-1BB5F4BD9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369373-3AA3-41A6-813F-7376989D5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920000" y="6578640"/>
            <a:ext cx="13320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  <a:ea typeface="楷体_GB2312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飞守角制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FE5D2-B583-40EA-A3E2-B86BB9A62F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1859040" y="3149640"/>
            <a:ext cx="667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000"/>
                </a:solidFill>
                <a:latin typeface="汉仪中圆简"/>
                <a:ea typeface="汉仪中圆简"/>
              </a:rPr>
              <a:t>植物通用</a:t>
            </a:r>
            <a:r>
              <a:rPr b="0" lang="en-US" sz="4000" spc="-1" strike="noStrike">
                <a:solidFill>
                  <a:srgbClr val="ffc000"/>
                </a:solidFill>
                <a:latin typeface="汉仪中圆简"/>
                <a:ea typeface="汉仪中圆简"/>
              </a:rPr>
              <a:t>PPT</a:t>
            </a:r>
            <a:r>
              <a:rPr b="0" lang="zh-CN" sz="4000" spc="-1" strike="noStrike">
                <a:solidFill>
                  <a:srgbClr val="ffc000"/>
                </a:solidFill>
                <a:latin typeface="汉仪中圆简"/>
                <a:ea typeface="汉仪中圆简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页脚占位符 3"/>
          <p:cNvSpPr/>
          <p:nvPr/>
        </p:nvSpPr>
        <p:spPr>
          <a:xfrm>
            <a:off x="7920000" y="6578640"/>
            <a:ext cx="13320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小飞守角制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07:10:14Z</dcterms:created>
  <dc:creator>微软用户</dc:creator>
  <dc:description/>
  <dc:language>en-US</dc:language>
  <cp:lastModifiedBy>王玉清</cp:lastModifiedBy>
  <dcterms:modified xsi:type="dcterms:W3CDTF">2016-02-22T03:36:48Z</dcterms:modified>
  <cp:revision>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