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423-8C94-486B-B561-1B7F0CA2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9C7-B628-4E12-8BF5-C0C95AFA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C28-5344-4265-8184-EFF68614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AAA-B360-4989-B1ED-BDC2E6D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FAE2-346F-4E29-887D-73578ED1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16A-0503-43C6-82EA-D9D556B1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1A0-9DD4-4CA7-A168-DE107F02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D75B-1CCB-4AB8-BE10-76775F0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C04-C35A-478A-8F8D-4152593A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103A-8ED0-40AF-9C4F-7A1CDC63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0E2-BF8D-4030-A3C1-24D98666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426-B6CB-4EA2-87EA-CBD82AD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439-6E17-4299-9362-E188BA2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9ED-BC72-480F-8BD6-E79882E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C36-F701-4233-80F4-B500961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DA8-E2AD-470D-975B-1372CC14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4B21-0F3E-4334-9992-35CC88AB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E2A-750B-4CBB-B144-209E257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70D-D1A8-4435-9394-0D4D08B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A4F-7490-4693-B2F6-B5CA45E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D56-E3A1-4E9E-85DF-3FA245B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640-BBC2-488E-96E7-87F83AE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11C-1D1D-466C-B5DC-30B053E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38C-AF6F-4BE8-8BC7-1E39E8D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B785-2063-4AEF-9105-30E60385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2AC-5082-4AB3-AE47-DBF9CD600A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E:\VCD_PLAY.EX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712320" y="40172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笛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0465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60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吃、喝、住、穿是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生存所依赖的物质条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7754760" y="6462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90792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没有精神寄托，灵魂就无所依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09720" y="299736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什么鲁滨孙要写日记、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圣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19040" y="620640"/>
            <a:ext cx="815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鲁滨孙在逆境中的自我安慰算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算逃避现实？为什么？你试过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安慰自己吗？请说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304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创作一则鲁滨孙的日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95280" y="1847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六六九年九月三十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朱4"/>
          <p:cNvPicPr/>
          <p:nvPr/>
        </p:nvPicPr>
        <p:blipFill>
          <a:blip r:embed="rId1"/>
          <a:stretch/>
        </p:blipFill>
        <p:spPr>
          <a:xfrm>
            <a:off x="1371600" y="3828960"/>
            <a:ext cx="1890720" cy="2362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3041640" y="2655720"/>
            <a:ext cx="429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651640" y="260280"/>
            <a:ext cx="32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鲁滨孙身上拥有人类哪些优秀品质？请概括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鲁滨逊"/>
          <p:cNvPicPr/>
          <p:nvPr/>
        </p:nvPicPr>
        <p:blipFill>
          <a:blip r:embed="rId1"/>
          <a:stretch/>
        </p:blipFill>
        <p:spPr>
          <a:xfrm>
            <a:off x="0" y="0"/>
            <a:ext cx="56642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6290280" y="3056040"/>
            <a:ext cx="127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坚忍不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勤勉实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创造进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135680" y="0"/>
            <a:ext cx="4230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个人并不是生来就被打败的，你尽可以把他消灭掉，可就是打不败他。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海明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476280"/>
            <a:ext cx="83055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个人、一个民族、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国家，只要不畏艰险，勇于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登，一定能达到光辉的顶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温家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7D9-5D78-453C-A3F4-ED69D659CB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8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假如你像鲁滨孙被弃荒岛，你会怎样想？将怎么做？你能生存下来吗？发挥想象，写一篇短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473760" y="50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836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福，英国小说家，出生于伦敦。他受过中等教育，但没有受过大学古典文学教育。他早年做过商人，经营过烟酒、羊毛纺织、制砖业。经商屡屡失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开始写作小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第一部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滨孙漂流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表，大受欢迎，同年又出版了续篇。他的小说继承了文艺复兴时期西班牙流浪汉小说的传统，往往写一个出身低微的人，靠机智和个人奋斗致富，获得成功。笛福对他所描写的人物理解较深，他善于写个人在不利的环境中克服困难。他的主人公有聪明才智，充满活力，不信天命，相信常识。情节结构不落斧凿痕迹。尤善长描写环境，细节逼真，语言自然，故事都是主人公自述，使读者感到亲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712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泅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qi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   游水。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 jià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折磨，摧残、践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沮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j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丧：   灰心失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g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浅 ：船因进入浅水而不能行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斫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zhu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痕： 斫，砍和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御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y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抵挡，抵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饿之虞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y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虞，忧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68240" y="316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读准下列字的字音和理解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0920" y="62064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闻所未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听也没有听说过 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郑重其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形容态度非常严肃认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知足安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满足于已经得到的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毛之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不长树木或庄稼的地方。形容土地荒凉、贫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聊以自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姑且用来安慰自己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549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鲁滨孙在荒岛的思考经历了 哪几个阶段？简单概括出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28680" y="2492280"/>
            <a:ext cx="422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生存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4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物质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三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0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精神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未标题-4"/>
          <p:cNvPicPr/>
          <p:nvPr/>
        </p:nvPicPr>
        <p:blipFill>
          <a:blip r:embed="rId1"/>
          <a:stretch/>
        </p:blipFill>
        <p:spPr>
          <a:xfrm>
            <a:off x="0" y="0"/>
            <a:ext cx="4818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529320" y="56880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227720" y="333360"/>
            <a:ext cx="100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生存，还是毁灭，这是一个值得思考的问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79280" y="62064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认为自己的前途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，我既然被凶猛的风暴完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原定的航线，远离人类贸易正常航线好几百海里以外，流落到这个荒上，那么，我就有充分的理由认为这是老天爷的意思，要我在这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地方，在这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情况下度过我的余生。一想到这些，我的眼泪就不由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有时我会发出疑问，为什么苍天要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所造出的生灵，害得他这样不幸，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致使人找不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对这种生活产生感谢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74080" y="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在空白出填上适合的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23240" y="473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暗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091960" y="466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刮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396320" y="4665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零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485040" y="4592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独凄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68680" y="525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夺眶而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598840" y="5227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328640" y="5227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立无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3720" y="5154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沮丧无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1908000" y="587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87280" y="1125360"/>
            <a:ext cx="68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陷绝境的鲁滨孙找到了哪些活下去的理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未标题-5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976680" y="-562320"/>
            <a:ext cx="1277640" cy="81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鲁滨孙在荒岛上做了哪些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5:03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9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