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7.png" ContentType="image/png"/>
  <Override PartName="/ppt/media/image12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032-2DFC-4790-86E7-336B6F01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CC6-125B-4E35-80A9-EA11993F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8E3-D88E-4302-8675-6A48FC8F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7C5-2796-4FBF-A10B-0DD7AAB1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379D-C0EB-409B-8E00-36FCAB6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4E6-9931-4081-B33C-590AFC9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0EA-6F2E-43BF-9A3E-B086A31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8A6-ED11-4384-9314-FCD45F8E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152-3862-443D-9892-8550EAD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DD1-9308-457E-9392-E7B6A9C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19A1-E058-4E87-8A1A-FC31FC0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9B7-E3D9-4B2D-A618-E79D482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9846-B726-4C87-AF67-432216A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626-9027-4B47-84D2-8F47E73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B35F-15E6-472D-9CE7-AE492004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B8A-CA2F-45B7-8437-5A13E895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8B86-586C-4892-BC8C-E5DCA28C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64B-ECD4-4863-B816-421C5B0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F82-F865-435F-A08B-536E206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8FF-F7A0-4BD0-AFDB-157C6E8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7F5-ED49-4A7F-B150-C735988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0D4-ADA3-4955-927A-4CD32EC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112-93FC-45F5-8D3A-B12EBBD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054-FD1C-43EE-A5AA-F0A4F03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292A-B96C-4F16-B42A-B4129BBC14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725-2C03-488B-87AF-C358FDE35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34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000"/>
                </a:solidFill>
                <a:latin typeface="华文新魏"/>
                <a:ea typeface="华文新魏"/>
              </a:rPr>
              <a:t>人教新课标三年级品德与社会下册第二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84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换个角度想一想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32" descr="\\192.168.3.88\123$\小学品德与社会\三年级下\换个角度想一想（一）\p27-2.png"/>
          <p:cNvPicPr/>
          <p:nvPr/>
        </p:nvPicPr>
        <p:blipFill>
          <a:blip r:embed="rId1"/>
          <a:stretch/>
        </p:blipFill>
        <p:spPr>
          <a:xfrm>
            <a:off x="2028960" y="2198520"/>
            <a:ext cx="5086080" cy="4583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6" descr="D:\work\大全集\下学期送审\psd\品德与社会\03.gif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27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AutoShape 1030"/>
          <p:cNvSpPr/>
          <p:nvPr/>
        </p:nvSpPr>
        <p:spPr>
          <a:xfrm>
            <a:off x="380880" y="2532240"/>
            <a:ext cx="3048120" cy="708480"/>
          </a:xfrm>
          <a:prstGeom prst="cloudCallout">
            <a:avLst>
              <a:gd name="adj1" fmla="val 48898"/>
              <a:gd name="adj2" fmla="val 22795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李勇，没关系，我家有钱，以后你需要钱说一声，我给你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AutoShape 1031"/>
          <p:cNvSpPr/>
          <p:nvPr/>
        </p:nvSpPr>
        <p:spPr>
          <a:xfrm>
            <a:off x="4343400" y="2460600"/>
            <a:ext cx="2668680" cy="708480"/>
          </a:xfrm>
          <a:prstGeom prst="cloudCallout">
            <a:avLst>
              <a:gd name="adj1" fmla="val -44902"/>
              <a:gd name="adj2" fmla="val 100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谁要你的钱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AutoShape 1033"/>
          <p:cNvSpPr/>
          <p:nvPr/>
        </p:nvSpPr>
        <p:spPr>
          <a:xfrm>
            <a:off x="6094440" y="3398760"/>
            <a:ext cx="2668680" cy="1272600"/>
          </a:xfrm>
          <a:prstGeom prst="cloudCallout">
            <a:avLst>
              <a:gd name="adj1" fmla="val -43407"/>
              <a:gd name="adj2" fmla="val 1205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好心帮助他，他为什么生气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" name="Picture 5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74320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114800" y="2590920"/>
            <a:ext cx="426708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当别人议论李勇时，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  他会是怎样的心情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学好心想帮助他，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   李勇为什么生气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27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9" name="Picture 1028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071720" y="2643120"/>
            <a:ext cx="232704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29"/>
          <p:cNvSpPr/>
          <p:nvPr/>
        </p:nvSpPr>
        <p:spPr>
          <a:xfrm>
            <a:off x="3505320" y="2590920"/>
            <a:ext cx="510516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联系自己的生活实际想一想：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当自己的心情不好，或遇到  　　麻烦时，自己希望别人怎　   么对待自己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如果别人在旁边议论自己，　　自己会是怎样的感觉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312408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4" name="Picture 4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74320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114800" y="2590920"/>
            <a:ext cx="426708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以小组为单位，结合　 大家的生活体验，设计　 情境，演一演，怎样去　 宽慰别人，帮助别人解　 除烦恼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D51-4DEE-43A1-B041-737C6979155F}" type="slidenum">
              <a:rPr b="0" lang="zh-CN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:\work\大全集\下学期送审\psd\品德与社会\04.gif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3809880" y="2362320"/>
            <a:ext cx="4267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采访一下和你闹过不愉快的同学或朋友，问问当时他们是怎么想的。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2" name="Picture 11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666880"/>
            <a:ext cx="23274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work\大全集\下学期送审\psd\品德与社会\01.gif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20968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267080" y="2057400"/>
            <a:ext cx="3810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你有没有和同学闹过不愉快呢？原因是什么？你觉得你有错吗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Picture 15" descr="\\192.168.3.88\123$\小学品德与社会\三年级下\换个角度想一想（一）\p26-1.png"/>
          <p:cNvPicPr/>
          <p:nvPr/>
        </p:nvPicPr>
        <p:blipFill>
          <a:blip r:embed="rId2"/>
          <a:stretch/>
        </p:blipFill>
        <p:spPr>
          <a:xfrm>
            <a:off x="1600200" y="2671920"/>
            <a:ext cx="5791320" cy="4109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6"/>
          <p:cNvSpPr/>
          <p:nvPr/>
        </p:nvSpPr>
        <p:spPr>
          <a:xfrm>
            <a:off x="838080" y="3146400"/>
            <a:ext cx="2286000" cy="708480"/>
          </a:xfrm>
          <a:prstGeom prst="cloudCallout">
            <a:avLst>
              <a:gd name="adj1" fmla="val 60703"/>
              <a:gd name="adj2" fmla="val 50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不想玩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6018120" y="1555920"/>
            <a:ext cx="2668680" cy="708480"/>
          </a:xfrm>
          <a:prstGeom prst="cloudCallout">
            <a:avLst>
              <a:gd name="adj1" fmla="val -60277"/>
              <a:gd name="adj2" fmla="val 10875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咱们三个玩跳皮筋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5713560" y="3984480"/>
            <a:ext cx="2744640" cy="708480"/>
          </a:xfrm>
          <a:prstGeom prst="cloudCallout">
            <a:avLst>
              <a:gd name="adj1" fmla="val -42722"/>
              <a:gd name="adj2" fmla="val -5934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来吧，差一个没法玩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6" name="Picture 8" descr="\\192.168.3.88\123$\小学品德与社会\三年级下\换个角度想一想（一）\p26-2.png"/>
          <p:cNvPicPr/>
          <p:nvPr/>
        </p:nvPicPr>
        <p:blipFill>
          <a:blip r:embed="rId2"/>
          <a:stretch/>
        </p:blipFill>
        <p:spPr>
          <a:xfrm>
            <a:off x="1542960" y="2793960"/>
            <a:ext cx="6686640" cy="3519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679320" y="2271600"/>
            <a:ext cx="2651400" cy="1272600"/>
          </a:xfrm>
          <a:prstGeom prst="cloudCallout">
            <a:avLst>
              <a:gd name="adj1" fmla="val 65324"/>
              <a:gd name="adj2" fmla="val 5967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也值得生气？我不就是不想玩嘛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173640" y="2224080"/>
            <a:ext cx="2359080" cy="708480"/>
          </a:xfrm>
          <a:prstGeom prst="cloudCallout">
            <a:avLst>
              <a:gd name="adj1" fmla="val -62083"/>
              <a:gd name="adj2" fmla="val 15025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以后不找她玩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5789520" y="4334040"/>
            <a:ext cx="2516400" cy="708480"/>
          </a:xfrm>
          <a:prstGeom prst="cloudCallout">
            <a:avLst>
              <a:gd name="adj1" fmla="val 1606"/>
              <a:gd name="adj2" fmla="val -10043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哼，真不够朋友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312408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dministrator\My Documents\My Pictures\d01.png"/>
          <p:cNvPicPr/>
          <p:nvPr/>
        </p:nvPicPr>
        <p:blipFill>
          <a:blip r:embed="rId2"/>
          <a:stretch/>
        </p:blipFill>
        <p:spPr>
          <a:xfrm>
            <a:off x="1374840" y="2895480"/>
            <a:ext cx="2663640" cy="2789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038480" y="253368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我们演一演图片中的同　　学并互换角色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为什么这几位同学会发　　生冲突呢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你有没有什么好办法来　　解决吗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581280" y="2590920"/>
            <a:ext cx="5181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请你根据平常观察到的因情绪变化反映出的面部表情，画出眼睛（快乐、悲伤）、嘴（笑、不满）以及其他的脸部表情。制作两三个情绪化的脸谱图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8" name="Picture 19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512720" y="2895480"/>
            <a:ext cx="19162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600200" y="4800600"/>
            <a:ext cx="2133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2" name="Picture 9" descr="C:\Documents and Settings\Administrator\My Documents\My Pictures\qqem1684.gif"/>
          <p:cNvPicPr/>
          <p:nvPr/>
        </p:nvPicPr>
        <p:blipFill>
          <a:blip r:embed="rId2"/>
          <a:stretch/>
        </p:blipFill>
        <p:spPr>
          <a:xfrm>
            <a:off x="1752480" y="266688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istrator\My Documents\My Pictures\qqem1686.gif"/>
          <p:cNvPicPr/>
          <p:nvPr/>
        </p:nvPicPr>
        <p:blipFill>
          <a:blip r:embed="rId3"/>
          <a:stretch/>
        </p:blipFill>
        <p:spPr>
          <a:xfrm>
            <a:off x="3886200" y="271620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581280" y="4876920"/>
            <a:ext cx="2133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伤心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5" name="Picture 12" descr="C:\Documents and Settings\Administrator\My Documents\My Pictures\qqem1691.gif"/>
          <p:cNvPicPr/>
          <p:nvPr/>
        </p:nvPicPr>
        <p:blipFill>
          <a:blip r:embed="rId4"/>
          <a:stretch/>
        </p:blipFill>
        <p:spPr>
          <a:xfrm>
            <a:off x="6248520" y="2590920"/>
            <a:ext cx="180324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3"/>
          <p:cNvSpPr/>
          <p:nvPr/>
        </p:nvSpPr>
        <p:spPr>
          <a:xfrm>
            <a:off x="6400800" y="4800600"/>
            <a:ext cx="1752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惊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9" name="Picture 7" descr="C:\Documents and Settings\Administrator\My Documents\My Pictures\d01.png"/>
          <p:cNvPicPr/>
          <p:nvPr/>
        </p:nvPicPr>
        <p:blipFill>
          <a:blip r:embed="rId2"/>
          <a:stretch/>
        </p:blipFill>
        <p:spPr>
          <a:xfrm>
            <a:off x="1143000" y="2895480"/>
            <a:ext cx="2664000" cy="2789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3505320" y="251460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什么时候你感到骄傲。（或　　　是其他情感，如生气、尴尬、　　困惑、孤独、兴奋等。）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你怎么知道他人感到悲伤。　　（或是其他情感，如生气、尴　　　尬、困惑、孤独、兴奋等。）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说说你与同学交往中遇到的快　　乐事和伤心事，并讲述当时的　　心情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3" name="Picture 13" descr="\\192.168.3.88\123$\小学品德与社会\三年级下\换个角度想一想（一）\p27-1.png"/>
          <p:cNvPicPr/>
          <p:nvPr/>
        </p:nvPicPr>
        <p:blipFill>
          <a:blip r:embed="rId2"/>
          <a:stretch/>
        </p:blipFill>
        <p:spPr>
          <a:xfrm>
            <a:off x="1676520" y="2286000"/>
            <a:ext cx="6019560" cy="4302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4"/>
          <p:cNvSpPr/>
          <p:nvPr/>
        </p:nvSpPr>
        <p:spPr>
          <a:xfrm>
            <a:off x="3246480" y="1523880"/>
            <a:ext cx="2651040" cy="708120"/>
          </a:xfrm>
          <a:prstGeom prst="cloudCallout">
            <a:avLst>
              <a:gd name="adj1" fmla="val 22624"/>
              <a:gd name="adj2" fmla="val 2602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你们知道吗？李勇的妈妈下岗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6173640" y="1447920"/>
            <a:ext cx="2664000" cy="708120"/>
          </a:xfrm>
          <a:prstGeom prst="cloudCallout">
            <a:avLst>
              <a:gd name="adj1" fmla="val -44527"/>
              <a:gd name="adj2" fmla="val 25212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真的？他爸爸病休在家，这回可惨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5257800" y="4038480"/>
            <a:ext cx="3125880" cy="1272600"/>
          </a:xfrm>
          <a:prstGeom prst="cloudCallout">
            <a:avLst>
              <a:gd name="adj1" fmla="val -50296"/>
              <a:gd name="adj2" fmla="val 11840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你是李勇，听到这些话有什么感觉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7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04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