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35E-106A-43D8-B48E-75EE2CF3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808-9648-454B-BFB3-D723999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965-2D75-43E9-86A9-D1CB67FB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F54-99C4-4C8B-BC12-DCA1346F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F1CC-7F9A-4743-AF05-FD8A7BA8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0200-FD99-4B98-A735-CCC6139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DB3-AD85-4D95-920A-C7C718C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DE4F-7ABC-4ED0-A44B-B6824578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62C-74E1-442D-BD95-5485A003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19C-14CC-4C2F-A9C0-4B09B86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8F1-A9A0-45C5-AF7E-E43EA96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309-ADFC-4CD9-A951-3EB08105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276F-B8ED-49D6-AC67-FE2B02BA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06A-6DF2-4650-A198-E74062A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7B9C-02F6-4618-AEDA-D6C1CE7B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9BC-C7EE-43D3-949E-9044B1F9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7CA-5EC5-4447-A119-F71F1894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9E87-28AF-4353-8D8B-75173FED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DCB9-2D43-4329-BDD3-FD8BF97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BE3F-C4B2-47E2-B75E-B84ABC86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AD7A-545B-4D75-BB72-0D618CB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9FF6-134D-4637-98AA-1422B5FE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7D2-E6E6-4CD8-A884-AE879A9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488C-ACE0-4830-AC22-A322D68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7C02-B208-4AF9-BA04-546833C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DD96-AEE5-4056-A259-553644F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1395-86D3-48AD-BBA9-CC5E808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BCD7-AD2F-43AE-A7A4-074A6D0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08CE-4D29-40C5-873A-68730D57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BB17-DCF9-4913-8D88-ABED7E76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1222-239B-42EF-A999-D3ADDE2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4AAD-D641-4D42-BC34-A619EEFD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7686-A7A2-4466-85B0-AD153D7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D64-C836-4D66-8C88-8F337E81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3556-793B-42CE-B8A5-FD5FEEE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8EFA-B3AA-44BD-AB93-263B33D7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4543-0E12-4D56-AC32-C1FB92C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502D-0514-4DD7-99C9-FD3522B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9B21-DCCD-41CA-AB5F-EE73173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96C4-E052-4CD1-BB7E-E292D74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19F0-32BF-492D-9A0C-F7CC681B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AD2C-CCB3-4ACD-9FD7-3B762A97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07F0-1C1B-4952-B414-CC7DADEA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4CAA-38B3-40D0-8CB6-17E93D53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A58-D506-4539-B878-683A8C0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FC1D-DDB9-48C2-9812-0DE73619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F579-9290-4B8D-BC6C-4A91EDD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3C3D-CBAF-427E-AD51-BB6B519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747E-870E-4D29-85DF-E66977C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484A-2223-4F28-BCB1-EEDD764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5336-1327-414F-B830-EF7392D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6CF15-AE5B-4C67-A153-C0CC938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CB55-7F3D-47F4-BB70-7B2EF49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824E-AF6B-474A-92B7-4834EE0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E06F-6AF1-4213-864F-6E4BAE9D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9A5-28AD-434C-99EE-50DED89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0D1C-A78E-4701-8459-5D7CED7F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9F46-205A-4F96-BD09-5F8B2545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E00E-A897-4ABD-8036-D98B1DE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8EC4-3F18-40A5-B1D9-1EDF9AC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1F2D-D2D9-4782-8C41-27F8C33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7A2D4-07E2-43A7-9A73-9CD80A9A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EF3A-33A4-4234-8615-70DF3CC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4D932-C0E6-44EE-A5DE-11EE3CA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814E5-3358-4356-8674-9A63F7F0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B30D-BBCF-48D9-9BE9-3E1CC04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B17-3206-4790-A452-6CCD6232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DB20D-DE49-4984-976B-162293B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8072-3809-4E6D-A339-835EE923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58CD-872F-4898-8E9A-D84A77AA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DA49-5E3B-4DAB-8FD7-0DB32197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0D38-39A5-4F7F-A89D-E1D5043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1813-084A-4A80-95DC-A40F1F4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FACA5-EEAA-41A4-971E-135A6358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EAD5D-FC66-46F6-A340-7F926D2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37665-50D0-46E3-8E37-8376351E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73EF-3AA4-4A02-9828-DA52C00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CF3-3332-4B11-A0AF-B431288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B6BC-90E0-4478-80D7-A166E25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0AD51-D7EE-4F0E-AAC7-EA1FB17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D6A87-45C0-4CA9-A316-4B8A7A5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B15D-A827-413F-90D3-E67CFF27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C7670-09B0-425E-973F-DBFBF795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4D3-D253-4A1C-BEA9-FF6919F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圆角矩形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EBE0-BB55-4165-9CD8-62FFA4A8CA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112-0C44-4F19-BE1C-60153C5528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圆角矩形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43B9-A553-4AEB-BF03-0336800F57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圆角矩形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75A8-EEF7-40B4-8B1E-3D4A2731CFE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2C1-5F65-4A3C-BE60-76C7958FE2F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单圆角矩形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B93-D89E-4AD0-85D2-E63896A239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圆角矩形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圆角矩形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9360" indent="-2016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8C1C-D44A-458D-92EA-7BF3E183F4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933480" y="1593720"/>
            <a:ext cx="7211880" cy="43783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333360" y="612720"/>
            <a:ext cx="84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：辉煌的隋唐文化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21"/>
          <p:cNvGrpSpPr/>
          <p:nvPr/>
        </p:nvGrpSpPr>
        <p:grpSpPr>
          <a:xfrm>
            <a:off x="0" y="692280"/>
            <a:ext cx="9144000" cy="3887640"/>
            <a:chOff x="0" y="692280"/>
            <a:chExt cx="9144000" cy="3887640"/>
          </a:xfrm>
        </p:grpSpPr>
        <p:sp>
          <p:nvSpPr>
            <p:cNvPr id="454" name="AutoShape 4"/>
            <p:cNvSpPr/>
            <p:nvPr/>
          </p:nvSpPr>
          <p:spPr>
            <a:xfrm>
              <a:off x="0" y="692280"/>
              <a:ext cx="9144000" cy="38876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7" descr="1"/>
            <p:cNvPicPr/>
            <p:nvPr/>
          </p:nvPicPr>
          <p:blipFill>
            <a:blip r:embed="rId1"/>
            <a:stretch/>
          </p:blipFill>
          <p:spPr>
            <a:xfrm>
              <a:off x="468360" y="1197000"/>
              <a:ext cx="2374920" cy="2879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456" name="Picture 9" descr="1"/>
            <p:cNvPicPr/>
            <p:nvPr/>
          </p:nvPicPr>
          <p:blipFill>
            <a:blip r:embed="rId2"/>
            <a:stretch/>
          </p:blipFill>
          <p:spPr>
            <a:xfrm>
              <a:off x="5940360" y="1197000"/>
              <a:ext cx="2737080" cy="2879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457" name="Text Box 10"/>
            <p:cNvSpPr/>
            <p:nvPr/>
          </p:nvSpPr>
          <p:spPr>
            <a:xfrm>
              <a:off x="2991960" y="981000"/>
              <a:ext cx="60696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孙思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1"/>
            <p:cNvSpPr/>
            <p:nvPr/>
          </p:nvSpPr>
          <p:spPr>
            <a:xfrm>
              <a:off x="4278600" y="1197000"/>
              <a:ext cx="156348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人命至重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有贵千金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24360" y="1197000"/>
              <a:ext cx="360" cy="2879640"/>
              <a:chOff x="3924360" y="1197000"/>
              <a:chExt cx="360" cy="2879640"/>
            </a:xfrm>
          </p:grpSpPr>
          <p:sp>
            <p:nvSpPr>
              <p:cNvPr id="460" name="Line 12"/>
              <p:cNvSpPr/>
              <p:nvPr/>
            </p:nvSpPr>
            <p:spPr>
              <a:xfrm>
                <a:off x="3924360" y="1197000"/>
                <a:ext cx="0" cy="28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3924360" y="1197000"/>
                <a:ext cx="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13"/>
          <p:cNvSpPr/>
          <p:nvPr/>
        </p:nvSpPr>
        <p:spPr>
          <a:xfrm>
            <a:off x="395280" y="404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隋唐文化三：唐代“医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3"/>
          <p:cNvGrpSpPr/>
          <p:nvPr/>
        </p:nvGrpSpPr>
        <p:grpSpPr>
          <a:xfrm>
            <a:off x="2916360" y="4365720"/>
            <a:ext cx="3528720" cy="1949760"/>
            <a:chOff x="2916360" y="4365720"/>
            <a:chExt cx="3528720" cy="1949760"/>
          </a:xfrm>
        </p:grpSpPr>
        <p:sp>
          <p:nvSpPr>
            <p:cNvPr id="464" name="Rectangle 15"/>
            <p:cNvSpPr/>
            <p:nvPr/>
          </p:nvSpPr>
          <p:spPr>
            <a:xfrm>
              <a:off x="2916360" y="436572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药  王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6"/>
            <p:cNvSpPr/>
            <p:nvPr/>
          </p:nvSpPr>
          <p:spPr>
            <a:xfrm>
              <a:off x="2916360" y="5734080"/>
              <a:ext cx="35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千金方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468360" y="4653000"/>
            <a:ext cx="3240000" cy="1440360"/>
            <a:chOff x="468360" y="4653000"/>
            <a:chExt cx="3240000" cy="1440360"/>
          </a:xfrm>
        </p:grpSpPr>
        <p:sp>
          <p:nvSpPr>
            <p:cNvPr id="467" name="Rectangle 14"/>
            <p:cNvSpPr/>
            <p:nvPr/>
          </p:nvSpPr>
          <p:spPr>
            <a:xfrm>
              <a:off x="468360" y="50133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孙思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20"/>
            <p:cNvGrpSpPr/>
            <p:nvPr/>
          </p:nvGrpSpPr>
          <p:grpSpPr>
            <a:xfrm>
              <a:off x="2916360" y="4653000"/>
              <a:ext cx="792000" cy="1440360"/>
              <a:chOff x="2916360" y="4653000"/>
              <a:chExt cx="792000" cy="14403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916360" y="4653000"/>
                <a:ext cx="360" cy="1440000"/>
                <a:chOff x="2916360" y="4653000"/>
                <a:chExt cx="360" cy="1440000"/>
              </a:xfrm>
            </p:grpSpPr>
            <p:sp>
              <p:nvSpPr>
                <p:cNvPr id="470" name="Line 17"/>
                <p:cNvSpPr/>
                <p:nvPr/>
              </p:nvSpPr>
              <p:spPr>
                <a:xfrm>
                  <a:off x="2916360" y="4653000"/>
                  <a:ext cx="0" cy="144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 txBox="1"/>
                <p:nvPr/>
              </p:nvSpPr>
              <p:spPr>
                <a:xfrm>
                  <a:off x="2916360" y="4653000"/>
                  <a:ext cx="360" cy="14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916360" y="4653000"/>
                <a:ext cx="792000" cy="360"/>
                <a:chOff x="2916360" y="4653000"/>
                <a:chExt cx="792000" cy="360"/>
              </a:xfrm>
            </p:grpSpPr>
            <p:sp>
              <p:nvSpPr>
                <p:cNvPr id="473" name="Line 18"/>
                <p:cNvSpPr/>
                <p:nvPr/>
              </p:nvSpPr>
              <p:spPr>
                <a:xfrm>
                  <a:off x="2916360" y="4653000"/>
                  <a:ext cx="79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>
                  <a:off x="2916360" y="465300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916360" y="6093000"/>
                <a:ext cx="792000" cy="360"/>
                <a:chOff x="2916360" y="6093000"/>
                <a:chExt cx="792000" cy="360"/>
              </a:xfrm>
            </p:grpSpPr>
            <p:sp>
              <p:nvSpPr>
                <p:cNvPr id="476" name="Line 19"/>
                <p:cNvSpPr/>
                <p:nvPr/>
              </p:nvSpPr>
              <p:spPr>
                <a:xfrm>
                  <a:off x="2916360" y="6093000"/>
                  <a:ext cx="792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 txBox="1"/>
                <p:nvPr/>
              </p:nvSpPr>
              <p:spPr>
                <a:xfrm>
                  <a:off x="2916360" y="609300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6"/>
          <p:cNvSpPr/>
          <p:nvPr/>
        </p:nvSpPr>
        <p:spPr>
          <a:xfrm>
            <a:off x="250920" y="4508640"/>
            <a:ext cx="957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我国诗歌创作的黄金时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成就最高，影响最大的诗人，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0" y="476280"/>
            <a:ext cx="9144000" cy="3887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68360" y="333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隋唐文化三：光耀千古的讲坛（唐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23"/>
          <p:cNvGrpSpPr/>
          <p:nvPr/>
        </p:nvGrpSpPr>
        <p:grpSpPr>
          <a:xfrm>
            <a:off x="3132000" y="981000"/>
            <a:ext cx="2853000" cy="2879640"/>
            <a:chOff x="3132000" y="981000"/>
            <a:chExt cx="2853000" cy="2879640"/>
          </a:xfrm>
        </p:grpSpPr>
        <p:pic>
          <p:nvPicPr>
            <p:cNvPr id="482" name="Picture 4" descr="杜甫"/>
            <p:cNvPicPr/>
            <p:nvPr/>
          </p:nvPicPr>
          <p:blipFill>
            <a:blip r:embed="rId1"/>
            <a:stretch/>
          </p:blipFill>
          <p:spPr>
            <a:xfrm>
              <a:off x="3132000" y="981000"/>
              <a:ext cx="2308320" cy="2879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483" name="Text Box 14"/>
            <p:cNvSpPr/>
            <p:nvPr/>
          </p:nvSpPr>
          <p:spPr>
            <a:xfrm>
              <a:off x="5438880" y="981000"/>
              <a:ext cx="54612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杜   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4"/>
          <p:cNvGrpSpPr/>
          <p:nvPr/>
        </p:nvGrpSpPr>
        <p:grpSpPr>
          <a:xfrm>
            <a:off x="5940360" y="981000"/>
            <a:ext cx="2710080" cy="2879640"/>
            <a:chOff x="5940360" y="981000"/>
            <a:chExt cx="2710080" cy="2879640"/>
          </a:xfrm>
        </p:grpSpPr>
        <p:pic>
          <p:nvPicPr>
            <p:cNvPr id="485" name="Picture 12" descr="1"/>
            <p:cNvPicPr/>
            <p:nvPr/>
          </p:nvPicPr>
          <p:blipFill>
            <a:blip r:embed="rId2"/>
            <a:stretch/>
          </p:blipFill>
          <p:spPr>
            <a:xfrm>
              <a:off x="5940360" y="981000"/>
              <a:ext cx="2232000" cy="2879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486" name="Text Box 15"/>
            <p:cNvSpPr/>
            <p:nvPr/>
          </p:nvSpPr>
          <p:spPr>
            <a:xfrm>
              <a:off x="8104320" y="981000"/>
              <a:ext cx="54612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白 居 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468360" y="981000"/>
            <a:ext cx="2708280" cy="2879640"/>
            <a:chOff x="468360" y="981000"/>
            <a:chExt cx="2708280" cy="2879640"/>
          </a:xfrm>
        </p:grpSpPr>
        <p:sp>
          <p:nvSpPr>
            <p:cNvPr id="488" name="Text Box 13"/>
            <p:cNvSpPr/>
            <p:nvPr/>
          </p:nvSpPr>
          <p:spPr>
            <a:xfrm>
              <a:off x="2630520" y="981000"/>
              <a:ext cx="54612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李    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17" descr="李白"/>
            <p:cNvPicPr/>
            <p:nvPr/>
          </p:nvPicPr>
          <p:blipFill>
            <a:blip r:embed="rId3"/>
            <a:stretch/>
          </p:blipFill>
          <p:spPr>
            <a:xfrm>
              <a:off x="468360" y="981000"/>
              <a:ext cx="2232000" cy="28796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sp>
        <p:nvSpPr>
          <p:cNvPr id="490" name="Text Box 18"/>
          <p:cNvSpPr/>
          <p:nvPr/>
        </p:nvSpPr>
        <p:spPr>
          <a:xfrm>
            <a:off x="611280" y="479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唐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4788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6156360" y="57340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杜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7596360" y="57340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395280" y="3933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浪漫主义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6"/>
          <p:cNvSpPr/>
          <p:nvPr/>
        </p:nvSpPr>
        <p:spPr>
          <a:xfrm>
            <a:off x="3059280" y="39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现实主义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108000" y="1052640"/>
          <a:ext cx="8928000" cy="5616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511280"/>
                <a:gridCol w="1800360"/>
                <a:gridCol w="1944720"/>
                <a:gridCol w="1439640"/>
              </a:tblGrid>
              <a:tr h="1404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诗  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美  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时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作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诗歌特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达思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  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杜  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5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居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7" name="Text Box 66"/>
          <p:cNvSpPr/>
          <p:nvPr/>
        </p:nvSpPr>
        <p:spPr>
          <a:xfrm>
            <a:off x="1116000" y="28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诗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7"/>
          <p:cNvSpPr/>
          <p:nvPr/>
        </p:nvSpPr>
        <p:spPr>
          <a:xfrm>
            <a:off x="1116000" y="429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诗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2"/>
          <p:cNvSpPr/>
          <p:nvPr/>
        </p:nvSpPr>
        <p:spPr>
          <a:xfrm>
            <a:off x="2340000" y="28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盛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3"/>
          <p:cNvSpPr/>
          <p:nvPr/>
        </p:nvSpPr>
        <p:spPr>
          <a:xfrm>
            <a:off x="2268360" y="407664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唐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由盛转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4"/>
          <p:cNvSpPr/>
          <p:nvPr/>
        </p:nvSpPr>
        <p:spPr>
          <a:xfrm>
            <a:off x="2411280" y="5661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中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"/>
          <p:cNvSpPr/>
          <p:nvPr/>
        </p:nvSpPr>
        <p:spPr>
          <a:xfrm>
            <a:off x="3780000" y="2637000"/>
            <a:ext cx="2232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早发白帝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蜀道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8"/>
          <p:cNvSpPr/>
          <p:nvPr/>
        </p:nvSpPr>
        <p:spPr>
          <a:xfrm>
            <a:off x="3851280" y="4005360"/>
            <a:ext cx="151128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三吏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三别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9"/>
          <p:cNvSpPr/>
          <p:nvPr/>
        </p:nvSpPr>
        <p:spPr>
          <a:xfrm>
            <a:off x="3924360" y="5445000"/>
            <a:ext cx="1692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新乐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》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秦中吟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中宋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0"/>
          <p:cNvSpPr/>
          <p:nvPr/>
        </p:nvSpPr>
        <p:spPr>
          <a:xfrm>
            <a:off x="5867280" y="2492280"/>
            <a:ext cx="13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豪迈奔放清新飘逸想象丰富语言轻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1"/>
          <p:cNvSpPr/>
          <p:nvPr/>
        </p:nvSpPr>
        <p:spPr>
          <a:xfrm>
            <a:off x="5724360" y="3933720"/>
            <a:ext cx="17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气魄雄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沉郁悲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语言精练凝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2"/>
          <p:cNvSpPr/>
          <p:nvPr/>
        </p:nvSpPr>
        <p:spPr>
          <a:xfrm>
            <a:off x="5796000" y="530064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中宋"/>
              </a:rPr>
              <a:t>讽喻社会同情人民直白如话通俗易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3"/>
          <p:cNvSpPr/>
          <p:nvPr/>
        </p:nvSpPr>
        <p:spPr>
          <a:xfrm>
            <a:off x="7451640" y="3429000"/>
            <a:ext cx="1692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热爱祖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忧国忧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关怀民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4"/>
          <p:cNvSpPr/>
          <p:nvPr/>
        </p:nvSpPr>
        <p:spPr>
          <a:xfrm>
            <a:off x="179280" y="260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根据教材，完成表格中的知识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332000" y="5229360"/>
            <a:ext cx="1008000" cy="1439640"/>
            <a:chOff x="1332000" y="5229360"/>
            <a:chExt cx="1008000" cy="1439640"/>
          </a:xfrm>
        </p:grpSpPr>
        <p:sp>
          <p:nvSpPr>
            <p:cNvPr id="511" name="Line 85"/>
            <p:cNvSpPr/>
            <p:nvPr/>
          </p:nvSpPr>
          <p:spPr>
            <a:xfrm>
              <a:off x="1332000" y="5229360"/>
              <a:ext cx="100800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1332000" y="5229360"/>
              <a:ext cx="100800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86"/>
          <p:cNvSpPr/>
          <p:nvPr/>
        </p:nvSpPr>
        <p:spPr>
          <a:xfrm>
            <a:off x="5016600" y="3860640"/>
            <a:ext cx="546120" cy="136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诗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7"/>
          <p:cNvSpPr/>
          <p:nvPr/>
        </p:nvSpPr>
        <p:spPr>
          <a:xfrm>
            <a:off x="1490400" y="2276640"/>
            <a:ext cx="729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称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李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4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4"/>
          <p:cNvSpPr/>
          <p:nvPr/>
        </p:nvSpPr>
        <p:spPr>
          <a:xfrm>
            <a:off x="179280" y="831960"/>
            <a:ext cx="878544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在我国民间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沧州狮景州塔，赵州石桥大菩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的民谚，这里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赵州石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修建于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隋朝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唐朝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北宋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南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朱门酒肉臭，路有冻死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城春草木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，他的诗深刻地反映了那个复杂、动荡的年代，被人们称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诗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。这位诗人是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李白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杜甫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白居易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房玄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下列不属于隋朝的中国古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世界之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是（      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大运河是古代世界最长的人工运河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赵州桥是世界上现存最古老的石拱桥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科举制被英国大百科全书誉为世界上最早的考试制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祖冲之在世界上第一次把圆周率的数值计算到小数点以后的第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位数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124000" y="260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 的 收 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11280" y="2416320"/>
            <a:ext cx="1081080" cy="360"/>
            <a:chOff x="611280" y="2416320"/>
            <a:chExt cx="1081080" cy="360"/>
          </a:xfrm>
        </p:grpSpPr>
        <p:sp>
          <p:nvSpPr>
            <p:cNvPr id="518" name="Line 7"/>
            <p:cNvSpPr/>
            <p:nvPr/>
          </p:nvSpPr>
          <p:spPr>
            <a:xfrm>
              <a:off x="611280" y="241632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611280" y="24163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124000" y="3855960"/>
            <a:ext cx="1081080" cy="360"/>
            <a:chOff x="2124000" y="3855960"/>
            <a:chExt cx="1081080" cy="360"/>
          </a:xfrm>
        </p:grpSpPr>
        <p:sp>
          <p:nvSpPr>
            <p:cNvPr id="521" name="Line 8"/>
            <p:cNvSpPr/>
            <p:nvPr/>
          </p:nvSpPr>
          <p:spPr>
            <a:xfrm>
              <a:off x="2124000" y="385596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2124000" y="385596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84000" y="6303600"/>
            <a:ext cx="8352000" cy="360"/>
            <a:chOff x="684000" y="6303600"/>
            <a:chExt cx="8352000" cy="360"/>
          </a:xfrm>
        </p:grpSpPr>
        <p:sp>
          <p:nvSpPr>
            <p:cNvPr id="524" name="Line 9"/>
            <p:cNvSpPr/>
            <p:nvPr/>
          </p:nvSpPr>
          <p:spPr>
            <a:xfrm>
              <a:off x="684360" y="6303960"/>
              <a:ext cx="835164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 rot="10800000">
              <a:off x="684000" y="6303600"/>
              <a:ext cx="835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179280" y="404640"/>
            <a:ext cx="8713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你认为下列人物中诗歌成就最高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影响最大的是（     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李白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苏轼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曹雪芹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吴承恩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唐朝是我国诗歌创作的黄金时代。那是诗人辈出，其中被誉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诗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的伟大诗人是（     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李白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杜甫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白居易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苏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我国诗歌创作的黄金时代是（      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汉朝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唐朝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宋元时期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明清时期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世上疮痍，诗中圣哲；民间疾苦，笔底波澜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这幅对联称颂的是（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屈原 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李白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杜甫   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．白居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与唐朝诗人杜甫情况不符合的是（      ）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他处于唐朝由盛转衰的时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他的诗深刻地反映了当时复杂、动荡的历史时期，被称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诗史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三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三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是诗史名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他的诗气魄雄浑，人们称他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诗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39640" y="1268280"/>
            <a:ext cx="1081080" cy="360"/>
            <a:chOff x="539640" y="1268280"/>
            <a:chExt cx="1081080" cy="360"/>
          </a:xfrm>
        </p:grpSpPr>
        <p:sp>
          <p:nvSpPr>
            <p:cNvPr id="528" name="Line 5"/>
            <p:cNvSpPr/>
            <p:nvPr/>
          </p:nvSpPr>
          <p:spPr>
            <a:xfrm>
              <a:off x="539640" y="126828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539640" y="126828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11280" y="2565360"/>
            <a:ext cx="1081080" cy="360"/>
            <a:chOff x="611280" y="2565360"/>
            <a:chExt cx="1081080" cy="360"/>
          </a:xfrm>
        </p:grpSpPr>
        <p:sp>
          <p:nvSpPr>
            <p:cNvPr id="531" name="Line 6"/>
            <p:cNvSpPr/>
            <p:nvPr/>
          </p:nvSpPr>
          <p:spPr>
            <a:xfrm>
              <a:off x="611280" y="256536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611280" y="256536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050920" y="3357720"/>
            <a:ext cx="1081080" cy="360"/>
            <a:chOff x="2050920" y="3357720"/>
            <a:chExt cx="1081080" cy="360"/>
          </a:xfrm>
        </p:grpSpPr>
        <p:sp>
          <p:nvSpPr>
            <p:cNvPr id="534" name="Line 7"/>
            <p:cNvSpPr/>
            <p:nvPr/>
          </p:nvSpPr>
          <p:spPr>
            <a:xfrm>
              <a:off x="2050920" y="335772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2050920" y="3357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924360" y="4221000"/>
            <a:ext cx="1081080" cy="360"/>
            <a:chOff x="3924360" y="4221000"/>
            <a:chExt cx="1081080" cy="360"/>
          </a:xfrm>
        </p:grpSpPr>
        <p:sp>
          <p:nvSpPr>
            <p:cNvPr id="537" name="Line 8"/>
            <p:cNvSpPr/>
            <p:nvPr/>
          </p:nvSpPr>
          <p:spPr>
            <a:xfrm>
              <a:off x="3924360" y="422100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3924360" y="422100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84360" y="6237360"/>
            <a:ext cx="4248000" cy="360"/>
            <a:chOff x="684360" y="6237360"/>
            <a:chExt cx="4248000" cy="360"/>
          </a:xfrm>
        </p:grpSpPr>
        <p:sp>
          <p:nvSpPr>
            <p:cNvPr id="540" name="Line 9"/>
            <p:cNvSpPr/>
            <p:nvPr/>
          </p:nvSpPr>
          <p:spPr>
            <a:xfrm>
              <a:off x="684360" y="6237360"/>
              <a:ext cx="4248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684360" y="6237360"/>
              <a:ext cx="42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250920" y="404640"/>
            <a:ext cx="86407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李  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朝辞白帝彩云间，千里江陵一日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岸猿声啼不住，轻舟已过万重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50920" y="3215520"/>
            <a:ext cx="85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春  望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杜  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城春草木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感时花溅泪，恨别鸟惊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烽火连三月，家书抵万金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白头搔更短，浑欲不胜簪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3213000"/>
            <a:ext cx="9144000" cy="360"/>
            <a:chOff x="0" y="3213000"/>
            <a:chExt cx="9144000" cy="360"/>
          </a:xfrm>
        </p:grpSpPr>
        <p:sp>
          <p:nvSpPr>
            <p:cNvPr id="545" name="Line 6"/>
            <p:cNvSpPr/>
            <p:nvPr/>
          </p:nvSpPr>
          <p:spPr>
            <a:xfrm>
              <a:off x="0" y="3213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0" y="3213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0" y="0"/>
            <a:ext cx="1619280" cy="90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诗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1052640"/>
          <a:ext cx="8785080" cy="5632200"/>
        </p:xfrm>
        <a:graphic>
          <a:graphicData uri="http://schemas.openxmlformats.org/drawingml/2006/table">
            <a:tbl>
              <a:tblPr/>
              <a:tblGrid>
                <a:gridCol w="1036800"/>
                <a:gridCol w="1519200"/>
                <a:gridCol w="1885680"/>
                <a:gridCol w="1333800"/>
                <a:gridCol w="444240"/>
                <a:gridCol w="2565360"/>
              </a:tblGrid>
              <a:tr h="69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人物（时代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代表成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评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建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李春（隋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赵州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设计科学造型美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现存世界最古老的石拱桥，早欧七百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长安，大明宫含元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最大城市， 气势宏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印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雕版印刷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金刚经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c0000"/>
                          </a:solidFill>
                          <a:latin typeface="华文中宋"/>
                          <a:ea typeface="华文中宋"/>
                        </a:rPr>
                        <a:t>是世界上现存最早标有确切日期的雕版印刷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文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9" name="Text Box 48"/>
          <p:cNvSpPr/>
          <p:nvPr/>
        </p:nvSpPr>
        <p:spPr>
          <a:xfrm>
            <a:off x="2268360" y="260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辉煌的隋唐文化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1258920" y="4221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李白（盛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2771640" y="4005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早发白帝城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》《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蜀道难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4716360" y="4005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豪迈奔放清新飘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6156360" y="3933720"/>
            <a:ext cx="158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中宋"/>
              </a:rPr>
              <a:t>诗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1042920" y="4941720"/>
            <a:ext cx="1800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杜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（唐由盛转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2771640" y="4941720"/>
            <a:ext cx="1871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“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三吏</a:t>
            </a:r>
            <a:r>
              <a:rPr b="1" lang="zh-CN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“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三别</a:t>
            </a:r>
            <a:r>
              <a:rPr b="1" lang="zh-CN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4643280" y="4941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气魄雄浑沉郁悲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6"/>
          <p:cNvSpPr/>
          <p:nvPr/>
        </p:nvSpPr>
        <p:spPr>
          <a:xfrm>
            <a:off x="6084720" y="4941720"/>
            <a:ext cx="27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诗圣，他的诗被称为</a:t>
            </a:r>
            <a:r>
              <a:rPr b="1" lang="zh-CN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“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诗史</a:t>
            </a:r>
            <a:r>
              <a:rPr b="1" lang="zh-CN" sz="2000" spc="-1" strike="noStrike">
                <a:solidFill>
                  <a:srgbClr val="cc0000"/>
                </a:solidFill>
                <a:latin typeface="华文中宋"/>
                <a:ea typeface="华文中宋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7"/>
          <p:cNvSpPr/>
          <p:nvPr/>
        </p:nvSpPr>
        <p:spPr>
          <a:xfrm>
            <a:off x="1187280" y="5950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白居易（中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2916360" y="595008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《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新乐府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》《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秦中吟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华文中宋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9"/>
          <p:cNvSpPr/>
          <p:nvPr/>
        </p:nvSpPr>
        <p:spPr>
          <a:xfrm>
            <a:off x="4643280" y="587700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中宋"/>
              </a:rPr>
              <a:t>直白如话通俗易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50920" y="422100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回答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材料一画面精美，在当时采用了什么印刷技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材料二中印刷术的新飞跃是指什么？从材料中找出你的判断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综合上述材料，你认为我国古代印刷术的发明有什么意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250920" y="669960"/>
            <a:ext cx="8569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阅读下列材料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材料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 欣赏唐朝印刷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金刚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卷首佛像画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材料二  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北宋时期，我国印刷术的发展出现了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飞跃。据考古发现，当时采用新印刷术印制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书籍，字体工整，装订精美，但也出现了个别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方向颠倒的现象，这可能由于排版疏忽所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材料三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 英国哲学家培根指出：印刷术、指南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火药改变了整个世界的面貌，“没有一个帝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一个赫赫有名的人物，能比这三种机械发明在人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事业中产生更大的力量和影响。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55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2004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年潍坊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WAT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历史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image004"/>
          <p:cNvPicPr/>
          <p:nvPr/>
        </p:nvPicPr>
        <p:blipFill>
          <a:blip r:embed="rId1"/>
          <a:stretch/>
        </p:blipFill>
        <p:spPr>
          <a:xfrm>
            <a:off x="6156360" y="765000"/>
            <a:ext cx="2808360" cy="29512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2268360" y="48229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雕版印刷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900000" y="5470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新飞跃：活字印刷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3635280" y="5516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依据：①北宋的新印刷术       ②排版印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952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促进了世界文化的传播和发展，     ②是我国对世界文明的卓越贡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-245160" y="907920"/>
            <a:ext cx="7696800" cy="4608720"/>
            <a:chOff x="-245160" y="907920"/>
            <a:chExt cx="7696800" cy="4608720"/>
          </a:xfrm>
        </p:grpSpPr>
        <p:sp>
          <p:nvSpPr>
            <p:cNvPr id="570" name="Text Box 3"/>
            <p:cNvSpPr/>
            <p:nvPr/>
          </p:nvSpPr>
          <p:spPr>
            <a:xfrm>
              <a:off x="-245160" y="907920"/>
              <a:ext cx="219132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</a:rPr>
                <a:t>中国国门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1187280" y="1341360"/>
              <a:ext cx="6264360" cy="1800360"/>
              <a:chOff x="1187280" y="1341360"/>
              <a:chExt cx="6264360" cy="1800360"/>
            </a:xfrm>
          </p:grpSpPr>
          <p:sp>
            <p:nvSpPr>
              <p:cNvPr id="572" name="Line 4"/>
              <p:cNvSpPr/>
              <p:nvPr/>
            </p:nvSpPr>
            <p:spPr>
              <a:xfrm>
                <a:off x="1187280" y="1341360"/>
                <a:ext cx="6264360" cy="180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1187280" y="1341360"/>
                <a:ext cx="626436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1258920" y="3428640"/>
              <a:ext cx="6192720" cy="1584360"/>
              <a:chOff x="1258920" y="3428640"/>
              <a:chExt cx="6192720" cy="1584360"/>
            </a:xfrm>
          </p:grpSpPr>
          <p:sp>
            <p:nvSpPr>
              <p:cNvPr id="575" name="Line 5"/>
              <p:cNvSpPr/>
              <p:nvPr/>
            </p:nvSpPr>
            <p:spPr>
              <a:xfrm flipV="1">
                <a:off x="1258920" y="3428640"/>
                <a:ext cx="619272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 rot="10800000">
                <a:off x="1258920" y="3428640"/>
                <a:ext cx="619272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6"/>
          <p:cNvGrpSpPr/>
          <p:nvPr/>
        </p:nvGrpSpPr>
        <p:grpSpPr>
          <a:xfrm>
            <a:off x="1912680" y="1773360"/>
            <a:ext cx="911520" cy="2879640"/>
            <a:chOff x="1912680" y="1773360"/>
            <a:chExt cx="911520" cy="2879640"/>
          </a:xfrm>
        </p:grpSpPr>
        <p:sp>
          <p:nvSpPr>
            <p:cNvPr id="578" name="Text Box 7"/>
            <p:cNvSpPr/>
            <p:nvPr/>
          </p:nvSpPr>
          <p:spPr>
            <a:xfrm>
              <a:off x="1912680" y="1916280"/>
              <a:ext cx="911520" cy="24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</a:rPr>
                <a:t>唐  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700360" y="1773360"/>
              <a:ext cx="360" cy="2879640"/>
              <a:chOff x="2700360" y="1773360"/>
              <a:chExt cx="360" cy="2879640"/>
            </a:xfrm>
          </p:grpSpPr>
          <p:sp>
            <p:nvSpPr>
              <p:cNvPr id="580" name="Line 8"/>
              <p:cNvSpPr/>
              <p:nvPr/>
            </p:nvSpPr>
            <p:spPr>
              <a:xfrm>
                <a:off x="2700360" y="1773360"/>
                <a:ext cx="0" cy="28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 txBox="1"/>
              <p:nvPr/>
            </p:nvSpPr>
            <p:spPr>
              <a:xfrm>
                <a:off x="2700360" y="1773360"/>
                <a:ext cx="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9"/>
          <p:cNvGrpSpPr/>
          <p:nvPr/>
        </p:nvGrpSpPr>
        <p:grpSpPr>
          <a:xfrm>
            <a:off x="2991960" y="1916280"/>
            <a:ext cx="911520" cy="2449440"/>
            <a:chOff x="2991960" y="1916280"/>
            <a:chExt cx="911520" cy="2449440"/>
          </a:xfrm>
        </p:grpSpPr>
        <p:sp>
          <p:nvSpPr>
            <p:cNvPr id="583" name="Text Box 10"/>
            <p:cNvSpPr/>
            <p:nvPr/>
          </p:nvSpPr>
          <p:spPr>
            <a:xfrm>
              <a:off x="2991960" y="1916280"/>
              <a:ext cx="91152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</a:rPr>
                <a:t>宋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852720" y="2133720"/>
              <a:ext cx="360" cy="2232000"/>
              <a:chOff x="3852720" y="2133720"/>
              <a:chExt cx="360" cy="2232000"/>
            </a:xfrm>
          </p:grpSpPr>
          <p:sp>
            <p:nvSpPr>
              <p:cNvPr id="585" name="Line 11"/>
              <p:cNvSpPr/>
              <p:nvPr/>
            </p:nvSpPr>
            <p:spPr>
              <a:xfrm>
                <a:off x="3852720" y="2133720"/>
                <a:ext cx="0" cy="22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3852720" y="2133720"/>
                <a:ext cx="360" cy="22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2"/>
          <p:cNvGrpSpPr/>
          <p:nvPr/>
        </p:nvGrpSpPr>
        <p:grpSpPr>
          <a:xfrm>
            <a:off x="4071600" y="2060640"/>
            <a:ext cx="911520" cy="2376360"/>
            <a:chOff x="4071600" y="2060640"/>
            <a:chExt cx="911520" cy="2376360"/>
          </a:xfrm>
        </p:grpSpPr>
        <p:sp>
          <p:nvSpPr>
            <p:cNvPr id="588" name="Text Box 13"/>
            <p:cNvSpPr/>
            <p:nvPr/>
          </p:nvSpPr>
          <p:spPr>
            <a:xfrm>
              <a:off x="4071600" y="2060640"/>
              <a:ext cx="91152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</a:rPr>
                <a:t>明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859280" y="2421000"/>
              <a:ext cx="360" cy="1655640"/>
              <a:chOff x="4859280" y="2421000"/>
              <a:chExt cx="360" cy="1655640"/>
            </a:xfrm>
          </p:grpSpPr>
          <p:sp>
            <p:nvSpPr>
              <p:cNvPr id="590" name="Line 14"/>
              <p:cNvSpPr/>
              <p:nvPr/>
            </p:nvSpPr>
            <p:spPr>
              <a:xfrm>
                <a:off x="4859280" y="2421000"/>
                <a:ext cx="0" cy="165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859280" y="2421000"/>
                <a:ext cx="36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15"/>
          <p:cNvGrpSpPr/>
          <p:nvPr/>
        </p:nvGrpSpPr>
        <p:grpSpPr>
          <a:xfrm>
            <a:off x="6231960" y="2421000"/>
            <a:ext cx="606960" cy="1655640"/>
            <a:chOff x="6231960" y="2421000"/>
            <a:chExt cx="606960" cy="1655640"/>
          </a:xfrm>
        </p:grpSpPr>
        <p:sp>
          <p:nvSpPr>
            <p:cNvPr id="593" name="Text Box 16"/>
            <p:cNvSpPr/>
            <p:nvPr/>
          </p:nvSpPr>
          <p:spPr>
            <a:xfrm>
              <a:off x="6231960" y="2421000"/>
              <a:ext cx="606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清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732720" y="2924280"/>
              <a:ext cx="360" cy="649080"/>
              <a:chOff x="6732720" y="2924280"/>
              <a:chExt cx="360" cy="649080"/>
            </a:xfrm>
          </p:grpSpPr>
          <p:sp>
            <p:nvSpPr>
              <p:cNvPr id="595" name="Line 17"/>
              <p:cNvSpPr/>
              <p:nvPr/>
            </p:nvSpPr>
            <p:spPr>
              <a:xfrm>
                <a:off x="6732720" y="2924280"/>
                <a:ext cx="0" cy="64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6732720" y="2924280"/>
                <a:ext cx="36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Text Box 18"/>
          <p:cNvSpPr/>
          <p:nvPr/>
        </p:nvSpPr>
        <p:spPr>
          <a:xfrm>
            <a:off x="7085520" y="1700280"/>
            <a:ext cx="16426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闭关锁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940360" y="1628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四个港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5651640" y="4724280"/>
            <a:ext cx="32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一个港口（广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020000" y="2133720"/>
            <a:ext cx="360" cy="2663640"/>
            <a:chOff x="7020000" y="2133720"/>
            <a:chExt cx="360" cy="2663640"/>
          </a:xfrm>
        </p:grpSpPr>
        <p:sp>
          <p:nvSpPr>
            <p:cNvPr id="601" name="Line 21"/>
            <p:cNvSpPr/>
            <p:nvPr/>
          </p:nvSpPr>
          <p:spPr>
            <a:xfrm>
              <a:off x="7020000" y="2133720"/>
              <a:ext cx="0" cy="266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7020000" y="2133720"/>
              <a:ext cx="36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22"/>
          <p:cNvSpPr/>
          <p:nvPr/>
        </p:nvSpPr>
        <p:spPr>
          <a:xfrm>
            <a:off x="5148360" y="5516640"/>
            <a:ext cx="3851280" cy="1169280"/>
          </a:xfrm>
          <a:prstGeom prst="rect">
            <a:avLst/>
          </a:prstGeom>
          <a:noFill/>
          <a:ln w="9360">
            <a:solidFill>
              <a:srgbClr val="b26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广州十三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一经营管理贸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971640" y="1197000"/>
            <a:ext cx="3456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汉末年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晋南朝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朝中后期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     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900000" y="11592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古代经济重心南移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4"/>
          <p:cNvGrpSpPr/>
          <p:nvPr/>
        </p:nvGrpSpPr>
        <p:grpSpPr>
          <a:xfrm>
            <a:off x="2556000" y="981000"/>
            <a:ext cx="5688000" cy="776520"/>
            <a:chOff x="2556000" y="981000"/>
            <a:chExt cx="5688000" cy="776520"/>
          </a:xfrm>
        </p:grpSpPr>
        <p:grpSp>
          <p:nvGrpSpPr>
            <p:cNvPr id="607" name=""/>
            <p:cNvGrpSpPr/>
            <p:nvPr/>
          </p:nvGrpSpPr>
          <p:grpSpPr>
            <a:xfrm>
              <a:off x="2556000" y="1557360"/>
              <a:ext cx="3024000" cy="360"/>
              <a:chOff x="2556000" y="1557360"/>
              <a:chExt cx="3024000" cy="360"/>
            </a:xfrm>
          </p:grpSpPr>
          <p:sp>
            <p:nvSpPr>
              <p:cNvPr id="608" name="Line 5"/>
              <p:cNvSpPr/>
              <p:nvPr/>
            </p:nvSpPr>
            <p:spPr>
              <a:xfrm>
                <a:off x="2556000" y="1557360"/>
                <a:ext cx="3024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2556000" y="1557360"/>
                <a:ext cx="30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Rectangle 6"/>
            <p:cNvSpPr/>
            <p:nvPr/>
          </p:nvSpPr>
          <p:spPr>
            <a:xfrm>
              <a:off x="5508720" y="981000"/>
              <a:ext cx="27352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江南开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7"/>
          <p:cNvGrpSpPr/>
          <p:nvPr/>
        </p:nvGrpSpPr>
        <p:grpSpPr>
          <a:xfrm>
            <a:off x="2556000" y="1773360"/>
            <a:ext cx="5473440" cy="776520"/>
            <a:chOff x="2556000" y="1773360"/>
            <a:chExt cx="5473440" cy="776520"/>
          </a:xfrm>
        </p:grpSpPr>
        <p:grpSp>
          <p:nvGrpSpPr>
            <p:cNvPr id="612" name=""/>
            <p:cNvGrpSpPr/>
            <p:nvPr/>
          </p:nvGrpSpPr>
          <p:grpSpPr>
            <a:xfrm>
              <a:off x="2556000" y="2276640"/>
              <a:ext cx="2952720" cy="360"/>
              <a:chOff x="2556000" y="2276640"/>
              <a:chExt cx="2952720" cy="360"/>
            </a:xfrm>
          </p:grpSpPr>
          <p:sp>
            <p:nvSpPr>
              <p:cNvPr id="613" name="Line 8"/>
              <p:cNvSpPr/>
              <p:nvPr/>
            </p:nvSpPr>
            <p:spPr>
              <a:xfrm>
                <a:off x="2556000" y="2276640"/>
                <a:ext cx="2952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2556000" y="2276640"/>
                <a:ext cx="295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Rectangle 9"/>
            <p:cNvSpPr/>
            <p:nvPr/>
          </p:nvSpPr>
          <p:spPr>
            <a:xfrm>
              <a:off x="5508720" y="1773360"/>
              <a:ext cx="25207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超于平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"/>
          <p:cNvGrpSpPr/>
          <p:nvPr/>
        </p:nvGrpSpPr>
        <p:grpSpPr>
          <a:xfrm>
            <a:off x="2916360" y="2492280"/>
            <a:ext cx="5111640" cy="776520"/>
            <a:chOff x="2916360" y="2492280"/>
            <a:chExt cx="5111640" cy="776520"/>
          </a:xfrm>
        </p:grpSpPr>
        <p:grpSp>
          <p:nvGrpSpPr>
            <p:cNvPr id="617" name=""/>
            <p:cNvGrpSpPr/>
            <p:nvPr/>
          </p:nvGrpSpPr>
          <p:grpSpPr>
            <a:xfrm>
              <a:off x="2916360" y="2997360"/>
              <a:ext cx="2663640" cy="360"/>
              <a:chOff x="2916360" y="2997360"/>
              <a:chExt cx="2663640" cy="360"/>
            </a:xfrm>
          </p:grpSpPr>
          <p:sp>
            <p:nvSpPr>
              <p:cNvPr id="618" name="Line 11"/>
              <p:cNvSpPr/>
              <p:nvPr/>
            </p:nvSpPr>
            <p:spPr>
              <a:xfrm>
                <a:off x="2916360" y="2997360"/>
                <a:ext cx="26636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2916360" y="2997360"/>
                <a:ext cx="266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Rectangle 12"/>
            <p:cNvSpPr/>
            <p:nvPr/>
          </p:nvSpPr>
          <p:spPr>
            <a:xfrm>
              <a:off x="5508720" y="2492280"/>
              <a:ext cx="25192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始南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3"/>
          <p:cNvGrpSpPr/>
          <p:nvPr/>
        </p:nvGrpSpPr>
        <p:grpSpPr>
          <a:xfrm>
            <a:off x="2411280" y="3429000"/>
            <a:ext cx="6481800" cy="794880"/>
            <a:chOff x="2411280" y="3429000"/>
            <a:chExt cx="6481800" cy="794880"/>
          </a:xfrm>
        </p:grpSpPr>
        <p:grpSp>
          <p:nvGrpSpPr>
            <p:cNvPr id="622" name=""/>
            <p:cNvGrpSpPr/>
            <p:nvPr/>
          </p:nvGrpSpPr>
          <p:grpSpPr>
            <a:xfrm>
              <a:off x="2411280" y="3716280"/>
              <a:ext cx="3024360" cy="360"/>
              <a:chOff x="2411280" y="3716280"/>
              <a:chExt cx="3024360" cy="360"/>
            </a:xfrm>
          </p:grpSpPr>
          <p:sp>
            <p:nvSpPr>
              <p:cNvPr id="623" name="Line 14"/>
              <p:cNvSpPr/>
              <p:nvPr/>
            </p:nvSpPr>
            <p:spPr>
              <a:xfrm>
                <a:off x="2411280" y="3716280"/>
                <a:ext cx="30243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2411280" y="3716280"/>
                <a:ext cx="302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15"/>
            <p:cNvSpPr/>
            <p:nvPr/>
          </p:nvSpPr>
          <p:spPr>
            <a:xfrm>
              <a:off x="5508720" y="3429000"/>
              <a:ext cx="33843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最终完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（经济重心完全转移到南方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16"/>
          <p:cNvSpPr/>
          <p:nvPr/>
        </p:nvSpPr>
        <p:spPr>
          <a:xfrm>
            <a:off x="900000" y="4292640"/>
            <a:ext cx="748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原因：①北方人口大量南迁，提供了大量的劳动力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②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带去了先进的生产技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③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北方战乱不断，南方相对和平稳定的社会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④ 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南方土地肥沃，自然条件优越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⑤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南方人民的辛勤劳动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755640" y="40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学习文化史，一般要涉及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1547640" y="1700280"/>
            <a:ext cx="5545440" cy="4181760"/>
            <a:chOff x="1547640" y="1700280"/>
            <a:chExt cx="5545440" cy="4181760"/>
          </a:xfrm>
        </p:grpSpPr>
        <p:grpSp>
          <p:nvGrpSpPr>
            <p:cNvPr id="303" name=""/>
            <p:cNvGrpSpPr/>
            <p:nvPr/>
          </p:nvGrpSpPr>
          <p:grpSpPr>
            <a:xfrm>
              <a:off x="3059280" y="3789360"/>
              <a:ext cx="2520720" cy="360"/>
              <a:chOff x="3059280" y="3789360"/>
              <a:chExt cx="2520720" cy="360"/>
            </a:xfrm>
          </p:grpSpPr>
          <p:sp>
            <p:nvSpPr>
              <p:cNvPr id="304" name="Line 5"/>
              <p:cNvSpPr/>
              <p:nvPr/>
            </p:nvSpPr>
            <p:spPr>
              <a:xfrm>
                <a:off x="3059280" y="3789360"/>
                <a:ext cx="25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3059280" y="378936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356000" y="2492280"/>
              <a:ext cx="360" cy="2665440"/>
              <a:chOff x="4356000" y="2492280"/>
              <a:chExt cx="360" cy="2665440"/>
            </a:xfrm>
          </p:grpSpPr>
          <p:sp>
            <p:nvSpPr>
              <p:cNvPr id="307" name="Line 6"/>
              <p:cNvSpPr/>
              <p:nvPr/>
            </p:nvSpPr>
            <p:spPr>
              <a:xfrm>
                <a:off x="4356000" y="2492280"/>
                <a:ext cx="0" cy="26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4356000" y="2492280"/>
                <a:ext cx="360" cy="266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7"/>
            <p:cNvSpPr/>
            <p:nvPr/>
          </p:nvSpPr>
          <p:spPr>
            <a:xfrm>
              <a:off x="3419640" y="170028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思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292720" y="342900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科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3419640" y="53006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文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1547640" y="350028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艺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1"/>
          <p:cNvSpPr/>
          <p:nvPr/>
        </p:nvSpPr>
        <p:spPr>
          <a:xfrm>
            <a:off x="7164360" y="1844640"/>
            <a:ext cx="1800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建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雕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天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医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印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258920" y="602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语言、文字、著作、诗、词、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79200" y="2730600"/>
            <a:ext cx="1835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绘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音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舞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0"/>
            <a:ext cx="2895480" cy="4393440"/>
            <a:chOff x="0" y="0"/>
            <a:chExt cx="2895480" cy="4393440"/>
          </a:xfrm>
        </p:grpSpPr>
        <p:pic>
          <p:nvPicPr>
            <p:cNvPr id="628" name="Picture 3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89548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4"/>
            <p:cNvSpPr/>
            <p:nvPr/>
          </p:nvSpPr>
          <p:spPr>
            <a:xfrm>
              <a:off x="324000" y="39337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北宋交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5"/>
          <p:cNvGrpSpPr/>
          <p:nvPr/>
        </p:nvGrpSpPr>
        <p:grpSpPr>
          <a:xfrm>
            <a:off x="2987640" y="0"/>
            <a:ext cx="2874960" cy="4320360"/>
            <a:chOff x="2987640" y="0"/>
            <a:chExt cx="2874960" cy="4320360"/>
          </a:xfrm>
        </p:grpSpPr>
        <p:pic>
          <p:nvPicPr>
            <p:cNvPr id="631" name="Picture 6" descr="2"/>
            <p:cNvPicPr/>
            <p:nvPr/>
          </p:nvPicPr>
          <p:blipFill>
            <a:blip r:embed="rId2"/>
            <a:stretch/>
          </p:blipFill>
          <p:spPr>
            <a:xfrm>
              <a:off x="2987640" y="0"/>
              <a:ext cx="287496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7"/>
            <p:cNvSpPr/>
            <p:nvPr/>
          </p:nvSpPr>
          <p:spPr>
            <a:xfrm>
              <a:off x="3348000" y="386064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南宋会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 Box 8"/>
          <p:cNvSpPr/>
          <p:nvPr/>
        </p:nvSpPr>
        <p:spPr>
          <a:xfrm>
            <a:off x="0" y="450864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这两枚纸币中，你能发现哪些历史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826920" y="501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宋代商业繁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826920" y="5589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交子是世界上最早的纸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826920" y="6165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四处地区出现交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6084720" y="333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纸币出现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6084720" y="907920"/>
            <a:ext cx="30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宋代商业活动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金属货币携带很不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6084720" y="1916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纸币的优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084720" y="242100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便于携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便于流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5940360" y="35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的货币又有什么新发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6012000" y="4508640"/>
            <a:ext cx="313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同国家统一发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信用度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使用地区广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印出精美，有防伪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纸币发行、管理科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684360" y="1341360"/>
            <a:ext cx="42480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币的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利于商业发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79280" y="189000"/>
            <a:ext cx="87138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材料二  （据史书记载，汉朝时江南）地域辽阔而人烟稀少；稻米和鱼是主要食物，人们还采集植物和贝类为食；放火烧荒，耕种水田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非常富裕的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材料三  （据史书记载，南朝时）江南之为国盛矣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广野丰，民勤本业，一岁或稔（丰收），则数郡忘饥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丝绵布帛之饶，覆衣天下（供天下人享用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395280" y="400536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原因：①北方人口大量南迁，提供了大量的劳动力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②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带去了先进的生产技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③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北方战乱不断，南方相对和平稳定的社会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④ 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南方土地肥沃，自然条件优越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           ⑤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南方人民的辛勤劳动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250920" y="3141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材料二、三中描述的江南有很大不同。结合所学知识，分析出现这种变化的原因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508720" y="10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（贫穷落后的江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5508720" y="2565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（富裕繁盛的江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B02-521F-402D-B60C-E73B8B5F57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8000" y="836640"/>
            <a:ext cx="885672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材料四  （宋代中国）现代化的程度令人吃惊，货币经济、纸钞、流通票据、高度发展的茶盐企业非常独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人民日常生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方面，中国是当时世界上首屈一指的国家，其自豪足以认为世界其他各地皆为“化外之邦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法）谢和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南宋社会生活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举三例说明宋代中国“现代化程度令人吃惊”的表现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通过阅读上面材料，结合所学中国古代史知识，归纳出能够促进国家（或地区）经济发展的一个因素。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324000" y="3068640"/>
            <a:ext cx="8497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商业繁荣（或海外贸易）超过了前代；  ②设立市舶司管理对外贸易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出现早市、夜市；        ④沿街设立店铺；       ⑤旅店业兴旺；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使用纸币；                  ⑦出现娱乐场所瓦子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⑧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有春节（或元宵节、端午节、中秋节）等传统节日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24000" y="5805360"/>
            <a:ext cx="86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根据实际制定恰当政策（或引进人才）；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引进先进科学技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维持地区和平稳定等；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18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i="1" lang="zh-CN" sz="2000" spc="-1" strike="noStrike">
                <a:solidFill>
                  <a:srgbClr val="ff3300"/>
                </a:solidFill>
                <a:latin typeface="Arial"/>
              </a:rPr>
              <a:t>加强地区之间的人口流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755640" y="18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年潍坊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WAT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历史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0"/>
          <p:cNvSpPr/>
          <p:nvPr/>
        </p:nvSpPr>
        <p:spPr>
          <a:xfrm>
            <a:off x="468360" y="404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隋唐文化一：科学技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建筑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0" y="549360"/>
            <a:ext cx="9144000" cy="3889440"/>
            <a:chOff x="0" y="549360"/>
            <a:chExt cx="9144000" cy="3889440"/>
          </a:xfrm>
        </p:grpSpPr>
        <p:grpSp>
          <p:nvGrpSpPr>
            <p:cNvPr id="318" name="Group 17"/>
            <p:cNvGrpSpPr/>
            <p:nvPr/>
          </p:nvGrpSpPr>
          <p:grpSpPr>
            <a:xfrm>
              <a:off x="0" y="549360"/>
              <a:ext cx="9144000" cy="3889440"/>
              <a:chOff x="0" y="549360"/>
              <a:chExt cx="9144000" cy="3889440"/>
            </a:xfrm>
          </p:grpSpPr>
          <p:sp>
            <p:nvSpPr>
              <p:cNvPr id="319" name="AutoShape 5"/>
              <p:cNvSpPr/>
              <p:nvPr/>
            </p:nvSpPr>
            <p:spPr>
              <a:xfrm>
                <a:off x="0" y="549360"/>
                <a:ext cx="9144000" cy="38894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" name="Picture 8" descr="李春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052640"/>
                <a:ext cx="2374920" cy="288108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321" name="Picture 9" descr="赵州桥"/>
              <p:cNvPicPr/>
              <p:nvPr/>
            </p:nvPicPr>
            <p:blipFill>
              <a:blip r:embed="rId2"/>
              <a:stretch/>
            </p:blipFill>
            <p:spPr>
              <a:xfrm>
                <a:off x="3780000" y="1052640"/>
                <a:ext cx="4895640" cy="288108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2775960" y="1052640"/>
                <a:ext cx="606960" cy="28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李  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3280680" y="1052640"/>
                <a:ext cx="606960" cy="28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赵 州 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348000" y="1052640"/>
              <a:ext cx="360" cy="2881080"/>
              <a:chOff x="3348000" y="1052640"/>
              <a:chExt cx="360" cy="2881080"/>
            </a:xfrm>
          </p:grpSpPr>
          <p:sp>
            <p:nvSpPr>
              <p:cNvPr id="325" name="Line 13"/>
              <p:cNvSpPr/>
              <p:nvPr/>
            </p:nvSpPr>
            <p:spPr>
              <a:xfrm>
                <a:off x="3348000" y="1052640"/>
                <a:ext cx="0" cy="28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3348000" y="1052640"/>
                <a:ext cx="360" cy="288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 Box 16"/>
          <p:cNvSpPr/>
          <p:nvPr/>
        </p:nvSpPr>
        <p:spPr>
          <a:xfrm>
            <a:off x="4370040" y="2565360"/>
            <a:ext cx="42595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设计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跨度很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桥面平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便于交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427640" y="1052640"/>
            <a:ext cx="280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6"/>
          <p:cNvGrpSpPr/>
          <p:nvPr/>
        </p:nvGrpSpPr>
        <p:grpSpPr>
          <a:xfrm>
            <a:off x="615240" y="4076640"/>
            <a:ext cx="8528760" cy="2611080"/>
            <a:chOff x="615240" y="4076640"/>
            <a:chExt cx="8528760" cy="2611080"/>
          </a:xfrm>
        </p:grpSpPr>
        <p:sp>
          <p:nvSpPr>
            <p:cNvPr id="330" name="Text Box 14"/>
            <p:cNvSpPr/>
            <p:nvPr/>
          </p:nvSpPr>
          <p:spPr>
            <a:xfrm>
              <a:off x="615240" y="4076640"/>
              <a:ext cx="6069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赵 州 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1582560" y="4221000"/>
              <a:ext cx="756144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设计者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朝  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地  位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隶书"/>
                  <a:ea typeface="隶书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多年以后，</a:t>
              </a:r>
              <a:r>
                <a:rPr b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欧洲人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才建成类似的桥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5"/>
            <p:cNvGrpSpPr/>
            <p:nvPr/>
          </p:nvGrpSpPr>
          <p:grpSpPr>
            <a:xfrm>
              <a:off x="1258920" y="4437000"/>
              <a:ext cx="360360" cy="2088000"/>
              <a:chOff x="1258920" y="4437000"/>
              <a:chExt cx="360360" cy="20880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258920" y="4437000"/>
                <a:ext cx="360" cy="2087640"/>
                <a:chOff x="1258920" y="4437000"/>
                <a:chExt cx="360" cy="2087640"/>
              </a:xfrm>
            </p:grpSpPr>
            <p:sp>
              <p:nvSpPr>
                <p:cNvPr id="334" name="Line 20"/>
                <p:cNvSpPr/>
                <p:nvPr/>
              </p:nvSpPr>
              <p:spPr>
                <a:xfrm>
                  <a:off x="1258920" y="4437000"/>
                  <a:ext cx="0" cy="208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1258920" y="4437000"/>
                  <a:ext cx="360" cy="20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258920" y="4437000"/>
                <a:ext cx="360360" cy="360"/>
                <a:chOff x="1258920" y="4437000"/>
                <a:chExt cx="360360" cy="360"/>
              </a:xfrm>
            </p:grpSpPr>
            <p:sp>
              <p:nvSpPr>
                <p:cNvPr id="337" name="Line 21"/>
                <p:cNvSpPr/>
                <p:nvPr/>
              </p:nvSpPr>
              <p:spPr>
                <a:xfrm>
                  <a:off x="1258920" y="4437000"/>
                  <a:ext cx="36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1258920" y="443700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258920" y="5157720"/>
                <a:ext cx="360360" cy="360"/>
                <a:chOff x="1258920" y="5157720"/>
                <a:chExt cx="360360" cy="360"/>
              </a:xfrm>
            </p:grpSpPr>
            <p:sp>
              <p:nvSpPr>
                <p:cNvPr id="340" name="Line 22"/>
                <p:cNvSpPr/>
                <p:nvPr/>
              </p:nvSpPr>
              <p:spPr>
                <a:xfrm>
                  <a:off x="1258920" y="5157720"/>
                  <a:ext cx="36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 txBox="1"/>
                <p:nvPr/>
              </p:nvSpPr>
              <p:spPr>
                <a:xfrm>
                  <a:off x="1258920" y="515772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258920" y="5805360"/>
                <a:ext cx="360360" cy="360"/>
                <a:chOff x="1258920" y="5805360"/>
                <a:chExt cx="360360" cy="360"/>
              </a:xfrm>
            </p:grpSpPr>
            <p:sp>
              <p:nvSpPr>
                <p:cNvPr id="343" name="Line 23"/>
                <p:cNvSpPr/>
                <p:nvPr/>
              </p:nvSpPr>
              <p:spPr>
                <a:xfrm>
                  <a:off x="1258920" y="5805360"/>
                  <a:ext cx="36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1258920" y="580536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1258920" y="6524640"/>
                <a:ext cx="360360" cy="360"/>
                <a:chOff x="1258920" y="6524640"/>
                <a:chExt cx="360360" cy="360"/>
              </a:xfrm>
            </p:grpSpPr>
            <p:sp>
              <p:nvSpPr>
                <p:cNvPr id="346" name="Line 24"/>
                <p:cNvSpPr/>
                <p:nvPr/>
              </p:nvSpPr>
              <p:spPr>
                <a:xfrm>
                  <a:off x="1258920" y="6524640"/>
                  <a:ext cx="36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 txBox="1"/>
                <p:nvPr/>
              </p:nvSpPr>
              <p:spPr>
                <a:xfrm>
                  <a:off x="1258920" y="6524640"/>
                  <a:ext cx="36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8" name="Text Box 27"/>
          <p:cNvSpPr/>
          <p:nvPr/>
        </p:nvSpPr>
        <p:spPr>
          <a:xfrm>
            <a:off x="2700360" y="422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李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9"/>
          <p:cNvSpPr/>
          <p:nvPr/>
        </p:nvSpPr>
        <p:spPr>
          <a:xfrm>
            <a:off x="2700360" y="4869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0"/>
          <p:cNvSpPr/>
          <p:nvPr/>
        </p:nvSpPr>
        <p:spPr>
          <a:xfrm>
            <a:off x="2771640" y="551664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是世界上现在最古老的一座石拱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1"/>
          <p:cNvSpPr/>
          <p:nvPr/>
        </p:nvSpPr>
        <p:spPr>
          <a:xfrm>
            <a:off x="1547640" y="6093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2"/>
          <p:cNvSpPr/>
          <p:nvPr/>
        </p:nvSpPr>
        <p:spPr>
          <a:xfrm>
            <a:off x="5435640" y="105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石拱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3"/>
          <p:cNvSpPr/>
          <p:nvPr/>
        </p:nvSpPr>
        <p:spPr>
          <a:xfrm>
            <a:off x="4500720" y="2565360"/>
            <a:ext cx="158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1332000" y="692280"/>
            <a:ext cx="756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运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古代世界最长的人工运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赵州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世界上现存最古老的石拱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举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被英国大百科全书誉为世界上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的考试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3240" y="1341360"/>
            <a:ext cx="66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隋  朝  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1042920" y="1700280"/>
            <a:ext cx="289080" cy="2665800"/>
            <a:chOff x="1042920" y="1700280"/>
            <a:chExt cx="289080" cy="2665800"/>
          </a:xfrm>
        </p:grpSpPr>
        <p:grpSp>
          <p:nvGrpSpPr>
            <p:cNvPr id="357" name=""/>
            <p:cNvGrpSpPr/>
            <p:nvPr/>
          </p:nvGrpSpPr>
          <p:grpSpPr>
            <a:xfrm>
              <a:off x="1042920" y="1700280"/>
              <a:ext cx="360" cy="2665440"/>
              <a:chOff x="1042920" y="1700280"/>
              <a:chExt cx="360" cy="2665440"/>
            </a:xfrm>
          </p:grpSpPr>
          <p:sp>
            <p:nvSpPr>
              <p:cNvPr id="358" name="Line 6"/>
              <p:cNvSpPr/>
              <p:nvPr/>
            </p:nvSpPr>
            <p:spPr>
              <a:xfrm>
                <a:off x="1042920" y="1700280"/>
                <a:ext cx="0" cy="26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1042920" y="1700280"/>
                <a:ext cx="360" cy="266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042920" y="1700280"/>
              <a:ext cx="289080" cy="360"/>
              <a:chOff x="1042920" y="1700280"/>
              <a:chExt cx="289080" cy="360"/>
            </a:xfrm>
          </p:grpSpPr>
          <p:sp>
            <p:nvSpPr>
              <p:cNvPr id="361" name="Line 7"/>
              <p:cNvSpPr/>
              <p:nvPr/>
            </p:nvSpPr>
            <p:spPr>
              <a:xfrm>
                <a:off x="1042920" y="170028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1042920" y="170028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042920" y="2997360"/>
              <a:ext cx="289080" cy="360"/>
              <a:chOff x="1042920" y="2997360"/>
              <a:chExt cx="289080" cy="360"/>
            </a:xfrm>
          </p:grpSpPr>
          <p:sp>
            <p:nvSpPr>
              <p:cNvPr id="364" name="Line 8"/>
              <p:cNvSpPr/>
              <p:nvPr/>
            </p:nvSpPr>
            <p:spPr>
              <a:xfrm>
                <a:off x="1042920" y="29973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042920" y="299736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1042920" y="4365720"/>
              <a:ext cx="289080" cy="360"/>
              <a:chOff x="1042920" y="4365720"/>
              <a:chExt cx="289080" cy="360"/>
            </a:xfrm>
          </p:grpSpPr>
          <p:sp>
            <p:nvSpPr>
              <p:cNvPr id="367" name="Line 9"/>
              <p:cNvSpPr/>
              <p:nvPr/>
            </p:nvSpPr>
            <p:spPr>
              <a:xfrm>
                <a:off x="1042920" y="436572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1042920" y="436572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7"/>
          <p:cNvSpPr/>
          <p:nvPr/>
        </p:nvSpPr>
        <p:spPr>
          <a:xfrm>
            <a:off x="611280" y="3429000"/>
            <a:ext cx="8281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驾石飞梁尽一虹，苍龙惊蛰背磨空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宋代杜德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水从碧玉环中过，人在苍龙背上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元代刘百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百尺高虹横水面，一弯新月出云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明代祝万祉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0" y="-243000"/>
            <a:ext cx="9144000" cy="3889440"/>
            <a:chOff x="0" y="-243000"/>
            <a:chExt cx="9144000" cy="3889440"/>
          </a:xfrm>
        </p:grpSpPr>
        <p:sp>
          <p:nvSpPr>
            <p:cNvPr id="371" name="AutoShape 10"/>
            <p:cNvSpPr/>
            <p:nvPr/>
          </p:nvSpPr>
          <p:spPr>
            <a:xfrm>
              <a:off x="0" y="-243000"/>
              <a:ext cx="9144000" cy="38894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11" descr="李春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2374920" cy="28810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373" name="Picture 12" descr="赵州桥"/>
            <p:cNvPicPr/>
            <p:nvPr/>
          </p:nvPicPr>
          <p:blipFill>
            <a:blip r:embed="rId2"/>
            <a:stretch/>
          </p:blipFill>
          <p:spPr>
            <a:xfrm>
              <a:off x="3780000" y="260280"/>
              <a:ext cx="4895640" cy="28810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74" name="Text Box 13"/>
            <p:cNvSpPr/>
            <p:nvPr/>
          </p:nvSpPr>
          <p:spPr>
            <a:xfrm>
              <a:off x="2775960" y="260280"/>
              <a:ext cx="60696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李  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4"/>
            <p:cNvSpPr/>
            <p:nvPr/>
          </p:nvSpPr>
          <p:spPr>
            <a:xfrm>
              <a:off x="3280680" y="260280"/>
              <a:ext cx="60696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赵 州 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7"/>
          <p:cNvSpPr/>
          <p:nvPr/>
        </p:nvSpPr>
        <p:spPr>
          <a:xfrm>
            <a:off x="611280" y="414972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唐都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当时世界上最大的城市，城北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气势宏伟，富丽堂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404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隋唐文化一：科学技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建筑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9"/>
          <p:cNvGrpSpPr/>
          <p:nvPr/>
        </p:nvGrpSpPr>
        <p:grpSpPr>
          <a:xfrm>
            <a:off x="0" y="620640"/>
            <a:ext cx="9144000" cy="3673440"/>
            <a:chOff x="0" y="620640"/>
            <a:chExt cx="9144000" cy="3673440"/>
          </a:xfrm>
        </p:grpSpPr>
        <p:sp>
          <p:nvSpPr>
            <p:cNvPr id="379" name="AutoShape 5"/>
            <p:cNvSpPr/>
            <p:nvPr/>
          </p:nvSpPr>
          <p:spPr>
            <a:xfrm>
              <a:off x="0" y="620640"/>
              <a:ext cx="9144000" cy="36734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Picture 12" descr="CBC005P"/>
            <p:cNvPicPr/>
            <p:nvPr/>
          </p:nvPicPr>
          <p:blipFill>
            <a:blip r:embed="rId1"/>
            <a:stretch/>
          </p:blipFill>
          <p:spPr>
            <a:xfrm>
              <a:off x="3924360" y="1052640"/>
              <a:ext cx="4680000" cy="2808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381" name="Picture 13" descr="长安"/>
            <p:cNvPicPr/>
            <p:nvPr/>
          </p:nvPicPr>
          <p:blipFill>
            <a:blip r:embed="rId2"/>
            <a:stretch/>
          </p:blipFill>
          <p:spPr>
            <a:xfrm>
              <a:off x="468360" y="1052640"/>
              <a:ext cx="2663640" cy="2808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82" name="Text Box 14"/>
            <p:cNvSpPr/>
            <p:nvPr/>
          </p:nvSpPr>
          <p:spPr>
            <a:xfrm>
              <a:off x="3062160" y="1125360"/>
              <a:ext cx="54612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唐 都 长 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5"/>
            <p:cNvSpPr/>
            <p:nvPr/>
          </p:nvSpPr>
          <p:spPr>
            <a:xfrm>
              <a:off x="3056760" y="1125360"/>
              <a:ext cx="9118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大 明 宫 含 元 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492360" y="1052640"/>
              <a:ext cx="360" cy="2736720"/>
              <a:chOff x="3492360" y="1052640"/>
              <a:chExt cx="360" cy="2736720"/>
            </a:xfrm>
          </p:grpSpPr>
          <p:sp>
            <p:nvSpPr>
              <p:cNvPr id="385" name="Line 16"/>
              <p:cNvSpPr/>
              <p:nvPr/>
            </p:nvSpPr>
            <p:spPr>
              <a:xfrm>
                <a:off x="3492360" y="105264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3492360" y="1052640"/>
                <a:ext cx="36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Text Box 20"/>
          <p:cNvSpPr/>
          <p:nvPr/>
        </p:nvSpPr>
        <p:spPr>
          <a:xfrm>
            <a:off x="2340000" y="4437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1547640" y="5300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大明宫含元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11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108000" y="0"/>
            <a:ext cx="2879640" cy="553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安城分宫城，皇城和外郭城三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宫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皇帝及皇族居住和处理朝政的地方；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皇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政府机关的所在地；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郭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居住区和商业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059280" y="5084640"/>
            <a:ext cx="608472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千家似围棋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二街如种菜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796000" y="260280"/>
            <a:ext cx="1727280" cy="12240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0" descr="CBC005P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4" name="Text Box 15"/>
          <p:cNvSpPr/>
          <p:nvPr/>
        </p:nvSpPr>
        <p:spPr>
          <a:xfrm>
            <a:off x="-7200" y="0"/>
            <a:ext cx="239796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势宏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富丽堂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6"/>
          <p:cNvSpPr/>
          <p:nvPr/>
        </p:nvSpPr>
        <p:spPr>
          <a:xfrm>
            <a:off x="468360" y="333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隋唐文化二：雕版印刷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9"/>
          <p:cNvGrpSpPr/>
          <p:nvPr/>
        </p:nvGrpSpPr>
        <p:grpSpPr>
          <a:xfrm>
            <a:off x="0" y="476280"/>
            <a:ext cx="9144000" cy="3887640"/>
            <a:chOff x="0" y="476280"/>
            <a:chExt cx="9144000" cy="3887640"/>
          </a:xfrm>
        </p:grpSpPr>
        <p:grpSp>
          <p:nvGrpSpPr>
            <p:cNvPr id="397" name="Group 38"/>
            <p:cNvGrpSpPr/>
            <p:nvPr/>
          </p:nvGrpSpPr>
          <p:grpSpPr>
            <a:xfrm>
              <a:off x="0" y="476280"/>
              <a:ext cx="9144000" cy="3887640"/>
              <a:chOff x="0" y="476280"/>
              <a:chExt cx="9144000" cy="3887640"/>
            </a:xfrm>
          </p:grpSpPr>
          <p:sp>
            <p:nvSpPr>
              <p:cNvPr id="398" name="AutoShape 4"/>
              <p:cNvSpPr/>
              <p:nvPr/>
            </p:nvSpPr>
            <p:spPr>
              <a:xfrm>
                <a:off x="0" y="476280"/>
                <a:ext cx="9144000" cy="38876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981000"/>
                <a:ext cx="7559640" cy="2879640"/>
              </a:xfrm>
              <a:prstGeom prst="rect">
                <a:avLst/>
              </a:prstGeom>
              <a:ln w="12600">
                <a:solidFill>
                  <a:srgbClr val="ff0000"/>
                </a:solidFill>
                <a:miter/>
              </a:ln>
            </p:spPr>
          </p:pic>
          <p:sp>
            <p:nvSpPr>
              <p:cNvPr id="400" name="Text Box 7"/>
              <p:cNvSpPr/>
              <p:nvPr/>
            </p:nvSpPr>
            <p:spPr>
              <a:xfrm>
                <a:off x="7817040" y="981000"/>
                <a:ext cx="103356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唐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《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金刚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8675640" y="981000"/>
              <a:ext cx="360" cy="2879640"/>
              <a:chOff x="8675640" y="981000"/>
              <a:chExt cx="360" cy="2879640"/>
            </a:xfrm>
          </p:grpSpPr>
          <p:sp>
            <p:nvSpPr>
              <p:cNvPr id="402" name="Line 8"/>
              <p:cNvSpPr/>
              <p:nvPr/>
            </p:nvSpPr>
            <p:spPr>
              <a:xfrm>
                <a:off x="8675640" y="981000"/>
                <a:ext cx="0" cy="287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8675640" y="981000"/>
                <a:ext cx="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9"/>
          <p:cNvSpPr/>
          <p:nvPr/>
        </p:nvSpPr>
        <p:spPr>
          <a:xfrm>
            <a:off x="179280" y="4149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中国古代四大发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1"/>
          <p:cNvGrpSpPr/>
          <p:nvPr/>
        </p:nvGrpSpPr>
        <p:grpSpPr>
          <a:xfrm>
            <a:off x="186480" y="4581360"/>
            <a:ext cx="911880" cy="1944720"/>
            <a:chOff x="186480" y="4581360"/>
            <a:chExt cx="911880" cy="1944720"/>
          </a:xfrm>
        </p:grpSpPr>
        <p:sp>
          <p:nvSpPr>
            <p:cNvPr id="406" name="Text Box 12"/>
            <p:cNvSpPr/>
            <p:nvPr/>
          </p:nvSpPr>
          <p:spPr>
            <a:xfrm>
              <a:off x="186480" y="5229000"/>
              <a:ext cx="911880" cy="12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造纸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811080" y="4581360"/>
              <a:ext cx="360" cy="647640"/>
              <a:chOff x="811080" y="4581360"/>
              <a:chExt cx="360" cy="647640"/>
            </a:xfrm>
          </p:grpSpPr>
          <p:sp>
            <p:nvSpPr>
              <p:cNvPr id="408" name="Line 17"/>
              <p:cNvSpPr/>
              <p:nvPr/>
            </p:nvSpPr>
            <p:spPr>
              <a:xfrm>
                <a:off x="811080" y="45813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811080" y="458136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22"/>
          <p:cNvGrpSpPr/>
          <p:nvPr/>
        </p:nvGrpSpPr>
        <p:grpSpPr>
          <a:xfrm>
            <a:off x="834480" y="4581360"/>
            <a:ext cx="911880" cy="1944720"/>
            <a:chOff x="834480" y="4581360"/>
            <a:chExt cx="911880" cy="1944720"/>
          </a:xfrm>
        </p:grpSpPr>
        <p:sp>
          <p:nvSpPr>
            <p:cNvPr id="411" name="Text Box 13"/>
            <p:cNvSpPr/>
            <p:nvPr/>
          </p:nvSpPr>
          <p:spPr>
            <a:xfrm>
              <a:off x="834480" y="5229000"/>
              <a:ext cx="911880" cy="129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印刷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476360" y="4581360"/>
              <a:ext cx="360" cy="647640"/>
              <a:chOff x="1476360" y="4581360"/>
              <a:chExt cx="360" cy="647640"/>
            </a:xfrm>
          </p:grpSpPr>
          <p:sp>
            <p:nvSpPr>
              <p:cNvPr id="413" name="Line 18"/>
              <p:cNvSpPr/>
              <p:nvPr/>
            </p:nvSpPr>
            <p:spPr>
              <a:xfrm>
                <a:off x="1476360" y="45813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>
                <a:off x="1476360" y="458136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23"/>
          <p:cNvGrpSpPr/>
          <p:nvPr/>
        </p:nvGrpSpPr>
        <p:grpSpPr>
          <a:xfrm>
            <a:off x="1482120" y="4581360"/>
            <a:ext cx="911880" cy="1944720"/>
            <a:chOff x="1482120" y="4581360"/>
            <a:chExt cx="911880" cy="1944720"/>
          </a:xfrm>
        </p:grpSpPr>
        <p:sp>
          <p:nvSpPr>
            <p:cNvPr id="416" name="Text Box 14"/>
            <p:cNvSpPr/>
            <p:nvPr/>
          </p:nvSpPr>
          <p:spPr>
            <a:xfrm>
              <a:off x="1482120" y="5229000"/>
              <a:ext cx="911880" cy="12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指南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124000" y="4581360"/>
              <a:ext cx="360" cy="647640"/>
              <a:chOff x="2124000" y="4581360"/>
              <a:chExt cx="360" cy="647640"/>
            </a:xfrm>
          </p:grpSpPr>
          <p:sp>
            <p:nvSpPr>
              <p:cNvPr id="418" name="Line 19"/>
              <p:cNvSpPr/>
              <p:nvPr/>
            </p:nvSpPr>
            <p:spPr>
              <a:xfrm>
                <a:off x="2124000" y="45813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2124000" y="458136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4"/>
          <p:cNvGrpSpPr/>
          <p:nvPr/>
        </p:nvGrpSpPr>
        <p:grpSpPr>
          <a:xfrm>
            <a:off x="2131200" y="4581360"/>
            <a:ext cx="911880" cy="1944720"/>
            <a:chOff x="2131200" y="4581360"/>
            <a:chExt cx="911880" cy="1944720"/>
          </a:xfrm>
        </p:grpSpPr>
        <p:sp>
          <p:nvSpPr>
            <p:cNvPr id="421" name="Text Box 15"/>
            <p:cNvSpPr/>
            <p:nvPr/>
          </p:nvSpPr>
          <p:spPr>
            <a:xfrm>
              <a:off x="2131200" y="5229000"/>
              <a:ext cx="911880" cy="12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火   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771640" y="4581360"/>
              <a:ext cx="360" cy="647640"/>
              <a:chOff x="2771640" y="4581360"/>
              <a:chExt cx="360" cy="647640"/>
            </a:xfrm>
          </p:grpSpPr>
          <p:sp>
            <p:nvSpPr>
              <p:cNvPr id="423" name="Line 20"/>
              <p:cNvSpPr/>
              <p:nvPr/>
            </p:nvSpPr>
            <p:spPr>
              <a:xfrm>
                <a:off x="2771640" y="45813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>
                <a:off x="2771640" y="458136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Text Box 25"/>
          <p:cNvSpPr/>
          <p:nvPr/>
        </p:nvSpPr>
        <p:spPr>
          <a:xfrm>
            <a:off x="2916360" y="4724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雕版印刷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6156360" y="400536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隋唐时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56360" y="4724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唐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——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金刚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1"/>
          <p:cNvSpPr/>
          <p:nvPr/>
        </p:nvSpPr>
        <p:spPr>
          <a:xfrm>
            <a:off x="6156360" y="5229360"/>
            <a:ext cx="29876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是世界上现存最早的、标有确切日期的雕版印刷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0"/>
          <p:cNvGrpSpPr/>
          <p:nvPr/>
        </p:nvGrpSpPr>
        <p:grpSpPr>
          <a:xfrm>
            <a:off x="4643280" y="4005360"/>
            <a:ext cx="2089440" cy="1789200"/>
            <a:chOff x="4643280" y="4005360"/>
            <a:chExt cx="2089440" cy="1789200"/>
          </a:xfrm>
        </p:grpSpPr>
        <p:sp>
          <p:nvSpPr>
            <p:cNvPr id="430" name="Text Box 26"/>
            <p:cNvSpPr/>
            <p:nvPr/>
          </p:nvSpPr>
          <p:spPr>
            <a:xfrm>
              <a:off x="4643280" y="4005360"/>
              <a:ext cx="208944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发明时间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代表作品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历史地位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37"/>
            <p:cNvGrpSpPr/>
            <p:nvPr/>
          </p:nvGrpSpPr>
          <p:grpSpPr>
            <a:xfrm>
              <a:off x="4716360" y="4221000"/>
              <a:ext cx="360360" cy="1440360"/>
              <a:chOff x="4716360" y="4221000"/>
              <a:chExt cx="360360" cy="14403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4716360" y="4221000"/>
                <a:ext cx="360" cy="1440000"/>
                <a:chOff x="4716360" y="4221000"/>
                <a:chExt cx="360" cy="1440000"/>
              </a:xfrm>
            </p:grpSpPr>
            <p:sp>
              <p:nvSpPr>
                <p:cNvPr id="433" name="Line 32"/>
                <p:cNvSpPr/>
                <p:nvPr/>
              </p:nvSpPr>
              <p:spPr>
                <a:xfrm>
                  <a:off x="4716360" y="4221000"/>
                  <a:ext cx="0" cy="144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>
                  <a:off x="4716360" y="4221000"/>
                  <a:ext cx="360" cy="14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36"/>
              <p:cNvGrpSpPr/>
              <p:nvPr/>
            </p:nvGrpSpPr>
            <p:grpSpPr>
              <a:xfrm>
                <a:off x="4716360" y="4221000"/>
                <a:ext cx="360360" cy="1440360"/>
                <a:chOff x="4716360" y="4221000"/>
                <a:chExt cx="360360" cy="144036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4716360" y="4221000"/>
                  <a:ext cx="360360" cy="360"/>
                  <a:chOff x="4716360" y="4221000"/>
                  <a:chExt cx="360360" cy="360"/>
                </a:xfrm>
              </p:grpSpPr>
              <p:sp>
                <p:nvSpPr>
                  <p:cNvPr id="437" name="Line 33"/>
                  <p:cNvSpPr/>
                  <p:nvPr/>
                </p:nvSpPr>
                <p:spPr>
                  <a:xfrm>
                    <a:off x="4716360" y="4221000"/>
                    <a:ext cx="36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 txBox="1"/>
                  <p:nvPr/>
                </p:nvSpPr>
                <p:spPr>
                  <a:xfrm>
                    <a:off x="4716360" y="4221000"/>
                    <a:ext cx="36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716360" y="4869000"/>
                  <a:ext cx="360360" cy="360"/>
                  <a:chOff x="4716360" y="4869000"/>
                  <a:chExt cx="360360" cy="360"/>
                </a:xfrm>
              </p:grpSpPr>
              <p:sp>
                <p:nvSpPr>
                  <p:cNvPr id="440" name="Line 34"/>
                  <p:cNvSpPr/>
                  <p:nvPr/>
                </p:nvSpPr>
                <p:spPr>
                  <a:xfrm>
                    <a:off x="4716360" y="4869000"/>
                    <a:ext cx="36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 txBox="1"/>
                  <p:nvPr/>
                </p:nvSpPr>
                <p:spPr>
                  <a:xfrm>
                    <a:off x="4716360" y="4869000"/>
                    <a:ext cx="36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4716360" y="5661000"/>
                  <a:ext cx="360360" cy="360"/>
                  <a:chOff x="4716360" y="5661000"/>
                  <a:chExt cx="360360" cy="360"/>
                </a:xfrm>
              </p:grpSpPr>
              <p:sp>
                <p:nvSpPr>
                  <p:cNvPr id="443" name="Line 35"/>
                  <p:cNvSpPr/>
                  <p:nvPr/>
                </p:nvSpPr>
                <p:spPr>
                  <a:xfrm>
                    <a:off x="4716360" y="5661000"/>
                    <a:ext cx="36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 txBox="1"/>
                  <p:nvPr/>
                </p:nvSpPr>
                <p:spPr>
                  <a:xfrm>
                    <a:off x="4716360" y="5661000"/>
                    <a:ext cx="36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1"/>
          <p:cNvPicPr/>
          <p:nvPr/>
        </p:nvPicPr>
        <p:blipFill>
          <a:blip r:embed="rId1"/>
          <a:stretch/>
        </p:blipFill>
        <p:spPr>
          <a:xfrm>
            <a:off x="0" y="3357720"/>
            <a:ext cx="3348000" cy="3500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6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3348000" cy="3357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7" name="Picture 9" descr="4"/>
          <p:cNvPicPr/>
          <p:nvPr/>
        </p:nvPicPr>
        <p:blipFill>
          <a:blip r:embed="rId3"/>
          <a:stretch/>
        </p:blipFill>
        <p:spPr>
          <a:xfrm>
            <a:off x="6084720" y="3357720"/>
            <a:ext cx="3059280" cy="3500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5"/>
          <p:cNvPicPr/>
          <p:nvPr/>
        </p:nvPicPr>
        <p:blipFill>
          <a:blip r:embed="rId4"/>
          <a:stretch/>
        </p:blipFill>
        <p:spPr>
          <a:xfrm>
            <a:off x="6084720" y="0"/>
            <a:ext cx="3059280" cy="33577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3"/>
          <p:cNvSpPr/>
          <p:nvPr/>
        </p:nvSpPr>
        <p:spPr>
          <a:xfrm>
            <a:off x="3348000" y="0"/>
            <a:ext cx="2736720" cy="146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方  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雕版印刷，是把要印的文字反刻在一块块木板上，让文字凸出，然后在字面上涂墨，覆上纸，轻轻一刷，文字就印在纸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3419640" y="4365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缺  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3348000" y="508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费时、费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3419640" y="58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不经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8:17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53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