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camera.wav" ContentType="audio/x-wav"/>
  <Override PartName="/ppt/media/image42.jpeg" ContentType="image/jpeg"/>
  <Override PartName="/ppt/media/image38.jpeg" ContentType="image/jpeg"/>
  <Override PartName="/ppt/media/image7.jpeg" ContentType="image/jpeg"/>
  <Override PartName="/ppt/media/image5.jpeg" ContentType="image/jpeg"/>
  <Override PartName="/ppt/media/image6.jpeg" ContentType="image/jpeg"/>
  <Override PartName="/ppt/media/image4.jpeg" ContentType="image/jpeg"/>
  <Override PartName="/ppt/media/type.wav" ContentType="audio/x-wav"/>
  <Override PartName="/ppt/media/suction.wav" ContentType="audio/x-wav"/>
  <Override PartName="/ppt/media/image25.jpeg" ContentType="image/jpeg"/>
  <Override PartName="/ppt/media/image36.jpeg" ContentType="image/jpeg"/>
  <Override PartName="/ppt/media/image2.jpeg" ContentType="image/jpeg"/>
  <Override PartName="/ppt/media/image37.jpeg" ContentType="image/jpeg"/>
  <Override PartName="/ppt/media/image3.jpeg" ContentType="image/jpeg"/>
  <Override PartName="/ppt/media/image23.jpeg" ContentType="image/jpeg"/>
  <Override PartName="/ppt/media/image21.jpeg" ContentType="image/jpeg"/>
  <Override PartName="/ppt/media/hammer.wav" ContentType="audio/x-wav"/>
  <Override PartName="/ppt/media/image16.jpeg" ContentType="image/jpeg"/>
  <Override PartName="/ppt/media/image54.jpeg" ContentType="image/jpeg"/>
  <Override PartName="/ppt/media/wind.wav" ContentType="audio/x-wav"/>
  <Override PartName="/ppt/media/image19.jpeg" ContentType="image/jpeg"/>
  <Override PartName="/ppt/media/image8.jpeg" ContentType="image/jpeg"/>
  <Override PartName="/ppt/media/image39.jpeg" ContentType="image/jpeg"/>
  <Override PartName="/ppt/media/image35.jpeg" ContentType="image/jpeg"/>
  <Override PartName="/ppt/media/image1.jpeg" ContentType="image/jpeg"/>
  <Override PartName="/ppt/media/image18.jpeg" ContentType="image/jpeg"/>
  <Override PartName="/ppt/media/image15.png" ContentType="image/png"/>
  <Override PartName="/ppt/media/image24.jpeg" ContentType="image/jpeg"/>
  <Override PartName="/ppt/media/image17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coin.wav" ContentType="audio/x-wav"/>
  <Override PartName="/ppt/media/image9.jpeg" ContentType="image/jpeg"/>
  <Override PartName="/ppt/media/image13.jpeg" ContentType="image/jpeg"/>
  <Override PartName="/ppt/media/image51.gif" ContentType="image/gif"/>
  <Override PartName="/ppt/media/image26.jpeg" ContentType="image/jpeg"/>
  <Override PartName="/ppt/media/image10.jpeg" ContentType="image/jpeg"/>
  <Override PartName="/ppt/media/image27.jpeg" ContentType="image/jpeg"/>
  <Override PartName="/ppt/media/image11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50.wmf" ContentType="image/x-wmf"/>
  <Override PartName="/ppt/media/image43.jpeg" ContentType="image/jpeg"/>
  <Override PartName="/ppt/media/image44.jpeg" ContentType="image/jpeg"/>
  <Override PartName="/ppt/media/image52.gif" ContentType="image/gif"/>
  <Override PartName="/ppt/media/image20.jpeg" ContentType="image/jpeg"/>
  <Override PartName="/ppt/media/image45.jpeg" ContentType="image/jpeg"/>
  <Override PartName="/ppt/media/image46.jpeg" ContentType="image/jpeg"/>
  <Override PartName="/ppt/media/arrow.wav" ContentType="audio/x-wav"/>
  <Override PartName="/ppt/media/image47.jpeg" ContentType="image/jpeg"/>
  <Override PartName="/ppt/media/image48.jpeg" ContentType="image/jpeg"/>
  <Override PartName="/ppt/media/image49.jpeg" ContentType="image/jpeg"/>
  <Override PartName="/ppt/media/image40.jpeg" ContentType="image/jpeg"/>
  <Override PartName="/ppt/media/image5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7A87-48E6-4C0E-B319-5F9718502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DDA4-638C-46A9-AAD7-CC6247D1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6983-CEAD-4136-A66E-B0449E798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91F1-59F7-40F6-9C66-B6D996B6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B1B8-FACD-4CF1-A021-E158AD1BA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4F44-5441-42A4-82B3-B147D058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1AC6-8221-4697-AD68-C2B58909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8339-364F-4308-9058-3BDAD533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882A-7075-4C90-BAD4-F9F35D86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5C5C-5E63-49D6-98FC-EA6D1916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9D38-CC4F-4CE4-A2A5-BB930D60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A235-4892-412D-AB7A-942E094A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7B7B-A379-493E-A532-3DFF9080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53F3-0090-4565-9EFF-5D0E8CEA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2B70-81BE-4224-A6D1-8FA5EC94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668D-ABE6-4ACC-8A52-BD82CA981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41C5-1470-4933-9FA7-B2522A5EA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8509D-3917-4537-98DA-96A3427BB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D16EE-B58D-48A0-9A82-E13C1892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49064-3D76-448D-82B2-5DC7B105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62223-5F1C-43B7-8697-DE17F113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60376-F8AD-4965-9485-8F0ED720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4BD4-9192-4103-A1F8-97979F56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CB2B8-2423-40DE-A251-2E53183A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EE024-2258-4810-B08E-17D6D41F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C8AED-6B1C-4A17-8B2A-269FF5C4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34525-4B3A-40FC-8BC3-D2BCC734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0DDA8-B1BE-4FD1-9A5F-3B397F02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C8827-BAFB-4409-8144-F4F8466AD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E9C59-0B35-4A2D-9A71-5EDD1BDE5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D9C80D-C82C-4D95-BDE4-FD0B2AA5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551BFD-8613-4ABD-92EB-F4392E0A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739498-5468-44F5-8892-6730FBE6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46F2-EF31-4548-A9E3-7F691200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4BE662-4342-4EA9-98BA-EA9C920B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1EC1E5-33CE-4DED-87FA-34B78CC8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F61F01-9ECC-411E-AD86-1EF1BC00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1D8742-99C1-42C3-9A59-E5764ED8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4ED4F0-4760-44F4-8481-DEAD1072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0F6DEE-96E1-45F9-AEEB-607E8E01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70E877-9EA4-4D04-B341-D06D4FB7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58FA18-FEC4-4733-8E43-47DA0B9C1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CF1242-6377-47B1-AFDC-8058E5A87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9BC3B-0C8D-4352-95AA-9C289444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D734-0836-4D67-BD41-6F4C36F8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C0FE3-765B-4D5F-A9C3-D4904EB1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11465-E789-43A3-84C5-2E567C08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476CD-4677-4561-ABFA-E7AA7D76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51151-49CC-4670-9CF7-60668C4A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A6847-F81F-47CD-9F3A-94656384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424B1-AB0C-4825-B743-7C418279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16861-3C4A-453B-A4E7-2B6D19E2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56AC9-1593-4D02-A5B9-F5DB9D52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06EAC-EB49-4334-8A10-3FC79744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FF22F-39F6-4949-A08B-EF9225AB1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D219-B10A-4CA4-9B3E-98DF4235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CDDA6-249F-4B50-A800-D758CEDB7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0ACE-640A-41DB-AE42-3503CD71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C064-4A05-4FA0-942C-27EB6D2A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0A41-F51F-46DF-BF30-055DD552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DD54-BE4B-4929-AB5E-05A061AF033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8713-EF72-4D67-9E40-B5856A14660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792D-6914-4A3B-BD49-A3196517A3F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31F1-F458-43EB-BCDE-EF6C097FA5D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2EBF-5E41-46C5-9E40-C51D3DE74B3B}" type="slidenum">
              <a:rPr b="0" lang="en-US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hammer.wav" TargetMode="External"/><Relationship Id="rId2" Type="http://schemas.openxmlformats.org/officeDocument/2006/relationships/image" Target="../media/image24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25.jpe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1.gif"/><Relationship Id="rId2" Type="http://schemas.openxmlformats.org/officeDocument/2006/relationships/image" Target="../media/image52.gif"/><Relationship Id="rId3" Type="http://schemas.openxmlformats.org/officeDocument/2006/relationships/image" Target="../media/image53.gif"/><Relationship Id="rId4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C:\WINDOWS\Desktop\hhs2.MP3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黄河源头1"/>
          <p:cNvPicPr/>
          <p:nvPr/>
        </p:nvPicPr>
        <p:blipFill>
          <a:blip r:embed="rId2"/>
          <a:srcRect l="0" t="0" r="0" b="147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黄河源头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001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005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洪水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黄河龙口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黄河公伯峡"/>
          <p:cNvPicPr/>
          <p:nvPr/>
        </p:nvPicPr>
        <p:blipFill>
          <a:blip r:embed="rId8"/>
          <a:srcRect l="0" t="0" r="11631" b="0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黄水黄土奇观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004"/>
          <p:cNvPicPr/>
          <p:nvPr/>
        </p:nvPicPr>
        <p:blipFill>
          <a:blip r:embed="rId10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黄河壶口瀑布"/>
          <p:cNvPicPr/>
          <p:nvPr/>
        </p:nvPicPr>
        <p:blipFill>
          <a:blip r:embed="rId11"/>
          <a:srcRect l="0" t="0" r="274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3" descr="壶口瀑布"/>
          <p:cNvPicPr/>
          <p:nvPr/>
        </p:nvPicPr>
        <p:blipFill>
          <a:blip r:embed="rId12"/>
          <a:srcRect l="4319" t="5447" r="5120" b="51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4" descr="黄河"/>
          <p:cNvPicPr/>
          <p:nvPr/>
        </p:nvPicPr>
        <p:blipFill>
          <a:blip r:embed="rId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5" descr="2913黄河"/>
          <p:cNvPicPr/>
          <p:nvPr/>
        </p:nvPicPr>
        <p:blipFill>
          <a:blip r:embed="rId14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220" name="矩形 1" descr=""/>
          <p:cNvPicPr/>
          <p:nvPr/>
        </p:nvPicPr>
        <p:blipFill>
          <a:blip r:embed="rId15"/>
          <a:stretch/>
        </p:blipFill>
        <p:spPr>
          <a:xfrm>
            <a:off x="1009800" y="907920"/>
            <a:ext cx="7988040" cy="701640"/>
          </a:xfrm>
          <a:prstGeom prst="rect">
            <a:avLst/>
          </a:prstGeom>
          <a:ln w="0">
            <a:noFill/>
          </a:ln>
        </p:spPr>
      </p:pic>
      <p:sp>
        <p:nvSpPr>
          <p:cNvPr id="22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5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0"/>
                            </p:stCondLst>
                            <p:childTnLst>
                              <p:par>
                                <p:cTn id="9" dur="indefinite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8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8000"/>
                            </p:stCondLst>
                            <p:childTnLst>
                              <p:par>
                                <p:cTn id="13" dur="indefinite" nodeType="after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6000"/>
                            </p:stCondLst>
                            <p:childTnLst>
                              <p:par>
                                <p:cTn id="17" dur="indefinite" nodeType="after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4000"/>
                            </p:stCondLst>
                            <p:childTnLst>
                              <p:par>
                                <p:cTn id="21" dur="indefinite" nodeType="after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8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2000"/>
                            </p:stCondLst>
                            <p:childTnLst>
                              <p:par>
                                <p:cTn id="25" dur="indefinite" nodeType="after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00"/>
                            </p:stCondLst>
                            <p:childTnLst>
                              <p:par>
                                <p:cTn id="29" dur="indefinite" nodeType="after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18000"/>
                            </p:stCondLst>
                            <p:childTnLst>
                              <p:par>
                                <p:cTn id="33" dur="indefinite" nodeType="after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36000"/>
                            </p:stCondLst>
                            <p:childTnLst>
                              <p:par>
                                <p:cTn id="37" dur="indefinite" nodeType="after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4000"/>
                            </p:stCondLst>
                            <p:childTnLst>
                              <p:par>
                                <p:cTn id="41" dur="indefinite" nodeType="after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72000"/>
                            </p:stCondLst>
                            <p:childTnLst>
                              <p:par>
                                <p:cTn id="45" dur="indefinite" nodeType="after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90000"/>
                            </p:stCondLst>
                            <p:childTnLst>
                              <p:par>
                                <p:cTn id="49" dur="indefinite" nodeType="after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8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8000"/>
                            </p:stCondLst>
                            <p:childTnLst>
                              <p:par>
                                <p:cTn id="53" dur="indefinite" nodeType="after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26000"/>
                            </p:stCondLst>
                            <p:childTnLst>
                              <p:par>
                                <p:cTn id="57" dur="indefinite" nodeType="after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由地图看黄河"/>
          <p:cNvPicPr/>
          <p:nvPr/>
        </p:nvPicPr>
        <p:blipFill>
          <a:blip r:embed="rId1"/>
          <a:stretch/>
        </p:blipFill>
        <p:spPr>
          <a:xfrm>
            <a:off x="611280" y="1052640"/>
            <a:ext cx="7991280" cy="5560920"/>
          </a:xfrm>
          <a:prstGeom prst="rect">
            <a:avLst/>
          </a:prstGeom>
          <a:ln w="0">
            <a:noFill/>
          </a:ln>
        </p:spPr>
      </p:pic>
      <p:sp>
        <p:nvSpPr>
          <p:cNvPr id="250" name="Freeform 3"/>
          <p:cNvSpPr/>
          <p:nvPr/>
        </p:nvSpPr>
        <p:spPr>
          <a:xfrm>
            <a:off x="3379680" y="3184560"/>
            <a:ext cx="2916360" cy="1068480"/>
          </a:xfrm>
          <a:custGeom>
            <a:avLst/>
            <a:gdLst/>
            <a:ahLst/>
            <a:rect l="l" t="t" r="r" b="b"/>
            <a:pathLst>
              <a:path w="2101" h="709">
                <a:moveTo>
                  <a:pt x="2101" y="213"/>
                </a:moveTo>
                <a:cubicBezTo>
                  <a:pt x="2069" y="234"/>
                  <a:pt x="2031" y="254"/>
                  <a:pt x="1994" y="266"/>
                </a:cubicBezTo>
                <a:cubicBezTo>
                  <a:pt x="1991" y="275"/>
                  <a:pt x="1992" y="286"/>
                  <a:pt x="1985" y="293"/>
                </a:cubicBezTo>
                <a:cubicBezTo>
                  <a:pt x="1979" y="299"/>
                  <a:pt x="1967" y="297"/>
                  <a:pt x="1959" y="301"/>
                </a:cubicBezTo>
                <a:cubicBezTo>
                  <a:pt x="1866" y="340"/>
                  <a:pt x="1969" y="303"/>
                  <a:pt x="1897" y="328"/>
                </a:cubicBezTo>
                <a:cubicBezTo>
                  <a:pt x="1872" y="401"/>
                  <a:pt x="1811" y="462"/>
                  <a:pt x="1746" y="505"/>
                </a:cubicBezTo>
                <a:cubicBezTo>
                  <a:pt x="1704" y="532"/>
                  <a:pt x="1602" y="528"/>
                  <a:pt x="1560" y="532"/>
                </a:cubicBezTo>
                <a:cubicBezTo>
                  <a:pt x="1495" y="575"/>
                  <a:pt x="1565" y="535"/>
                  <a:pt x="1418" y="558"/>
                </a:cubicBezTo>
                <a:cubicBezTo>
                  <a:pt x="1400" y="561"/>
                  <a:pt x="1365" y="576"/>
                  <a:pt x="1365" y="576"/>
                </a:cubicBezTo>
                <a:cubicBezTo>
                  <a:pt x="1350" y="573"/>
                  <a:pt x="1327" y="581"/>
                  <a:pt x="1321" y="567"/>
                </a:cubicBezTo>
                <a:cubicBezTo>
                  <a:pt x="1314" y="550"/>
                  <a:pt x="1339" y="514"/>
                  <a:pt x="1339" y="514"/>
                </a:cubicBezTo>
                <a:cubicBezTo>
                  <a:pt x="1333" y="455"/>
                  <a:pt x="1327" y="403"/>
                  <a:pt x="1312" y="346"/>
                </a:cubicBezTo>
                <a:cubicBezTo>
                  <a:pt x="1374" y="325"/>
                  <a:pt x="1359" y="346"/>
                  <a:pt x="1374" y="301"/>
                </a:cubicBezTo>
                <a:cubicBezTo>
                  <a:pt x="1362" y="283"/>
                  <a:pt x="1334" y="269"/>
                  <a:pt x="1339" y="248"/>
                </a:cubicBezTo>
                <a:cubicBezTo>
                  <a:pt x="1347" y="212"/>
                  <a:pt x="1353" y="190"/>
                  <a:pt x="1374" y="160"/>
                </a:cubicBezTo>
                <a:cubicBezTo>
                  <a:pt x="1377" y="151"/>
                  <a:pt x="1379" y="141"/>
                  <a:pt x="1383" y="133"/>
                </a:cubicBezTo>
                <a:cubicBezTo>
                  <a:pt x="1388" y="124"/>
                  <a:pt x="1403" y="117"/>
                  <a:pt x="1401" y="107"/>
                </a:cubicBezTo>
                <a:cubicBezTo>
                  <a:pt x="1399" y="96"/>
                  <a:pt x="1383" y="95"/>
                  <a:pt x="1374" y="89"/>
                </a:cubicBezTo>
                <a:cubicBezTo>
                  <a:pt x="1368" y="71"/>
                  <a:pt x="1374" y="42"/>
                  <a:pt x="1356" y="36"/>
                </a:cubicBezTo>
                <a:cubicBezTo>
                  <a:pt x="1286" y="12"/>
                  <a:pt x="1135" y="9"/>
                  <a:pt x="1135" y="9"/>
                </a:cubicBezTo>
                <a:cubicBezTo>
                  <a:pt x="1047" y="16"/>
                  <a:pt x="1027" y="0"/>
                  <a:pt x="984" y="62"/>
                </a:cubicBezTo>
                <a:cubicBezTo>
                  <a:pt x="978" y="80"/>
                  <a:pt x="965" y="117"/>
                  <a:pt x="966" y="133"/>
                </a:cubicBezTo>
                <a:cubicBezTo>
                  <a:pt x="968" y="152"/>
                  <a:pt x="984" y="186"/>
                  <a:pt x="984" y="186"/>
                </a:cubicBezTo>
                <a:cubicBezTo>
                  <a:pt x="965" y="215"/>
                  <a:pt x="942" y="229"/>
                  <a:pt x="922" y="257"/>
                </a:cubicBezTo>
                <a:cubicBezTo>
                  <a:pt x="896" y="334"/>
                  <a:pt x="905" y="324"/>
                  <a:pt x="816" y="337"/>
                </a:cubicBezTo>
                <a:cubicBezTo>
                  <a:pt x="803" y="341"/>
                  <a:pt x="763" y="350"/>
                  <a:pt x="763" y="372"/>
                </a:cubicBezTo>
                <a:cubicBezTo>
                  <a:pt x="763" y="383"/>
                  <a:pt x="780" y="384"/>
                  <a:pt x="789" y="390"/>
                </a:cubicBezTo>
                <a:cubicBezTo>
                  <a:pt x="786" y="402"/>
                  <a:pt x="789" y="418"/>
                  <a:pt x="780" y="426"/>
                </a:cubicBezTo>
                <a:cubicBezTo>
                  <a:pt x="766" y="438"/>
                  <a:pt x="745" y="437"/>
                  <a:pt x="727" y="443"/>
                </a:cubicBezTo>
                <a:cubicBezTo>
                  <a:pt x="686" y="456"/>
                  <a:pt x="644" y="465"/>
                  <a:pt x="603" y="479"/>
                </a:cubicBezTo>
                <a:cubicBezTo>
                  <a:pt x="585" y="476"/>
                  <a:pt x="567" y="474"/>
                  <a:pt x="550" y="470"/>
                </a:cubicBezTo>
                <a:cubicBezTo>
                  <a:pt x="532" y="465"/>
                  <a:pt x="497" y="452"/>
                  <a:pt x="497" y="452"/>
                </a:cubicBezTo>
                <a:cubicBezTo>
                  <a:pt x="467" y="455"/>
                  <a:pt x="436" y="451"/>
                  <a:pt x="408" y="461"/>
                </a:cubicBezTo>
                <a:cubicBezTo>
                  <a:pt x="374" y="472"/>
                  <a:pt x="380" y="537"/>
                  <a:pt x="399" y="567"/>
                </a:cubicBezTo>
                <a:cubicBezTo>
                  <a:pt x="407" y="580"/>
                  <a:pt x="429" y="573"/>
                  <a:pt x="444" y="576"/>
                </a:cubicBezTo>
                <a:cubicBezTo>
                  <a:pt x="462" y="637"/>
                  <a:pt x="502" y="642"/>
                  <a:pt x="550" y="674"/>
                </a:cubicBezTo>
                <a:cubicBezTo>
                  <a:pt x="558" y="697"/>
                  <a:pt x="572" y="709"/>
                  <a:pt x="532" y="709"/>
                </a:cubicBezTo>
                <a:cubicBezTo>
                  <a:pt x="518" y="709"/>
                  <a:pt x="437" y="669"/>
                  <a:pt x="426" y="665"/>
                </a:cubicBezTo>
                <a:cubicBezTo>
                  <a:pt x="361" y="643"/>
                  <a:pt x="404" y="656"/>
                  <a:pt x="275" y="647"/>
                </a:cubicBezTo>
                <a:cubicBezTo>
                  <a:pt x="215" y="626"/>
                  <a:pt x="284" y="658"/>
                  <a:pt x="240" y="594"/>
                </a:cubicBezTo>
                <a:cubicBezTo>
                  <a:pt x="235" y="586"/>
                  <a:pt x="222" y="588"/>
                  <a:pt x="213" y="585"/>
                </a:cubicBezTo>
                <a:cubicBezTo>
                  <a:pt x="210" y="576"/>
                  <a:pt x="212" y="563"/>
                  <a:pt x="204" y="558"/>
                </a:cubicBezTo>
                <a:cubicBezTo>
                  <a:pt x="189" y="547"/>
                  <a:pt x="151" y="541"/>
                  <a:pt x="151" y="541"/>
                </a:cubicBezTo>
                <a:cubicBezTo>
                  <a:pt x="114" y="551"/>
                  <a:pt x="112" y="556"/>
                  <a:pt x="71" y="541"/>
                </a:cubicBezTo>
                <a:cubicBezTo>
                  <a:pt x="61" y="537"/>
                  <a:pt x="55" y="526"/>
                  <a:pt x="45" y="523"/>
                </a:cubicBezTo>
                <a:cubicBezTo>
                  <a:pt x="30" y="519"/>
                  <a:pt x="15" y="523"/>
                  <a:pt x="0" y="523"/>
                </a:cubicBezTo>
              </a:path>
            </a:pathLst>
          </a:custGeom>
          <a:noFill/>
          <a:ln w="7632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3059280" y="26028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黄河的基本走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3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黄河壶口瀑布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3"/>
          <p:cNvSpPr/>
          <p:nvPr/>
        </p:nvSpPr>
        <p:spPr>
          <a:xfrm>
            <a:off x="685800" y="7621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1371600" y="31240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0" y="1628640"/>
            <a:ext cx="511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99ff"/>
                </a:solidFill>
                <a:latin typeface="Times New Roman"/>
                <a:ea typeface="宋体"/>
              </a:rPr>
              <a:t>欣赏图片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468360" y="3645000"/>
            <a:ext cx="820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华文中宋"/>
              </a:rPr>
              <a:t>你能说一句感受的话吗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395280" y="1341360"/>
            <a:ext cx="8416800" cy="4463640"/>
            <a:chOff x="395280" y="1341360"/>
            <a:chExt cx="8416800" cy="4463640"/>
          </a:xfrm>
        </p:grpSpPr>
        <p:pic>
          <p:nvPicPr>
            <p:cNvPr id="258" name="Picture 3" descr="发源地景观1"/>
            <p:cNvPicPr/>
            <p:nvPr/>
          </p:nvPicPr>
          <p:blipFill>
            <a:blip r:embed="rId1"/>
            <a:stretch/>
          </p:blipFill>
          <p:spPr>
            <a:xfrm>
              <a:off x="395280" y="1341360"/>
              <a:ext cx="4176720" cy="44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4" descr="发源地景观2"/>
            <p:cNvPicPr/>
            <p:nvPr/>
          </p:nvPicPr>
          <p:blipFill>
            <a:blip r:embed="rId2"/>
            <a:stretch/>
          </p:blipFill>
          <p:spPr>
            <a:xfrm>
              <a:off x="4714560" y="1375200"/>
              <a:ext cx="4097520" cy="440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0" name="Text Box 5"/>
          <p:cNvSpPr/>
          <p:nvPr/>
        </p:nvSpPr>
        <p:spPr>
          <a:xfrm>
            <a:off x="2124000" y="602136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注：黄河源于青海省巴颜喀拉山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3059280" y="404640"/>
            <a:ext cx="33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中宋"/>
              </a:rPr>
              <a:t>黄河源头景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115_t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WordArt 5"/>
          <p:cNvSpPr txBox="1"/>
          <p:nvPr/>
        </p:nvSpPr>
        <p:spPr>
          <a:xfrm>
            <a:off x="468360" y="5445000"/>
            <a:ext cx="1763640" cy="12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190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潼关</a:t>
            </a:r>
            <a:endParaRPr b="0" lang="en-US" sz="3600" spc="1" strike="noStrike">
              <a:ln w="19080">
                <a:solidFill>
                  <a:srgbClr val="ffffff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wipe dir="u"/>
    <p:sndAc>
      <p:stSnd>
        <p:snd r:embed="rId2" name="type.wav"/>
      </p:stSnd>
    </p:sndAc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6" descr="039_hhlk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265" name="WordArt 7"/>
          <p:cNvSpPr txBox="1"/>
          <p:nvPr/>
        </p:nvSpPr>
        <p:spPr>
          <a:xfrm>
            <a:off x="179280" y="3068640"/>
            <a:ext cx="151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黄河龙口</a:t>
            </a:r>
            <a:endParaRPr b="0" lang="en-US" sz="36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wipe dir="u"/>
    <p:sndAc>
      <p:stSnd>
        <p:snd r:embed="rId3" name="type.wav"/>
      </p:stSnd>
    </p:sndAc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038_hhgbx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WordArt 3"/>
          <p:cNvSpPr txBox="1"/>
          <p:nvPr/>
        </p:nvSpPr>
        <p:spPr>
          <a:xfrm>
            <a:off x="6443640" y="4797360"/>
            <a:ext cx="2556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公伯峡</a:t>
            </a:r>
            <a:endParaRPr b="0" lang="en-US" sz="3600" spc="1" strike="noStrike">
              <a:ln w="9360">
                <a:solidFill>
                  <a:srgbClr val="cc99ff"/>
                </a:solidFill>
                <a:round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blinds dir="horz"/>
    <p:sndAc>
      <p:stSnd>
        <p:snd r:embed="rId3" name="hammer.wav"/>
      </p:stSnd>
    </p:sndAc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黄河中游景观"/>
          <p:cNvPicPr/>
          <p:nvPr/>
        </p:nvPicPr>
        <p:blipFill>
          <a:blip r:embed="rId1"/>
          <a:srcRect l="0" t="0" r="0" b="92"/>
          <a:stretch/>
        </p:blipFill>
        <p:spPr>
          <a:xfrm>
            <a:off x="0" y="692280"/>
            <a:ext cx="9144000" cy="588168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3"/>
          <p:cNvSpPr/>
          <p:nvPr/>
        </p:nvSpPr>
        <p:spPr>
          <a:xfrm>
            <a:off x="3203640" y="1159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黄河中游景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黄河凌汛"/>
          <p:cNvPicPr/>
          <p:nvPr/>
        </p:nvPicPr>
        <p:blipFill>
          <a:blip r:embed="rId1"/>
          <a:srcRect l="0" t="0" r="-103" b="0"/>
          <a:stretch/>
        </p:blipFill>
        <p:spPr>
          <a:xfrm>
            <a:off x="826920" y="333360"/>
            <a:ext cx="6266160" cy="61200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3"/>
          <p:cNvSpPr/>
          <p:nvPr/>
        </p:nvSpPr>
        <p:spPr>
          <a:xfrm>
            <a:off x="7380360" y="1700280"/>
            <a:ext cx="64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中宋"/>
              </a:rPr>
              <a:t>黄河凌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6804000" y="5300640"/>
            <a:ext cx="20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华文中宋"/>
              </a:rPr>
              <a:t>注：浮冰下泻造成凌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2"/>
          <p:cNvGrpSpPr/>
          <p:nvPr/>
        </p:nvGrpSpPr>
        <p:grpSpPr>
          <a:xfrm>
            <a:off x="539640" y="189000"/>
            <a:ext cx="8353080" cy="5327280"/>
            <a:chOff x="539640" y="189000"/>
            <a:chExt cx="8353080" cy="5327280"/>
          </a:xfrm>
        </p:grpSpPr>
        <p:pic>
          <p:nvPicPr>
            <p:cNvPr id="274" name="Picture 3" descr="黄河入海口(山东东营)"/>
            <p:cNvPicPr/>
            <p:nvPr/>
          </p:nvPicPr>
          <p:blipFill>
            <a:blip r:embed="rId1"/>
            <a:stretch/>
          </p:blipFill>
          <p:spPr>
            <a:xfrm>
              <a:off x="539640" y="189000"/>
              <a:ext cx="3830400" cy="53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4" descr="黄河入海口的苇塘"/>
            <p:cNvPicPr/>
            <p:nvPr/>
          </p:nvPicPr>
          <p:blipFill>
            <a:blip r:embed="rId2"/>
            <a:stretch/>
          </p:blipFill>
          <p:spPr>
            <a:xfrm>
              <a:off x="4662000" y="2168640"/>
              <a:ext cx="4230720" cy="333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6" name="WordArt 5"/>
          <p:cNvSpPr txBox="1"/>
          <p:nvPr/>
        </p:nvSpPr>
        <p:spPr>
          <a:xfrm rot="9673200">
            <a:off x="4575240" y="794880"/>
            <a:ext cx="3303360" cy="677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65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1" strike="noStrike">
                <a:ln w="9360">
                  <a:solidFill>
                    <a:srgbClr val="663300"/>
                  </a:solidFill>
                  <a:round/>
                </a:ln>
                <a:solidFill>
                  <a:srgbClr val="6633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华文中宋"/>
              </a:rPr>
              <a:t>黄河入海口</a:t>
            </a:r>
            <a:endParaRPr b="1" i="1" lang="en-US" sz="3600" spc="1" strike="noStrike">
              <a:ln w="9360">
                <a:solidFill>
                  <a:srgbClr val="663300"/>
                </a:solidFill>
                <a:round/>
              </a:ln>
              <a:solidFill>
                <a:srgbClr val="6633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1116000" y="57340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  <a:ea typeface="华文中宋"/>
              </a:rPr>
              <a:t>         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华文中宋"/>
              </a:rPr>
              <a:t>落日                            芦花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3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2"/>
          <p:cNvGrpSpPr/>
          <p:nvPr/>
        </p:nvGrpSpPr>
        <p:grpSpPr>
          <a:xfrm>
            <a:off x="4643280" y="333360"/>
            <a:ext cx="3529080" cy="1870200"/>
            <a:chOff x="4643280" y="333360"/>
            <a:chExt cx="3529080" cy="1870200"/>
          </a:xfrm>
        </p:grpSpPr>
        <p:sp>
          <p:nvSpPr>
            <p:cNvPr id="279" name="AutoShape 3"/>
            <p:cNvSpPr/>
            <p:nvPr/>
          </p:nvSpPr>
          <p:spPr>
            <a:xfrm>
              <a:off x="4643280" y="333360"/>
              <a:ext cx="3529080" cy="1870200"/>
            </a:xfrm>
            <a:prstGeom prst="horizontalScroll">
              <a:avLst>
                <a:gd name="adj" fmla="val 12500"/>
              </a:avLst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Text Box 4"/>
            <p:cNvSpPr/>
            <p:nvPr/>
          </p:nvSpPr>
          <p:spPr>
            <a:xfrm>
              <a:off x="5308560" y="885600"/>
              <a:ext cx="2350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Arial"/>
                  <a:ea typeface="华文中宋"/>
                </a:rPr>
                <a:t>历史文化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1" name="Group 5"/>
          <p:cNvGrpSpPr/>
          <p:nvPr/>
        </p:nvGrpSpPr>
        <p:grpSpPr>
          <a:xfrm>
            <a:off x="826920" y="404640"/>
            <a:ext cx="7921080" cy="5832720"/>
            <a:chOff x="826920" y="404640"/>
            <a:chExt cx="7921080" cy="5832720"/>
          </a:xfrm>
        </p:grpSpPr>
        <p:pic>
          <p:nvPicPr>
            <p:cNvPr id="282" name="Picture 6" descr="jj_ab16a98084a681f5d082eca548bff736"/>
            <p:cNvPicPr/>
            <p:nvPr/>
          </p:nvPicPr>
          <p:blipFill>
            <a:blip r:embed="rId1"/>
            <a:stretch/>
          </p:blipFill>
          <p:spPr>
            <a:xfrm>
              <a:off x="1064520" y="620640"/>
              <a:ext cx="3090960" cy="525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7" descr="jj_381fa87aafbf8b09cd8e64271cfd24de"/>
            <p:cNvPicPr/>
            <p:nvPr/>
          </p:nvPicPr>
          <p:blipFill>
            <a:blip r:embed="rId2"/>
            <a:stretch/>
          </p:blipFill>
          <p:spPr>
            <a:xfrm>
              <a:off x="4630680" y="3068640"/>
              <a:ext cx="3899520" cy="290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4" name="Group 8"/>
            <p:cNvGrpSpPr/>
            <p:nvPr/>
          </p:nvGrpSpPr>
          <p:grpSpPr>
            <a:xfrm>
              <a:off x="826920" y="404640"/>
              <a:ext cx="7921080" cy="5832720"/>
              <a:chOff x="826920" y="404640"/>
              <a:chExt cx="7921080" cy="5832720"/>
            </a:xfrm>
          </p:grpSpPr>
          <p:sp>
            <p:nvSpPr>
              <p:cNvPr id="285" name="Rectangle 9"/>
              <p:cNvSpPr/>
              <p:nvPr/>
            </p:nvSpPr>
            <p:spPr>
              <a:xfrm>
                <a:off x="826920" y="404640"/>
                <a:ext cx="3644640" cy="5832720"/>
              </a:xfrm>
              <a:prstGeom prst="rect">
                <a:avLst/>
              </a:prstGeom>
              <a:noFill/>
              <a:ln w="9360">
                <a:solidFill>
                  <a:srgbClr val="663300"/>
                </a:solidFill>
                <a:miter/>
              </a:ln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Rectangle 10"/>
              <p:cNvSpPr/>
              <p:nvPr/>
            </p:nvSpPr>
            <p:spPr>
              <a:xfrm>
                <a:off x="4469760" y="2852640"/>
                <a:ext cx="4278240" cy="3384720"/>
              </a:xfrm>
              <a:prstGeom prst="rect">
                <a:avLst/>
              </a:prstGeom>
              <a:noFill/>
              <a:ln w="9360">
                <a:solidFill>
                  <a:srgbClr val="663300"/>
                </a:solidFill>
                <a:miter/>
              </a:ln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0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324000" y="2865960"/>
            <a:ext cx="849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黄河是中华民族的摇篮，是我们的母亲河，是我们的民族之魂，是中华儿女的骄傲和自豪。古往今来，有多少文人墨客用手中的生花妙笔挥洒激情赞美过它；多少仁人志士为它抛头颅、撒热血；多少浪迹天涯的游子对它魂牵梦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著名的民族音乐家冼星海创作的大型民族交响乐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黄河大合唱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曾感动了一批又一批的中华儿女为祖国而战斗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今天，让我们吟诵着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黄河颂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，走进它的词作者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著名诗人光未然那充满强烈民族精神和爱国情感的心灵世界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95280" y="260280"/>
            <a:ext cx="25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导入课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仰韶遗址"/>
          <p:cNvPicPr/>
          <p:nvPr/>
        </p:nvPicPr>
        <p:blipFill>
          <a:blip r:embed="rId1"/>
          <a:stretch/>
        </p:blipFill>
        <p:spPr>
          <a:xfrm>
            <a:off x="826920" y="620640"/>
            <a:ext cx="3108600" cy="4680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3"/>
          <p:cNvSpPr/>
          <p:nvPr/>
        </p:nvSpPr>
        <p:spPr>
          <a:xfrm>
            <a:off x="1187280" y="580536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仰韶遗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4" descr="大汶口遗址"/>
          <p:cNvPicPr/>
          <p:nvPr/>
        </p:nvPicPr>
        <p:blipFill>
          <a:blip r:embed="rId2"/>
          <a:stretch/>
        </p:blipFill>
        <p:spPr>
          <a:xfrm>
            <a:off x="5003640" y="620640"/>
            <a:ext cx="3156120" cy="475164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5"/>
          <p:cNvSpPr/>
          <p:nvPr/>
        </p:nvSpPr>
        <p:spPr>
          <a:xfrm>
            <a:off x="5724360" y="57340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大汶口遗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7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5364000" y="980640"/>
            <a:ext cx="1513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(qì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碛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3" descr="jj_5605e0a35a10ea0e1b147bc751f57c95"/>
          <p:cNvPicPr/>
          <p:nvPr/>
        </p:nvPicPr>
        <p:blipFill>
          <a:blip r:embed="rId1"/>
          <a:stretch/>
        </p:blipFill>
        <p:spPr>
          <a:xfrm>
            <a:off x="395280" y="333360"/>
            <a:ext cx="4824360" cy="2943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" descr="jj_4e3292722ddda2dd9e3831a4fd1e17a6"/>
          <p:cNvPicPr/>
          <p:nvPr/>
        </p:nvPicPr>
        <p:blipFill>
          <a:blip r:embed="rId2"/>
          <a:srcRect l="0" t="0" r="0" b="-47"/>
          <a:stretch/>
        </p:blipFill>
        <p:spPr>
          <a:xfrm>
            <a:off x="3059280" y="3429000"/>
            <a:ext cx="4752720" cy="308124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5"/>
          <p:cNvSpPr/>
          <p:nvPr/>
        </p:nvSpPr>
        <p:spPr>
          <a:xfrm>
            <a:off x="1042920" y="4292640"/>
            <a:ext cx="1295640" cy="131292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中宋"/>
              </a:rPr>
              <a:t>黄河古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7936560" y="3860640"/>
            <a:ext cx="66780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大禹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2195640" y="6093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4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jj_52f59a8d125f883e885e1b327bb99ee0"/>
          <p:cNvPicPr/>
          <p:nvPr/>
        </p:nvPicPr>
        <p:blipFill>
          <a:blip r:embed="rId1"/>
          <a:stretch/>
        </p:blipFill>
        <p:spPr>
          <a:xfrm>
            <a:off x="395280" y="404640"/>
            <a:ext cx="4608360" cy="30322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jj_015883f11be6825b08777e6329e7618b"/>
          <p:cNvPicPr/>
          <p:nvPr/>
        </p:nvPicPr>
        <p:blipFill>
          <a:blip r:embed="rId2"/>
          <a:stretch/>
        </p:blipFill>
        <p:spPr>
          <a:xfrm>
            <a:off x="4284720" y="3573360"/>
            <a:ext cx="3887640" cy="2917800"/>
          </a:xfrm>
          <a:prstGeom prst="rect">
            <a:avLst/>
          </a:prstGeom>
          <a:ln w="0">
            <a:noFill/>
          </a:ln>
        </p:spPr>
      </p:pic>
      <p:grpSp>
        <p:nvGrpSpPr>
          <p:cNvPr id="299" name="Group 4"/>
          <p:cNvGrpSpPr/>
          <p:nvPr/>
        </p:nvGrpSpPr>
        <p:grpSpPr>
          <a:xfrm>
            <a:off x="6443640" y="1125360"/>
            <a:ext cx="1297080" cy="1943280"/>
            <a:chOff x="6443640" y="1125360"/>
            <a:chExt cx="1297080" cy="1943280"/>
          </a:xfrm>
        </p:grpSpPr>
        <p:sp>
          <p:nvSpPr>
            <p:cNvPr id="300" name="AutoShape 5"/>
            <p:cNvSpPr/>
            <p:nvPr/>
          </p:nvSpPr>
          <p:spPr>
            <a:xfrm>
              <a:off x="6443640" y="1125360"/>
              <a:ext cx="1297080" cy="1943280"/>
            </a:xfrm>
            <a:prstGeom prst="downArrow">
              <a:avLst>
                <a:gd name="adj1" fmla="val 50000"/>
                <a:gd name="adj2" fmla="val 37434"/>
              </a:avLst>
            </a:prstGeom>
            <a:solidFill>
              <a:srgbClr val="ffffff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6804000" y="1197000"/>
              <a:ext cx="5763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华文中宋"/>
                </a:rPr>
                <a:t>黄帝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2" name="Group 7"/>
          <p:cNvGrpSpPr/>
          <p:nvPr/>
        </p:nvGrpSpPr>
        <p:grpSpPr>
          <a:xfrm>
            <a:off x="1187280" y="4005360"/>
            <a:ext cx="1728720" cy="2376360"/>
            <a:chOff x="1187280" y="4005360"/>
            <a:chExt cx="1728720" cy="2376360"/>
          </a:xfrm>
        </p:grpSpPr>
        <p:sp>
          <p:nvSpPr>
            <p:cNvPr id="303" name="AutoShape 8"/>
            <p:cNvSpPr/>
            <p:nvPr/>
          </p:nvSpPr>
          <p:spPr>
            <a:xfrm>
              <a:off x="1187280" y="4005360"/>
              <a:ext cx="1728720" cy="2376360"/>
            </a:xfrm>
            <a:prstGeom prst="upArrow">
              <a:avLst>
                <a:gd name="adj1" fmla="val 50000"/>
                <a:gd name="adj2" fmla="val 34347"/>
              </a:avLst>
            </a:prstGeom>
            <a:solidFill>
              <a:srgbClr val="ffffff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Text Box 9"/>
            <p:cNvSpPr/>
            <p:nvPr/>
          </p:nvSpPr>
          <p:spPr>
            <a:xfrm>
              <a:off x="1763640" y="4294080"/>
              <a:ext cx="6476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华文中宋"/>
                </a:rPr>
                <a:t>西夏王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jj_f5296ddd22de5a5cd00c20eedcf46c77"/>
          <p:cNvPicPr/>
          <p:nvPr/>
        </p:nvPicPr>
        <p:blipFill>
          <a:blip r:embed="rId1"/>
          <a:stretch/>
        </p:blipFill>
        <p:spPr>
          <a:xfrm>
            <a:off x="179280" y="333360"/>
            <a:ext cx="4753080" cy="3527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jj_7175ad4d47016db69262625659729c1b"/>
          <p:cNvPicPr/>
          <p:nvPr/>
        </p:nvPicPr>
        <p:blipFill>
          <a:blip r:embed="rId2"/>
          <a:stretch/>
        </p:blipFill>
        <p:spPr>
          <a:xfrm>
            <a:off x="5330880" y="2276640"/>
            <a:ext cx="3057480" cy="407664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4"/>
          <p:cNvSpPr/>
          <p:nvPr/>
        </p:nvSpPr>
        <p:spPr>
          <a:xfrm>
            <a:off x="1763640" y="4292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鹳雀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6012000" y="98100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龙门石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3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6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2"/>
          <p:cNvGrpSpPr/>
          <p:nvPr/>
        </p:nvGrpSpPr>
        <p:grpSpPr>
          <a:xfrm>
            <a:off x="6804000" y="1484280"/>
            <a:ext cx="1728720" cy="3888000"/>
            <a:chOff x="6804000" y="1484280"/>
            <a:chExt cx="1728720" cy="3888000"/>
          </a:xfrm>
        </p:grpSpPr>
        <p:sp>
          <p:nvSpPr>
            <p:cNvPr id="310" name="AutoShape 3"/>
            <p:cNvSpPr/>
            <p:nvPr/>
          </p:nvSpPr>
          <p:spPr>
            <a:xfrm>
              <a:off x="6804000" y="1484280"/>
              <a:ext cx="1728720" cy="3888000"/>
            </a:xfrm>
            <a:prstGeom prst="verticalScroll">
              <a:avLst>
                <a:gd name="adj" fmla="val 12500"/>
              </a:avLst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Text Box 4"/>
            <p:cNvSpPr/>
            <p:nvPr/>
          </p:nvSpPr>
          <p:spPr>
            <a:xfrm>
              <a:off x="7370280" y="1844640"/>
              <a:ext cx="729000" cy="34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Arial"/>
                  <a:ea typeface="华文中宋"/>
                </a:rPr>
                <a:t>风土民俗篇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2" name="Group 5"/>
          <p:cNvGrpSpPr/>
          <p:nvPr/>
        </p:nvGrpSpPr>
        <p:grpSpPr>
          <a:xfrm>
            <a:off x="539640" y="333360"/>
            <a:ext cx="5687640" cy="5687640"/>
            <a:chOff x="539640" y="333360"/>
            <a:chExt cx="5687640" cy="5687640"/>
          </a:xfrm>
        </p:grpSpPr>
        <p:pic>
          <p:nvPicPr>
            <p:cNvPr id="313" name="Picture 6" descr="ms02"/>
            <p:cNvPicPr/>
            <p:nvPr/>
          </p:nvPicPr>
          <p:blipFill>
            <a:blip r:embed="rId1"/>
            <a:stretch/>
          </p:blipFill>
          <p:spPr>
            <a:xfrm>
              <a:off x="885240" y="570240"/>
              <a:ext cx="5093280" cy="51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Rectangle 7"/>
            <p:cNvSpPr/>
            <p:nvPr/>
          </p:nvSpPr>
          <p:spPr>
            <a:xfrm>
              <a:off x="539640" y="333360"/>
              <a:ext cx="5687640" cy="5687640"/>
            </a:xfrm>
            <a:prstGeom prst="rect">
              <a:avLst/>
            </a:prstGeom>
            <a:noFill/>
            <a:ln w="28440">
              <a:solidFill>
                <a:srgbClr val="663300"/>
              </a:solidFill>
              <a:miter/>
            </a:ln>
            <a:effectLst>
              <a:outerShdw dist="107932" dir="189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文本框 8199"/>
          <p:cNvSpPr/>
          <p:nvPr/>
        </p:nvSpPr>
        <p:spPr>
          <a:xfrm>
            <a:off x="4140360" y="620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8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黄河船夫3"/>
          <p:cNvPicPr/>
          <p:nvPr/>
        </p:nvPicPr>
        <p:blipFill>
          <a:blip r:embed="rId1"/>
          <a:stretch/>
        </p:blipFill>
        <p:spPr>
          <a:xfrm>
            <a:off x="826920" y="1413000"/>
            <a:ext cx="7561440" cy="488448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3"/>
          <p:cNvSpPr/>
          <p:nvPr/>
        </p:nvSpPr>
        <p:spPr>
          <a:xfrm>
            <a:off x="3564000" y="333360"/>
            <a:ext cx="28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中宋"/>
              </a:rPr>
              <a:t>黄河纤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0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黄河1"/>
          <p:cNvPicPr/>
          <p:nvPr/>
        </p:nvPicPr>
        <p:blipFill>
          <a:blip r:embed="rId1"/>
          <a:stretch/>
        </p:blipFill>
        <p:spPr>
          <a:xfrm>
            <a:off x="2268360" y="1557360"/>
            <a:ext cx="5470560" cy="35798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3" descr="黄河船夫2"/>
          <p:cNvPicPr/>
          <p:nvPr/>
        </p:nvPicPr>
        <p:blipFill>
          <a:blip r:embed="rId2"/>
          <a:stretch/>
        </p:blipFill>
        <p:spPr>
          <a:xfrm>
            <a:off x="4284720" y="3213000"/>
            <a:ext cx="4535280" cy="3260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黄河船夫1"/>
          <p:cNvPicPr/>
          <p:nvPr/>
        </p:nvPicPr>
        <p:blipFill>
          <a:blip r:embed="rId3"/>
          <a:stretch/>
        </p:blipFill>
        <p:spPr>
          <a:xfrm>
            <a:off x="324000" y="333360"/>
            <a:ext cx="4103640" cy="2894040"/>
          </a:xfrm>
          <a:prstGeom prst="rect">
            <a:avLst/>
          </a:prstGeom>
          <a:ln w="0">
            <a:noFill/>
          </a:ln>
        </p:spPr>
      </p:pic>
      <p:sp>
        <p:nvSpPr>
          <p:cNvPr id="321" name="WordArt 5"/>
          <p:cNvSpPr txBox="1"/>
          <p:nvPr/>
        </p:nvSpPr>
        <p:spPr>
          <a:xfrm rot="3556800">
            <a:off x="169200" y="4446360"/>
            <a:ext cx="2594160" cy="1089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63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黄河</a:t>
            </a:r>
            <a:endParaRPr b="0" lang="en-US" sz="36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322" name="WordArt 6"/>
          <p:cNvSpPr txBox="1"/>
          <p:nvPr/>
        </p:nvSpPr>
        <p:spPr>
          <a:xfrm rot="5400000">
            <a:off x="5111280" y="585720"/>
            <a:ext cx="93672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华文中宋"/>
              </a:rPr>
              <a:t>船</a:t>
            </a:r>
            <a:endParaRPr b="1" i="1" lang="en-US" sz="36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323" name="WordArt 7"/>
          <p:cNvSpPr txBox="1"/>
          <p:nvPr/>
        </p:nvSpPr>
        <p:spPr>
          <a:xfrm rot="5400000">
            <a:off x="7732080" y="1636560"/>
            <a:ext cx="898560" cy="739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华文中宋"/>
              </a:rPr>
              <a:t>夫</a:t>
            </a:r>
            <a:endParaRPr b="1" i="1" lang="en-US" sz="36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3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900000" y="587700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中宋"/>
              </a:rPr>
              <a:t>黄河故道民俗</a:t>
            </a:r>
            <a:r>
              <a:rPr b="1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——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中宋"/>
              </a:rPr>
              <a:t>斗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Group 3"/>
          <p:cNvGrpSpPr/>
          <p:nvPr/>
        </p:nvGrpSpPr>
        <p:grpSpPr>
          <a:xfrm>
            <a:off x="324000" y="189000"/>
            <a:ext cx="8062920" cy="5616000"/>
            <a:chOff x="324000" y="189000"/>
            <a:chExt cx="8062920" cy="5616000"/>
          </a:xfrm>
        </p:grpSpPr>
        <p:pic>
          <p:nvPicPr>
            <p:cNvPr id="326" name="Picture 4" descr="黄河故道民俗——斗羊"/>
            <p:cNvPicPr/>
            <p:nvPr/>
          </p:nvPicPr>
          <p:blipFill>
            <a:blip r:embed="rId1"/>
            <a:stretch/>
          </p:blipFill>
          <p:spPr>
            <a:xfrm>
              <a:off x="324000" y="189000"/>
              <a:ext cx="4176720" cy="354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5" descr="u=165423398,672012749&amp;gp=1"/>
            <p:cNvPicPr/>
            <p:nvPr/>
          </p:nvPicPr>
          <p:blipFill>
            <a:blip r:embed="rId2"/>
            <a:stretch/>
          </p:blipFill>
          <p:spPr>
            <a:xfrm>
              <a:off x="4714920" y="2439720"/>
              <a:ext cx="3672000" cy="3365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无标题"/>
          <p:cNvPicPr/>
          <p:nvPr/>
        </p:nvPicPr>
        <p:blipFill>
          <a:blip r:embed="rId1"/>
          <a:srcRect l="0" t="0" r="0" b="-30"/>
          <a:stretch/>
        </p:blipFill>
        <p:spPr>
          <a:xfrm>
            <a:off x="755640" y="333360"/>
            <a:ext cx="7777080" cy="48229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3"/>
          <p:cNvSpPr/>
          <p:nvPr/>
        </p:nvSpPr>
        <p:spPr>
          <a:xfrm>
            <a:off x="3419640" y="53006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兰州羊皮筏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yaogu03"/>
          <p:cNvPicPr/>
          <p:nvPr/>
        </p:nvPicPr>
        <p:blipFill>
          <a:blip r:embed="rId1"/>
          <a:stretch/>
        </p:blipFill>
        <p:spPr>
          <a:xfrm>
            <a:off x="1332000" y="549360"/>
            <a:ext cx="6624720" cy="489564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3"/>
          <p:cNvSpPr/>
          <p:nvPr/>
        </p:nvSpPr>
        <p:spPr>
          <a:xfrm>
            <a:off x="3564000" y="5805360"/>
            <a:ext cx="189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安塞腰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1680" y="2298240"/>
            <a:ext cx="5770800" cy="31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冼星海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905-194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中国近现代著名的音乐家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创作了不朽名作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《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黄河大合唱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》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和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《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生产大合唱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》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等作品。由于他对发展我国革命音乐所作的巨大贡献，赢得了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“人民音乐家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的光荣称号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25" name="Picture 3" descr="m6313Copy%20of%20xianxinghai"/>
          <p:cNvPicPr/>
          <p:nvPr/>
        </p:nvPicPr>
        <p:blipFill>
          <a:blip r:embed="rId1"/>
          <a:stretch/>
        </p:blipFill>
        <p:spPr>
          <a:xfrm>
            <a:off x="5802480" y="1268280"/>
            <a:ext cx="3163680" cy="414972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sp>
        <p:nvSpPr>
          <p:cNvPr id="226" name="WordArt 4"/>
          <p:cNvSpPr txBox="1"/>
          <p:nvPr/>
        </p:nvSpPr>
        <p:spPr>
          <a:xfrm>
            <a:off x="395280" y="804960"/>
            <a:ext cx="185724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6480">
                  <a:solidFill>
                    <a:srgbClr val="0033cc"/>
                  </a:solidFill>
                  <a:round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曲作者</a:t>
            </a:r>
            <a:endParaRPr b="1" lang="en-US" sz="4800" spc="1" strike="noStrike">
              <a:ln w="6480">
                <a:solidFill>
                  <a:srgbClr val="0033cc"/>
                </a:solidFill>
                <a:round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闹春秧歌"/>
          <p:cNvPicPr/>
          <p:nvPr/>
        </p:nvPicPr>
        <p:blipFill>
          <a:blip r:embed="rId1"/>
          <a:stretch/>
        </p:blipFill>
        <p:spPr>
          <a:xfrm>
            <a:off x="1116000" y="333360"/>
            <a:ext cx="6835680" cy="518328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3"/>
          <p:cNvSpPr/>
          <p:nvPr/>
        </p:nvSpPr>
        <p:spPr>
          <a:xfrm>
            <a:off x="3492360" y="580536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闹春秧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6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468360" y="1773360"/>
            <a:ext cx="79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华文行楷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黑体"/>
              </a:rPr>
              <a:t>你认为应该用一种什么样的语气来朗读这首诗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WordArt 3"/>
          <p:cNvSpPr txBox="1"/>
          <p:nvPr/>
        </p:nvSpPr>
        <p:spPr>
          <a:xfrm>
            <a:off x="539640" y="260280"/>
            <a:ext cx="2448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12600">
                  <a:solidFill>
                    <a:srgbClr val="eaeaea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朗读</a:t>
            </a:r>
            <a:endParaRPr b="0" lang="en-US" sz="3600" spc="1" strike="noStrike">
              <a:ln w="12600">
                <a:solidFill>
                  <a:srgbClr val="eaeaea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179280" y="350028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华文新魏"/>
              </a:rPr>
              <a:t>激昂、雄健、悲壮！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971640" y="1989000"/>
            <a:ext cx="7848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华文中宋"/>
              </a:rPr>
              <a:t>磅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（           ）（           ）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华文中宋"/>
              </a:rPr>
              <a:t>澎湃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（           ）（           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气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华文中宋"/>
              </a:rPr>
              <a:t>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（           ）  高山之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华文中宋"/>
              </a:rPr>
              <a:t>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（           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狂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华文中宋"/>
              </a:rPr>
              <a:t>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（           ）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华文中宋"/>
              </a:rPr>
              <a:t>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育（           ）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华文中宋"/>
              </a:rPr>
              <a:t>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流（           ）   屏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华文中宋"/>
              </a:rPr>
              <a:t>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（           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2627280" y="206064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páng                b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2411280" y="285264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260c"/>
                </a:solidFill>
                <a:latin typeface="Times New Roman"/>
                <a:ea typeface="宋体"/>
              </a:rPr>
              <a:t>　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péng                pà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2771640" y="37162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pò         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diā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2556000" y="458136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lán  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b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2556000" y="537372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zhuó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zhà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utoShape 9"/>
          <p:cNvSpPr/>
          <p:nvPr/>
        </p:nvSpPr>
        <p:spPr>
          <a:xfrm>
            <a:off x="8748720" y="6210360"/>
            <a:ext cx="395280" cy="647640"/>
          </a:xfrm>
          <a:prstGeom prst="upArrow">
            <a:avLst>
              <a:gd name="adj1" fmla="val 50000"/>
              <a:gd name="adj2" fmla="val 40938"/>
            </a:avLst>
          </a:prstGeom>
          <a:solidFill>
            <a:srgbClr val="800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0"/>
          <p:cNvSpPr/>
          <p:nvPr/>
        </p:nvSpPr>
        <p:spPr>
          <a:xfrm>
            <a:off x="1652040" y="2998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读准字音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Object 3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5"/>
          <p:cNvSpPr/>
          <p:nvPr/>
        </p:nvSpPr>
        <p:spPr>
          <a:xfrm>
            <a:off x="1042920" y="1484280"/>
            <a:ext cx="205272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山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巅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育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长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2895120" y="184464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大波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2927160" y="31417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山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8"/>
          <p:cNvSpPr/>
          <p:nvPr/>
        </p:nvSpPr>
        <p:spPr>
          <a:xfrm>
            <a:off x="2851560" y="4149720"/>
            <a:ext cx="99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喂养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9"/>
          <p:cNvSpPr/>
          <p:nvPr/>
        </p:nvSpPr>
        <p:spPr>
          <a:xfrm>
            <a:off x="2854080" y="53737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生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755640" y="476280"/>
            <a:ext cx="3745080" cy="641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b4d1b"/>
              </a:buClr>
              <a:buSzPct val="7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解释词语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文本框 8199"/>
          <p:cNvSpPr/>
          <p:nvPr/>
        </p:nvSpPr>
        <p:spPr>
          <a:xfrm>
            <a:off x="2484360" y="1413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920" y="252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解读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隶书"/>
              </a:rPr>
              <a:t>《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黄河颂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隶书"/>
              </a:rPr>
              <a:t>》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0920" y="980640"/>
            <a:ext cx="7770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题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黄河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，哪个是关键词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1692360" y="1628640"/>
            <a:ext cx="2158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颂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250920" y="2276640"/>
            <a:ext cx="76197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本诗可以分几个部分？请用简洁的语言表达出来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250920" y="3860640"/>
            <a:ext cx="8351640" cy="10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序曲部分和尾声部分之间有什么关系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各自的侧重点是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8"/>
          <p:cNvSpPr/>
          <p:nvPr/>
        </p:nvSpPr>
        <p:spPr>
          <a:xfrm>
            <a:off x="755640" y="5084640"/>
            <a:ext cx="8137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本诗首尾呼应，但序曲部分重点在“黄河”上，尾声部分重点在“中华儿女”上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AutoShape 9"/>
          <p:cNvSpPr/>
          <p:nvPr/>
        </p:nvSpPr>
        <p:spPr>
          <a:xfrm>
            <a:off x="3203640" y="306864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3794"/>
                </a:moveTo>
                <a:lnTo>
                  <a:pt x="19024" y="10800"/>
                </a:lnTo>
                <a:lnTo>
                  <a:pt x="5012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1116000" y="476280"/>
            <a:ext cx="7620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、朗读“序曲”和“尾声”，品味诗文内涵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1116000" y="1989000"/>
            <a:ext cx="740556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、请同学思考“主体”部分：可以分成几部分？重点在哪里？我们可以把它们概括为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Group 4"/>
          <p:cNvGrpSpPr/>
          <p:nvPr/>
        </p:nvGrpSpPr>
        <p:grpSpPr>
          <a:xfrm>
            <a:off x="990720" y="4005360"/>
            <a:ext cx="4949640" cy="2448000"/>
            <a:chOff x="990720" y="4005360"/>
            <a:chExt cx="4949640" cy="2448000"/>
          </a:xfrm>
        </p:grpSpPr>
        <p:sp>
          <p:nvSpPr>
            <p:cNvPr id="363" name="AutoShape 5"/>
            <p:cNvSpPr/>
            <p:nvPr/>
          </p:nvSpPr>
          <p:spPr>
            <a:xfrm flipH="1" flipV="1">
              <a:off x="990720" y="4800600"/>
              <a:ext cx="1295280" cy="1008000"/>
            </a:xfrm>
            <a:custGeom>
              <a:avLst/>
              <a:gdLst>
                <a:gd name="textAreaLeft" fmla="*/ 827640 w 1295280"/>
                <a:gd name="textAreaRight" fmla="*/ 1295640 w 1295280"/>
                <a:gd name="textAreaTop" fmla="*/ 25920 h 1008000"/>
                <a:gd name="textAreaBottom" fmla="*/ 98208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16203"/>
                  </a:lnTo>
                  <a:cubicBezTo>
                    <a:pt x="10800" y="17102"/>
                    <a:pt x="5400" y="18000"/>
                    <a:pt x="0" y="18000"/>
                  </a:cubicBezTo>
                  <a:cubicBezTo>
                    <a:pt x="5400" y="18000"/>
                    <a:pt x="10800" y="18899"/>
                    <a:pt x="10800" y="19797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2" marL="914400"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AutoShape 6"/>
            <p:cNvSpPr/>
            <p:nvPr/>
          </p:nvSpPr>
          <p:spPr>
            <a:xfrm>
              <a:off x="2556000" y="4076640"/>
              <a:ext cx="1008000" cy="2305080"/>
            </a:xfrm>
            <a:custGeom>
              <a:avLst/>
              <a:gdLst>
                <a:gd name="textAreaLeft" fmla="*/ 644040 w 1008000"/>
                <a:gd name="textAreaRight" fmla="*/ 1008360 w 1008000"/>
                <a:gd name="textAreaTop" fmla="*/ 59760 h 2305080"/>
                <a:gd name="textAreaBottom" fmla="*/ 2245320 h 23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Rectangle 7"/>
            <p:cNvSpPr/>
            <p:nvPr/>
          </p:nvSpPr>
          <p:spPr>
            <a:xfrm>
              <a:off x="3780000" y="4292640"/>
              <a:ext cx="2160360" cy="21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2484360" y="5229360"/>
              <a:ext cx="2808360" cy="144360"/>
              <a:chOff x="2484360" y="5229360"/>
              <a:chExt cx="2808360" cy="144360"/>
            </a:xfrm>
          </p:grpSpPr>
          <p:sp>
            <p:nvSpPr>
              <p:cNvPr id="367" name="Line 8"/>
              <p:cNvSpPr/>
              <p:nvPr/>
            </p:nvSpPr>
            <p:spPr>
              <a:xfrm>
                <a:off x="2484360" y="5229360"/>
                <a:ext cx="2808360" cy="144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 txBox="1"/>
              <p:nvPr/>
            </p:nvSpPr>
            <p:spPr>
              <a:xfrm>
                <a:off x="2484360" y="5229360"/>
                <a:ext cx="2808360" cy="14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9" name="AutoShape 9"/>
            <p:cNvSpPr/>
            <p:nvPr/>
          </p:nvSpPr>
          <p:spPr>
            <a:xfrm>
              <a:off x="2771640" y="4076640"/>
              <a:ext cx="863640" cy="1944720"/>
            </a:xfrm>
            <a:custGeom>
              <a:avLst/>
              <a:gdLst>
                <a:gd name="textAreaLeft" fmla="*/ 551880 w 863640"/>
                <a:gd name="textAreaRight" fmla="*/ 864000 w 863640"/>
                <a:gd name="textAreaTop" fmla="*/ 50400 h 1944720"/>
                <a:gd name="textAreaBottom" fmla="*/ 1894320 h 19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Rectangle 10"/>
            <p:cNvSpPr/>
            <p:nvPr/>
          </p:nvSpPr>
          <p:spPr>
            <a:xfrm>
              <a:off x="1619280" y="4869000"/>
              <a:ext cx="16556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两部分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AutoShape 11"/>
            <p:cNvSpPr/>
            <p:nvPr/>
          </p:nvSpPr>
          <p:spPr>
            <a:xfrm>
              <a:off x="2843280" y="4005360"/>
              <a:ext cx="431640" cy="2305080"/>
            </a:xfrm>
            <a:custGeom>
              <a:avLst/>
              <a:gdLst>
                <a:gd name="textAreaLeft" fmla="*/ 275760 w 431640"/>
                <a:gd name="textAreaRight" fmla="*/ 432000 w 431640"/>
                <a:gd name="textAreaTop" fmla="*/ 59760 h 2305080"/>
                <a:gd name="textAreaBottom" fmla="*/ 2245320 h 23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Rectangle 12"/>
            <p:cNvSpPr/>
            <p:nvPr/>
          </p:nvSpPr>
          <p:spPr>
            <a:xfrm>
              <a:off x="3348000" y="4076640"/>
              <a:ext cx="16556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绘黄河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Rectangle 13"/>
            <p:cNvSpPr/>
            <p:nvPr/>
          </p:nvSpPr>
          <p:spPr>
            <a:xfrm>
              <a:off x="3333600" y="5745240"/>
              <a:ext cx="16560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颂黄河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Rectangle 14"/>
            <p:cNvSpPr/>
            <p:nvPr/>
          </p:nvSpPr>
          <p:spPr>
            <a:xfrm>
              <a:off x="3348000" y="5734080"/>
              <a:ext cx="16556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颂黄河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1068480" y="188640"/>
            <a:ext cx="8075520" cy="10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 用简洁的语言概括“绘黄河”部分所写的内容及其作用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1187280" y="1413000"/>
            <a:ext cx="7561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从三方面实写黄河之景，表现颂歌气势，为“颂黄河”蓄势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1004760" y="2468520"/>
            <a:ext cx="7239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7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、朗读“颂黄河”部分，思考：诗人从几方面来歌颂黄河？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8" name="Group 5"/>
          <p:cNvGrpSpPr/>
          <p:nvPr/>
        </p:nvGrpSpPr>
        <p:grpSpPr>
          <a:xfrm>
            <a:off x="1403280" y="3645000"/>
            <a:ext cx="2210040" cy="2380680"/>
            <a:chOff x="1403280" y="3645000"/>
            <a:chExt cx="2210040" cy="2380680"/>
          </a:xfrm>
        </p:grpSpPr>
        <p:sp>
          <p:nvSpPr>
            <p:cNvPr id="379" name="Rectangle 6"/>
            <p:cNvSpPr/>
            <p:nvPr/>
          </p:nvSpPr>
          <p:spPr>
            <a:xfrm>
              <a:off x="1403280" y="4524120"/>
              <a:ext cx="14032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三方面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80" name="Picture 7" descr="3d001"/>
            <p:cNvPicPr/>
            <p:nvPr/>
          </p:nvPicPr>
          <p:blipFill>
            <a:blip r:embed="rId1"/>
            <a:stretch/>
          </p:blipFill>
          <p:spPr>
            <a:xfrm>
              <a:off x="3235320" y="3645000"/>
              <a:ext cx="37800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Picture 8" descr="3d002"/>
            <p:cNvPicPr/>
            <p:nvPr/>
          </p:nvPicPr>
          <p:blipFill>
            <a:blip r:embed="rId2"/>
            <a:stretch/>
          </p:blipFill>
          <p:spPr>
            <a:xfrm>
              <a:off x="3235320" y="4646520"/>
              <a:ext cx="378000" cy="37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Picture 9" descr="3d_003"/>
            <p:cNvPicPr/>
            <p:nvPr/>
          </p:nvPicPr>
          <p:blipFill>
            <a:blip r:embed="rId3"/>
            <a:stretch/>
          </p:blipFill>
          <p:spPr>
            <a:xfrm>
              <a:off x="3235320" y="5648040"/>
              <a:ext cx="3780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AutoShape 10"/>
            <p:cNvSpPr/>
            <p:nvPr/>
          </p:nvSpPr>
          <p:spPr>
            <a:xfrm>
              <a:off x="2735280" y="3847680"/>
              <a:ext cx="431640" cy="1944360"/>
            </a:xfrm>
            <a:custGeom>
              <a:avLst/>
              <a:gdLst>
                <a:gd name="textAreaLeft" fmla="*/ 275760 w 431640"/>
                <a:gd name="textAreaRight" fmla="*/ 432000 w 431640"/>
                <a:gd name="textAreaTop" fmla="*/ 50400 h 1944360"/>
                <a:gd name="textAreaBottom" fmla="*/ 1893960 h 19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Rectangle 11"/>
          <p:cNvSpPr/>
          <p:nvPr/>
        </p:nvSpPr>
        <p:spPr>
          <a:xfrm>
            <a:off x="3780000" y="3645000"/>
            <a:ext cx="4032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黄河养育中华民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12"/>
          <p:cNvSpPr/>
          <p:nvPr/>
        </p:nvSpPr>
        <p:spPr>
          <a:xfrm>
            <a:off x="3851280" y="4653000"/>
            <a:ext cx="4032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黄河保卫中华民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13"/>
          <p:cNvSpPr/>
          <p:nvPr/>
        </p:nvSpPr>
        <p:spPr>
          <a:xfrm>
            <a:off x="3851280" y="5589720"/>
            <a:ext cx="4032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黄河激励中华民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3"/>
          <p:cNvSpPr/>
          <p:nvPr/>
        </p:nvSpPr>
        <p:spPr>
          <a:xfrm>
            <a:off x="539640" y="1197000"/>
            <a:ext cx="7920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</a:t>
            </a:r>
            <a:r>
              <a:rPr b="0" lang="zh-CN" sz="6600" spc="-1" strike="noStrike">
                <a:solidFill>
                  <a:srgbClr val="ffff00"/>
                </a:solidFill>
                <a:latin typeface="隶书"/>
                <a:ea typeface="隶书"/>
              </a:rPr>
              <a:t>根据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Arial"/>
                <a:ea typeface="隶书"/>
              </a:rPr>
              <a:t>“</a:t>
            </a:r>
            <a:r>
              <a:rPr b="0" lang="zh-CN" sz="6600" spc="-1" strike="noStrike">
                <a:solidFill>
                  <a:srgbClr val="ffff00"/>
                </a:solidFill>
                <a:latin typeface="隶书"/>
                <a:ea typeface="隶书"/>
              </a:rPr>
              <a:t>序曲</a:t>
            </a:r>
            <a:r>
              <a:rPr b="0" lang="en-US" sz="6600" spc="-1" strike="noStrike">
                <a:solidFill>
                  <a:srgbClr val="ffff00"/>
                </a:solidFill>
                <a:latin typeface="隶书"/>
                <a:ea typeface="隶书"/>
              </a:rPr>
              <a:t>-</a:t>
            </a:r>
            <a:r>
              <a:rPr b="0" lang="zh-CN" sz="6600" spc="-1" strike="noStrike">
                <a:solidFill>
                  <a:srgbClr val="ffff00"/>
                </a:solidFill>
                <a:latin typeface="隶书"/>
                <a:ea typeface="隶书"/>
              </a:rPr>
              <a:t>主体</a:t>
            </a:r>
            <a:r>
              <a:rPr b="0" lang="en-US" sz="6600" spc="-1" strike="noStrike">
                <a:solidFill>
                  <a:srgbClr val="ffff00"/>
                </a:solidFill>
                <a:latin typeface="隶书"/>
                <a:ea typeface="隶书"/>
              </a:rPr>
              <a:t>-</a:t>
            </a:r>
            <a:r>
              <a:rPr b="0" lang="zh-CN" sz="6600" spc="-1" strike="noStrike">
                <a:solidFill>
                  <a:srgbClr val="ffff00"/>
                </a:solidFill>
                <a:latin typeface="隶书"/>
                <a:ea typeface="隶书"/>
              </a:rPr>
              <a:t>尾声</a:t>
            </a:r>
            <a:r>
              <a:rPr b="0" lang="zh-CN" sz="6600" spc="-1" strike="noStrike">
                <a:solidFill>
                  <a:srgbClr val="ffff00"/>
                </a:solidFill>
                <a:latin typeface="Arial"/>
                <a:ea typeface="隶书"/>
              </a:rPr>
              <a:t>”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隶书"/>
                <a:ea typeface="隶书"/>
              </a:rPr>
              <a:t>三个部分，划分层次并能概括大意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coin.wav"/>
      </p:stSnd>
    </p:sndAc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7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25092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zh-CN" sz="5400" spc="-1" strike="noStrike">
                <a:solidFill>
                  <a:srgbClr val="ff0000"/>
                </a:solidFill>
                <a:latin typeface="Tahoma"/>
                <a:ea typeface="新宋体"/>
              </a:rPr>
              <a:t>序曲</a:t>
            </a:r>
            <a:r>
              <a:rPr b="1" i="1" lang="zh-CN" sz="4400" spc="-1" strike="noStrike">
                <a:solidFill>
                  <a:srgbClr val="ff0000"/>
                </a:solidFill>
                <a:latin typeface="Tahoma"/>
                <a:ea typeface="新宋体"/>
              </a:rPr>
              <a:t> </a:t>
            </a:r>
            <a:r>
              <a:rPr b="1" i="1" lang="zh-CN" sz="4000" spc="-1" strike="noStrike">
                <a:solidFill>
                  <a:srgbClr val="ffcc00"/>
                </a:solidFill>
                <a:latin typeface="Tahoma"/>
                <a:ea typeface="新宋体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  <a:ea typeface="新宋体"/>
              </a:rPr>
              <a:t>    </a:t>
            </a:r>
            <a:r>
              <a:rPr b="0" lang="zh-CN" sz="4800" spc="-1" strike="noStrike">
                <a:solidFill>
                  <a:srgbClr val="ffffff"/>
                </a:solidFill>
                <a:latin typeface="Tahoma"/>
                <a:ea typeface="新宋体"/>
              </a:rPr>
              <a:t>黄河伟大坚强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611280" y="2205000"/>
            <a:ext cx="87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  <a:ea typeface="宋体"/>
              </a:rPr>
              <a:t>主体</a:t>
            </a:r>
            <a:r>
              <a:rPr b="1" i="1" lang="zh-CN" sz="5400" spc="-1" strike="noStrike">
                <a:solidFill>
                  <a:srgbClr val="ffcc00"/>
                </a:solidFill>
                <a:latin typeface="宋体"/>
                <a:ea typeface="宋体"/>
              </a:rPr>
              <a:t>   </a:t>
            </a:r>
            <a:r>
              <a:rPr b="0" lang="zh-CN" sz="5400" spc="-1" strike="noStrike">
                <a:solidFill>
                  <a:srgbClr val="ffffff"/>
                </a:solidFill>
                <a:latin typeface="宋体"/>
                <a:ea typeface="宋体"/>
              </a:rPr>
              <a:t>望黄河</a:t>
            </a:r>
            <a:r>
              <a:rPr b="0" lang="en-US" sz="5400" spc="-1" strike="noStrike">
                <a:solidFill>
                  <a:srgbClr val="ffffff"/>
                </a:solidFill>
                <a:latin typeface="宋体"/>
                <a:ea typeface="宋体"/>
              </a:rPr>
              <a:t>——</a:t>
            </a:r>
            <a:r>
              <a:rPr b="0" lang="zh-CN" sz="5400" spc="-1" strike="noStrike">
                <a:solidFill>
                  <a:srgbClr val="ffffff"/>
                </a:solidFill>
                <a:latin typeface="宋体"/>
                <a:ea typeface="宋体"/>
              </a:rPr>
              <a:t>颂黄河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1960200" y="4005360"/>
            <a:ext cx="400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  <a:ea typeface="宋体"/>
              </a:rPr>
              <a:t>尾声</a:t>
            </a:r>
            <a:r>
              <a:rPr b="0" lang="zh-CN" sz="5400" spc="-1" strike="noStrike">
                <a:solidFill>
                  <a:srgbClr val="ffcc00"/>
                </a:solidFill>
                <a:latin typeface="宋体"/>
                <a:ea typeface="宋体"/>
              </a:rPr>
              <a:t> </a:t>
            </a:r>
            <a:r>
              <a:rPr b="0" lang="zh-CN" sz="5400" spc="-1" strike="noStrike">
                <a:solidFill>
                  <a:srgbClr val="003300"/>
                </a:solidFill>
                <a:latin typeface="宋体"/>
                <a:ea typeface="宋体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宋体"/>
                <a:ea typeface="宋体"/>
              </a:rPr>
              <a:t> 学习黄河精神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AutoShape 6"/>
          <p:cNvSpPr/>
          <p:nvPr/>
        </p:nvSpPr>
        <p:spPr>
          <a:xfrm>
            <a:off x="7524720" y="5445000"/>
            <a:ext cx="1042920" cy="611280"/>
          </a:xfrm>
          <a:custGeom>
            <a:avLst/>
            <a:gdLst>
              <a:gd name="textAreaLeft" fmla="*/ 39600 w 1042920"/>
              <a:gd name="textAreaRight" fmla="*/ 1003320 w 10429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36843" h="21600">
                <a:moveTo>
                  <a:pt x="0" y="0"/>
                </a:moveTo>
                <a:lnTo>
                  <a:pt x="36843" y="0"/>
                </a:lnTo>
                <a:lnTo>
                  <a:pt x="36843" y="21600"/>
                </a:lnTo>
                <a:lnTo>
                  <a:pt x="0" y="21600"/>
                </a:lnTo>
                <a:close/>
              </a:path>
              <a:path fill="lightenLess" w="36843" h="21600">
                <a:moveTo>
                  <a:pt x="0" y="0"/>
                </a:moveTo>
                <a:lnTo>
                  <a:pt x="36843" y="0"/>
                </a:lnTo>
                <a:lnTo>
                  <a:pt x="35443" y="1400"/>
                </a:lnTo>
                <a:lnTo>
                  <a:pt x="1400" y="1400"/>
                </a:lnTo>
                <a:close/>
              </a:path>
              <a:path fill="darken" w="36843" h="21600">
                <a:moveTo>
                  <a:pt x="36843" y="0"/>
                </a:moveTo>
                <a:lnTo>
                  <a:pt x="36843" y="21600"/>
                </a:lnTo>
                <a:lnTo>
                  <a:pt x="35443" y="20200"/>
                </a:lnTo>
                <a:lnTo>
                  <a:pt x="35443" y="1400"/>
                </a:lnTo>
                <a:close/>
              </a:path>
              <a:path fill="darkenLess" w="36843" h="21600">
                <a:moveTo>
                  <a:pt x="36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3" y="20200"/>
                </a:lnTo>
                <a:close/>
              </a:path>
              <a:path fill="lighten" w="36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3" h="21600">
                <a:moveTo>
                  <a:pt x="11415" y="10800"/>
                </a:moveTo>
                <a:lnTo>
                  <a:pt x="25428" y="3794"/>
                </a:lnTo>
                <a:lnTo>
                  <a:pt x="2542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1" name="camera.wav"/>
      </p:stSnd>
    </p:sndAc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4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9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3"/>
          <p:cNvSpPr/>
          <p:nvPr/>
        </p:nvSpPr>
        <p:spPr>
          <a:xfrm>
            <a:off x="380880" y="3049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课文的结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4"/>
          <p:cNvSpPr/>
          <p:nvPr/>
        </p:nvSpPr>
        <p:spPr>
          <a:xfrm>
            <a:off x="0" y="134136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节 朗诵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0" y="3357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节  歌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3581280" y="175248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3059280" y="105264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民族精神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>
            <a:off x="4859280" y="105264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—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伟大而又坚强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9"/>
          <p:cNvSpPr/>
          <p:nvPr/>
        </p:nvSpPr>
        <p:spPr>
          <a:xfrm>
            <a:off x="3203640" y="17733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赞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10"/>
          <p:cNvSpPr/>
          <p:nvPr/>
        </p:nvSpPr>
        <p:spPr>
          <a:xfrm>
            <a:off x="2987640" y="2781360"/>
            <a:ext cx="49528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黄河的自然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地理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11"/>
          <p:cNvSpPr/>
          <p:nvPr/>
        </p:nvSpPr>
        <p:spPr>
          <a:xfrm>
            <a:off x="2771640" y="494172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赞颂黄河的贡献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12"/>
          <p:cNvSpPr/>
          <p:nvPr/>
        </p:nvSpPr>
        <p:spPr>
          <a:xfrm>
            <a:off x="4859280" y="458136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黄河养育了中华民族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13"/>
          <p:cNvSpPr/>
          <p:nvPr/>
        </p:nvSpPr>
        <p:spPr>
          <a:xfrm>
            <a:off x="4932360" y="530064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黄河保卫了中华民族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4859280" y="530064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15"/>
          <p:cNvSpPr/>
          <p:nvPr/>
        </p:nvSpPr>
        <p:spPr>
          <a:xfrm>
            <a:off x="4932360" y="602136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黄河激励着中华民族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AutoShape 16"/>
          <p:cNvSpPr/>
          <p:nvPr/>
        </p:nvSpPr>
        <p:spPr>
          <a:xfrm>
            <a:off x="2916360" y="1052640"/>
            <a:ext cx="75960" cy="1143000"/>
          </a:xfrm>
          <a:custGeom>
            <a:avLst/>
            <a:gdLst>
              <a:gd name="textAreaLeft" fmla="*/ 48600 w 75960"/>
              <a:gd name="textAreaRight" fmla="*/ 76320 w 75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0000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AutoShape 17"/>
          <p:cNvSpPr/>
          <p:nvPr/>
        </p:nvSpPr>
        <p:spPr>
          <a:xfrm>
            <a:off x="4716360" y="4581360"/>
            <a:ext cx="71640" cy="2087640"/>
          </a:xfrm>
          <a:custGeom>
            <a:avLst/>
            <a:gdLst>
              <a:gd name="textAreaLeft" fmla="*/ 45720 w 71640"/>
              <a:gd name="textAreaRight" fmla="*/ 72000 w 7164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solidFill>
            <a:srgbClr val="000000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AutoShape 18"/>
          <p:cNvSpPr/>
          <p:nvPr/>
        </p:nvSpPr>
        <p:spPr>
          <a:xfrm flipH="1">
            <a:off x="2700360" y="2852640"/>
            <a:ext cx="71280" cy="3097440"/>
          </a:xfrm>
          <a:custGeom>
            <a:avLst/>
            <a:gdLst>
              <a:gd name="textAreaLeft" fmla="*/ 45720 w 71280"/>
              <a:gd name="textAreaRight" fmla="*/ 71640 w 71280"/>
              <a:gd name="textAreaTop" fmla="*/ 80640 h 3097440"/>
              <a:gd name="textAreaBottom" fmla="*/ 3016800 h 309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solidFill>
            <a:srgbClr val="000000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AutoShape 20"/>
          <p:cNvSpPr/>
          <p:nvPr/>
        </p:nvSpPr>
        <p:spPr>
          <a:xfrm>
            <a:off x="5580000" y="2781360"/>
            <a:ext cx="76320" cy="1600200"/>
          </a:xfrm>
          <a:custGeom>
            <a:avLst/>
            <a:gdLst>
              <a:gd name="textAreaLeft" fmla="*/ 48960 w 76320"/>
              <a:gd name="textAreaRight" fmla="*/ 76320 w 763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0000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21"/>
          <p:cNvSpPr/>
          <p:nvPr/>
        </p:nvSpPr>
        <p:spPr>
          <a:xfrm>
            <a:off x="6372720" y="2492280"/>
            <a:ext cx="2012040" cy="180036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近镜头特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俯瞰全景的总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纵向描写黄河流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黄河的动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8243640" cy="623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0" lang="zh-CN" sz="36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冼星海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905-1945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）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中国近现代著名的音乐家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93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年考入巴黎音乐院在肖拉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康托鲁姆作曲班学习。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935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年回国后，积极参加抗日救亡运动，创作了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救国军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《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游击军歌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》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茫茫的西伯利亚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《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在太行山上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》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等各种类型的声乐作品。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938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年任延安鲁迅艺术学院音乐系主任，并在“女大”兼课。教学之余，创作了不朽名作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《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黄河大合唱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》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和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《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生产大合唱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》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等作品。由于他对发展我国革命音乐所作的巨大贡献，赢得了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“人民音乐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的光荣称号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blinds dir="horz"/>
    <p:sndAc>
      <p:stSnd>
        <p:snd r:embed="rId1" name="coin.wav"/>
      </p:stSnd>
    </p:sndAc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97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1835280" y="2519280"/>
            <a:ext cx="4897440" cy="29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ahoma"/>
                <a:ea typeface="华文行楷"/>
              </a:rPr>
              <a:t>自然特点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ahoma"/>
                <a:ea typeface="华文行楷"/>
              </a:rPr>
              <a:t>地理特点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ahoma"/>
                <a:ea typeface="华文行楷"/>
              </a:rPr>
              <a:t>历史贡献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971640" y="18864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隶书"/>
                <a:ea typeface="隶书"/>
              </a:rPr>
              <a:t>本文从那几个方面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隶书"/>
                <a:ea typeface="隶书"/>
              </a:rPr>
              <a:t>赞颂黄河的精神？</a:t>
            </a: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1" name="wind.wav"/>
      </p:stSnd>
    </p:sndAc>
  </p:transition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8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755640" y="1628640"/>
            <a:ext cx="8229600" cy="12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隶书"/>
              </a:rPr>
              <a:t>望</a:t>
            </a:r>
            <a:r>
              <a:rPr b="1" lang="en-US" sz="5400" spc="-1" strike="noStrike">
                <a:solidFill>
                  <a:srgbClr val="000000"/>
                </a:solidFill>
                <a:latin typeface="Tahoma"/>
                <a:ea typeface="隶书"/>
              </a:rPr>
              <a:t>——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隶书"/>
              </a:rPr>
              <a:t>劈成南北两面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Rectangle 3"/>
          <p:cNvSpPr/>
          <p:nvPr/>
        </p:nvSpPr>
        <p:spPr>
          <a:xfrm>
            <a:off x="900000" y="378936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ahoma"/>
                <a:ea typeface="隶书"/>
              </a:rPr>
              <a:t>近镜头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4"/>
          <p:cNvSpPr/>
          <p:nvPr/>
        </p:nvSpPr>
        <p:spPr>
          <a:xfrm>
            <a:off x="2060280" y="691560"/>
            <a:ext cx="5007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主体部分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"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望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"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字所统领的内容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5"/>
          <p:cNvSpPr/>
          <p:nvPr/>
        </p:nvSpPr>
        <p:spPr>
          <a:xfrm>
            <a:off x="1961640" y="3107880"/>
            <a:ext cx="4953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  <a:ea typeface="黑体"/>
              </a:rPr>
              <a:t>“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望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  <a:ea typeface="黑体"/>
              </a:rPr>
              <a:t>……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劈成南北两面”是如何写的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466640" y="59436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ahoma"/>
                <a:ea typeface="隶书"/>
              </a:rPr>
              <a:t>横向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9"/>
          <p:cNvSpPr/>
          <p:nvPr/>
        </p:nvSpPr>
        <p:spPr>
          <a:xfrm>
            <a:off x="1466640" y="522936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ahoma"/>
                <a:ea typeface="隶书"/>
              </a:rPr>
              <a:t>纵向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11"/>
          <p:cNvSpPr/>
          <p:nvPr/>
        </p:nvSpPr>
        <p:spPr>
          <a:xfrm>
            <a:off x="1466640" y="450864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ahoma"/>
                <a:ea typeface="隶书"/>
              </a:rPr>
              <a:t>俯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12"/>
          <p:cNvSpPr/>
          <p:nvPr/>
        </p:nvSpPr>
        <p:spPr>
          <a:xfrm>
            <a:off x="4643280" y="595404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宋体"/>
              </a:rPr>
              <a:t>两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ectangle 13"/>
          <p:cNvSpPr/>
          <p:nvPr/>
        </p:nvSpPr>
        <p:spPr>
          <a:xfrm>
            <a:off x="4643280" y="407664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宋体"/>
              </a:rPr>
              <a:t>特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14"/>
          <p:cNvSpPr/>
          <p:nvPr/>
        </p:nvSpPr>
        <p:spPr>
          <a:xfrm>
            <a:off x="4643280" y="472428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宋体"/>
              </a:rPr>
              <a:t>全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15"/>
          <p:cNvSpPr/>
          <p:nvPr/>
        </p:nvSpPr>
        <p:spPr>
          <a:xfrm>
            <a:off x="4643280" y="53737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宋体"/>
              </a:rPr>
              <a:t>南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18"/>
          <p:cNvSpPr/>
          <p:nvPr/>
        </p:nvSpPr>
        <p:spPr>
          <a:xfrm>
            <a:off x="3495600" y="386064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宋体"/>
              </a:rPr>
              <a:t>→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19"/>
          <p:cNvSpPr/>
          <p:nvPr/>
        </p:nvSpPr>
        <p:spPr>
          <a:xfrm>
            <a:off x="3422880" y="443700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宋体"/>
              </a:rPr>
              <a:t>→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20"/>
          <p:cNvSpPr/>
          <p:nvPr/>
        </p:nvSpPr>
        <p:spPr>
          <a:xfrm>
            <a:off x="3351240" y="508464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宋体"/>
              </a:rPr>
              <a:t>→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21"/>
          <p:cNvSpPr/>
          <p:nvPr/>
        </p:nvSpPr>
        <p:spPr>
          <a:xfrm>
            <a:off x="3279960" y="585144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宋体"/>
              </a:rPr>
              <a:t>→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23"/>
          <p:cNvSpPr/>
          <p:nvPr/>
        </p:nvSpPr>
        <p:spPr>
          <a:xfrm>
            <a:off x="642960" y="-93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文章分析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coin.wav"/>
      </p:stSnd>
    </p:sndAc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3"/>
          <p:cNvSpPr/>
          <p:nvPr/>
        </p:nvSpPr>
        <p:spPr>
          <a:xfrm>
            <a:off x="395280" y="260280"/>
            <a:ext cx="76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为什么把黄河比作“摇篮”和“屏障”？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2771640" y="1628640"/>
            <a:ext cx="583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黄河是中华民族的发祥地，孕育了中华文化养育了中华民族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2771640" y="4132440"/>
            <a:ext cx="546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侧重黄河保卫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华民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6"/>
          <p:cNvSpPr/>
          <p:nvPr/>
        </p:nvSpPr>
        <p:spPr>
          <a:xfrm>
            <a:off x="687960" y="1585800"/>
            <a:ext cx="127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黄河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摇篮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7"/>
          <p:cNvSpPr/>
          <p:nvPr/>
        </p:nvSpPr>
        <p:spPr>
          <a:xfrm>
            <a:off x="805320" y="3746520"/>
            <a:ext cx="1186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黄河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屏障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4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4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3"/>
          <p:cNvSpPr/>
          <p:nvPr/>
        </p:nvSpPr>
        <p:spPr>
          <a:xfrm>
            <a:off x="838080" y="593640"/>
            <a:ext cx="746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如何理解黄河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向南北两岸</a:t>
            </a: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/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伸出万千条铁的臂膀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”</a:t>
            </a: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?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304920" y="228600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从全句看，这是一个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比喻句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把黄河比喻为一个巨人，黄河主流是巨人的躯干，黄河流域中的无数条支流就是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巨人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身上千万条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铁的臂膀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其次，应该和上文结合起来理解，如此巨人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泻万丈，浩浩荡荡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体现了气势磅礴、勇不可挡的气度和力量，正足以激发民族的精神和信念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3"/>
          <p:cNvSpPr/>
          <p:nvPr/>
        </p:nvSpPr>
        <p:spPr>
          <a:xfrm>
            <a:off x="324000" y="115920"/>
            <a:ext cx="822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啊！黄河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在诗中反复出现几次？说说它有什么作用？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611280" y="51181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黑体"/>
                <a:ea typeface="黑体"/>
              </a:rPr>
              <a:t>由实到虚    环环紧扣  逐步深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0" y="1916280"/>
            <a:ext cx="219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11111"/>
                </a:solidFill>
                <a:latin typeface="Arial"/>
                <a:ea typeface="隶书"/>
              </a:rPr>
              <a:t>把从“啊！黄河”到“发扬滋长”分成三个层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3356280" y="206064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是摇篮，养育了中华民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2268360" y="3068640"/>
            <a:ext cx="61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是屏障，黄河保卫了中华民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3468960" y="414972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是臂膀，黄河激励了中华民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9"/>
          <p:cNvSpPr/>
          <p:nvPr/>
        </p:nvSpPr>
        <p:spPr>
          <a:xfrm>
            <a:off x="8224560" y="2421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11111"/>
                </a:solidFill>
                <a:latin typeface="Arial"/>
                <a:ea typeface="华文行楷"/>
              </a:rPr>
              <a:t>实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10"/>
          <p:cNvSpPr/>
          <p:nvPr/>
        </p:nvSpPr>
        <p:spPr>
          <a:xfrm>
            <a:off x="8357400" y="41338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11111"/>
                </a:solidFill>
                <a:latin typeface="Arial"/>
                <a:ea typeface="华文行楷"/>
              </a:rPr>
              <a:t>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11"/>
          <p:cNvSpPr/>
          <p:nvPr/>
        </p:nvSpPr>
        <p:spPr>
          <a:xfrm>
            <a:off x="8332920" y="299736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  <a:ea typeface="宋体"/>
              </a:rPr>
              <a:t>↓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5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0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5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4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3"/>
          <p:cNvSpPr/>
          <p:nvPr/>
        </p:nvSpPr>
        <p:spPr>
          <a:xfrm>
            <a:off x="250920" y="476280"/>
            <a:ext cx="822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诗人反复吟唱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啊！黄河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 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我们应该怎样来读出这三层的情感与气魄呢？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971640" y="3283560"/>
            <a:ext cx="69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11111"/>
                </a:solidFill>
                <a:latin typeface="Arial"/>
                <a:ea typeface="隶书"/>
              </a:rPr>
              <a:t>是屏障，坚强有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2336760" y="1906560"/>
            <a:ext cx="383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11111"/>
                </a:solidFill>
                <a:latin typeface="Arial"/>
                <a:ea typeface="隶书"/>
              </a:rPr>
              <a:t>是摇篮，舒缓深沉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2120760" y="4440240"/>
            <a:ext cx="383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11111"/>
                </a:solidFill>
                <a:latin typeface="Arial"/>
                <a:ea typeface="隶书"/>
              </a:rPr>
              <a:t>是臂膀，高亢激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1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3"/>
          <p:cNvSpPr/>
          <p:nvPr/>
        </p:nvSpPr>
        <p:spPr>
          <a:xfrm>
            <a:off x="395280" y="3068640"/>
            <a:ext cx="84596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一往无前、无坚不摧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      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的气魄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533520" y="83808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611280" y="1052640"/>
            <a:ext cx="808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这首诗歌的主要内容是歌颂黄河，在歌颂前对黄河进行了一番描绘。你觉得这些句子表现了黄河的什么特点 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4"/>
          <p:cNvSpPr/>
          <p:nvPr/>
        </p:nvSpPr>
        <p:spPr>
          <a:xfrm>
            <a:off x="533520" y="83808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324000" y="1916280"/>
            <a:ext cx="853272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华文隶书"/>
                <a:ea typeface="华文隶书"/>
              </a:rPr>
              <a:t>保护我们的黄河</a:t>
            </a:r>
            <a:r>
              <a:rPr b="1" lang="en-US" sz="6600" spc="-1" strike="noStrike">
                <a:solidFill>
                  <a:srgbClr val="0000ff"/>
                </a:solidFill>
                <a:latin typeface="Arial"/>
                <a:ea typeface="华文隶书"/>
              </a:rPr>
              <a:t>——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华文隶书"/>
                <a:ea typeface="华文隶书"/>
              </a:rPr>
              <a:t>     </a:t>
            </a:r>
            <a:r>
              <a:rPr b="1" lang="zh-CN" sz="6600" spc="-1" strike="noStrike">
                <a:solidFill>
                  <a:srgbClr val="0000ff"/>
                </a:solidFill>
                <a:latin typeface="华文隶书"/>
                <a:ea typeface="华文隶书"/>
              </a:rPr>
              <a:t>我们的母亲河！</a:t>
            </a: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3"/>
          <p:cNvSpPr/>
          <p:nvPr/>
        </p:nvSpPr>
        <p:spPr>
          <a:xfrm>
            <a:off x="533520" y="83808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468360" y="1413000"/>
            <a:ext cx="853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华文隶书"/>
                <a:ea typeface="华文隶书"/>
              </a:rPr>
              <a:t>以黄河为榜样，学习它的伟大和坚强，团结起来，振兴中华！</a:t>
            </a:r>
            <a:r>
              <a:rPr b="0" lang="zh-CN" sz="6600" spc="-1" strike="noStrike">
                <a:solidFill>
                  <a:srgbClr val="0000ff"/>
                </a:solidFill>
                <a:latin typeface="华文行楷"/>
                <a:ea typeface="华文行楷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228600" y="762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7"/>
          <p:cNvSpPr/>
          <p:nvPr/>
        </p:nvSpPr>
        <p:spPr>
          <a:xfrm>
            <a:off x="0" y="0"/>
            <a:ext cx="9144000" cy="66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隶书"/>
                <a:ea typeface="隶书"/>
              </a:rPr>
              <a:t>有关黄河的著名诗句</a:t>
            </a:r>
            <a:r>
              <a:rPr b="0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</a:rPr>
              <a:t>君不见黄河之水天上来，奔流到海不复回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</a:rPr>
              <a:t>                     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</a:rPr>
              <a:t>李白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</a:rPr>
              <a:t>《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</a:rPr>
              <a:t>将进酒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</a:rPr>
              <a:t>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</a:rPr>
              <a:t>黄河落天走东海，万里写入胸怀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</a:rPr>
              <a:t>                     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</a:rPr>
              <a:t>李白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</a:rPr>
              <a:t>《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</a:rPr>
              <a:t>赠裴十四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</a:rPr>
              <a:t>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</a:rPr>
              <a:t>黄河远上白云间，一片孤城万仞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</a:rPr>
              <a:t>                     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</a:rPr>
              <a:t>王之涣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</a:rPr>
              <a:t>《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</a:rPr>
              <a:t>凉州词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</a:rPr>
              <a:t>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</a:rPr>
              <a:t>白日依山尽，黄河入海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</a:rPr>
              <a:t>                    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</a:rPr>
              <a:t>王之涣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</a:rPr>
              <a:t>《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</a:rPr>
              <a:t>登鹳雀楼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</a:rPr>
              <a:t>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</a:rPr>
              <a:t>九曲黄河万里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</a:rPr>
              <a:t>                    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</a:rPr>
              <a:t>刘禹锡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</a:rPr>
              <a:t>《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</a:rPr>
              <a:t>浪淘沙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</a:rPr>
              <a:t>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</a:rPr>
              <a:t>欲渡黄河冰塞川，将登太行雪满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</a:rPr>
              <a:t>                    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</a:rPr>
              <a:t>李白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</a:rPr>
              <a:t>《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</a:rPr>
              <a:t>行路难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</a:rPr>
              <a:t>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coin.wav"/>
      </p:stSnd>
    </p:sndAc>
  </p:transition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9280" y="-171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作家作品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-360" y="1197000"/>
            <a:ext cx="54356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                        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光未然，原名张光年，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913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年出生在湖北光华县。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927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年在中学年代就参加革命工作。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935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年创作了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五月的鲜花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歌词，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939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年到延安后创作了歌颂中华民族精神的组诗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黄河大合唱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经冼星海谱曲后风行全国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30" name="Picture 8" descr="u=520173227,434157726&amp;gp=18"/>
          <p:cNvPicPr/>
          <p:nvPr/>
        </p:nvPicPr>
        <p:blipFill>
          <a:blip r:embed="rId1"/>
          <a:stretch/>
        </p:blipFill>
        <p:spPr>
          <a:xfrm>
            <a:off x="5508720" y="1268280"/>
            <a:ext cx="3384360" cy="496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zhangguangnian"/>
          <p:cNvPicPr/>
          <p:nvPr/>
        </p:nvPicPr>
        <p:blipFill>
          <a:blip r:embed="rId2"/>
          <a:stretch/>
        </p:blipFill>
        <p:spPr>
          <a:xfrm>
            <a:off x="5508720" y="1268280"/>
            <a:ext cx="3384360" cy="49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4479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250920" y="260280"/>
            <a:ext cx="8893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基础知识测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l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）给下列加点字注音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气魄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(     )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澎湃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(      )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浊流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(       )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宛转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(      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屏障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(      )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哺育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(         )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滋长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(         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）辨析下列形似字并组词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巅      颠       滇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魄    槐     傀      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澜      谰       斓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障    嶂樟      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）结合句薏，体会下列加点词语的表达效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掀起万丈狂澜，浊流宛转，结成九曲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WordArt 4"/>
          <p:cNvSpPr txBox="1"/>
          <p:nvPr/>
        </p:nvSpPr>
        <p:spPr>
          <a:xfrm>
            <a:off x="7093080" y="333360"/>
            <a:ext cx="15825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ln w="0">
                  <a:noFill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宋体"/>
              </a:rPr>
              <a:t> </a:t>
            </a:r>
            <a:r>
              <a:rPr b="1" lang="zh-CN" sz="3600" spc="-1" strike="noStrike">
                <a:ln w="0">
                  <a:noFill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宋体"/>
              </a:rPr>
              <a:t>黄河颂</a:t>
            </a:r>
            <a:endParaRPr b="1" lang="en-US" sz="3600" spc="-1" strike="noStrike">
              <a:ln w="0">
                <a:noFill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diamond/>
    <p:sndAc>
      <p:stSnd>
        <p:snd r:embed="rId1" name="coin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2"/>
          <p:cNvSpPr/>
          <p:nvPr/>
        </p:nvSpPr>
        <p:spPr>
          <a:xfrm>
            <a:off x="4479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250920" y="0"/>
            <a:ext cx="8893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3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你一泻万丈，浩浩荡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2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把中原大地，劈成南北两面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荡，向南北两岸，仃出千万条铁的臂膀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阅读理解测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l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）文章题目为 “河颂”。，作者从哪几方面歌颂了黄河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）在诗歌的主体部分，为什么要写一段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"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望黄河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"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的内容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）诗歌的第一节和第三节各有什么作用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）你知道哪些赞颂黄河的诗歌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?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请至少写出三句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文本框 8199"/>
          <p:cNvSpPr/>
          <p:nvPr/>
        </p:nvSpPr>
        <p:spPr>
          <a:xfrm>
            <a:off x="3492360" y="1773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ffcc00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3" name="coin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2"/>
          <p:cNvSpPr/>
          <p:nvPr/>
        </p:nvSpPr>
        <p:spPr>
          <a:xfrm>
            <a:off x="2916360" y="26028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问题探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539640" y="1143000"/>
            <a:ext cx="7848720" cy="36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．本课的题目是</a:t>
            </a:r>
            <a:r>
              <a:rPr b="0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《</a:t>
            </a:r>
            <a:r>
              <a:rPr b="0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黄河颂</a:t>
            </a:r>
            <a:r>
              <a:rPr b="0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》</a:t>
            </a:r>
            <a:r>
              <a:rPr b="0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，其中哪个字是关键，也是题眼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．开头点题后，作者并没有直接去颂而是在描写黄河，如果在文中找一个字来统领，应该是哪个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3</a:t>
            </a:r>
            <a:r>
              <a:rPr b="0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．歌词中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“</a:t>
            </a:r>
            <a:r>
              <a:rPr b="0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啊！黄河！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”</a:t>
            </a:r>
            <a:r>
              <a:rPr b="0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出现了几次？起了什么作用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 Box 5"/>
          <p:cNvSpPr/>
          <p:nvPr/>
        </p:nvSpPr>
        <p:spPr>
          <a:xfrm>
            <a:off x="4140360" y="3952800"/>
            <a:ext cx="4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6"/>
          <p:cNvSpPr/>
          <p:nvPr/>
        </p:nvSpPr>
        <p:spPr>
          <a:xfrm>
            <a:off x="4284720" y="193680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 Box 9"/>
          <p:cNvSpPr/>
          <p:nvPr/>
        </p:nvSpPr>
        <p:spPr>
          <a:xfrm>
            <a:off x="611280" y="575640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三次。“啊！黄河！”反复出现，把歌词主体部分从分为三个层次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coin.wav"/>
      </p:stSnd>
    </p:sndAc>
  </p:transition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6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7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FD4A-161A-4521-8D9E-265D0EDFE05D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2"/>
          <p:cNvSpPr/>
          <p:nvPr/>
        </p:nvSpPr>
        <p:spPr>
          <a:xfrm>
            <a:off x="2843280" y="18900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问题探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3"/>
          <p:cNvSpPr/>
          <p:nvPr/>
        </p:nvSpPr>
        <p:spPr>
          <a:xfrm>
            <a:off x="539640" y="907920"/>
            <a:ext cx="7848720" cy="52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4</a:t>
            </a:r>
            <a:r>
              <a:rPr b="0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．诗歌从哪几个方面来歌颂的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5</a:t>
            </a:r>
            <a:r>
              <a:rPr b="0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．全诗表达了作者怎样的思想感情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6</a:t>
            </a:r>
            <a:r>
              <a:rPr b="0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．作者心目中的黄河象征什么？具有什么精神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4"/>
          <p:cNvSpPr/>
          <p:nvPr/>
        </p:nvSpPr>
        <p:spPr>
          <a:xfrm>
            <a:off x="755640" y="14842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从三个方面：①黄河养育了中华民族。②黄河保卫了中华民族。③黄河激励了中华民族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7"/>
          <p:cNvSpPr/>
          <p:nvPr/>
        </p:nvSpPr>
        <p:spPr>
          <a:xfrm>
            <a:off x="1403280" y="3429000"/>
            <a:ext cx="715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表达作者对黄河的赞美之情，号召中华儿女学习黄河精神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8"/>
          <p:cNvSpPr/>
          <p:nvPr/>
        </p:nvSpPr>
        <p:spPr>
          <a:xfrm>
            <a:off x="1523880" y="579132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象征了中华民族，具有伟大坚强的精神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coin.wav"/>
      </p:stSnd>
    </p:sndAc>
  </p:transition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>
            <a:hlinkClick r:id="rId1"/>
          </p:cNvPr>
          <p:cNvSpPr/>
          <p:nvPr/>
        </p:nvSpPr>
        <p:spPr>
          <a:xfrm>
            <a:off x="250920" y="72396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隶书"/>
                <a:ea typeface="隶书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193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末，光未然随抗日部队行军至大西北的黄河岸边。中国雄奇的山川，战士们英勇的身姿激发了作者的创作灵感，时代的呼唤促使他怀着高涨的爱国热情谱写了一篇大型朗诵诗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黄河吟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冼星海在除夕晚会上听了该诗的朗诵异常兴奋，连续写作六天，于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193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3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完成了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黄河大合唱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部史诗性杰作。这部大型声乐作品共八个乐章，其中尤以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黄河颂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黄水谣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卫黄河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为人们所传唱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495720" y="0"/>
            <a:ext cx="1643760" cy="825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时代背景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1403280" y="222408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黄河船夫曲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5003640" y="222408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黄河颂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1332000" y="316080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黄河之水天上来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5003640" y="316080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黄河对口曲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332000" y="4024440"/>
            <a:ext cx="36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黄水谣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5003640" y="402444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黄河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1332000" y="496080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保卫黄河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5003640" y="4960800"/>
            <a:ext cx="41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怒吼吧！黄河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WordArt 10"/>
          <p:cNvSpPr txBox="1"/>
          <p:nvPr/>
        </p:nvSpPr>
        <p:spPr>
          <a:xfrm>
            <a:off x="539640" y="260280"/>
            <a:ext cx="22860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《黄河大合唱》</a:t>
            </a:r>
            <a:endParaRPr b="0" lang="en-US" sz="3600" spc="-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3132000" y="33336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是一部大型合唱音乐作品，共有八个乐章，分别是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500"/>
                            </p:stCondLst>
                            <p:childTnLst>
                              <p:par>
                                <p:cTn id="16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4"/>
          <p:cNvSpPr/>
          <p:nvPr/>
        </p:nvSpPr>
        <p:spPr>
          <a:xfrm>
            <a:off x="533520" y="83808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539640" y="1125360"/>
            <a:ext cx="8083800" cy="2056320"/>
          </a:xfrm>
          <a:prstGeom prst="rect">
            <a:avLst/>
          </a:prstGeom>
          <a:solidFill>
            <a:srgbClr val="ffff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结合时代背景，你认为作者描绘黄河一往无前、无坚不摧的气魄，歌颂它伟大坚强的精神，是要表达什么情感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借歌颂黄河来歌颂中华民族，以激发中华儿女的民族自豪感和自尊心，激励中华儿女学习黄河伟大坚强的精神，保卫黄河，保卫中国。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1079640" y="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创作目的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029_h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WordArt 3"/>
          <p:cNvSpPr txBox="1"/>
          <p:nvPr/>
        </p:nvSpPr>
        <p:spPr>
          <a:xfrm>
            <a:off x="1908000" y="189000"/>
            <a:ext cx="4915080" cy="156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800000"/>
                  </a:solidFill>
                  <a:round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走近黄河</a:t>
            </a:r>
            <a:endParaRPr b="1" lang="en-US" sz="9600" spc="1" strike="noStrike">
              <a:ln w="12600">
                <a:solidFill>
                  <a:srgbClr val="800000"/>
                </a:solidFill>
                <a:round/>
              </a:ln>
              <a:solidFill>
                <a:srgbClr val="ff66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advTm="2000">
    <p:diamond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6T06:15:0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3:42Z</dcterms:modified>
  <cp:revision>7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