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6185-C516-40CE-AFA4-146C162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A0216-F105-4A63-A601-9D59565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9DAE-4335-476E-9163-2545280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36B2A-465C-4307-BA2E-162ADFC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053B-3BBC-4BD8-9D55-F1AF150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942A-C4C7-4EE5-89D0-2ADAE8B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23555-9E4D-43DE-8430-61F4079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5FD79-331F-428D-9047-C39E8D48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E2B60-3ECC-4DFC-9209-ACE0C854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453B4-422D-49BC-8B30-2239540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A8059-666F-4F60-991D-F462720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E826-A541-4ACE-B1BF-F2B7D58B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D9564-1753-467A-8FD8-6A85D80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A21B7-3DBA-4481-B28F-34F1972E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2D47F-9C4C-4C3D-8885-46E604D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514A6-0ABA-4606-A9F9-DBAA95C8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8541A-3E60-48D0-8612-F80E393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A3F8C-40A8-428F-96E9-EF8D32D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2974D-B6CB-4B4E-A558-F134E0A3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1DFD0-F9B0-4D43-8DFD-DAF1847E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5A4C3-324A-4F89-BCA4-7DDEFFF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FA09E-97C4-4E9A-ABCE-7C6565DA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0E1D-047F-4E74-A9A3-B8B9CE2E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0CB97-F552-429A-A04E-280C2F0B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AA414-A563-43F8-ADE1-F9DD0BD1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181CC-2EAD-4F74-9FE0-0EBC79F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2AE0F-EC91-447D-8BAD-CA215DA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4718D-FED0-4A03-8C1C-447F7B0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F3ABB-6DFC-4C6B-B5F8-84AA189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C8F1A-4152-4180-BAA3-2B33DB2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871-6B07-46C8-ABF2-31ABB933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15C1C-863B-4182-A7BC-1FB9A6C2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D9C3-B62F-4A3C-BA5A-4660EED2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2C5C5-191C-400C-AE05-C371983D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AD209-7E39-4F5F-BE2D-8E4834FD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08D03-178A-45B5-B925-AC27DCCD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7495D-539C-494E-AB11-E072BC1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7B785-7563-4876-8134-6B366AE3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8404-109C-4C9B-A0DE-1C613F87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5C01F-4C1E-436E-B471-FA0F834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77A6-B570-43EC-A27F-2E668E3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283-0228-47C9-B0FA-C94501D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1E37-4CEF-48F4-A849-6267974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27AF1-C471-4D73-A94B-10ED8B1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3C54A-9C78-43EA-A0CE-685B2F60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482AC-47A2-4D7F-94F6-72A6DBF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B668B-F787-4853-9BC9-9482988C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ADFC2-D036-4928-AD68-74939F7D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C484-A8A7-4028-9B4D-2F03ADC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E5D0B-1C8A-4519-BEF4-A66E5EC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79FC1-0F8F-4AAB-82DA-E91D8BCF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95EA8-D02A-4C0F-9DAB-A13C476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28C-A6B6-4112-B078-B620763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24B15-AB38-476F-9E6D-5852D3E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E78CB-4A9B-4187-B99B-4D49117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B634C-56F9-4B70-85D2-EA6EEB3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E120-CDC4-4899-BD1B-6C473DD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E8405-B065-4273-909B-D361870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E44E2-A242-4A51-AFB0-9E82F452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1C3FC-056B-44B2-A82D-CD3641C6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D73E4-1E52-4E7B-B807-BE3E923B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B5788-0D02-46CD-AE53-1AC006A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BE306-753E-4A49-8A53-80876BD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5F5-A421-40CF-9F2C-7546606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4E590-7D1E-450B-8A21-F0B1243A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697D9-9154-4837-86A3-0733CBB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214DD-6B98-4C43-82BD-3F5FCF6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3DAF4-69B7-47AE-BCB6-5D7D7C7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9DACB-8F9A-46DA-80EA-ED93072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B3697-30DE-4ED5-94C7-1369806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8A85E-E26B-493B-9F11-E17AEC9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2ED07-F569-4D14-A3FA-A44224C3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7613F-8485-47C2-BC10-C3B9834F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297-502F-43EE-A4CB-C680C964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972-32FC-41E5-AB62-1DD400B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817-4804-4B17-9374-6909F13A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4D7-4A48-4BB5-B5DE-AE0FB7B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B94-C848-4253-AA21-B673ED2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04E-AE74-467B-8EAF-37B186D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F51-80DB-4F80-87C4-3217FBCA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4F9-E56A-403F-A612-76791D11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F22-1D91-4EAF-B626-C624ED93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290-8234-4873-A730-5E61D81F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7551-41B1-437B-A6C9-CFFFAF4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C2B-503F-42E2-A0BF-945D61B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1DB7-6A0F-409A-B4D2-A43EBAB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16C-19EC-4260-B048-3849C29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B3F-8E5F-4161-B9A2-32B815B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B525-143F-436C-B467-17E2BD4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343-5F39-4A7A-B423-AC9C9BC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462-4A2F-4770-A47D-118447B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A9A-F957-4E6A-B4DD-1CBA046F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8F57-4CA2-4A7D-9F60-8D9AA975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AD7C-9D76-47FD-AF32-45D1F636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80AD-18C3-4CFB-A7BE-3B4AE7EB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16EC-815D-4276-A080-DCF7588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BD5D-4DF1-4818-83E5-11AF654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4588-AD4F-4453-A9F0-9F1FC124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7A3D-01AD-4630-8CED-4030960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F16D-8CAC-4BF4-91AB-135A18F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13C1-7F9E-454D-8626-E27F92F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D9FC-354E-4A31-81BD-B84F83B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E899-31C0-4557-A14A-6DC6D9D9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F0BD-0359-4A19-8079-25104AC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33DA-6274-4584-B436-A214D46C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0205-D090-4E5C-851C-E0E1CE1C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9D9C-A14A-4A4F-97EE-907C4C3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3298-A394-46C3-9505-FE8DFF20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63CA-26F6-4230-80C7-23D2458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B3C9-661C-4880-AF33-8E41EF3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F912-583F-4A24-A8E5-0B80330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2FD4-6E3D-487E-A180-EF956AC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0783-3348-493B-9912-E2F78D3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8A98-7E69-459E-80E9-938BAFB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5C86-8641-4DAB-BCB9-DC51536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DE44-EF6B-44F7-BD32-59AAE8D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B6FB-A29B-45FA-8385-7E7BC140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84D5-FBAC-4A4C-B2E6-385CDD96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15F9-552B-4517-9067-D868CF7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316B-79CD-4ADC-92FB-6F05000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74630-166E-4C48-ACB5-834771F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1753-6966-4BC7-BFF3-10EF2CD1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FE0E-76EB-4338-B020-A024604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EBEE-B806-431B-B35D-D0B8478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F720-E8D9-4320-A312-0CF42987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B1B0-2CE5-467C-ABC0-5C27CE8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D42B-3648-4DF0-9010-A05924B7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269C-7CCC-4FD7-AAAD-F330E75A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0872-897B-49E1-A776-8704D98C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6258-730A-4993-822A-C7568AA5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E414-86A6-4CF7-89CB-1D1CE6D4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A330-79BE-4355-B92C-78D76704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4C94-C166-4B6A-9BFC-D5196421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DC5C-9171-419D-9F4A-AC078BC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954D3-5244-43BD-8D17-4C4B80E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3C92-5504-4306-A5FD-9FD46D4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48A3-9831-4147-B960-5FE8A47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30D9-A8CB-4560-8CB2-3C07131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D3BB-1B21-46C3-B2D7-CB662FD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5F8B-49B6-474C-96BC-4379186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4B48-4D70-443D-8C35-3149C1B7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A33B-4559-431A-8776-052F4370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0035-73B2-430F-B0F6-184044D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4ACC-FB48-493D-8533-110ADA9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9F34-0952-41BF-BC1F-5DB8727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F791-A4D4-443B-9D7F-17D2BC5A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C07B6-C475-4350-BAEE-87AD99C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0EF7-5084-44FC-8A86-3CB9B17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29217-9ABC-40B9-B5AB-EFE5954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F1B3-102F-4440-9E03-001B01F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6029-9CEA-4695-9408-5FDE9A0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28B6E-385A-429C-A7A9-523844B8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65DA-642C-44A4-B3ED-7DC2E7A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6829-01A7-4B55-ADCA-29A98BF7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5E9E-13D2-49A3-84F0-D3F06788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9EA2-2243-4183-88D4-8CB9063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C3F-66AF-466C-A8DC-9294800DA1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3000-DCE8-4D39-AB15-459B2B340F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D06-9FFD-49C7-B7D6-22DBA580C2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8B59-8F5C-4071-9076-F1F843D9CF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0EC-C3EF-4583-9F7F-F72E04C441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061-B08E-4A18-8BF2-9E0318D027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466-F80A-4E45-97CC-757EE8CE59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5C35-7DE5-4138-A682-3189FB48EA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252-6410-4523-9444-1973F493DA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507B-1626-425D-A194-5DEB6901DD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D65-2ADB-41E1-AD86-DAAEDC04A5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6663-5467-4187-AE1E-B0ED16CB65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215-3BBE-4BCB-877C-7D3C01DD3D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欢欢喜喜过春节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1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3835440" cy="25635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3" descr=""/>
          <p:cNvPicPr/>
          <p:nvPr/>
        </p:nvPicPr>
        <p:blipFill>
          <a:blip r:embed="rId2"/>
          <a:stretch/>
        </p:blipFill>
        <p:spPr>
          <a:xfrm>
            <a:off x="4038480" y="2482920"/>
            <a:ext cx="4496040" cy="269856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迷你简蝶语"/>
              </a:rPr>
              <a:t>贴年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门神"/>
          <p:cNvPicPr/>
          <p:nvPr/>
        </p:nvPicPr>
        <p:blipFill>
          <a:blip r:embed="rId1"/>
          <a:stretch/>
        </p:blipFill>
        <p:spPr>
          <a:xfrm>
            <a:off x="5638680" y="3809880"/>
            <a:ext cx="2887920" cy="28195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图片5"/>
          <p:cNvPicPr/>
          <p:nvPr/>
        </p:nvPicPr>
        <p:blipFill>
          <a:blip r:embed="rId2"/>
          <a:stretch/>
        </p:blipFill>
        <p:spPr>
          <a:xfrm>
            <a:off x="5181480" y="152280"/>
            <a:ext cx="3584520" cy="3584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图片4"/>
          <p:cNvPicPr/>
          <p:nvPr/>
        </p:nvPicPr>
        <p:blipFill>
          <a:blip r:embed="rId3"/>
          <a:stretch/>
        </p:blipFill>
        <p:spPr>
          <a:xfrm>
            <a:off x="228600" y="1295280"/>
            <a:ext cx="44956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7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8"/>
          <p:cNvSpPr/>
          <p:nvPr/>
        </p:nvSpPr>
        <p:spPr>
          <a:xfrm>
            <a:off x="457200" y="762120"/>
            <a:ext cx="28954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拜  年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581280" y="228600"/>
            <a:ext cx="541044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年初一，人们都早早起来，穿上最漂亮的衣服，打扮得整整齐齐，出门去走亲访友，相互拜年，恭祝来年大吉大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春节拜年时，晚辈要先给长辈拜年，祝长辈人长寿安康，长辈可将事先准备好的压岁钱分给晚辈，据说压岁钱可以压住邪祟，晚辈得到压岁钱就可以平平安安度过一岁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01300000291092126493110161224"/>
          <p:cNvPicPr/>
          <p:nvPr/>
        </p:nvPicPr>
        <p:blipFill>
          <a:blip r:embed="rId2"/>
          <a:stretch/>
        </p:blipFill>
        <p:spPr>
          <a:xfrm>
            <a:off x="228600" y="2362320"/>
            <a:ext cx="3276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71800" cy="141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赏花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20082610515417125"/>
          <p:cNvPicPr/>
          <p:nvPr/>
        </p:nvPicPr>
        <p:blipFill>
          <a:blip r:embed="rId1"/>
          <a:stretch/>
        </p:blipFill>
        <p:spPr>
          <a:xfrm>
            <a:off x="0" y="403848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666880" cy="5181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年赏花灯习俗自古由来已久，一直流传到现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6" descr="灯展"/>
          <p:cNvPicPr/>
          <p:nvPr/>
        </p:nvPicPr>
        <p:blipFill>
          <a:blip r:embed="rId2"/>
          <a:stretch/>
        </p:blipFill>
        <p:spPr>
          <a:xfrm>
            <a:off x="5334120" y="40384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图片4"/>
          <p:cNvPicPr/>
          <p:nvPr/>
        </p:nvPicPr>
        <p:blipFill>
          <a:blip r:embed="rId3"/>
          <a:stretch/>
        </p:blipFill>
        <p:spPr>
          <a:xfrm>
            <a:off x="2952720" y="0"/>
            <a:ext cx="61912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神工体简"/>
              </a:rPr>
              <a:t>舞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3_100120165843_1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舞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20110215100015759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622" name="文本框 8199"/>
          <p:cNvSpPr/>
          <p:nvPr/>
        </p:nvSpPr>
        <p:spPr>
          <a:xfrm>
            <a:off x="744480" y="118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走高跷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842b2bb6d9810ec6d80d51"/>
          <p:cNvPicPr/>
          <p:nvPr/>
        </p:nvPicPr>
        <p:blipFill>
          <a:blip r:embed="rId1"/>
          <a:stretch/>
        </p:blipFill>
        <p:spPr>
          <a:xfrm>
            <a:off x="380880" y="1447920"/>
            <a:ext cx="8153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太极体简"/>
              </a:rPr>
              <a:t>吉祥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29714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太极体简"/>
              </a:rPr>
              <a:t>我们一起说说吉祥话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6D5-EB2D-45E5-BD69-C33832143D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0" descr="C446[)`8{B(GTN{R_UOKC~S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1"/>
          <p:cNvSpPr/>
          <p:nvPr/>
        </p:nvSpPr>
        <p:spPr>
          <a:xfrm>
            <a:off x="228600" y="4495680"/>
            <a:ext cx="800100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祝：全体师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新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年大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神工体简"/>
              </a:rPr>
              <a:t>穿新衣、穿新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3D011D575BE7A74B"/>
          <p:cNvPicPr/>
          <p:nvPr/>
        </p:nvPicPr>
        <p:blipFill>
          <a:blip r:embed="rId1"/>
          <a:stretch/>
        </p:blipFill>
        <p:spPr>
          <a:xfrm>
            <a:off x="76320" y="14479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6cf8f785-90a7-447a-857f-5db9eae3033a"/>
          <p:cNvPicPr/>
          <p:nvPr/>
        </p:nvPicPr>
        <p:blipFill>
          <a:blip r:embed="rId2"/>
          <a:stretch/>
        </p:blipFill>
        <p:spPr>
          <a:xfrm>
            <a:off x="4724280" y="1905120"/>
            <a:ext cx="42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放鞭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鞭炮"/>
          <p:cNvPicPr/>
          <p:nvPr/>
        </p:nvPicPr>
        <p:blipFill>
          <a:blip r:embed="rId1"/>
          <a:stretch/>
        </p:blipFill>
        <p:spPr>
          <a:xfrm>
            <a:off x="0" y="2057400"/>
            <a:ext cx="3352680" cy="3403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放鞭炮"/>
          <p:cNvPicPr/>
          <p:nvPr/>
        </p:nvPicPr>
        <p:blipFill>
          <a:blip r:embed="rId2"/>
          <a:stretch/>
        </p:blipFill>
        <p:spPr>
          <a:xfrm>
            <a:off x="4114800" y="1676520"/>
            <a:ext cx="5029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太极体简"/>
              </a:rPr>
              <a:t>挂灯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185_200901222358221Vfw0"/>
          <p:cNvPicPr/>
          <p:nvPr/>
        </p:nvPicPr>
        <p:blipFill>
          <a:blip r:embed="rId1"/>
          <a:stretch/>
        </p:blipFill>
        <p:spPr>
          <a:xfrm>
            <a:off x="460440" y="1371600"/>
            <a:ext cx="7997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守岁，吃年夜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20090126174901293"/>
          <p:cNvPicPr/>
          <p:nvPr/>
        </p:nvPicPr>
        <p:blipFill>
          <a:blip r:embed="rId1"/>
          <a:stretch/>
        </p:blipFill>
        <p:spPr>
          <a:xfrm>
            <a:off x="0" y="228600"/>
            <a:ext cx="1474920" cy="1184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648320" y="1828800"/>
            <a:ext cx="4495680" cy="31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迷你简蝶语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除夕守岁是最重要的年俗活动之一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迷你简蝶语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大家终夜不眠，以待天明，称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迷你简蝶语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守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迷你简蝶语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4419720"/>
            <a:ext cx="358128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夕之夜，全家团聚在一起，吃过年夜饭，其中必须要有鱼这道菜，象征年年有余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11012703378f44bc41d6f64bac"/>
          <p:cNvPicPr/>
          <p:nvPr/>
        </p:nvPicPr>
        <p:blipFill>
          <a:blip r:embed="rId2"/>
          <a:stretch/>
        </p:blipFill>
        <p:spPr>
          <a:xfrm>
            <a:off x="304920" y="16765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图片1"/>
          <p:cNvPicPr/>
          <p:nvPr/>
        </p:nvPicPr>
        <p:blipFill>
          <a:blip r:embed="rId3"/>
          <a:stretch/>
        </p:blipFill>
        <p:spPr>
          <a:xfrm>
            <a:off x="5029200" y="4340160"/>
            <a:ext cx="35053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imagesCAZ4WH72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200901131013135356"/>
          <p:cNvPicPr/>
          <p:nvPr/>
        </p:nvPicPr>
        <p:blipFill>
          <a:blip r:embed="rId2"/>
          <a:stretch/>
        </p:blipFill>
        <p:spPr>
          <a:xfrm>
            <a:off x="0" y="228600"/>
            <a:ext cx="4419720" cy="3479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饺子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34671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914400" y="4800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吃饺子代表“吉祥如意”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01300000761119126603158113741"/>
          <p:cNvPicPr/>
          <p:nvPr/>
        </p:nvPicPr>
        <p:blipFill>
          <a:blip r:embed="rId1"/>
          <a:stretch/>
        </p:blipFill>
        <p:spPr>
          <a:xfrm>
            <a:off x="4876920" y="380880"/>
            <a:ext cx="4044960" cy="4219560"/>
          </a:xfrm>
          <a:prstGeom prst="rect">
            <a:avLst/>
          </a:prstGeom>
          <a:ln w="0">
            <a:noFill/>
          </a:ln>
        </p:spPr>
      </p:pic>
      <p:sp>
        <p:nvSpPr>
          <p:cNvPr id="594" name="WordArt 4"/>
          <p:cNvSpPr txBox="1"/>
          <p:nvPr/>
        </p:nvSpPr>
        <p:spPr>
          <a:xfrm>
            <a:off x="1219320" y="3886200"/>
            <a:ext cx="51051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吃年糕寓意节节高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95" name="Picture 6" descr="图片2"/>
          <p:cNvPicPr/>
          <p:nvPr/>
        </p:nvPicPr>
        <p:blipFill>
          <a:blip r:embed="rId4"/>
          <a:stretch/>
        </p:blipFill>
        <p:spPr>
          <a:xfrm>
            <a:off x="0" y="0"/>
            <a:ext cx="4165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110217164096231"/>
          <p:cNvPicPr/>
          <p:nvPr/>
        </p:nvPicPr>
        <p:blipFill>
          <a:blip r:embed="rId1"/>
          <a:stretch/>
        </p:blipFill>
        <p:spPr>
          <a:xfrm>
            <a:off x="4038480" y="3352680"/>
            <a:ext cx="4862520" cy="3243240"/>
          </a:xfrm>
          <a:prstGeom prst="rect">
            <a:avLst/>
          </a:prstGeom>
          <a:ln w="0">
            <a:noFill/>
          </a:ln>
        </p:spPr>
      </p:pic>
      <p:sp>
        <p:nvSpPr>
          <p:cNvPr id="597" name="WordArt 4"/>
          <p:cNvSpPr txBox="1"/>
          <p:nvPr/>
        </p:nvSpPr>
        <p:spPr>
          <a:xfrm>
            <a:off x="4572000" y="685800"/>
            <a:ext cx="3809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贴对联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8" name="Picture 6" descr="图片3"/>
          <p:cNvPicPr/>
          <p:nvPr/>
        </p:nvPicPr>
        <p:blipFill>
          <a:blip r:embed="rId2"/>
          <a:stretch/>
        </p:blipFill>
        <p:spPr>
          <a:xfrm>
            <a:off x="0" y="304920"/>
            <a:ext cx="4273560" cy="310968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8199"/>
          <p:cNvSpPr/>
          <p:nvPr/>
        </p:nvSpPr>
        <p:spPr>
          <a:xfrm>
            <a:off x="125280" y="4000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541008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贴春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1" descr="01300000011347120099276475985_s"/>
          <p:cNvPicPr/>
          <p:nvPr/>
        </p:nvPicPr>
        <p:blipFill>
          <a:blip r:embed="rId1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贴春联"/>
          <p:cNvPicPr/>
          <p:nvPr/>
        </p:nvPicPr>
        <p:blipFill>
          <a:blip r:embed="rId2"/>
          <a:stretch/>
        </p:blipFill>
        <p:spPr>
          <a:xfrm>
            <a:off x="4876920" y="198288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0" y="1752480"/>
            <a:ext cx="40384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联也叫门对、春贴、对联、对子、桃符等。每逢春节，家家户户都要选一幅大红春联贴于门上为节日增加喜庆气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节贴“福”字也是一风俗。“福”字指福气、福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3" descr="01300000011347120099276475985_s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1:4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