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8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9.jpeg" ContentType="image/jpeg"/>
  <Override PartName="/ppt/media/image11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png" ContentType="image/png"/>
  <Override PartName="/ppt/media/image27.jpeg" ContentType="image/jpeg"/>
  <Override PartName="/ppt/media/image17.gif" ContentType="image/gif"/>
  <Override PartName="/ppt/media/image21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FC8-E59F-4236-9A70-057D0E90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DFC-1BE7-45EC-A4B7-7530F1F3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780-1FAA-4703-942A-50D7701B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84D-92D0-4A5D-A454-4D13263D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D34A-8DF4-4861-9259-8904DBB4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208B-5100-4E2F-B74C-01225B9D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47E9-975B-4E70-9593-2B62F834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7268-CF98-469C-9089-05F6AFD5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D098-C85B-4970-BA4A-63A43EBE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D127-7913-48AE-AE39-A29F74E6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8684-0C99-4025-85F6-02674BEC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449-87EF-474D-8C0A-E7C9F630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3992-710E-4D5F-8AED-F9958546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FFCB-51DF-4D87-A841-8625B846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B606-0FE9-40AA-A693-A3F95555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59E7-31DD-4FDF-87DC-C24B187C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AB64-E3BA-4EE5-9DFB-9369E634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AB9-422D-4BAD-A62B-231335AD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5EA-D378-40FA-A3E9-9F595756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E02-4576-44E3-A980-92813D9B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17A-E3C8-4CE5-9E9C-63FA1599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9ED-114C-40FE-B631-3643D4E8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64E-2207-4B14-A01C-15E92EBE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87E-0412-4EA8-A8E7-6624C2B7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E3C1-E505-4348-AEE2-27589881C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7581-F85E-4A20-ADBA-77BCDA3398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201008212344194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环球旅行去</a:t>
            </a:r>
            <a:r>
              <a:rPr b="1" lang="en-US" sz="4000" spc="-1" strike="noStrike">
                <a:solidFill>
                  <a:srgbClr val="c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课件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01800" y="2346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20120508195928_HrNGQ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0101020170703283"/>
          <p:cNvPicPr/>
          <p:nvPr/>
        </p:nvPicPr>
        <p:blipFill>
          <a:blip r:embed="rId2"/>
          <a:stretch/>
        </p:blipFill>
        <p:spPr>
          <a:xfrm>
            <a:off x="1979640" y="1628640"/>
            <a:ext cx="5761080" cy="4267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神游埃及金字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66ff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Arial"/>
              </a:rPr>
              <a:t>狮身人面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2012128542638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神游埃及金字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WordArt 5" descr=""/>
          <p:cNvPicPr/>
          <p:nvPr/>
        </p:nvPicPr>
        <p:blipFill>
          <a:blip r:embed="rId2"/>
          <a:stretch/>
        </p:blipFill>
        <p:spPr>
          <a:xfrm>
            <a:off x="1398600" y="981000"/>
            <a:ext cx="6745320" cy="5126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_16205455489952645269[1]"/>
          <p:cNvPicPr/>
          <p:nvPr/>
        </p:nvPicPr>
        <p:blipFill>
          <a:blip r:embed="rId3"/>
          <a:stretch/>
        </p:blipFill>
        <p:spPr>
          <a:xfrm>
            <a:off x="304920" y="573408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_16205455489952645269[1]"/>
          <p:cNvPicPr/>
          <p:nvPr/>
        </p:nvPicPr>
        <p:blipFill>
          <a:blip r:embed="rId4"/>
          <a:stretch/>
        </p:blipFill>
        <p:spPr>
          <a:xfrm>
            <a:off x="807732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20120217140245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追溯西方文明的摇篮</a:t>
            </a: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希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知道智慧女神雅典娜的神话和奥运会的来历吗？它们都来自古希腊，一提起希腊，西方人就会有一种家园之感，希腊也因此被誉为西方文明的摇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20120217140245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追溯西方文明的摇篮</a:t>
            </a: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希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希腊神话中，智慧女神雅典娜与海神波赛冬欲争夺一座城市保护神的位置，最后二神决定每人给市民一份礼物，然后由市民选择谁来做保护神。最后市民选择了献出橄榄树的雅典娜，于是这座城市就叫做雅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20120217140245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追溯西方文明的摇篮</a:t>
            </a: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希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298e81dc7f828b9e1fe0bf2"/>
          <p:cNvPicPr/>
          <p:nvPr/>
        </p:nvPicPr>
        <p:blipFill>
          <a:blip r:embed="rId2"/>
          <a:stretch/>
        </p:blipFill>
        <p:spPr>
          <a:xfrm>
            <a:off x="2195640" y="2081160"/>
            <a:ext cx="5616360" cy="42134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1403280" y="1341360"/>
            <a:ext cx="69343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雅典娜神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20120217140245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追溯西方文明的摇篮</a:t>
            </a:r>
            <a:r>
              <a:rPr b="1" lang="en-US" sz="4000" spc="-1" strike="noStrike">
                <a:solidFill>
                  <a:srgbClr val="ff66cc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希腊</a:t>
            </a:r>
            <a:br>
              <a:rPr sz="4000"/>
            </a:b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奥林匹克运动会的来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5914800" cy="3252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234d8a3325a261a345c0b59538b29b16"/>
          <p:cNvPicPr/>
          <p:nvPr/>
        </p:nvPicPr>
        <p:blipFill>
          <a:blip r:embed="rId3"/>
          <a:stretch/>
        </p:blipFill>
        <p:spPr>
          <a:xfrm>
            <a:off x="6248520" y="515772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234d8a3325a261a345c0b59538b29b16"/>
          <p:cNvPicPr/>
          <p:nvPr/>
        </p:nvPicPr>
        <p:blipFill>
          <a:blip r:embed="rId4"/>
          <a:stretch/>
        </p:blipFill>
        <p:spPr>
          <a:xfrm>
            <a:off x="0" y="515772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1332000" y="1341360"/>
            <a:ext cx="714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古代奥运会赛场遗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20120217140245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2124000" y="2060640"/>
            <a:ext cx="6551640" cy="4316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追溯西方文明的摇篮</a:t>
            </a: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希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755640" y="1484280"/>
            <a:ext cx="714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给我一个支点，我可以撬动地球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8200"/>
          <p:cNvSpPr/>
          <p:nvPr/>
        </p:nvSpPr>
        <p:spPr>
          <a:xfrm>
            <a:off x="2112840" y="11494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20120217140245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追溯西方文明的摇篮</a:t>
            </a: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希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WordArt 4" descr=""/>
          <p:cNvPicPr/>
          <p:nvPr/>
        </p:nvPicPr>
        <p:blipFill>
          <a:blip r:embed="rId2"/>
          <a:stretch/>
        </p:blipFill>
        <p:spPr>
          <a:xfrm>
            <a:off x="463680" y="1268280"/>
            <a:ext cx="8277120" cy="452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_16521459155791215264[1]"/>
          <p:cNvPicPr/>
          <p:nvPr/>
        </p:nvPicPr>
        <p:blipFill>
          <a:blip r:embed="rId3"/>
          <a:stretch/>
        </p:blipFill>
        <p:spPr>
          <a:xfrm>
            <a:off x="228600" y="58672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_16521459155791215264[1]"/>
          <p:cNvPicPr/>
          <p:nvPr/>
        </p:nvPicPr>
        <p:blipFill>
          <a:blip r:embed="rId4"/>
          <a:stretch/>
        </p:blipFill>
        <p:spPr>
          <a:xfrm>
            <a:off x="8153280" y="5867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20120217140245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巴黎是法国的首都，拥有许多闻名世界的历史遗迹和宏伟壮丽的现代建筑。让我们一起欣赏一下艺术之都的魅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游览艺术之都</a:t>
            </a: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巴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4d7ea6e5d1869f3478583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2212335_230901026_2"/>
          <p:cNvPicPr/>
          <p:nvPr/>
        </p:nvPicPr>
        <p:blipFill>
          <a:blip r:embed="rId2"/>
          <a:stretch/>
        </p:blipFill>
        <p:spPr>
          <a:xfrm>
            <a:off x="1908000" y="1700280"/>
            <a:ext cx="637560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游览艺术之都</a:t>
            </a: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巴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20120508195928_HrNGQ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环球旅行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341360"/>
            <a:ext cx="84358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领略了周边国家的风采之后，让我们到更遥远的地方，做一次“环球旅行”，去感受世界古老文明和现代文化的魄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课我们将了解：世界上有那些著名的文化遗址？世界上有那些悠久的特色城市？这些古遗址和特色城市反映的是我们人类对世界文化的创造。走进他们之中，你会有什么样的感受和认识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4d7ea6e5d1869f3478583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于塞纳河边，有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历史的卢浮宫是巴黎最负盛名的建筑。它是世界上最大的艺术博物馆，不仅外观宏大精致，馆内的各种珍宝更是数以万计，收藏品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件以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卢浮宫有三件镇馆之宝，维纳斯和胜利女神像都是古希腊助雕刻作品中的杰作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蒙娜丽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著名画家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芬奇的稀世名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游览艺术之都</a:t>
            </a: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巴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4d7ea6e5d1869f3478583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游览艺术之都</a:t>
            </a: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巴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250_1282014025NBE6"/>
          <p:cNvPicPr/>
          <p:nvPr/>
        </p:nvPicPr>
        <p:blipFill>
          <a:blip r:embed="rId2"/>
          <a:stretch/>
        </p:blipFill>
        <p:spPr>
          <a:xfrm>
            <a:off x="2771640" y="1844640"/>
            <a:ext cx="3389400" cy="4525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1979640" y="1268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胜利女神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4d7ea6e5d1869f3478583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游览艺术之都</a:t>
            </a: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巴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米洛斯的维纳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01300000633919127425668413665"/>
          <p:cNvPicPr/>
          <p:nvPr/>
        </p:nvPicPr>
        <p:blipFill>
          <a:blip r:embed="rId2"/>
          <a:stretch/>
        </p:blipFill>
        <p:spPr>
          <a:xfrm>
            <a:off x="3635280" y="1628640"/>
            <a:ext cx="3359160" cy="489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4d7ea6e5d1869f3478583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蒙娜丽莎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游览艺术之都</a:t>
            </a: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巴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20100828083628610"/>
          <p:cNvPicPr/>
          <p:nvPr/>
        </p:nvPicPr>
        <p:blipFill>
          <a:blip r:embed="rId2"/>
          <a:stretch/>
        </p:blipFill>
        <p:spPr>
          <a:xfrm>
            <a:off x="2916360" y="1700280"/>
            <a:ext cx="5287680" cy="452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4d7ea6e5d1869f3478583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埃菲尔铁塔是巴黎的标志性建筑，它有三百多米高，距今已经有一百多年的历史，是纪念法国革命而修建的。同时，它也被看作是铁器文明的象征。铁塔比埃及金字塔高出一倍，它的完成只用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月的时间，堪称建筑构造和技术史上的奇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游览艺术之都</a:t>
            </a: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巴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4d7ea6e5d1869f3478583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埃菲尔铁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游览艺术之都</a:t>
            </a: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巴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1190872054403"/>
          <p:cNvPicPr/>
          <p:nvPr/>
        </p:nvPicPr>
        <p:blipFill>
          <a:blip r:embed="rId2"/>
          <a:stretch/>
        </p:blipFill>
        <p:spPr>
          <a:xfrm>
            <a:off x="3060720" y="1413000"/>
            <a:ext cx="3387600" cy="5064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4d7ea6e5d1869f3478583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巴黎，蓬皮杜国家文化艺术中心是一座新型的现代文化艺术宝库。来自世界各地的人们，在这里通过现代化的技术和手段来吸取知识、欣赏艺术、丰富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游览艺术之都</a:t>
            </a: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巴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4d7ea6e5d1869f3478583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蓬皮杜艺术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游览艺术之都</a:t>
            </a: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巴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15871_200702141351564"/>
          <p:cNvPicPr/>
          <p:nvPr/>
        </p:nvPicPr>
        <p:blipFill>
          <a:blip r:embed="rId2"/>
          <a:stretch/>
        </p:blipFill>
        <p:spPr>
          <a:xfrm>
            <a:off x="2195640" y="1932120"/>
            <a:ext cx="5672160" cy="4254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4d7ea6e5d1869f3478583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年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开始，历时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的维也纳音乐节就开始了，演出场次超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场，观众人数可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以上。维也纳音乐节代表了欧洲音乐的最高水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到维也纳听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b7fd5266d0160924780b9df2d50735fae6cd342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维也纳交响乐团在演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到维也纳听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7272360" cy="4275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20120508195928_HrNGQ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神游埃及金字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到世界奇迹，人们都会想到埃及首都开罗附近的金字塔。这些为古埃及国王修建的巨型坟墓，默默地耸立在一望无垠的大沙漠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像人们展示了四千年前古埃及人的智慧，成为古代奇迹最为典型的代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b7fd5266d0160924780b9df2d50735fae6cd342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维也纳国家歌剧院是全世界公认的一流歌剧院。从落成这天起，它就是音乐圣殿的象征。全世界最著名的作曲家、指挥家、演奏家、歌唱家和舞蹈家，都以能在国家歌剧院演出而感到荣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到维也纳听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b7fd5266d0160924780b9df2d50735fae6cd342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到维也纳听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20090821173735_0_30687"/>
          <p:cNvPicPr/>
          <p:nvPr/>
        </p:nvPicPr>
        <p:blipFill>
          <a:blip r:embed="rId2"/>
          <a:stretch/>
        </p:blipFill>
        <p:spPr>
          <a:xfrm>
            <a:off x="2987640" y="1628640"/>
            <a:ext cx="4897440" cy="48974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889200" y="1341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维也纳歌剧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8200"/>
          <p:cNvSpPr/>
          <p:nvPr/>
        </p:nvSpPr>
        <p:spPr>
          <a:xfrm>
            <a:off x="2355840" y="196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7" descr="b7fd5266d0160924780b9df2d50735fae6cd342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到维也纳听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维也纳成为音乐之 都并非偶然。几百年来，曾有无数的音乐家在此生活创作，如海顿、莫扎特、贝多芬、斯特劳斯等著名的音乐天才，他们为维也纳积蓄了深厚的文化底蕴。为了感谢和缅怀这些美的创造者，人们在城市中建了许多著名音乐家的雕像、纪念碑、鲜花常新的墓地及故居博物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b7fd5266d0160924780b9df2d50735fae6cd342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莫扎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到维也纳听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c23c95c2ffd5361f0ff4771c"/>
          <p:cNvPicPr/>
          <p:nvPr/>
        </p:nvPicPr>
        <p:blipFill>
          <a:blip r:embed="rId2"/>
          <a:stretch/>
        </p:blipFill>
        <p:spPr>
          <a:xfrm>
            <a:off x="2916360" y="1413000"/>
            <a:ext cx="4101840" cy="5184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1618-3D9A-42D5-A704-DB526308A4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b7fd5266d0160924780b9df2d50735fae6cd342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到维也纳听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1763640" y="2133720"/>
            <a:ext cx="6048360" cy="44416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4"/>
          <p:cNvSpPr/>
          <p:nvPr/>
        </p:nvSpPr>
        <p:spPr>
          <a:xfrm>
            <a:off x="1289880" y="141300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斯特劳斯纪念铜像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5" descr="20120508195928_HrNGQ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200608101007431"/>
          <p:cNvPicPr/>
          <p:nvPr/>
        </p:nvPicPr>
        <p:blipFill>
          <a:blip r:embed="rId2"/>
          <a:stretch/>
        </p:blipFill>
        <p:spPr>
          <a:xfrm>
            <a:off x="2050920" y="1916280"/>
            <a:ext cx="5905800" cy="4422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神游埃及金字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772920" y="141300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胡夫金字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227640" y="141300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10560" y="177336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20120508195928_HrNGQ"/>
          <p:cNvPicPr/>
          <p:nvPr/>
        </p:nvPicPr>
        <p:blipFill>
          <a:blip r:embed="rId1"/>
          <a:stretch/>
        </p:blipFill>
        <p:spPr>
          <a:xfrm>
            <a:off x="155520" y="4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神游埃及金字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胡夫金字塔是这些金字塔中最有名的，也称大金字塔。它现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，在法国埃菲尔铁塔建成前，一直是地球上最高的建筑物。据说建造这座塔动用了数十万人，历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的时间。若以现在的技术运送这些巨石，需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列每列载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吨的火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5" descr="20120508195928_HrNGQ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2453232_100620098966_2"/>
          <p:cNvPicPr/>
          <p:nvPr/>
        </p:nvPicPr>
        <p:blipFill>
          <a:blip r:embed="rId2"/>
          <a:stretch/>
        </p:blipFill>
        <p:spPr>
          <a:xfrm>
            <a:off x="1258920" y="1341360"/>
            <a:ext cx="6858000" cy="4629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神游埃及金字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771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cc"/>
                </a:solidFill>
                <a:latin typeface="Arial"/>
              </a:rPr>
              <a:t>胡夫金字塔内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20120508195928_HrNGQ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神游埃及金字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胡夫金字内部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1444"/>
          <p:cNvPicPr/>
          <p:nvPr/>
        </p:nvPicPr>
        <p:blipFill>
          <a:blip r:embed="rId2"/>
          <a:stretch/>
        </p:blipFill>
        <p:spPr>
          <a:xfrm>
            <a:off x="2627280" y="249228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20120508195928_HrNGQ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神游埃及金字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2"/>
          <a:stretch/>
        </p:blipFill>
        <p:spPr>
          <a:xfrm>
            <a:off x="534960" y="1484280"/>
            <a:ext cx="7967520" cy="396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_16205455489952645269[1]"/>
          <p:cNvPicPr/>
          <p:nvPr/>
        </p:nvPicPr>
        <p:blipFill>
          <a:blip r:embed="rId3"/>
          <a:stretch/>
        </p:blipFill>
        <p:spPr>
          <a:xfrm>
            <a:off x="304920" y="573408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_16205455489952645269[1]"/>
          <p:cNvPicPr/>
          <p:nvPr/>
        </p:nvPicPr>
        <p:blipFill>
          <a:blip r:embed="rId4"/>
          <a:stretch/>
        </p:blipFill>
        <p:spPr>
          <a:xfrm>
            <a:off x="807732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20120508195928_HrNGQ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神游埃及金字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在四五千年前，古埃及已经出现狮身人面像，其中最早出现的便是一尊姿态雄浑而优雅的巨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13:20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39Z</dcterms:modified>
  <cp:revision>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