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26.gif" ContentType="image/gif"/>
  <Override PartName="/ppt/media/image13.jpeg" ContentType="image/jpeg"/>
  <Override PartName="/ppt/media/image23.png" ContentType="image/png"/>
  <Override PartName="/ppt/media/image25.jpeg" ContentType="image/jpeg"/>
  <Override PartName="/ppt/media/image2.jpeg" ContentType="image/jpeg"/>
  <Override PartName="/ppt/media/image3.png" ContentType="image/png"/>
  <Override PartName="/ppt/media/image17.gif" ContentType="image/gif"/>
  <Override PartName="/ppt/media/image22.png" ContentType="image/png"/>
  <Override PartName="/ppt/media/image1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jpeg" ContentType="image/jpeg"/>
  <Override PartName="/ppt/media/image4.png" ContentType="image/png"/>
  <Override PartName="/ppt/media/image27.png" ContentType="image/png"/>
  <Override PartName="/ppt/media/image24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F96-14B3-4EAD-A0B5-1494C6170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CF3-D47E-42F3-88D5-90FE029D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2ED1-969F-4954-850C-0E20EAE7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0629-CE3B-48A6-933C-653FED3C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266F5-B903-41F6-A42B-A7A644D18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BC56E-6BFC-4524-B2F3-1B86E77F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509DA-DEEF-44E1-AD31-63BABDE3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DA26-F2D4-4C83-AB5E-5BBDF85A7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8201-71BB-402E-AE91-D2E3614A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FF24-C961-4F4A-B6F1-3B98D3D7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C700-CAF2-4872-8451-492A4088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843-18A5-432F-ABC3-281C9894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7D7DC-6B87-4A8A-9BCD-8BC3BCE6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9C91A-1EEF-414E-B7F0-D5343BE7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6216-5C50-4961-8376-BA145649D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62F0F-2031-4CD1-94E4-2121CE247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3EE7-938A-4870-97BC-F2AF797F4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F8C9-034C-45E1-9AB8-902797F5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F9B-F236-4F85-A6E7-AB1D14F1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621-E144-4F9D-B583-03828334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67D-7504-4E48-AF64-38A14965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46B-9EF2-4A18-92CE-56CDA791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A42-9272-4973-97E9-BCC79C49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2841-C7F9-4AA7-AD31-02EB8E75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5FBF-8339-4C07-9B3C-F0E49EE095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3D0A-F369-41B9-805F-BE7427D192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kl.rmvb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5"/>
          <p:cNvSpPr/>
          <p:nvPr/>
        </p:nvSpPr>
        <p:spPr>
          <a:xfrm>
            <a:off x="966960" y="1773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换位思考与人为善课件</a:t>
            </a:r>
            <a:r>
              <a:rPr b="1" lang="en-US" sz="4000" spc="-1" strike="noStrike">
                <a:solidFill>
                  <a:srgbClr val="3333cc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3333cc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1"/>
          <p:cNvSpPr/>
          <p:nvPr/>
        </p:nvSpPr>
        <p:spPr>
          <a:xfrm>
            <a:off x="2839320" y="692280"/>
            <a:ext cx="349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第九课  心有他人天地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7"/>
          <p:cNvSpPr/>
          <p:nvPr/>
        </p:nvSpPr>
        <p:spPr>
          <a:xfrm>
            <a:off x="901080" y="404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交往的困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250920" y="1197000"/>
            <a:ext cx="324144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宋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2411280" y="4653000"/>
            <a:ext cx="62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同学疏远小乔的原因是什么？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、想得到别人的关照，应该如何对待他人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684360" y="1197000"/>
            <a:ext cx="396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小乔是父母的“掌上明珠”。住校后，小乔得到同学的许多“关照”，她却对别人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漠不关心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，还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嘲笑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因考试没考好而哭泣的同学说人家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黑体"/>
              </a:rPr>
              <a:t>“笨”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  <a:ea typeface="黑体"/>
              </a:rPr>
              <a:t>。久而久之，同学渐渐疏远了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1" descr="9-5"/>
          <p:cNvPicPr/>
          <p:nvPr/>
        </p:nvPicPr>
        <p:blipFill>
          <a:blip r:embed="rId1"/>
          <a:stretch/>
        </p:blipFill>
        <p:spPr>
          <a:xfrm>
            <a:off x="4643280" y="404640"/>
            <a:ext cx="3554640" cy="388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468360" y="33336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温馨提醒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对别人冷漠只能换来孤独和寂寞，要想使生活充满欢乐，赢得他人的认可我们要学会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关心他人，尊重他人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懂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理解他人</a:t>
            </a:r>
            <a:r>
              <a:rPr b="1" lang="zh-CN" sz="2800" spc="-1" strike="noStrike">
                <a:solidFill>
                  <a:srgbClr val="003399"/>
                </a:solidFill>
                <a:latin typeface="Times New Roman"/>
                <a:ea typeface="黑体"/>
              </a:rPr>
              <a:t>的心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5" descr="图片2"/>
          <p:cNvPicPr/>
          <p:nvPr/>
        </p:nvPicPr>
        <p:blipFill>
          <a:blip r:embed="rId1"/>
          <a:stretch/>
        </p:blipFill>
        <p:spPr>
          <a:xfrm>
            <a:off x="755640" y="2205000"/>
            <a:ext cx="7236000" cy="4653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132000" y="3149640"/>
            <a:ext cx="295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己所不欲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勿施于人”的实质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关心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尊重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   </a:t>
            </a:r>
            <a:r>
              <a:rPr b="1" i="1" lang="zh-CN" sz="3200" spc="-1" strike="noStrike">
                <a:solidFill>
                  <a:srgbClr val="0000cc"/>
                </a:solidFill>
                <a:latin typeface="Times New Roman"/>
                <a:ea typeface="黑体"/>
              </a:rPr>
              <a:t>理解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324000" y="4349160"/>
            <a:ext cx="8640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黑体"/>
              </a:rPr>
              <a:t>一头驮着沉重货物的驴子，气喘吁吁地请求驮了相对少量货物的马：“帮我驮一点东西吧。对你来说，这不算什么，可对我来说，却可以减轻一些负担。”马不高兴地回答：“你凭什么让我帮你驮东西，我正乐得轻松呢。”不久，驴子累死了。主人将驴背上的所有货物全部加在马背上，马懊悔不已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故事带给你的启示是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shlch040317lu"/>
          <p:cNvPicPr/>
          <p:nvPr/>
        </p:nvPicPr>
        <p:blipFill>
          <a:blip r:embed="rId1"/>
          <a:stretch/>
        </p:blipFill>
        <p:spPr>
          <a:xfrm>
            <a:off x="1042920" y="765000"/>
            <a:ext cx="3240000" cy="212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917500"/>
          <p:cNvPicPr/>
          <p:nvPr/>
        </p:nvPicPr>
        <p:blipFill>
          <a:blip r:embed="rId2"/>
          <a:stretch/>
        </p:blipFill>
        <p:spPr>
          <a:xfrm>
            <a:off x="5148360" y="765000"/>
            <a:ext cx="3097080" cy="21304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395280" y="0"/>
            <a:ext cx="79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讲故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马  和  驴  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539640" y="429264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我们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只顾满足自己的欲望而忽视他人的存在，更不能以牺牲他人的利益为代价来谋求自己的利益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。我们希望别人怎样对待自己，也就应该以同样的方式对待别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611280" y="14796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己欲立而立人，己欲达而达人”，这也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一句话，意思是：在谋求自己生存与发展的同时，也要帮助别人生存与发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539640" y="404640"/>
            <a:ext cx="648180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“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己欲立而立人，己欲达而达人”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324000" y="2997360"/>
            <a:ext cx="8712000" cy="1079280"/>
            <a:chOff x="324000" y="2997360"/>
            <a:chExt cx="8712000" cy="1079280"/>
          </a:xfrm>
        </p:grpSpPr>
        <p:sp>
          <p:nvSpPr>
            <p:cNvPr id="137" name="Text Box 9"/>
            <p:cNvSpPr/>
            <p:nvPr/>
          </p:nvSpPr>
          <p:spPr>
            <a:xfrm>
              <a:off x="2556000" y="3213000"/>
              <a:ext cx="64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这要求我们在交往中注意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0"/>
            <p:cNvSpPr/>
            <p:nvPr/>
          </p:nvSpPr>
          <p:spPr>
            <a:xfrm flipH="1">
              <a:off x="324000" y="2997360"/>
              <a:ext cx="2016000" cy="1079280"/>
            </a:xfrm>
            <a:prstGeom prst="cloudCallout">
              <a:avLst>
                <a:gd name="adj1" fmla="val -64648"/>
                <a:gd name="adj2" fmla="val 6235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1"/>
            <p:cNvSpPr/>
            <p:nvPr/>
          </p:nvSpPr>
          <p:spPr>
            <a:xfrm>
              <a:off x="757080" y="320976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请 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04"/>
          <p:cNvPicPr/>
          <p:nvPr/>
        </p:nvPicPr>
        <p:blipFill>
          <a:blip r:embed="rId1"/>
          <a:stretch/>
        </p:blipFill>
        <p:spPr>
          <a:xfrm>
            <a:off x="971640" y="638172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04720" y="1908000"/>
            <a:ext cx="838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车上的和车下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一个人在慢慢地过马路，任凭身后的汽车喇叭叫个不停，他却仍然不慌不忙，一副很不情愿让路的样子，嘴中还嘟囔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你着急，谁不着急？有种就开上来吧！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0" y="4114800"/>
            <a:ext cx="830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12" descr="NewsMedia_217185"/>
          <p:cNvPicPr/>
          <p:nvPr/>
        </p:nvPicPr>
        <p:blipFill>
          <a:blip r:embed="rId2"/>
          <a:stretch/>
        </p:blipFill>
        <p:spPr>
          <a:xfrm>
            <a:off x="395280" y="189000"/>
            <a:ext cx="2521080" cy="1681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02221036382"/>
          <p:cNvPicPr/>
          <p:nvPr/>
        </p:nvPicPr>
        <p:blipFill>
          <a:blip r:embed="rId3"/>
          <a:stretch/>
        </p:blipFill>
        <p:spPr>
          <a:xfrm>
            <a:off x="3203640" y="189000"/>
            <a:ext cx="2520720" cy="1684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8" descr="U515P33T2D123551F9DT20050622074558"/>
          <p:cNvPicPr/>
          <p:nvPr/>
        </p:nvPicPr>
        <p:blipFill>
          <a:blip r:embed="rId4"/>
          <a:stretch/>
        </p:blipFill>
        <p:spPr>
          <a:xfrm>
            <a:off x="5945040" y="168120"/>
            <a:ext cx="2730600" cy="1754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9"/>
          <p:cNvSpPr/>
          <p:nvPr/>
        </p:nvSpPr>
        <p:spPr>
          <a:xfrm>
            <a:off x="611280" y="46530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后来，这个人坐到了汽车上，又非常讨厌那些不及时让路的步行者和骑车人，甚至动不动就出言不逊：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怎么？找死啊！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文本框 8200"/>
          <p:cNvSpPr/>
          <p:nvPr/>
        </p:nvSpPr>
        <p:spPr>
          <a:xfrm>
            <a:off x="2354400" y="4421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9"/>
          <p:cNvSpPr/>
          <p:nvPr/>
        </p:nvSpPr>
        <p:spPr>
          <a:xfrm>
            <a:off x="468360" y="6922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 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车上的和车下的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的事例对我们有什么启示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39640" y="3429000"/>
            <a:ext cx="801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设身处地地为他人着想，想人所想、理解至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3418920" y="2781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换位思考、与人为善的实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2268360" y="4581360"/>
            <a:ext cx="4391280" cy="21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欣赏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     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《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1"/>
              </a:rPr>
              <a:t>踩脚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态度换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29527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不满、愤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讥笑、误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121440" y="4221000"/>
            <a:ext cx="212256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感激、友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尊重、信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闪亮的心"/>
          <p:cNvPicPr/>
          <p:nvPr/>
        </p:nvPicPr>
        <p:blipFill>
          <a:blip r:embed="rId1"/>
          <a:stretch/>
        </p:blipFill>
        <p:spPr>
          <a:xfrm>
            <a:off x="4140360" y="1700280"/>
            <a:ext cx="1846080" cy="1630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破裂的心"/>
          <p:cNvPicPr/>
          <p:nvPr/>
        </p:nvPicPr>
        <p:blipFill>
          <a:blip r:embed="rId2"/>
          <a:stretch/>
        </p:blipFill>
        <p:spPr>
          <a:xfrm>
            <a:off x="3348000" y="3860640"/>
            <a:ext cx="1513080" cy="136872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7"/>
          <p:cNvSpPr/>
          <p:nvPr/>
        </p:nvSpPr>
        <p:spPr>
          <a:xfrm>
            <a:off x="1116000" y="486900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挑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计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6443640" y="1469880"/>
            <a:ext cx="208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宽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12"/>
          <p:cNvSpPr/>
          <p:nvPr/>
        </p:nvSpPr>
        <p:spPr>
          <a:xfrm>
            <a:off x="1547640" y="3500280"/>
            <a:ext cx="360360" cy="1441440"/>
          </a:xfrm>
          <a:prstGeom prst="upArrow">
            <a:avLst>
              <a:gd name="adj1" fmla="val 50000"/>
              <a:gd name="adj2" fmla="val 999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13"/>
          <p:cNvSpPr/>
          <p:nvPr/>
        </p:nvSpPr>
        <p:spPr>
          <a:xfrm>
            <a:off x="6948360" y="2781360"/>
            <a:ext cx="287640" cy="1152360"/>
          </a:xfrm>
          <a:prstGeom prst="downArrow">
            <a:avLst>
              <a:gd name="adj1" fmla="val 50000"/>
              <a:gd name="adj2" fmla="val 10011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My Documents\My Pictures\371.gif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故事感悟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609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第一次登陆月球的太空人，其实共有两位，除了大家所熟知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阿姆斯特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外，还有一位是奥德伦。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阿姆斯特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所说的一句话：“我个人的一小步，是全人类的一大步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早已是全世界家喻户晓的名言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在庆祝登陆月球成功的记者会中，有一个记者突然问奥德伦一个很特別的问题：“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阿姆斯特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先下去，成为登陆月球的第一个人，你会不会觉得有点遗憾？”在全场有点尴尬的注目下，奥德伦很有风度地回答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“各位，千万別忘了，回到地球时，我可是最先出太空舱的。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他环顾四周笑着说：“所以我是由別的星球來到地球的第一个人。”大家在笑声中，都给予他最热烈的掌声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据奥德伦的回答，你认为他是怎样的一个人？从中你受到什么启发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28600" y="20574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能成人之美，为别人的成功喝彩，为别人的幸福欣慰的人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209680" y="4038480"/>
            <a:ext cx="40957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cc99"/>
                </a:solidFill>
                <a:latin typeface="宋体"/>
              </a:rPr>
              <a:t>将心比心就是成人之美</a:t>
            </a:r>
            <a:endParaRPr b="0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</p:spTree>
  </p:cSld>
  <p:transition spd="slow">
    <p:wipe dir="r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3" descr="未命名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395280" y="1341360"/>
            <a:ext cx="874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军和小明是同桌，一次数学测试的试卷发下来了，小军考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他急忙问小明考了多少，小明没有告诉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间时间，小军偷偷看了小明的试卷，原来他只考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。小军于是很骄傲的对小明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哈，原来你考了个不及格啊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时，科代表小丽对小军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是给你一点阳光就灿烂，给你一滴雨滴就滋润，我考了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你才及格有什么好骄傲的啊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2484360" y="260280"/>
            <a:ext cx="4114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将心比心，感悟生活</a:t>
            </a:r>
            <a:endParaRPr b="0" lang="en-US" sz="3200" spc="1" strike="noStrike">
              <a:ln w="9360">
                <a:solidFill>
                  <a:srgbClr val="ff00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DFD_0034"/>
          <p:cNvPicPr/>
          <p:nvPr/>
        </p:nvPicPr>
        <p:blipFill>
          <a:blip r:embed="rId1"/>
          <a:stretch/>
        </p:blipFill>
        <p:spPr>
          <a:xfrm>
            <a:off x="395280" y="260280"/>
            <a:ext cx="3403440" cy="417672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7"/>
          <p:cNvSpPr/>
          <p:nvPr/>
        </p:nvSpPr>
        <p:spPr>
          <a:xfrm>
            <a:off x="2268360" y="1916280"/>
            <a:ext cx="2880000" cy="71280"/>
          </a:xfrm>
          <a:prstGeom prst="rightArrow">
            <a:avLst>
              <a:gd name="adj1" fmla="val 50000"/>
              <a:gd name="adj2" fmla="val 10097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48360" y="1052640"/>
            <a:ext cx="29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电梯里为什么会有镜子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无标题"/>
          <p:cNvPicPr/>
          <p:nvPr/>
        </p:nvPicPr>
        <p:blipFill>
          <a:blip r:embed="rId2"/>
          <a:stretch/>
        </p:blipFill>
        <p:spPr>
          <a:xfrm>
            <a:off x="4356000" y="2349360"/>
            <a:ext cx="360072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371"/>
          <p:cNvPicPr/>
          <p:nvPr/>
        </p:nvPicPr>
        <p:blipFill>
          <a:blip r:embed="rId1"/>
          <a:stretch/>
        </p:blipFill>
        <p:spPr>
          <a:xfrm>
            <a:off x="7429680" y="531504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4"/>
          <p:cNvSpPr/>
          <p:nvPr/>
        </p:nvSpPr>
        <p:spPr>
          <a:xfrm>
            <a:off x="395280" y="5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我们谁都不想受到伤害，因此就要不去伤害别人。要明白“己所不欲，勿施于人”的道理，自己不喜欢的事就不要强加在别人身上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WordArt 5"/>
          <p:cNvSpPr txBox="1"/>
          <p:nvPr/>
        </p:nvSpPr>
        <p:spPr>
          <a:xfrm>
            <a:off x="2195640" y="2781360"/>
            <a:ext cx="45050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cc99"/>
                </a:solidFill>
                <a:latin typeface="宋体"/>
              </a:rPr>
              <a:t>将心比心就是不伤害别人</a:t>
            </a:r>
            <a:endParaRPr b="0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177" name="WordArt 6"/>
          <p:cNvSpPr txBox="1"/>
          <p:nvPr/>
        </p:nvSpPr>
        <p:spPr>
          <a:xfrm>
            <a:off x="1476360" y="4076640"/>
            <a:ext cx="655308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cc99"/>
                </a:solidFill>
                <a:latin typeface="宋体"/>
              </a:rPr>
              <a:t>将心比心就是己所不欲、勿施于人。</a:t>
            </a:r>
            <a:endParaRPr b="0" lang="en-US" sz="3200" spc="1" strike="noStrike">
              <a:ln w="9360">
                <a:solidFill>
                  <a:srgbClr val="ff0000"/>
                </a:solidFill>
                <a:round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故事感悟：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0" y="6094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一个暴风雨的早晨，一位老人在海边看到许多小鱼被抛到沙滩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老人想到太阳一晒这些鱼都会死，叹息一声朝前走了。返回时，却见一个七八岁的男孩把鱼捡回海里。老人很感动，也弯腰来帮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老人说你救了他们，谁也不知道，谁也不会在乎的！男孩却说：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  <a:ea typeface="仿宋_GB2312"/>
              </a:rPr>
              <a:t>__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______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124080" y="4267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2895480" y="35053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小鱼在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4495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如果你就是一条被抛到沙滩上，被太阳炙烤着的小鱼，当时会想些什么？当小男孩将你捡起放回海中时，你又会想些什么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5"/>
          <p:cNvSpPr/>
          <p:nvPr/>
        </p:nvSpPr>
        <p:spPr>
          <a:xfrm>
            <a:off x="539640" y="2924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它客观上要求我们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己的内心世界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如情感体验、思维方式等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对方联系起来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站在对方的立场上体验和思考问题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从而与对方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在情感上得到沟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为增进理解奠定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68436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是人对人的一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心理体验过程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。将心比心、设身处地，是达成理解不可缺少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心理机制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7" descr="07"/>
          <p:cNvPicPr/>
          <p:nvPr/>
        </p:nvPicPr>
        <p:blipFill>
          <a:blip r:embed="rId1"/>
          <a:srcRect l="0" t="0" r="0" b="15740"/>
          <a:stretch/>
        </p:blipFill>
        <p:spPr>
          <a:xfrm>
            <a:off x="0" y="5702400"/>
            <a:ext cx="9144000" cy="11556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9"/>
          <p:cNvSpPr/>
          <p:nvPr/>
        </p:nvSpPr>
        <p:spPr>
          <a:xfrm>
            <a:off x="611280" y="893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位思考含义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494000" y="13500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探讨与拓展：换位思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1433160" y="2478240"/>
            <a:ext cx="29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位思考对我们提出的要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908000" y="2924280"/>
            <a:ext cx="244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88360" y="48546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换位思考的实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611280" y="530064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是对交往对象的切身关注，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深入对方的内心世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它既是一种理解，也是一种关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一：郑华发现自己的椅子有些松动，就趁做值日时换了同学的椅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想对郑华说些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案例二：小松随田径队参加区田径比赛，学校为参赛的同学准备了饮料。小松拿了一瓶还没喝完，见箱子里的饮料不多了，怕一会渴了没的喝，又拿了两瓶放在自己的书包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提问：如果是你，你会怎样做？为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3" descr="落叶"/>
          <p:cNvPicPr/>
          <p:nvPr/>
        </p:nvPicPr>
        <p:blipFill>
          <a:blip r:embed="rId1"/>
          <a:stretch/>
        </p:blipFill>
        <p:spPr>
          <a:xfrm>
            <a:off x="6019920" y="76320"/>
            <a:ext cx="2846160" cy="3028680"/>
          </a:xfrm>
          <a:prstGeom prst="rect">
            <a:avLst/>
          </a:prstGeom>
          <a:ln w="0">
            <a:noFill/>
          </a:ln>
        </p:spPr>
      </p:pic>
      <p:sp>
        <p:nvSpPr>
          <p:cNvPr id="196" name="WordArt 4"/>
          <p:cNvSpPr txBox="1"/>
          <p:nvPr/>
        </p:nvSpPr>
        <p:spPr>
          <a:xfrm>
            <a:off x="1905120" y="304920"/>
            <a:ext cx="3962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660066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现学现用</a:t>
            </a:r>
            <a:endParaRPr b="0" lang="en-US" sz="3200" spc="1" strike="noStrike">
              <a:ln w="12600">
                <a:solidFill>
                  <a:srgbClr val="660066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dur="indefinite" nodeType="afterEffect" fill="hold" presetClass="entr" presetID="16" presetSubtype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141300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勤奋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爱心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机智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勇敢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坚强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我为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___________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同学的细心喝彩，他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她</a:t>
            </a:r>
            <a:r>
              <a:rPr b="1" lang="en-US" sz="2400" spc="-1" strike="noStrike">
                <a:solidFill>
                  <a:srgbClr val="6600ff"/>
                </a:solidFill>
                <a:latin typeface="Times New Roman"/>
              </a:rPr>
              <a:t>)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4" descr="371"/>
          <p:cNvPicPr/>
          <p:nvPr/>
        </p:nvPicPr>
        <p:blipFill>
          <a:blip r:embed="rId1"/>
          <a:stretch/>
        </p:blipFill>
        <p:spPr>
          <a:xfrm>
            <a:off x="7429680" y="5157720"/>
            <a:ext cx="1714320" cy="1700280"/>
          </a:xfrm>
          <a:prstGeom prst="rect">
            <a:avLst/>
          </a:prstGeom>
          <a:ln w="0">
            <a:noFill/>
          </a:ln>
        </p:spPr>
      </p:pic>
      <p:pic>
        <p:nvPicPr>
          <p:cNvPr id="199" name="WordArt 6" descr=""/>
          <p:cNvPicPr/>
          <p:nvPr/>
        </p:nvPicPr>
        <p:blipFill>
          <a:blip r:embed="rId2"/>
          <a:stretch/>
        </p:blipFill>
        <p:spPr>
          <a:xfrm>
            <a:off x="1398600" y="404640"/>
            <a:ext cx="6961320" cy="22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6"/>
          <p:cNvSpPr txBox="1"/>
          <p:nvPr/>
        </p:nvSpPr>
        <p:spPr>
          <a:xfrm>
            <a:off x="900000" y="836640"/>
            <a:ext cx="28958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温馨提示</a:t>
            </a:r>
            <a:endParaRPr b="0" lang="en-US" sz="32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684360" y="2205000"/>
            <a:ext cx="845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用欣赏的眼光去看世界，世界是美好的；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用欣赏的眼光去看别人，他们是可爱的；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cc33"/>
                </a:solidFill>
                <a:latin typeface="黑体"/>
                <a:ea typeface="黑体"/>
              </a:rPr>
              <a:t>学会用欣赏的眼光去看周围，我们就会心情舒畅，拥有快乐，拥有朋友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4"/>
          <p:cNvSpPr txBox="1"/>
          <p:nvPr/>
        </p:nvSpPr>
        <p:spPr>
          <a:xfrm>
            <a:off x="250920" y="189000"/>
            <a:ext cx="368604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小结：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332640" y="2852640"/>
            <a:ext cx="11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换位思考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与人为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6"/>
          <p:cNvSpPr/>
          <p:nvPr/>
        </p:nvSpPr>
        <p:spPr>
          <a:xfrm flipH="1" flipV="1" rot="10800000">
            <a:off x="1546560" y="2059560"/>
            <a:ext cx="792360" cy="2808360"/>
          </a:xfrm>
          <a:custGeom>
            <a:avLst/>
            <a:gdLst>
              <a:gd name="textAreaLeft" fmla="*/ 505800 w 792360"/>
              <a:gd name="textAreaRight" fmla="*/ 792360 w 7923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2873160" y="206064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已所不欲 勿施于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8"/>
          <p:cNvSpPr/>
          <p:nvPr/>
        </p:nvSpPr>
        <p:spPr>
          <a:xfrm flipH="1" flipV="1" rot="10800000">
            <a:off x="5148360" y="1772280"/>
            <a:ext cx="287280" cy="1584360"/>
          </a:xfrm>
          <a:custGeom>
            <a:avLst/>
            <a:gdLst>
              <a:gd name="textAreaLeft" fmla="*/ 183960 w 287280"/>
              <a:gd name="textAreaRight" fmla="*/ 28800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5630760" y="162864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内  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0"/>
          <p:cNvSpPr/>
          <p:nvPr/>
        </p:nvSpPr>
        <p:spPr>
          <a:xfrm>
            <a:off x="5292720" y="234936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对待他人就像对待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910560" y="299736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关心、尊重、理解是根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2761200" y="458136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理解至上  善待他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13"/>
          <p:cNvSpPr/>
          <p:nvPr/>
        </p:nvSpPr>
        <p:spPr>
          <a:xfrm flipH="1" flipV="1" rot="10800000">
            <a:off x="5002560" y="4075560"/>
            <a:ext cx="287640" cy="1584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5416560" y="3809880"/>
            <a:ext cx="37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换位思考与人为善的实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5931360" y="46530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对换位思考的要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5987160" y="53006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善待他人  学会欣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Oval 18"/>
          <p:cNvSpPr/>
          <p:nvPr/>
        </p:nvSpPr>
        <p:spPr>
          <a:xfrm>
            <a:off x="395280" y="4653000"/>
            <a:ext cx="1152360" cy="936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换位思考，与人为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换个角度，心中一片天 </a:t>
            </a:r>
            <a:br>
              <a:rPr sz="2800"/>
            </a:b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别人也许是对的， </a:t>
            </a:r>
            <a:br>
              <a:rPr sz="2800"/>
            </a:b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不要让自己受执着的困惑， </a:t>
            </a:r>
            <a:br>
              <a:rPr sz="2800"/>
            </a:b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便能了解万物，欣赏及认同世间一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己所不容，勿施之于人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要求别人做到，首先自己要做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闭门常思己之过，才能不断进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66"/>
                </a:solidFill>
                <a:latin typeface="宋体"/>
                <a:ea typeface="隶书"/>
              </a:rPr>
              <a:t>多宽容别人，必能换来真诚和友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" descr="走"/>
          <p:cNvPicPr/>
          <p:nvPr/>
        </p:nvPicPr>
        <p:blipFill>
          <a:blip r:embed="rId1"/>
          <a:stretch/>
        </p:blipFill>
        <p:spPr>
          <a:xfrm>
            <a:off x="-152280" y="380880"/>
            <a:ext cx="9296280" cy="1724040"/>
          </a:xfrm>
          <a:prstGeom prst="rect">
            <a:avLst/>
          </a:prstGeom>
          <a:ln w="0">
            <a:noFill/>
          </a:ln>
        </p:spPr>
      </p:pic>
      <p:sp>
        <p:nvSpPr>
          <p:cNvPr id="220" name="WordArt 4"/>
          <p:cNvSpPr txBox="1"/>
          <p:nvPr/>
        </p:nvSpPr>
        <p:spPr>
          <a:xfrm>
            <a:off x="5486400" y="533520"/>
            <a:ext cx="3200400" cy="129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隶书"/>
              </a:rPr>
              <a:t>诗情画意</a:t>
            </a:r>
            <a:endParaRPr b="0" lang="en-US" sz="32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4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7500"/>
                            </p:stCondLst>
                            <p:childTnLst>
                              <p:par>
                                <p:cTn id="45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6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61" dur="indefinite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17"/>
          <p:cNvSpPr txBox="1"/>
          <p:nvPr/>
        </p:nvSpPr>
        <p:spPr>
          <a:xfrm>
            <a:off x="1692360" y="693720"/>
            <a:ext cx="5400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中宋"/>
              </a:rPr>
              <a:t>在辨别中学会选择：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611280" y="1628640"/>
            <a:ext cx="77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老师表扬小欣、小军和小云搀扶老奶奶过马路并让他们谈谈当时的想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欣说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老师号召我们学雷锋做好事，并要统计谁做的多，我不想落后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军说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这老奶奶是我们家邻居，她家里有许多好看的图书。我想以后能经常去她家看书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云说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我什么也没想，只是看着老奶奶一个人过马路很危险，所以上去扶一扶她。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20"/>
          <p:cNvSpPr/>
          <p:nvPr/>
        </p:nvSpPr>
        <p:spPr>
          <a:xfrm>
            <a:off x="1937520" y="53737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听到他们的想法你的理解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2369160" y="5950080"/>
            <a:ext cx="501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果你是他们，听到大家的议论你有什么想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611280" y="1341360"/>
            <a:ext cx="7924680" cy="37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善良是无私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发自内心的驱使，不图回报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怀自私利己的目的，为得到某种回报，去做一些看上善良的事，那不是真正的善良，而是一种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</a:rPr>
              <a:t>“伪善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旦他得不到回报，就会露出自私的本性。与人为善无需刻意，要自然而然，随时随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然，我们应该要严己宽人，如果是别人帮助了我们，我们要懂得知恩图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生活大课堂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0" y="152388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“宾馆、酒店的电梯里常会有一面大镜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这镜子是干什么用的呢？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一般三四岁的小孩子总是不喜欢呆在商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里．这常常让大人们感到不能理解。为什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商场里琳琅满目的商品和丰富的食品都不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吸引小孩子呢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这两种现象蕴涵了什么道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04920" y="68580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小组讨论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826920" y="404640"/>
            <a:ext cx="7704360" cy="2027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期  望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在生活中，我们要时时处处都能够从别人的角度思考问题，体验他人的情感世界，这样我们就能融洽、友善地与他人相处</a:t>
            </a:r>
            <a:r>
              <a:rPr b="1" lang="en-US" sz="4400" spc="-1" strike="noStrike">
                <a:solidFill>
                  <a:srgbClr val="0000cc"/>
                </a:solidFill>
                <a:latin typeface="Times New Roman"/>
                <a:ea typeface="黑体"/>
              </a:rPr>
              <a:t>—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我们的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明天才会更美好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！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换位思考，与人为善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3" descr="F2004032215465100000"/>
          <p:cNvPicPr/>
          <p:nvPr/>
        </p:nvPicPr>
        <p:blipFill>
          <a:blip r:embed="rId1"/>
          <a:stretch/>
        </p:blipFill>
        <p:spPr>
          <a:xfrm>
            <a:off x="900000" y="1268280"/>
            <a:ext cx="7561440" cy="37432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1187280" y="5157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行楷"/>
              </a:rPr>
              <a:t>一位大夫说东郭先生视力正常却是色盲，并授予他有眼无珠奖项，为什么？从这个故事中，你感悟出了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1547640" y="2060640"/>
            <a:ext cx="6172200" cy="15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cc99"/>
                </a:solidFill>
                <a:latin typeface="宋体"/>
              </a:rPr>
              <a:t>与人为善要是非分明</a:t>
            </a:r>
            <a:endParaRPr b="0" lang="en-US" sz="5400" spc="1" strike="noStrike">
              <a:ln w="9360">
                <a:solidFill>
                  <a:srgbClr val="ff0000"/>
                </a:solidFill>
                <a:round/>
              </a:ln>
              <a:solidFill>
                <a:srgbClr val="ffcc99"/>
              </a:solidFill>
              <a:latin typeface="宋体"/>
              <a:ea typeface="宋体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2778480" y="33336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寓言故事：东郭先生和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文本框 8200"/>
          <p:cNvSpPr/>
          <p:nvPr/>
        </p:nvSpPr>
        <p:spPr>
          <a:xfrm>
            <a:off x="1547640" y="93348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换位思考与人为善也要讲原则。涉及原则性问题和大到辱没人格的错误、是不可以谅解的。与人为善要是非分明，善良的人不是无原则的好好先生，而会在就困扶弱、维护正义的情境中与邪恶和错误作斗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图片16"/>
          <p:cNvPicPr/>
          <p:nvPr/>
        </p:nvPicPr>
        <p:blipFill>
          <a:blip r:embed="rId1"/>
          <a:stretch/>
        </p:blipFill>
        <p:spPr>
          <a:xfrm>
            <a:off x="7308720" y="4941720"/>
            <a:ext cx="1095480" cy="15717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图片14"/>
          <p:cNvPicPr/>
          <p:nvPr/>
        </p:nvPicPr>
        <p:blipFill>
          <a:blip r:embed="rId2"/>
          <a:stretch/>
        </p:blipFill>
        <p:spPr>
          <a:xfrm>
            <a:off x="684360" y="549360"/>
            <a:ext cx="7476840" cy="3045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图片24"/>
          <p:cNvPicPr/>
          <p:nvPr/>
        </p:nvPicPr>
        <p:blipFill>
          <a:blip r:embed="rId3"/>
          <a:stretch/>
        </p:blipFill>
        <p:spPr>
          <a:xfrm>
            <a:off x="0" y="6018120"/>
            <a:ext cx="850896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1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Verdana"/>
                <a:ea typeface="华文新魏"/>
              </a:rPr>
              <a:t>心理测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Verdana"/>
              </a:rPr>
              <a:t>你到一个从未去过的原始森林探险，带着</a:t>
            </a:r>
            <a:r>
              <a:rPr b="1" lang="en-US" sz="3600" spc="-1" strike="noStrike">
                <a:solidFill>
                  <a:srgbClr val="6600ff"/>
                </a:solidFill>
                <a:latin typeface="Verdana"/>
              </a:rPr>
              <a:t>5</a:t>
            </a:r>
            <a:r>
              <a:rPr b="1" lang="zh-CN" sz="3600" spc="-1" strike="noStrike">
                <a:solidFill>
                  <a:srgbClr val="6600ff"/>
                </a:solidFill>
                <a:latin typeface="Verdana"/>
              </a:rPr>
              <a:t>种动物，它们分别是老虎，猴子，孔雀，大象和狗。四周环境危险重重，你不可能都将它们带到最后，不得不一一地放弃。那么，现在请你列出放弃它们的先后顺序。注意：想想你做出这样选择的理由。</a:t>
            </a:r>
            <a:r>
              <a:rPr b="1" lang="zh-CN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C14C-F525-4887-A25E-1CFB79B48C5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0" y="8380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Verdana"/>
              </a:rPr>
              <a:t>游戏的答案：孔雀代表伴侣和爱人；老虎代表金钱和权利的欲望；大象代表父母；狗代表朋友；猴子代表子女。不过，这不是游戏的真正结果哦。这个游戏的真正意义在于：你考虑事情的过程中，是过多地考虑别人对自己的用处，还是想到别人需要我们有什么样的付出。想想看你的答案表明，你老是想着自己，还是会想到别人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71"/>
          <p:cNvPicPr/>
          <p:nvPr/>
        </p:nvPicPr>
        <p:blipFill>
          <a:blip r:embed="rId1"/>
          <a:stretch/>
        </p:blipFill>
        <p:spPr>
          <a:xfrm>
            <a:off x="7429680" y="5105520"/>
            <a:ext cx="1714320" cy="1542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04"/>
          <p:cNvPicPr/>
          <p:nvPr/>
        </p:nvPicPr>
        <p:blipFill>
          <a:blip r:embed="rId2"/>
          <a:stretch/>
        </p:blipFill>
        <p:spPr>
          <a:xfrm>
            <a:off x="152280" y="6400800"/>
            <a:ext cx="745812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0" y="472428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这两种现象蕴涵了这样的道理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换位思考，将心比心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0" y="0"/>
            <a:ext cx="4800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老师点评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83808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“肢残人摇着轮椅进电梯时，不必费神转身，就可以从镜子里看见楼层显示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0" y="2286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600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）有一位儿童心理学家轻而易举地解答了这个问题。他的方法其实很简单：你蹲下来，处在和小孩子同样的高度环视四周的景象，结果看到的都是大人们的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26"/>
          <p:cNvSpPr/>
          <p:nvPr/>
        </p:nvSpPr>
        <p:spPr>
          <a:xfrm>
            <a:off x="533520" y="388620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换位思考、与人为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的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实质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是设身处地为他人着想，即想人所想，理解至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027"/>
          <p:cNvSpPr/>
          <p:nvPr/>
        </p:nvSpPr>
        <p:spPr>
          <a:xfrm>
            <a:off x="539640" y="2637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所谓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华文琥珀"/>
                <a:ea typeface="华文琥珀"/>
              </a:rPr>
              <a:t>换位思考</a:t>
            </a: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，其实就是理解别人的想法、感受，从对方的立场来看事、看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1032"/>
          <p:cNvSpPr txBox="1"/>
          <p:nvPr/>
        </p:nvSpPr>
        <p:spPr>
          <a:xfrm>
            <a:off x="611280" y="1125360"/>
            <a:ext cx="7200720" cy="8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理解至上  善待他人</a:t>
            </a:r>
            <a:endParaRPr b="1" lang="en-US" sz="6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Rectangle 2" descr=""/>
          <p:cNvPicPr/>
          <p:nvPr/>
        </p:nvPicPr>
        <p:blipFill>
          <a:blip r:embed="rId1"/>
          <a:stretch/>
        </p:blipFill>
        <p:spPr>
          <a:xfrm>
            <a:off x="5486400" y="258840"/>
            <a:ext cx="2971800" cy="774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F2005091908302747800000"/>
          <p:cNvPicPr/>
          <p:nvPr/>
        </p:nvPicPr>
        <p:blipFill>
          <a:blip r:embed="rId2"/>
          <a:stretch/>
        </p:blipFill>
        <p:spPr>
          <a:xfrm>
            <a:off x="468360" y="115920"/>
            <a:ext cx="4105080" cy="65977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59280" y="765000"/>
            <a:ext cx="37800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是如何理解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己所不欲 勿施于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876920" y="312408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意思：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就是说自己不情愿的、不接受的，就不能推给他人，让他人去 承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619280" y="476280"/>
            <a:ext cx="2286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方正姚体"/>
              </a:rPr>
              <a:t>我的烦恼</a:t>
            </a:r>
            <a:endParaRPr b="1" lang="en-US" sz="4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826920" y="2133720"/>
            <a:ext cx="78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我姓牛，不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，可是我的同学都喜欢把我叫成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笨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，你不要以为是昵称。有些同学专门给我加上了许多不堪入耳的词。有一次，考试发试卷，老师说我考的不好，就听到有人叫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笨牛这么笨，能考得好嘛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，全班哄堂大笑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-----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嗨，一言难尽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92200" y="5589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900000" y="1844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838080" y="1676520"/>
            <a:ext cx="556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为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言难尽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你有过类似被耻笑的经历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有过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捉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经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你如何看这些取笑别人的同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对这种搞笑你会跟着一起笑吗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4427640" y="5734080"/>
            <a:ext cx="4419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把自己的快乐建立在别人的痛苦之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5"/>
          <p:cNvSpPr/>
          <p:nvPr/>
        </p:nvSpPr>
        <p:spPr>
          <a:xfrm>
            <a:off x="539640" y="5157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我们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在人际交往中，要善解人意，对人持平等、尊重和友善的态度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539640" y="133524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己所不欲，勿施于人”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论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的一句话，意思是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自己不喜欢的事，就不要强加在别人身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WordArt 11"/>
          <p:cNvSpPr txBox="1"/>
          <p:nvPr/>
        </p:nvSpPr>
        <p:spPr>
          <a:xfrm>
            <a:off x="539640" y="431640"/>
            <a:ext cx="554508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“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己所不欲，勿施于人”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16" name="Group 15"/>
          <p:cNvGrpSpPr/>
          <p:nvPr/>
        </p:nvGrpSpPr>
        <p:grpSpPr>
          <a:xfrm>
            <a:off x="0" y="3500280"/>
            <a:ext cx="8712000" cy="1079640"/>
            <a:chOff x="0" y="3500280"/>
            <a:chExt cx="8712000" cy="1079640"/>
          </a:xfrm>
        </p:grpSpPr>
        <p:sp>
          <p:nvSpPr>
            <p:cNvPr id="117" name="Text Box 12"/>
            <p:cNvSpPr/>
            <p:nvPr/>
          </p:nvSpPr>
          <p:spPr>
            <a:xfrm>
              <a:off x="2232000" y="3716280"/>
              <a:ext cx="648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这要求我们在交往中注意什么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AutoShape 13"/>
            <p:cNvSpPr/>
            <p:nvPr/>
          </p:nvSpPr>
          <p:spPr>
            <a:xfrm flipH="1">
              <a:off x="0" y="3500280"/>
              <a:ext cx="2016000" cy="1079640"/>
            </a:xfrm>
            <a:prstGeom prst="cloudCallout">
              <a:avLst>
                <a:gd name="adj1" fmla="val -64648"/>
                <a:gd name="adj2" fmla="val 62351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14"/>
            <p:cNvSpPr/>
            <p:nvPr/>
          </p:nvSpPr>
          <p:spPr>
            <a:xfrm>
              <a:off x="433080" y="371304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请 问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Text Box 16"/>
          <p:cNvSpPr/>
          <p:nvPr/>
        </p:nvSpPr>
        <p:spPr>
          <a:xfrm>
            <a:off x="684360" y="2778120"/>
            <a:ext cx="779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自己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欢的事，能否强加在别人身上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4:10:0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2:05Z</dcterms:modified>
  <cp:revision>7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