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7F6-E49F-45A4-A415-56EFE4DD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AE0-24A0-4F3F-8DBA-0EF16A1E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0A4-CB23-4A6F-B36F-DAFD29AC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946-018A-4EF3-80E0-8B711EEA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50B1-2A8C-4616-AB37-BDF4CC16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F071-6D66-40BA-AEFD-5E14FF88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BF9-9E3D-41A7-A149-6FD86C45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D12-2BE1-4870-AEAF-138BAEB6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22DE-78E8-43E5-B1EF-015266A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28D-43AD-4C71-AFA9-938CA964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D73-EBD5-4470-B84D-8006DAB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78F-1FD2-445B-AB4B-DD2A3FC7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98D-9C07-4210-9173-A1A8C73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283A-4CE0-485E-A607-2FAD6E5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327-DA7D-4A86-BA69-35466B7F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E21A-F5B7-4ADE-ACE7-791870D9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C658-525D-464F-B1B2-BD898C48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5E7A-9BF0-4B36-88EB-931A312D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7622-298E-4520-9121-2E8BDE94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C44F-81BB-42B2-978C-9AB3846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0AB9-99C3-4732-A8DE-F7A5FA82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994F-3135-401A-9F7B-0C9706F8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E76-43CB-4220-94C1-5D6BDEDB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65B4-0208-4D91-9A0E-CBC961C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BE1F-7FFF-41F3-9F51-AF8A8F36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4229-AAAC-4E07-991D-DE783D6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77FA-DB6D-4FA7-AB4E-0D97A536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BA46-C5C3-40D1-85EF-E529DAE9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5712-2E61-46CE-9CFE-BEBAC905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9F29-E7F6-4AD2-BA36-73DEFE74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2FC-5901-4600-91AE-2B11CC40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C0A-35DB-4C48-A567-A2FBB3F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BCB-E9B8-4475-8062-457BD959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C32-C1F9-405C-8D5E-46579F6B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0E1-593E-46AC-9238-B02A28C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872-421F-4CDD-ADA2-20C187C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5E9-A70B-41BF-B117-64B4761F87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39E5-3A5C-43EB-AF88-F07D9D4BAA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6BD-58F3-45FF-8A39-0881635C8D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矩形 1" descr=""/>
          <p:cNvPicPr/>
          <p:nvPr/>
        </p:nvPicPr>
        <p:blipFill>
          <a:blip r:embed="rId1"/>
          <a:stretch/>
        </p:blipFill>
        <p:spPr>
          <a:xfrm>
            <a:off x="466560" y="2349360"/>
            <a:ext cx="7753680" cy="1919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2"/>
          <p:cNvSpPr/>
          <p:nvPr/>
        </p:nvSpPr>
        <p:spPr>
          <a:xfrm>
            <a:off x="1328400" y="90792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十二单元　化学与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360" y="517680"/>
            <a:ext cx="6276960" cy="60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些人体必需的微量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84360" y="1268280"/>
          <a:ext cx="4513320" cy="509112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</a:tblGrid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素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素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Z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1008000" y="83664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元素能够调节人体的新陈代谢，促进身体健康，有些元素是构成人体组织的重要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690560" y="2205000"/>
            <a:ext cx="1081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763640" y="3716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以羟基磷酸钙晶体的形式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763640" y="3068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钙的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1763640" y="4292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人体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015920" y="5013360"/>
            <a:ext cx="70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人体内约含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2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在于骨骼和牙齿中。钙使得骨骼和牙齿具有坚硬的结构支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1692360" y="333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缺钙引起的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971640" y="981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幼儿及青少年缺钙会引起生长迟缓、骨骼变形，出现佝偻病、发育不良、牙齿发软，易患龋齿等症状。老年人缺钙，发生骨质软化和骨质疏松，容易骨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71640" y="284328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国营养学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对每日膳食中钙的供给量提出以下建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268360" y="3860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每日膳食中钙的供给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98560" y="4726080"/>
          <a:ext cx="7705800" cy="1655640"/>
        </p:xfrm>
        <a:graphic>
          <a:graphicData uri="http://schemas.openxmlformats.org/drawingml/2006/table">
            <a:tbl>
              <a:tblPr/>
              <a:tblGrid>
                <a:gridCol w="1800360"/>
                <a:gridCol w="1296720"/>
                <a:gridCol w="1584360"/>
                <a:gridCol w="1295640"/>
                <a:gridCol w="1728720"/>
              </a:tblGrid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组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婴幼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青少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成年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老年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钙的供给量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00~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00~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00~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pic_28642"/>
          <p:cNvPicPr/>
          <p:nvPr/>
        </p:nvPicPr>
        <p:blipFill>
          <a:blip r:embed="rId1"/>
          <a:stretch/>
        </p:blipFill>
        <p:spPr>
          <a:xfrm>
            <a:off x="1692360" y="1300320"/>
            <a:ext cx="5616360" cy="3497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3419640" y="50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佝偻病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b9d8b7012376f4111d9583b3"/>
          <p:cNvPicPr/>
          <p:nvPr/>
        </p:nvPicPr>
        <p:blipFill>
          <a:blip r:embed="rId1"/>
          <a:stretch/>
        </p:blipFill>
        <p:spPr>
          <a:xfrm>
            <a:off x="2722680" y="549360"/>
            <a:ext cx="2857320" cy="5838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5940360" y="2349360"/>
            <a:ext cx="8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佝偻病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one-osteoporosis"/>
          <p:cNvPicPr/>
          <p:nvPr/>
        </p:nvPicPr>
        <p:blipFill>
          <a:blip r:embed="rId1"/>
          <a:stretch/>
        </p:blipFill>
        <p:spPr>
          <a:xfrm>
            <a:off x="1538280" y="981000"/>
            <a:ext cx="2602080" cy="396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211640" y="5013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常的骨基质       骨质疏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bone-osteoporosis"/>
          <p:cNvPicPr/>
          <p:nvPr/>
        </p:nvPicPr>
        <p:blipFill>
          <a:blip r:embed="rId2"/>
          <a:stretch/>
        </p:blipFill>
        <p:spPr>
          <a:xfrm>
            <a:off x="4135320" y="981000"/>
            <a:ext cx="2092320" cy="39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bone-osteoporosis"/>
          <p:cNvPicPr/>
          <p:nvPr/>
        </p:nvPicPr>
        <p:blipFill>
          <a:blip r:embed="rId3"/>
          <a:stretch/>
        </p:blipFill>
        <p:spPr>
          <a:xfrm>
            <a:off x="6227640" y="981000"/>
            <a:ext cx="2129040" cy="3960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0"/>
          <p:cNvSpPr/>
          <p:nvPr/>
        </p:nvSpPr>
        <p:spPr>
          <a:xfrm>
            <a:off x="3635280" y="5516640"/>
            <a:ext cx="25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骨质疏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2411280" y="43498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龋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200812314939444"/>
          <p:cNvPicPr/>
          <p:nvPr/>
        </p:nvPicPr>
        <p:blipFill>
          <a:blip r:embed="rId1"/>
          <a:stretch/>
        </p:blipFill>
        <p:spPr>
          <a:xfrm>
            <a:off x="4643280" y="3645000"/>
            <a:ext cx="3457800" cy="2415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20070105141856761"/>
          <p:cNvPicPr/>
          <p:nvPr/>
        </p:nvPicPr>
        <p:blipFill>
          <a:blip r:embed="rId2"/>
          <a:stretch/>
        </p:blipFill>
        <p:spPr>
          <a:xfrm>
            <a:off x="1330200" y="907920"/>
            <a:ext cx="3097440" cy="2530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baby"/>
          <p:cNvPicPr/>
          <p:nvPr/>
        </p:nvPicPr>
        <p:blipFill>
          <a:blip r:embed="rId3"/>
          <a:stretch/>
        </p:blipFill>
        <p:spPr>
          <a:xfrm>
            <a:off x="4643280" y="907920"/>
            <a:ext cx="3457800" cy="257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1692360" y="54936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影响钙吸收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682640" y="320976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钙的食物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690560" y="1197000"/>
            <a:ext cx="61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的草酸、植酸、脂肪酸的含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入的蛋白质含量不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入的钙、磷比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体的需要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665360" y="3933720"/>
            <a:ext cx="456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类及其制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色蔬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豆 类及其制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产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肉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脚后跟"/>
          <p:cNvPicPr/>
          <p:nvPr/>
        </p:nvPicPr>
        <p:blipFill>
          <a:blip r:embed="rId1"/>
          <a:stretch/>
        </p:blipFill>
        <p:spPr>
          <a:xfrm>
            <a:off x="5580000" y="3500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58920" y="3333240"/>
            <a:ext cx="66960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晚餐早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晚餐早吃可大大降低尿路结石病的发病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的排钙高峰期常在进餐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若晚餐过晚，当排钙高峰期到来时，人已经上床入睡，尿液便滞留在输尿管、膀胱、尿道等尿路中，不能及时排出体外，致使尿中钙的含量不断增加，容易沉淀下来形成小晶体，久而久之，逐渐扩大形成结石。所以下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左右吃晚餐较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700360" y="692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晚餐应该怎样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258920" y="2599920"/>
            <a:ext cx="676908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晚餐素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晚餐一定要偏素，以富含碳水化合物的食物为主，而蛋白质、脂肪类吃得越少越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晚餐时吃大量的肉、蛋、奶等高蛋白食品，会使尿中钙量增加，一方面降低体内的钙贮存，诱发儿童的佝偻病、青少年近视和中老年骨质疏松症，另一方面尿中钙浓度高，患尿路结石病的可能性就会大大的提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png-0109"/>
          <p:cNvPicPr/>
          <p:nvPr/>
        </p:nvPicPr>
        <p:blipFill>
          <a:blip r:embed="rId1"/>
          <a:stretch/>
        </p:blipFill>
        <p:spPr>
          <a:xfrm>
            <a:off x="2268360" y="476280"/>
            <a:ext cx="10083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8"/>
          <p:cNvGrpSpPr/>
          <p:nvPr/>
        </p:nvGrpSpPr>
        <p:grpSpPr>
          <a:xfrm>
            <a:off x="3490920" y="477720"/>
            <a:ext cx="3097080" cy="863640"/>
            <a:chOff x="3490920" y="477720"/>
            <a:chExt cx="3097080" cy="863640"/>
          </a:xfrm>
        </p:grpSpPr>
        <p:sp>
          <p:nvSpPr>
            <p:cNvPr id="129" name="AutoShape 9"/>
            <p:cNvSpPr/>
            <p:nvPr/>
          </p:nvSpPr>
          <p:spPr>
            <a:xfrm>
              <a:off x="3490920" y="477720"/>
              <a:ext cx="3024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3851280" y="477720"/>
              <a:ext cx="27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13" descr="2007040615253553015"/>
          <p:cNvPicPr/>
          <p:nvPr/>
        </p:nvPicPr>
        <p:blipFill>
          <a:blip r:embed="rId2"/>
          <a:stretch/>
        </p:blipFill>
        <p:spPr>
          <a:xfrm>
            <a:off x="1908000" y="1874880"/>
            <a:ext cx="5769000" cy="3570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2771640" y="5516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盖中盖乳酸钙口服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7"/>
          <p:cNvSpPr/>
          <p:nvPr/>
        </p:nvSpPr>
        <p:spPr>
          <a:xfrm>
            <a:off x="1908000" y="333360"/>
            <a:ext cx="460872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钠和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08000" y="29941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人体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224000" y="3798720"/>
            <a:ext cx="67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内含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~12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成人每千克体重含钾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钠参于水的代谢，调节体液平衡，维持肌肉正常兴奋和细胞的通透性，是胰汁、胆汁、汗和泪水的组成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908000" y="11984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钠的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187280" y="1844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钠主要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存在于细胞外液中，钾主要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存在于细胞内液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258920" y="1341360"/>
            <a:ext cx="676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钾的大部分生理功能都是在与钠协同作用中发挥的，因此维持体内钾、钠离子的平衡，对生命活动有重要意义。钾能够调节细胞内适宜的渗透压，调节体液的酸碱平衡，参于细胞内糖和蛋白质的代谢，维持正常的神经兴奋性和心肌运动，在摄入高钠而导致高血压时，钾具有降血压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619280" y="836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钠和钾摄入量过高或过低引起的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00000" y="1628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钠缺乏症可造成生长缓慢、食欲减退、由于失水体重减轻、哺乳期的母亲奶水减少、肌肉痉挛、恶心、腹泻和头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71640" y="3141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膳食中长期摄入过多的钠将导致高血压，如果误将食盐当作食糖给婴幼儿食用，有可能导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71640" y="4581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钾缺乏可引起心跳不规律和加速、心电图异常、肌肉衰弱和烦躁，最后导致心搏停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71640" y="5661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钾过量引起恶心、腹泻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692360" y="693720"/>
            <a:ext cx="180000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973080" y="24256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铁是血红蛋白的成分，能帮助氧气的运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690560" y="170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人体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971640" y="4365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铁缺乏可引起缺铁性贫血，使人的体质虚弱，皮肤苍白、易疲劳、头晕、对寒冷过敏、气促、甲状腺功能减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690560" y="3645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铁摄入量过高或过低引起的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116000" y="10573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摄入过量的铁（将产生慢性或急性铁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慢性中度症状为：肝脏含有大量的铁将导致肝硬化、胰腺纤维化等。急性铁中毒使胃肠道上皮发生严重而广泛的坏死，最终导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868400" y="47196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慢性失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内需要量增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入不足或吸收障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835280" y="39276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铁缺乏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10"/>
          <p:cNvPicPr/>
          <p:nvPr/>
        </p:nvPicPr>
        <p:blipFill>
          <a:blip r:embed="rId1"/>
          <a:stretch/>
        </p:blipFill>
        <p:spPr>
          <a:xfrm>
            <a:off x="6659640" y="4076640"/>
            <a:ext cx="876240" cy="169560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8199"/>
          <p:cNvSpPr/>
          <p:nvPr/>
        </p:nvSpPr>
        <p:spPr>
          <a:xfrm>
            <a:off x="2400480" y="7221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900000" y="1628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肝脏、全血、瘦肉、蛋、鱼类、豆类、黑木耳、海带、禽肉类、绿色蔬菜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8"/>
          <p:cNvSpPr txBox="1"/>
          <p:nvPr/>
        </p:nvSpPr>
        <p:spPr>
          <a:xfrm rot="20637000">
            <a:off x="58680" y="4611600"/>
            <a:ext cx="38228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noFill/>
                <a:latin typeface="宋体"/>
              </a:rPr>
              <a:t>铁的食物来源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609560" y="833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铁的食物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213761_2"/>
          <p:cNvPicPr/>
          <p:nvPr/>
        </p:nvPicPr>
        <p:blipFill>
          <a:blip r:embed="rId1"/>
          <a:stretch/>
        </p:blipFill>
        <p:spPr>
          <a:xfrm>
            <a:off x="2016000" y="2936880"/>
            <a:ext cx="4572000" cy="27241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3"/>
          <p:cNvSpPr/>
          <p:nvPr/>
        </p:nvSpPr>
        <p:spPr>
          <a:xfrm>
            <a:off x="3203640" y="580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物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69840" y="24829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缺锌最常见的病因是膳食不平衡。锌缺乏的特征是食欲减退；生长发育迟缓；皮肤粗糙、干裂；味觉失去灵敏度；毛发色素变淡，指甲上有白斑；创伤愈合较慢、易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；孕妇缺锌甚至可能出现胎儿畸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19280" y="260280"/>
            <a:ext cx="2016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690560" y="1052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人体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690560" y="1763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锌摄入量过高或过低引起的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4356000" y="1109520"/>
            <a:ext cx="46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锌会影响人体发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690560" y="47214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锌的食物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008000" y="5373720"/>
            <a:ext cx="68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产品、瘦肉、动物肝脏、奶类、豆类、小米、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898560" y="3095640"/>
            <a:ext cx="756108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硒缺乏是引起克山病的一个重要病因。缺硒会诱发肝坏死、诱发心血管疾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轻度或中度缺硒，征兆和症状不明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入过量的硒将引起硒中毒，其症状为：胃肠障碍、腹水、贫血、毛发脱落、指甲及皮肤变形、肝脏受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690560" y="660240"/>
            <a:ext cx="19432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690560" y="14810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人体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619280" y="2205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硒摄入量过高或过低引起的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6046560" y="14842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硒有防癌、抗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6"/>
          <p:cNvPicPr/>
          <p:nvPr/>
        </p:nvPicPr>
        <p:blipFill>
          <a:blip r:embed="rId1"/>
          <a:stretch/>
        </p:blipFill>
        <p:spPr>
          <a:xfrm>
            <a:off x="2484360" y="1197000"/>
            <a:ext cx="3309840" cy="48974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6300720" y="2421000"/>
            <a:ext cx="7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硒中毒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187280" y="1484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碘是甲状腺素的重要成分。缺碘会引起甲状腺肿大，幼儿缺碘会影响生长发育，造成思维迟钝。碘过量也会引起甲状腺肿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835280" y="426960"/>
            <a:ext cx="1657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1200240" y="3218040"/>
            <a:ext cx="72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碘缺乏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在世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国家是一个严重的公共卫生问题。通过全球食盐加碘的努力，减少碘缺乏病取得了明显的进展，但估计仍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人不同程度地受到碘缺乏病的影响，表现出不同程度的大脑损害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CCWA_2008123016575921927"/>
          <p:cNvPicPr/>
          <p:nvPr/>
        </p:nvPicPr>
        <p:blipFill>
          <a:blip r:embed="rId1"/>
          <a:stretch/>
        </p:blipFill>
        <p:spPr>
          <a:xfrm>
            <a:off x="1547640" y="1484280"/>
            <a:ext cx="626436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635280" y="53578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维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甲状腺肿大"/>
          <p:cNvPicPr/>
          <p:nvPr/>
        </p:nvPicPr>
        <p:blipFill>
          <a:blip r:embed="rId1"/>
          <a:stretch/>
        </p:blipFill>
        <p:spPr>
          <a:xfrm>
            <a:off x="1109520" y="1197000"/>
            <a:ext cx="346248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甲状腺肿大"/>
          <p:cNvPicPr/>
          <p:nvPr/>
        </p:nvPicPr>
        <p:blipFill>
          <a:blip r:embed="rId2"/>
          <a:stretch/>
        </p:blipFill>
        <p:spPr>
          <a:xfrm>
            <a:off x="4788000" y="1197000"/>
            <a:ext cx="3355920" cy="3600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3780000" y="5157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状腺肿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地方甲状腺肿4"/>
          <p:cNvPicPr/>
          <p:nvPr/>
        </p:nvPicPr>
        <p:blipFill>
          <a:blip r:embed="rId1"/>
          <a:stretch/>
        </p:blipFill>
        <p:spPr>
          <a:xfrm>
            <a:off x="1400040" y="1341360"/>
            <a:ext cx="2811600" cy="3672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3635280" y="5300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脖子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地方甲状腺肿6"/>
          <p:cNvPicPr/>
          <p:nvPr/>
        </p:nvPicPr>
        <p:blipFill>
          <a:blip r:embed="rId2"/>
          <a:stretch/>
        </p:blipFill>
        <p:spPr>
          <a:xfrm>
            <a:off x="4500720" y="1341360"/>
            <a:ext cx="3504960" cy="367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971640" y="158580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氟在人体中主要分布在骨胳、牙齿、指甲和毛发中，尤以牙釉质中含量多，氟的摄入量或多或少也最先表现在牙齿上。当人体缺氟时，会患龋齿，氟多了又会患斑釉齿，如果再多，会患氟骨症等系列病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氟是人体中的一种必需微量元素。在人体必需元素中，人体对氟含量最为敏感，氟对人体的安全范围比其他微量元素窄得多。所以要更加注意自然界、饮水及食物中氟含量对人体健康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20720" y="692280"/>
            <a:ext cx="1295640" cy="14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39640" y="12207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改善造血功能，提高人体免疫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强壮骨骼，降低人体钠的吸收，有利于人体血管的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627280" y="404640"/>
            <a:ext cx="4465800" cy="113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其他微量元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95280" y="2843280"/>
            <a:ext cx="820908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生长发育，预防心血管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组成成分，镍是细胞核酸的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铁有协同生血作用，是骨的组成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血液中跟随血液循环，将代谢产生的废物通过尿或汗排出体外，起着净化作用。锗还具有增强抵抗力，抑制癌细胞的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116000" y="1550520"/>
            <a:ext cx="741672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中除碳、氢、氧几种元素以水、糖类、油脂、蛋白质和维生素的形式存在外，其余的元素都主要以无机盐的形式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405080" y="3500280"/>
            <a:ext cx="288720" cy="180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763640" y="342900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量元素：在人体中含量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钙、磷、钾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763640" y="4869000"/>
            <a:ext cx="56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量元素：含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1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铁、锌、硒、碘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png-0572"/>
          <p:cNvPicPr/>
          <p:nvPr/>
        </p:nvPicPr>
        <p:blipFill>
          <a:blip r:embed="rId1"/>
          <a:stretch/>
        </p:blipFill>
        <p:spPr>
          <a:xfrm>
            <a:off x="2195640" y="404640"/>
            <a:ext cx="936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2"/>
          <p:cNvGrpSpPr/>
          <p:nvPr/>
        </p:nvGrpSpPr>
        <p:grpSpPr>
          <a:xfrm>
            <a:off x="3346560" y="333360"/>
            <a:ext cx="3097080" cy="863640"/>
            <a:chOff x="3346560" y="333360"/>
            <a:chExt cx="3097080" cy="863640"/>
          </a:xfrm>
        </p:grpSpPr>
        <p:sp>
          <p:nvSpPr>
            <p:cNvPr id="248" name="AutoShape 13"/>
            <p:cNvSpPr/>
            <p:nvPr/>
          </p:nvSpPr>
          <p:spPr>
            <a:xfrm>
              <a:off x="3346560" y="333360"/>
              <a:ext cx="3024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3706920" y="333360"/>
              <a:ext cx="27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vert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2"/>
          <p:cNvSpPr/>
          <p:nvPr/>
        </p:nvSpPr>
        <p:spPr>
          <a:xfrm>
            <a:off x="971640" y="177336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8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世界卫生组织把铝确定为食品污染源之一，对在食品中的应用加以限制。按照这一要求铝在下列应用中应加以控制的是①铝合金  ②制电线  ③制炊具  ④银色漆颜料  ⑤用明矾净化饮用水  ⑥明矾与小苏打制食品膨松剂  ⑦饮料易拉罐  ⑧用氢氧化铝凝胶制胃舒平药品  ⑨包装糖果和小食品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①③⑤⑧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②④⑤⑧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①②③⑤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③⑤⑥⑦⑧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77800" y="472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png-0245"/>
          <p:cNvPicPr/>
          <p:nvPr/>
        </p:nvPicPr>
        <p:blipFill>
          <a:blip r:embed="rId1"/>
          <a:stretch/>
        </p:blipFill>
        <p:spPr>
          <a:xfrm>
            <a:off x="1690560" y="4096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8"/>
          <p:cNvGrpSpPr/>
          <p:nvPr/>
        </p:nvGrpSpPr>
        <p:grpSpPr>
          <a:xfrm>
            <a:off x="3130560" y="625320"/>
            <a:ext cx="3097080" cy="863640"/>
            <a:chOff x="3130560" y="625320"/>
            <a:chExt cx="3097080" cy="863640"/>
          </a:xfrm>
        </p:grpSpPr>
        <p:sp>
          <p:nvSpPr>
            <p:cNvPr id="254" name="AutoShape 9"/>
            <p:cNvSpPr/>
            <p:nvPr/>
          </p:nvSpPr>
          <p:spPr>
            <a:xfrm>
              <a:off x="3130560" y="625320"/>
              <a:ext cx="3024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3490920" y="625320"/>
              <a:ext cx="27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u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7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"/>
          <p:cNvSpPr/>
          <p:nvPr/>
        </p:nvSpPr>
        <p:spPr>
          <a:xfrm>
            <a:off x="1116000" y="1197000"/>
            <a:ext cx="66960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是“世界无烟日”。香烟燃烧产生的烟气中含有许多致癌物和有害物质。其中对人类危害最大的是尼古丁（化学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、焦油和一氧化碳等，下列说法中错误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烟严重危害人的身心健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烟焦油对人的呼吸道和肺部损害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尼古丁的碳、氢、氧元素的质量比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∶7∶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香烟的烟气能使小白鼠中毒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74480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8199"/>
          <p:cNvSpPr/>
          <p:nvPr/>
        </p:nvSpPr>
        <p:spPr>
          <a:xfrm>
            <a:off x="2108160" y="77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1042920" y="1125360"/>
            <a:ext cx="698508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有关人体的组成元素的说法中错误的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成人体自身的元素约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人体内的碳、氢、氧、氮四种元素主要以水、糖类、油脂、蛋白质和维生素形式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人体内含量较多的元素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由于微量元素的含量非常少，因此，对人体健康的影响也很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295360" y="156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1116000" y="1268280"/>
            <a:ext cx="705636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下列广告语中，你认为符合科学道理的是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“超纯水”“超纯蒸馏水”绝对卫生，对人体有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本饮料由纯天然物质配制而成，绝对不含化学物质，对人体无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含氟牙膏可以预防龋齿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含碘食盐可防治甲状腺肿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876400" y="16970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44E4-1019-4C94-944F-321C70F5CD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348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朴雪口服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0065208554514181"/>
          <p:cNvPicPr/>
          <p:nvPr/>
        </p:nvPicPr>
        <p:blipFill>
          <a:blip r:embed="rId1"/>
          <a:stretch/>
        </p:blipFill>
        <p:spPr>
          <a:xfrm>
            <a:off x="1692360" y="1052640"/>
            <a:ext cx="5759280" cy="4224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png-0880"/>
          <p:cNvPicPr/>
          <p:nvPr/>
        </p:nvPicPr>
        <p:blipFill>
          <a:blip r:embed="rId1"/>
          <a:stretch/>
        </p:blipFill>
        <p:spPr>
          <a:xfrm>
            <a:off x="1692360" y="587520"/>
            <a:ext cx="896760" cy="89676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6"/>
          <p:cNvGrpSpPr/>
          <p:nvPr/>
        </p:nvGrpSpPr>
        <p:grpSpPr>
          <a:xfrm>
            <a:off x="2843280" y="620640"/>
            <a:ext cx="4750560" cy="863640"/>
            <a:chOff x="2843280" y="620640"/>
            <a:chExt cx="4750560" cy="863640"/>
          </a:xfrm>
        </p:grpSpPr>
        <p:sp>
          <p:nvSpPr>
            <p:cNvPr id="269" name="AutoShape 7"/>
            <p:cNvSpPr/>
            <p:nvPr/>
          </p:nvSpPr>
          <p:spPr>
            <a:xfrm>
              <a:off x="2843280" y="620640"/>
              <a:ext cx="463896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3395880" y="620640"/>
              <a:ext cx="419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后习题答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9"/>
          <p:cNvSpPr/>
          <p:nvPr/>
        </p:nvSpPr>
        <p:spPr>
          <a:xfrm>
            <a:off x="900000" y="184464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呼吸道、消化道和皮肤也是铅进入儿童体内的主要途径。例如，由于经常接触各种彩色玩具，可能含铅的颜料会被儿童吞食，引起体内铅含量超标；再如，如果使用含铅汽油，汽车尾气中的铅很容易被身材矮小的儿童吸入并逐渐积累下来，长此以往易造成体内铅超标或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人体必需的常量元素的原子序数一般较小；人体必需的微量元素多集中于某些区域；稀有元素在人体中一般不存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ng-0159"/>
          <p:cNvPicPr/>
          <p:nvPr/>
        </p:nvPicPr>
        <p:blipFill>
          <a:blip r:embed="rId1"/>
          <a:stretch/>
        </p:blipFill>
        <p:spPr>
          <a:xfrm>
            <a:off x="2298600" y="147600"/>
            <a:ext cx="978120" cy="9777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6"/>
          <p:cNvGrpSpPr/>
          <p:nvPr/>
        </p:nvGrpSpPr>
        <p:grpSpPr>
          <a:xfrm>
            <a:off x="3348000" y="260280"/>
            <a:ext cx="3097080" cy="863640"/>
            <a:chOff x="3348000" y="260280"/>
            <a:chExt cx="3097080" cy="863640"/>
          </a:xfrm>
        </p:grpSpPr>
        <p:sp>
          <p:nvSpPr>
            <p:cNvPr id="139" name="AutoShape 7"/>
            <p:cNvSpPr/>
            <p:nvPr/>
          </p:nvSpPr>
          <p:spPr>
            <a:xfrm>
              <a:off x="3348000" y="260280"/>
              <a:ext cx="3024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708360" y="260280"/>
              <a:ext cx="27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9"/>
          <p:cNvSpPr/>
          <p:nvPr/>
        </p:nvSpPr>
        <p:spPr>
          <a:xfrm>
            <a:off x="719280" y="1197000"/>
            <a:ext cx="7956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知识与技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了解人体的元素组成；了解一些元素对人体健康的重要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学会一些通过营养增进人体健康的基本知识和生活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过程与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用自己所拥有的资源（如教科书、图书资料、网络、生活常识等），运用多种手段查找第一手资料，通过比较、分类、归纳、概括、交流等方法获取化学元素与人体健康的知识，在过程中采用自主和合作相结合的方式开展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116000" y="1397160"/>
            <a:ext cx="698508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情感态度与价值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过程中体验学习的快乐，体验科学营养知识对人体健康的重要，能用一分为二的观点看待元素对人体健康的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今后自身、家庭、社会的生活中的营养知识给予重视，接受科学的生活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0360" y="1773000"/>
            <a:ext cx="6929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了解人体元素的组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了解一些元素对人体健康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了解人体元素的组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了解一些元素对人体健康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360" y="701280"/>
            <a:ext cx="5013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721320" y="34005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59960" y="1125360"/>
            <a:ext cx="75567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中除碳、氢、氧几种元素以水、糖类、油脂、蛋白质和维生素的形式存在外，其余的元素都主要以无机盐的形式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1401840" y="3068640"/>
            <a:ext cx="290520" cy="1946160"/>
          </a:xfrm>
          <a:custGeom>
            <a:avLst/>
            <a:gdLst>
              <a:gd name="textAreaLeft" fmla="*/ 185760 w 290520"/>
              <a:gd name="textAreaRight" fmla="*/ 290880 w 290520"/>
              <a:gd name="textAreaTop" fmla="*/ 50400 h 1946160"/>
              <a:gd name="textAreaBottom" fmla="*/ 1895760 h 19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35280" y="298764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常量元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人体中含量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1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素，如钙、磷、钾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35280" y="464328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微量元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1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下的元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铁、锌、硒、碘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65167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人体中含量较多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种化学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59280" y="1125360"/>
          <a:ext cx="5329080" cy="554688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944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素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元素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质量分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6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Text Box 135"/>
          <p:cNvSpPr/>
          <p:nvPr/>
        </p:nvSpPr>
        <p:spPr>
          <a:xfrm>
            <a:off x="863640" y="2205000"/>
            <a:ext cx="20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中含有的元素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含量较多的元素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199"/>
          <p:cNvSpPr/>
          <p:nvPr/>
        </p:nvSpPr>
        <p:spPr>
          <a:xfrm>
            <a:off x="138240" y="69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50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55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