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3D57-6917-4C2C-A79B-659F89823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FD97-571F-4CDE-8F8B-06BF807C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7E01-5D29-4A9B-A339-9AA2C87B0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F339-D5D7-4A56-93BD-C6F1DDDF4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F2C8-B21A-4BCC-8EAB-5C88310C3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CB61-DC39-4822-9975-25A2AC17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EF56-49AB-40BB-AB4B-044BB095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194D-FD21-4C75-9F4F-94EA7915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C0F0-60C8-404D-828A-FD37D4E0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35ED-2BD2-4542-8072-2B0D7108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034F-02A6-4502-9DEC-AEAFFE08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22D7-7951-4889-9863-9820916C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6861-4546-4535-AB4A-8AB11CD5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7C5E-2AB6-462D-BC39-17BF64E5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F2EF-93E9-4DE3-9294-724A8446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2FC8-6A89-46AF-94CB-E03C9C89B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8C0E-4813-4B3A-B096-1BF6D73D4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021E-A29C-412B-ACD6-7CB7305C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1483-B48F-4810-AE87-76839A83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3B59-8919-418D-86AD-C02F7792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A77F-2FF6-4EBB-BF84-29AAF870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ABB5-8104-4FE1-9FBB-FF980AE9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DDD5-0480-4FE3-8A51-6B437865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E931-BC2B-4932-B794-56BE7D8B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63E7-554D-4EE6-AE6C-6D7867E53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B330-7462-4AE3-B336-18A65494E17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1042920" y="2133720"/>
            <a:ext cx="6840720" cy="216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惠子相梁可课件</a:t>
            </a:r>
            <a:r>
              <a:rPr b="1" lang="en-US" sz="40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PTT</a:t>
            </a:r>
            <a:r>
              <a:rPr b="1" lang="zh-CN" sz="40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模板下载</a:t>
            </a:r>
            <a:endParaRPr b="1" lang="en-US" sz="40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3" name="图片 1" descr=""/>
          <p:cNvPicPr/>
          <p:nvPr/>
        </p:nvPicPr>
        <p:blipFill>
          <a:blip r:embed="rId1"/>
          <a:stretch/>
        </p:blipFill>
        <p:spPr>
          <a:xfrm>
            <a:off x="2627280" y="3241800"/>
            <a:ext cx="3941640" cy="283032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比喻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鹓鶵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---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鸱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---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腐鼠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---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梧桐、练实、醴泉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---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既表明自己的立场和志趣，又极其辛辣地讽刺了惠子醉心于功名利禄且无端猜忌别人的丑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5003640" y="476280"/>
            <a:ext cx="3024360" cy="2808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843280" y="105264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自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843280" y="177336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惠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2771640" y="249228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功名利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5867280" y="32130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高洁的志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5150160" y="-86760"/>
            <a:ext cx="2649240" cy="38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隶书"/>
              </a:rPr>
              <a:t>尖锐深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隶书"/>
              </a:rPr>
              <a:t>巧妙贴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隶书"/>
              </a:rPr>
              <a:t>余味不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0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1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5092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庄子对爵禄的态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庄子钓于濮水。楚王使大夫二人往先焉，曰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愿以境内累矣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庄子持竿不顾，曰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吾闻楚有神龟，死已三千岁矣。王巾笥而藏之 庙堂之上。此龟者，宁其死为留骨而贵乎？宁其生而曳尾于涂中乎？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二大夫曰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宁生而曳尾涂中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庄子曰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往矣！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吾将曳尾于涂中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----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庄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秋水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8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8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25092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庄子对爵禄的态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庄子以乌龟自喻，宁愿在荒泽草野间过自由自在的生活。从这则故事我们可以看出庄子清高自守，视爵禄如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腐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避之惟恐不及的态度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8198"/>
          <p:cNvSpPr/>
          <p:nvPr/>
        </p:nvSpPr>
        <p:spPr>
          <a:xfrm>
            <a:off x="2700360" y="530208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24000" y="259920"/>
            <a:ext cx="64800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关于庄子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庄 子 碑"/>
          <p:cNvPicPr/>
          <p:nvPr/>
        </p:nvPicPr>
        <p:blipFill>
          <a:blip r:embed="rId1"/>
          <a:stretch/>
        </p:blipFill>
        <p:spPr>
          <a:xfrm>
            <a:off x="250920" y="1197000"/>
            <a:ext cx="3589200" cy="46022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1042920" y="5877000"/>
            <a:ext cx="2160720" cy="691920"/>
          </a:xfrm>
          <a:prstGeom prst="rect">
            <a:avLst/>
          </a:prstGeom>
          <a:solidFill>
            <a:srgbClr val="cc99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庄子墓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3924360" y="620640"/>
            <a:ext cx="5003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关于庄子思想的渊源，司马迁指出：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其要本归于老子之言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明老子之术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史记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·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老子韩非列传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。书中对于儒墨等当时显学，多有诋訾，并表现了愤世嫉俗的精神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0"/>
          <p:cNvSpPr/>
          <p:nvPr/>
        </p:nvSpPr>
        <p:spPr>
          <a:xfrm>
            <a:off x="358920" y="0"/>
            <a:ext cx="87850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庄周，与梁惠王、齐宣王同时，曾任漆园吏。楚威王闻其贤，聘以为相，           不就，穷困终生。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庄子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是战国时期思想家庄周和他的门人以及后学所著，是道家经典之一。现存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33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篇，包括内篇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篇，外篇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15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篇，杂篇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11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篇。庄子的主要主张是绝对自由的人生观，就是要达到无己、无功、             无名的境界。与老子并                     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老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3" descr="庄 子 墓"/>
          <p:cNvPicPr/>
          <p:nvPr/>
        </p:nvPicPr>
        <p:blipFill>
          <a:blip r:embed="rId1"/>
          <a:stretch/>
        </p:blipFill>
        <p:spPr>
          <a:xfrm>
            <a:off x="6084720" y="4475160"/>
            <a:ext cx="2880000" cy="215748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sp>
        <p:nvSpPr>
          <p:cNvPr id="152" name="Text Box 14"/>
          <p:cNvSpPr/>
          <p:nvPr/>
        </p:nvSpPr>
        <p:spPr>
          <a:xfrm>
            <a:off x="3059280" y="5877000"/>
            <a:ext cx="295272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庄子之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庄1"/>
          <p:cNvPicPr/>
          <p:nvPr/>
        </p:nvPicPr>
        <p:blipFill>
          <a:blip r:embed="rId1"/>
          <a:stretch/>
        </p:blipFill>
        <p:spPr>
          <a:xfrm>
            <a:off x="2268360" y="0"/>
            <a:ext cx="687564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920" y="1196640"/>
            <a:ext cx="180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庄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子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故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庄2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庄3"/>
          <p:cNvPicPr/>
          <p:nvPr/>
        </p:nvPicPr>
        <p:blipFill>
          <a:blip r:embed="rId1"/>
          <a:stretch/>
        </p:blipFill>
        <p:spPr>
          <a:xfrm>
            <a:off x="0" y="0"/>
            <a:ext cx="487368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庄4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庄6"/>
          <p:cNvPicPr/>
          <p:nvPr/>
        </p:nvPicPr>
        <p:blipFill>
          <a:blip r:embed="rId1"/>
          <a:stretch/>
        </p:blipFill>
        <p:spPr>
          <a:xfrm>
            <a:off x="3689280" y="0"/>
            <a:ext cx="545472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庄5"/>
          <p:cNvPicPr/>
          <p:nvPr/>
        </p:nvPicPr>
        <p:blipFill>
          <a:blip r:embed="rId2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庄7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26mc"/>
          <p:cNvPicPr/>
          <p:nvPr/>
        </p:nvPicPr>
        <p:blipFill>
          <a:blip r:embed="rId1"/>
          <a:stretch/>
        </p:blipFill>
        <p:spPr>
          <a:xfrm>
            <a:off x="179280" y="404640"/>
            <a:ext cx="4716720" cy="5950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0" y="404280"/>
            <a:ext cx="4248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庄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约前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69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前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86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名周，宋国蒙（今河南商丘东北）人。战国时哲学家，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道家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学派主要代表人物。与老子并称为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道学之祖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庄8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6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AD26-9ECB-4745-B480-B2090BC5EA2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隶书"/>
                <a:ea typeface="隶书"/>
              </a:rPr>
              <a:t>布置作业：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、收集庄子有关故事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、预习第二则故事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94920" y="549360"/>
            <a:ext cx="8209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  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庄子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是庄周及其后学的著作集，为道家经典之一。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庄子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具有很高的文学价值。文章多采用寓言、故事形式，文笔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汪洋恣肆，想象丰富，气势壮阔。富有浓厚的文学气息和浪漫主义色彩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其经典著作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庄子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（亦称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南华经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）在道学和文史上对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世颇有影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37"/>
          <p:cNvPicPr/>
          <p:nvPr/>
        </p:nvPicPr>
        <p:blipFill>
          <a:blip r:embed="rId1"/>
          <a:stretch/>
        </p:blipFill>
        <p:spPr>
          <a:xfrm>
            <a:off x="5867280" y="4005360"/>
            <a:ext cx="26640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14560" y="764640"/>
            <a:ext cx="5329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课文选的两则故事均节选自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华文行楷"/>
              </a:rPr>
              <a:t>《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庄子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  <a:ea typeface="华文行楷"/>
              </a:rPr>
              <a:t>·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  <a:ea typeface="华文行楷"/>
              </a:rPr>
              <a:t>秋水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  <a:ea typeface="华文行楷"/>
              </a:rPr>
              <a:t>》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  <a:ea typeface="华文行楷"/>
              </a:rPr>
              <a:t>。标题是编者加的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0361"/>
          <p:cNvPicPr/>
          <p:nvPr/>
        </p:nvPicPr>
        <p:blipFill>
          <a:blip r:embed="rId1"/>
          <a:stretch/>
        </p:blipFill>
        <p:spPr>
          <a:xfrm>
            <a:off x="179280" y="2060640"/>
            <a:ext cx="3652920" cy="443556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8198"/>
          <p:cNvSpPr/>
          <p:nvPr/>
        </p:nvSpPr>
        <p:spPr>
          <a:xfrm>
            <a:off x="1116000" y="33336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704880" y="311940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相：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xi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à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ng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辅助君主的人，这里作动词，做宰相。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704880" y="1341360"/>
            <a:ext cx="785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惠子：即惠施，战国时宋国人，哲学家，庄子好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24000" y="404280"/>
            <a:ext cx="8496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惠子相梁，庄子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见之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谓惠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曰：“庄子来，欲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代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子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相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。”于是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子恐，搜于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中三日三夜。庄子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见之，曰：“南方有鸟，其名为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鹓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315680" y="9079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6289560" y="981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有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984840" y="2421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取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88000" y="24210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动词，做宰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2050920" y="5445000"/>
            <a:ext cx="7704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古代传说中像凤凰一类的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6480360" y="4292640"/>
            <a:ext cx="261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yuān ch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ú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930840" y="386064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国都、京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94920" y="18900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子知之乎？夫鹓鶵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于南海，而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于北海，非梧桐不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，非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练实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食，非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醴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不饮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于是鸱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得腐鼠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鹓鶵过之，仰而视之曰：‘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吓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！’今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欲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子之梁国而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吓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我邪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27"/>
          <p:cNvSpPr/>
          <p:nvPr/>
        </p:nvSpPr>
        <p:spPr>
          <a:xfrm>
            <a:off x="5200560" y="98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29"/>
          <p:cNvSpPr/>
          <p:nvPr/>
        </p:nvSpPr>
        <p:spPr>
          <a:xfrm>
            <a:off x="4725360" y="7650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出发，起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30"/>
          <p:cNvSpPr/>
          <p:nvPr/>
        </p:nvSpPr>
        <p:spPr>
          <a:xfrm>
            <a:off x="3986280" y="2133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栖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31"/>
          <p:cNvSpPr/>
          <p:nvPr/>
        </p:nvSpPr>
        <p:spPr>
          <a:xfrm>
            <a:off x="4859280" y="220500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竹实</a:t>
            </a:r>
            <a:r>
              <a:rPr b="1" lang="en-US" sz="36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竹子所结的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32"/>
          <p:cNvSpPr/>
          <p:nvPr/>
        </p:nvSpPr>
        <p:spPr>
          <a:xfrm>
            <a:off x="2392200" y="3938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33"/>
          <p:cNvSpPr/>
          <p:nvPr/>
        </p:nvSpPr>
        <p:spPr>
          <a:xfrm>
            <a:off x="1619280" y="3500280"/>
            <a:ext cx="31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甘泉，甜美的泉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34"/>
          <p:cNvSpPr/>
          <p:nvPr/>
        </p:nvSpPr>
        <p:spPr>
          <a:xfrm>
            <a:off x="2050920" y="256536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l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35"/>
          <p:cNvSpPr/>
          <p:nvPr/>
        </p:nvSpPr>
        <p:spPr>
          <a:xfrm>
            <a:off x="4664880" y="3573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在这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36"/>
          <p:cNvSpPr/>
          <p:nvPr/>
        </p:nvSpPr>
        <p:spPr>
          <a:xfrm>
            <a:off x="6320880" y="3573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猫头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37"/>
          <p:cNvSpPr/>
          <p:nvPr/>
        </p:nvSpPr>
        <p:spPr>
          <a:xfrm>
            <a:off x="5434200" y="2708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ch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38"/>
          <p:cNvSpPr/>
          <p:nvPr/>
        </p:nvSpPr>
        <p:spPr>
          <a:xfrm>
            <a:off x="6086880" y="4149720"/>
            <a:ext cx="7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h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39"/>
          <p:cNvSpPr/>
          <p:nvPr/>
        </p:nvSpPr>
        <p:spPr>
          <a:xfrm>
            <a:off x="3384000" y="501336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拟声词，模仿鸱发怒的声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40"/>
          <p:cNvSpPr/>
          <p:nvPr/>
        </p:nvSpPr>
        <p:spPr>
          <a:xfrm>
            <a:off x="4505400" y="55594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作动词吓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41"/>
          <p:cNvSpPr/>
          <p:nvPr/>
        </p:nvSpPr>
        <p:spPr>
          <a:xfrm>
            <a:off x="971640" y="55166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7"/>
          <p:cNvSpPr/>
          <p:nvPr/>
        </p:nvSpPr>
        <p:spPr>
          <a:xfrm>
            <a:off x="1600200" y="105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1095480" y="770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2268360" y="476280"/>
            <a:ext cx="295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惠子为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268360" y="126828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庄子看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2125800" y="2492280"/>
            <a:ext cx="280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受人挑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5005440" y="2492280"/>
            <a:ext cx="280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搜捕庄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2125800" y="3500280"/>
            <a:ext cx="280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从容往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5005440" y="350028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奇鸟之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2125800" y="5013360"/>
            <a:ext cx="381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辛辣讽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840600" y="69228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起因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840600" y="285264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经过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0"/>
          <p:cNvSpPr/>
          <p:nvPr/>
        </p:nvSpPr>
        <p:spPr>
          <a:xfrm>
            <a:off x="840600" y="49417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结果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1"/>
          <p:cNvSpPr/>
          <p:nvPr/>
        </p:nvSpPr>
        <p:spPr>
          <a:xfrm>
            <a:off x="4500720" y="2781360"/>
            <a:ext cx="576000" cy="360360"/>
          </a:xfrm>
          <a:prstGeom prst="rightArrow">
            <a:avLst>
              <a:gd name="adj1" fmla="val 50000"/>
              <a:gd name="adj2" fmla="val 3993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2"/>
          <p:cNvSpPr/>
          <p:nvPr/>
        </p:nvSpPr>
        <p:spPr>
          <a:xfrm>
            <a:off x="4500720" y="3716280"/>
            <a:ext cx="576000" cy="360360"/>
          </a:xfrm>
          <a:prstGeom prst="rightArrow">
            <a:avLst>
              <a:gd name="adj1" fmla="val 50000"/>
              <a:gd name="adj2" fmla="val 3993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7314120" y="-216000"/>
            <a:ext cx="1642680" cy="75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故事发展出人意料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富有趣味性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84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惠子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醉心于功名富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对朋友薄情寡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庄子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清高自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机智幽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3zhuang"/>
          <p:cNvPicPr/>
          <p:nvPr/>
        </p:nvPicPr>
        <p:blipFill>
          <a:blip r:embed="rId1"/>
          <a:stretch/>
        </p:blipFill>
        <p:spPr>
          <a:xfrm>
            <a:off x="5867280" y="3645000"/>
            <a:ext cx="3130560" cy="321300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5"/>
          <p:cNvSpPr/>
          <p:nvPr/>
        </p:nvSpPr>
        <p:spPr>
          <a:xfrm>
            <a:off x="5435640" y="981000"/>
            <a:ext cx="504720" cy="3888000"/>
          </a:xfrm>
          <a:custGeom>
            <a:avLst/>
            <a:gdLst>
              <a:gd name="textAreaLeft" fmla="*/ 67320 w 504720"/>
              <a:gd name="textAreaRight" fmla="*/ 437400 w 504720"/>
              <a:gd name="textAreaTop" fmla="*/ 680400 h 3888000"/>
              <a:gd name="textAreaBottom" fmla="*/ 2818800 h 388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3443"/>
                <a:lnTo>
                  <a:pt x="7197" y="21168"/>
                </a:lnTo>
                <a:lnTo>
                  <a:pt x="0" y="17280"/>
                </a:lnTo>
                <a:lnTo>
                  <a:pt x="7197" y="12528"/>
                </a:lnTo>
                <a:lnTo>
                  <a:pt x="7197" y="14688"/>
                </a:lnTo>
                <a:arcTo wR="21600" hR="7560" stAng="2683443" swAng="-2326008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6"/>
          <p:cNvSpPr txBox="1"/>
          <p:nvPr/>
        </p:nvSpPr>
        <p:spPr>
          <a:xfrm rot="5400000">
            <a:off x="4967640" y="2088360"/>
            <a:ext cx="3305160" cy="1081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华文行楷"/>
              </a:rPr>
              <a:t>鲜明对比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8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8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3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9:40:0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0:26Z</dcterms:modified>
  <cp:revision>1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