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C9B-B830-482B-8631-33D07F7C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6C4-52BD-4A14-B157-F937A4E9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4D3-793F-457A-A6D9-070F9C66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90B-C7A0-4F9C-A5FC-6A569273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E500-583B-4E8F-BBB0-B27F0836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D394-73C2-45C7-B2FA-E9380D1D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40CD-7960-44F3-83D5-91A46966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F5A6-9A61-4148-B89C-F34A9F83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CED7-2113-403E-8998-0A0A661B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A8E0-6405-44FE-A7EE-334E1685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58F7-F533-4259-AC58-47AF1D3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1EE-4D1C-45D5-B856-C2D505B7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3524-9077-48B7-A856-7E435BEE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B116-E7E7-40AE-A206-DE76211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261F-7D9A-4967-8F92-C26599E1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6144-B612-4307-806B-2E5183D3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9F4A-D9EC-4A5D-832F-43732704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2C1-C6BE-41E6-9A9E-FFD20579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BE1-0A55-45F9-89CE-10B5D3FC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B9C-DEFF-462A-869C-FC9FB3F2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765-B5B1-42C9-8AA0-DF48B2E7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BDE-F1F5-49DD-AB96-C07CCEF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CAD-7BC9-416C-AEB5-4EBCEE98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52F-8B9E-402D-9D98-77E760C9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D0E2-B0C2-447C-AD71-6857298F4CA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460E-7CBC-4FA7-AA30-6B098F7F783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16CF-EE5E-437E-BBAB-640A7E1F67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9174045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1835280" y="1052640"/>
            <a:ext cx="665460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惠子相梁语文课件</a:t>
            </a:r>
            <a:r>
              <a:rPr b="1" lang="en-US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模板免费下载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beij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123984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145980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</a:rPr>
              <a:t>庄子送葬，经过惠子的坟墓，回头对跟随他的人说：</a:t>
            </a:r>
            <a:r>
              <a:rPr b="1" lang="zh-CN" sz="24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</a:rPr>
              <a:t>楚国郢人捏白垩土，鼻尖上溅到一滴如蝇翼般大的污泥，他请匠石替他削掉。匠石挥动斧头，呼呼作响，随手劈下去，把那小滴的泥点完全削除，而鼻子没有受到丝毫损伤，郢人站着面不改色。宋元君听说这件事，把匠石找来说：</a:t>
            </a:r>
            <a:r>
              <a:rPr b="1" lang="zh-CN" sz="2400" spc="-1" strike="noStrike">
                <a:solidFill>
                  <a:srgbClr val="1f497d"/>
                </a:solidFill>
                <a:latin typeface="Times New Roman"/>
              </a:rPr>
              <a:t>‘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</a:rPr>
              <a:t>替我试试看。</a:t>
            </a:r>
            <a:r>
              <a:rPr b="1" lang="zh-CN" sz="2400" spc="-1" strike="noStrike">
                <a:solidFill>
                  <a:srgbClr val="1f497d"/>
                </a:solidFill>
                <a:latin typeface="Times New Roman"/>
              </a:rPr>
              <a:t>’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</a:rPr>
              <a:t>匠石说：</a:t>
            </a:r>
            <a:r>
              <a:rPr b="1" lang="zh-CN" sz="2400" spc="-1" strike="noStrike">
                <a:solidFill>
                  <a:srgbClr val="1f497d"/>
                </a:solidFill>
                <a:latin typeface="Times New Roman"/>
              </a:rPr>
              <a:t>‘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</a:rPr>
              <a:t>我以前能削，但是我的对手早已经死了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!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’</a:t>
            </a:r>
            <a:r>
              <a:rPr b="1" lang="zh-CN" sz="2400" spc="-1" strike="noStrike">
                <a:solidFill>
                  <a:srgbClr val="1f497d"/>
                </a:solidFill>
                <a:latin typeface="Calibri"/>
              </a:rPr>
              <a:t>自从先生去世。我没有对手了，我没有谈论的对象了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!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24000" y="400536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提示：惠子死后，庄子再也找不到可以对谈的人了。在这短短的寓言中，流露出纯厚真挚之情。能设出这个妙趣的寓言，来譬喻他和死者的友谊，如此神来之笔。非庄子莫能为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5"/>
          <p:cNvSpPr/>
          <p:nvPr/>
        </p:nvSpPr>
        <p:spPr>
          <a:xfrm>
            <a:off x="3059280" y="17002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beij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26mc"/>
          <p:cNvPicPr/>
          <p:nvPr/>
        </p:nvPicPr>
        <p:blipFill>
          <a:blip r:embed="rId2"/>
          <a:stretch/>
        </p:blipFill>
        <p:spPr>
          <a:xfrm>
            <a:off x="179280" y="404640"/>
            <a:ext cx="4716720" cy="595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0" y="40428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庄子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（约前</a:t>
            </a:r>
            <a:r>
              <a:rPr b="1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369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1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286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）名周，宋国蒙（今河南商丘东北）人。战国时哲学家，</a:t>
            </a:r>
            <a:r>
              <a:rPr b="1" lang="zh-CN" sz="3800" spc="-1" strike="noStrike">
                <a:solidFill>
                  <a:srgbClr val="0000ff"/>
                </a:solidFill>
                <a:latin typeface="黑体"/>
                <a:ea typeface="黑体"/>
              </a:rPr>
              <a:t>道家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学派主要代表人物。与老子并称为</a:t>
            </a:r>
            <a:r>
              <a:rPr b="1" lang="zh-CN" sz="3800" spc="-1" strike="noStrike">
                <a:solidFill>
                  <a:srgbClr val="0000ff"/>
                </a:solidFill>
                <a:latin typeface="黑体"/>
                <a:ea typeface="黑体"/>
              </a:rPr>
              <a:t>道学之祖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8" descr="beij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95280" y="549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黑体"/>
              </a:rPr>
              <a:t>文章多采用寓言、故事形式，文笔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汪洋恣肆，富有浓厚的文学气息和浪漫主义色彩。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黑体"/>
              </a:rPr>
              <a:t>其经典著作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黑体"/>
              </a:rPr>
              <a:t>庄子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  <a:ea typeface="黑体"/>
              </a:rPr>
              <a:t>》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黑体"/>
              </a:rPr>
              <a:t>（亦称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黑体"/>
              </a:rPr>
              <a:t>南华经</a:t>
            </a:r>
            <a:r>
              <a:rPr b="1" lang="en-US" sz="4800" spc="-1" strike="noStrike">
                <a:solidFill>
                  <a:srgbClr val="0000ff"/>
                </a:solidFill>
                <a:latin typeface="Calibri"/>
                <a:ea typeface="黑体"/>
              </a:rPr>
              <a:t>》</a:t>
            </a: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黑体"/>
              </a:rPr>
              <a:t>）                                   在道学和文史上对                     后世颇有影响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27" descr="37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6636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8198"/>
          <p:cNvSpPr/>
          <p:nvPr/>
        </p:nvSpPr>
        <p:spPr>
          <a:xfrm>
            <a:off x="466560" y="5373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beij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24000" y="40428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3800" spc="-1" strike="noStrike">
                <a:solidFill>
                  <a:srgbClr val="000000"/>
                </a:solidFill>
                <a:latin typeface="Calibri"/>
                <a:ea typeface="隶书"/>
              </a:rPr>
              <a:t>惠子相梁，庄子</a:t>
            </a:r>
            <a:r>
              <a:rPr b="1" lang="zh-CN" sz="3800" spc="-1" strike="noStrike">
                <a:solidFill>
                  <a:srgbClr val="0000ff"/>
                </a:solidFill>
                <a:latin typeface="Calibri"/>
                <a:ea typeface="隶书"/>
              </a:rPr>
              <a:t>往</a:t>
            </a:r>
            <a:r>
              <a:rPr b="1" lang="zh-CN" sz="3800" spc="-1" strike="noStrike">
                <a:solidFill>
                  <a:srgbClr val="000000"/>
                </a:solidFill>
                <a:latin typeface="Calibri"/>
                <a:ea typeface="隶书"/>
              </a:rPr>
              <a:t>见之。</a:t>
            </a:r>
            <a:r>
              <a:rPr b="1" lang="zh-CN" sz="3800" spc="-1" strike="noStrike">
                <a:solidFill>
                  <a:srgbClr val="0000ff"/>
                </a:solidFill>
                <a:latin typeface="Calibri"/>
                <a:ea typeface="隶书"/>
              </a:rPr>
              <a:t>或</a:t>
            </a:r>
            <a:r>
              <a:rPr b="1" lang="zh-CN" sz="3800" spc="-1" strike="noStrike">
                <a:solidFill>
                  <a:srgbClr val="000000"/>
                </a:solidFill>
                <a:latin typeface="Calibri"/>
                <a:ea typeface="隶书"/>
              </a:rPr>
              <a:t>谓惠子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Calibri"/>
                <a:ea typeface="隶书"/>
              </a:rPr>
              <a:t>曰：“庄子来，欲</a:t>
            </a:r>
            <a:r>
              <a:rPr b="1" lang="zh-CN" sz="3800" spc="-1" strike="noStrike">
                <a:solidFill>
                  <a:srgbClr val="0000ff"/>
                </a:solidFill>
                <a:latin typeface="Calibri"/>
                <a:ea typeface="隶书"/>
              </a:rPr>
              <a:t>代</a:t>
            </a:r>
            <a:r>
              <a:rPr b="1" lang="zh-CN" sz="3800" spc="-1" strike="noStrike">
                <a:solidFill>
                  <a:srgbClr val="000000"/>
                </a:solidFill>
                <a:latin typeface="Calibri"/>
                <a:ea typeface="隶书"/>
              </a:rPr>
              <a:t>子</a:t>
            </a:r>
            <a:r>
              <a:rPr b="1" lang="zh-CN" sz="3800" spc="-1" strike="noStrike">
                <a:solidFill>
                  <a:srgbClr val="0000ff"/>
                </a:solidFill>
                <a:latin typeface="Calibri"/>
                <a:ea typeface="隶书"/>
              </a:rPr>
              <a:t>相</a:t>
            </a:r>
            <a:r>
              <a:rPr b="1" lang="zh-CN" sz="3800" spc="-1" strike="noStrike">
                <a:solidFill>
                  <a:srgbClr val="000000"/>
                </a:solidFill>
                <a:latin typeface="Calibri"/>
                <a:ea typeface="隶书"/>
              </a:rPr>
              <a:t>。”于是惠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Calibri"/>
                <a:ea typeface="隶书"/>
              </a:rPr>
              <a:t>子恐，搜于</a:t>
            </a:r>
            <a:r>
              <a:rPr b="1" lang="zh-CN" sz="3800" spc="-1" strike="noStrike">
                <a:solidFill>
                  <a:srgbClr val="0000ff"/>
                </a:solidFill>
                <a:latin typeface="Calibri"/>
                <a:ea typeface="隶书"/>
              </a:rPr>
              <a:t>国</a:t>
            </a:r>
            <a:r>
              <a:rPr b="1" lang="zh-CN" sz="3800" spc="-1" strike="noStrike">
                <a:solidFill>
                  <a:srgbClr val="000000"/>
                </a:solidFill>
                <a:latin typeface="Calibri"/>
                <a:ea typeface="隶书"/>
              </a:rPr>
              <a:t>中三日三夜。庄子往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Calibri"/>
                <a:ea typeface="隶书"/>
              </a:rPr>
              <a:t>见之，曰：“南方有鸟，其名为</a:t>
            </a:r>
            <a:r>
              <a:rPr b="1" lang="zh-CN" sz="3800" spc="-1" strike="noStrike">
                <a:solidFill>
                  <a:srgbClr val="0000ff"/>
                </a:solidFill>
                <a:latin typeface="Calibri"/>
                <a:ea typeface="隶书"/>
              </a:rPr>
              <a:t>鹓鶵</a:t>
            </a:r>
            <a:r>
              <a:rPr b="1" lang="en-US" sz="3800" spc="-1" strike="noStrike">
                <a:solidFill>
                  <a:srgbClr val="000000"/>
                </a:solidFill>
                <a:latin typeface="Calibri"/>
                <a:ea typeface="隶书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604760" y="90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65028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有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346640" y="242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取代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120000" y="2421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动词，做宰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050920" y="5445000"/>
            <a:ext cx="7704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古代传说中像凤凰一类的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418800" y="4292640"/>
            <a:ext cx="24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yuān ch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930840" y="3860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隶书"/>
              </a:rPr>
              <a:t>国都、京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6" descr="beij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94920" y="189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子知之乎？夫鹓鶵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发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于南海，而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于北海，非梧桐不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止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，非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练实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食，非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醴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不饮。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于是鸱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得腐鼠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鹓鶵过之，仰而视之曰：‘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吓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！’今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欲以子之梁国而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隶书"/>
              </a:rPr>
              <a:t>吓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隶书"/>
              </a:rPr>
              <a:t>我邪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20056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725360" y="76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出发，起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86280" y="213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栖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859280" y="2205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竹实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竹子所结的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39220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619280" y="350028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甘泉，甜美的泉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195640" y="270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隶书"/>
                <a:ea typeface="隶书"/>
              </a:rPr>
              <a:t>l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664880" y="3573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在这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320880" y="3573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猫头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652360" y="270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隶书"/>
                <a:ea typeface="隶书"/>
              </a:rPr>
              <a:t>ch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549840" y="414972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  <a:ea typeface="宋体"/>
              </a:rPr>
              <a:t>h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5240880" y="5013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隶书"/>
              </a:rPr>
              <a:t>拟声词，模仿鸱发怒的声音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483800" y="566100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h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è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作动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beij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比喻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鹓鶵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鸱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腐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既表明自己的立场和志趣，又极其辛辣地讽刺了惠子醉心于功名利禄且无端猜忌别人的丑态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003640" y="476280"/>
            <a:ext cx="3024360" cy="28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43280" y="105264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黑体"/>
              </a:rPr>
              <a:t>自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843280" y="177336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黑体"/>
              </a:rPr>
              <a:t>惠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771640" y="24922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黑体"/>
              </a:rPr>
              <a:t>功名利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681280" y="404640"/>
            <a:ext cx="51181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alibri"/>
                <a:ea typeface="隶书"/>
              </a:rPr>
              <a:t>尖锐深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alibri"/>
                <a:ea typeface="隶书"/>
              </a:rPr>
              <a:t>巧妙贴切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Calibri"/>
                <a:ea typeface="隶书"/>
              </a:rPr>
              <a:t>余味不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beij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84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1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黑体"/>
              </a:rPr>
              <a:t>惠子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1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醉心于功名富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1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对朋友薄情寡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1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alibri"/>
                <a:ea typeface="黑体"/>
              </a:rPr>
              <a:t>庄子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1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清高自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1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黑体"/>
              </a:rPr>
              <a:t>机智幽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1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3zhuang"/>
          <p:cNvPicPr/>
          <p:nvPr/>
        </p:nvPicPr>
        <p:blipFill>
          <a:blip r:embed="rId2"/>
          <a:stretch/>
        </p:blipFill>
        <p:spPr>
          <a:xfrm>
            <a:off x="5867280" y="3645000"/>
            <a:ext cx="3130560" cy="3213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435640" y="981000"/>
            <a:ext cx="504720" cy="3888000"/>
          </a:xfrm>
          <a:custGeom>
            <a:avLst/>
            <a:gdLst>
              <a:gd name="textAreaLeft" fmla="*/ 67320 w 504720"/>
              <a:gd name="textAreaRight" fmla="*/ 437400 w 504720"/>
              <a:gd name="textAreaTop" fmla="*/ 680400 h 3888000"/>
              <a:gd name="textAreaBottom" fmla="*/ 2818800 h 38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WordArt 5"/>
          <p:cNvSpPr txBox="1"/>
          <p:nvPr/>
        </p:nvSpPr>
        <p:spPr>
          <a:xfrm rot="5400000">
            <a:off x="4970880" y="2091600"/>
            <a:ext cx="330516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鲜明对比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beij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Calibri"/>
              </a:rPr>
              <a:t>文章的美点（第一则）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17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情节出人意料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朋友来贺，不喜却疑；搜捕在即，不躲自迎；义愤填膺，泰然相答；委婉相叙，一针见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人物形象鲜明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惠子利欲熏心，庄子清高自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比喻巧妙贴切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巧借鹓鶵故事尖锐地批评了惠子的卑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描摹生动传神。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鸱卫护“腐鼠”，丑态十足，让人如见其形，如闻其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8198"/>
          <p:cNvSpPr/>
          <p:nvPr/>
        </p:nvSpPr>
        <p:spPr>
          <a:xfrm>
            <a:off x="900000" y="1341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4442-7D28-4589-80DE-0D35DABD8C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1T01:2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27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