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gif" ContentType="image/gif"/>
  <Override PartName="/ppt/media/image4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4.jpeg" ContentType="image/jpeg"/>
  <Override PartName="/ppt/media/image42.jpeg" ContentType="image/jpeg"/>
  <Override PartName="/ppt/media/image51.png" ContentType="image/png"/>
  <Override PartName="/ppt/media/image39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6.png" ContentType="image/png"/>
  <Override PartName="/ppt/media/image48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47.jpeg" ContentType="image/jpeg"/>
  <Override PartName="/ppt/media/image52.jpeg" ContentType="image/jpeg"/>
  <Override PartName="/ppt/media/image3.png" ContentType="image/png"/>
  <Override PartName="/ppt/media/image33.png" ContentType="image/png"/>
  <Override PartName="/ppt/media/image32.jpeg" ContentType="image/jpeg"/>
  <Override PartName="/ppt/media/image5.jpeg" ContentType="image/jpeg"/>
  <Override PartName="/ppt/media/image31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12A-E5B6-457A-95D6-B8A3EADF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B05-8C22-4287-A8DD-CAE2F0D7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BCD-7EBE-4370-8787-B6060C46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588-E29C-47D9-B01C-115AD3C3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D412-70CB-4830-8CD9-84681113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E6B5-05D9-4F27-B4FD-A10BA607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0F71-0005-4DB9-A74E-1740FAF3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1D11-36B8-4EA1-990F-72010C5D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5E31-FFA4-4E82-B9CA-815825BA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71FE-D449-45CA-A3AF-354C5981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81C6-D3E5-4C05-809D-39F3FD09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E99-2BC4-4D17-B6D0-E2E265C1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E73D-7D39-4DA3-AD07-F6488B31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605E-F7EB-483F-95B7-7E48F80E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44CD-8EF6-4E22-A728-E43B2370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CD28-AE68-4112-89B9-08DD82A1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D8AE-35E0-4940-B0DD-7065F4E8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D5D-354F-455F-BB09-C830DB47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77E-4EFF-4C2C-8464-59F48A03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0BA-BD60-4882-A1C8-1BF1BDA1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DB1-888A-4953-9FB7-EAC2E4E3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BB6-F26C-4970-BB0D-22E18484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7A9-A31C-48F9-9D2C-D271246D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060-141C-4F38-897F-397941A6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83D-C79B-4B8A-86CC-3CDF0CB29C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1727-2762-4DCA-8E18-EEE05E6F13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-1,4,&#21335;&#21271;&#26497;&#26223;&#35266;&#21644;&#21160;&#29289;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138320" y="1143000"/>
            <a:ext cx="67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极地地区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打包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10"/>
          <p:cNvPicPr/>
          <p:nvPr/>
        </p:nvPicPr>
        <p:blipFill>
          <a:blip r:embed="rId1"/>
          <a:stretch/>
        </p:blipFill>
        <p:spPr>
          <a:xfrm>
            <a:off x="2666880" y="838080"/>
            <a:ext cx="6299280" cy="5894640"/>
          </a:xfrm>
          <a:prstGeom prst="rect">
            <a:avLst/>
          </a:prstGeom>
          <a:ln w="0">
            <a:noFill/>
          </a:ln>
        </p:spPr>
      </p:pic>
      <p:sp>
        <p:nvSpPr>
          <p:cNvPr id="154" name="Oval 7"/>
          <p:cNvSpPr/>
          <p:nvPr/>
        </p:nvSpPr>
        <p:spPr>
          <a:xfrm>
            <a:off x="3429000" y="1523880"/>
            <a:ext cx="4498920" cy="449892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6"/>
          <p:cNvGrpSpPr/>
          <p:nvPr/>
        </p:nvGrpSpPr>
        <p:grpSpPr>
          <a:xfrm>
            <a:off x="5714640" y="685800"/>
            <a:ext cx="2634840" cy="3060360"/>
            <a:chOff x="5714640" y="685800"/>
            <a:chExt cx="2634840" cy="3060360"/>
          </a:xfrm>
        </p:grpSpPr>
        <p:grpSp>
          <p:nvGrpSpPr>
            <p:cNvPr id="156" name=""/>
            <p:cNvGrpSpPr/>
            <p:nvPr/>
          </p:nvGrpSpPr>
          <p:grpSpPr>
            <a:xfrm>
              <a:off x="5714640" y="866520"/>
              <a:ext cx="1710000" cy="2879640"/>
              <a:chOff x="5714640" y="866520"/>
              <a:chExt cx="1710000" cy="2879640"/>
            </a:xfrm>
          </p:grpSpPr>
          <p:sp>
            <p:nvSpPr>
              <p:cNvPr id="157" name="Line 8"/>
              <p:cNvSpPr/>
              <p:nvPr/>
            </p:nvSpPr>
            <p:spPr>
              <a:xfrm flipV="1">
                <a:off x="5715000" y="866520"/>
                <a:ext cx="1709640" cy="2879640"/>
              </a:xfrm>
              <a:prstGeom prst="line">
                <a:avLst/>
              </a:prstGeom>
              <a:ln w="57240">
                <a:solidFill>
                  <a:srgbClr val="0099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 rot="10800000">
                <a:off x="5714640" y="866520"/>
                <a:ext cx="170964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9"/>
            <p:cNvSpPr/>
            <p:nvPr/>
          </p:nvSpPr>
          <p:spPr>
            <a:xfrm>
              <a:off x="7680960" y="685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中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11"/>
          <p:cNvSpPr/>
          <p:nvPr/>
        </p:nvSpPr>
        <p:spPr>
          <a:xfrm>
            <a:off x="4495680" y="4572000"/>
            <a:ext cx="98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半    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52280" y="152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三大洋方法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南极半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尖端对着南美洲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西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太平洋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东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西洋（顺时针方向）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尖端反方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印度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18"/>
          <p:cNvGrpSpPr/>
          <p:nvPr/>
        </p:nvGrpSpPr>
        <p:grpSpPr>
          <a:xfrm>
            <a:off x="2469600" y="3124080"/>
            <a:ext cx="6590520" cy="3582720"/>
            <a:chOff x="2469600" y="3124080"/>
            <a:chExt cx="6590520" cy="3582720"/>
          </a:xfrm>
        </p:grpSpPr>
        <p:grpSp>
          <p:nvGrpSpPr>
            <p:cNvPr id="163" name="Group 15"/>
            <p:cNvGrpSpPr/>
            <p:nvPr/>
          </p:nvGrpSpPr>
          <p:grpSpPr>
            <a:xfrm>
              <a:off x="2469600" y="3124080"/>
              <a:ext cx="6174360" cy="3582720"/>
              <a:chOff x="2469600" y="3124080"/>
              <a:chExt cx="6174360" cy="3582720"/>
            </a:xfrm>
          </p:grpSpPr>
          <p:sp>
            <p:nvSpPr>
              <p:cNvPr id="164" name="Freeform 13"/>
              <p:cNvSpPr/>
              <p:nvPr/>
            </p:nvSpPr>
            <p:spPr>
              <a:xfrm>
                <a:off x="2735280" y="3860640"/>
                <a:ext cx="5908680" cy="2846160"/>
              </a:xfrm>
              <a:custGeom>
                <a:avLst/>
                <a:gdLst/>
                <a:ahLst/>
                <a:rect l="l" t="t" r="r" b="b"/>
                <a:pathLst>
                  <a:path w="3722" h="1793">
                    <a:moveTo>
                      <a:pt x="3722" y="0"/>
                    </a:moveTo>
                    <a:cubicBezTo>
                      <a:pt x="3717" y="50"/>
                      <a:pt x="3709" y="214"/>
                      <a:pt x="3694" y="302"/>
                    </a:cubicBezTo>
                    <a:cubicBezTo>
                      <a:pt x="3679" y="390"/>
                      <a:pt x="3662" y="433"/>
                      <a:pt x="3630" y="530"/>
                    </a:cubicBezTo>
                    <a:cubicBezTo>
                      <a:pt x="3598" y="627"/>
                      <a:pt x="3565" y="774"/>
                      <a:pt x="3502" y="887"/>
                    </a:cubicBezTo>
                    <a:cubicBezTo>
                      <a:pt x="3439" y="1000"/>
                      <a:pt x="3357" y="1105"/>
                      <a:pt x="3255" y="1207"/>
                    </a:cubicBezTo>
                    <a:cubicBezTo>
                      <a:pt x="3153" y="1309"/>
                      <a:pt x="3012" y="1424"/>
                      <a:pt x="2890" y="1500"/>
                    </a:cubicBezTo>
                    <a:cubicBezTo>
                      <a:pt x="2768" y="1576"/>
                      <a:pt x="2702" y="1615"/>
                      <a:pt x="2524" y="1664"/>
                    </a:cubicBezTo>
                    <a:cubicBezTo>
                      <a:pt x="2346" y="1713"/>
                      <a:pt x="2041" y="1791"/>
                      <a:pt x="1820" y="1792"/>
                    </a:cubicBezTo>
                    <a:cubicBezTo>
                      <a:pt x="1599" y="1793"/>
                      <a:pt x="1375" y="1732"/>
                      <a:pt x="1198" y="1673"/>
                    </a:cubicBezTo>
                    <a:cubicBezTo>
                      <a:pt x="1021" y="1614"/>
                      <a:pt x="899" y="1539"/>
                      <a:pt x="759" y="1436"/>
                    </a:cubicBezTo>
                    <a:cubicBezTo>
                      <a:pt x="619" y="1333"/>
                      <a:pt x="460" y="1183"/>
                      <a:pt x="357" y="1052"/>
                    </a:cubicBezTo>
                    <a:cubicBezTo>
                      <a:pt x="254" y="921"/>
                      <a:pt x="197" y="824"/>
                      <a:pt x="138" y="649"/>
                    </a:cubicBezTo>
                    <a:cubicBezTo>
                      <a:pt x="79" y="474"/>
                      <a:pt x="29" y="135"/>
                      <a:pt x="0" y="0"/>
                    </a:cubicBezTo>
                  </a:path>
                </a:pathLst>
              </a:custGeom>
              <a:noFill/>
              <a:ln w="57240">
                <a:solidFill>
                  <a:srgbClr val="0099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Text Box 14"/>
              <p:cNvSpPr/>
              <p:nvPr/>
            </p:nvSpPr>
            <p:spPr>
              <a:xfrm>
                <a:off x="2469600" y="31240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东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7"/>
            <p:cNvSpPr/>
            <p:nvPr/>
          </p:nvSpPr>
          <p:spPr>
            <a:xfrm>
              <a:off x="8635680" y="32382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西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17"/>
          <p:cNvSpPr/>
          <p:nvPr/>
        </p:nvSpPr>
        <p:spPr>
          <a:xfrm>
            <a:off x="5394600" y="22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极地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662040" y="2819160"/>
            <a:ext cx="12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向判断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南外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顺东逆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5625000" y="5943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平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3273120" y="3505320"/>
            <a:ext cx="39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5015520" y="1066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度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5482800" y="35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8007840" y="3505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6778440" y="49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702120" y="21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1"/>
          <p:cNvSpPr/>
          <p:nvPr/>
        </p:nvSpPr>
        <p:spPr>
          <a:xfrm>
            <a:off x="5867280" y="3733920"/>
            <a:ext cx="2210040" cy="152280"/>
          </a:xfrm>
          <a:prstGeom prst="leftRightArrow">
            <a:avLst>
              <a:gd name="adj1" fmla="val 50000"/>
              <a:gd name="adj2" fmla="val 2902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33"/>
          <p:cNvSpPr/>
          <p:nvPr/>
        </p:nvSpPr>
        <p:spPr>
          <a:xfrm>
            <a:off x="6248520" y="2590920"/>
            <a:ext cx="855720" cy="2333520"/>
          </a:xfrm>
          <a:custGeom>
            <a:avLst/>
            <a:gdLst/>
            <a:ahLst/>
            <a:rect l="l" t="t" r="r" b="b"/>
            <a:pathLst>
              <a:path fill="none" w="21600" h="42062">
                <a:moveTo>
                  <a:pt x="3118" y="0"/>
                </a:moveTo>
                <a:cubicBezTo>
                  <a:pt x="13731" y="1548"/>
                  <a:pt x="21600" y="10649"/>
                  <a:pt x="21600" y="21374"/>
                </a:cubicBezTo>
                <a:cubicBezTo>
                  <a:pt x="21600" y="30911"/>
                  <a:pt x="15345" y="39319"/>
                  <a:pt x="6210" y="42061"/>
                </a:cubicBezTo>
              </a:path>
              <a:path stroke="0" w="21600" h="42062">
                <a:moveTo>
                  <a:pt x="3118" y="0"/>
                </a:moveTo>
                <a:cubicBezTo>
                  <a:pt x="13731" y="1548"/>
                  <a:pt x="21600" y="10649"/>
                  <a:pt x="21600" y="21374"/>
                </a:cubicBezTo>
                <a:cubicBezTo>
                  <a:pt x="21600" y="30911"/>
                  <a:pt x="15345" y="39319"/>
                  <a:pt x="6210" y="42061"/>
                </a:cubicBezTo>
                <a:lnTo>
                  <a:pt x="0" y="21374"/>
                </a:lnTo>
                <a:lnTo>
                  <a:pt x="3118" y="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"/>
                            </p:stCondLst>
                            <p:childTnLst>
                              <p:par>
                                <p:cTn id="146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10"/>
          <p:cNvPicPr/>
          <p:nvPr/>
        </p:nvPicPr>
        <p:blipFill>
          <a:blip r:embed="rId1"/>
          <a:stretch/>
        </p:blipFill>
        <p:spPr>
          <a:xfrm>
            <a:off x="2730600" y="274680"/>
            <a:ext cx="6072120" cy="5851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48160" y="456840"/>
            <a:ext cx="2361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穿越南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天使2"/>
          <p:cNvPicPr/>
          <p:nvPr/>
        </p:nvPicPr>
        <p:blipFill>
          <a:blip r:embed="rId2"/>
          <a:stretch/>
        </p:blipFill>
        <p:spPr>
          <a:xfrm flipH="1">
            <a:off x="7991280" y="2843280"/>
            <a:ext cx="811080" cy="7617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3"/>
          <p:cNvSpPr/>
          <p:nvPr/>
        </p:nvSpPr>
        <p:spPr>
          <a:xfrm>
            <a:off x="7105320" y="274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探险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236520" y="279360"/>
            <a:ext cx="2457360" cy="4316760"/>
            <a:chOff x="236520" y="279360"/>
            <a:chExt cx="2457360" cy="4316760"/>
          </a:xfrm>
        </p:grpSpPr>
        <p:pic>
          <p:nvPicPr>
            <p:cNvPr id="183" name="Picture 9" descr="阿蒙森塑像"/>
            <p:cNvPicPr/>
            <p:nvPr/>
          </p:nvPicPr>
          <p:blipFill>
            <a:blip r:embed="rId3"/>
            <a:stretch/>
          </p:blipFill>
          <p:spPr>
            <a:xfrm>
              <a:off x="236520" y="279360"/>
              <a:ext cx="245736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/>
            <p:cNvSpPr/>
            <p:nvPr/>
          </p:nvSpPr>
          <p:spPr>
            <a:xfrm>
              <a:off x="726120" y="40147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阿蒙森塑像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>
            <a:off x="1913040" y="1224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城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3029040" y="161460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6318360" y="2263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中山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7434360" y="2654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16640" y="2437920"/>
            <a:ext cx="3286080" cy="892440"/>
            <a:chOff x="5516640" y="2437920"/>
            <a:chExt cx="3286080" cy="892440"/>
          </a:xfrm>
        </p:grpSpPr>
        <p:sp>
          <p:nvSpPr>
            <p:cNvPr id="190" name="Line 20"/>
            <p:cNvSpPr/>
            <p:nvPr/>
          </p:nvSpPr>
          <p:spPr>
            <a:xfrm flipV="1">
              <a:off x="5516640" y="2437920"/>
              <a:ext cx="3286080" cy="892440"/>
            </a:xfrm>
            <a:prstGeom prst="line">
              <a:avLst/>
            </a:prstGeom>
            <a:ln w="57240">
              <a:solidFill>
                <a:srgbClr val="3333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 rot="10800000">
              <a:off x="5516640" y="2437920"/>
              <a:ext cx="3286080" cy="89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Freeform 23"/>
          <p:cNvSpPr/>
          <p:nvPr/>
        </p:nvSpPr>
        <p:spPr>
          <a:xfrm>
            <a:off x="3514680" y="1488960"/>
            <a:ext cx="4164120" cy="4111920"/>
          </a:xfrm>
          <a:custGeom>
            <a:avLst/>
            <a:gdLst/>
            <a:ahLst/>
            <a:rect l="l" t="t" r="r" b="b"/>
            <a:pathLst>
              <a:path w="2623" h="2590">
                <a:moveTo>
                  <a:pt x="0" y="700"/>
                </a:moveTo>
                <a:cubicBezTo>
                  <a:pt x="96" y="616"/>
                  <a:pt x="366" y="310"/>
                  <a:pt x="575" y="196"/>
                </a:cubicBezTo>
                <a:cubicBezTo>
                  <a:pt x="784" y="82"/>
                  <a:pt x="1033" y="26"/>
                  <a:pt x="1251" y="13"/>
                </a:cubicBezTo>
                <a:cubicBezTo>
                  <a:pt x="1469" y="0"/>
                  <a:pt x="1717" y="54"/>
                  <a:pt x="1885" y="116"/>
                </a:cubicBezTo>
                <a:cubicBezTo>
                  <a:pt x="2053" y="178"/>
                  <a:pt x="2152" y="283"/>
                  <a:pt x="2257" y="388"/>
                </a:cubicBezTo>
                <a:cubicBezTo>
                  <a:pt x="2362" y="493"/>
                  <a:pt x="2452" y="605"/>
                  <a:pt x="2513" y="744"/>
                </a:cubicBezTo>
                <a:cubicBezTo>
                  <a:pt x="2574" y="883"/>
                  <a:pt x="2623" y="1048"/>
                  <a:pt x="2622" y="1222"/>
                </a:cubicBezTo>
                <a:cubicBezTo>
                  <a:pt x="2621" y="1396"/>
                  <a:pt x="2589" y="1615"/>
                  <a:pt x="2509" y="1789"/>
                </a:cubicBezTo>
                <a:cubicBezTo>
                  <a:pt x="2429" y="1963"/>
                  <a:pt x="2292" y="2144"/>
                  <a:pt x="2142" y="2266"/>
                </a:cubicBezTo>
                <a:cubicBezTo>
                  <a:pt x="1992" y="2388"/>
                  <a:pt x="1751" y="2466"/>
                  <a:pt x="1607" y="2518"/>
                </a:cubicBezTo>
                <a:cubicBezTo>
                  <a:pt x="1463" y="2570"/>
                  <a:pt x="1332" y="2564"/>
                  <a:pt x="1280" y="2576"/>
                </a:cubicBezTo>
                <a:cubicBezTo>
                  <a:pt x="1228" y="2588"/>
                  <a:pt x="1293" y="2587"/>
                  <a:pt x="1296" y="259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5653440" y="3090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8357040" y="180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黑体"/>
              </a:rPr>
              <a:t>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3451680" y="243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5386680" y="5094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东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3994560" y="60958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长城站在中山站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西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方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818280" y="4876560"/>
            <a:ext cx="12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向判断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南外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顺东逆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44 0.0412 L -0.15174 0.06088 L -0.18629 0.07384 L -0.26493 0.0412 L -0.31424 0.01481 L -0.38802 0.00833 L -0.45208 0.01481 L -0.4717 0.00185 L -0.4816 -0.01134 L -0.48646 -0.0507 L -0.49132 -0.08357 L -0.49635 -0.10949 L -0.53559 -0.13588 L -0.56024 -0.16852 L -0.5849 -0.21458 E">
                                      <p:cBhvr>
                                        <p:cTn id="234" dur="1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10"/>
          <p:cNvPicPr/>
          <p:nvPr/>
        </p:nvPicPr>
        <p:blipFill>
          <a:blip r:embed="rId1"/>
          <a:stretch/>
        </p:blipFill>
        <p:spPr>
          <a:xfrm>
            <a:off x="2590920" y="228600"/>
            <a:ext cx="6167160" cy="5959440"/>
          </a:xfrm>
          <a:prstGeom prst="rect">
            <a:avLst/>
          </a:prstGeom>
          <a:ln w="0">
            <a:noFill/>
          </a:ln>
        </p:spPr>
      </p:pic>
      <p:sp>
        <p:nvSpPr>
          <p:cNvPr id="200" name="Oval 8"/>
          <p:cNvSpPr/>
          <p:nvPr/>
        </p:nvSpPr>
        <p:spPr>
          <a:xfrm>
            <a:off x="3222720" y="642960"/>
            <a:ext cx="5006880" cy="5084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3321360" y="3048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黄河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4437000" y="3438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09480" y="913680"/>
            <a:ext cx="1981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向判断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内北外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顺西逆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4724280" y="762120"/>
            <a:ext cx="1981440" cy="22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9571" y="4590"/>
                </a:lnTo>
                <a:lnTo>
                  <a:pt x="10610" y="4590"/>
                </a:lnTo>
                <a:lnTo>
                  <a:pt x="10610" y="10610"/>
                </a:lnTo>
                <a:lnTo>
                  <a:pt x="4590" y="10610"/>
                </a:lnTo>
                <a:lnTo>
                  <a:pt x="4590" y="9571"/>
                </a:lnTo>
                <a:lnTo>
                  <a:pt x="0" y="10800"/>
                </a:lnTo>
                <a:lnTo>
                  <a:pt x="4590" y="12029"/>
                </a:lnTo>
                <a:lnTo>
                  <a:pt x="4590" y="10990"/>
                </a:lnTo>
                <a:lnTo>
                  <a:pt x="10610" y="10990"/>
                </a:lnTo>
                <a:lnTo>
                  <a:pt x="10610" y="17010"/>
                </a:lnTo>
                <a:lnTo>
                  <a:pt x="9571" y="17010"/>
                </a:lnTo>
                <a:lnTo>
                  <a:pt x="10800" y="21600"/>
                </a:lnTo>
                <a:lnTo>
                  <a:pt x="12029" y="17010"/>
                </a:lnTo>
                <a:lnTo>
                  <a:pt x="10990" y="17010"/>
                </a:lnTo>
                <a:lnTo>
                  <a:pt x="10990" y="10990"/>
                </a:lnTo>
                <a:lnTo>
                  <a:pt x="17010" y="10990"/>
                </a:lnTo>
                <a:lnTo>
                  <a:pt x="17010" y="12029"/>
                </a:lnTo>
                <a:lnTo>
                  <a:pt x="21600" y="10800"/>
                </a:lnTo>
                <a:lnTo>
                  <a:pt x="17010" y="9571"/>
                </a:lnTo>
                <a:lnTo>
                  <a:pt x="17010" y="10610"/>
                </a:lnTo>
                <a:lnTo>
                  <a:pt x="10990" y="10610"/>
                </a:lnTo>
                <a:lnTo>
                  <a:pt x="10990" y="4590"/>
                </a:lnTo>
                <a:lnTo>
                  <a:pt x="12029" y="459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5569200" y="299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5559120" y="304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6788520" y="1623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4273920" y="1547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4"/>
          <p:cNvSpPr/>
          <p:nvPr/>
        </p:nvSpPr>
        <p:spPr>
          <a:xfrm>
            <a:off x="4724280" y="3505320"/>
            <a:ext cx="1981440" cy="22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9571" y="4590"/>
                </a:lnTo>
                <a:lnTo>
                  <a:pt x="10610" y="4590"/>
                </a:lnTo>
                <a:lnTo>
                  <a:pt x="10610" y="10610"/>
                </a:lnTo>
                <a:lnTo>
                  <a:pt x="4590" y="10610"/>
                </a:lnTo>
                <a:lnTo>
                  <a:pt x="4590" y="9571"/>
                </a:lnTo>
                <a:lnTo>
                  <a:pt x="0" y="10800"/>
                </a:lnTo>
                <a:lnTo>
                  <a:pt x="4590" y="12029"/>
                </a:lnTo>
                <a:lnTo>
                  <a:pt x="4590" y="10990"/>
                </a:lnTo>
                <a:lnTo>
                  <a:pt x="10610" y="10990"/>
                </a:lnTo>
                <a:lnTo>
                  <a:pt x="10610" y="17010"/>
                </a:lnTo>
                <a:lnTo>
                  <a:pt x="9571" y="17010"/>
                </a:lnTo>
                <a:lnTo>
                  <a:pt x="10800" y="21600"/>
                </a:lnTo>
                <a:lnTo>
                  <a:pt x="12029" y="17010"/>
                </a:lnTo>
                <a:lnTo>
                  <a:pt x="10990" y="17010"/>
                </a:lnTo>
                <a:lnTo>
                  <a:pt x="10990" y="10990"/>
                </a:lnTo>
                <a:lnTo>
                  <a:pt x="17010" y="10990"/>
                </a:lnTo>
                <a:lnTo>
                  <a:pt x="17010" y="12029"/>
                </a:lnTo>
                <a:lnTo>
                  <a:pt x="21600" y="10800"/>
                </a:lnTo>
                <a:lnTo>
                  <a:pt x="17010" y="9571"/>
                </a:lnTo>
                <a:lnTo>
                  <a:pt x="17010" y="10610"/>
                </a:lnTo>
                <a:lnTo>
                  <a:pt x="10990" y="10610"/>
                </a:lnTo>
                <a:lnTo>
                  <a:pt x="10990" y="4590"/>
                </a:lnTo>
                <a:lnTo>
                  <a:pt x="12029" y="459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5493240" y="573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4273920" y="436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6788520" y="436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28"/>
          <p:cNvSpPr/>
          <p:nvPr/>
        </p:nvSpPr>
        <p:spPr>
          <a:xfrm>
            <a:off x="6324480" y="2057400"/>
            <a:ext cx="1981440" cy="22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9571" y="4590"/>
                </a:lnTo>
                <a:lnTo>
                  <a:pt x="10610" y="4590"/>
                </a:lnTo>
                <a:lnTo>
                  <a:pt x="10610" y="10610"/>
                </a:lnTo>
                <a:lnTo>
                  <a:pt x="4590" y="10610"/>
                </a:lnTo>
                <a:lnTo>
                  <a:pt x="4590" y="9571"/>
                </a:lnTo>
                <a:lnTo>
                  <a:pt x="0" y="10800"/>
                </a:lnTo>
                <a:lnTo>
                  <a:pt x="4590" y="12029"/>
                </a:lnTo>
                <a:lnTo>
                  <a:pt x="4590" y="10990"/>
                </a:lnTo>
                <a:lnTo>
                  <a:pt x="10610" y="10990"/>
                </a:lnTo>
                <a:lnTo>
                  <a:pt x="10610" y="17010"/>
                </a:lnTo>
                <a:lnTo>
                  <a:pt x="9571" y="17010"/>
                </a:lnTo>
                <a:lnTo>
                  <a:pt x="10800" y="21600"/>
                </a:lnTo>
                <a:lnTo>
                  <a:pt x="12029" y="17010"/>
                </a:lnTo>
                <a:lnTo>
                  <a:pt x="10990" y="17010"/>
                </a:lnTo>
                <a:lnTo>
                  <a:pt x="10990" y="10990"/>
                </a:lnTo>
                <a:lnTo>
                  <a:pt x="17010" y="10990"/>
                </a:lnTo>
                <a:lnTo>
                  <a:pt x="17010" y="12029"/>
                </a:lnTo>
                <a:lnTo>
                  <a:pt x="21600" y="10800"/>
                </a:lnTo>
                <a:lnTo>
                  <a:pt x="17010" y="9571"/>
                </a:lnTo>
                <a:lnTo>
                  <a:pt x="17010" y="10610"/>
                </a:lnTo>
                <a:lnTo>
                  <a:pt x="10990" y="10610"/>
                </a:lnTo>
                <a:lnTo>
                  <a:pt x="10990" y="4590"/>
                </a:lnTo>
                <a:lnTo>
                  <a:pt x="12029" y="459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843480" y="15084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北极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733920" y="19810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36597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572000" y="243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46501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388836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3733920" y="419112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304920" y="2438280"/>
            <a:ext cx="22287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位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方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位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方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0"/>
          <p:cNvSpPr/>
          <p:nvPr/>
        </p:nvSpPr>
        <p:spPr>
          <a:xfrm>
            <a:off x="834840" y="27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834840" y="3505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304920" y="40384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位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位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3"/>
          <p:cNvSpPr/>
          <p:nvPr/>
        </p:nvSpPr>
        <p:spPr>
          <a:xfrm>
            <a:off x="205380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758520" y="472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28600" y="5410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位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）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2277720" y="5334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73960" y="6019920"/>
            <a:ext cx="41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河站点位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）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3268080" y="594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"/>
                            </p:stCondLst>
                            <p:childTnLst>
                              <p:par>
                                <p:cTn id="354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0"/>
          <p:cNvSpPr/>
          <p:nvPr/>
        </p:nvSpPr>
        <p:spPr>
          <a:xfrm>
            <a:off x="457200" y="685800"/>
            <a:ext cx="784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二、科学考察的宝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5715000" y="1752480"/>
            <a:ext cx="3124080" cy="25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年代以来，许多国家先后派出科学考察船或科学考察队，到南极地区进行考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目前，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多个国家在南极地区建立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多个科学考察实验站，每年暖季在南极基地上活动的人数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多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7" descr="Img255657517"/>
          <p:cNvPicPr/>
          <p:nvPr/>
        </p:nvPicPr>
        <p:blipFill>
          <a:blip r:embed="rId2"/>
          <a:stretch/>
        </p:blipFill>
        <p:spPr>
          <a:xfrm>
            <a:off x="304920" y="1981080"/>
            <a:ext cx="5257800" cy="419112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8200"/>
          <p:cNvSpPr/>
          <p:nvPr/>
        </p:nvSpPr>
        <p:spPr>
          <a:xfrm>
            <a:off x="717480" y="1486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5105520" y="762120"/>
            <a:ext cx="38098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极地区地下埋藏着丰富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矿产资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地上储存着大量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固体淡水资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海域及沿岸栖息着无数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海洋生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丰富的自然资源和原始的自然环境，为科学家们进行地质、冰川、海洋、生物、气象、天文等学科的科学研究，提供了领域广阔的天然实验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0" descr="xin_16120425065808990725"/>
          <p:cNvPicPr/>
          <p:nvPr/>
        </p:nvPicPr>
        <p:blipFill>
          <a:blip r:embed="rId3"/>
          <a:stretch/>
        </p:blipFill>
        <p:spPr>
          <a:xfrm>
            <a:off x="304920" y="380880"/>
            <a:ext cx="4495680" cy="3060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6688080" y="6019920"/>
            <a:ext cx="16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9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图片 1" descr=""/>
          <p:cNvPicPr/>
          <p:nvPr/>
        </p:nvPicPr>
        <p:blipFill>
          <a:blip r:embed="rId4"/>
          <a:stretch/>
        </p:blipFill>
        <p:spPr>
          <a:xfrm>
            <a:off x="304920" y="3597120"/>
            <a:ext cx="4492440" cy="2895840"/>
          </a:xfrm>
          <a:prstGeom prst="rect">
            <a:avLst/>
          </a:prstGeom>
          <a:ln w="0">
            <a:noFill/>
          </a:ln>
        </p:spPr>
      </p:pic>
      <p:pic>
        <p:nvPicPr>
          <p:cNvPr id="241" name="DefaultOcx" descr=""/>
          <p:cNvPicPr/>
          <p:nvPr/>
        </p:nvPicPr>
        <p:blipFill>
          <a:blip r:embed="rId5"/>
          <a:stretch/>
        </p:blipFill>
        <p:spPr>
          <a:xfrm>
            <a:off x="2297160" y="2347920"/>
            <a:ext cx="9144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5"/>
          <p:cNvSpPr/>
          <p:nvPr/>
        </p:nvSpPr>
        <p:spPr>
          <a:xfrm>
            <a:off x="5638680" y="762120"/>
            <a:ext cx="32004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北极地区大规模的科学考察开始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代末，其规模远远超过南极地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极地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资源丰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随着这里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石油、天然气、煤、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资源的发现和开采，人类对北极地区的科学考察和研究也越来越频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8" descr="4437e6581ca60fff4ad107"/>
          <p:cNvPicPr/>
          <p:nvPr/>
        </p:nvPicPr>
        <p:blipFill>
          <a:blip r:embed="rId3"/>
          <a:stretch/>
        </p:blipFill>
        <p:spPr>
          <a:xfrm>
            <a:off x="228600" y="304920"/>
            <a:ext cx="5181480" cy="3225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9" descr="中国建立首个南极特别保护区"/>
          <p:cNvPicPr/>
          <p:nvPr/>
        </p:nvPicPr>
        <p:blipFill>
          <a:blip r:embed="rId4"/>
          <a:stretch/>
        </p:blipFill>
        <p:spPr>
          <a:xfrm>
            <a:off x="228600" y="3733920"/>
            <a:ext cx="5181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2"/>
          <p:cNvSpPr/>
          <p:nvPr/>
        </p:nvSpPr>
        <p:spPr>
          <a:xfrm>
            <a:off x="5029200" y="838080"/>
            <a:ext cx="3886200" cy="34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我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极考察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城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耸立在南极洲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乔治王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土地上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我国首次东南极考察队经过不懈努力，在南极大陆上建立了规模壮观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山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我国北极科学考察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黄河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在北冰洋斯瓦尔巴群岛正式落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我国首个南极内陆考察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昆仑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式开站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68580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极地科学考察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8"/>
          <p:cNvGrpSpPr/>
          <p:nvPr/>
        </p:nvGrpSpPr>
        <p:grpSpPr>
          <a:xfrm>
            <a:off x="152280" y="1752480"/>
            <a:ext cx="4800240" cy="4637880"/>
            <a:chOff x="152280" y="1752480"/>
            <a:chExt cx="4800240" cy="4637880"/>
          </a:xfrm>
        </p:grpSpPr>
        <p:sp>
          <p:nvSpPr>
            <p:cNvPr id="250" name="Rectangle 36"/>
            <p:cNvSpPr/>
            <p:nvPr/>
          </p:nvSpPr>
          <p:spPr>
            <a:xfrm>
              <a:off x="837720" y="5869800"/>
              <a:ext cx="382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我国南极科学考察站分布图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Picture 7" descr=""/>
            <p:cNvPicPr/>
            <p:nvPr/>
          </p:nvPicPr>
          <p:blipFill>
            <a:blip r:embed="rId3"/>
            <a:stretch/>
          </p:blipFill>
          <p:spPr>
            <a:xfrm>
              <a:off x="152280" y="1752480"/>
              <a:ext cx="4800240" cy="411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533520" y="304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的极地科学考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11"/>
          <p:cNvGrpSpPr/>
          <p:nvPr/>
        </p:nvGrpSpPr>
        <p:grpSpPr>
          <a:xfrm>
            <a:off x="304920" y="838080"/>
            <a:ext cx="4343040" cy="3585960"/>
            <a:chOff x="304920" y="838080"/>
            <a:chExt cx="4343040" cy="3585960"/>
          </a:xfrm>
        </p:grpSpPr>
        <p:pic>
          <p:nvPicPr>
            <p:cNvPr id="255" name="Picture 8" descr="长城站落成典礼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4343040" cy="30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3"/>
            <p:cNvSpPr/>
            <p:nvPr/>
          </p:nvSpPr>
          <p:spPr>
            <a:xfrm>
              <a:off x="2209680" y="3964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城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4800600" y="685800"/>
            <a:ext cx="4114440" cy="3018240"/>
            <a:chOff x="4800600" y="685800"/>
            <a:chExt cx="4114440" cy="3018240"/>
          </a:xfrm>
        </p:grpSpPr>
        <p:pic>
          <p:nvPicPr>
            <p:cNvPr id="258" name="Picture 10" descr="中山站全景"/>
            <p:cNvPicPr/>
            <p:nvPr/>
          </p:nvPicPr>
          <p:blipFill>
            <a:blip r:embed="rId4"/>
            <a:srcRect l="0" t="11363" r="0" b="0"/>
            <a:stretch/>
          </p:blipFill>
          <p:spPr>
            <a:xfrm>
              <a:off x="4800600" y="685800"/>
              <a:ext cx="4114440" cy="25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14"/>
            <p:cNvSpPr/>
            <p:nvPr/>
          </p:nvSpPr>
          <p:spPr>
            <a:xfrm>
              <a:off x="6738120" y="3244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山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13"/>
          <p:cNvGrpSpPr/>
          <p:nvPr/>
        </p:nvGrpSpPr>
        <p:grpSpPr>
          <a:xfrm>
            <a:off x="4800600" y="3733920"/>
            <a:ext cx="4114440" cy="2967120"/>
            <a:chOff x="4800600" y="3733920"/>
            <a:chExt cx="4114440" cy="2967120"/>
          </a:xfrm>
        </p:grpSpPr>
        <p:pic>
          <p:nvPicPr>
            <p:cNvPr id="261" name="Picture 12" descr="昆仑站"/>
            <p:cNvPicPr/>
            <p:nvPr/>
          </p:nvPicPr>
          <p:blipFill>
            <a:blip r:embed="rId5"/>
            <a:stretch/>
          </p:blipFill>
          <p:spPr>
            <a:xfrm>
              <a:off x="4800600" y="3733920"/>
              <a:ext cx="4114440" cy="250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5"/>
            <p:cNvSpPr/>
            <p:nvPr/>
          </p:nvSpPr>
          <p:spPr>
            <a:xfrm>
              <a:off x="6913440" y="6241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昆仑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16"/>
          <p:cNvSpPr/>
          <p:nvPr/>
        </p:nvSpPr>
        <p:spPr>
          <a:xfrm>
            <a:off x="380880" y="4419720"/>
            <a:ext cx="4191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上找出我国的长城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、中山站和昆仑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我国南极科学考察站的建站时间都选择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74920" y="6095880"/>
            <a:ext cx="2314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此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南极夏（暖）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439200" y="4038480"/>
            <a:ext cx="15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9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1403640" y="685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的极地科学考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1" descr="s_e88f8bb3b92ce6c23576e5722e4fb6cb83039"/>
          <p:cNvPicPr/>
          <p:nvPr/>
        </p:nvPicPr>
        <p:blipFill>
          <a:blip r:embed="rId3"/>
          <a:stretch/>
        </p:blipFill>
        <p:spPr>
          <a:xfrm>
            <a:off x="4572000" y="609480"/>
            <a:ext cx="4267080" cy="31244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2"/>
          <p:cNvSpPr/>
          <p:nvPr/>
        </p:nvSpPr>
        <p:spPr>
          <a:xfrm>
            <a:off x="4648320" y="3886200"/>
            <a:ext cx="4190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图上找出我国的黄河站搜集有关材料，简要说明北极科学考察的重要意义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9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活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9"/>
          <p:cNvGrpSpPr/>
          <p:nvPr/>
        </p:nvGrpSpPr>
        <p:grpSpPr>
          <a:xfrm>
            <a:off x="304920" y="1371600"/>
            <a:ext cx="4266720" cy="3808800"/>
            <a:chOff x="304920" y="1371600"/>
            <a:chExt cx="4266720" cy="3808800"/>
          </a:xfrm>
        </p:grpSpPr>
        <p:sp>
          <p:nvSpPr>
            <p:cNvPr id="271" name="Rectangle 15"/>
            <p:cNvSpPr/>
            <p:nvPr/>
          </p:nvSpPr>
          <p:spPr>
            <a:xfrm>
              <a:off x="2000160" y="4720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黄河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Picture 8" descr=""/>
            <p:cNvPicPr/>
            <p:nvPr/>
          </p:nvPicPr>
          <p:blipFill>
            <a:blip r:embed="rId4">
              <a:lum contrast="24000"/>
            </a:blip>
            <a:stretch/>
          </p:blipFill>
          <p:spPr>
            <a:xfrm>
              <a:off x="304920" y="1371600"/>
              <a:ext cx="4266720" cy="337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Rectangle 9"/>
          <p:cNvSpPr/>
          <p:nvPr/>
        </p:nvSpPr>
        <p:spPr>
          <a:xfrm>
            <a:off x="1982880" y="5538960"/>
            <a:ext cx="52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战后，人类对北极地区的科学考察和研究也越来越频繁，开发北极地区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资源（石油、天然气、煤、铁等）用以面对资源紧张局面，此外，极地考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能力也是一个国家科研能力和综合国力的体现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"/>
          <p:cNvSpPr/>
          <p:nvPr/>
        </p:nvSpPr>
        <p:spPr>
          <a:xfrm>
            <a:off x="1334520" y="990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的极地科学考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7" descr="12479493_999938"/>
          <p:cNvPicPr/>
          <p:nvPr/>
        </p:nvPicPr>
        <p:blipFill>
          <a:blip r:embed="rId3"/>
          <a:stretch/>
        </p:blipFill>
        <p:spPr>
          <a:xfrm>
            <a:off x="228600" y="1752480"/>
            <a:ext cx="4419720" cy="3124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Img255657518"/>
          <p:cNvPicPr/>
          <p:nvPr/>
        </p:nvPicPr>
        <p:blipFill>
          <a:blip r:embed="rId4"/>
          <a:stretch/>
        </p:blipFill>
        <p:spPr>
          <a:xfrm>
            <a:off x="4772160" y="762120"/>
            <a:ext cx="4066920" cy="2936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6" descr="102651198"/>
          <p:cNvPicPr/>
          <p:nvPr/>
        </p:nvPicPr>
        <p:blipFill>
          <a:blip r:embed="rId5"/>
          <a:stretch/>
        </p:blipFill>
        <p:spPr>
          <a:xfrm>
            <a:off x="4800600" y="38098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2000" y="274320"/>
            <a:ext cx="402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极地地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394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置最南南极洲，三洲三洋绕四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冰雪高原冷大陆，四周冰山大水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极圈内北冰洋，三洲环绕分清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企鹅磷虾北极熊，独特生物极地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酷寒干燥烈风吼，有煤有铁有石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极考察显身手，长城中山和黄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护极地不容缓，和平利用订条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各地已游遍，问问自己成就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380880" y="304920"/>
            <a:ext cx="280044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随歌谣学地理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0" y="13716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中国科学家秦大河院士是国际横穿南极大陆考察队的成员。他对南极地区考察的科学价值有一段形象的比喻。阅读之后，以小组的形式，讨论极地科考的价值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685800" y="6872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动：讨论我国对极地地区科学考察的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6" descr="200641410138677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447920"/>
            <a:ext cx="3962160" cy="5105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2" name="Rectangle 7"/>
          <p:cNvSpPr/>
          <p:nvPr/>
        </p:nvSpPr>
        <p:spPr>
          <a:xfrm>
            <a:off x="4648320" y="3124080"/>
            <a:ext cx="4190760" cy="69732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地球这个大系统内的一切要素变化的迹象，如气候变化、火山喷发、厄尔尼诺现象、人类活动甚至太阳活动等等，都可以通过物理的或化学的变化“记录”在南极冰盖的积雪和冰川冰里。这样，我们从南极的冰盖上取雪样，或者钻冰芯，就如同医生从人的耳朵上取一滴血一样。医生化验血样来判断人是否健康，我们就化验雪样来判断地球的健康情况，而深层的冰芯则会告诉我们地球的历史状况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E:\李燃\教师教学用书\2012人教教师用书项目\ppt\地理\dl.png"/>
          <p:cNvPicPr/>
          <p:nvPr/>
        </p:nvPicPr>
        <p:blipFill>
          <a:blip r:embed="rId3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102221340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495680" y="838080"/>
            <a:ext cx="4419720" cy="28371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3"/>
          <p:cNvSpPr/>
          <p:nvPr/>
        </p:nvSpPr>
        <p:spPr>
          <a:xfrm>
            <a:off x="304920" y="2286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许多国家到极地进行科学考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8" descr=""/>
          <p:cNvPicPr/>
          <p:nvPr/>
        </p:nvPicPr>
        <p:blipFill>
          <a:blip r:embed="rId4"/>
          <a:stretch/>
        </p:blipFill>
        <p:spPr>
          <a:xfrm>
            <a:off x="228600" y="182880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" descr=""/>
          <p:cNvPicPr/>
          <p:nvPr/>
        </p:nvPicPr>
        <p:blipFill>
          <a:blip r:embed="rId5"/>
          <a:stretch/>
        </p:blipFill>
        <p:spPr>
          <a:xfrm>
            <a:off x="4518000" y="3809880"/>
            <a:ext cx="44197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"/>
          <p:cNvSpPr/>
          <p:nvPr/>
        </p:nvSpPr>
        <p:spPr>
          <a:xfrm>
            <a:off x="380880" y="304920"/>
            <a:ext cx="563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三、极地地区的环境保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10" descr="14_51675833_20090105090405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28600" y="1371600"/>
            <a:ext cx="4495680" cy="4648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4270256871678986198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4800600" y="4038480"/>
            <a:ext cx="4114800" cy="2590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4" descr="9139213210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4800600" y="1371600"/>
            <a:ext cx="4038480" cy="25858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86"/>
          <p:cNvSpPr/>
          <p:nvPr/>
        </p:nvSpPr>
        <p:spPr>
          <a:xfrm>
            <a:off x="9907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地地区环境的变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1"/>
          <p:cNvSpPr/>
          <p:nvPr/>
        </p:nvSpPr>
        <p:spPr>
          <a:xfrm>
            <a:off x="304920" y="5181480"/>
            <a:ext cx="3733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南极大陆附近海域对鲸的捕杀。过度捕杀鲸等极地动物，将破坏这里的生物多样性，从而破坏其生态环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4675320" y="4800600"/>
            <a:ext cx="3962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北极地区的海豹、海狮、海象等动物，同样遭到人们的滥杀。石油、天然气等资源的开采和加工活动，也导致北极地区的环境污染。如图为北极地区遭受漏油污染的海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304920" y="228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地地区的环境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3"/>
          <a:stretch/>
        </p:blipFill>
        <p:spPr>
          <a:xfrm>
            <a:off x="4114800" y="838080"/>
            <a:ext cx="4724280" cy="3810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"/>
          <p:cNvPicPr/>
          <p:nvPr/>
        </p:nvPicPr>
        <p:blipFill>
          <a:blip r:embed="rId4"/>
          <a:stretch/>
        </p:blipFill>
        <p:spPr>
          <a:xfrm>
            <a:off x="304920" y="838080"/>
            <a:ext cx="3733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5715000" y="990720"/>
            <a:ext cx="32004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地地区的环境保护受到全世界的重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针对南极地区的和平利用、科学考察、环境保护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，澳大利亚、阿根廷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国家签订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南极条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我国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正式加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极条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际上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制定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极环境保护战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地球村2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228600" y="990720"/>
            <a:ext cx="5181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7"/>
          <p:cNvSpPr/>
          <p:nvPr/>
        </p:nvSpPr>
        <p:spPr>
          <a:xfrm>
            <a:off x="609480" y="228600"/>
            <a:ext cx="8077320" cy="16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演讲活动：保护极地，人人有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科学家一直警告，极地地区的气候变暖趋势比中纬度地区更明显。如图是两幅公益海报。作一个简短的演讲，谈谈我们在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日常生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中能做些什么来阻止这种情况的发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3430800" y="6172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浪于人类居住地的海豹和北极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8" descr=""/>
          <p:cNvPicPr/>
          <p:nvPr/>
        </p:nvPicPr>
        <p:blipFill>
          <a:blip r:embed="rId3"/>
          <a:stretch/>
        </p:blipFill>
        <p:spPr>
          <a:xfrm>
            <a:off x="4495680" y="243828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8200"/>
          <p:cNvSpPr/>
          <p:nvPr/>
        </p:nvSpPr>
        <p:spPr>
          <a:xfrm>
            <a:off x="1244520" y="7621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2209680" y="4572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独特的自然环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315720" y="4572000"/>
            <a:ext cx="127764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极地地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838080" y="53341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76520" y="4800600"/>
            <a:ext cx="457200" cy="1523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209680" y="5334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科学考察的宝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2133720" y="6095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地地区的环境保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80880" y="373392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小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1973880" y="762120"/>
            <a:ext cx="511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演讲提纲可以从衣、食、住、行、用等方面如何采取低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保的具体措施入手，例如减少不必要的衣物购置、选择当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产食物、夏季室内空调调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多骑自行车和乘公交车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行、使用节能环保的产品等。这些看似生活中的小事，所有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都自觉自愿地行动起来，并转化为常态的生活方式，就可能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止全球气变暖的趋势，从而间接地保护生活在极地地区的动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们的栖息环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4"/>
          <p:cNvSpPr/>
          <p:nvPr/>
        </p:nvSpPr>
        <p:spPr>
          <a:xfrm>
            <a:off x="2286000" y="1523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较南极地区和北极地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04920" y="2438280"/>
          <a:ext cx="8534160" cy="3200400"/>
        </p:xfrm>
        <a:graphic>
          <a:graphicData uri="http://schemas.openxmlformats.org/drawingml/2006/table">
            <a:tbl>
              <a:tblPr/>
              <a:tblGrid>
                <a:gridCol w="936360"/>
                <a:gridCol w="1730160"/>
                <a:gridCol w="1420920"/>
                <a:gridCol w="1407960"/>
                <a:gridCol w="1857600"/>
                <a:gridCol w="1181160"/>
              </a:tblGrid>
              <a:tr h="90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地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气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风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代表动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主要自然资源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我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科考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北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南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10"/>
          <p:cNvSpPr/>
          <p:nvPr/>
        </p:nvSpPr>
        <p:spPr>
          <a:xfrm>
            <a:off x="533520" y="730080"/>
            <a:ext cx="2133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说一说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8"/>
          <p:cNvSpPr/>
          <p:nvPr/>
        </p:nvSpPr>
        <p:spPr>
          <a:xfrm>
            <a:off x="1554840" y="34290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气候寒冷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降水较丰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9"/>
          <p:cNvSpPr/>
          <p:nvPr/>
        </p:nvSpPr>
        <p:spPr>
          <a:xfrm>
            <a:off x="1554840" y="4572000"/>
            <a:ext cx="942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气候严寒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降水稀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0"/>
          <p:cNvSpPr/>
          <p:nvPr/>
        </p:nvSpPr>
        <p:spPr>
          <a:xfrm>
            <a:off x="3332160" y="358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风速较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333216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风速很大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2"/>
          <p:cNvSpPr/>
          <p:nvPr/>
        </p:nvSpPr>
        <p:spPr>
          <a:xfrm>
            <a:off x="4713120" y="3505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北极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3"/>
          <p:cNvSpPr/>
          <p:nvPr/>
        </p:nvSpPr>
        <p:spPr>
          <a:xfrm>
            <a:off x="4592880" y="4648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企  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4"/>
          <p:cNvSpPr/>
          <p:nvPr/>
        </p:nvSpPr>
        <p:spPr>
          <a:xfrm>
            <a:off x="6519960" y="3429000"/>
            <a:ext cx="4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石油、天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气、煤、铁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6"/>
          <p:cNvSpPr/>
          <p:nvPr/>
        </p:nvSpPr>
        <p:spPr>
          <a:xfrm>
            <a:off x="5791320" y="4419720"/>
            <a:ext cx="19047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铜、铁等矿产资源；淡水资源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海洋生物资源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7852680" y="350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黄河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7772400" y="43434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长城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中山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昆仑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5029200" y="2286000"/>
            <a:ext cx="3886200" cy="30200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你去极地考察，请选择下列所需物品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指南针、温度计、棉衣、棉帽、沙漠鞋、手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太阳镜、遮阳帽、雨衣、冰芯钻探机、帆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5105520" y="1371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想一想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9" descr="05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28600" y="3714840"/>
            <a:ext cx="4572000" cy="2914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228600" y="685800"/>
            <a:ext cx="4572000" cy="28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59D9-8526-416A-85DB-451CC92610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l161ehe1r37c"/>
          <p:cNvPicPr/>
          <p:nvPr/>
        </p:nvPicPr>
        <p:blipFill>
          <a:blip r:embed="rId2"/>
          <a:stretch/>
        </p:blipFill>
        <p:spPr>
          <a:xfrm>
            <a:off x="3276720" y="1295280"/>
            <a:ext cx="2895480" cy="259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47"/>
          <p:cNvPicPr/>
          <p:nvPr/>
        </p:nvPicPr>
        <p:blipFill>
          <a:blip r:embed="rId3"/>
          <a:stretch/>
        </p:blipFill>
        <p:spPr>
          <a:xfrm>
            <a:off x="3276720" y="3998880"/>
            <a:ext cx="2895480" cy="263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1282275631203"/>
          <p:cNvPicPr/>
          <p:nvPr/>
        </p:nvPicPr>
        <p:blipFill>
          <a:blip r:embed="rId4"/>
          <a:stretch/>
        </p:blipFill>
        <p:spPr>
          <a:xfrm>
            <a:off x="6172200" y="12952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Img255657518"/>
          <p:cNvPicPr/>
          <p:nvPr/>
        </p:nvPicPr>
        <p:blipFill>
          <a:blip r:embed="rId5"/>
          <a:stretch/>
        </p:blipFill>
        <p:spPr>
          <a:xfrm>
            <a:off x="6172200" y="3998880"/>
            <a:ext cx="2819520" cy="263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File:Polarlicht 2.jpg"/>
          <p:cNvPicPr/>
          <p:nvPr/>
        </p:nvPicPr>
        <p:blipFill>
          <a:blip r:embed="rId6"/>
          <a:stretch/>
        </p:blipFill>
        <p:spPr>
          <a:xfrm>
            <a:off x="152280" y="3998880"/>
            <a:ext cx="3124440" cy="2630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get?name=T1zTh9BmZ51RCvBVdK"/>
          <p:cNvPicPr/>
          <p:nvPr/>
        </p:nvPicPr>
        <p:blipFill>
          <a:blip r:embed="rId7"/>
          <a:stretch/>
        </p:blipFill>
        <p:spPr>
          <a:xfrm>
            <a:off x="152280" y="1295280"/>
            <a:ext cx="3124440" cy="2590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304920" y="380880"/>
            <a:ext cx="236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极地景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352680" y="1371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南极主人企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677280" y="1371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北极主人北极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17880" y="137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冰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00320" y="4038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北极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518280" y="40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冰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14120" y="40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浮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50920" y="836640"/>
            <a:ext cx="88930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一 、选择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到南极考察的最好季节是北半球的（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夏季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春季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秋季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冬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到北极考察的最好季节是北半球的（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夏季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春季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秋季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冬季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我国在南极地区建立的第一个科学考察站是（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长城站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中山站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和平站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东方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63520" y="15552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6901920" y="148428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  <a:ea typeface="宋体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6696720" y="33577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8136360" y="48690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"/>
          <p:cNvSpPr/>
          <p:nvPr/>
        </p:nvSpPr>
        <p:spPr>
          <a:xfrm>
            <a:off x="380880" y="228600"/>
            <a:ext cx="487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一、独特的自然环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1"/>
          <p:cNvSpPr/>
          <p:nvPr/>
        </p:nvSpPr>
        <p:spPr>
          <a:xfrm>
            <a:off x="380880" y="5486400"/>
            <a:ext cx="8458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在地球南北两端，有两个十分特殊的地区：南极地区和北极地区，合称为极地地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图片 1" descr=""/>
          <p:cNvPicPr/>
          <p:nvPr/>
        </p:nvPicPr>
        <p:blipFill>
          <a:blip r:embed="rId2"/>
          <a:stretch/>
        </p:blipFill>
        <p:spPr>
          <a:xfrm>
            <a:off x="538200" y="990720"/>
            <a:ext cx="807732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4"/>
          <p:cNvGrpSpPr/>
          <p:nvPr/>
        </p:nvGrpSpPr>
        <p:grpSpPr>
          <a:xfrm>
            <a:off x="4724280" y="228600"/>
            <a:ext cx="4190760" cy="5000400"/>
            <a:chOff x="4724280" y="228600"/>
            <a:chExt cx="4190760" cy="5000400"/>
          </a:xfrm>
        </p:grpSpPr>
        <p:pic>
          <p:nvPicPr>
            <p:cNvPr id="107" name="Picture 9" descr=""/>
            <p:cNvPicPr/>
            <p:nvPr/>
          </p:nvPicPr>
          <p:blipFill>
            <a:blip r:embed="rId3"/>
            <a:stretch/>
          </p:blipFill>
          <p:spPr>
            <a:xfrm>
              <a:off x="4724280" y="228600"/>
              <a:ext cx="419076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14"/>
            <p:cNvSpPr/>
            <p:nvPr/>
          </p:nvSpPr>
          <p:spPr>
            <a:xfrm>
              <a:off x="6108120" y="4708440"/>
              <a:ext cx="202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北极地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8"/>
          <p:cNvGrpSpPr/>
          <p:nvPr/>
        </p:nvGrpSpPr>
        <p:grpSpPr>
          <a:xfrm>
            <a:off x="228600" y="228600"/>
            <a:ext cx="4343400" cy="5024880"/>
            <a:chOff x="228600" y="228600"/>
            <a:chExt cx="4343400" cy="5024880"/>
          </a:xfrm>
        </p:grpSpPr>
        <p:sp>
          <p:nvSpPr>
            <p:cNvPr id="110" name="Rectangle 13"/>
            <p:cNvSpPr/>
            <p:nvPr/>
          </p:nvSpPr>
          <p:spPr>
            <a:xfrm>
              <a:off x="1651680" y="4732920"/>
              <a:ext cx="184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南极地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7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4343400" cy="45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Rectangle 9"/>
          <p:cNvSpPr/>
          <p:nvPr/>
        </p:nvSpPr>
        <p:spPr>
          <a:xfrm>
            <a:off x="457200" y="5410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南极圈以南的地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括南极洲极其周边海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724280" y="53341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极圈以北的地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括北冰洋大部分及其周边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亚、欧、北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洲部分地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838080" y="762120"/>
            <a:ext cx="3124440" cy="29718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5029200" y="533520"/>
            <a:ext cx="3505320" cy="33526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0"/>
          <p:cNvSpPr/>
          <p:nvPr/>
        </p:nvSpPr>
        <p:spPr>
          <a:xfrm>
            <a:off x="457200" y="304920"/>
            <a:ext cx="8077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活动：根据下面的图片和材料说出南极地区和北极地区自然环境的特殊性 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457200" y="3962520"/>
            <a:ext cx="8153280" cy="2593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南极地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这里是地球上最冷的地区，年平均气温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50℃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南极大陆素有“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雪高原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”之称，大部分地方覆盖着很厚的冰层，平均厚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00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多米。南极地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区还被称为地球上的“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白色荒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”，年平均降水量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毫米，降水量最少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地方不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毫米。南极地区也被称为地球上的“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风库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”， 年平均风速为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7~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米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秒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最大风速可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秒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北极地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没有南极地区那么严寒，年平均气温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18℃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大部分地区也是终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冰封。北极地区的降水量比南极地区高得多，一般年降水量在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0~25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毫米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间。北极地区的风速远不及南极地区，北冰洋沿岸的年平均风速仅为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米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秒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457200" y="1295280"/>
            <a:ext cx="4114440" cy="2536920"/>
            <a:chOff x="457200" y="1295280"/>
            <a:chExt cx="4114440" cy="2536920"/>
          </a:xfrm>
        </p:grpSpPr>
        <p:sp>
          <p:nvSpPr>
            <p:cNvPr id="120" name="Rectangle 26"/>
            <p:cNvSpPr/>
            <p:nvPr/>
          </p:nvSpPr>
          <p:spPr>
            <a:xfrm>
              <a:off x="1485720" y="3494880"/>
              <a:ext cx="27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南极地区的企鹅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icture 9" descr=""/>
            <p:cNvPicPr/>
            <p:nvPr/>
          </p:nvPicPr>
          <p:blipFill>
            <a:blip r:embed="rId3"/>
            <a:stretch/>
          </p:blipFill>
          <p:spPr>
            <a:xfrm>
              <a:off x="457200" y="1295280"/>
              <a:ext cx="4114440" cy="21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2"/>
          <p:cNvGrpSpPr/>
          <p:nvPr/>
        </p:nvGrpSpPr>
        <p:grpSpPr>
          <a:xfrm>
            <a:off x="4724280" y="1295280"/>
            <a:ext cx="3962160" cy="2504880"/>
            <a:chOff x="4724280" y="1295280"/>
            <a:chExt cx="3962160" cy="2504880"/>
          </a:xfrm>
        </p:grpSpPr>
        <p:sp>
          <p:nvSpPr>
            <p:cNvPr id="123" name="Rectangle 25"/>
            <p:cNvSpPr/>
            <p:nvPr/>
          </p:nvSpPr>
          <p:spPr>
            <a:xfrm>
              <a:off x="5497560" y="3462840"/>
              <a:ext cx="28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北极地区的北极熊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Picture 10" descr=""/>
            <p:cNvPicPr/>
            <p:nvPr/>
          </p:nvPicPr>
          <p:blipFill>
            <a:blip r:embed="rId4"/>
            <a:stretch/>
          </p:blipFill>
          <p:spPr>
            <a:xfrm>
              <a:off x="4724280" y="1295280"/>
              <a:ext cx="3962160" cy="2159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0"/>
          <p:cNvSpPr/>
          <p:nvPr/>
        </p:nvSpPr>
        <p:spPr>
          <a:xfrm>
            <a:off x="5410080" y="1752480"/>
            <a:ext cx="3581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南、北极地区图，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环绕南极大陆各大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名称，环绕北冰洋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洲的名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比较南、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地区的年平均气温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端最低气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纳和比较南极地区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极地区的自然环境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1" descr=""/>
          <p:cNvPicPr/>
          <p:nvPr/>
        </p:nvPicPr>
        <p:blipFill>
          <a:blip r:embed="rId2"/>
          <a:srcRect l="0" t="0" r="0" b="6124"/>
          <a:stretch/>
        </p:blipFill>
        <p:spPr>
          <a:xfrm>
            <a:off x="228600" y="137160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2"/>
          <p:cNvSpPr/>
          <p:nvPr/>
        </p:nvSpPr>
        <p:spPr>
          <a:xfrm>
            <a:off x="457200" y="304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动：说说南、北极地区自然环境的特殊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E:\李燃\教师教学用书\2012人教教师用书项目\ppt\地理\dl.png"/>
          <p:cNvPicPr/>
          <p:nvPr/>
        </p:nvPicPr>
        <p:blipFill>
          <a:blip r:embed="rId3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350720" y="838080"/>
            <a:ext cx="29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南极比北极气温要低得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5968800" y="1066680"/>
            <a:ext cx="13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95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304920" y="2971800"/>
          <a:ext cx="8534160" cy="1654200"/>
        </p:xfrm>
        <a:graphic>
          <a:graphicData uri="http://schemas.openxmlformats.org/drawingml/2006/table">
            <a:tbl>
              <a:tblPr/>
              <a:tblGrid>
                <a:gridCol w="837720"/>
                <a:gridCol w="1676520"/>
                <a:gridCol w="888840"/>
                <a:gridCol w="1219320"/>
                <a:gridCol w="1066680"/>
                <a:gridCol w="1447920"/>
                <a:gridCol w="1397160"/>
              </a:tblGrid>
              <a:tr h="69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地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纬度位置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形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平均气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代表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动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平均风速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平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降水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北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南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3" name="AutoShape 87"/>
          <p:cNvSpPr/>
          <p:nvPr/>
        </p:nvSpPr>
        <p:spPr>
          <a:xfrm>
            <a:off x="533520" y="762120"/>
            <a:ext cx="2016000" cy="761760"/>
          </a:xfrm>
          <a:prstGeom prst="wedgeEllipseCallout">
            <a:avLst>
              <a:gd name="adj1" fmla="val 16300"/>
              <a:gd name="adj2" fmla="val 77708"/>
            </a:avLst>
          </a:prstGeom>
          <a:solidFill>
            <a:srgbClr val="fb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作学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8"/>
          <p:cNvSpPr/>
          <p:nvPr/>
        </p:nvSpPr>
        <p:spPr>
          <a:xfrm>
            <a:off x="1600200" y="1828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完成南极地区、北极地区比较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920" y="2743200"/>
          <a:ext cx="8534160" cy="2209680"/>
        </p:xfrm>
        <a:graphic>
          <a:graphicData uri="http://schemas.openxmlformats.org/drawingml/2006/table">
            <a:tbl>
              <a:tblPr/>
              <a:tblGrid>
                <a:gridCol w="837720"/>
                <a:gridCol w="1676520"/>
                <a:gridCol w="888840"/>
                <a:gridCol w="1219320"/>
                <a:gridCol w="1066680"/>
                <a:gridCol w="1447920"/>
                <a:gridCol w="1397160"/>
              </a:tblGrid>
              <a:tr h="86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地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纬度位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形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平均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气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代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动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平均风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平均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降水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北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6.5°N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以北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海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18℃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北极熊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m/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50m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南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6.5°S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以南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陆地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50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企  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m/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5m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6" name="Rectangle 75"/>
          <p:cNvSpPr/>
          <p:nvPr/>
        </p:nvSpPr>
        <p:spPr>
          <a:xfrm>
            <a:off x="3944880" y="990720"/>
            <a:ext cx="16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95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04920" y="1219320"/>
          <a:ext cx="8610480" cy="1504800"/>
        </p:xfrm>
        <a:graphic>
          <a:graphicData uri="http://schemas.openxmlformats.org/drawingml/2006/table">
            <a:tbl>
              <a:tblPr/>
              <a:tblGrid>
                <a:gridCol w="1528920"/>
                <a:gridCol w="1747800"/>
                <a:gridCol w="1793880"/>
                <a:gridCol w="1769760"/>
                <a:gridCol w="1770120"/>
              </a:tblGrid>
              <a:tr h="60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相同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纬度位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气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地表景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自然资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南、北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地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23"/>
          <p:cNvSpPr/>
          <p:nvPr/>
        </p:nvSpPr>
        <p:spPr>
          <a:xfrm>
            <a:off x="213372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纬度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4240080" y="2081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寒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7669080" y="2081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丰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556272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冰雪广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3276720"/>
          <a:ext cx="8697960" cy="3352680"/>
        </p:xfrm>
        <a:graphic>
          <a:graphicData uri="http://schemas.openxmlformats.org/drawingml/2006/table">
            <a:tbl>
              <a:tblPr/>
              <a:tblGrid>
                <a:gridCol w="1544760"/>
                <a:gridCol w="1787400"/>
                <a:gridCol w="1789200"/>
                <a:gridCol w="1805040"/>
                <a:gridCol w="1771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不同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纬度位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气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自然资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海陆状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北极地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南极地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63"/>
          <p:cNvSpPr/>
          <p:nvPr/>
        </p:nvSpPr>
        <p:spPr>
          <a:xfrm>
            <a:off x="2151720" y="4038480"/>
            <a:ext cx="10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6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°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1981080" y="5334120"/>
            <a:ext cx="144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6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°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3657600" y="388620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气温比南极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降水也多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3983040" y="5257800"/>
            <a:ext cx="9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寒、风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降水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色沙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0"/>
          <p:cNvSpPr/>
          <p:nvPr/>
        </p:nvSpPr>
        <p:spPr>
          <a:xfrm>
            <a:off x="582552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石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煤  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1"/>
          <p:cNvSpPr/>
          <p:nvPr/>
        </p:nvSpPr>
        <p:spPr>
          <a:xfrm>
            <a:off x="5562720" y="5257800"/>
            <a:ext cx="14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体淡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洋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2"/>
          <p:cNvSpPr/>
          <p:nvPr/>
        </p:nvSpPr>
        <p:spPr>
          <a:xfrm>
            <a:off x="765432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美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欧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3"/>
          <p:cNvSpPr/>
          <p:nvPr/>
        </p:nvSpPr>
        <p:spPr>
          <a:xfrm>
            <a:off x="7654320" y="52578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太平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西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印度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82"/>
          <p:cNvSpPr/>
          <p:nvPr/>
        </p:nvSpPr>
        <p:spPr>
          <a:xfrm>
            <a:off x="380880" y="304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较南极地区和北极地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3"/>
          <p:cNvSpPr/>
          <p:nvPr/>
        </p:nvSpPr>
        <p:spPr>
          <a:xfrm>
            <a:off x="5482080" y="304920"/>
            <a:ext cx="25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95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补充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8:18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50Z</dcterms:modified>
  <cp:revision>2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