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jpeg" ContentType="image/jpeg"/>
  <Override PartName="/ppt/media/image49.png" ContentType="image/png"/>
  <Override PartName="/ppt/media/image22.wmf" ContentType="image/x-wmf"/>
  <Override PartName="/ppt/media/image20.jpeg" ContentType="image/jpeg"/>
  <Override PartName="/ppt/media/image19.jpeg" ContentType="image/jpeg"/>
  <Override PartName="/ppt/media/image42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6.jpeg" ContentType="image/jpeg"/>
  <Override PartName="/ppt/media/image26.wmf" ContentType="image/x-wmf"/>
  <Override PartName="/ppt/media/image46.jpeg" ContentType="image/jpeg"/>
  <Override PartName="/ppt/media/image15.jpeg" ContentType="image/jpeg"/>
  <Override PartName="/ppt/media/image14.gif" ContentType="image/gif"/>
  <Override PartName="/ppt/media/image31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png" ContentType="image/png"/>
  <Override PartName="/ppt/media/image39.png" ContentType="image/png"/>
  <Override PartName="/ppt/media/image41.jpeg" ContentType="image/jpeg"/>
  <Override PartName="/ppt/media/image45.jpeg" ContentType="image/jpeg"/>
  <Override PartName="/ppt/media/image47.jpeg" ContentType="image/jpeg"/>
  <Override PartName="/ppt/media/image10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50.gif" ContentType="image/gif"/>
  <Override PartName="/ppt/media/image32.jpeg" ContentType="image/jpeg"/>
  <Override PartName="/ppt/media/image51.png" ContentType="image/png"/>
  <Override PartName="/ppt/media/image44.png" ContentType="image/png"/>
  <Override PartName="/ppt/media/image13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8.png" ContentType="image/png"/>
  <Override PartName="/ppt/media/image7.jpeg" ContentType="image/jpeg"/>
  <Override PartName="/ppt/media/image38.jpeg" ContentType="image/jpeg"/>
  <Override PartName="/ppt/media/image11.jpeg" ContentType="image/jpeg"/>
  <Override PartName="/ppt/media/image48.png" ContentType="image/png"/>
  <Override PartName="/ppt/media/image9.jpeg" ContentType="image/jpeg"/>
  <Override PartName="/ppt/media/image4.jpeg" ContentType="image/jpeg"/>
  <Override PartName="/ppt/media/image4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6688-3A53-4BD9-8A08-1B671646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5360-4280-4E79-95C3-671EE1FC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4DCD-88B9-4E95-A758-BAEC7D7E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5A0C-9002-4F4C-930C-3173813E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3E9E-BDDC-4F84-9950-07C79FD6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1407-62AC-4E5D-A416-EB2BCE95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B95A-108D-425B-8C7F-FE63981C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90E7-0084-4410-A5D2-B41245AE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71BE-5503-4469-9501-888DE705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330D-8C75-4796-ADFE-35DEB2DA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07CF-8230-48E0-ADE9-3FC6A7FB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B017-75D0-42DA-9685-6C4D5C08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8CA5-52C6-4D6B-BA30-720A3862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838A-FEA9-4904-B7B0-A147E2EB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7797-B08E-4B14-B3D5-DE61C778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2BC8-7320-4C43-A52B-2B144EA1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D639-93CD-467D-A39D-FAE2ED66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BE28-A045-41D7-93C7-22D893EE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A570-883B-4BC9-A866-8ADD6745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4767-926B-4427-B6BB-25ABFF00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45AB-0905-4172-BC71-10E5AE97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92ED-10EC-4C29-AC09-A555B196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AD94-1B37-4D04-B90B-A02844DB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D1CE-48A5-4AC4-98ED-749B39A4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5FEB-9270-4B09-98CD-15AEE13B3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4685-8FE7-4827-9D08-1DAB5AD142D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jpeg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hyperlink" Target="../../../../&#24037;&#20316;&#26032;&#35838;&#20214;&#21450;&#36164;&#26009;/&#24037;&#20316;/9&#19979;4=5/ringin.wav" TargetMode="External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4.gi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06064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00"/>
                </a:solidFill>
                <a:latin typeface="迷你简雪峰"/>
                <a:ea typeface="迷你简雪峰"/>
              </a:rPr>
              <a:t>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WordArt 5" descr=""/>
          <p:cNvPicPr/>
          <p:nvPr/>
        </p:nvPicPr>
        <p:blipFill>
          <a:blip r:embed="rId2"/>
          <a:stretch/>
        </p:blipFill>
        <p:spPr>
          <a:xfrm>
            <a:off x="1371600" y="679320"/>
            <a:ext cx="6426360" cy="30164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1790640" y="39625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  Great   Depr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1371600" y="56246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繁荣  汽车"/>
          <p:cNvPicPr/>
          <p:nvPr/>
        </p:nvPicPr>
        <p:blipFill>
          <a:blip r:embed="rId1"/>
          <a:stretch/>
        </p:blipFill>
        <p:spPr>
          <a:xfrm>
            <a:off x="401760" y="7920"/>
            <a:ext cx="4551120" cy="28875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119160" y="2849400"/>
            <a:ext cx="46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汽车长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6"/>
          <p:cNvGrpSpPr/>
          <p:nvPr/>
        </p:nvGrpSpPr>
        <p:grpSpPr>
          <a:xfrm>
            <a:off x="4876920" y="0"/>
            <a:ext cx="4114440" cy="4723920"/>
            <a:chOff x="4876920" y="0"/>
            <a:chExt cx="4114440" cy="4723920"/>
          </a:xfrm>
        </p:grpSpPr>
        <p:pic>
          <p:nvPicPr>
            <p:cNvPr id="143" name="Picture 7" descr="u=3660858482,355504814&amp;gp=1"/>
            <p:cNvPicPr/>
            <p:nvPr/>
          </p:nvPicPr>
          <p:blipFill>
            <a:blip r:embed="rId2"/>
            <a:stretch/>
          </p:blipFill>
          <p:spPr>
            <a:xfrm>
              <a:off x="4876920" y="2968560"/>
              <a:ext cx="2232720" cy="1755360"/>
            </a:xfrm>
            <a:prstGeom prst="rect">
              <a:avLst/>
            </a:prstGeom>
            <a:ln w="28440">
              <a:solidFill>
                <a:srgbClr val="ffff00"/>
              </a:solidFill>
              <a:miter/>
            </a:ln>
          </p:spPr>
        </p:pic>
        <p:pic>
          <p:nvPicPr>
            <p:cNvPr id="144" name="Picture 8" descr="建筑"/>
            <p:cNvPicPr/>
            <p:nvPr/>
          </p:nvPicPr>
          <p:blipFill>
            <a:blip r:embed="rId3"/>
            <a:stretch/>
          </p:blipFill>
          <p:spPr>
            <a:xfrm>
              <a:off x="6413760" y="0"/>
              <a:ext cx="2577600" cy="3637440"/>
            </a:xfrm>
            <a:prstGeom prst="rect">
              <a:avLst/>
            </a:prstGeom>
            <a:ln w="28440">
              <a:solidFill>
                <a:srgbClr val="ffff00"/>
              </a:solidFill>
              <a:miter/>
            </a:ln>
          </p:spPr>
        </p:pic>
      </p:grpSp>
      <p:sp>
        <p:nvSpPr>
          <p:cNvPr id="145" name="Text Box 9"/>
          <p:cNvSpPr/>
          <p:nvPr/>
        </p:nvSpPr>
        <p:spPr>
          <a:xfrm>
            <a:off x="7302600" y="3962520"/>
            <a:ext cx="16891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7dfd3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建筑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美国电器"/>
          <p:cNvPicPr/>
          <p:nvPr/>
        </p:nvPicPr>
        <p:blipFill>
          <a:blip r:embed="rId4"/>
          <a:stretch/>
        </p:blipFill>
        <p:spPr>
          <a:xfrm>
            <a:off x="152280" y="3581280"/>
            <a:ext cx="3837240" cy="2659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7" name="Text Box 11"/>
          <p:cNvSpPr/>
          <p:nvPr/>
        </p:nvSpPr>
        <p:spPr>
          <a:xfrm>
            <a:off x="1219320" y="6202440"/>
            <a:ext cx="190800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7dfd3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电气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4038480" y="4876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1924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—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1929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年相对稳定时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4572000" y="5410080"/>
            <a:ext cx="41148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资本主义国家的经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繁荣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4" descr="xin_440601251540687275663"/>
          <p:cNvPicPr/>
          <p:nvPr/>
        </p:nvPicPr>
        <p:blipFill>
          <a:blip r:embed="rId1"/>
          <a:stretch/>
        </p:blipFill>
        <p:spPr>
          <a:xfrm>
            <a:off x="2590920" y="3429000"/>
            <a:ext cx="4419360" cy="3429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台湾卡通素材：卡通人物矢量图四 - 人物角色向量图63"/>
          <p:cNvPicPr/>
          <p:nvPr/>
        </p:nvPicPr>
        <p:blipFill>
          <a:blip r:embed="rId2"/>
          <a:stretch/>
        </p:blipFill>
        <p:spPr>
          <a:xfrm>
            <a:off x="228600" y="76320"/>
            <a:ext cx="2395440" cy="320040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17"/>
          <p:cNvGrpSpPr/>
          <p:nvPr/>
        </p:nvGrpSpPr>
        <p:grpSpPr>
          <a:xfrm>
            <a:off x="2666880" y="685800"/>
            <a:ext cx="2666880" cy="2742840"/>
            <a:chOff x="2666880" y="685800"/>
            <a:chExt cx="2666880" cy="2742840"/>
          </a:xfrm>
        </p:grpSpPr>
        <p:pic>
          <p:nvPicPr>
            <p:cNvPr id="153" name="Object 10" descr=""/>
            <p:cNvPicPr/>
            <p:nvPr/>
          </p:nvPicPr>
          <p:blipFill>
            <a:blip r:embed="rId3"/>
            <a:stretch/>
          </p:blipFill>
          <p:spPr>
            <a:xfrm>
              <a:off x="3335040" y="685800"/>
              <a:ext cx="1387080" cy="169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Object 11" descr=""/>
            <p:cNvPicPr/>
            <p:nvPr/>
          </p:nvPicPr>
          <p:blipFill>
            <a:blip r:embed="rId4"/>
            <a:stretch/>
          </p:blipFill>
          <p:spPr>
            <a:xfrm>
              <a:off x="2666880" y="1011960"/>
              <a:ext cx="143856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Object 15" descr=""/>
            <p:cNvPicPr/>
            <p:nvPr/>
          </p:nvPicPr>
          <p:blipFill>
            <a:blip r:embed="rId5"/>
            <a:stretch/>
          </p:blipFill>
          <p:spPr>
            <a:xfrm>
              <a:off x="3335040" y="2209680"/>
              <a:ext cx="1998720" cy="121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Picture 19" descr="台湾卡通素材：卡通人物矢量图四 - 人物角色向量图54"/>
          <p:cNvPicPr/>
          <p:nvPr/>
        </p:nvPicPr>
        <p:blipFill>
          <a:blip r:embed="rId6"/>
          <a:stretch/>
        </p:blipFill>
        <p:spPr>
          <a:xfrm>
            <a:off x="7315200" y="0"/>
            <a:ext cx="1763640" cy="3505320"/>
          </a:xfrm>
          <a:prstGeom prst="rect">
            <a:avLst/>
          </a:prstGeom>
          <a:ln w="0">
            <a:noFill/>
          </a:ln>
        </p:spPr>
      </p:pic>
      <p:pic>
        <p:nvPicPr>
          <p:cNvPr id="157" name="Object 20" descr=""/>
          <p:cNvPicPr/>
          <p:nvPr/>
        </p:nvPicPr>
        <p:blipFill>
          <a:blip r:embed="rId7"/>
          <a:stretch/>
        </p:blipFill>
        <p:spPr>
          <a:xfrm>
            <a:off x="6095880" y="2971800"/>
            <a:ext cx="1400400" cy="7081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21"/>
          <p:cNvSpPr/>
          <p:nvPr/>
        </p:nvSpPr>
        <p:spPr>
          <a:xfrm>
            <a:off x="5410080" y="4572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日益贫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2"/>
          <p:cNvSpPr/>
          <p:nvPr/>
        </p:nvSpPr>
        <p:spPr>
          <a:xfrm>
            <a:off x="5410080" y="1295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消费能力低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5"/>
          <p:cNvSpPr/>
          <p:nvPr/>
        </p:nvSpPr>
        <p:spPr>
          <a:xfrm>
            <a:off x="7010280" y="38098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华文中宋"/>
                <a:ea typeface="华文中宋"/>
              </a:rPr>
              <a:t>超前消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7010280" y="4572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华文中宋"/>
                <a:ea typeface="华文中宋"/>
              </a:rPr>
              <a:t>分期付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7"/>
          <p:cNvSpPr/>
          <p:nvPr/>
        </p:nvSpPr>
        <p:spPr>
          <a:xfrm>
            <a:off x="7010280" y="528804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华文中宋"/>
                <a:ea typeface="华文中宋"/>
              </a:rPr>
              <a:t>买股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31"/>
          <p:cNvGrpSpPr/>
          <p:nvPr/>
        </p:nvGrpSpPr>
        <p:grpSpPr>
          <a:xfrm>
            <a:off x="0" y="3276720"/>
            <a:ext cx="2895480" cy="3581280"/>
            <a:chOff x="0" y="3276720"/>
            <a:chExt cx="2895480" cy="3581280"/>
          </a:xfrm>
        </p:grpSpPr>
        <p:sp>
          <p:nvSpPr>
            <p:cNvPr id="164" name="AutoShape 29"/>
            <p:cNvSpPr/>
            <p:nvPr/>
          </p:nvSpPr>
          <p:spPr>
            <a:xfrm>
              <a:off x="0" y="3276720"/>
              <a:ext cx="2819520" cy="3581280"/>
            </a:xfrm>
            <a:prstGeom prst="wedgeEllipseCallout">
              <a:avLst>
                <a:gd name="adj1" fmla="val 82546"/>
                <a:gd name="adj2" fmla="val -36171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30"/>
            <p:cNvSpPr/>
            <p:nvPr/>
          </p:nvSpPr>
          <p:spPr>
            <a:xfrm>
              <a:off x="152280" y="39625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兄弟，不能一次性付现金没关系！我低息贷款给你，你分期付款就行！你还可以买我公司股票，稳赚不赔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6"/>
          <p:cNvSpPr/>
          <p:nvPr/>
        </p:nvSpPr>
        <p:spPr>
          <a:xfrm>
            <a:off x="838080" y="685800"/>
            <a:ext cx="8001000" cy="5814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股份公司需要更加多的额外资金来扩大生产规模时，会发行股票。股票是股份公司发给股东的入股凭证和取得股息的有价证券。股票本身没有价值，之所以有价格能买卖，就因为拿着它可以向公司领取一定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股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7984399_144946548112_2"/>
          <p:cNvPicPr/>
          <p:nvPr/>
        </p:nvPicPr>
        <p:blipFill>
          <a:blip r:embed="rId1"/>
          <a:stretch/>
        </p:blipFill>
        <p:spPr>
          <a:xfrm>
            <a:off x="6934320" y="2666880"/>
            <a:ext cx="2209680" cy="41911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7"/>
          <p:cNvSpPr/>
          <p:nvPr/>
        </p:nvSpPr>
        <p:spPr>
          <a:xfrm>
            <a:off x="380880" y="35053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股票价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1978560" y="3519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2666880" y="32004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预计股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514600" y="3733920"/>
            <a:ext cx="1905120" cy="360"/>
            <a:chOff x="2514600" y="3733920"/>
            <a:chExt cx="1905120" cy="360"/>
          </a:xfrm>
        </p:grpSpPr>
        <p:sp>
          <p:nvSpPr>
            <p:cNvPr id="172" name="Line 11"/>
            <p:cNvSpPr/>
            <p:nvPr/>
          </p:nvSpPr>
          <p:spPr>
            <a:xfrm>
              <a:off x="2514600" y="3733920"/>
              <a:ext cx="19051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2514600" y="3733920"/>
              <a:ext cx="1905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12"/>
          <p:cNvSpPr/>
          <p:nvPr/>
        </p:nvSpPr>
        <p:spPr>
          <a:xfrm>
            <a:off x="2666880" y="3733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银行利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228600" y="4495680"/>
            <a:ext cx="3581280" cy="520560"/>
          </a:xfrm>
          <a:prstGeom prst="rect">
            <a:avLst/>
          </a:prstGeom>
          <a:noFill/>
          <a:ln w="38160">
            <a:solidFill>
              <a:srgbClr val="00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股票价格还常因某些企业乃至社会政治、经济、生产、的变化而波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6"/>
          <p:cNvGrpSpPr/>
          <p:nvPr/>
        </p:nvGrpSpPr>
        <p:grpSpPr>
          <a:xfrm>
            <a:off x="3962520" y="2819520"/>
            <a:ext cx="3298680" cy="3524040"/>
            <a:chOff x="3962520" y="2819520"/>
            <a:chExt cx="3298680" cy="3524040"/>
          </a:xfrm>
        </p:grpSpPr>
        <p:pic>
          <p:nvPicPr>
            <p:cNvPr id="177" name="Object 14" descr=""/>
            <p:cNvPicPr/>
            <p:nvPr/>
          </p:nvPicPr>
          <p:blipFill>
            <a:blip r:embed="rId2"/>
            <a:stretch/>
          </p:blipFill>
          <p:spPr>
            <a:xfrm>
              <a:off x="5029200" y="2819520"/>
              <a:ext cx="1184400" cy="29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Rectangle 15"/>
            <p:cNvSpPr/>
            <p:nvPr/>
          </p:nvSpPr>
          <p:spPr>
            <a:xfrm>
              <a:off x="3962520" y="5181480"/>
              <a:ext cx="329868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3300"/>
                  </a:solidFill>
                  <a:latin typeface="Arial"/>
                  <a:ea typeface="黑体"/>
                </a:rPr>
                <a:t>股票：</a:t>
              </a:r>
              <a:br>
                <a:rPr sz="2800"/>
              </a:br>
              <a:r>
                <a:rPr b="1" lang="zh-CN" sz="2800" spc="-1" strike="noStrike">
                  <a:solidFill>
                    <a:srgbClr val="663300"/>
                  </a:solidFill>
                  <a:latin typeface="Arial"/>
                  <a:ea typeface="黑体"/>
                </a:rPr>
                <a:t>社会经济的晴雨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WordArt 17"/>
          <p:cNvSpPr txBox="1"/>
          <p:nvPr/>
        </p:nvSpPr>
        <p:spPr>
          <a:xfrm>
            <a:off x="0" y="152280"/>
            <a:ext cx="1447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股票</a:t>
            </a:r>
            <a:endParaRPr b="1" lang="en-US" sz="44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zoom dir="in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图片 1" descr=""/>
          <p:cNvPicPr/>
          <p:nvPr/>
        </p:nvPicPr>
        <p:blipFill>
          <a:blip r:embed="rId1"/>
          <a:stretch/>
        </p:blipFill>
        <p:spPr>
          <a:xfrm>
            <a:off x="1295280" y="0"/>
            <a:ext cx="7559640" cy="63817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0" y="5791320"/>
            <a:ext cx="9144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929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年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，纽约股票交易所里突然掀起抛售股票的狂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-408600" y="533520"/>
            <a:ext cx="1399320" cy="342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黑色星期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股市危机景象"/>
          <p:cNvPicPr/>
          <p:nvPr/>
        </p:nvPicPr>
        <p:blipFill>
          <a:blip r:embed="rId1"/>
          <a:stretch/>
        </p:blipFill>
        <p:spPr>
          <a:xfrm>
            <a:off x="971640" y="2060640"/>
            <a:ext cx="6629400" cy="42782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457200" y="6858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天之内股票价格连续暴跌，人们非常恐慌，纷纷不计价格地抛售股票，很多人血本无归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380880" y="1447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经济危机"/>
          <p:cNvPicPr/>
          <p:nvPr/>
        </p:nvPicPr>
        <p:blipFill>
          <a:blip r:embed="rId1"/>
          <a:stretch/>
        </p:blipFill>
        <p:spPr>
          <a:xfrm>
            <a:off x="0" y="0"/>
            <a:ext cx="508968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"/>
          <p:cNvSpPr/>
          <p:nvPr/>
        </p:nvSpPr>
        <p:spPr>
          <a:xfrm>
            <a:off x="4191120" y="1688400"/>
            <a:ext cx="4736880" cy="35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时的美国幽默小品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旅馆你必须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排队才能挤到窗口跳出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”“旅店的招待员总要先问旅客：‘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您是要一个房间睡觉，还是跳楼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？’”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838080" y="990720"/>
            <a:ext cx="7086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304920" y="45720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经济大危机的爆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04920" y="14479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时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600200" y="14479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29~193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228600" y="2286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开始国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2438280" y="22860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美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152280" y="32767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开始标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2514600" y="3276720"/>
            <a:ext cx="2819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纽约股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市场崩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0" descr="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523800" y="2782800"/>
            <a:ext cx="286380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4fb65"/>
                </a:solidFill>
                <a:latin typeface="Times New Roman"/>
              </a:rPr>
              <a:t>银行倒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4135320" y="3513240"/>
            <a:ext cx="387216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4fb65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4fb65"/>
                </a:solidFill>
                <a:latin typeface="Times New Roman"/>
              </a:rPr>
              <a:t>企  业  破  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547560" y="4584600"/>
            <a:ext cx="287352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4fb65"/>
                </a:solidFill>
                <a:latin typeface="Times New Roman"/>
              </a:rPr>
              <a:t>工人失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3468600" y="4557600"/>
            <a:ext cx="3846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4194000" y="5394240"/>
            <a:ext cx="387540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4fb65"/>
                </a:solidFill>
                <a:latin typeface="Times New Roman"/>
              </a:rPr>
              <a:t>农民收入锐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7"/>
          <p:cNvGrpSpPr/>
          <p:nvPr/>
        </p:nvGrpSpPr>
        <p:grpSpPr>
          <a:xfrm>
            <a:off x="2171880" y="933480"/>
            <a:ext cx="3606480" cy="1414440"/>
            <a:chOff x="2171880" y="933480"/>
            <a:chExt cx="3606480" cy="1414440"/>
          </a:xfrm>
        </p:grpSpPr>
        <p:sp>
          <p:nvSpPr>
            <p:cNvPr id="203" name="Oval 8"/>
            <p:cNvSpPr/>
            <p:nvPr/>
          </p:nvSpPr>
          <p:spPr>
            <a:xfrm>
              <a:off x="2171880" y="933480"/>
              <a:ext cx="3457440" cy="14144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9"/>
            <p:cNvSpPr/>
            <p:nvPr/>
          </p:nvSpPr>
          <p:spPr>
            <a:xfrm>
              <a:off x="2612880" y="1210320"/>
              <a:ext cx="3165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股市崩溃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381120" y="2378160"/>
            <a:ext cx="493920" cy="855720"/>
            <a:chOff x="3381120" y="2378160"/>
            <a:chExt cx="493920" cy="855720"/>
          </a:xfrm>
        </p:grpSpPr>
        <p:sp>
          <p:nvSpPr>
            <p:cNvPr id="206" name="Line 10"/>
            <p:cNvSpPr/>
            <p:nvPr/>
          </p:nvSpPr>
          <p:spPr>
            <a:xfrm flipH="1">
              <a:off x="3381120" y="2378160"/>
              <a:ext cx="493560" cy="855720"/>
            </a:xfrm>
            <a:prstGeom prst="line">
              <a:avLst/>
            </a:prstGeom>
            <a:ln w="5724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>
              <a:off x="3381480" y="2378160"/>
              <a:ext cx="493560" cy="855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424320" y="3279600"/>
            <a:ext cx="741240" cy="696960"/>
            <a:chOff x="3424320" y="3279600"/>
            <a:chExt cx="741240" cy="696960"/>
          </a:xfrm>
        </p:grpSpPr>
        <p:sp>
          <p:nvSpPr>
            <p:cNvPr id="209" name="Line 11"/>
            <p:cNvSpPr/>
            <p:nvPr/>
          </p:nvSpPr>
          <p:spPr>
            <a:xfrm>
              <a:off x="3424320" y="3279600"/>
              <a:ext cx="741240" cy="696960"/>
            </a:xfrm>
            <a:prstGeom prst="line">
              <a:avLst/>
            </a:prstGeom>
            <a:ln w="5724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3424320" y="3279600"/>
              <a:ext cx="741240" cy="69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452400" y="4005360"/>
            <a:ext cx="638640" cy="1003320"/>
            <a:chOff x="3452400" y="4005360"/>
            <a:chExt cx="638640" cy="1003320"/>
          </a:xfrm>
        </p:grpSpPr>
        <p:sp>
          <p:nvSpPr>
            <p:cNvPr id="212" name="Line 12"/>
            <p:cNvSpPr/>
            <p:nvPr/>
          </p:nvSpPr>
          <p:spPr>
            <a:xfrm flipH="1">
              <a:off x="3452400" y="4005360"/>
              <a:ext cx="638280" cy="1003320"/>
            </a:xfrm>
            <a:prstGeom prst="line">
              <a:avLst/>
            </a:prstGeom>
            <a:ln w="5724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3452760" y="4005360"/>
              <a:ext cx="638280" cy="100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448080" y="5084640"/>
            <a:ext cx="696960" cy="727200"/>
            <a:chOff x="3448080" y="5084640"/>
            <a:chExt cx="696960" cy="727200"/>
          </a:xfrm>
        </p:grpSpPr>
        <p:sp>
          <p:nvSpPr>
            <p:cNvPr id="215" name="Line 13"/>
            <p:cNvSpPr/>
            <p:nvPr/>
          </p:nvSpPr>
          <p:spPr>
            <a:xfrm>
              <a:off x="3448080" y="5084640"/>
              <a:ext cx="696960" cy="727200"/>
            </a:xfrm>
            <a:prstGeom prst="line">
              <a:avLst/>
            </a:prstGeom>
            <a:ln w="5724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3448080" y="5084640"/>
              <a:ext cx="696960" cy="72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WordArt 14"/>
          <p:cNvSpPr txBox="1"/>
          <p:nvPr/>
        </p:nvSpPr>
        <p:spPr>
          <a:xfrm>
            <a:off x="5791320" y="380880"/>
            <a:ext cx="2743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大萧条</a:t>
            </a:r>
            <a:endParaRPr b="1" lang="en-US" sz="44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pull dir="lu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1409760" y="152280"/>
            <a:ext cx="38322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黑体"/>
                <a:ea typeface="黑体"/>
              </a:rPr>
              <a:t>经济大危机的特点</a:t>
            </a:r>
            <a:r>
              <a:rPr b="1" lang="en-US" sz="5400" spc="-1" strike="noStrike">
                <a:solidFill>
                  <a:srgbClr val="ff0066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04920" y="1066680"/>
          <a:ext cx="8640720" cy="5608800"/>
        </p:xfrm>
        <a:graphic>
          <a:graphicData uri="http://schemas.openxmlformats.org/drawingml/2006/table">
            <a:tbl>
              <a:tblPr/>
              <a:tblGrid>
                <a:gridCol w="2665440"/>
                <a:gridCol w="597528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特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表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0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地域：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从美国蔓延到欧美、日本等主要资本主义国家，并波及到殖民地、半殖民地，演化为世界经济危机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部门：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金融业开始，后影响到工业、农业、商业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危机从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9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持续到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整个资本主义世界一片恐慌，物质损失超过了第一次世界大战。至今资产阶级提起这场危机，依然心有余悸。（史称”大萧条”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Text Box 20"/>
          <p:cNvSpPr/>
          <p:nvPr/>
        </p:nvSpPr>
        <p:spPr>
          <a:xfrm>
            <a:off x="395280" y="419112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持续时间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1"/>
          <p:cNvSpPr/>
          <p:nvPr/>
        </p:nvSpPr>
        <p:spPr>
          <a:xfrm>
            <a:off x="539640" y="4952880"/>
            <a:ext cx="21607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破坏性特别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2"/>
          <p:cNvSpPr/>
          <p:nvPr/>
        </p:nvSpPr>
        <p:spPr>
          <a:xfrm>
            <a:off x="539640" y="2057400"/>
            <a:ext cx="26640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　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波及　　　范围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1"/>
          <p:cNvPicPr/>
          <p:nvPr/>
        </p:nvPicPr>
        <p:blipFill>
          <a:blip r:embed="rId1"/>
          <a:stretch/>
        </p:blipFill>
        <p:spPr>
          <a:xfrm>
            <a:off x="228600" y="76320"/>
            <a:ext cx="4724280" cy="46195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3"/>
          <p:cNvSpPr/>
          <p:nvPr/>
        </p:nvSpPr>
        <p:spPr>
          <a:xfrm>
            <a:off x="228600" y="5153040"/>
            <a:ext cx="487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会三项技能，我会三种语言，我已经有三年工龄，我有三个孩子，我已经失业三个月了，现在仅仅需要一份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5410080" y="4724280"/>
            <a:ext cx="3048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高企的失业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6" descr="CI7O]ZA8EWWVEVP`ZPEE{OG"/>
          <p:cNvPicPr/>
          <p:nvPr/>
        </p:nvPicPr>
        <p:blipFill>
          <a:blip r:embed="rId2"/>
          <a:stretch/>
        </p:blipFill>
        <p:spPr>
          <a:xfrm>
            <a:off x="4800600" y="762120"/>
            <a:ext cx="4172040" cy="368604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7"/>
          <p:cNvSpPr/>
          <p:nvPr/>
        </p:nvSpPr>
        <p:spPr>
          <a:xfrm>
            <a:off x="685800" y="46483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街头求职的英国失业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2" descr="200706071310491001"/>
          <p:cNvPicPr/>
          <p:nvPr/>
        </p:nvPicPr>
        <p:blipFill>
          <a:blip r:embed="rId1"/>
          <a:stretch/>
        </p:blipFill>
        <p:spPr>
          <a:xfrm>
            <a:off x="4343400" y="3200400"/>
            <a:ext cx="4724280" cy="3544920"/>
          </a:xfrm>
          <a:prstGeom prst="rect">
            <a:avLst/>
          </a:prstGeom>
          <a:ln w="0">
            <a:noFill/>
          </a:ln>
        </p:spPr>
      </p:pic>
      <p:sp>
        <p:nvSpPr>
          <p:cNvPr id="88" name="WordArt 8"/>
          <p:cNvSpPr txBox="1"/>
          <p:nvPr/>
        </p:nvSpPr>
        <p:spPr>
          <a:xfrm>
            <a:off x="533520" y="76320"/>
            <a:ext cx="4572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一、一战后世界格局</a:t>
            </a:r>
            <a:endParaRPr b="1" lang="en-US" sz="4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9" name="WordArt 9"/>
          <p:cNvSpPr txBox="1"/>
          <p:nvPr/>
        </p:nvSpPr>
        <p:spPr>
          <a:xfrm>
            <a:off x="1143000" y="1066680"/>
            <a:ext cx="22096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协约国</a:t>
            </a:r>
            <a:endParaRPr b="1" lang="en-US" sz="4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0" name="WordArt 10"/>
          <p:cNvSpPr txBox="1"/>
          <p:nvPr/>
        </p:nvSpPr>
        <p:spPr>
          <a:xfrm>
            <a:off x="5738760" y="1066680"/>
            <a:ext cx="2033640" cy="12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同盟国</a:t>
            </a:r>
            <a:endParaRPr b="1" lang="en-US" sz="54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1" name="WordArt 11"/>
          <p:cNvSpPr txBox="1"/>
          <p:nvPr/>
        </p:nvSpPr>
        <p:spPr>
          <a:xfrm>
            <a:off x="4114800" y="1219320"/>
            <a:ext cx="914400" cy="99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VS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228600" y="2286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美、英、法、俄、意、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4648320" y="22096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德国、奥匈帝国、奥斯曼帝国、保加利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410080" y="914400"/>
            <a:ext cx="2743200" cy="1295280"/>
            <a:chOff x="5410080" y="914400"/>
            <a:chExt cx="2743200" cy="1295280"/>
          </a:xfrm>
        </p:grpSpPr>
        <p:sp>
          <p:nvSpPr>
            <p:cNvPr id="95" name="Line 14"/>
            <p:cNvSpPr/>
            <p:nvPr/>
          </p:nvSpPr>
          <p:spPr>
            <a:xfrm flipV="1">
              <a:off x="5410080" y="914400"/>
              <a:ext cx="2743200" cy="129528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 rot="10800000">
              <a:off x="5410080" y="914040"/>
              <a:ext cx="274320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486400" y="838080"/>
            <a:ext cx="2743200" cy="1371600"/>
            <a:chOff x="5486400" y="838080"/>
            <a:chExt cx="2743200" cy="1371600"/>
          </a:xfrm>
        </p:grpSpPr>
        <p:sp>
          <p:nvSpPr>
            <p:cNvPr id="98" name="Line 15"/>
            <p:cNvSpPr/>
            <p:nvPr/>
          </p:nvSpPr>
          <p:spPr>
            <a:xfrm>
              <a:off x="5486400" y="838080"/>
              <a:ext cx="2743200" cy="137160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5486400" y="838080"/>
              <a:ext cx="274320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WordArt 16"/>
          <p:cNvSpPr txBox="1"/>
          <p:nvPr/>
        </p:nvSpPr>
        <p:spPr>
          <a:xfrm>
            <a:off x="685800" y="3200400"/>
            <a:ext cx="236232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巴黎和会</a:t>
            </a:r>
            <a:endParaRPr b="1" lang="en-US" sz="4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304920" y="419112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目的：对战后的世界做出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304920" y="47242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间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1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9"/>
          <p:cNvSpPr/>
          <p:nvPr/>
        </p:nvSpPr>
        <p:spPr>
          <a:xfrm>
            <a:off x="304920" y="525780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地点：法国巴黎凡尔赛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http://img2.cache.netease.com/stock/2008/10/20/200810200846182d62a.jpg"/>
          <p:cNvPicPr/>
          <p:nvPr/>
        </p:nvPicPr>
        <p:blipFill>
          <a:blip r:embed="rId1"/>
          <a:stretch/>
        </p:blipFill>
        <p:spPr>
          <a:xfrm>
            <a:off x="304920" y="519120"/>
            <a:ext cx="4114800" cy="5043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http://www.bsyz.net/zyk/ls/9B2/2/zyzx/WWYZ/pics_19.jpg"/>
          <p:cNvPicPr/>
          <p:nvPr/>
        </p:nvPicPr>
        <p:blipFill>
          <a:blip r:embed="rId2"/>
          <a:stretch/>
        </p:blipFill>
        <p:spPr>
          <a:xfrm>
            <a:off x="4648320" y="914400"/>
            <a:ext cx="4297320" cy="441648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6"/>
          <p:cNvSpPr/>
          <p:nvPr/>
        </p:nvSpPr>
        <p:spPr>
          <a:xfrm>
            <a:off x="228600" y="57294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失业者在职业介绍所外排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4648320" y="533412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失业者排队等候领取救济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8199"/>
          <p:cNvSpPr/>
          <p:nvPr/>
        </p:nvSpPr>
        <p:spPr>
          <a:xfrm>
            <a:off x="4527720" y="4208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百老汇前等待救济的人群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759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Arial"/>
                <a:ea typeface="迷你简超粗圆"/>
              </a:rPr>
              <a:t>金融危机时低价出售汽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06052"/>
          <p:cNvPicPr/>
          <p:nvPr/>
        </p:nvPicPr>
        <p:blipFill>
          <a:blip r:embed="rId1"/>
          <a:srcRect l="3750" t="13331" r="3750" b="13331"/>
          <a:stretch/>
        </p:blipFill>
        <p:spPr>
          <a:xfrm>
            <a:off x="395280" y="914400"/>
            <a:ext cx="8459640" cy="50292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0" y="6019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美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买下这辆车，在股市上丧失了一切，急需现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"/>
          <p:cNvSpPr/>
          <p:nvPr/>
        </p:nvSpPr>
        <p:spPr>
          <a:xfrm>
            <a:off x="2249640" y="76320"/>
            <a:ext cx="43369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黑体"/>
              </a:rPr>
              <a:t>大危机时期美国穷人居住的“胡佛小屋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大危机时期美国穷人居住的棚屋区"/>
          <p:cNvPicPr/>
          <p:nvPr/>
        </p:nvPicPr>
        <p:blipFill>
          <a:blip r:embed="rId1"/>
          <a:stretch/>
        </p:blipFill>
        <p:spPr>
          <a:xfrm>
            <a:off x="762120" y="609480"/>
            <a:ext cx="7557840" cy="487044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5"/>
          <p:cNvSpPr/>
          <p:nvPr/>
        </p:nvSpPr>
        <p:spPr>
          <a:xfrm>
            <a:off x="133200" y="5486400"/>
            <a:ext cx="8875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经济危机使大批工人和农民饥寒交迫，流离失所。各城市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贫民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迅速扩展，用破铁皮和木板搭建的所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胡佛小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随处可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859280" y="259920"/>
            <a:ext cx="4284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资本家故意大量销毁产品，拔掉田里未长成的棉花，宰杀幼猪，把大量的牛奶倒入河中，任凭成熟的水果烂在技头，玉米和小麦被当作燃料付之一炬。英国资本家把整船的橘子倾入大海，巴西资本家则销毁了两个多万袋咖啡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农场主销毁“过剩”的牛奶"/>
          <p:cNvPicPr/>
          <p:nvPr/>
        </p:nvPicPr>
        <p:blipFill>
          <a:blip r:embed="rId1"/>
          <a:stretch/>
        </p:blipFill>
        <p:spPr>
          <a:xfrm>
            <a:off x="347760" y="260280"/>
            <a:ext cx="4727520" cy="48452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4"/>
          <p:cNvSpPr/>
          <p:nvPr/>
        </p:nvSpPr>
        <p:spPr>
          <a:xfrm>
            <a:off x="380880" y="5105520"/>
            <a:ext cx="849636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Q1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：资本家为什么要销毁商品， 而不去救济贫民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减少产品，维持价格，保持利润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Q2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：这说明了资本家什么本性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唯利是图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WordArt 5"/>
          <p:cNvSpPr txBox="1"/>
          <p:nvPr/>
        </p:nvSpPr>
        <p:spPr>
          <a:xfrm>
            <a:off x="0" y="0"/>
            <a:ext cx="93348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同时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2209680" y="63388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体现了资本主义制度的腐朽和罪恶，资产阶级的虚伪和残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4"/>
          <p:cNvGrpSpPr/>
          <p:nvPr/>
        </p:nvGrpSpPr>
        <p:grpSpPr>
          <a:xfrm>
            <a:off x="152280" y="152280"/>
            <a:ext cx="8686800" cy="1081080"/>
            <a:chOff x="152280" y="152280"/>
            <a:chExt cx="8686800" cy="1081080"/>
          </a:xfrm>
        </p:grpSpPr>
        <p:sp>
          <p:nvSpPr>
            <p:cNvPr id="246" name="Rectangle 5"/>
            <p:cNvSpPr/>
            <p:nvPr/>
          </p:nvSpPr>
          <p:spPr>
            <a:xfrm>
              <a:off x="152280" y="152280"/>
              <a:ext cx="8686800" cy="10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WordArt 6"/>
            <p:cNvSpPr txBox="1"/>
            <p:nvPr/>
          </p:nvSpPr>
          <p:spPr>
            <a:xfrm>
              <a:off x="527760" y="225000"/>
              <a:ext cx="7525440" cy="9144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00"/>
                    </a:solidFill>
                    <a:round/>
                  </a:ln>
                  <a:solidFill>
                    <a:srgbClr val="33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经济危机引发政治危机和社会危机</a:t>
              </a:r>
              <a:endParaRPr b="1" lang="en-US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33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pic>
        <p:nvPicPr>
          <p:cNvPr id="248" name="Picture 7" descr="危机中的工人2"/>
          <p:cNvPicPr/>
          <p:nvPr/>
        </p:nvPicPr>
        <p:blipFill>
          <a:blip r:embed="rId1"/>
          <a:stretch/>
        </p:blipFill>
        <p:spPr>
          <a:xfrm>
            <a:off x="216000" y="1371600"/>
            <a:ext cx="4537080" cy="32241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8"/>
          <p:cNvSpPr/>
          <p:nvPr/>
        </p:nvSpPr>
        <p:spPr>
          <a:xfrm>
            <a:off x="0" y="472176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示威者与警察发生冲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9" descr="危机中的工人1"/>
          <p:cNvPicPr/>
          <p:nvPr/>
        </p:nvPicPr>
        <p:blipFill>
          <a:blip r:embed="rId2"/>
          <a:stretch/>
        </p:blipFill>
        <p:spPr>
          <a:xfrm>
            <a:off x="4572000" y="3672000"/>
            <a:ext cx="4486320" cy="28810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10"/>
          <p:cNvSpPr/>
          <p:nvPr/>
        </p:nvSpPr>
        <p:spPr>
          <a:xfrm>
            <a:off x="4802040" y="300096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工人砸碎工厂的玻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1" descr="纳粹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1468440"/>
            <a:ext cx="2209680" cy="13510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8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胡佛"/>
          <p:cNvPicPr/>
          <p:nvPr/>
        </p:nvPicPr>
        <p:blipFill>
          <a:blip r:embed="rId1"/>
          <a:stretch/>
        </p:blipFill>
        <p:spPr>
          <a:xfrm>
            <a:off x="685800" y="3352680"/>
            <a:ext cx="2476440" cy="31244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pic_73807"/>
          <p:cNvPicPr/>
          <p:nvPr/>
        </p:nvPicPr>
        <p:blipFill>
          <a:blip r:embed="rId2"/>
          <a:stretch/>
        </p:blipFill>
        <p:spPr>
          <a:xfrm>
            <a:off x="6095880" y="3352680"/>
            <a:ext cx="2374920" cy="312444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4"/>
          <p:cNvSpPr/>
          <p:nvPr/>
        </p:nvSpPr>
        <p:spPr>
          <a:xfrm>
            <a:off x="5796000" y="152280"/>
            <a:ext cx="3348000" cy="2484720"/>
          </a:xfrm>
          <a:prstGeom prst="cloudCallout">
            <a:avLst>
              <a:gd name="adj1" fmla="val -32833"/>
              <a:gd name="adj2" fmla="val 92425"/>
            </a:avLst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6248520" y="396720"/>
            <a:ext cx="26668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果竞选成功，我保证将为美国人民实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新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-605520" y="4343400"/>
            <a:ext cx="139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胡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7776360" y="3962520"/>
            <a:ext cx="1399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罗斯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8"/>
          <p:cNvSpPr/>
          <p:nvPr/>
        </p:nvSpPr>
        <p:spPr>
          <a:xfrm>
            <a:off x="0" y="189000"/>
            <a:ext cx="4067280" cy="2519280"/>
          </a:xfrm>
          <a:prstGeom prst="cloudCallout">
            <a:avLst>
              <a:gd name="adj1" fmla="val 19712"/>
              <a:gd name="adj2" fmla="val 80875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395280" y="404640"/>
            <a:ext cx="37958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最好的经济是完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自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市场经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最好的政府是不干预经济的政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0"/>
          <p:cNvSpPr/>
          <p:nvPr/>
        </p:nvSpPr>
        <p:spPr>
          <a:xfrm>
            <a:off x="3059280" y="4800600"/>
            <a:ext cx="1066680" cy="48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1"/>
          <p:cNvSpPr/>
          <p:nvPr/>
        </p:nvSpPr>
        <p:spPr>
          <a:xfrm rot="10800000">
            <a:off x="5364000" y="4797360"/>
            <a:ext cx="1067040" cy="48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WordArt 12"/>
          <p:cNvSpPr txBox="1"/>
          <p:nvPr/>
        </p:nvSpPr>
        <p:spPr>
          <a:xfrm>
            <a:off x="3995640" y="4437000"/>
            <a:ext cx="1295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PK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2436840" y="2708280"/>
            <a:ext cx="4847040" cy="6426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1575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万票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—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2280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万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4140360" y="2438280"/>
            <a:ext cx="50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他是唯一一位坐在轮椅上的美国总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4138560" y="838080"/>
            <a:ext cx="50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他是唯一一位连任四届的美国总统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933-1945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4067280" y="4008600"/>
            <a:ext cx="50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他是继华盛顿、林肯后最受美国和世界公众欢迎的美国总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0" y="404640"/>
            <a:ext cx="4095720" cy="51580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6"/>
          <p:cNvSpPr/>
          <p:nvPr/>
        </p:nvSpPr>
        <p:spPr>
          <a:xfrm>
            <a:off x="179280" y="5551200"/>
            <a:ext cx="3816360" cy="1191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富兰克林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黑体"/>
              </a:rPr>
              <a:t>•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罗斯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(1882--194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1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罗斯福"/>
          <p:cNvPicPr/>
          <p:nvPr/>
        </p:nvPicPr>
        <p:blipFill>
          <a:blip r:embed="rId1"/>
          <a:stretch/>
        </p:blipFill>
        <p:spPr>
          <a:xfrm>
            <a:off x="152280" y="189000"/>
            <a:ext cx="4648320" cy="647676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3"/>
          <p:cNvSpPr/>
          <p:nvPr/>
        </p:nvSpPr>
        <p:spPr>
          <a:xfrm>
            <a:off x="4788000" y="333360"/>
            <a:ext cx="4203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1933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日，发表了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无所畏惧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的就职演说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: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这个伟大的国家将坚持下去，并获得新生和繁荣。因此，首先请允许我表明自己的坚定信念，即我们所恐惧的就是恐惧本身。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4800600" y="4876920"/>
            <a:ext cx="4495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ush Script MT"/>
                <a:ea typeface="MingLiU"/>
              </a:rPr>
              <a:t>The only thing we have to fear is fear itself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WordArt 5"/>
          <p:cNvSpPr txBox="1"/>
          <p:nvPr/>
        </p:nvSpPr>
        <p:spPr>
          <a:xfrm>
            <a:off x="152280" y="246240"/>
            <a:ext cx="2743200" cy="127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8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炉边谈话</a:t>
            </a:r>
            <a:endParaRPr b="1" lang="en-US" sz="4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p:transition spd="slow">
    <p:pull dir="r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8920" y="257040"/>
            <a:ext cx="5002200" cy="7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000099"/>
                </a:solidFill>
                <a:latin typeface="黑体"/>
                <a:ea typeface="黑体"/>
              </a:rPr>
              <a:t>三、罗斯福新政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3" descr="luosif1"/>
          <p:cNvPicPr/>
          <p:nvPr/>
        </p:nvPicPr>
        <p:blipFill>
          <a:blip r:embed="rId1"/>
          <a:stretch/>
        </p:blipFill>
        <p:spPr>
          <a:xfrm>
            <a:off x="44280" y="1371600"/>
            <a:ext cx="3689640" cy="487692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6"/>
          <p:cNvSpPr/>
          <p:nvPr/>
        </p:nvSpPr>
        <p:spPr>
          <a:xfrm>
            <a:off x="3875040" y="89856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、开始时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3787920" y="1492200"/>
            <a:ext cx="50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3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罗斯福就任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3908520" y="1965240"/>
            <a:ext cx="371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、新政的目的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3733920" y="26668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目的：消除经济危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3733920" y="32004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根本目的：维护资本主义统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1"/>
          <p:cNvSpPr/>
          <p:nvPr/>
        </p:nvSpPr>
        <p:spPr>
          <a:xfrm>
            <a:off x="3935520" y="3657600"/>
            <a:ext cx="383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、新政的特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3886200" y="4251240"/>
            <a:ext cx="482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国家加强对经济的干预和指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4038480" y="54864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华文宋体"/>
                <a:ea typeface="华文宋体"/>
              </a:rPr>
              <a:t>4</a:t>
            </a:r>
            <a:r>
              <a:rPr b="1" lang="zh-CN" sz="3600" spc="-1" strike="noStrike">
                <a:solidFill>
                  <a:srgbClr val="006600"/>
                </a:solidFill>
                <a:latin typeface="华文宋体"/>
                <a:ea typeface="华文宋体"/>
              </a:rPr>
              <a:t>、具体措施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28600" y="34920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19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月签订对德合约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5334120" y="4255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凡尔赛和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凡尔赛和约的签字"/>
          <p:cNvPicPr/>
          <p:nvPr/>
        </p:nvPicPr>
        <p:blipFill>
          <a:blip r:embed="rId1"/>
          <a:srcRect l="9166" t="0" r="10004" b="24449"/>
          <a:stretch/>
        </p:blipFill>
        <p:spPr>
          <a:xfrm>
            <a:off x="838080" y="1143000"/>
            <a:ext cx="7162920" cy="42703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1676520" y="556272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凡尔赛和约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上的签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4"/>
          <p:cNvSpPr/>
          <p:nvPr/>
        </p:nvSpPr>
        <p:spPr>
          <a:xfrm>
            <a:off x="76320" y="763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中心措施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124080" y="76320"/>
            <a:ext cx="35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对工业的调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990720" y="6858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国家工业复兴法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04920" y="1360440"/>
            <a:ext cx="8305560" cy="174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罗斯福政府成立‘全国复兴署’，由它协调国家、企业主和劳工之间的相互关系，共同拟定公平竞争法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凡是接受法规的企业，一律发给印有‘我们尽我们的职责’的蓝鹰标志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公平地对待劳工的行为为非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每周工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，每小时不得少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美分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代周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每期上也印上蓝鹰，以表现美国人民对新政的拥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304920" y="419112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问题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企业怎样做才能得到蓝鹰标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228600" y="473868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企业必须进行公平竞争，遵守规定等才能得到蓝鹰标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380880" y="528804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问题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为什么罗斯福政府要这样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609480" y="5835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了减少因盲目竞争而引起的生产过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2" descr="013"/>
          <p:cNvPicPr/>
          <p:nvPr/>
        </p:nvPicPr>
        <p:blipFill>
          <a:blip r:embed="rId1"/>
          <a:stretch/>
        </p:blipFill>
        <p:spPr>
          <a:xfrm>
            <a:off x="7010280" y="0"/>
            <a:ext cx="1295640" cy="1371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380880" y="838080"/>
          <a:ext cx="8686800" cy="5562720"/>
        </p:xfrm>
        <a:graphic>
          <a:graphicData uri="http://schemas.openxmlformats.org/drawingml/2006/table">
            <a:tbl>
              <a:tblPr/>
              <a:tblGrid>
                <a:gridCol w="1219320"/>
                <a:gridCol w="3429000"/>
                <a:gridCol w="4038480"/>
              </a:tblGrid>
              <a:tr h="609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3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2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3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3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4" name="Text Box 34"/>
          <p:cNvSpPr/>
          <p:nvPr/>
        </p:nvSpPr>
        <p:spPr>
          <a:xfrm>
            <a:off x="533520" y="838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项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5"/>
          <p:cNvSpPr/>
          <p:nvPr/>
        </p:nvSpPr>
        <p:spPr>
          <a:xfrm>
            <a:off x="2895480" y="8064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措 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6"/>
          <p:cNvSpPr/>
          <p:nvPr/>
        </p:nvSpPr>
        <p:spPr>
          <a:xfrm>
            <a:off x="6477120" y="806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 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9"/>
          <p:cNvSpPr/>
          <p:nvPr/>
        </p:nvSpPr>
        <p:spPr>
          <a:xfrm>
            <a:off x="457200" y="1676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金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0"/>
          <p:cNvSpPr/>
          <p:nvPr/>
        </p:nvSpPr>
        <p:spPr>
          <a:xfrm>
            <a:off x="457200" y="2819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1"/>
          <p:cNvSpPr/>
          <p:nvPr/>
        </p:nvSpPr>
        <p:spPr>
          <a:xfrm>
            <a:off x="457200" y="39304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工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2"/>
          <p:cNvSpPr/>
          <p:nvPr/>
        </p:nvSpPr>
        <p:spPr>
          <a:xfrm>
            <a:off x="457200" y="49816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工代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3"/>
          <p:cNvSpPr/>
          <p:nvPr/>
        </p:nvSpPr>
        <p:spPr>
          <a:xfrm>
            <a:off x="2209680" y="1676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整顿银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44"/>
          <p:cNvSpPr/>
          <p:nvPr/>
        </p:nvSpPr>
        <p:spPr>
          <a:xfrm>
            <a:off x="1523880" y="2590920"/>
            <a:ext cx="3886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让农民缩减耕地，屠宰牲畜，政府补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5"/>
          <p:cNvSpPr/>
          <p:nvPr/>
        </p:nvSpPr>
        <p:spPr>
          <a:xfrm>
            <a:off x="1752480" y="38098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通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国家工业复兴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6"/>
          <p:cNvSpPr/>
          <p:nvPr/>
        </p:nvSpPr>
        <p:spPr>
          <a:xfrm>
            <a:off x="2057400" y="52117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兴办公共工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7"/>
          <p:cNvSpPr/>
          <p:nvPr/>
        </p:nvSpPr>
        <p:spPr>
          <a:xfrm>
            <a:off x="5410080" y="16765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恢复了银行的信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8"/>
          <p:cNvSpPr/>
          <p:nvPr/>
        </p:nvSpPr>
        <p:spPr>
          <a:xfrm>
            <a:off x="5410080" y="28195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促进了农业的复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9"/>
          <p:cNvSpPr/>
          <p:nvPr/>
        </p:nvSpPr>
        <p:spPr>
          <a:xfrm>
            <a:off x="4952880" y="368928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防止出现盲目竞争引起的生产过剩，从而加强了政府对资本主义工业生产的控制与调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0"/>
          <p:cNvSpPr/>
          <p:nvPr/>
        </p:nvSpPr>
        <p:spPr>
          <a:xfrm>
            <a:off x="5029200" y="4861080"/>
            <a:ext cx="4114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便利了水上交通，吸纳了大量的失业者，刺激了生产和消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00"/>
                </a:solidFill>
                <a:latin typeface="Arial"/>
                <a:ea typeface="迷你简毡笔黑"/>
              </a:rPr>
              <a:t>罗斯福看望美国农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" descr="06058"/>
          <p:cNvPicPr/>
          <p:nvPr/>
        </p:nvPicPr>
        <p:blipFill>
          <a:blip r:embed="rId1"/>
          <a:srcRect l="2502" t="13283" r="2348" b="10374"/>
          <a:stretch/>
        </p:blipFill>
        <p:spPr>
          <a:xfrm>
            <a:off x="826920" y="1557360"/>
            <a:ext cx="7525080" cy="4556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825200" y="129960"/>
            <a:ext cx="5410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00"/>
                </a:solidFill>
                <a:latin typeface="Arial"/>
                <a:ea typeface="迷你简毡笔黑"/>
              </a:rPr>
              <a:t>工赈救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3" descr="06061"/>
          <p:cNvPicPr/>
          <p:nvPr/>
        </p:nvPicPr>
        <p:blipFill>
          <a:blip r:embed="rId1"/>
          <a:srcRect l="0" t="0" r="0" b="4609"/>
          <a:stretch/>
        </p:blipFill>
        <p:spPr>
          <a:xfrm>
            <a:off x="611280" y="981000"/>
            <a:ext cx="8243640" cy="51246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1"/>
          <p:cNvPicPr/>
          <p:nvPr/>
        </p:nvPicPr>
        <p:blipFill>
          <a:blip r:embed="rId2"/>
          <a:stretch/>
        </p:blipFill>
        <p:spPr>
          <a:xfrm>
            <a:off x="8459640" y="5661000"/>
            <a:ext cx="509760" cy="620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457200" y="217440"/>
            <a:ext cx="7391520" cy="6323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106200" y="1052640"/>
            <a:ext cx="903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）积极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468360" y="333360"/>
            <a:ext cx="468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395280" y="40464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、评价罗斯福新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228600" y="167652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成效显著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228600" y="236232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经济缓慢恢复，人民生活改善；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228600" y="3124080"/>
            <a:ext cx="899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资本主义制度得到调整、巩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与发展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228600" y="4511520"/>
            <a:ext cx="899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国家对经济的宏观控制和管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加强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228600" y="58672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④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联邦政府的权力明显增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8199"/>
          <p:cNvSpPr/>
          <p:nvPr/>
        </p:nvSpPr>
        <p:spPr>
          <a:xfrm>
            <a:off x="3170160" y="12668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0" y="907920"/>
            <a:ext cx="896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在美国和世界资本主义发展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上具有重要意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380880" y="281952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）局限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1066680" y="36576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不能从根本上消除经济危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61A7-7B36-4133-B9AB-9C43B5A21B2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1752480" y="0"/>
            <a:ext cx="61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经济大危机的原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3"/>
          <p:cNvGrpSpPr/>
          <p:nvPr/>
        </p:nvGrpSpPr>
        <p:grpSpPr>
          <a:xfrm>
            <a:off x="6095880" y="4114800"/>
            <a:ext cx="2286000" cy="914400"/>
            <a:chOff x="6095880" y="4114800"/>
            <a:chExt cx="2286000" cy="914400"/>
          </a:xfrm>
        </p:grpSpPr>
        <p:sp>
          <p:nvSpPr>
            <p:cNvPr id="333" name="Oval 4"/>
            <p:cNvSpPr/>
            <p:nvPr/>
          </p:nvSpPr>
          <p:spPr>
            <a:xfrm>
              <a:off x="6095880" y="4114800"/>
              <a:ext cx="2286000" cy="914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5"/>
            <p:cNvSpPr/>
            <p:nvPr/>
          </p:nvSpPr>
          <p:spPr>
            <a:xfrm>
              <a:off x="6248520" y="4190760"/>
              <a:ext cx="2133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导火线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Text Box 6"/>
          <p:cNvSpPr/>
          <p:nvPr/>
        </p:nvSpPr>
        <p:spPr>
          <a:xfrm>
            <a:off x="6095880" y="5105520"/>
            <a:ext cx="2514600" cy="13129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美国纽约股市崩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457200" y="4800600"/>
            <a:ext cx="3276720" cy="10688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资本家怂恿人们买股票 ，股票价格被高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8"/>
          <p:cNvSpPr/>
          <p:nvPr/>
        </p:nvSpPr>
        <p:spPr>
          <a:xfrm>
            <a:off x="1523880" y="3809880"/>
            <a:ext cx="838440" cy="83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9"/>
          <p:cNvSpPr/>
          <p:nvPr/>
        </p:nvSpPr>
        <p:spPr>
          <a:xfrm>
            <a:off x="4038480" y="5334120"/>
            <a:ext cx="1676520" cy="609480"/>
          </a:xfrm>
          <a:prstGeom prst="rightArrow">
            <a:avLst>
              <a:gd name="adj1" fmla="val 50000"/>
              <a:gd name="adj2" fmla="val 6876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"/>
          <p:cNvSpPr/>
          <p:nvPr/>
        </p:nvSpPr>
        <p:spPr>
          <a:xfrm>
            <a:off x="533520" y="3016080"/>
            <a:ext cx="3047760" cy="6426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产相对过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11"/>
          <p:cNvGrpSpPr/>
          <p:nvPr/>
        </p:nvGrpSpPr>
        <p:grpSpPr>
          <a:xfrm>
            <a:off x="3809880" y="2743200"/>
            <a:ext cx="2438640" cy="1066680"/>
            <a:chOff x="3809880" y="2743200"/>
            <a:chExt cx="2438640" cy="1066680"/>
          </a:xfrm>
        </p:grpSpPr>
        <p:sp>
          <p:nvSpPr>
            <p:cNvPr id="341" name="Oval 12"/>
            <p:cNvSpPr/>
            <p:nvPr/>
          </p:nvSpPr>
          <p:spPr>
            <a:xfrm>
              <a:off x="3809880" y="2743200"/>
              <a:ext cx="2438640" cy="10666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13"/>
            <p:cNvSpPr/>
            <p:nvPr/>
          </p:nvSpPr>
          <p:spPr>
            <a:xfrm>
              <a:off x="3809880" y="2941560"/>
              <a:ext cx="2438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直接原因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Text Box 14"/>
          <p:cNvSpPr/>
          <p:nvPr/>
        </p:nvSpPr>
        <p:spPr>
          <a:xfrm>
            <a:off x="228600" y="990720"/>
            <a:ext cx="6324480" cy="10688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产资料的资本家私人占有制与社会化大生产之间的矛盾日益激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5"/>
          <p:cNvSpPr/>
          <p:nvPr/>
        </p:nvSpPr>
        <p:spPr>
          <a:xfrm>
            <a:off x="1523880" y="2133720"/>
            <a:ext cx="762120" cy="838080"/>
          </a:xfrm>
          <a:prstGeom prst="down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16"/>
          <p:cNvGrpSpPr/>
          <p:nvPr/>
        </p:nvGrpSpPr>
        <p:grpSpPr>
          <a:xfrm>
            <a:off x="6629400" y="990720"/>
            <a:ext cx="2438280" cy="1066680"/>
            <a:chOff x="6629400" y="990720"/>
            <a:chExt cx="2438280" cy="1066680"/>
          </a:xfrm>
        </p:grpSpPr>
        <p:sp>
          <p:nvSpPr>
            <p:cNvPr id="346" name="Oval 17"/>
            <p:cNvSpPr/>
            <p:nvPr/>
          </p:nvSpPr>
          <p:spPr>
            <a:xfrm>
              <a:off x="6629400" y="990720"/>
              <a:ext cx="2438280" cy="10666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18"/>
            <p:cNvSpPr/>
            <p:nvPr/>
          </p:nvSpPr>
          <p:spPr>
            <a:xfrm>
              <a:off x="6629400" y="1189080"/>
              <a:ext cx="2438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根本原因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Text Box 19"/>
          <p:cNvSpPr/>
          <p:nvPr/>
        </p:nvSpPr>
        <p:spPr>
          <a:xfrm>
            <a:off x="2666880" y="19810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资本主义的基本矛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609480" y="6998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约国又同德国的同盟国奥地利、匈牙利、土耳其、保加利亚签订了一系列合约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巴黎和会－3"/>
          <p:cNvPicPr/>
          <p:nvPr/>
        </p:nvPicPr>
        <p:blipFill>
          <a:blip r:embed="rId1"/>
          <a:stretch/>
        </p:blipFill>
        <p:spPr>
          <a:xfrm>
            <a:off x="1295280" y="1752480"/>
            <a:ext cx="6248520" cy="4686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第一次世界大战后欧洲国家疆界的变化"/>
          <p:cNvPicPr/>
          <p:nvPr/>
        </p:nvPicPr>
        <p:blipFill>
          <a:blip r:embed="rId1"/>
          <a:stretch/>
        </p:blipFill>
        <p:spPr>
          <a:xfrm>
            <a:off x="1066680" y="1676520"/>
            <a:ext cx="6858000" cy="48560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0" y="304920"/>
            <a:ext cx="937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些合约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凡尔赛合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起，构成了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凡尔赛体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33520" y="9288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确立了帝国主义在欧洲、西亚、非洲统治的新秩序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b16"/>
          <p:cNvPicPr/>
          <p:nvPr/>
        </p:nvPicPr>
        <p:blipFill>
          <a:blip r:embed="rId1"/>
          <a:stretch/>
        </p:blipFill>
        <p:spPr>
          <a:xfrm>
            <a:off x="1752480" y="809640"/>
            <a:ext cx="5410440" cy="37130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228600" y="763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亚太地区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安排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5"/>
          <p:cNvSpPr txBox="1"/>
          <p:nvPr/>
        </p:nvSpPr>
        <p:spPr>
          <a:xfrm>
            <a:off x="5867280" y="181080"/>
            <a:ext cx="2819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华盛顿会议</a:t>
            </a:r>
            <a:endParaRPr b="1" lang="en-US" sz="40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0880" y="45864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21-192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由美国召集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巴黎和会的继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78000" y="5073480"/>
            <a:ext cx="77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议签订了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国条约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限制海军军备条约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九国公约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52280" y="6033960"/>
            <a:ext cx="929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形成战后帝国主义在远东和太平洋地区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华盛顿体系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华文新魏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-36360" y="1197000"/>
          <a:ext cx="9180360" cy="5727600"/>
        </p:xfrm>
        <a:graphic>
          <a:graphicData uri="http://schemas.openxmlformats.org/drawingml/2006/table">
            <a:tbl>
              <a:tblPr/>
              <a:tblGrid>
                <a:gridCol w="1916280"/>
                <a:gridCol w="7264080"/>
              </a:tblGrid>
              <a:tr h="984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领土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</a:tr>
              <a:tr h="1533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军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679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政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</a:tr>
              <a:tr h="1225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赔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</a:tr>
              <a:tr h="1305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殖民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</a:tr>
            </a:tbl>
          </a:graphicData>
        </a:graphic>
      </p:graphicFrame>
      <p:sp>
        <p:nvSpPr>
          <p:cNvPr id="120" name="Rectangle 22"/>
          <p:cNvSpPr/>
          <p:nvPr/>
        </p:nvSpPr>
        <p:spPr>
          <a:xfrm>
            <a:off x="2999520" y="141300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由法国收回阿尔萨斯和洛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1979640" y="2205000"/>
            <a:ext cx="691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禁止德国实行义务兵役制；不允许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有空军，陆军人数不得超过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隶书"/>
              </a:rPr>
              <a:t>1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万；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茵河东岸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隶书"/>
              </a:rPr>
              <a:t>5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千米内，德国不得设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048120" y="3716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德国承认并尊重奥地利的独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1979640" y="4449600"/>
            <a:ext cx="69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有协约国设立“赔款委员会”，决定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国战争赔款的总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1979640" y="566100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德国的全部海外殖民地由英、法、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等国瓜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7" descr="凡尔赛宫外景"/>
          <p:cNvPicPr/>
          <p:nvPr/>
        </p:nvPicPr>
        <p:blipFill>
          <a:blip r:embed="rId11"/>
          <a:stretch/>
        </p:blipFill>
        <p:spPr>
          <a:xfrm>
            <a:off x="6300720" y="0"/>
            <a:ext cx="2843280" cy="1209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8" descr="1919年1月至6月，第一次世界大战战胜国在巴黎举行“和平会议”。中国作为战胜国派团参加。巴黎和会决定将战败德国在中国山东的不合理权益转让给日本。北京政府准备在“和约”上签字。消息传回中国，激起了国人强烈反对。“五四”爱国运动爆发。图为巴黎和会场面之一。"/>
          <p:cNvPicPr/>
          <p:nvPr/>
        </p:nvPicPr>
        <p:blipFill>
          <a:blip r:embed="rId12"/>
          <a:stretch/>
        </p:blipFill>
        <p:spPr>
          <a:xfrm>
            <a:off x="0" y="0"/>
            <a:ext cx="2843280" cy="1197000"/>
          </a:xfrm>
          <a:prstGeom prst="rect">
            <a:avLst/>
          </a:prstGeom>
          <a:ln w="0">
            <a:noFill/>
          </a:ln>
        </p:spPr>
      </p:pic>
      <p:sp>
        <p:nvSpPr>
          <p:cNvPr id="127" name="WordArt 29"/>
          <p:cNvSpPr txBox="1"/>
          <p:nvPr/>
        </p:nvSpPr>
        <p:spPr>
          <a:xfrm>
            <a:off x="2843280" y="0"/>
            <a:ext cx="338436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3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《凡尔赛和约》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8" name="WordArt 30"/>
          <p:cNvSpPr txBox="1"/>
          <p:nvPr/>
        </p:nvSpPr>
        <p:spPr>
          <a:xfrm>
            <a:off x="3597120" y="765000"/>
            <a:ext cx="1838520" cy="31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隶书"/>
              </a:rPr>
              <a:t>1919.6</a:t>
            </a:r>
            <a:endParaRPr b="1" lang="en-US" sz="1800" spc="-1" strike="noStrike">
              <a:ln w="0">
                <a:noFill/>
              </a:ln>
              <a:blipFill rotWithShape="0">
                <a:blip r:embed="rId14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50"/>
                            </p:stCondLst>
                            <p:childTnLst>
                              <p:par>
                                <p:cTn id="78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600"/>
                            </p:stCondLst>
                            <p:childTnLst>
                              <p:par>
                                <p:cTn id="92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8800"/>
                            </p:stCondLst>
                            <p:childTnLst>
                              <p:par>
                                <p:cTn id="99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80880" y="1508040"/>
            <a:ext cx="795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一次世界大战结束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美国使用的汽车和卡车有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90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万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92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年骤增到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60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万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755640" y="3870360"/>
            <a:ext cx="795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美国工厂动力设备的电气化程度，由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91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年的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0%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增加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929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年的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70%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319480" y="522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457200" y="380880"/>
            <a:ext cx="5562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二、“繁荣”及其崩溃</a:t>
            </a:r>
            <a:endParaRPr b="1" lang="en-US" sz="4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33" name="文本框 8199"/>
          <p:cNvSpPr/>
          <p:nvPr/>
        </p:nvSpPr>
        <p:spPr>
          <a:xfrm>
            <a:off x="1482840" y="11732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00"/>
                </a:solidFill>
                <a:latin typeface="Arial"/>
                <a:ea typeface="华文中宋"/>
              </a:rPr>
              <a:t>美　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71640" y="1413000"/>
          <a:ext cx="7162560" cy="1979640"/>
        </p:xfrm>
        <a:graphic>
          <a:graphicData uri="http://schemas.openxmlformats.org/drawingml/2006/table">
            <a:tbl>
              <a:tblPr/>
              <a:tblGrid>
                <a:gridCol w="1218960"/>
                <a:gridCol w="4343400"/>
                <a:gridCol w="1600200"/>
              </a:tblGrid>
              <a:tr h="660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6600"/>
                          </a:solidFill>
                          <a:latin typeface="方正姚体"/>
                          <a:ea typeface="方正姚体"/>
                        </a:rPr>
                        <a:t>工业总产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6600"/>
                          </a:solidFill>
                          <a:latin typeface="方正姚体"/>
                          <a:ea typeface="方正姚体"/>
                        </a:rPr>
                        <a:t>增长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</a:tr>
              <a:tr h="658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6600"/>
                          </a:solidFill>
                          <a:latin typeface="方正姚体"/>
                          <a:ea typeface="方正姚体"/>
                        </a:rPr>
                        <a:t>19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6600"/>
                          </a:solidFill>
                          <a:latin typeface="方正姚体"/>
                          <a:ea typeface="方正姚体"/>
                        </a:rPr>
                        <a:t>２４９．２亿美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6600"/>
                          </a:solidFill>
                          <a:latin typeface="方正姚体"/>
                          <a:ea typeface="方正姚体"/>
                        </a:rPr>
                        <a:t>156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</a:tr>
              <a:tr h="660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6600"/>
                          </a:solidFill>
                          <a:latin typeface="方正姚体"/>
                          <a:ea typeface="方正姚体"/>
                        </a:rPr>
                        <a:t>19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6600"/>
                          </a:solidFill>
                          <a:latin typeface="方正姚体"/>
                          <a:ea typeface="方正姚体"/>
                        </a:rPr>
                        <a:t>６３９．７１亿美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6" name="Text Box 20"/>
          <p:cNvSpPr/>
          <p:nvPr/>
        </p:nvSpPr>
        <p:spPr>
          <a:xfrm>
            <a:off x="395280" y="357336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华文新魏"/>
                <a:ea typeface="华文新魏"/>
              </a:rPr>
              <a:t>美国百万富翁增加了一万七千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395280" y="5486400"/>
            <a:ext cx="83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华文新魏"/>
                <a:ea typeface="华文新魏"/>
              </a:rPr>
              <a:t>到</a:t>
            </a:r>
            <a:r>
              <a:rPr b="1" lang="en-US" sz="3200" spc="-1" strike="noStrike">
                <a:solidFill>
                  <a:srgbClr val="333300"/>
                </a:solidFill>
                <a:latin typeface="华文新魏"/>
                <a:ea typeface="华文新魏"/>
              </a:rPr>
              <a:t>1919</a:t>
            </a:r>
            <a:r>
              <a:rPr b="1" lang="zh-CN" sz="3200" spc="-1" strike="noStrike">
                <a:solidFill>
                  <a:srgbClr val="333300"/>
                </a:solidFill>
                <a:latin typeface="华文新魏"/>
                <a:ea typeface="华文新魏"/>
              </a:rPr>
              <a:t>年，美国把世界黄金储备的</a:t>
            </a:r>
            <a:r>
              <a:rPr b="1" lang="en-US" sz="3200" spc="-1" strike="noStrike">
                <a:solidFill>
                  <a:srgbClr val="333300"/>
                </a:solidFill>
                <a:latin typeface="华文新魏"/>
                <a:ea typeface="华文新魏"/>
              </a:rPr>
              <a:t>40%</a:t>
            </a:r>
            <a:r>
              <a:rPr b="1" lang="zh-CN" sz="3200" spc="-1" strike="noStrike">
                <a:solidFill>
                  <a:srgbClr val="333300"/>
                </a:solidFill>
                <a:latin typeface="华文新魏"/>
                <a:ea typeface="华文新魏"/>
              </a:rPr>
              <a:t>掌握到了手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369720" y="42670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华文新魏"/>
                <a:ea typeface="华文新魏"/>
              </a:rPr>
              <a:t>到</a:t>
            </a:r>
            <a:r>
              <a:rPr b="1" lang="en-US" sz="3200" spc="-1" strike="noStrike">
                <a:solidFill>
                  <a:srgbClr val="333300"/>
                </a:solidFill>
                <a:latin typeface="华文新魏"/>
                <a:ea typeface="华文新魏"/>
              </a:rPr>
              <a:t>1917</a:t>
            </a:r>
            <a:r>
              <a:rPr b="1" lang="zh-CN" sz="3200" spc="-1" strike="noStrike">
                <a:solidFill>
                  <a:srgbClr val="333300"/>
                </a:solidFill>
                <a:latin typeface="华文新魏"/>
                <a:ea typeface="华文新魏"/>
              </a:rPr>
              <a:t>年，美国已控制了墨西哥的石油、橡胶、玻利维亚的锡矿、智利的硝石、巴西的咖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3" descr="flag5"/>
          <p:cNvPicPr/>
          <p:nvPr/>
        </p:nvPicPr>
        <p:blipFill>
          <a:blip r:embed="rId9"/>
          <a:stretch/>
        </p:blipFill>
        <p:spPr>
          <a:xfrm>
            <a:off x="1981080" y="376200"/>
            <a:ext cx="1527120" cy="8398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2T08:14:1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9:30Z</dcterms:modified>
  <cp:revision>3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