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9.png" ContentType="image/png"/>
  <Override PartName="/ppt/media/image29.gif" ContentType="image/gif"/>
  <Override PartName="/ppt/media/image40.png" ContentType="image/png"/>
  <Override PartName="/ppt/media/image41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48.png" ContentType="image/png"/>
  <Override PartName="/ppt/media/image50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245-1512-47FC-A5A4-C8614336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E8D-8F52-432C-885F-AAA4A93B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D44-EDB9-476F-A172-953AA29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B74-6F8C-40F3-8E3F-8E6AA121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51A-BF02-4DF7-AB05-A35CFA3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FA8-3E8C-46D7-B976-7420E120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11B-1F65-4EC6-AF11-6CDBAF71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DBF5-4C5A-4531-97E9-16CC497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DF9-E77C-4335-AD27-F35D956C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D90-8F22-4A2A-B079-79C61FFD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ED1-4F49-4367-95DE-33CF74CC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AD90-1D32-44D5-8525-3344D480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17C2-28E5-4D1B-80F7-6CFCBCD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367-9958-4919-AD3E-8B0AB46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455E-B469-4B98-9ED8-0306CA6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DE8-BB85-42B9-A695-0889B96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CCF9-09EE-48B8-A894-38F53E2C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432-4E13-44B7-BDFC-D2A344F5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BFF-0204-4AF0-9FD2-9FCADB16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AC5-FA45-4FF9-86EC-B66F328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AFF-1B41-40E7-8902-62238816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7F8-57E7-44CA-B19C-C710867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CD4-ABA5-4688-AD38-D860182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ACC-D17C-4DF4-A546-9150B3D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9D4B-FE64-4AD0-A966-D8568502C2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503280" y="194760"/>
            <a:ext cx="14857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情景导入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2163600" y="192960"/>
            <a:ext cx="148608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学习目标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"/>
          <p:cNvGrpSpPr/>
          <p:nvPr/>
        </p:nvGrpSpPr>
        <p:grpSpPr>
          <a:xfrm>
            <a:off x="3811680" y="464400"/>
            <a:ext cx="1487520" cy="1113840"/>
            <a:chOff x="3811680" y="464400"/>
            <a:chExt cx="1487520" cy="1113840"/>
          </a:xfrm>
        </p:grpSpPr>
        <p:sp>
          <p:nvSpPr>
            <p:cNvPr id="6" name="Rectangle 9"/>
            <p:cNvSpPr/>
            <p:nvPr/>
          </p:nvSpPr>
          <p:spPr>
            <a:xfrm>
              <a:off x="3813120" y="464400"/>
              <a:ext cx="1486080" cy="264600"/>
            </a:xfrm>
            <a:prstGeom prst="rect">
              <a:avLst/>
            </a:prstGeom>
            <a:solidFill>
              <a:srgbClr val="bcc69e">
                <a:alpha val="50000"/>
              </a:srgbClr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666633"/>
                  </a:solidFill>
                  <a:latin typeface="Times New Roman"/>
                  <a:ea typeface="黑体"/>
                </a:rPr>
                <a:t>农业的发展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3811680" y="745560"/>
              <a:ext cx="1485720" cy="264600"/>
            </a:xfrm>
            <a:prstGeom prst="rect">
              <a:avLst/>
            </a:prstGeom>
            <a:solidFill>
              <a:srgbClr val="bcc69e">
                <a:alpha val="50000"/>
              </a:srgbClr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666633"/>
                  </a:solidFill>
                  <a:latin typeface="Times New Roman"/>
                  <a:ea typeface="黑体"/>
                </a:rPr>
                <a:t>手工业的进步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3811680" y="1031400"/>
              <a:ext cx="1485720" cy="264600"/>
            </a:xfrm>
            <a:prstGeom prst="rect">
              <a:avLst/>
            </a:prstGeom>
            <a:solidFill>
              <a:srgbClr val="bcc69e">
                <a:alpha val="50000"/>
              </a:srgbClr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666633"/>
                  </a:solidFill>
                  <a:latin typeface="Times New Roman"/>
                  <a:ea typeface="黑体"/>
                </a:rPr>
                <a:t>商业的繁荣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3813120" y="1313640"/>
              <a:ext cx="1486080" cy="264600"/>
            </a:xfrm>
            <a:prstGeom prst="rect">
              <a:avLst/>
            </a:prstGeom>
            <a:solidFill>
              <a:srgbClr val="bcc69e">
                <a:alpha val="50000"/>
              </a:srgbClr>
            </a:solidFill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666633"/>
                  </a:solidFill>
                  <a:latin typeface="Times New Roman"/>
                  <a:ea typeface="黑体"/>
                </a:rPr>
                <a:t>经济重心南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Rectangle 13"/>
          <p:cNvSpPr/>
          <p:nvPr/>
        </p:nvSpPr>
        <p:spPr>
          <a:xfrm>
            <a:off x="5440320" y="178560"/>
            <a:ext cx="148608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知识擂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3803760" y="180360"/>
            <a:ext cx="15001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经济发展的表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878200" y="898560"/>
            <a:ext cx="6118200" cy="360"/>
            <a:chOff x="2878200" y="898560"/>
            <a:chExt cx="6118200" cy="360"/>
          </a:xfrm>
        </p:grpSpPr>
        <p:sp>
          <p:nvSpPr>
            <p:cNvPr id="49" name="Line 175"/>
            <p:cNvSpPr/>
            <p:nvPr/>
          </p:nvSpPr>
          <p:spPr>
            <a:xfrm>
              <a:off x="2878200" y="898560"/>
              <a:ext cx="6118200" cy="0"/>
            </a:xfrm>
            <a:prstGeom prst="line">
              <a:avLst/>
            </a:prstGeom>
            <a:ln w="6480">
              <a:solidFill>
                <a:srgbClr val="cc99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2878200" y="898560"/>
              <a:ext cx="611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214"/>
          <p:cNvSpPr/>
          <p:nvPr/>
        </p:nvSpPr>
        <p:spPr>
          <a:xfrm>
            <a:off x="104760" y="1917000"/>
            <a:ext cx="148608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情景导入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6"/>
          <p:cNvSpPr/>
          <p:nvPr/>
        </p:nvSpPr>
        <p:spPr>
          <a:xfrm>
            <a:off x="88920" y="2225160"/>
            <a:ext cx="14857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农业的发展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7"/>
          <p:cNvSpPr/>
          <p:nvPr/>
        </p:nvSpPr>
        <p:spPr>
          <a:xfrm>
            <a:off x="88920" y="2512440"/>
            <a:ext cx="14857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手工业的进步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18"/>
          <p:cNvSpPr/>
          <p:nvPr/>
        </p:nvSpPr>
        <p:spPr>
          <a:xfrm>
            <a:off x="88920" y="2801160"/>
            <a:ext cx="14857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商业的繁荣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19"/>
          <p:cNvSpPr/>
          <p:nvPr/>
        </p:nvSpPr>
        <p:spPr>
          <a:xfrm>
            <a:off x="88920" y="3088800"/>
            <a:ext cx="14857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经济重心南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4"/>
          <p:cNvSpPr/>
          <p:nvPr/>
        </p:nvSpPr>
        <p:spPr>
          <a:xfrm>
            <a:off x="88920" y="3377520"/>
            <a:ext cx="1485720" cy="264600"/>
          </a:xfrm>
          <a:prstGeom prst="rect">
            <a:avLst/>
          </a:prstGeom>
          <a:solidFill>
            <a:srgbClr val="bcc69e">
              <a:alpha val="50000"/>
            </a:srgbClr>
          </a:solid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33"/>
                </a:solidFill>
                <a:latin typeface="Times New Roman"/>
                <a:ea typeface="黑体"/>
              </a:rPr>
              <a:t>知识擂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68E2-795A-4F94-9B44-772042D49E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image" Target="../media/image2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8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2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508040" y="1841400"/>
            <a:ext cx="75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经济重心的南移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2122560" y="1379520"/>
            <a:ext cx="63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单元　经济重心的南移和民族关系的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5" descr="image2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"/>
          <p:cNvSpPr/>
          <p:nvPr/>
        </p:nvSpPr>
        <p:spPr>
          <a:xfrm>
            <a:off x="1743120" y="1677960"/>
            <a:ext cx="7014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时，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织品“号为冠天下”。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丝绸产量高，朝廷用的丝绸很多来自于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兴起的棉纺织业，南宋时已经发展到东南沿海地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WordArt 5"/>
          <p:cNvSpPr txBox="1"/>
          <p:nvPr/>
        </p:nvSpPr>
        <p:spPr>
          <a:xfrm>
            <a:off x="2543040" y="9399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知识园地</a:t>
            </a:r>
            <a:endParaRPr b="0" lang="en-US" sz="2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443320" y="1522440"/>
            <a:ext cx="3760560" cy="1440"/>
            <a:chOff x="2443320" y="1522440"/>
            <a:chExt cx="3760560" cy="1440"/>
          </a:xfrm>
        </p:grpSpPr>
        <p:sp>
          <p:nvSpPr>
            <p:cNvPr id="310" name="Line 6"/>
            <p:cNvSpPr/>
            <p:nvPr/>
          </p:nvSpPr>
          <p:spPr>
            <a:xfrm>
              <a:off x="2443320" y="1522440"/>
              <a:ext cx="3760560" cy="144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2443320" y="1522440"/>
              <a:ext cx="3760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Text Box 9"/>
          <p:cNvSpPr/>
          <p:nvPr/>
        </p:nvSpPr>
        <p:spPr>
          <a:xfrm>
            <a:off x="4479840" y="97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sj"/>
          <p:cNvPicPr/>
          <p:nvPr/>
        </p:nvPicPr>
        <p:blipFill>
          <a:blip r:embed="rId2"/>
          <a:stretch/>
        </p:blipFill>
        <p:spPr>
          <a:xfrm>
            <a:off x="2238480" y="4349880"/>
            <a:ext cx="1166760" cy="1796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14" name="Picture 13" descr="蛱蝶山茶花"/>
          <p:cNvPicPr/>
          <p:nvPr/>
        </p:nvPicPr>
        <p:blipFill>
          <a:blip r:embed="rId3"/>
          <a:stretch/>
        </p:blipFill>
        <p:spPr>
          <a:xfrm>
            <a:off x="4003560" y="4479840"/>
            <a:ext cx="1576440" cy="158292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15" name="Picture 17" descr=""/>
          <p:cNvPicPr/>
          <p:nvPr/>
        </p:nvPicPr>
        <p:blipFill>
          <a:blip r:embed="rId4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4"/>
          <p:cNvPicPr/>
          <p:nvPr/>
        </p:nvPicPr>
        <p:blipFill>
          <a:blip r:embed="rId5"/>
          <a:stretch/>
        </p:blipFill>
        <p:spPr>
          <a:xfrm>
            <a:off x="6357960" y="3882960"/>
            <a:ext cx="2000160" cy="22939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0"/>
          <p:cNvSpPr/>
          <p:nvPr/>
        </p:nvSpPr>
        <p:spPr>
          <a:xfrm>
            <a:off x="4286160" y="1692360"/>
            <a:ext cx="9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蜀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2900520" y="2228760"/>
            <a:ext cx="10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江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3"/>
          <p:cNvSpPr/>
          <p:nvPr/>
        </p:nvSpPr>
        <p:spPr>
          <a:xfrm>
            <a:off x="3276720" y="3219480"/>
            <a:ext cx="51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海南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4" descr="image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60" descr=""/>
          <p:cNvPicPr/>
          <p:nvPr/>
        </p:nvPicPr>
        <p:blipFill>
          <a:blip r:embed="rId1"/>
          <a:stretch/>
        </p:blipFill>
        <p:spPr>
          <a:xfrm>
            <a:off x="-57240" y="-95400"/>
            <a:ext cx="9315720" cy="782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9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0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324" name="瓷器.mpg" descr=""/>
          <p:cNvPicPr/>
          <p:nvPr/>
        </p:nvPicPr>
        <p:blipFill>
          <a:blip r:embed="rId4"/>
          <a:stretch/>
        </p:blipFill>
        <p:spPr>
          <a:xfrm>
            <a:off x="7996320" y="-95400"/>
            <a:ext cx="1147680" cy="709920"/>
          </a:xfrm>
          <a:prstGeom prst="rect">
            <a:avLst/>
          </a:prstGeom>
          <a:ln w="0">
            <a:noFill/>
          </a:ln>
        </p:spPr>
      </p:pic>
      <p:pic>
        <p:nvPicPr>
          <p:cNvPr id="325" name="瓷器.mpg" descr=""/>
          <p:cNvPicPr/>
          <p:nvPr/>
        </p:nvPicPr>
        <p:blipFill>
          <a:blip r:embed="rId5"/>
          <a:stretch/>
        </p:blipFill>
        <p:spPr>
          <a:xfrm>
            <a:off x="1600200" y="685800"/>
            <a:ext cx="74296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1766880" y="55897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谈谈你对宋代瓷器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评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1"/>
          <p:cNvGrpSpPr/>
          <p:nvPr/>
        </p:nvGrpSpPr>
        <p:grpSpPr>
          <a:xfrm>
            <a:off x="2011320" y="965160"/>
            <a:ext cx="2158920" cy="582840"/>
            <a:chOff x="2011320" y="965160"/>
            <a:chExt cx="2158920" cy="582840"/>
          </a:xfrm>
        </p:grpSpPr>
        <p:sp>
          <p:nvSpPr>
            <p:cNvPr id="328" name="WordArt 12"/>
            <p:cNvSpPr txBox="1"/>
            <p:nvPr/>
          </p:nvSpPr>
          <p:spPr>
            <a:xfrm>
              <a:off x="2111040" y="965160"/>
              <a:ext cx="1828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华文新魏"/>
                </a:rPr>
                <a:t>鉴宝学史</a:t>
              </a:r>
              <a:endParaRPr b="0" lang="en-US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新魏"/>
                <a:ea typeface="华文新魏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011320" y="1547640"/>
              <a:ext cx="2158920" cy="360"/>
              <a:chOff x="2011320" y="1547640"/>
              <a:chExt cx="2158920" cy="360"/>
            </a:xfrm>
          </p:grpSpPr>
          <p:sp>
            <p:nvSpPr>
              <p:cNvPr id="330" name="Line 13"/>
              <p:cNvSpPr/>
              <p:nvPr/>
            </p:nvSpPr>
            <p:spPr>
              <a:xfrm>
                <a:off x="2011320" y="1547640"/>
                <a:ext cx="2158920" cy="0"/>
              </a:xfrm>
              <a:prstGeom prst="line">
                <a:avLst/>
              </a:prstGeom>
              <a:ln w="2844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>
                <a:off x="2011320" y="1547640"/>
                <a:ext cx="21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14"/>
            <p:cNvSpPr/>
            <p:nvPr/>
          </p:nvSpPr>
          <p:spPr>
            <a:xfrm>
              <a:off x="3900240" y="969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Picture 15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6" descr=""/>
          <p:cNvPicPr/>
          <p:nvPr/>
        </p:nvPicPr>
        <p:blipFill>
          <a:blip r:embed="rId2"/>
          <a:stretch/>
        </p:blipFill>
        <p:spPr>
          <a:xfrm>
            <a:off x="1779480" y="1657440"/>
            <a:ext cx="6940800" cy="3886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7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8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4"/>
          <p:cNvSpPr txBox="1"/>
          <p:nvPr/>
        </p:nvSpPr>
        <p:spPr>
          <a:xfrm>
            <a:off x="2581200" y="10922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文物考古</a:t>
            </a:r>
            <a:endParaRPr b="0" lang="en-US" sz="2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481120" y="1636560"/>
            <a:ext cx="2159280" cy="360"/>
            <a:chOff x="2481120" y="1636560"/>
            <a:chExt cx="2159280" cy="360"/>
          </a:xfrm>
        </p:grpSpPr>
        <p:sp>
          <p:nvSpPr>
            <p:cNvPr id="339" name="Line 5"/>
            <p:cNvSpPr/>
            <p:nvPr/>
          </p:nvSpPr>
          <p:spPr>
            <a:xfrm>
              <a:off x="2481120" y="1636560"/>
              <a:ext cx="215928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2481120" y="1636560"/>
              <a:ext cx="21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Text Box 6"/>
          <p:cNvSpPr/>
          <p:nvPr/>
        </p:nvSpPr>
        <p:spPr>
          <a:xfrm>
            <a:off x="1854360" y="205092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宋代造船业居世界首位。如果打算寻访宋代造船知识，应该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479680" y="4168800"/>
            <a:ext cx="75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开封     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广州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泉州     </a:t>
            </a:r>
            <a:r>
              <a:rPr b="1" lang="en-US" sz="3600" spc="-1" strike="noStrike">
                <a:solidFill>
                  <a:srgbClr val="1c1c1c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1c1c1c"/>
                </a:solidFill>
                <a:latin typeface="Times New Roman"/>
                <a:ea typeface="宋体"/>
              </a:rPr>
              <a:t>郑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13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7"/>
          <p:cNvSpPr txBox="1"/>
          <p:nvPr/>
        </p:nvSpPr>
        <p:spPr>
          <a:xfrm>
            <a:off x="3067200" y="3295800"/>
            <a:ext cx="6858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B C</a:t>
            </a:r>
            <a:endParaRPr b="0" lang="en-US" sz="2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345" name="Picture 18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Oval 96"/>
          <p:cNvSpPr/>
          <p:nvPr/>
        </p:nvSpPr>
        <p:spPr>
          <a:xfrm>
            <a:off x="147600" y="4716360"/>
            <a:ext cx="1206360" cy="1405080"/>
          </a:xfrm>
          <a:prstGeom prst="ellipse">
            <a:avLst/>
          </a:prstGeom>
          <a:solidFill>
            <a:srgbClr val="daf7f6"/>
          </a:solidFill>
          <a:ln w="0">
            <a:noFill/>
          </a:ln>
          <a:effectLst>
            <a:outerShdw dist="153753" dir="2700000" blurRad="0" rotWithShape="0">
              <a:srgbClr val="83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4365720" y="1058760"/>
            <a:ext cx="1920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商业的繁荣进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1"/>
          <p:cNvGrpSpPr/>
          <p:nvPr/>
        </p:nvGrpSpPr>
        <p:grpSpPr>
          <a:xfrm>
            <a:off x="2638440" y="914400"/>
            <a:ext cx="4865760" cy="787680"/>
            <a:chOff x="2638440" y="914400"/>
            <a:chExt cx="4865760" cy="787680"/>
          </a:xfrm>
        </p:grpSpPr>
        <p:grpSp>
          <p:nvGrpSpPr>
            <p:cNvPr id="350" name=""/>
            <p:cNvGrpSpPr/>
            <p:nvPr/>
          </p:nvGrpSpPr>
          <p:grpSpPr>
            <a:xfrm>
              <a:off x="2836440" y="1701720"/>
              <a:ext cx="4453920" cy="360"/>
              <a:chOff x="2836440" y="1701720"/>
              <a:chExt cx="4453920" cy="360"/>
            </a:xfrm>
          </p:grpSpPr>
          <p:sp>
            <p:nvSpPr>
              <p:cNvPr id="351" name="Line 22"/>
              <p:cNvSpPr/>
              <p:nvPr/>
            </p:nvSpPr>
            <p:spPr>
              <a:xfrm>
                <a:off x="2836440" y="1701720"/>
                <a:ext cx="445392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2836440" y="1701720"/>
                <a:ext cx="445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638440" y="1085040"/>
              <a:ext cx="360" cy="445320"/>
              <a:chOff x="2638440" y="1085040"/>
              <a:chExt cx="360" cy="445320"/>
            </a:xfrm>
          </p:grpSpPr>
          <p:sp>
            <p:nvSpPr>
              <p:cNvPr id="354" name="Line 23"/>
              <p:cNvSpPr/>
              <p:nvPr/>
            </p:nvSpPr>
            <p:spPr>
              <a:xfrm>
                <a:off x="2638440" y="108504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2638440" y="108504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503840" y="1085040"/>
              <a:ext cx="360" cy="445320"/>
              <a:chOff x="7503840" y="1085040"/>
              <a:chExt cx="360" cy="445320"/>
            </a:xfrm>
          </p:grpSpPr>
          <p:sp>
            <p:nvSpPr>
              <p:cNvPr id="357" name="Line 24"/>
              <p:cNvSpPr/>
              <p:nvPr/>
            </p:nvSpPr>
            <p:spPr>
              <a:xfrm>
                <a:off x="7503840" y="108504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7503840" y="108504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640240" y="1535040"/>
              <a:ext cx="192600" cy="360"/>
              <a:chOff x="2640240" y="1535040"/>
              <a:chExt cx="192600" cy="360"/>
            </a:xfrm>
          </p:grpSpPr>
          <p:sp>
            <p:nvSpPr>
              <p:cNvPr id="360" name="Line 25"/>
              <p:cNvSpPr/>
              <p:nvPr/>
            </p:nvSpPr>
            <p:spPr>
              <a:xfrm>
                <a:off x="2640240" y="153504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2640240" y="153504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836440" y="1535040"/>
              <a:ext cx="360" cy="164880"/>
              <a:chOff x="2836440" y="1535040"/>
              <a:chExt cx="360" cy="164880"/>
            </a:xfrm>
          </p:grpSpPr>
          <p:sp>
            <p:nvSpPr>
              <p:cNvPr id="363" name="Line 26"/>
              <p:cNvSpPr/>
              <p:nvPr/>
            </p:nvSpPr>
            <p:spPr>
              <a:xfrm>
                <a:off x="2836440" y="153504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2836440" y="153504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301880" y="1535040"/>
              <a:ext cx="192600" cy="360"/>
              <a:chOff x="7301880" y="1535040"/>
              <a:chExt cx="192600" cy="360"/>
            </a:xfrm>
          </p:grpSpPr>
          <p:sp>
            <p:nvSpPr>
              <p:cNvPr id="366" name="Line 27"/>
              <p:cNvSpPr/>
              <p:nvPr/>
            </p:nvSpPr>
            <p:spPr>
              <a:xfrm>
                <a:off x="7301880" y="153504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7301880" y="153504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297920" y="1535040"/>
              <a:ext cx="360" cy="164880"/>
              <a:chOff x="7297920" y="1535040"/>
              <a:chExt cx="360" cy="164880"/>
            </a:xfrm>
          </p:grpSpPr>
          <p:sp>
            <p:nvSpPr>
              <p:cNvPr id="369" name="Line 28"/>
              <p:cNvSpPr/>
              <p:nvPr/>
            </p:nvSpPr>
            <p:spPr>
              <a:xfrm>
                <a:off x="7297920" y="153504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7297920" y="153504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640240" y="1083600"/>
              <a:ext cx="192600" cy="360"/>
              <a:chOff x="2640240" y="1083600"/>
              <a:chExt cx="192600" cy="360"/>
            </a:xfrm>
          </p:grpSpPr>
          <p:sp>
            <p:nvSpPr>
              <p:cNvPr id="372" name="Line 29"/>
              <p:cNvSpPr/>
              <p:nvPr/>
            </p:nvSpPr>
            <p:spPr>
              <a:xfrm>
                <a:off x="2640240" y="108360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2640240" y="108360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301880" y="1083600"/>
              <a:ext cx="192600" cy="360"/>
              <a:chOff x="7301880" y="1083600"/>
              <a:chExt cx="192600" cy="360"/>
            </a:xfrm>
          </p:grpSpPr>
          <p:sp>
            <p:nvSpPr>
              <p:cNvPr id="375" name="Line 30"/>
              <p:cNvSpPr/>
              <p:nvPr/>
            </p:nvSpPr>
            <p:spPr>
              <a:xfrm>
                <a:off x="7301880" y="108360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01880" y="108360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836440" y="918720"/>
              <a:ext cx="360" cy="164520"/>
              <a:chOff x="2836440" y="918720"/>
              <a:chExt cx="360" cy="164520"/>
            </a:xfrm>
          </p:grpSpPr>
          <p:sp>
            <p:nvSpPr>
              <p:cNvPr id="378" name="Line 31"/>
              <p:cNvSpPr/>
              <p:nvPr/>
            </p:nvSpPr>
            <p:spPr>
              <a:xfrm>
                <a:off x="2836440" y="91872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2836440" y="91872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7297920" y="918720"/>
              <a:ext cx="360" cy="164520"/>
              <a:chOff x="7297920" y="918720"/>
              <a:chExt cx="360" cy="164520"/>
            </a:xfrm>
          </p:grpSpPr>
          <p:sp>
            <p:nvSpPr>
              <p:cNvPr id="381" name="Line 32"/>
              <p:cNvSpPr/>
              <p:nvPr/>
            </p:nvSpPr>
            <p:spPr>
              <a:xfrm>
                <a:off x="7297920" y="91872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7297920" y="91872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836440" y="914400"/>
              <a:ext cx="4453920" cy="360"/>
              <a:chOff x="2836440" y="914400"/>
              <a:chExt cx="4453920" cy="360"/>
            </a:xfrm>
          </p:grpSpPr>
          <p:sp>
            <p:nvSpPr>
              <p:cNvPr id="384" name="Line 33"/>
              <p:cNvSpPr/>
              <p:nvPr/>
            </p:nvSpPr>
            <p:spPr>
              <a:xfrm>
                <a:off x="2836440" y="914400"/>
                <a:ext cx="445392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2836440" y="914400"/>
                <a:ext cx="445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Rectangle 34"/>
            <p:cNvSpPr/>
            <p:nvPr/>
          </p:nvSpPr>
          <p:spPr>
            <a:xfrm>
              <a:off x="7343280" y="157032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35"/>
            <p:cNvSpPr/>
            <p:nvPr/>
          </p:nvSpPr>
          <p:spPr>
            <a:xfrm>
              <a:off x="7343280" y="9230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6"/>
            <p:cNvSpPr/>
            <p:nvPr/>
          </p:nvSpPr>
          <p:spPr>
            <a:xfrm>
              <a:off x="2640240" y="157032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2640240" y="9230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Rectangle 93"/>
          <p:cNvSpPr/>
          <p:nvPr/>
        </p:nvSpPr>
        <p:spPr>
          <a:xfrm>
            <a:off x="262080" y="4883040"/>
            <a:ext cx="139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自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58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73"/>
          <p:cNvSpPr/>
          <p:nvPr/>
        </p:nvSpPr>
        <p:spPr>
          <a:xfrm>
            <a:off x="1851120" y="1982880"/>
            <a:ext cx="715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回答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愿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面的问题，你也可以许下一个美好的愿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小秘密：细读课文</a:t>
            </a:r>
            <a:r>
              <a:rPr b="1" lang="en-US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58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页，就能找到答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74" descr=""/>
          <p:cNvPicPr/>
          <p:nvPr/>
        </p:nvPicPr>
        <p:blipFill>
          <a:blip r:embed="rId2"/>
          <a:stretch/>
        </p:blipFill>
        <p:spPr>
          <a:xfrm>
            <a:off x="2170080" y="430992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5" descr=""/>
          <p:cNvPicPr/>
          <p:nvPr/>
        </p:nvPicPr>
        <p:blipFill>
          <a:blip r:embed="rId3"/>
          <a:stretch/>
        </p:blipFill>
        <p:spPr>
          <a:xfrm>
            <a:off x="7351560" y="4395960"/>
            <a:ext cx="1368720" cy="1033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76" descr=""/>
          <p:cNvPicPr/>
          <p:nvPr/>
        </p:nvPicPr>
        <p:blipFill>
          <a:blip r:embed="rId4"/>
          <a:stretch/>
        </p:blipFill>
        <p:spPr>
          <a:xfrm>
            <a:off x="3865680" y="4367160"/>
            <a:ext cx="1368360" cy="1052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77" descr=""/>
          <p:cNvPicPr/>
          <p:nvPr/>
        </p:nvPicPr>
        <p:blipFill>
          <a:blip r:embed="rId5"/>
          <a:stretch/>
        </p:blipFill>
        <p:spPr>
          <a:xfrm>
            <a:off x="5680080" y="4386240"/>
            <a:ext cx="1368360" cy="102384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828800" y="5448240"/>
            <a:ext cx="7162920" cy="360"/>
            <a:chOff x="1828800" y="5448240"/>
            <a:chExt cx="7162920" cy="360"/>
          </a:xfrm>
        </p:grpSpPr>
        <p:sp>
          <p:nvSpPr>
            <p:cNvPr id="398" name="Line 180"/>
            <p:cNvSpPr/>
            <p:nvPr/>
          </p:nvSpPr>
          <p:spPr>
            <a:xfrm>
              <a:off x="1828800" y="5448240"/>
              <a:ext cx="716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828800" y="5448240"/>
              <a:ext cx="716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Picture 182" descr="image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3" descr="image2"/>
          <p:cNvPicPr/>
          <p:nvPr/>
        </p:nvPicPr>
        <p:blipFill>
          <a:blip r:embed="rId7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84"/>
          <p:cNvSpPr/>
          <p:nvPr/>
        </p:nvSpPr>
        <p:spPr>
          <a:xfrm>
            <a:off x="2790720" y="5381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85"/>
          <p:cNvSpPr/>
          <p:nvPr/>
        </p:nvSpPr>
        <p:spPr>
          <a:xfrm>
            <a:off x="4467240" y="53910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86"/>
          <p:cNvSpPr/>
          <p:nvPr/>
        </p:nvSpPr>
        <p:spPr>
          <a:xfrm>
            <a:off x="6372360" y="5391000"/>
            <a:ext cx="3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87"/>
          <p:cNvSpPr/>
          <p:nvPr/>
        </p:nvSpPr>
        <p:spPr>
          <a:xfrm>
            <a:off x="7991640" y="537228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194" descr="14"/>
          <p:cNvPicPr/>
          <p:nvPr/>
        </p:nvPicPr>
        <p:blipFill>
          <a:blip r:embed="rId8"/>
          <a:stretch/>
        </p:blipFill>
        <p:spPr>
          <a:xfrm>
            <a:off x="2457360" y="546732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95" descr="14"/>
          <p:cNvPicPr/>
          <p:nvPr/>
        </p:nvPicPr>
        <p:blipFill>
          <a:blip r:embed="rId9"/>
          <a:stretch/>
        </p:blipFill>
        <p:spPr>
          <a:xfrm>
            <a:off x="4149720" y="551196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96" descr="14"/>
          <p:cNvPicPr/>
          <p:nvPr/>
        </p:nvPicPr>
        <p:blipFill>
          <a:blip r:embed="rId10"/>
          <a:stretch/>
        </p:blipFill>
        <p:spPr>
          <a:xfrm>
            <a:off x="6080040" y="55087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97" descr="14"/>
          <p:cNvPicPr/>
          <p:nvPr/>
        </p:nvPicPr>
        <p:blipFill>
          <a:blip r:embed="rId11"/>
          <a:stretch/>
        </p:blipFill>
        <p:spPr>
          <a:xfrm>
            <a:off x="7696080" y="552456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4" descr=""/>
          <p:cNvPicPr/>
          <p:nvPr/>
        </p:nvPicPr>
        <p:blipFill>
          <a:blip r:embed="rId1"/>
          <a:stretch/>
        </p:blipFill>
        <p:spPr>
          <a:xfrm>
            <a:off x="5019840" y="2095560"/>
            <a:ext cx="3886200" cy="3695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411" name="Text Box 37"/>
          <p:cNvSpPr/>
          <p:nvPr/>
        </p:nvSpPr>
        <p:spPr>
          <a:xfrm>
            <a:off x="1698480" y="1930320"/>
            <a:ext cx="3121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1" lang="zh-CN" sz="2800" spc="-1" strike="noStrike">
                <a:solidFill>
                  <a:srgbClr val="9a009a"/>
                </a:solidFill>
                <a:latin typeface="Times New Roman"/>
                <a:ea typeface="宋体"/>
              </a:rPr>
              <a:t>唐朝中后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的经济重心南移，到</a:t>
            </a:r>
            <a:r>
              <a:rPr b="1" lang="zh-CN" sz="2800" spc="-1" strike="noStrike">
                <a:solidFill>
                  <a:srgbClr val="9a009a"/>
                </a:solidFill>
                <a:latin typeface="Times New Roman"/>
                <a:ea typeface="宋体"/>
              </a:rPr>
              <a:t>南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完成。那时，政府的财政收入主要来自</a:t>
            </a:r>
            <a:r>
              <a:rPr b="1" lang="zh-CN" sz="2800" spc="-1" strike="noStrike">
                <a:solidFill>
                  <a:srgbClr val="9a009a"/>
                </a:solidFill>
                <a:latin typeface="Times New Roman"/>
                <a:ea typeface="宋体"/>
              </a:rPr>
              <a:t>南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特别是东南地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2" descr=""/>
          <p:cNvPicPr/>
          <p:nvPr/>
        </p:nvPicPr>
        <p:blipFill>
          <a:blip r:embed="rId2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4"/>
          <p:cNvSpPr/>
          <p:nvPr/>
        </p:nvSpPr>
        <p:spPr>
          <a:xfrm>
            <a:off x="2160720" y="900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23760" y="890640"/>
            <a:ext cx="213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经济重心的南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16"/>
          <p:cNvGrpSpPr/>
          <p:nvPr/>
        </p:nvGrpSpPr>
        <p:grpSpPr>
          <a:xfrm>
            <a:off x="2257560" y="835200"/>
            <a:ext cx="4865400" cy="787680"/>
            <a:chOff x="2257560" y="835200"/>
            <a:chExt cx="4865400" cy="787680"/>
          </a:xfrm>
        </p:grpSpPr>
        <p:grpSp>
          <p:nvGrpSpPr>
            <p:cNvPr id="416" name=""/>
            <p:cNvGrpSpPr/>
            <p:nvPr/>
          </p:nvGrpSpPr>
          <p:grpSpPr>
            <a:xfrm>
              <a:off x="2455560" y="1622520"/>
              <a:ext cx="4453560" cy="360"/>
              <a:chOff x="2455560" y="1622520"/>
              <a:chExt cx="4453560" cy="360"/>
            </a:xfrm>
          </p:grpSpPr>
          <p:sp>
            <p:nvSpPr>
              <p:cNvPr id="417" name="Line 17"/>
              <p:cNvSpPr/>
              <p:nvPr/>
            </p:nvSpPr>
            <p:spPr>
              <a:xfrm>
                <a:off x="2455560" y="1622520"/>
                <a:ext cx="445356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2455560" y="1622520"/>
                <a:ext cx="445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257560" y="1005840"/>
              <a:ext cx="360" cy="445320"/>
              <a:chOff x="2257560" y="1005840"/>
              <a:chExt cx="360" cy="445320"/>
            </a:xfrm>
          </p:grpSpPr>
          <p:sp>
            <p:nvSpPr>
              <p:cNvPr id="420" name="Line 18"/>
              <p:cNvSpPr/>
              <p:nvPr/>
            </p:nvSpPr>
            <p:spPr>
              <a:xfrm>
                <a:off x="2257560" y="100584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>
                <a:off x="2257560" y="100584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122600" y="1005840"/>
              <a:ext cx="360" cy="445320"/>
              <a:chOff x="7122600" y="1005840"/>
              <a:chExt cx="360" cy="445320"/>
            </a:xfrm>
          </p:grpSpPr>
          <p:sp>
            <p:nvSpPr>
              <p:cNvPr id="423" name="Line 19"/>
              <p:cNvSpPr/>
              <p:nvPr/>
            </p:nvSpPr>
            <p:spPr>
              <a:xfrm>
                <a:off x="7122600" y="100584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>
                <a:off x="7122600" y="100584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259360" y="1455840"/>
              <a:ext cx="192600" cy="360"/>
              <a:chOff x="2259360" y="1455840"/>
              <a:chExt cx="192600" cy="360"/>
            </a:xfrm>
          </p:grpSpPr>
          <p:sp>
            <p:nvSpPr>
              <p:cNvPr id="426" name="Line 20"/>
              <p:cNvSpPr/>
              <p:nvPr/>
            </p:nvSpPr>
            <p:spPr>
              <a:xfrm>
                <a:off x="2259360" y="145584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 txBox="1"/>
              <p:nvPr/>
            </p:nvSpPr>
            <p:spPr>
              <a:xfrm>
                <a:off x="2259360" y="145584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455560" y="1455840"/>
              <a:ext cx="360" cy="164880"/>
              <a:chOff x="2455560" y="1455840"/>
              <a:chExt cx="360" cy="164880"/>
            </a:xfrm>
          </p:grpSpPr>
          <p:sp>
            <p:nvSpPr>
              <p:cNvPr id="429" name="Line 21"/>
              <p:cNvSpPr/>
              <p:nvPr/>
            </p:nvSpPr>
            <p:spPr>
              <a:xfrm>
                <a:off x="2455560" y="145584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>
                <a:off x="2455560" y="145584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920640" y="1455840"/>
              <a:ext cx="192600" cy="360"/>
              <a:chOff x="6920640" y="1455840"/>
              <a:chExt cx="192600" cy="360"/>
            </a:xfrm>
          </p:grpSpPr>
          <p:sp>
            <p:nvSpPr>
              <p:cNvPr id="432" name="Line 22"/>
              <p:cNvSpPr/>
              <p:nvPr/>
            </p:nvSpPr>
            <p:spPr>
              <a:xfrm>
                <a:off x="6920640" y="145584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>
                <a:off x="6920640" y="145584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916680" y="1455840"/>
              <a:ext cx="360" cy="164880"/>
              <a:chOff x="6916680" y="1455840"/>
              <a:chExt cx="360" cy="164880"/>
            </a:xfrm>
          </p:grpSpPr>
          <p:sp>
            <p:nvSpPr>
              <p:cNvPr id="435" name="Line 23"/>
              <p:cNvSpPr/>
              <p:nvPr/>
            </p:nvSpPr>
            <p:spPr>
              <a:xfrm>
                <a:off x="6916680" y="145584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6916680" y="145584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259360" y="1004400"/>
              <a:ext cx="192600" cy="360"/>
              <a:chOff x="2259360" y="1004400"/>
              <a:chExt cx="192600" cy="360"/>
            </a:xfrm>
          </p:grpSpPr>
          <p:sp>
            <p:nvSpPr>
              <p:cNvPr id="438" name="Line 24"/>
              <p:cNvSpPr/>
              <p:nvPr/>
            </p:nvSpPr>
            <p:spPr>
              <a:xfrm>
                <a:off x="2259360" y="100440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2259360" y="100440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6920640" y="1004400"/>
              <a:ext cx="192600" cy="360"/>
              <a:chOff x="6920640" y="1004400"/>
              <a:chExt cx="192600" cy="360"/>
            </a:xfrm>
          </p:grpSpPr>
          <p:sp>
            <p:nvSpPr>
              <p:cNvPr id="441" name="Line 25"/>
              <p:cNvSpPr/>
              <p:nvPr/>
            </p:nvSpPr>
            <p:spPr>
              <a:xfrm>
                <a:off x="6920640" y="100440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6920640" y="100440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55560" y="839520"/>
              <a:ext cx="360" cy="164520"/>
              <a:chOff x="2455560" y="839520"/>
              <a:chExt cx="360" cy="164520"/>
            </a:xfrm>
          </p:grpSpPr>
          <p:sp>
            <p:nvSpPr>
              <p:cNvPr id="444" name="Line 26"/>
              <p:cNvSpPr/>
              <p:nvPr/>
            </p:nvSpPr>
            <p:spPr>
              <a:xfrm>
                <a:off x="2455560" y="83952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2455560" y="83952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916680" y="839520"/>
              <a:ext cx="360" cy="164520"/>
              <a:chOff x="6916680" y="839520"/>
              <a:chExt cx="360" cy="164520"/>
            </a:xfrm>
          </p:grpSpPr>
          <p:sp>
            <p:nvSpPr>
              <p:cNvPr id="447" name="Line 27"/>
              <p:cNvSpPr/>
              <p:nvPr/>
            </p:nvSpPr>
            <p:spPr>
              <a:xfrm>
                <a:off x="6916680" y="83952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6916680" y="83952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2455560" y="835200"/>
              <a:ext cx="4453560" cy="360"/>
              <a:chOff x="2455560" y="835200"/>
              <a:chExt cx="4453560" cy="360"/>
            </a:xfrm>
          </p:grpSpPr>
          <p:sp>
            <p:nvSpPr>
              <p:cNvPr id="450" name="Line 28"/>
              <p:cNvSpPr/>
              <p:nvPr/>
            </p:nvSpPr>
            <p:spPr>
              <a:xfrm>
                <a:off x="2455560" y="835200"/>
                <a:ext cx="445356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2455560" y="835200"/>
                <a:ext cx="445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29"/>
            <p:cNvSpPr/>
            <p:nvPr/>
          </p:nvSpPr>
          <p:spPr>
            <a:xfrm>
              <a:off x="6962040" y="149112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6962040" y="8438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2259360" y="149112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2259360" y="8438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Text Box 51"/>
          <p:cNvSpPr/>
          <p:nvPr/>
        </p:nvSpPr>
        <p:spPr>
          <a:xfrm>
            <a:off x="7095960" y="3106800"/>
            <a:ext cx="486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2"/>
          <p:cNvSpPr/>
          <p:nvPr/>
        </p:nvSpPr>
        <p:spPr>
          <a:xfrm>
            <a:off x="6050880" y="2202840"/>
            <a:ext cx="193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国家根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仰给东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宋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55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6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1762200" y="1704960"/>
            <a:ext cx="72676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  <a:ea typeface="宋体"/>
              </a:rPr>
              <a:t>经济因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唐朝晚期以来，大量中原地区人口南迁，带来先进技术、生产经验，也增加了劳动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  <a:ea typeface="宋体"/>
              </a:rPr>
              <a:t>自然因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宋代气候条件变化，使南方更适宜农业发展。经过三国时期以来的经济开发，为南方经济发展打下一定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  <a:ea typeface="宋体"/>
              </a:rPr>
              <a:t>政治因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唐末以来，北方战乱频繁，而南方相对安定；同时，统治者重视经济的发展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5"/>
          <p:cNvGrpSpPr/>
          <p:nvPr/>
        </p:nvGrpSpPr>
        <p:grpSpPr>
          <a:xfrm>
            <a:off x="1706400" y="635040"/>
            <a:ext cx="6712920" cy="863640"/>
            <a:chOff x="1706400" y="635040"/>
            <a:chExt cx="6712920" cy="863640"/>
          </a:xfrm>
        </p:grpSpPr>
        <p:sp>
          <p:nvSpPr>
            <p:cNvPr id="462" name="Text Box 6"/>
            <p:cNvSpPr/>
            <p:nvPr/>
          </p:nvSpPr>
          <p:spPr>
            <a:xfrm>
              <a:off x="2013480" y="635040"/>
              <a:ext cx="6405840" cy="863640"/>
            </a:xfrm>
            <a:prstGeom prst="rect">
              <a:avLst/>
            </a:prstGeom>
            <a:solidFill>
              <a:srgbClr val="99ffcc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想一想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为什么经济重心会南移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3" name="Picture 7" descr="Q_025"/>
            <p:cNvPicPr/>
            <p:nvPr/>
          </p:nvPicPr>
          <p:blipFill>
            <a:blip r:embed="rId1"/>
            <a:stretch/>
          </p:blipFill>
          <p:spPr>
            <a:xfrm>
              <a:off x="1706400" y="735840"/>
              <a:ext cx="514800" cy="60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8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66" name="Oval 10"/>
          <p:cNvSpPr/>
          <p:nvPr/>
        </p:nvSpPr>
        <p:spPr>
          <a:xfrm>
            <a:off x="147600" y="4716360"/>
            <a:ext cx="1206360" cy="1405080"/>
          </a:xfrm>
          <a:prstGeom prst="ellipse">
            <a:avLst/>
          </a:prstGeom>
          <a:solidFill>
            <a:srgbClr val="daf7f6"/>
          </a:solidFill>
          <a:ln w="0">
            <a:noFill/>
          </a:ln>
          <a:effectLst>
            <a:outerShdw dist="153753" dir="2700000" blurRad="0" rotWithShape="0">
              <a:srgbClr val="83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262080" y="4883040"/>
            <a:ext cx="139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im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image2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"/>
          <p:cNvSpPr/>
          <p:nvPr/>
        </p:nvSpPr>
        <p:spPr>
          <a:xfrm>
            <a:off x="5353200" y="2390760"/>
            <a:ext cx="3105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5105520" y="2247840"/>
            <a:ext cx="3409920" cy="10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农 业 发 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占城稻、棉花、茶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5086440" y="3524400"/>
            <a:ext cx="3409920" cy="10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手工业进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蜀地和江浙丝绸、景德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5083200" y="4807080"/>
            <a:ext cx="3409920" cy="9810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商 业 繁 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临安、交子、市舶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3448800" y="2257560"/>
            <a:ext cx="1399320" cy="35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Times New Roman"/>
                <a:ea typeface="黑体"/>
              </a:rPr>
              <a:t>经济重心南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31"/>
          <p:cNvSpPr/>
          <p:nvPr/>
        </p:nvSpPr>
        <p:spPr>
          <a:xfrm>
            <a:off x="1962000" y="2209680"/>
            <a:ext cx="2038680" cy="3571920"/>
          </a:xfrm>
          <a:prstGeom prst="rightArrowCallout">
            <a:avLst>
              <a:gd name="adj1" fmla="val 18528"/>
              <a:gd name="adj2" fmla="val 17131"/>
              <a:gd name="adj3" fmla="val 16657"/>
              <a:gd name="adj4" fmla="val 74139"/>
            </a:avLst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3300"/>
                </a:solidFill>
                <a:latin typeface="Times New Roman"/>
                <a:ea typeface="黑体"/>
              </a:rPr>
              <a:t>北人南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3300"/>
                </a:solidFill>
                <a:latin typeface="Times New Roman"/>
                <a:ea typeface="黑体"/>
              </a:rPr>
              <a:t>气候适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3300"/>
                </a:solidFill>
                <a:latin typeface="Times New Roman"/>
                <a:ea typeface="黑体"/>
              </a:rPr>
              <a:t>相对安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黑体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33"/>
          <p:cNvSpPr/>
          <p:nvPr/>
        </p:nvSpPr>
        <p:spPr>
          <a:xfrm>
            <a:off x="4888080" y="2724120"/>
            <a:ext cx="201600" cy="1429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4"/>
          <p:cNvSpPr/>
          <p:nvPr/>
        </p:nvSpPr>
        <p:spPr>
          <a:xfrm>
            <a:off x="4869000" y="3895560"/>
            <a:ext cx="201600" cy="1429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35"/>
          <p:cNvSpPr/>
          <p:nvPr/>
        </p:nvSpPr>
        <p:spPr>
          <a:xfrm>
            <a:off x="4878360" y="5172120"/>
            <a:ext cx="201600" cy="1429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37" descr=""/>
          <p:cNvPicPr/>
          <p:nvPr/>
        </p:nvPicPr>
        <p:blipFill>
          <a:blip r:embed="rId3"/>
          <a:stretch/>
        </p:blipFill>
        <p:spPr>
          <a:xfrm>
            <a:off x="3776760" y="838080"/>
            <a:ext cx="3076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3429000" y="857160"/>
            <a:ext cx="37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Times New Roman"/>
                <a:ea typeface="黑体"/>
              </a:rPr>
              <a:t>感悟提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1908000" y="2257560"/>
            <a:ext cx="6950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本课的学习，你有怎样的收获和体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"/>
          <p:cNvSpPr/>
          <p:nvPr/>
        </p:nvSpPr>
        <p:spPr>
          <a:xfrm>
            <a:off x="176040" y="4668840"/>
            <a:ext cx="1206720" cy="1405080"/>
          </a:xfrm>
          <a:prstGeom prst="ellipse">
            <a:avLst/>
          </a:prstGeom>
          <a:solidFill>
            <a:srgbClr val="daf7f6"/>
          </a:solidFill>
          <a:ln w="0">
            <a:noFill/>
          </a:ln>
          <a:effectLst>
            <a:outerShdw dist="153753" dir="2700000" blurRad="0" rotWithShape="0">
              <a:srgbClr val="83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435960" y="48355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历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8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9"/>
          <p:cNvSpPr/>
          <p:nvPr/>
        </p:nvSpPr>
        <p:spPr>
          <a:xfrm>
            <a:off x="1727280" y="2718000"/>
            <a:ext cx="71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实上，世界上根本就没有帮我们实现愿望的神灯。不过，只要坚持理想、不懈努力，我们心中希望之灯却可以永远点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福同学们！加油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陈老师寄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1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2"/>
          <p:cNvSpPr/>
          <p:nvPr/>
        </p:nvSpPr>
        <p:spPr>
          <a:xfrm>
            <a:off x="3403440" y="831960"/>
            <a:ext cx="3753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660066"/>
                </a:solidFill>
                <a:uFillTx/>
                <a:latin typeface="Times New Roman"/>
                <a:ea typeface="黑体"/>
              </a:rPr>
              <a:t>教师寄语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黑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1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2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84" descr="0096 拷贝"/>
          <p:cNvPicPr/>
          <p:nvPr/>
        </p:nvPicPr>
        <p:blipFill>
          <a:blip r:embed="rId1"/>
          <a:stretch/>
        </p:blipFill>
        <p:spPr>
          <a:xfrm>
            <a:off x="6991200" y="3022560"/>
            <a:ext cx="1455840" cy="1511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9" descr="0096 拷贝"/>
          <p:cNvPicPr/>
          <p:nvPr/>
        </p:nvPicPr>
        <p:blipFill>
          <a:blip r:embed="rId2"/>
          <a:stretch/>
        </p:blipFill>
        <p:spPr>
          <a:xfrm>
            <a:off x="5400720" y="3051000"/>
            <a:ext cx="1455840" cy="1511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8" descr="0096 拷贝"/>
          <p:cNvPicPr/>
          <p:nvPr/>
        </p:nvPicPr>
        <p:blipFill>
          <a:blip r:embed="rId3"/>
          <a:stretch/>
        </p:blipFill>
        <p:spPr>
          <a:xfrm>
            <a:off x="3718080" y="3063960"/>
            <a:ext cx="1455480" cy="1511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image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image2"/>
          <p:cNvPicPr/>
          <p:nvPr/>
        </p:nvPicPr>
        <p:blipFill>
          <a:blip r:embed="rId5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94" name="Oval 35"/>
          <p:cNvSpPr/>
          <p:nvPr/>
        </p:nvSpPr>
        <p:spPr>
          <a:xfrm>
            <a:off x="3625920" y="3206880"/>
            <a:ext cx="16383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测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36"/>
          <p:cNvSpPr/>
          <p:nvPr/>
        </p:nvSpPr>
        <p:spPr>
          <a:xfrm>
            <a:off x="4851360" y="3235320"/>
            <a:ext cx="2514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38"/>
          <p:cNvSpPr/>
          <p:nvPr/>
        </p:nvSpPr>
        <p:spPr>
          <a:xfrm>
            <a:off x="6467400" y="3219480"/>
            <a:ext cx="2514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终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挑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68" descr="0096 拷贝"/>
          <p:cNvPicPr/>
          <p:nvPr/>
        </p:nvPicPr>
        <p:blipFill>
          <a:blip r:embed="rId6"/>
          <a:stretch/>
        </p:blipFill>
        <p:spPr>
          <a:xfrm>
            <a:off x="2006640" y="3029040"/>
            <a:ext cx="1455840" cy="151128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69"/>
          <p:cNvGrpSpPr/>
          <p:nvPr/>
        </p:nvGrpSpPr>
        <p:grpSpPr>
          <a:xfrm>
            <a:off x="1590840" y="762120"/>
            <a:ext cx="3628440" cy="1285560"/>
            <a:chOff x="1590840" y="762120"/>
            <a:chExt cx="3628440" cy="1285560"/>
          </a:xfrm>
        </p:grpSpPr>
        <p:sp>
          <p:nvSpPr>
            <p:cNvPr id="499" name="AutoShape 70"/>
            <p:cNvSpPr/>
            <p:nvPr/>
          </p:nvSpPr>
          <p:spPr>
            <a:xfrm>
              <a:off x="1590840" y="762120"/>
              <a:ext cx="1209600" cy="818280"/>
            </a:xfrm>
            <a:prstGeom prst="parallelogram">
              <a:avLst>
                <a:gd name="adj" fmla="val 36956"/>
              </a:avLst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cc66"/>
                  </a:solidFill>
                  <a:latin typeface="Times New Roman"/>
                  <a:ea typeface="幼圆"/>
                </a:rPr>
                <a:t>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71"/>
            <p:cNvSpPr/>
            <p:nvPr/>
          </p:nvSpPr>
          <p:spPr>
            <a:xfrm>
              <a:off x="2316240" y="1112760"/>
              <a:ext cx="1209600" cy="818280"/>
            </a:xfrm>
            <a:prstGeom prst="parallelogram">
              <a:avLst>
                <a:gd name="adj" fmla="val 36956"/>
              </a:avLst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cc66"/>
                  </a:solidFill>
                  <a:latin typeface="Times New Roman"/>
                  <a:ea typeface="幼圆"/>
                </a:rPr>
                <a:t>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AutoShape 72"/>
            <p:cNvSpPr/>
            <p:nvPr/>
          </p:nvSpPr>
          <p:spPr>
            <a:xfrm>
              <a:off x="3283920" y="879120"/>
              <a:ext cx="1209600" cy="817920"/>
            </a:xfrm>
            <a:prstGeom prst="parallelogram">
              <a:avLst>
                <a:gd name="adj" fmla="val 36972"/>
              </a:avLst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cc66"/>
                  </a:solidFill>
                  <a:latin typeface="Times New Roman"/>
                  <a:ea typeface="幼圆"/>
                </a:rPr>
                <a:t>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AutoShape 73"/>
            <p:cNvSpPr/>
            <p:nvPr/>
          </p:nvSpPr>
          <p:spPr>
            <a:xfrm>
              <a:off x="4009680" y="1229760"/>
              <a:ext cx="1209600" cy="817920"/>
            </a:xfrm>
            <a:prstGeom prst="parallelogram">
              <a:avLst>
                <a:gd name="adj" fmla="val 36972"/>
              </a:avLst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cc66"/>
                  </a:solidFill>
                  <a:latin typeface="Times New Roman"/>
                  <a:ea typeface="幼圆"/>
                </a:rPr>
                <a:t>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Oval 34"/>
          <p:cNvSpPr/>
          <p:nvPr/>
        </p:nvSpPr>
        <p:spPr>
          <a:xfrm>
            <a:off x="1476360" y="3191040"/>
            <a:ext cx="2514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黑体"/>
              </a:rPr>
              <a:t>达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m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age2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793960" y="762120"/>
            <a:ext cx="321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a0045"/>
                </a:solidFill>
                <a:latin typeface="Times New Roman"/>
                <a:ea typeface="黑体"/>
              </a:rPr>
              <a:t>《</a:t>
            </a:r>
            <a:r>
              <a:rPr b="1" lang="zh-CN" sz="6600" spc="-1" strike="noStrike">
                <a:solidFill>
                  <a:srgbClr val="8a0045"/>
                </a:solidFill>
                <a:latin typeface="Times New Roman"/>
                <a:ea typeface="黑体"/>
              </a:rPr>
              <a:t>神灯奇缘</a:t>
            </a:r>
            <a:r>
              <a:rPr b="1" lang="en-US" sz="6600" spc="-1" strike="noStrike">
                <a:solidFill>
                  <a:srgbClr val="8a0045"/>
                </a:solidFill>
                <a:latin typeface="Times New Roman"/>
                <a:ea typeface="黑体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1785960" y="1838160"/>
            <a:ext cx="6705360" cy="4014720"/>
            <a:chOff x="1785960" y="1838160"/>
            <a:chExt cx="6705360" cy="4014720"/>
          </a:xfrm>
        </p:grpSpPr>
        <p:sp>
          <p:nvSpPr>
            <p:cNvPr id="143" name="Rectangle 8"/>
            <p:cNvSpPr/>
            <p:nvPr/>
          </p:nvSpPr>
          <p:spPr>
            <a:xfrm>
              <a:off x="1785960" y="1890360"/>
              <a:ext cx="4079880" cy="39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9" descr="2008122022643980"/>
            <p:cNvPicPr/>
            <p:nvPr/>
          </p:nvPicPr>
          <p:blipFill>
            <a:blip r:embed="rId3"/>
            <a:stretch/>
          </p:blipFill>
          <p:spPr>
            <a:xfrm>
              <a:off x="5940360" y="1838160"/>
              <a:ext cx="2550960" cy="40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0"/>
            <p:cNvSpPr/>
            <p:nvPr/>
          </p:nvSpPr>
          <p:spPr>
            <a:xfrm>
              <a:off x="2077920" y="1974600"/>
              <a:ext cx="32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知道阿拉丁神灯的故事吗？如果宋朝处于战乱中的北方人，拥有一盏阿拉丁神灯，他们最希望去的地方是我国什么地方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WordArt 11"/>
            <p:cNvSpPr txBox="1"/>
            <p:nvPr/>
          </p:nvSpPr>
          <p:spPr>
            <a:xfrm>
              <a:off x="3624120" y="4679640"/>
              <a:ext cx="933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9a009a"/>
                    </a:solidFill>
                    <a:round/>
                  </a:ln>
                  <a:solidFill>
                    <a:srgbClr val="9a009a"/>
                  </a:solidFill>
                  <a:latin typeface="宋体"/>
                </a:rPr>
                <a:t>——</a:t>
              </a:r>
              <a:r>
                <a:rPr b="1" lang="zh-CN" sz="2000" spc="1" strike="noStrike">
                  <a:ln w="9360">
                    <a:solidFill>
                      <a:srgbClr val="9a009a"/>
                    </a:solidFill>
                    <a:round/>
                  </a:ln>
                  <a:solidFill>
                    <a:srgbClr val="9a009a"/>
                  </a:solidFill>
                  <a:latin typeface="宋体"/>
                </a:rPr>
                <a:t>南方</a:t>
              </a:r>
              <a:endParaRPr b="1" lang="en-US" sz="2000" spc="1" strike="noStrike">
                <a:ln w="9360">
                  <a:solidFill>
                    <a:srgbClr val="9a009a"/>
                  </a:solidFill>
                  <a:round/>
                </a:ln>
                <a:solidFill>
                  <a:srgbClr val="9a009a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1628640" y="2346480"/>
            <a:ext cx="71406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朝时，从越南引进的优良品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城稻  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棉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茶树　　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宋时期，我国著名的瓷业生产中心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德镇　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扬州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州　　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杭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12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14"/>
          <p:cNvSpPr/>
          <p:nvPr/>
        </p:nvSpPr>
        <p:spPr>
          <a:xfrm>
            <a:off x="276120" y="5527800"/>
            <a:ext cx="978120" cy="647640"/>
          </a:xfrm>
          <a:custGeom>
            <a:avLst/>
            <a:gdLst>
              <a:gd name="textAreaLeft" fmla="*/ 41760 w 978120"/>
              <a:gd name="textAreaRight" fmla="*/ 936360 w 9781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2616" h="21600">
                <a:moveTo>
                  <a:pt x="0" y="0"/>
                </a:moveTo>
                <a:lnTo>
                  <a:pt x="32616" y="0"/>
                </a:lnTo>
                <a:lnTo>
                  <a:pt x="32616" y="21600"/>
                </a:lnTo>
                <a:lnTo>
                  <a:pt x="0" y="21600"/>
                </a:lnTo>
                <a:close/>
              </a:path>
              <a:path fill="lightenLess" w="32616" h="21600">
                <a:moveTo>
                  <a:pt x="0" y="0"/>
                </a:moveTo>
                <a:lnTo>
                  <a:pt x="32616" y="0"/>
                </a:lnTo>
                <a:lnTo>
                  <a:pt x="31216" y="1400"/>
                </a:lnTo>
                <a:lnTo>
                  <a:pt x="1400" y="1400"/>
                </a:lnTo>
                <a:close/>
              </a:path>
              <a:path fill="darken" w="32616" h="21600">
                <a:moveTo>
                  <a:pt x="32616" y="0"/>
                </a:moveTo>
                <a:lnTo>
                  <a:pt x="32616" y="21600"/>
                </a:lnTo>
                <a:lnTo>
                  <a:pt x="31216" y="20200"/>
                </a:lnTo>
                <a:lnTo>
                  <a:pt x="31216" y="1400"/>
                </a:lnTo>
                <a:close/>
              </a:path>
              <a:path fill="darkenLess" w="32616" h="21600">
                <a:moveTo>
                  <a:pt x="32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6" y="20200"/>
                </a:lnTo>
                <a:close/>
              </a:path>
              <a:path fill="lighten" w="32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6" h="21600">
                <a:moveTo>
                  <a:pt x="12809" y="10800"/>
                </a:moveTo>
                <a:lnTo>
                  <a:pt x="23314" y="3794"/>
                </a:lnTo>
                <a:lnTo>
                  <a:pt x="23314" y="17806"/>
                </a:lnTo>
                <a:close/>
              </a:path>
              <a:path fill="darken" w="32616" h="21600">
                <a:moveTo>
                  <a:pt x="9302" y="3794"/>
                </a:moveTo>
                <a:lnTo>
                  <a:pt x="10964" y="3794"/>
                </a:lnTo>
                <a:lnTo>
                  <a:pt x="10964" y="17806"/>
                </a:lnTo>
                <a:lnTo>
                  <a:pt x="9302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21" descr=""/>
          <p:cNvPicPr/>
          <p:nvPr/>
        </p:nvPicPr>
        <p:blipFill>
          <a:blip r:embed="rId2"/>
          <a:stretch/>
        </p:blipFill>
        <p:spPr>
          <a:xfrm>
            <a:off x="2162160" y="1057320"/>
            <a:ext cx="2914560" cy="971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2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3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6"/>
          <p:cNvSpPr/>
          <p:nvPr/>
        </p:nvSpPr>
        <p:spPr>
          <a:xfrm>
            <a:off x="1920960" y="2825640"/>
            <a:ext cx="1614240" cy="505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1914480" y="4473720"/>
            <a:ext cx="1577880" cy="493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9"/>
          <p:cNvSpPr/>
          <p:nvPr/>
        </p:nvSpPr>
        <p:spPr>
          <a:xfrm>
            <a:off x="6303960" y="963720"/>
            <a:ext cx="2193840" cy="1206360"/>
          </a:xfrm>
          <a:prstGeom prst="ellipse">
            <a:avLst/>
          </a:prstGeom>
          <a:solidFill>
            <a:srgbClr val="99ffcc">
              <a:alpha val="5000"/>
            </a:srgbClr>
          </a:solidFill>
          <a:ln cap="rnd" w="1440">
            <a:solidFill>
              <a:srgbClr val="9a009a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9"/>
          <p:cNvSpPr/>
          <p:nvPr/>
        </p:nvSpPr>
        <p:spPr>
          <a:xfrm>
            <a:off x="361800" y="5489640"/>
            <a:ext cx="978120" cy="647640"/>
          </a:xfrm>
          <a:custGeom>
            <a:avLst/>
            <a:gdLst>
              <a:gd name="textAreaLeft" fmla="*/ 41760 w 978120"/>
              <a:gd name="textAreaRight" fmla="*/ 936360 w 9781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2616" h="21600">
                <a:moveTo>
                  <a:pt x="0" y="0"/>
                </a:moveTo>
                <a:lnTo>
                  <a:pt x="32616" y="0"/>
                </a:lnTo>
                <a:lnTo>
                  <a:pt x="32616" y="21600"/>
                </a:lnTo>
                <a:lnTo>
                  <a:pt x="0" y="21600"/>
                </a:lnTo>
                <a:close/>
              </a:path>
              <a:path fill="lightenLess" w="32616" h="21600">
                <a:moveTo>
                  <a:pt x="0" y="0"/>
                </a:moveTo>
                <a:lnTo>
                  <a:pt x="32616" y="0"/>
                </a:lnTo>
                <a:lnTo>
                  <a:pt x="31216" y="1400"/>
                </a:lnTo>
                <a:lnTo>
                  <a:pt x="1400" y="1400"/>
                </a:lnTo>
                <a:close/>
              </a:path>
              <a:path fill="darken" w="32616" h="21600">
                <a:moveTo>
                  <a:pt x="32616" y="0"/>
                </a:moveTo>
                <a:lnTo>
                  <a:pt x="32616" y="21600"/>
                </a:lnTo>
                <a:lnTo>
                  <a:pt x="31216" y="20200"/>
                </a:lnTo>
                <a:lnTo>
                  <a:pt x="31216" y="1400"/>
                </a:lnTo>
                <a:close/>
              </a:path>
              <a:path fill="darkenLess" w="32616" h="21600">
                <a:moveTo>
                  <a:pt x="32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6" y="20200"/>
                </a:lnTo>
                <a:close/>
              </a:path>
              <a:path fill="lighten" w="32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6" h="21600">
                <a:moveTo>
                  <a:pt x="12809" y="10800"/>
                </a:moveTo>
                <a:lnTo>
                  <a:pt x="23314" y="3794"/>
                </a:lnTo>
                <a:lnTo>
                  <a:pt x="23314" y="17806"/>
                </a:lnTo>
                <a:close/>
              </a:path>
              <a:path fill="darken" w="32616" h="21600">
                <a:moveTo>
                  <a:pt x="9302" y="3794"/>
                </a:moveTo>
                <a:lnTo>
                  <a:pt x="10964" y="3794"/>
                </a:lnTo>
                <a:lnTo>
                  <a:pt x="10964" y="17806"/>
                </a:lnTo>
                <a:lnTo>
                  <a:pt x="9302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2647800" y="752400"/>
            <a:ext cx="3000600" cy="10098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1"/>
          <p:cNvSpPr/>
          <p:nvPr/>
        </p:nvSpPr>
        <p:spPr>
          <a:xfrm>
            <a:off x="4495680" y="1830240"/>
            <a:ext cx="14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提示语句，猜想历史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比一比谁的反应快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2612880" y="2925720"/>
            <a:ext cx="43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地处浙江的瓷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2638440" y="3541680"/>
            <a:ext cx="43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我国五大名窑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2625840" y="4119480"/>
            <a:ext cx="45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作品有别致的美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2606760" y="478620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以生产冰裂纹瓷器著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WordArt 16"/>
          <p:cNvSpPr txBox="1"/>
          <p:nvPr/>
        </p:nvSpPr>
        <p:spPr>
          <a:xfrm>
            <a:off x="4429080" y="3676680"/>
            <a:ext cx="133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哥窑</a:t>
            </a:r>
            <a:endParaRPr b="0" lang="en-US" sz="2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2619360" y="2922480"/>
            <a:ext cx="59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南宋繁华的都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2651040" y="3801960"/>
            <a:ext cx="59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繁荣程度超过当时的开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2670120" y="4697280"/>
            <a:ext cx="46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南宋的都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WordArt 20"/>
          <p:cNvSpPr txBox="1"/>
          <p:nvPr/>
        </p:nvSpPr>
        <p:spPr>
          <a:xfrm>
            <a:off x="4403880" y="5425920"/>
            <a:ext cx="133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临安</a:t>
            </a:r>
            <a:endParaRPr b="0" lang="en-US" sz="2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525" name="Picture 21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7" name="Oval 26"/>
          <p:cNvSpPr/>
          <p:nvPr/>
        </p:nvSpPr>
        <p:spPr>
          <a:xfrm>
            <a:off x="6303960" y="963720"/>
            <a:ext cx="2193840" cy="938160"/>
          </a:xfrm>
          <a:prstGeom prst="ellipse">
            <a:avLst/>
          </a:prstGeom>
          <a:solidFill>
            <a:srgbClr val="99ffcc">
              <a:alpha val="5000"/>
            </a:srgbClr>
          </a:solidFill>
          <a:ln cap="rnd" w="1440">
            <a:solidFill>
              <a:srgbClr val="9a009a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4527720" y="21384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是一位同学在学完本课后总结的表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格存在一些不当之处，请你帮助他纠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881360" y="3271680"/>
          <a:ext cx="6948360" cy="2647800"/>
        </p:xfrm>
        <a:graphic>
          <a:graphicData uri="http://schemas.openxmlformats.org/drawingml/2006/table">
            <a:tbl>
              <a:tblPr/>
              <a:tblGrid>
                <a:gridCol w="628560"/>
                <a:gridCol w="1325520"/>
                <a:gridCol w="499428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类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发展成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rowSpan="3"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商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货        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南宋时期，山东地区出现的交子是世界上最早的纸币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商业都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主要有开封和杭州。杭州改为都城长安后，繁荣景象超过北宋时的开封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对外贸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在当时世界上占重要地位，广州、泉州是大商港，政府设立西域都护加以管理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0" name="Rectangle 23"/>
          <p:cNvSpPr/>
          <p:nvPr/>
        </p:nvSpPr>
        <p:spPr>
          <a:xfrm>
            <a:off x="4012560" y="3763800"/>
            <a:ext cx="305640" cy="305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北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5317560" y="3782880"/>
            <a:ext cx="305640" cy="305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四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7860600" y="4506840"/>
            <a:ext cx="305640" cy="305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临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6008760" y="5583240"/>
            <a:ext cx="1015920" cy="305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市 舶 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27" descr=""/>
          <p:cNvPicPr/>
          <p:nvPr/>
        </p:nvPicPr>
        <p:blipFill>
          <a:blip r:embed="rId1"/>
          <a:stretch/>
        </p:blipFill>
        <p:spPr>
          <a:xfrm>
            <a:off x="2405160" y="966960"/>
            <a:ext cx="3201840" cy="96192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28"/>
          <p:cNvSpPr/>
          <p:nvPr/>
        </p:nvSpPr>
        <p:spPr>
          <a:xfrm>
            <a:off x="409680" y="5565600"/>
            <a:ext cx="977760" cy="648000"/>
          </a:xfrm>
          <a:custGeom>
            <a:avLst/>
            <a:gdLst>
              <a:gd name="textAreaLeft" fmla="*/ 41760 w 977760"/>
              <a:gd name="textAreaRight" fmla="*/ 936000 w 9777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2586" h="21600">
                <a:moveTo>
                  <a:pt x="0" y="0"/>
                </a:moveTo>
                <a:lnTo>
                  <a:pt x="32586" y="0"/>
                </a:lnTo>
                <a:lnTo>
                  <a:pt x="32586" y="21600"/>
                </a:lnTo>
                <a:lnTo>
                  <a:pt x="0" y="21600"/>
                </a:lnTo>
                <a:close/>
              </a:path>
              <a:path fill="lightenLess" w="32586" h="21600">
                <a:moveTo>
                  <a:pt x="0" y="0"/>
                </a:moveTo>
                <a:lnTo>
                  <a:pt x="32586" y="0"/>
                </a:lnTo>
                <a:lnTo>
                  <a:pt x="31186" y="1400"/>
                </a:lnTo>
                <a:lnTo>
                  <a:pt x="1400" y="1400"/>
                </a:lnTo>
                <a:close/>
              </a:path>
              <a:path fill="darken" w="32586" h="21600">
                <a:moveTo>
                  <a:pt x="32586" y="0"/>
                </a:moveTo>
                <a:lnTo>
                  <a:pt x="32586" y="21600"/>
                </a:lnTo>
                <a:lnTo>
                  <a:pt x="31186" y="20200"/>
                </a:lnTo>
                <a:lnTo>
                  <a:pt x="31186" y="1400"/>
                </a:lnTo>
                <a:close/>
              </a:path>
              <a:path fill="darkenLess" w="32586" h="21600">
                <a:moveTo>
                  <a:pt x="3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86" y="20200"/>
                </a:lnTo>
                <a:close/>
              </a:path>
              <a:path fill="lighten" w="3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86" h="21600">
                <a:moveTo>
                  <a:pt x="12794" y="10800"/>
                </a:moveTo>
                <a:lnTo>
                  <a:pt x="23299" y="3794"/>
                </a:lnTo>
                <a:lnTo>
                  <a:pt x="23299" y="17806"/>
                </a:lnTo>
                <a:close/>
              </a:path>
              <a:path fill="darken" w="32586" h="21600">
                <a:moveTo>
                  <a:pt x="9286" y="3794"/>
                </a:moveTo>
                <a:lnTo>
                  <a:pt x="10949" y="3794"/>
                </a:lnTo>
                <a:lnTo>
                  <a:pt x="10949" y="17806"/>
                </a:lnTo>
                <a:lnTo>
                  <a:pt x="9286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29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0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6"/>
          <p:cNvSpPr/>
          <p:nvPr/>
        </p:nvSpPr>
        <p:spPr>
          <a:xfrm>
            <a:off x="438120" y="5499000"/>
            <a:ext cx="977760" cy="647640"/>
          </a:xfrm>
          <a:custGeom>
            <a:avLst/>
            <a:gdLst>
              <a:gd name="textAreaLeft" fmla="*/ 41760 w 977760"/>
              <a:gd name="textAreaRight" fmla="*/ 936000 w 9777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2604" h="21600">
                <a:moveTo>
                  <a:pt x="0" y="0"/>
                </a:moveTo>
                <a:lnTo>
                  <a:pt x="32604" y="0"/>
                </a:lnTo>
                <a:lnTo>
                  <a:pt x="32604" y="21600"/>
                </a:lnTo>
                <a:lnTo>
                  <a:pt x="0" y="21600"/>
                </a:lnTo>
                <a:close/>
              </a:path>
              <a:path fill="lightenLess" w="32604" h="21600">
                <a:moveTo>
                  <a:pt x="0" y="0"/>
                </a:moveTo>
                <a:lnTo>
                  <a:pt x="32604" y="0"/>
                </a:lnTo>
                <a:lnTo>
                  <a:pt x="31204" y="1400"/>
                </a:lnTo>
                <a:lnTo>
                  <a:pt x="1400" y="1400"/>
                </a:lnTo>
                <a:close/>
              </a:path>
              <a:path fill="darken" w="32604" h="21600">
                <a:moveTo>
                  <a:pt x="32604" y="0"/>
                </a:moveTo>
                <a:lnTo>
                  <a:pt x="32604" y="21600"/>
                </a:lnTo>
                <a:lnTo>
                  <a:pt x="31204" y="20200"/>
                </a:lnTo>
                <a:lnTo>
                  <a:pt x="31204" y="1400"/>
                </a:lnTo>
                <a:close/>
              </a:path>
              <a:path fill="darkenLess" w="32604" h="21600">
                <a:moveTo>
                  <a:pt x="32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4" y="20200"/>
                </a:lnTo>
                <a:close/>
              </a:path>
              <a:path fill="lighten" w="32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4" h="21600">
                <a:moveTo>
                  <a:pt x="12803" y="10800"/>
                </a:moveTo>
                <a:lnTo>
                  <a:pt x="23308" y="3794"/>
                </a:lnTo>
                <a:lnTo>
                  <a:pt x="23308" y="17806"/>
                </a:lnTo>
                <a:close/>
              </a:path>
              <a:path fill="darken" w="32604" h="21600">
                <a:moveTo>
                  <a:pt x="9296" y="3794"/>
                </a:moveTo>
                <a:lnTo>
                  <a:pt x="10958" y="3794"/>
                </a:lnTo>
                <a:lnTo>
                  <a:pt x="10958" y="17806"/>
                </a:lnTo>
                <a:lnTo>
                  <a:pt x="9296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8" descr=""/>
          <p:cNvPicPr/>
          <p:nvPr/>
        </p:nvPicPr>
        <p:blipFill>
          <a:blip r:embed="rId1"/>
          <a:stretch/>
        </p:blipFill>
        <p:spPr>
          <a:xfrm>
            <a:off x="2862360" y="971640"/>
            <a:ext cx="3267000" cy="9144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9"/>
          <p:cNvSpPr/>
          <p:nvPr/>
        </p:nvSpPr>
        <p:spPr>
          <a:xfrm>
            <a:off x="1668600" y="1817640"/>
            <a:ext cx="70848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编排反映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宋朝手工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发展的短剧，请你结合本课知识设计道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演员的衣服可以的材质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舞台背景可以选择的工艺品瓷器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3485520" y="336240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蜀地和江浙的丝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海南棉织品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583800" y="505944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哥窑的冰裂纹瓷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景德镇瓷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45" name="Oval 17"/>
          <p:cNvSpPr/>
          <p:nvPr/>
        </p:nvSpPr>
        <p:spPr>
          <a:xfrm>
            <a:off x="6303960" y="760320"/>
            <a:ext cx="2193840" cy="1206720"/>
          </a:xfrm>
          <a:prstGeom prst="ellipse">
            <a:avLst/>
          </a:prstGeom>
          <a:solidFill>
            <a:srgbClr val="99ffcc">
              <a:alpha val="5000"/>
            </a:srgbClr>
          </a:solidFill>
          <a:ln cap="rnd" w="1440">
            <a:solidFill>
              <a:srgbClr val="9a009a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004840" y="1444680"/>
            <a:ext cx="713916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北宋时期，一位商人在四川经营着丝绸生意，每天需要带着大量的金属货币穿行在大街小巷，既不安全，也不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如果你是这位商人，如果不带金属货币，你有什么好办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使用这种货币与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属货币相比有什么优点？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2619360" y="849240"/>
            <a:ext cx="39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情景体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商人的苦恼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6130800" y="3565440"/>
            <a:ext cx="2775240" cy="2087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2479680" y="3968640"/>
            <a:ext cx="44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纸币交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2444760" y="5646600"/>
            <a:ext cx="68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轻巧、发行成本低、交易方便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9"/>
          <p:cNvSpPr/>
          <p:nvPr/>
        </p:nvSpPr>
        <p:spPr>
          <a:xfrm>
            <a:off x="419040" y="5575320"/>
            <a:ext cx="978120" cy="647640"/>
          </a:xfrm>
          <a:custGeom>
            <a:avLst/>
            <a:gdLst>
              <a:gd name="textAreaLeft" fmla="*/ 41760 w 978120"/>
              <a:gd name="textAreaRight" fmla="*/ 936360 w 9781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2616" h="21600">
                <a:moveTo>
                  <a:pt x="0" y="0"/>
                </a:moveTo>
                <a:lnTo>
                  <a:pt x="32616" y="0"/>
                </a:lnTo>
                <a:lnTo>
                  <a:pt x="32616" y="21600"/>
                </a:lnTo>
                <a:lnTo>
                  <a:pt x="0" y="21600"/>
                </a:lnTo>
                <a:close/>
              </a:path>
              <a:path fill="lightenLess" w="32616" h="21600">
                <a:moveTo>
                  <a:pt x="0" y="0"/>
                </a:moveTo>
                <a:lnTo>
                  <a:pt x="32616" y="0"/>
                </a:lnTo>
                <a:lnTo>
                  <a:pt x="31216" y="1400"/>
                </a:lnTo>
                <a:lnTo>
                  <a:pt x="1400" y="1400"/>
                </a:lnTo>
                <a:close/>
              </a:path>
              <a:path fill="darken" w="32616" h="21600">
                <a:moveTo>
                  <a:pt x="32616" y="0"/>
                </a:moveTo>
                <a:lnTo>
                  <a:pt x="32616" y="21600"/>
                </a:lnTo>
                <a:lnTo>
                  <a:pt x="31216" y="20200"/>
                </a:lnTo>
                <a:lnTo>
                  <a:pt x="31216" y="1400"/>
                </a:lnTo>
                <a:close/>
              </a:path>
              <a:path fill="darkenLess" w="32616" h="21600">
                <a:moveTo>
                  <a:pt x="32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6" y="20200"/>
                </a:lnTo>
                <a:close/>
              </a:path>
              <a:path fill="lighten" w="32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6" h="21600">
                <a:moveTo>
                  <a:pt x="12809" y="10800"/>
                </a:moveTo>
                <a:lnTo>
                  <a:pt x="23314" y="3794"/>
                </a:lnTo>
                <a:lnTo>
                  <a:pt x="23314" y="17806"/>
                </a:lnTo>
                <a:close/>
              </a:path>
              <a:path fill="darken" w="32616" h="21600">
                <a:moveTo>
                  <a:pt x="9302" y="3794"/>
                </a:moveTo>
                <a:lnTo>
                  <a:pt x="10964" y="3794"/>
                </a:lnTo>
                <a:lnTo>
                  <a:pt x="10964" y="17806"/>
                </a:lnTo>
                <a:lnTo>
                  <a:pt x="9302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10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7"/>
          <p:cNvSpPr/>
          <p:nvPr/>
        </p:nvSpPr>
        <p:spPr>
          <a:xfrm>
            <a:off x="2800080" y="763560"/>
            <a:ext cx="416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情景体验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：临安城的导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716120" y="5722920"/>
            <a:ext cx="8066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结合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58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黑体"/>
              </a:rPr>
              <a:t>页课文，描述一下临安城的繁华景象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5" descr="736df00313784c9fd43f7c81"/>
          <p:cNvPicPr/>
          <p:nvPr/>
        </p:nvPicPr>
        <p:blipFill>
          <a:blip r:embed="rId2"/>
          <a:stretch/>
        </p:blipFill>
        <p:spPr>
          <a:xfrm>
            <a:off x="1854360" y="1422360"/>
            <a:ext cx="6972120" cy="42800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6"/>
          <p:cNvSpPr/>
          <p:nvPr/>
        </p:nvSpPr>
        <p:spPr>
          <a:xfrm>
            <a:off x="428760" y="5565600"/>
            <a:ext cx="977760" cy="648000"/>
          </a:xfrm>
          <a:custGeom>
            <a:avLst/>
            <a:gdLst>
              <a:gd name="textAreaLeft" fmla="*/ 41760 w 977760"/>
              <a:gd name="textAreaRight" fmla="*/ 936000 w 9777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2586" h="21600">
                <a:moveTo>
                  <a:pt x="0" y="0"/>
                </a:moveTo>
                <a:lnTo>
                  <a:pt x="32586" y="0"/>
                </a:lnTo>
                <a:lnTo>
                  <a:pt x="32586" y="21600"/>
                </a:lnTo>
                <a:lnTo>
                  <a:pt x="0" y="21600"/>
                </a:lnTo>
                <a:close/>
              </a:path>
              <a:path fill="lightenLess" w="32586" h="21600">
                <a:moveTo>
                  <a:pt x="0" y="0"/>
                </a:moveTo>
                <a:lnTo>
                  <a:pt x="32586" y="0"/>
                </a:lnTo>
                <a:lnTo>
                  <a:pt x="31186" y="1400"/>
                </a:lnTo>
                <a:lnTo>
                  <a:pt x="1400" y="1400"/>
                </a:lnTo>
                <a:close/>
              </a:path>
              <a:path fill="darken" w="32586" h="21600">
                <a:moveTo>
                  <a:pt x="32586" y="0"/>
                </a:moveTo>
                <a:lnTo>
                  <a:pt x="32586" y="21600"/>
                </a:lnTo>
                <a:lnTo>
                  <a:pt x="31186" y="20200"/>
                </a:lnTo>
                <a:lnTo>
                  <a:pt x="31186" y="1400"/>
                </a:lnTo>
                <a:close/>
              </a:path>
              <a:path fill="darkenLess" w="32586" h="21600">
                <a:moveTo>
                  <a:pt x="3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86" y="20200"/>
                </a:lnTo>
                <a:close/>
              </a:path>
              <a:path fill="lighten" w="3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86" h="21600">
                <a:moveTo>
                  <a:pt x="12794" y="10800"/>
                </a:moveTo>
                <a:lnTo>
                  <a:pt x="23299" y="3794"/>
                </a:lnTo>
                <a:lnTo>
                  <a:pt x="23299" y="17806"/>
                </a:lnTo>
                <a:close/>
              </a:path>
              <a:path fill="darken" w="32586" h="21600">
                <a:moveTo>
                  <a:pt x="9286" y="3794"/>
                </a:moveTo>
                <a:lnTo>
                  <a:pt x="10949" y="3794"/>
                </a:lnTo>
                <a:lnTo>
                  <a:pt x="10949" y="17806"/>
                </a:lnTo>
                <a:lnTo>
                  <a:pt x="9286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9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3" dur="1" fill="hold"/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0" y="4915080"/>
            <a:ext cx="914400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479520" y="4900680"/>
            <a:ext cx="760068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出当时闻名世界的大商港有哪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政府设置管理对外贸易的机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4"/>
          <p:cNvSpPr/>
          <p:nvPr/>
        </p:nvSpPr>
        <p:spPr>
          <a:xfrm>
            <a:off x="120600" y="790560"/>
            <a:ext cx="1452600" cy="39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971640" y="5372280"/>
            <a:ext cx="67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广州、泉州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福州、明州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5987880" y="585468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市舶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宋代海外贸易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74188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9"/>
          <p:cNvSpPr/>
          <p:nvPr/>
        </p:nvSpPr>
        <p:spPr>
          <a:xfrm>
            <a:off x="0" y="-36360"/>
            <a:ext cx="9144000" cy="10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情景体验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：古沉船考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120600" y="790560"/>
            <a:ext cx="1452600" cy="39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rcRect l="0" t="0" r="2402" b="0"/>
          <a:stretch/>
        </p:blipFill>
        <p:spPr>
          <a:xfrm>
            <a:off x="0" y="1085760"/>
            <a:ext cx="9144000" cy="455796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11"/>
          <p:cNvGrpSpPr/>
          <p:nvPr/>
        </p:nvGrpSpPr>
        <p:grpSpPr>
          <a:xfrm>
            <a:off x="-1440" y="-20520"/>
            <a:ext cx="9144000" cy="3490200"/>
            <a:chOff x="-1440" y="-20520"/>
            <a:chExt cx="9144000" cy="3490200"/>
          </a:xfrm>
        </p:grpSpPr>
        <p:pic>
          <p:nvPicPr>
            <p:cNvPr id="573" name="Picture 4" descr=""/>
            <p:cNvPicPr/>
            <p:nvPr/>
          </p:nvPicPr>
          <p:blipFill>
            <a:blip r:embed="rId2"/>
            <a:stretch/>
          </p:blipFill>
          <p:spPr>
            <a:xfrm>
              <a:off x="-1440" y="-20520"/>
              <a:ext cx="91440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5"/>
            <p:cNvSpPr/>
            <p:nvPr/>
          </p:nvSpPr>
          <p:spPr>
            <a:xfrm>
              <a:off x="1762200" y="1700280"/>
              <a:ext cx="73040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    </a:t>
              </a:r>
              <a:r>
                <a:rPr b="1" lang="en-US" sz="4000" spc="-1" strike="noStrike">
                  <a:solidFill>
                    <a:srgbClr val="660066"/>
                  </a:solidFill>
                  <a:latin typeface="宋体"/>
                </a:rPr>
                <a:t>2007</a:t>
              </a:r>
              <a:r>
                <a:rPr b="1" lang="zh-CN" sz="4000" spc="-1" strike="noStrike">
                  <a:solidFill>
                    <a:srgbClr val="660066"/>
                  </a:solidFill>
                  <a:latin typeface="宋体"/>
                  <a:ea typeface="宋体"/>
                </a:rPr>
                <a:t>年，整体打捞成功出水面的古沉船“南海一号”，是目前世界上已发现最大的宋代船只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Text Box 6"/>
          <p:cNvSpPr/>
          <p:nvPr/>
        </p:nvSpPr>
        <p:spPr>
          <a:xfrm>
            <a:off x="34920" y="5649840"/>
            <a:ext cx="910764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课文材料，请你猜想一下这艘船有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去哪些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57240" y="5668920"/>
            <a:ext cx="9051840" cy="13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据专家分析，这艘古船是从中国驶出，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亚、东南亚或中东国家和地区进行海外贸易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8166240" y="336600"/>
            <a:ext cx="977760" cy="647640"/>
          </a:xfrm>
          <a:custGeom>
            <a:avLst/>
            <a:gdLst>
              <a:gd name="textAreaLeft" fmla="*/ 41760 w 977760"/>
              <a:gd name="textAreaRight" fmla="*/ 936000 w 9777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2604" h="21600">
                <a:moveTo>
                  <a:pt x="0" y="0"/>
                </a:moveTo>
                <a:lnTo>
                  <a:pt x="32604" y="0"/>
                </a:lnTo>
                <a:lnTo>
                  <a:pt x="32604" y="21600"/>
                </a:lnTo>
                <a:lnTo>
                  <a:pt x="0" y="21600"/>
                </a:lnTo>
                <a:close/>
              </a:path>
              <a:path fill="lightenLess" w="32604" h="21600">
                <a:moveTo>
                  <a:pt x="0" y="0"/>
                </a:moveTo>
                <a:lnTo>
                  <a:pt x="32604" y="0"/>
                </a:lnTo>
                <a:lnTo>
                  <a:pt x="31204" y="1400"/>
                </a:lnTo>
                <a:lnTo>
                  <a:pt x="1400" y="1400"/>
                </a:lnTo>
                <a:close/>
              </a:path>
              <a:path fill="darken" w="32604" h="21600">
                <a:moveTo>
                  <a:pt x="32604" y="0"/>
                </a:moveTo>
                <a:lnTo>
                  <a:pt x="32604" y="21600"/>
                </a:lnTo>
                <a:lnTo>
                  <a:pt x="31204" y="20200"/>
                </a:lnTo>
                <a:lnTo>
                  <a:pt x="31204" y="1400"/>
                </a:lnTo>
                <a:close/>
              </a:path>
              <a:path fill="darkenLess" w="32604" h="21600">
                <a:moveTo>
                  <a:pt x="32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4" y="20200"/>
                </a:lnTo>
                <a:close/>
              </a:path>
              <a:path fill="lighten" w="32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4" h="21600">
                <a:moveTo>
                  <a:pt x="12803" y="10800"/>
                </a:moveTo>
                <a:lnTo>
                  <a:pt x="23308" y="3794"/>
                </a:lnTo>
                <a:lnTo>
                  <a:pt x="23308" y="17806"/>
                </a:lnTo>
                <a:close/>
              </a:path>
              <a:path fill="darken" w="32604" h="21600">
                <a:moveTo>
                  <a:pt x="9296" y="3794"/>
                </a:moveTo>
                <a:lnTo>
                  <a:pt x="10958" y="3794"/>
                </a:lnTo>
                <a:lnTo>
                  <a:pt x="10958" y="17806"/>
                </a:lnTo>
                <a:lnTo>
                  <a:pt x="9296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657440" y="2095560"/>
            <a:ext cx="7353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哈哈，你走错门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里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朱元璋传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剧组。有机会再合作吧！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3" descr="20080511_e354e9c1f5b6c2ffafe4BMFEwWCJNfOA"/>
          <p:cNvPicPr/>
          <p:nvPr/>
        </p:nvPicPr>
        <p:blipFill>
          <a:blip r:embed="rId1"/>
          <a:stretch/>
        </p:blipFill>
        <p:spPr>
          <a:xfrm>
            <a:off x="2200320" y="17622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4"/>
          <p:cNvSpPr/>
          <p:nvPr/>
        </p:nvSpPr>
        <p:spPr>
          <a:xfrm>
            <a:off x="409680" y="5479920"/>
            <a:ext cx="977760" cy="648000"/>
          </a:xfrm>
          <a:custGeom>
            <a:avLst/>
            <a:gdLst>
              <a:gd name="textAreaLeft" fmla="*/ 41760 w 977760"/>
              <a:gd name="textAreaRight" fmla="*/ 936000 w 9777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2586" h="21600">
                <a:moveTo>
                  <a:pt x="0" y="0"/>
                </a:moveTo>
                <a:lnTo>
                  <a:pt x="32586" y="0"/>
                </a:lnTo>
                <a:lnTo>
                  <a:pt x="32586" y="21600"/>
                </a:lnTo>
                <a:lnTo>
                  <a:pt x="0" y="21600"/>
                </a:lnTo>
                <a:close/>
              </a:path>
              <a:path fill="lightenLess" w="32586" h="21600">
                <a:moveTo>
                  <a:pt x="0" y="0"/>
                </a:moveTo>
                <a:lnTo>
                  <a:pt x="32586" y="0"/>
                </a:lnTo>
                <a:lnTo>
                  <a:pt x="31186" y="1400"/>
                </a:lnTo>
                <a:lnTo>
                  <a:pt x="1400" y="1400"/>
                </a:lnTo>
                <a:close/>
              </a:path>
              <a:path fill="darken" w="32586" h="21600">
                <a:moveTo>
                  <a:pt x="32586" y="0"/>
                </a:moveTo>
                <a:lnTo>
                  <a:pt x="32586" y="21600"/>
                </a:lnTo>
                <a:lnTo>
                  <a:pt x="31186" y="20200"/>
                </a:lnTo>
                <a:lnTo>
                  <a:pt x="31186" y="1400"/>
                </a:lnTo>
                <a:close/>
              </a:path>
              <a:path fill="darkenLess" w="32586" h="21600">
                <a:moveTo>
                  <a:pt x="3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86" y="20200"/>
                </a:lnTo>
                <a:close/>
              </a:path>
              <a:path fill="lighten" w="3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86" h="21600">
                <a:moveTo>
                  <a:pt x="12794" y="10800"/>
                </a:moveTo>
                <a:lnTo>
                  <a:pt x="23299" y="3794"/>
                </a:lnTo>
                <a:lnTo>
                  <a:pt x="23299" y="17806"/>
                </a:lnTo>
                <a:close/>
              </a:path>
              <a:path fill="darken" w="32586" h="21600">
                <a:moveTo>
                  <a:pt x="9286" y="3794"/>
                </a:moveTo>
                <a:lnTo>
                  <a:pt x="10949" y="3794"/>
                </a:lnTo>
                <a:lnTo>
                  <a:pt x="10949" y="17806"/>
                </a:lnTo>
                <a:lnTo>
                  <a:pt x="9286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5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j"/>
          <p:cNvPicPr/>
          <p:nvPr/>
        </p:nvPicPr>
        <p:blipFill>
          <a:blip r:embed="rId1"/>
          <a:stretch/>
        </p:blipFill>
        <p:spPr>
          <a:xfrm>
            <a:off x="1611360" y="681120"/>
            <a:ext cx="4670280" cy="61722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6262560" y="3979800"/>
            <a:ext cx="274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北宋前期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四川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地区出现的交子，是世界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最早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纸币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5465880" y="2432160"/>
            <a:ext cx="690480" cy="83160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1422360"/>
            <a:ext cx="9144000" cy="4044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55520" y="592200"/>
            <a:ext cx="326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品读历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80" y="5521320"/>
            <a:ext cx="95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认真学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课知识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课下编排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本剧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image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t"/>
          <p:cNvPicPr/>
          <p:nvPr/>
        </p:nvPicPr>
        <p:blipFill>
          <a:blip r:embed="rId1"/>
          <a:stretch/>
        </p:blipFill>
        <p:spPr>
          <a:xfrm>
            <a:off x="1743120" y="934920"/>
            <a:ext cx="7165800" cy="4600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home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420040" y="6497640"/>
            <a:ext cx="647640" cy="36036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4"/>
          <p:cNvSpPr/>
          <p:nvPr/>
        </p:nvSpPr>
        <p:spPr>
          <a:xfrm>
            <a:off x="3147840" y="3241800"/>
            <a:ext cx="5619960" cy="2070000"/>
          </a:xfrm>
          <a:prstGeom prst="cloudCallout">
            <a:avLst>
              <a:gd name="adj1" fmla="val 24745"/>
              <a:gd name="adj2" fmla="val -956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华文细黑"/>
                <a:ea typeface="华文琥珀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苏湖熟，天下足。</a:t>
            </a:r>
            <a:r>
              <a:rPr b="1" lang="zh-CN" sz="3000" spc="-1" strike="noStrike">
                <a:solidFill>
                  <a:srgbClr val="ff3300"/>
                </a:solidFill>
                <a:latin typeface="华文细黑"/>
                <a:ea typeface="华文琥珀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华文细黑"/>
                <a:ea typeface="幼圆"/>
              </a:rPr>
              <a:t>——</a:t>
            </a:r>
            <a:r>
              <a:rPr b="0" lang="zh-CN" sz="2600" spc="-1" strike="noStrike">
                <a:solidFill>
                  <a:srgbClr val="808080"/>
                </a:solidFill>
                <a:latin typeface="Times New Roman"/>
                <a:ea typeface="幼圆"/>
              </a:rPr>
              <a:t>南宋民间谚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3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7"/>
          <p:cNvSpPr/>
          <p:nvPr/>
        </p:nvSpPr>
        <p:spPr>
          <a:xfrm>
            <a:off x="2216160" y="5578560"/>
            <a:ext cx="69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说一说你对这句话的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8" descr="image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image2"/>
          <p:cNvPicPr/>
          <p:nvPr/>
        </p:nvPicPr>
        <p:blipFill>
          <a:blip r:embed="rId5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714B-364C-425E-B54B-F3B228FC14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88920" y="647640"/>
            <a:ext cx="8928000" cy="62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2538360" y="1733400"/>
            <a:ext cx="2001960" cy="44960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2733840" y="758880"/>
            <a:ext cx="3616200" cy="764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继往开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6403320" y="1554120"/>
            <a:ext cx="2008800" cy="4656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忆昔日，北人南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力促宋朝经济奇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 flipH="1">
            <a:off x="1256400" y="1579680"/>
            <a:ext cx="789840" cy="465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再创祖国未来辉煌。看明天，我辈奋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4530600" y="1731960"/>
            <a:ext cx="2060640" cy="45054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image2"/>
          <p:cNvPicPr/>
          <p:nvPr/>
        </p:nvPicPr>
        <p:blipFill>
          <a:blip r:embed="rId4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8097480" y="1392120"/>
            <a:ext cx="268560" cy="11160"/>
            <a:chOff x="8097480" y="1392120"/>
            <a:chExt cx="268560" cy="11160"/>
          </a:xfrm>
        </p:grpSpPr>
        <p:sp>
          <p:nvSpPr>
            <p:cNvPr id="609" name="Line 11"/>
            <p:cNvSpPr/>
            <p:nvPr/>
          </p:nvSpPr>
          <p:spPr>
            <a:xfrm flipH="1">
              <a:off x="8097480" y="1392120"/>
              <a:ext cx="268200" cy="11160"/>
            </a:xfrm>
            <a:prstGeom prst="line">
              <a:avLst/>
            </a:prstGeom>
            <a:ln w="57240">
              <a:solidFill>
                <a:srgbClr val="9a009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8097840" y="1392120"/>
              <a:ext cx="26820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80400" y="1417320"/>
            <a:ext cx="268560" cy="11160"/>
            <a:chOff x="680400" y="1417320"/>
            <a:chExt cx="268560" cy="11160"/>
          </a:xfrm>
        </p:grpSpPr>
        <p:sp>
          <p:nvSpPr>
            <p:cNvPr id="612" name="Line 12"/>
            <p:cNvSpPr/>
            <p:nvPr/>
          </p:nvSpPr>
          <p:spPr>
            <a:xfrm flipV="1">
              <a:off x="680400" y="1417320"/>
              <a:ext cx="268200" cy="11160"/>
            </a:xfrm>
            <a:prstGeom prst="line">
              <a:avLst/>
            </a:prstGeom>
            <a:ln w="57240">
              <a:solidFill>
                <a:srgbClr val="9a009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 rot="10800000">
              <a:off x="680760" y="1417320"/>
              <a:ext cx="26820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2"/>
          <p:cNvSpPr/>
          <p:nvPr/>
        </p:nvSpPr>
        <p:spPr>
          <a:xfrm>
            <a:off x="1581120" y="647640"/>
            <a:ext cx="7562880" cy="621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66800" y="1662120"/>
            <a:ext cx="3538440" cy="3228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5"/>
          <p:cNvSpPr/>
          <p:nvPr/>
        </p:nvSpPr>
        <p:spPr>
          <a:xfrm>
            <a:off x="2019240" y="4952880"/>
            <a:ext cx="71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南方人口数量                  占全国百分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833480" y="1538280"/>
            <a:ext cx="1033560" cy="866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8"/>
          <p:cNvSpPr/>
          <p:nvPr/>
        </p:nvSpPr>
        <p:spPr>
          <a:xfrm>
            <a:off x="1821960" y="33368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1811880" y="2354400"/>
            <a:ext cx="14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114480" y="5549760"/>
            <a:ext cx="9029520" cy="642600"/>
          </a:xfrm>
          <a:prstGeom prst="rect">
            <a:avLst/>
          </a:prstGeom>
          <a:solidFill>
            <a:srgbClr val="deded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想一想：南方人口发生了怎样的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7" descr=""/>
          <p:cNvPicPr/>
          <p:nvPr/>
        </p:nvPicPr>
        <p:blipFill>
          <a:blip r:embed="rId3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"/>
          <p:cNvPicPr/>
          <p:nvPr/>
        </p:nvPicPr>
        <p:blipFill>
          <a:blip r:embed="rId4"/>
          <a:stretch/>
        </p:blipFill>
        <p:spPr>
          <a:xfrm>
            <a:off x="2295360" y="847800"/>
            <a:ext cx="4783320" cy="73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"/>
          <p:cNvPicPr/>
          <p:nvPr/>
        </p:nvPicPr>
        <p:blipFill>
          <a:blip r:embed="rId5"/>
          <a:srcRect l="0" t="0" r="0" b="9510"/>
          <a:stretch/>
        </p:blipFill>
        <p:spPr>
          <a:xfrm>
            <a:off x="5048280" y="1386000"/>
            <a:ext cx="3457440" cy="3595680"/>
          </a:xfrm>
          <a:prstGeom prst="rect">
            <a:avLst/>
          </a:prstGeom>
          <a:ln w="0">
            <a:noFill/>
          </a:ln>
        </p:spPr>
      </p:pic>
      <p:sp>
        <p:nvSpPr>
          <p:cNvPr id="162" name="Oval 30"/>
          <p:cNvSpPr/>
          <p:nvPr/>
        </p:nvSpPr>
        <p:spPr>
          <a:xfrm>
            <a:off x="6000840" y="2743200"/>
            <a:ext cx="207720" cy="209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1"/>
          <p:cNvSpPr/>
          <p:nvPr/>
        </p:nvSpPr>
        <p:spPr>
          <a:xfrm>
            <a:off x="8039160" y="1847880"/>
            <a:ext cx="208080" cy="2080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2"/>
          <p:cNvSpPr/>
          <p:nvPr/>
        </p:nvSpPr>
        <p:spPr>
          <a:xfrm>
            <a:off x="6562800" y="2895480"/>
            <a:ext cx="1238040" cy="552600"/>
          </a:xfrm>
          <a:prstGeom prst="borderCallout1">
            <a:avLst>
              <a:gd name="adj1" fmla="val 18750"/>
              <a:gd name="adj2" fmla="val -8333"/>
              <a:gd name="adj3" fmla="val 113791"/>
              <a:gd name="adj4" fmla="val 9231"/>
            </a:avLst>
          </a:prstGeom>
          <a:solidFill>
            <a:srgbClr val="9999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3"/>
          <p:cNvSpPr/>
          <p:nvPr/>
        </p:nvSpPr>
        <p:spPr>
          <a:xfrm>
            <a:off x="6991200" y="1015920"/>
            <a:ext cx="1238400" cy="609840"/>
          </a:xfrm>
          <a:prstGeom prst="borderCallout1">
            <a:avLst>
              <a:gd name="adj1" fmla="val 18750"/>
              <a:gd name="adj2" fmla="val -8333"/>
              <a:gd name="adj3" fmla="val -12500"/>
              <a:gd name="adj4" fmla="val 3078"/>
            </a:avLst>
          </a:prstGeom>
          <a:solidFill>
            <a:srgbClr val="993366">
              <a:alpha val="6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.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5" descr="image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image2"/>
          <p:cNvPicPr/>
          <p:nvPr/>
        </p:nvPicPr>
        <p:blipFill>
          <a:blip r:embed="rId7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92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92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92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92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8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1"/>
          <p:cNvSpPr/>
          <p:nvPr/>
        </p:nvSpPr>
        <p:spPr>
          <a:xfrm>
            <a:off x="2422440" y="94464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南方农业快速发展的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75"/>
          <p:cNvGrpSpPr/>
          <p:nvPr/>
        </p:nvGrpSpPr>
        <p:grpSpPr>
          <a:xfrm>
            <a:off x="1662120" y="1681200"/>
            <a:ext cx="7234200" cy="4548240"/>
            <a:chOff x="1662120" y="1681200"/>
            <a:chExt cx="7234200" cy="4548240"/>
          </a:xfrm>
        </p:grpSpPr>
        <p:pic>
          <p:nvPicPr>
            <p:cNvPr id="171" name="Picture 72" descr="1"/>
            <p:cNvPicPr/>
            <p:nvPr/>
          </p:nvPicPr>
          <p:blipFill>
            <a:blip r:embed="rId2"/>
            <a:stretch/>
          </p:blipFill>
          <p:spPr>
            <a:xfrm>
              <a:off x="1662120" y="1681200"/>
              <a:ext cx="4122720" cy="4548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72" name="Picture 73" descr=""/>
            <p:cNvPicPr/>
            <p:nvPr/>
          </p:nvPicPr>
          <p:blipFill>
            <a:blip r:embed="rId3"/>
            <a:stretch/>
          </p:blipFill>
          <p:spPr>
            <a:xfrm>
              <a:off x="5905440" y="2171880"/>
              <a:ext cx="299088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Picture 74" descr=""/>
          <p:cNvPicPr/>
          <p:nvPr/>
        </p:nvPicPr>
        <p:blipFill>
          <a:blip r:embed="rId4"/>
          <a:stretch/>
        </p:blipFill>
        <p:spPr>
          <a:xfrm>
            <a:off x="5962680" y="4114800"/>
            <a:ext cx="293364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6" descr="image2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7" descr="image2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8"/>
          <p:cNvSpPr txBox="1"/>
          <p:nvPr/>
        </p:nvSpPr>
        <p:spPr>
          <a:xfrm>
            <a:off x="6576840" y="5727600"/>
            <a:ext cx="11430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a009a"/>
                  </a:solidFill>
                  <a:round/>
                </a:ln>
                <a:solidFill>
                  <a:srgbClr val="9a009a"/>
                </a:solidFill>
                <a:latin typeface="宋体"/>
              </a:rPr>
              <a:t>… …</a:t>
            </a:r>
            <a:endParaRPr b="0" lang="en-US" sz="2000" spc="1" strike="noStrike">
              <a:ln w="9360">
                <a:solidFill>
                  <a:srgbClr val="9a009a"/>
                </a:solidFill>
                <a:round/>
              </a:ln>
              <a:solidFill>
                <a:srgbClr val="9a009a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92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92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192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92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60720" y="11858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692360" y="2063880"/>
          <a:ext cx="7148520" cy="3720960"/>
        </p:xfrm>
        <a:graphic>
          <a:graphicData uri="http://schemas.openxmlformats.org/drawingml/2006/table">
            <a:tbl>
              <a:tblPr/>
              <a:tblGrid>
                <a:gridCol w="647640"/>
                <a:gridCol w="981000"/>
                <a:gridCol w="5519880"/>
              </a:tblGrid>
              <a:tr h="774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发展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2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农业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粮食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物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7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引进和推广原产越南的</a:t>
                      </a:r>
                      <a:r>
                        <a:rPr b="1" lang="en-US" sz="27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zh-CN" sz="27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. ______</a:t>
                      </a:r>
                      <a:r>
                        <a:rPr b="1" lang="zh-CN" sz="27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和湖州成为著名的粮仓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济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物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62"/>
          <p:cNvSpPr/>
          <p:nvPr/>
        </p:nvSpPr>
        <p:spPr>
          <a:xfrm>
            <a:off x="9429840" y="2933640"/>
            <a:ext cx="1085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3"/>
          <p:cNvSpPr/>
          <p:nvPr/>
        </p:nvSpPr>
        <p:spPr>
          <a:xfrm>
            <a:off x="7108920" y="284004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占城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0"/>
          <p:cNvSpPr/>
          <p:nvPr/>
        </p:nvSpPr>
        <p:spPr>
          <a:xfrm>
            <a:off x="3781440" y="334152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苏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112680" y="4786200"/>
            <a:ext cx="1206360" cy="1405080"/>
          </a:xfrm>
          <a:prstGeom prst="ellipse">
            <a:avLst/>
          </a:prstGeom>
          <a:solidFill>
            <a:srgbClr val="daf7f6"/>
          </a:solidFill>
          <a:ln w="0">
            <a:noFill/>
          </a:ln>
          <a:effectLst>
            <a:outerShdw dist="153753" dir="2700000" blurRad="0" rotWithShape="0">
              <a:srgbClr val="83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78"/>
          <p:cNvSpPr/>
          <p:nvPr/>
        </p:nvSpPr>
        <p:spPr>
          <a:xfrm>
            <a:off x="114480" y="4902120"/>
            <a:ext cx="16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学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领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79" descr="t"/>
          <p:cNvPicPr/>
          <p:nvPr/>
        </p:nvPicPr>
        <p:blipFill>
          <a:blip r:embed="rId2"/>
          <a:stretch/>
        </p:blipFill>
        <p:spPr>
          <a:xfrm>
            <a:off x="1654200" y="5961240"/>
            <a:ext cx="7254720" cy="820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2"/>
          <p:cNvSpPr/>
          <p:nvPr/>
        </p:nvSpPr>
        <p:spPr>
          <a:xfrm>
            <a:off x="3985560" y="1066680"/>
            <a:ext cx="213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农业的快速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83"/>
          <p:cNvGrpSpPr/>
          <p:nvPr/>
        </p:nvGrpSpPr>
        <p:grpSpPr>
          <a:xfrm>
            <a:off x="2590920" y="981000"/>
            <a:ext cx="4865400" cy="787680"/>
            <a:chOff x="2590920" y="981000"/>
            <a:chExt cx="4865400" cy="787680"/>
          </a:xfrm>
        </p:grpSpPr>
        <p:grpSp>
          <p:nvGrpSpPr>
            <p:cNvPr id="188" name=""/>
            <p:cNvGrpSpPr/>
            <p:nvPr/>
          </p:nvGrpSpPr>
          <p:grpSpPr>
            <a:xfrm>
              <a:off x="2788920" y="1768320"/>
              <a:ext cx="4453560" cy="360"/>
              <a:chOff x="2788920" y="1768320"/>
              <a:chExt cx="4453560" cy="360"/>
            </a:xfrm>
          </p:grpSpPr>
          <p:sp>
            <p:nvSpPr>
              <p:cNvPr id="189" name="Line 84"/>
              <p:cNvSpPr/>
              <p:nvPr/>
            </p:nvSpPr>
            <p:spPr>
              <a:xfrm>
                <a:off x="2788920" y="1768320"/>
                <a:ext cx="445356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2788920" y="1768320"/>
                <a:ext cx="445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90920" y="1151640"/>
              <a:ext cx="360" cy="445320"/>
              <a:chOff x="2590920" y="1151640"/>
              <a:chExt cx="360" cy="445320"/>
            </a:xfrm>
          </p:grpSpPr>
          <p:sp>
            <p:nvSpPr>
              <p:cNvPr id="192" name="Line 85"/>
              <p:cNvSpPr/>
              <p:nvPr/>
            </p:nvSpPr>
            <p:spPr>
              <a:xfrm>
                <a:off x="2590920" y="115164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2590920" y="115164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455960" y="1151640"/>
              <a:ext cx="360" cy="445320"/>
              <a:chOff x="7455960" y="1151640"/>
              <a:chExt cx="360" cy="445320"/>
            </a:xfrm>
          </p:grpSpPr>
          <p:sp>
            <p:nvSpPr>
              <p:cNvPr id="195" name="Line 86"/>
              <p:cNvSpPr/>
              <p:nvPr/>
            </p:nvSpPr>
            <p:spPr>
              <a:xfrm>
                <a:off x="7455960" y="115164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7455960" y="115164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592720" y="1601640"/>
              <a:ext cx="192600" cy="360"/>
              <a:chOff x="2592720" y="1601640"/>
              <a:chExt cx="192600" cy="360"/>
            </a:xfrm>
          </p:grpSpPr>
          <p:sp>
            <p:nvSpPr>
              <p:cNvPr id="198" name="Line 87"/>
              <p:cNvSpPr/>
              <p:nvPr/>
            </p:nvSpPr>
            <p:spPr>
              <a:xfrm>
                <a:off x="2592720" y="160164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2592720" y="160164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788920" y="1601640"/>
              <a:ext cx="360" cy="164880"/>
              <a:chOff x="2788920" y="1601640"/>
              <a:chExt cx="360" cy="164880"/>
            </a:xfrm>
          </p:grpSpPr>
          <p:sp>
            <p:nvSpPr>
              <p:cNvPr id="201" name="Line 88"/>
              <p:cNvSpPr/>
              <p:nvPr/>
            </p:nvSpPr>
            <p:spPr>
              <a:xfrm>
                <a:off x="2788920" y="160164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2788920" y="160164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254000" y="1601640"/>
              <a:ext cx="192600" cy="360"/>
              <a:chOff x="7254000" y="1601640"/>
              <a:chExt cx="192600" cy="360"/>
            </a:xfrm>
          </p:grpSpPr>
          <p:sp>
            <p:nvSpPr>
              <p:cNvPr id="204" name="Line 89"/>
              <p:cNvSpPr/>
              <p:nvPr/>
            </p:nvSpPr>
            <p:spPr>
              <a:xfrm>
                <a:off x="7254000" y="160164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7254000" y="160164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250040" y="1601640"/>
              <a:ext cx="360" cy="164880"/>
              <a:chOff x="7250040" y="1601640"/>
              <a:chExt cx="360" cy="164880"/>
            </a:xfrm>
          </p:grpSpPr>
          <p:sp>
            <p:nvSpPr>
              <p:cNvPr id="207" name="Line 90"/>
              <p:cNvSpPr/>
              <p:nvPr/>
            </p:nvSpPr>
            <p:spPr>
              <a:xfrm>
                <a:off x="7250040" y="160164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7250040" y="160164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592720" y="1150200"/>
              <a:ext cx="192600" cy="360"/>
              <a:chOff x="2592720" y="1150200"/>
              <a:chExt cx="192600" cy="360"/>
            </a:xfrm>
          </p:grpSpPr>
          <p:sp>
            <p:nvSpPr>
              <p:cNvPr id="210" name="Line 91"/>
              <p:cNvSpPr/>
              <p:nvPr/>
            </p:nvSpPr>
            <p:spPr>
              <a:xfrm>
                <a:off x="2592720" y="115020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2592720" y="115020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54000" y="1150200"/>
              <a:ext cx="192600" cy="360"/>
              <a:chOff x="7254000" y="1150200"/>
              <a:chExt cx="192600" cy="360"/>
            </a:xfrm>
          </p:grpSpPr>
          <p:sp>
            <p:nvSpPr>
              <p:cNvPr id="213" name="Line 92"/>
              <p:cNvSpPr/>
              <p:nvPr/>
            </p:nvSpPr>
            <p:spPr>
              <a:xfrm>
                <a:off x="7254000" y="115020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7254000" y="115020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788920" y="985320"/>
              <a:ext cx="360" cy="164520"/>
              <a:chOff x="2788920" y="985320"/>
              <a:chExt cx="360" cy="164520"/>
            </a:xfrm>
          </p:grpSpPr>
          <p:sp>
            <p:nvSpPr>
              <p:cNvPr id="216" name="Line 93"/>
              <p:cNvSpPr/>
              <p:nvPr/>
            </p:nvSpPr>
            <p:spPr>
              <a:xfrm>
                <a:off x="2788920" y="98532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788920" y="98532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250040" y="985320"/>
              <a:ext cx="360" cy="164520"/>
              <a:chOff x="7250040" y="985320"/>
              <a:chExt cx="360" cy="164520"/>
            </a:xfrm>
          </p:grpSpPr>
          <p:sp>
            <p:nvSpPr>
              <p:cNvPr id="219" name="Line 94"/>
              <p:cNvSpPr/>
              <p:nvPr/>
            </p:nvSpPr>
            <p:spPr>
              <a:xfrm>
                <a:off x="7250040" y="98532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7250040" y="98532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788920" y="981000"/>
              <a:ext cx="4453560" cy="360"/>
              <a:chOff x="2788920" y="981000"/>
              <a:chExt cx="4453560" cy="360"/>
            </a:xfrm>
          </p:grpSpPr>
          <p:sp>
            <p:nvSpPr>
              <p:cNvPr id="222" name="Line 95"/>
              <p:cNvSpPr/>
              <p:nvPr/>
            </p:nvSpPr>
            <p:spPr>
              <a:xfrm>
                <a:off x="2788920" y="981000"/>
                <a:ext cx="445356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2788920" y="981000"/>
                <a:ext cx="445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96"/>
            <p:cNvSpPr/>
            <p:nvPr/>
          </p:nvSpPr>
          <p:spPr>
            <a:xfrm>
              <a:off x="7295400" y="163692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7"/>
            <p:cNvSpPr/>
            <p:nvPr/>
          </p:nvSpPr>
          <p:spPr>
            <a:xfrm>
              <a:off x="7295400" y="9896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98"/>
            <p:cNvSpPr/>
            <p:nvPr/>
          </p:nvSpPr>
          <p:spPr>
            <a:xfrm>
              <a:off x="2592720" y="163692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99"/>
            <p:cNvSpPr/>
            <p:nvPr/>
          </p:nvSpPr>
          <p:spPr>
            <a:xfrm>
              <a:off x="2592720" y="9896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Picture 100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1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160720" y="1033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735200" y="1125360"/>
            <a:ext cx="64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宋朝南方农业发展的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692360" y="2178000"/>
          <a:ext cx="7148520" cy="3720960"/>
        </p:xfrm>
        <a:graphic>
          <a:graphicData uri="http://schemas.openxmlformats.org/drawingml/2006/table">
            <a:tbl>
              <a:tblPr/>
              <a:tblGrid>
                <a:gridCol w="647640"/>
                <a:gridCol w="981000"/>
                <a:gridCol w="5519880"/>
              </a:tblGrid>
              <a:tr h="774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类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66"/>
                          </a:solidFill>
                          <a:latin typeface="Times New Roman"/>
                          <a:ea typeface="黑体"/>
                        </a:rPr>
                        <a:t>发展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2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农业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粮食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物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700" spc="-1" strike="noStrike">
                          <a:solidFill>
                            <a:srgbClr val="1c1c1c"/>
                          </a:solidFill>
                          <a:latin typeface="Times New Roman"/>
                          <a:ea typeface="宋体"/>
                        </a:rPr>
                        <a:t>引进和推广原产越南的占城稻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zh-CN" sz="2700" spc="-1" strike="noStrike">
                          <a:solidFill>
                            <a:srgbClr val="1c1c1c"/>
                          </a:solidFill>
                          <a:latin typeface="Times New Roman"/>
                          <a:ea typeface="宋体"/>
                        </a:rPr>
                        <a:t>苏州和湖州成为著名的粮仓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经济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物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.______</a:t>
                      </a:r>
                      <a:r>
                        <a:rPr b="1" lang="zh-CN" sz="27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由两广、福建推广到长江流域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._____</a:t>
                      </a:r>
                      <a:r>
                        <a:rPr b="1" lang="zh-CN" sz="2700" spc="-1" strike="noStrike">
                          <a:solidFill>
                            <a:srgbClr val="660033"/>
                          </a:solidFill>
                          <a:latin typeface="Times New Roman"/>
                          <a:ea typeface="宋体"/>
                        </a:rPr>
                        <a:t>的种植和栽培得到推广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23"/>
          <p:cNvSpPr/>
          <p:nvPr/>
        </p:nvSpPr>
        <p:spPr>
          <a:xfrm>
            <a:off x="9429840" y="2933640"/>
            <a:ext cx="1085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3724200" y="4408560"/>
            <a:ext cx="23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3635280" y="529128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茶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7" descr="t"/>
          <p:cNvPicPr/>
          <p:nvPr/>
        </p:nvPicPr>
        <p:blipFill>
          <a:blip r:embed="rId2"/>
          <a:stretch/>
        </p:blipFill>
        <p:spPr>
          <a:xfrm>
            <a:off x="1654200" y="5961240"/>
            <a:ext cx="7254720" cy="820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8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9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222880" y="1114560"/>
            <a:ext cx="3446280" cy="3247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2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5"/>
          <p:cNvSpPr/>
          <p:nvPr/>
        </p:nvSpPr>
        <p:spPr>
          <a:xfrm>
            <a:off x="1841400" y="1200240"/>
            <a:ext cx="68961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1773360" y="1188000"/>
            <a:ext cx="3375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乡村四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范成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绿遍山原白满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子规声里雨如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乡村四月闲人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才了蚕桑又插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3237840" y="4768920"/>
            <a:ext cx="39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i="1" lang="zh-CN" sz="2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小河中流淌在碧绿的山间，山坡原野草木茂盛，一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葱茏，而稻田里的水色与天光相辉映，满目亮白，细雨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微风中如烟似雾，杜鹃在声声啼叫。乡村四月里人们是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么忙碌，才侍弄完蚕桑又开始了插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52880" y="1333440"/>
            <a:ext cx="360" cy="3238560"/>
            <a:chOff x="4952880" y="1333440"/>
            <a:chExt cx="360" cy="3238560"/>
          </a:xfrm>
        </p:grpSpPr>
        <p:sp>
          <p:nvSpPr>
            <p:cNvPr id="246" name="Line 19"/>
            <p:cNvSpPr/>
            <p:nvPr/>
          </p:nvSpPr>
          <p:spPr>
            <a:xfrm>
              <a:off x="4952880" y="1333440"/>
              <a:ext cx="0" cy="323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952880" y="1333440"/>
              <a:ext cx="360" cy="32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809720" y="4552920"/>
            <a:ext cx="6191280" cy="360"/>
            <a:chOff x="1809720" y="4552920"/>
            <a:chExt cx="6191280" cy="360"/>
          </a:xfrm>
        </p:grpSpPr>
        <p:sp>
          <p:nvSpPr>
            <p:cNvPr id="249" name="Line 20"/>
            <p:cNvSpPr/>
            <p:nvPr/>
          </p:nvSpPr>
          <p:spPr>
            <a:xfrm>
              <a:off x="1809720" y="4552920"/>
              <a:ext cx="619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1809720" y="4552920"/>
              <a:ext cx="619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21" descr="imag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2" descr="image2"/>
          <p:cNvPicPr/>
          <p:nvPr/>
        </p:nvPicPr>
        <p:blipFill>
          <a:blip r:embed="rId4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160200" y="4843440"/>
            <a:ext cx="1206720" cy="1405080"/>
          </a:xfrm>
          <a:prstGeom prst="ellipse">
            <a:avLst/>
          </a:prstGeom>
          <a:solidFill>
            <a:srgbClr val="daf7f6"/>
          </a:solidFill>
          <a:ln w="0">
            <a:noFill/>
          </a:ln>
          <a:effectLst>
            <a:outerShdw dist="153753" dir="2700000" blurRad="0" rotWithShape="0">
              <a:srgbClr val="83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471480" y="1066680"/>
            <a:ext cx="243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手工业的兴旺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2257560" y="990720"/>
            <a:ext cx="4865400" cy="787680"/>
            <a:chOff x="2257560" y="990720"/>
            <a:chExt cx="4865400" cy="787680"/>
          </a:xfrm>
        </p:grpSpPr>
        <p:grpSp>
          <p:nvGrpSpPr>
            <p:cNvPr id="256" name=""/>
            <p:cNvGrpSpPr/>
            <p:nvPr/>
          </p:nvGrpSpPr>
          <p:grpSpPr>
            <a:xfrm>
              <a:off x="2455560" y="1778040"/>
              <a:ext cx="4453560" cy="360"/>
              <a:chOff x="2455560" y="1778040"/>
              <a:chExt cx="4453560" cy="36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2455560" y="1778040"/>
                <a:ext cx="445356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2455560" y="1778040"/>
                <a:ext cx="445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257560" y="1161360"/>
              <a:ext cx="360" cy="445320"/>
              <a:chOff x="2257560" y="1161360"/>
              <a:chExt cx="360" cy="445320"/>
            </a:xfrm>
          </p:grpSpPr>
          <p:sp>
            <p:nvSpPr>
              <p:cNvPr id="260" name="Line 6"/>
              <p:cNvSpPr/>
              <p:nvPr/>
            </p:nvSpPr>
            <p:spPr>
              <a:xfrm>
                <a:off x="2257560" y="116136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257560" y="116136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122600" y="1161360"/>
              <a:ext cx="360" cy="445320"/>
              <a:chOff x="7122600" y="1161360"/>
              <a:chExt cx="360" cy="445320"/>
            </a:xfrm>
          </p:grpSpPr>
          <p:sp>
            <p:nvSpPr>
              <p:cNvPr id="263" name="Line 7"/>
              <p:cNvSpPr/>
              <p:nvPr/>
            </p:nvSpPr>
            <p:spPr>
              <a:xfrm>
                <a:off x="7122600" y="1161360"/>
                <a:ext cx="0" cy="4453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7122600" y="1161360"/>
                <a:ext cx="360" cy="44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259360" y="1611360"/>
              <a:ext cx="192600" cy="360"/>
              <a:chOff x="2259360" y="1611360"/>
              <a:chExt cx="192600" cy="360"/>
            </a:xfrm>
          </p:grpSpPr>
          <p:sp>
            <p:nvSpPr>
              <p:cNvPr id="266" name="Line 8"/>
              <p:cNvSpPr/>
              <p:nvPr/>
            </p:nvSpPr>
            <p:spPr>
              <a:xfrm>
                <a:off x="2259360" y="161136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2259360" y="161136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455560" y="1611360"/>
              <a:ext cx="360" cy="164880"/>
              <a:chOff x="2455560" y="1611360"/>
              <a:chExt cx="360" cy="164880"/>
            </a:xfrm>
          </p:grpSpPr>
          <p:sp>
            <p:nvSpPr>
              <p:cNvPr id="269" name="Line 9"/>
              <p:cNvSpPr/>
              <p:nvPr/>
            </p:nvSpPr>
            <p:spPr>
              <a:xfrm>
                <a:off x="2455560" y="161136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2455560" y="161136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920640" y="1611360"/>
              <a:ext cx="192600" cy="360"/>
              <a:chOff x="6920640" y="1611360"/>
              <a:chExt cx="192600" cy="360"/>
            </a:xfrm>
          </p:grpSpPr>
          <p:sp>
            <p:nvSpPr>
              <p:cNvPr id="272" name="Line 10"/>
              <p:cNvSpPr/>
              <p:nvPr/>
            </p:nvSpPr>
            <p:spPr>
              <a:xfrm>
                <a:off x="6920640" y="161136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6920640" y="161136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916680" y="1611360"/>
              <a:ext cx="360" cy="164880"/>
              <a:chOff x="6916680" y="1611360"/>
              <a:chExt cx="360" cy="164880"/>
            </a:xfrm>
          </p:grpSpPr>
          <p:sp>
            <p:nvSpPr>
              <p:cNvPr id="275" name="Line 11"/>
              <p:cNvSpPr/>
              <p:nvPr/>
            </p:nvSpPr>
            <p:spPr>
              <a:xfrm>
                <a:off x="6916680" y="1611360"/>
                <a:ext cx="0" cy="16488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6916680" y="1611360"/>
                <a:ext cx="360" cy="16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259360" y="1159920"/>
              <a:ext cx="192600" cy="360"/>
              <a:chOff x="2259360" y="1159920"/>
              <a:chExt cx="192600" cy="360"/>
            </a:xfrm>
          </p:grpSpPr>
          <p:sp>
            <p:nvSpPr>
              <p:cNvPr id="278" name="Line 12"/>
              <p:cNvSpPr/>
              <p:nvPr/>
            </p:nvSpPr>
            <p:spPr>
              <a:xfrm>
                <a:off x="2259360" y="115992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2259360" y="115992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920640" y="1159920"/>
              <a:ext cx="192600" cy="360"/>
              <a:chOff x="6920640" y="1159920"/>
              <a:chExt cx="192600" cy="360"/>
            </a:xfrm>
          </p:grpSpPr>
          <p:sp>
            <p:nvSpPr>
              <p:cNvPr id="281" name="Line 13"/>
              <p:cNvSpPr/>
              <p:nvPr/>
            </p:nvSpPr>
            <p:spPr>
              <a:xfrm>
                <a:off x="6920640" y="1159920"/>
                <a:ext cx="19260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6920640" y="1159920"/>
                <a:ext cx="19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55560" y="995040"/>
              <a:ext cx="360" cy="164520"/>
              <a:chOff x="2455560" y="995040"/>
              <a:chExt cx="360" cy="164520"/>
            </a:xfrm>
          </p:grpSpPr>
          <p:sp>
            <p:nvSpPr>
              <p:cNvPr id="284" name="Line 14"/>
              <p:cNvSpPr/>
              <p:nvPr/>
            </p:nvSpPr>
            <p:spPr>
              <a:xfrm>
                <a:off x="2455560" y="99504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2455560" y="99504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916680" y="995040"/>
              <a:ext cx="360" cy="164520"/>
              <a:chOff x="6916680" y="995040"/>
              <a:chExt cx="360" cy="164520"/>
            </a:xfrm>
          </p:grpSpPr>
          <p:sp>
            <p:nvSpPr>
              <p:cNvPr id="287" name="Line 15"/>
              <p:cNvSpPr/>
              <p:nvPr/>
            </p:nvSpPr>
            <p:spPr>
              <a:xfrm>
                <a:off x="6916680" y="995040"/>
                <a:ext cx="0" cy="16452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6916680" y="995040"/>
                <a:ext cx="360" cy="16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455560" y="990720"/>
              <a:ext cx="4453560" cy="360"/>
              <a:chOff x="2455560" y="990720"/>
              <a:chExt cx="4453560" cy="360"/>
            </a:xfrm>
          </p:grpSpPr>
          <p:sp>
            <p:nvSpPr>
              <p:cNvPr id="290" name="Line 16"/>
              <p:cNvSpPr/>
              <p:nvPr/>
            </p:nvSpPr>
            <p:spPr>
              <a:xfrm>
                <a:off x="2455560" y="990720"/>
                <a:ext cx="4453560" cy="0"/>
              </a:xfrm>
              <a:prstGeom prst="line">
                <a:avLst/>
              </a:prstGeom>
              <a:ln w="32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2455560" y="990720"/>
                <a:ext cx="445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Rectangle 17"/>
            <p:cNvSpPr/>
            <p:nvPr/>
          </p:nvSpPr>
          <p:spPr>
            <a:xfrm>
              <a:off x="6962040" y="16466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8"/>
            <p:cNvSpPr/>
            <p:nvPr/>
          </p:nvSpPr>
          <p:spPr>
            <a:xfrm>
              <a:off x="6962040" y="99936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259360" y="164664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0"/>
            <p:cNvSpPr/>
            <p:nvPr/>
          </p:nvSpPr>
          <p:spPr>
            <a:xfrm>
              <a:off x="2259360" y="999360"/>
              <a:ext cx="143280" cy="120240"/>
            </a:xfrm>
            <a:prstGeom prst="rect">
              <a:avLst/>
            </a:prstGeom>
            <a:solidFill>
              <a:srgbClr val="ff3300"/>
            </a:solidFill>
            <a:ln w="3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22"/>
          <p:cNvSpPr/>
          <p:nvPr/>
        </p:nvSpPr>
        <p:spPr>
          <a:xfrm>
            <a:off x="114480" y="4902120"/>
            <a:ext cx="16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合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交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4" descr=""/>
          <p:cNvPicPr/>
          <p:nvPr/>
        </p:nvPicPr>
        <p:blipFill>
          <a:blip r:embed="rId1"/>
          <a:stretch/>
        </p:blipFill>
        <p:spPr>
          <a:xfrm>
            <a:off x="-57240" y="0"/>
            <a:ext cx="9315720" cy="782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46"/>
          <p:cNvSpPr/>
          <p:nvPr/>
        </p:nvSpPr>
        <p:spPr>
          <a:xfrm>
            <a:off x="2114640" y="3062160"/>
            <a:ext cx="68389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纺织业              制瓷业              造船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171"/>
          <p:cNvSpPr/>
          <p:nvPr/>
        </p:nvSpPr>
        <p:spPr>
          <a:xfrm>
            <a:off x="1790640" y="4172040"/>
            <a:ext cx="2400480" cy="1600200"/>
          </a:xfrm>
          <a:prstGeom prst="parallelogram">
            <a:avLst>
              <a:gd name="adj" fmla="val 3750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72"/>
          <p:cNvSpPr/>
          <p:nvPr/>
        </p:nvSpPr>
        <p:spPr>
          <a:xfrm>
            <a:off x="3943440" y="4152960"/>
            <a:ext cx="2400120" cy="1600200"/>
          </a:xfrm>
          <a:prstGeom prst="parallelogram">
            <a:avLst>
              <a:gd name="adj" fmla="val 3749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76"/>
          <p:cNvSpPr/>
          <p:nvPr/>
        </p:nvSpPr>
        <p:spPr>
          <a:xfrm>
            <a:off x="6102360" y="4140360"/>
            <a:ext cx="2400120" cy="1600200"/>
          </a:xfrm>
          <a:prstGeom prst="parallelogram">
            <a:avLst>
              <a:gd name="adj" fmla="val 3749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79"/>
          <p:cNvSpPr/>
          <p:nvPr/>
        </p:nvSpPr>
        <p:spPr>
          <a:xfrm>
            <a:off x="1927080" y="2254320"/>
            <a:ext cx="6581880" cy="9471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开展自主学习，自己总结知识要点，你将主要从哪几个方面入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80"/>
          <p:cNvSpPr/>
          <p:nvPr/>
        </p:nvSpPr>
        <p:spPr>
          <a:xfrm>
            <a:off x="2009880" y="2273400"/>
            <a:ext cx="6581520" cy="520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后六人一个小组，开展合作学习。相互设计问题，开展交流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81" descr="image2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82" descr="image2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3:23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3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