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F1E-7216-4E74-BF12-AA3B6AD2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E1F-6D34-4899-ADD8-6474BCD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CD1-546C-4285-A093-6FF7D839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FD4-5E59-4D72-959D-9F454C73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9C5-84A3-4813-812E-43C302E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3856-3A17-4B24-A8C4-FCFB65F5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DB8-51A6-4628-B94E-75C60CF1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642-7590-4520-8223-CA5FF9E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DD70-6688-4438-A5A5-D4E2ABD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356-3B5A-4B02-A732-CB48442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F87-D87D-4D75-A696-1A2B9E8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31C-17FC-4A77-8F60-DFE8EDF1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02E9-2736-4B36-BABE-E870134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B459-FB4A-43DE-9CFF-F0E214B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8842-C8F8-4764-9DDB-6E6B041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A29B-69F4-43D8-870A-8F4DF98C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0A5-0935-46C1-916B-BE159F0E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D56-7B83-4F76-AEA3-B877905E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8824-30A2-4D15-ADFB-9E4AAC6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5911-4F3F-4E60-A096-9544FC52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0BB4-9AF9-4EAB-9C81-FDB2108A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498-F383-418E-B371-E6D348C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6958-5AE6-4E26-A9A6-859BCCCC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30DB-E6C7-4F0C-893F-B3A8FC25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D460-FB87-426E-9DCD-1A22A6F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FDC0-85D6-4A61-9015-113ADD9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0F93-AB62-4F63-BDA4-3CA3544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902F-03B6-4B9A-AF66-63F821D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FE8D-CD9C-442D-BDE4-61F85106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01FE-E111-4DFC-8E6C-8336D2A1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4B78-5985-438E-BCF6-7149F845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231-D9AD-4275-9BFF-394CE94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14080"/>
            <a:ext cx="82296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F33-0B28-4E53-BCEF-A6C0B59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6C5-7EC5-4582-B629-A428672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020-5D82-4298-84B2-8BEF3C65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AC0-68B0-4C3C-8CB4-E589587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F4EA-091C-4B06-926C-5B412417ADF6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6DBB-8771-4345-B8A3-92C7378F23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752-FFD7-41EF-87BD-A80D6A9599E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FC8-1107-4F42-A9CA-907D68A5D8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2E79-7656-43C2-BBDA-FFF77C4D58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2015640" y="2276640"/>
            <a:ext cx="53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健康文明的休闲生活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2995920" y="1079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周围人的休闲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684440" y="2046240"/>
          <a:ext cx="6095880" cy="39466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调查对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休闲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看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85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6560" y="15555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麻将是非小辩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82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zh-CN" sz="5400" spc="-1" strike="noStrike">
                <a:solidFill>
                  <a:srgbClr val="c0504d"/>
                </a:solidFill>
                <a:latin typeface="Calibri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…… …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86108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不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…… …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9120" y="8348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麻将是非小辩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图片 3" descr=""/>
          <p:cNvPicPr/>
          <p:nvPr/>
        </p:nvPicPr>
        <p:blipFill>
          <a:blip r:embed="rId1"/>
          <a:stretch/>
        </p:blipFill>
        <p:spPr>
          <a:xfrm>
            <a:off x="1185840" y="1685880"/>
            <a:ext cx="69152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76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参加休闲活动应该坚持一个原则，把握好一个度，那就是任何活动要有益于自己的身心健康，有利于社会的安定和文明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48760" y="569880"/>
            <a:ext cx="835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打扑克本是一种怡情益智的游戏，可小区的大人们聚在一起，用扑克进行赌博游戏。（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电脑让我们踏上了信息高速路，更为我们的学习、生活提供了方便，可有些大人、孩子却沉迷在网络游戏无法自拔，工作与学习效率不高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买彩票本是一件利国利民的好事，可有些人却为奖金而沉迷其中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76320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说说下面的活动健康吗？为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想一想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们身边都有哪些新风尚，它给我们的生活带来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志愿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3" descr="义工"/>
          <p:cNvPicPr/>
          <p:nvPr/>
        </p:nvPicPr>
        <p:blipFill>
          <a:blip r:embed="rId1"/>
          <a:stretch/>
        </p:blipFill>
        <p:spPr>
          <a:xfrm>
            <a:off x="755640" y="2852640"/>
            <a:ext cx="4038480" cy="2521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义工1"/>
          <p:cNvPicPr/>
          <p:nvPr/>
        </p:nvPicPr>
        <p:blipFill>
          <a:blip r:embed="rId2"/>
          <a:stretch/>
        </p:blipFill>
        <p:spPr>
          <a:xfrm>
            <a:off x="5508720" y="3645000"/>
            <a:ext cx="2611440" cy="2187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义工2"/>
          <p:cNvPicPr/>
          <p:nvPr/>
        </p:nvPicPr>
        <p:blipFill>
          <a:blip r:embed="rId3"/>
          <a:stretch/>
        </p:blipFill>
        <p:spPr>
          <a:xfrm>
            <a:off x="6518160" y="1844640"/>
            <a:ext cx="1339920" cy="1292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捐款"/>
          <p:cNvPicPr/>
          <p:nvPr/>
        </p:nvPicPr>
        <p:blipFill>
          <a:blip r:embed="rId4"/>
          <a:stretch/>
        </p:blipFill>
        <p:spPr>
          <a:xfrm>
            <a:off x="538200" y="547560"/>
            <a:ext cx="7682040" cy="6045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扫地"/>
          <p:cNvPicPr/>
          <p:nvPr/>
        </p:nvPicPr>
        <p:blipFill>
          <a:blip r:embed="rId5"/>
          <a:stretch/>
        </p:blipFill>
        <p:spPr>
          <a:xfrm>
            <a:off x="754200" y="547560"/>
            <a:ext cx="73436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趣味运动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运动会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89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运动会1"/>
          <p:cNvPicPr/>
          <p:nvPr/>
        </p:nvPicPr>
        <p:blipFill>
          <a:blip r:embed="rId2"/>
          <a:stretch/>
        </p:blipFill>
        <p:spPr>
          <a:xfrm>
            <a:off x="5025960" y="1600200"/>
            <a:ext cx="3281400" cy="21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运动会2"/>
          <p:cNvPicPr/>
          <p:nvPr/>
        </p:nvPicPr>
        <p:blipFill>
          <a:blip r:embed="rId3"/>
          <a:stretch/>
        </p:blipFill>
        <p:spPr>
          <a:xfrm>
            <a:off x="5210280" y="393876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休闲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3" descr="舞会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舞会1"/>
          <p:cNvPicPr/>
          <p:nvPr/>
        </p:nvPicPr>
        <p:blipFill>
          <a:blip r:embed="rId2"/>
          <a:stretch/>
        </p:blipFill>
        <p:spPr>
          <a:xfrm>
            <a:off x="4684680" y="2433600"/>
            <a:ext cx="433872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3840" y="10522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科普大篷车进社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317520" y="2781360"/>
            <a:ext cx="4038480" cy="2689200"/>
          </a:xfrm>
          <a:prstGeom prst="rect">
            <a:avLst/>
          </a:prstGeom>
          <a:ln w="0">
            <a:noFill/>
          </a:ln>
        </p:spPr>
      </p:pic>
      <p:pic>
        <p:nvPicPr>
          <p:cNvPr id="273" name="内容占位符 4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038480" cy="2689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5" descr=""/>
          <p:cNvPicPr/>
          <p:nvPr/>
        </p:nvPicPr>
        <p:blipFill>
          <a:blip r:embed="rId3"/>
          <a:stretch/>
        </p:blipFill>
        <p:spPr>
          <a:xfrm>
            <a:off x="4356000" y="182520"/>
            <a:ext cx="4541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1833480" y="1301760"/>
            <a:ext cx="561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微软雅黑"/>
                <a:ea typeface="微软雅黑"/>
              </a:rPr>
              <a:t>人木长相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微软雅黑"/>
                <a:ea typeface="微软雅黑"/>
              </a:rPr>
              <a:t>一树栽门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微软雅黑"/>
                <a:ea typeface="微软雅黑"/>
              </a:rPr>
              <a:t>牛立横木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微软雅黑"/>
                <a:ea typeface="微软雅黑"/>
              </a:rPr>
              <a:t>水挂舌头边。（各句猜一字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消夏纳凉晚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内容占位符 3" descr=""/>
          <p:cNvPicPr/>
          <p:nvPr/>
        </p:nvPicPr>
        <p:blipFill>
          <a:blip r:embed="rId1"/>
          <a:stretch/>
        </p:blipFill>
        <p:spPr>
          <a:xfrm>
            <a:off x="1546200" y="1411200"/>
            <a:ext cx="6338880" cy="4754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2" descr="社区文化（2）"/>
          <p:cNvPicPr/>
          <p:nvPr/>
        </p:nvPicPr>
        <p:blipFill>
          <a:blip r:embed="rId1"/>
          <a:stretch/>
        </p:blipFill>
        <p:spPr>
          <a:xfrm>
            <a:off x="969840" y="979560"/>
            <a:ext cx="713124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82560" y="979560"/>
            <a:ext cx="79549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爬山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5546880" cy="47674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吹泡泡"/>
          <p:cNvPicPr/>
          <p:nvPr/>
        </p:nvPicPr>
        <p:blipFill>
          <a:blip r:embed="rId1"/>
          <a:stretch/>
        </p:blipFill>
        <p:spPr>
          <a:xfrm>
            <a:off x="2338560" y="915840"/>
            <a:ext cx="5619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" descr="弹弓、弹枪"/>
          <p:cNvPicPr/>
          <p:nvPr/>
        </p:nvPicPr>
        <p:blipFill>
          <a:blip r:embed="rId1"/>
          <a:stretch/>
        </p:blipFill>
        <p:spPr>
          <a:xfrm>
            <a:off x="2266920" y="971640"/>
            <a:ext cx="58672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放风筝"/>
          <p:cNvPicPr/>
          <p:nvPr/>
        </p:nvPicPr>
        <p:blipFill>
          <a:blip r:embed="rId1"/>
          <a:stretch/>
        </p:blipFill>
        <p:spPr>
          <a:xfrm>
            <a:off x="2143080" y="650880"/>
            <a:ext cx="612288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" descr="滚铁环"/>
          <p:cNvPicPr/>
          <p:nvPr/>
        </p:nvPicPr>
        <p:blipFill>
          <a:blip r:embed="rId1"/>
          <a:stretch/>
        </p:blipFill>
        <p:spPr>
          <a:xfrm>
            <a:off x="2338560" y="833400"/>
            <a:ext cx="575136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" descr="捏泥巴"/>
          <p:cNvPicPr/>
          <p:nvPr/>
        </p:nvPicPr>
        <p:blipFill>
          <a:blip r:embed="rId1"/>
          <a:stretch/>
        </p:blipFill>
        <p:spPr>
          <a:xfrm>
            <a:off x="2266920" y="692280"/>
            <a:ext cx="58341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1258920" y="2060640"/>
            <a:ext cx="648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  <a:ea typeface="宋体"/>
              </a:rPr>
              <a:t>各种各样的休闲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" descr="拍画"/>
          <p:cNvPicPr/>
          <p:nvPr/>
        </p:nvPicPr>
        <p:blipFill>
          <a:blip r:embed="rId1"/>
          <a:stretch/>
        </p:blipFill>
        <p:spPr>
          <a:xfrm>
            <a:off x="2266920" y="907920"/>
            <a:ext cx="56181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788040" y="428760"/>
            <a:ext cx="109476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辈童年游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折飞机"/>
          <p:cNvPicPr/>
          <p:nvPr/>
        </p:nvPicPr>
        <p:blipFill>
          <a:blip r:embed="rId1"/>
          <a:stretch/>
        </p:blipFill>
        <p:spPr>
          <a:xfrm>
            <a:off x="2338560" y="692280"/>
            <a:ext cx="569088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348-B981-4CD2-9297-5AADB1AB83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1785960" y="2143080"/>
            <a:ext cx="585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2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3" descr=""/>
          <p:cNvPicPr/>
          <p:nvPr/>
        </p:nvPicPr>
        <p:blipFill>
          <a:blip r:embed="rId3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4" descr=""/>
          <p:cNvPicPr/>
          <p:nvPr/>
        </p:nvPicPr>
        <p:blipFill>
          <a:blip r:embed="rId4"/>
          <a:stretch/>
        </p:blipFill>
        <p:spPr>
          <a:xfrm>
            <a:off x="407196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5" descr=""/>
          <p:cNvPicPr/>
          <p:nvPr/>
        </p:nvPicPr>
        <p:blipFill>
          <a:blip r:embed="rId5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6" descr=""/>
          <p:cNvPicPr/>
          <p:nvPr/>
        </p:nvPicPr>
        <p:blipFill>
          <a:blip r:embed="rId6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"/>
          <p:cNvSpPr txBox="1"/>
          <p:nvPr/>
        </p:nvSpPr>
        <p:spPr>
          <a:xfrm>
            <a:off x="2987640" y="2276640"/>
            <a:ext cx="3267000" cy="19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打麻将"/>
          <p:cNvPicPr/>
          <p:nvPr/>
        </p:nvPicPr>
        <p:blipFill>
          <a:blip r:embed="rId7"/>
          <a:stretch/>
        </p:blipFill>
        <p:spPr>
          <a:xfrm>
            <a:off x="1835280" y="1484280"/>
            <a:ext cx="2859120" cy="2152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读书"/>
          <p:cNvPicPr/>
          <p:nvPr/>
        </p:nvPicPr>
        <p:blipFill>
          <a:blip r:embed="rId8"/>
          <a:stretch/>
        </p:blipFill>
        <p:spPr>
          <a:xfrm>
            <a:off x="4932360" y="1555920"/>
            <a:ext cx="3040200" cy="4324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打扑克"/>
          <p:cNvPicPr/>
          <p:nvPr/>
        </p:nvPicPr>
        <p:blipFill>
          <a:blip r:embed="rId9"/>
          <a:stretch/>
        </p:blipFill>
        <p:spPr>
          <a:xfrm>
            <a:off x="2266920" y="3860640"/>
            <a:ext cx="1898640" cy="230688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8200"/>
          <p:cNvSpPr/>
          <p:nvPr/>
        </p:nvSpPr>
        <p:spPr>
          <a:xfrm>
            <a:off x="2143080" y="1149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下棋"/>
          <p:cNvPicPr/>
          <p:nvPr/>
        </p:nvPicPr>
        <p:blipFill>
          <a:blip r:embed="rId1"/>
          <a:stretch/>
        </p:blipFill>
        <p:spPr>
          <a:xfrm>
            <a:off x="1333440" y="195120"/>
            <a:ext cx="6093000" cy="6094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逛街"/>
          <p:cNvPicPr/>
          <p:nvPr/>
        </p:nvPicPr>
        <p:blipFill>
          <a:blip r:embed="rId2"/>
          <a:stretch/>
        </p:blipFill>
        <p:spPr>
          <a:xfrm>
            <a:off x="898560" y="44280"/>
            <a:ext cx="7710480" cy="680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看电视"/>
          <p:cNvPicPr/>
          <p:nvPr/>
        </p:nvPicPr>
        <p:blipFill>
          <a:blip r:embed="rId3"/>
          <a:stretch/>
        </p:blipFill>
        <p:spPr>
          <a:xfrm>
            <a:off x="754200" y="476280"/>
            <a:ext cx="7288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打球"/>
          <p:cNvPicPr/>
          <p:nvPr/>
        </p:nvPicPr>
        <p:blipFill>
          <a:blip r:embed="rId1"/>
          <a:stretch/>
        </p:blipFill>
        <p:spPr>
          <a:xfrm>
            <a:off x="755640" y="331920"/>
            <a:ext cx="72579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9"/>
          <p:cNvSpPr/>
          <p:nvPr/>
        </p:nvSpPr>
        <p:spPr>
          <a:xfrm>
            <a:off x="3765600" y="2563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1771560" y="2060640"/>
          <a:ext cx="6049800" cy="4105080"/>
        </p:xfrm>
        <a:graphic>
          <a:graphicData uri="http://schemas.openxmlformats.org/drawingml/2006/table">
            <a:tbl>
              <a:tblPr/>
              <a:tblGrid>
                <a:gridCol w="2975040"/>
                <a:gridCol w="3074760"/>
              </a:tblGrid>
              <a:tr h="101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调查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休闲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1"/>
          <p:cNvSpPr/>
          <p:nvPr/>
        </p:nvSpPr>
        <p:spPr>
          <a:xfrm>
            <a:off x="2995920" y="1079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周围人的休闲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995920" y="1079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周围人的休闲活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1333440" y="2205000"/>
            <a:ext cx="679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打球、跑步、游泳、跳舞、瑜伽、跳绳、踢毽子、散步、登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文化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唱歌、绘画、书法、下棋、看演出、看电视、听广播、玩电脑、读书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喝茶、聊天、打扑克、打麻将、买彩票、逛商店、品美食、泡温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665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选择什么样的休闲活动，是休闲生活中的一个重要问题。因为它不仅影响着个人的身心健康，也会影响到社会的安定和文明风尚的建立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6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