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4.wmf" ContentType="image/x-wmf"/>
  <Override PartName="/ppt/media/chimes.wav" ContentType="audio/x-wav"/>
  <Override PartName="/ppt/media/image16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27.jpeg" ContentType="image/jpeg"/>
  <Override PartName="/ppt/media/image21.jpeg" ContentType="image/jpeg"/>
  <Override PartName="/ppt/media/image19.wmf" ContentType="image/x-wmf"/>
  <Override PartName="/ppt/media/image17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83A3-763B-4102-8642-CAC4933E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F760-B432-4D29-BA22-3C0693F6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8BA0-A6D9-4EF0-95AF-9D053C9A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A48B-A6E5-4684-9422-BB90AD00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C638-04AB-4061-AC90-44757737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B5B6-6D33-4C3B-BD16-D283A1C1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F22E-8D41-4C8B-84FB-22F6FEB7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42F6-B928-4B65-A9BB-A4E2338B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D199-C162-4A80-AF21-7703F2B0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46E6-B778-44A2-831C-88782278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A08B-6DCD-42EC-9606-33682A91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B756-AD27-4A09-B79C-95477972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C480-3062-4B08-828E-AC51C22E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DA81-DA34-48B3-9D0E-7F1DEF9A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2221-33DF-4166-838E-A132903E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311D-78F9-4D90-87C0-2153D736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DAE6-19EF-49C2-BA7B-A8429307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2F444-4C4D-4F62-B496-6DB10E90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1223A-8F41-47D1-808F-296C39B9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350BE-3C5A-41D0-ABF7-1A205AE6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D0F07-8027-4BEF-BFDC-D70F17BC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042AE-CC33-49FD-AE58-B1421028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38C4-B82D-47A3-9D11-DDCCF98D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24FE5-E798-4E91-8F16-41314F13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8D276-A240-4862-BCDB-7E47906D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94ED8-0E83-4CD7-A5A3-AD234DD9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5D400-3794-485D-8C9A-63E845E9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EFB9B-21F8-4974-85AC-CDD766A0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3F471-8AA6-4CFF-9562-73180784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BEBFF-F22F-4D73-B0D8-1E4E43A0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B6793-1786-4A7E-9C8A-E269C1F2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4A862-29ED-40AF-8F96-A9309A5E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98BEA-9234-4911-9A15-211F65FD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119A-3984-45C7-ABA7-328BD3EC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E7637-CC30-4667-803E-1DD4D5C2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BADA0-1C32-46FF-ABE7-96678772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CEFFE-EB18-4354-B01C-9243BBA2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EA044-85D3-4083-817A-81465134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0AADA-F449-4478-B7AA-883BEE4E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5CD9D-1BCD-4953-A56E-5A5B9D67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D6018-DB2D-46E0-9DA6-00A5BCBF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1597D-5E6B-4939-BECB-BDAA8CD4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BFBE5-C5A7-4F37-BDCB-6600B18B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E3918-D94F-4F3B-8AB4-A5E39D09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9A2F-7176-4402-BA91-97116518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2FA5F-913A-49E9-BD7E-76EB8B5E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F7CB3-E340-44EC-B2EB-56CFE2C0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FAE07-60B8-46A4-8143-A2D05ED3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C28D6-2CA7-4B96-B8B3-E9CDD62E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99463-9BA3-49FF-BF03-09560390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9C1B9-991E-4150-A56A-0CC94DF1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4153B-D657-4C49-A8E5-3996C886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46D86-92A0-4F64-A7B7-27FB920C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0DB95-A30F-4AFD-8B66-D06BB834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4E4F0-0D9C-414B-AE5C-A2912542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6D33-0C4D-4810-BBD7-7018C661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50940-3A07-45E1-9DD0-C290E22C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8657F-026F-45A6-AD7E-F149799F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F47FA-91EE-4C6F-906E-19ADF74E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7C086-3DA0-41CA-B2CE-37D0F4FF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75631-936D-4468-8E8A-394FBCEC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C6FAE-A709-443F-85A3-190032CC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051D9-EBBF-489F-AA88-6CB12B5F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0CAE6-6349-4092-A928-253848A0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1B11C-39EF-41AF-8800-0582B122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F5CEA-5257-43FB-9DF8-A982BD67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A63E-F59F-474C-A482-5F8E0735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CAA2D-836C-4A1A-B3B1-A2C51760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82CB8-9B4E-468B-904D-99CC33E4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AD834-6303-43BF-836D-6A55CF67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5E9A7-6035-401D-9042-E5E4CAB0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37C3C-4C14-4206-A466-3D3D0B21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24C88-BF31-422A-90D4-37FCB2A0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56EF6-753C-4363-B35A-178C24D1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F0823-6833-4D43-B913-00AD34A7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4C1F3-7DA5-414C-9DA5-46C96722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116CD-EEB0-45FF-B6C9-ED072AEC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FC88-7350-468A-8E0E-76399814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54F3E-1645-40EB-BDEE-8CC37A8C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5C75B-71EB-4976-AC89-9BB9B80E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4D331-B8EE-4FD0-9F18-0C55FA12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08519-F8F3-4BF7-B7FF-050208D7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48E30-9125-46F5-B8A1-51A16A64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8A9B-7EB8-4B8B-A44C-5F1C5474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Te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7FC3-14F9-4154-A2F0-7A7DBF8F0420}" type="slidenum">
              <a:rPr b="0" lang="zh-CN" sz="8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A5D2-49AA-461D-A6F8-F94F44B591C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422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E4F1-0B87-4670-9350-26A05ADD43D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8115-9614-45BD-989F-D28F690317A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e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9C4C-38DC-4E9A-9B02-5CC9B18F9314}" type="slidenum">
              <a:rPr b="0" lang="zh-CN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786F-98FD-42FD-9581-B5BF9031D83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EE08-E0C6-4B86-BFE4-31B4BA27EC8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4.wmf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WordArt 2"/>
          <p:cNvSpPr txBox="1"/>
          <p:nvPr/>
        </p:nvSpPr>
        <p:spPr>
          <a:xfrm>
            <a:off x="971640" y="1052640"/>
            <a:ext cx="7489800" cy="12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减慢食物变质的速度</a:t>
            </a:r>
            <a:r>
              <a:rPr b="1" lang="en-US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件下载</a:t>
            </a:r>
            <a:endParaRPr b="1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4" name="图片 1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4532400" cy="302400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00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00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2"/>
          <p:cNvSpPr txBox="1"/>
          <p:nvPr/>
        </p:nvSpPr>
        <p:spPr>
          <a:xfrm>
            <a:off x="324000" y="189000"/>
            <a:ext cx="5943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二、储存食物的各种方法</a:t>
            </a:r>
            <a:endParaRPr b="1" lang="en-US" sz="3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79280" y="141300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我们已经知道引起食物变质需要有一定的空气、水分和温度等条件，如果要储存一条新鲜的小鱼，可以用什么方法？ </a:t>
            </a:r>
            <a:endParaRPr b="0" lang="en-US" sz="28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79280" y="2997360"/>
            <a:ext cx="849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小组讨论交流，并说说运用这种方法储存食物的理由。</a:t>
            </a:r>
            <a:endParaRPr b="0" lang="en-US" sz="28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179280" y="393372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食品罐头储存食物为什么能延长它的保质期？ </a:t>
            </a:r>
            <a:endParaRPr b="0" lang="en-US" sz="28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108000" y="465300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你还知道哪些储存食物的方法？为什么这些方法能减慢食物变质的速度？ </a:t>
            </a:r>
            <a:endParaRPr b="0" lang="en-US" sz="28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0" y="595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讨论：你还能用什么方法来储存食物？</a:t>
            </a:r>
            <a:endParaRPr b="0" lang="en-US" sz="2800" spc="-1" strike="noStrike">
              <a:solidFill>
                <a:srgbClr val="ff00ff"/>
              </a:solidFill>
              <a:latin typeface="Arial Narrow"/>
            </a:endParaRPr>
          </a:p>
        </p:txBody>
      </p:sp>
    </p:spTree>
  </p:cSld>
  <p:transition>
    <p:wipe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5724360" y="0"/>
            <a:ext cx="2448000" cy="19684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"/>
          <p:cNvPicPr/>
          <p:nvPr/>
        </p:nvPicPr>
        <p:blipFill>
          <a:blip r:embed="rId2"/>
          <a:stretch/>
        </p:blipFill>
        <p:spPr>
          <a:xfrm>
            <a:off x="5724360" y="1989000"/>
            <a:ext cx="2448000" cy="15112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"/>
          <p:cNvPicPr/>
          <p:nvPr/>
        </p:nvPicPr>
        <p:blipFill>
          <a:blip r:embed="rId3"/>
          <a:stretch/>
        </p:blipFill>
        <p:spPr>
          <a:xfrm>
            <a:off x="5724360" y="3500280"/>
            <a:ext cx="2376720" cy="13575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"/>
          <p:cNvPicPr/>
          <p:nvPr/>
        </p:nvPicPr>
        <p:blipFill>
          <a:blip r:embed="rId4"/>
          <a:stretch/>
        </p:blipFill>
        <p:spPr>
          <a:xfrm>
            <a:off x="5796000" y="4869000"/>
            <a:ext cx="2376360" cy="129060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6"/>
          <p:cNvSpPr/>
          <p:nvPr/>
        </p:nvSpPr>
        <p:spPr>
          <a:xfrm>
            <a:off x="3669120" y="2637000"/>
            <a:ext cx="5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 Narrow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、晒成鱼干</a:t>
            </a:r>
            <a:endParaRPr b="0" lang="en-US" sz="24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3940560" y="4005360"/>
            <a:ext cx="5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 Narrow"/>
              </a:rPr>
              <a:t>3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、用盐腌成咸鱼</a:t>
            </a:r>
            <a:endParaRPr b="0" lang="en-US" sz="24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3071880" y="5373720"/>
            <a:ext cx="23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 Narrow"/>
              </a:rPr>
              <a:t>4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、做成罐头</a:t>
            </a:r>
            <a:endParaRPr b="0" lang="en-US" sz="24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2987640" y="1125360"/>
            <a:ext cx="25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 Narrow"/>
              </a:rPr>
              <a:t>1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、放进冰箱冷冻</a:t>
            </a:r>
            <a:r>
              <a:rPr b="0" lang="zh-CN" sz="2400" spc="-1" strike="noStrike">
                <a:solidFill>
                  <a:srgbClr val="003300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39" name="WordArt 10"/>
          <p:cNvSpPr txBox="1"/>
          <p:nvPr/>
        </p:nvSpPr>
        <p:spPr>
          <a:xfrm>
            <a:off x="250920" y="0"/>
            <a:ext cx="36734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储存一条鱼的方法</a:t>
            </a:r>
            <a:endParaRPr b="0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0" name="Rectangle 11"/>
          <p:cNvSpPr/>
          <p:nvPr/>
        </p:nvSpPr>
        <p:spPr>
          <a:xfrm>
            <a:off x="249120" y="2397240"/>
            <a:ext cx="24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 Narrow"/>
              </a:rPr>
              <a:t>同一种食物，我们可以用多种不同的方法来减慢它的变质速度。</a:t>
            </a:r>
            <a:endParaRPr b="0" lang="en-US" sz="2800" spc="-1" strike="noStrike">
              <a:solidFill>
                <a:srgbClr val="ff00ff"/>
              </a:solidFill>
              <a:latin typeface="Arial Narrow"/>
            </a:endParaRPr>
          </a:p>
        </p:txBody>
      </p:sp>
    </p:spTree>
  </p:cSld>
  <p:transition>
    <p:wipe dir="r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WordArt 2"/>
          <p:cNvSpPr txBox="1"/>
          <p:nvPr/>
        </p:nvSpPr>
        <p:spPr>
          <a:xfrm>
            <a:off x="612720" y="476280"/>
            <a:ext cx="396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33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储存食物的方法</a:t>
            </a:r>
            <a:endParaRPr b="0" lang="en-US" sz="3600" spc="1" strike="noStrike">
              <a:ln w="9360">
                <a:solidFill>
                  <a:srgbClr val="0033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468360" y="1701720"/>
            <a:ext cx="45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1</a:t>
            </a: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、冷冻法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468360" y="2421000"/>
            <a:ext cx="29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2</a:t>
            </a: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、曝晒法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539640" y="3141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3</a:t>
            </a: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、腌制法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539640" y="3860640"/>
            <a:ext cx="44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4</a:t>
            </a: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、密封包装法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539640" y="472428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5</a:t>
            </a: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、真空包装法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539640" y="5589720"/>
            <a:ext cx="485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6</a:t>
            </a: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、高温或低温灭菌法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</p:spTree>
  </p:cSld>
  <p:transition>
    <p:wipe dir="r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0" y="42069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49" name="WordArt 3"/>
          <p:cNvSpPr txBox="1"/>
          <p:nvPr/>
        </p:nvSpPr>
        <p:spPr>
          <a:xfrm>
            <a:off x="324000" y="476280"/>
            <a:ext cx="352728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考考你</a:t>
            </a:r>
            <a:endParaRPr b="0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324000" y="1341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Narrow"/>
              </a:rPr>
              <a:t>下面的说法对吗？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0" y="213372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、食物的腐败变质是由微生物的大量繁殖引起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lang="en-US" sz="28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0" y="285264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、微生物的生长与繁殖需要空气、水分和适宜的温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度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lang="en-US" sz="28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0" y="3645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、闻变质食物的气味时，要扇闻，并注意尽量少闻。</a:t>
            </a:r>
            <a:endParaRPr b="0" lang="en-US" sz="28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0" y="4437000"/>
            <a:ext cx="871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、用冷冻、晒干、真空包装等方法，能减慢食物变质的速度。其原因是破坏了微生物生长所需的条件。</a:t>
            </a:r>
            <a:endParaRPr b="0" lang="en-US" sz="2800" spc="-1" strike="noStrike">
              <a:solidFill>
                <a:srgbClr val="ff00ff"/>
              </a:solidFill>
              <a:latin typeface="Arial Narrow"/>
            </a:endParaRPr>
          </a:p>
        </p:txBody>
      </p:sp>
    </p:spTree>
  </p:cSld>
  <p:transition>
    <p:wipe dir="r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108000" y="1773360"/>
            <a:ext cx="89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</a:rPr>
              <a:t>      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</a:rPr>
              <a:t>今天小红和爸爸妈妈一起去超市买东西，她看到了很多食物，你能帮她分辨一下这些食物是用什么方法储存的吗？</a:t>
            </a:r>
            <a:endParaRPr b="0" lang="en-US" sz="2800" spc="-1" strike="noStrike">
              <a:solidFill>
                <a:srgbClr val="ff00ff"/>
              </a:solidFill>
              <a:latin typeface="Arial Narrow"/>
            </a:endParaRPr>
          </a:p>
        </p:txBody>
      </p:sp>
      <p:pic>
        <p:nvPicPr>
          <p:cNvPr id="356" name="Picture 3" descr="get1"/>
          <p:cNvPicPr/>
          <p:nvPr/>
        </p:nvPicPr>
        <p:blipFill>
          <a:blip r:embed="rId1"/>
          <a:stretch/>
        </p:blipFill>
        <p:spPr>
          <a:xfrm>
            <a:off x="324000" y="3502080"/>
            <a:ext cx="3348000" cy="31273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get11"/>
          <p:cNvPicPr/>
          <p:nvPr/>
        </p:nvPicPr>
        <p:blipFill>
          <a:blip r:embed="rId2"/>
          <a:stretch/>
        </p:blipFill>
        <p:spPr>
          <a:xfrm>
            <a:off x="3852720" y="3645000"/>
            <a:ext cx="4716720" cy="2982960"/>
          </a:xfrm>
          <a:prstGeom prst="rect">
            <a:avLst/>
          </a:prstGeom>
          <a:ln w="0">
            <a:noFill/>
          </a:ln>
        </p:spPr>
      </p:pic>
      <p:sp>
        <p:nvSpPr>
          <p:cNvPr id="358" name="WordArt 5"/>
          <p:cNvSpPr txBox="1"/>
          <p:nvPr/>
        </p:nvSpPr>
        <p:spPr>
          <a:xfrm>
            <a:off x="612720" y="404640"/>
            <a:ext cx="403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19080">
                  <a:solidFill>
                    <a:srgbClr val="99ccff"/>
                  </a:solidFill>
                  <a:round/>
                </a:ln>
                <a:gradFill rotWithShape="0">
                  <a:gsLst>
                    <a:gs pos="0">
                      <a:srgbClr val="d6d7b8"/>
                    </a:gs>
                    <a:gs pos="100000">
                      <a:srgbClr val="626354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助人为乐</a:t>
            </a:r>
            <a:endParaRPr b="0" lang="en-US" sz="3600" spc="1" strike="noStrike">
              <a:ln w="19080">
                <a:solidFill>
                  <a:srgbClr val="99ccff"/>
                </a:solidFill>
                <a:round/>
              </a:ln>
              <a:gradFill rotWithShape="0">
                <a:gsLst>
                  <a:gs pos="0">
                    <a:srgbClr val="d6d7b8"/>
                  </a:gs>
                  <a:gs pos="100000">
                    <a:srgbClr val="626354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59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59085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559085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ff00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00ff"/>
              </a:solidFill>
              <a:latin typeface="Arial Narrow"/>
            </a:endParaRPr>
          </a:p>
        </p:txBody>
      </p:sp>
    </p:spTree>
  </p:cSld>
  <p:transition>
    <p:wipe dir="r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get12"/>
          <p:cNvPicPr/>
          <p:nvPr/>
        </p:nvPicPr>
        <p:blipFill>
          <a:blip r:embed="rId1"/>
          <a:stretch/>
        </p:blipFill>
        <p:spPr>
          <a:xfrm>
            <a:off x="108000" y="189000"/>
            <a:ext cx="3781440" cy="23349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get123"/>
          <p:cNvPicPr/>
          <p:nvPr/>
        </p:nvPicPr>
        <p:blipFill>
          <a:blip r:embed="rId2"/>
          <a:stretch/>
        </p:blipFill>
        <p:spPr>
          <a:xfrm>
            <a:off x="4716360" y="333360"/>
            <a:ext cx="3954600" cy="31622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get125"/>
          <p:cNvPicPr/>
          <p:nvPr/>
        </p:nvPicPr>
        <p:blipFill>
          <a:blip r:embed="rId3"/>
          <a:stretch/>
        </p:blipFill>
        <p:spPr>
          <a:xfrm>
            <a:off x="324000" y="357336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get135"/>
          <p:cNvPicPr/>
          <p:nvPr/>
        </p:nvPicPr>
        <p:blipFill>
          <a:blip r:embed="rId4"/>
          <a:stretch/>
        </p:blipFill>
        <p:spPr>
          <a:xfrm>
            <a:off x="4932360" y="3573360"/>
            <a:ext cx="3745080" cy="3110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539640" y="2852640"/>
            <a:ext cx="765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 Narrow"/>
              </a:rPr>
              <a:t>同学们：通过这一节课的学习，你学到了哪些知识呢？ 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65" name="WordArt 3"/>
          <p:cNvSpPr txBox="1"/>
          <p:nvPr/>
        </p:nvSpPr>
        <p:spPr>
          <a:xfrm>
            <a:off x="612720" y="477720"/>
            <a:ext cx="360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谈一谈</a:t>
            </a:r>
            <a:endParaRPr b="0" lang="en-US" sz="3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6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4AC0-6978-48D7-8178-5C0A8735C71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00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241280" y="1755720"/>
            <a:ext cx="7363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71" name="WordArt 3"/>
          <p:cNvSpPr txBox="1"/>
          <p:nvPr/>
        </p:nvSpPr>
        <p:spPr>
          <a:xfrm>
            <a:off x="684360" y="1271520"/>
            <a:ext cx="8281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谢谢各位老师的莅临和指导！</a:t>
            </a:r>
            <a:endParaRPr b="0" lang="en-US" sz="36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72" name="WordArt 4"/>
          <p:cNvSpPr txBox="1"/>
          <p:nvPr/>
        </p:nvSpPr>
        <p:spPr>
          <a:xfrm>
            <a:off x="1547640" y="3860640"/>
            <a:ext cx="619308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谢谢各位，再见！</a:t>
            </a:r>
            <a:endParaRPr b="0" lang="en-US" sz="36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WordArt 2"/>
          <p:cNvSpPr txBox="1"/>
          <p:nvPr/>
        </p:nvSpPr>
        <p:spPr>
          <a:xfrm>
            <a:off x="1044720" y="838080"/>
            <a:ext cx="6337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民以食为天</a:t>
            </a:r>
            <a:endParaRPr b="0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755640" y="3068640"/>
            <a:ext cx="84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我们每天都要吃很多食物，谁能说一说你最喜欢吃什么？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760320" y="4606920"/>
            <a:ext cx="72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 Narrow"/>
                <a:ea typeface="宋体"/>
              </a:rPr>
              <a:t>老师也有很多喜欢的食物，请同学们看一看老师喜爱的食物！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WordArt 2"/>
          <p:cNvSpPr txBox="1"/>
          <p:nvPr/>
        </p:nvSpPr>
        <p:spPr>
          <a:xfrm>
            <a:off x="755640" y="476280"/>
            <a:ext cx="2232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66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7000"/>
                    </a:srgbClr>
                  </a:outerShdw>
                </a:effectLst>
                <a:latin typeface="宋体"/>
              </a:rPr>
              <a:t>看一看</a:t>
            </a:r>
            <a:endParaRPr b="1" lang="en-US" sz="3600" spc="1" strike="noStrike">
              <a:ln w="9360">
                <a:solidFill>
                  <a:srgbClr val="0066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00" name="Picture 3" descr="鸡蛋"/>
          <p:cNvPicPr/>
          <p:nvPr/>
        </p:nvPicPr>
        <p:blipFill>
          <a:blip r:embed="rId3"/>
          <a:stretch/>
        </p:blipFill>
        <p:spPr>
          <a:xfrm>
            <a:off x="5292720" y="2924280"/>
            <a:ext cx="3816360" cy="38732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黄瓜"/>
          <p:cNvPicPr/>
          <p:nvPr/>
        </p:nvPicPr>
        <p:blipFill>
          <a:blip r:embed="rId4"/>
          <a:stretch/>
        </p:blipFill>
        <p:spPr>
          <a:xfrm>
            <a:off x="36360" y="2060640"/>
            <a:ext cx="3888000" cy="2998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西红柿"/>
          <p:cNvPicPr/>
          <p:nvPr/>
        </p:nvPicPr>
        <p:blipFill>
          <a:blip r:embed="rId5"/>
          <a:stretch/>
        </p:blipFill>
        <p:spPr>
          <a:xfrm>
            <a:off x="5796000" y="189000"/>
            <a:ext cx="3168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清蒸鱼"/>
          <p:cNvPicPr/>
          <p:nvPr/>
        </p:nvPicPr>
        <p:blipFill>
          <a:blip r:embed="rId1"/>
          <a:stretch/>
        </p:blipFill>
        <p:spPr>
          <a:xfrm>
            <a:off x="4861080" y="189000"/>
            <a:ext cx="4248000" cy="407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猪腿"/>
          <p:cNvPicPr/>
          <p:nvPr/>
        </p:nvPicPr>
        <p:blipFill>
          <a:blip r:embed="rId2"/>
          <a:stretch/>
        </p:blipFill>
        <p:spPr>
          <a:xfrm>
            <a:off x="324000" y="3357720"/>
            <a:ext cx="4249440" cy="33130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烤鸭"/>
          <p:cNvPicPr/>
          <p:nvPr/>
        </p:nvPicPr>
        <p:blipFill>
          <a:blip r:embed="rId3"/>
          <a:stretch/>
        </p:blipFill>
        <p:spPr>
          <a:xfrm>
            <a:off x="108000" y="117360"/>
            <a:ext cx="4762440" cy="31435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5148360" y="4940280"/>
            <a:ext cx="35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 Narrow"/>
                <a:ea typeface="宋体"/>
              </a:rPr>
              <a:t>你们喜欢吃吗？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WordArt 2"/>
          <p:cNvSpPr txBox="1"/>
          <p:nvPr/>
        </p:nvSpPr>
        <p:spPr>
          <a:xfrm>
            <a:off x="490680" y="1052640"/>
            <a:ext cx="5400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新魏"/>
              </a:rPr>
              <a:t>一、观察变质的食物</a:t>
            </a:r>
            <a:endParaRPr b="1" lang="en-US" sz="3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395280" y="220500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你吃过鱼干吗？味道怎样？</a:t>
            </a:r>
            <a:endParaRPr b="0" lang="en-US" sz="3200" spc="-1" strike="noStrike">
              <a:solidFill>
                <a:srgbClr val="ff00ff"/>
              </a:solidFill>
              <a:latin typeface="Arial Narrow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4896000" y="3278160"/>
            <a:ext cx="4248000" cy="357984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5"/>
          <p:cNvSpPr/>
          <p:nvPr/>
        </p:nvSpPr>
        <p:spPr>
          <a:xfrm>
            <a:off x="396720" y="4653000"/>
            <a:ext cx="48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鱼干的味道：可口、美味、好吃等等。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pic>
        <p:nvPicPr>
          <p:cNvPr id="311" name="Picture 6" descr=""/>
          <p:cNvPicPr/>
          <p:nvPr/>
        </p:nvPicPr>
        <p:blipFill>
          <a:blip r:embed="rId2"/>
          <a:stretch/>
        </p:blipFill>
        <p:spPr>
          <a:xfrm>
            <a:off x="612720" y="2781360"/>
            <a:ext cx="2448000" cy="151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0" y="620640"/>
            <a:ext cx="47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比较新鲜的食物和变质的食物，有哪些不同的地方？ </a:t>
            </a:r>
            <a:endParaRPr b="0" lang="en-US" sz="3200" spc="-1" strike="noStrike">
              <a:solidFill>
                <a:srgbClr val="ff00ff"/>
              </a:solidFill>
              <a:latin typeface="Arial Narrow"/>
            </a:endParaRPr>
          </a:p>
        </p:txBody>
      </p:sp>
      <p:pic>
        <p:nvPicPr>
          <p:cNvPr id="313" name="Picture 3" descr="%A]57[9%1OZY(_)_(7QW{T3"/>
          <p:cNvPicPr/>
          <p:nvPr/>
        </p:nvPicPr>
        <p:blipFill>
          <a:blip r:embed="rId1"/>
          <a:stretch/>
        </p:blipFill>
        <p:spPr>
          <a:xfrm>
            <a:off x="4861080" y="3284640"/>
            <a:ext cx="3781440" cy="3276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新鲜的小鱼"/>
          <p:cNvPicPr/>
          <p:nvPr/>
        </p:nvPicPr>
        <p:blipFill>
          <a:blip r:embed="rId2"/>
          <a:stretch/>
        </p:blipFill>
        <p:spPr>
          <a:xfrm>
            <a:off x="36360" y="2565360"/>
            <a:ext cx="3333960" cy="23623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变质的食物"/>
          <p:cNvPicPr/>
          <p:nvPr/>
        </p:nvPicPr>
        <p:blipFill>
          <a:blip r:embed="rId3"/>
          <a:stretch/>
        </p:blipFill>
        <p:spPr>
          <a:xfrm>
            <a:off x="5219640" y="476280"/>
            <a:ext cx="3333960" cy="2219400"/>
          </a:xfrm>
          <a:prstGeom prst="rect">
            <a:avLst/>
          </a:prstGeom>
          <a:ln w="0">
            <a:noFill/>
          </a:ln>
        </p:spPr>
      </p:pic>
      <p:sp>
        <p:nvSpPr>
          <p:cNvPr id="316" name="文本框 8199"/>
          <p:cNvSpPr/>
          <p:nvPr/>
        </p:nvSpPr>
        <p:spPr>
          <a:xfrm>
            <a:off x="755640" y="21747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59085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559085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ff00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00ff"/>
              </a:solidFill>
              <a:latin typeface="Arial Narrow"/>
            </a:endParaRPr>
          </a:p>
        </p:txBody>
      </p:sp>
    </p:spTree>
  </p:cSld>
  <p:transition>
    <p:wipe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468360" y="21337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 Narrow"/>
              </a:rPr>
              <a:t>1</a:t>
            </a:r>
            <a:r>
              <a:rPr b="1" lang="zh-CN" sz="2800" spc="-1" strike="noStrike">
                <a:solidFill>
                  <a:srgbClr val="003300"/>
                </a:solidFill>
                <a:latin typeface="Arial Narrow"/>
              </a:rPr>
              <a:t>、腐败的小鱼、发馊的面条与发霉的面包有哪些相似的地方？</a:t>
            </a:r>
            <a:endParaRPr b="0" lang="en-US" sz="28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18" name="WordArt 3"/>
          <p:cNvSpPr txBox="1"/>
          <p:nvPr/>
        </p:nvSpPr>
        <p:spPr>
          <a:xfrm>
            <a:off x="684360" y="260280"/>
            <a:ext cx="1726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黑体"/>
              </a:rPr>
              <a:t>想一想</a:t>
            </a:r>
            <a:endParaRPr b="0" lang="en-US" sz="3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84360" y="3357720"/>
            <a:ext cx="73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味道有变化，基本上是发酸发臭，食物变色、长毛、腐烂，都是食物变质的基本特点。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</p:spTree>
  </p:cSld>
  <p:transition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1406520" y="1065240"/>
            <a:ext cx="75582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684360" y="1844640"/>
            <a:ext cx="74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主要原因是微生物捣蛋。只要温度适宜，微生物就生长繁殖，分解食物中的营养素，以满足微生物自身需要。此时食物中的蛋白质被分解成有机酸等物质。此时物质会发生氨臭味及酸味，食物也失去了原有的坚韧性及弹性，并使颜色异常。 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539640" y="404640"/>
            <a:ext cx="835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、这么新鲜的食物为什么放了一段时间就会变质呢？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</p:spTree>
  </p:cSld>
  <p:transition>
    <p:wipe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612720" y="12906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小鱼为什么在短时间里变质了？鱼干为什么能长时间地保持好闻的味道？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641520" y="2924280"/>
            <a:ext cx="72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因为新鲜的小鱼储存环境非常适宜各种微生物的生长和繁殖，从而易变质；反之鱼干的则正好相反，所以长时间也能保持很好的味道。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</p:spTree>
  </p:cSld>
  <p:transition>
    <p:wipe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23:54:4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03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