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9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C44D-8EDF-4E5C-84EC-59A58C5E3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7376-DCCC-4A85-A7A0-9C2BAA8E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2C3F-02AE-4625-A9FD-710198C0C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CAA4-36F5-40A9-8C5A-123A62B5D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75A11-90FC-4E1C-B738-EC34D7E21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51B9-4595-421F-A053-2A1EA537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99680-6EAA-42EF-BA8F-FCEADA3D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CC5A8-4361-4A77-A0EE-BD41911B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17FA-B25A-4773-B385-3DF82790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B46F1-3282-4836-8373-FADB3785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3D62-4532-4D9B-AF93-FCD7CDEA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5BA2-1BF4-472E-9A0C-6CFCDB03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7E66-5BAC-4F4D-990C-AF67F321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4FACC-B21B-4170-8A4B-50E6E67A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8978-EECE-4D76-8B4D-392B9B93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362E-7AFA-4FE3-8F9C-F41DC8C8A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5AC6-61A1-4B9F-98FE-6B9E6A15C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BB54-90AF-448C-BD98-F9092A87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1D06-8BCB-4136-86F0-53571699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7104-FC47-4216-999E-CA1D6866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3C20-5F4F-444D-9060-5C721E90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9423-E71C-4301-BA7D-91D71AF9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BF7E-D879-481A-B07C-F4972054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3893-3795-4ABB-BCBF-F79A937A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46B9-3A91-46D9-8900-C72C7677B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A0C0-40A3-425E-AAAD-55888C566F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2.gif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265,10,&#24187;&#28783;&#29255; 10" TargetMode="External"/><Relationship Id="rId3" Type="http://schemas.openxmlformats.org/officeDocument/2006/relationships/hyperlink" Target="266,11,&#24187;&#28783;&#29255; 11" TargetMode="External"/><Relationship Id="rId4" Type="http://schemas.openxmlformats.org/officeDocument/2006/relationships/hyperlink" Target="267,12,&#24187;&#28783;&#29255; 12" TargetMode="External"/><Relationship Id="rId5" Type="http://schemas.openxmlformats.org/officeDocument/2006/relationships/hyperlink" Target="268,13,&#24187;&#28783;&#29255; 13" TargetMode="Externa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pic_22943"/>
          <p:cNvPicPr/>
          <p:nvPr/>
        </p:nvPicPr>
        <p:blipFill>
          <a:blip r:embed="rId2"/>
          <a:stretch/>
        </p:blipFill>
        <p:spPr>
          <a:xfrm>
            <a:off x="3159000" y="2492280"/>
            <a:ext cx="2862360" cy="36100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8001360" y="2060640"/>
            <a:ext cx="6678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义务教育新课标语文七年级教学课件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Rectangle 2" descr=""/>
          <p:cNvPicPr/>
          <p:nvPr/>
        </p:nvPicPr>
        <p:blipFill>
          <a:blip r:embed="rId3"/>
          <a:stretch/>
        </p:blipFill>
        <p:spPr>
          <a:xfrm>
            <a:off x="179280" y="243000"/>
            <a:ext cx="8820360" cy="272556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635280" y="1125000"/>
            <a:ext cx="489744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艰难的国运”是指“艰难 险阻的境界”“很逼狭的境界”“绝壁断崖”“极其险 峻”“崎岖险阻”。结合表现在帝国主义列强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世纪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年代的国家命运，“艰难”主要表现在帝国主义列强虎视眈眈、封建势力死灰复燃国内军阀混战，人民水深火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W_005"/>
          <p:cNvPicPr/>
          <p:nvPr/>
        </p:nvPicPr>
        <p:blipFill>
          <a:blip r:embed="rId2"/>
          <a:stretch/>
        </p:blipFill>
        <p:spPr>
          <a:xfrm>
            <a:off x="8172360" y="588636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6840" y="980640"/>
            <a:ext cx="8002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　　　课文中提到“一种冒险的美趣” “奇趣横生” “一种壮美的趣味”“亦是人生最有趣味的事”，这种趣味，其实都是经历艰难险阻以后的趣味，是一种快乐，一种幸福。是明知山有虎，偏向虎山行，挑战艰难，征服旅途，无限风光在险峰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;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困难当头，挺身而出，英勇斗争，做一个大写的人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;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为民族新生而奋斗，奉献生命的光和热，谱写壮丽的人生之歌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是一种“战斗的欢乐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W_005"/>
          <p:cNvPicPr/>
          <p:nvPr/>
        </p:nvPicPr>
        <p:blipFill>
          <a:blip r:embed="rId2"/>
          <a:stretch/>
        </p:blipFill>
        <p:spPr>
          <a:xfrm>
            <a:off x="8136000" y="585000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26920" y="1600200"/>
            <a:ext cx="676944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99cc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是艰难的国运造就了一大批真正的猛士、真正的革命者－－雄健的国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　　　只有雄健的国民才能改变艰难的国运，要以雄健的精神在艰难的国运中建造国家，为民族的尊严和发展而奋斗、奉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　　　如果把“雄健的国民”放到前面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因果关系就颠倒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W_005"/>
          <p:cNvPicPr/>
          <p:nvPr/>
        </p:nvPicPr>
        <p:blipFill>
          <a:blip r:embed="rId2"/>
          <a:stretch/>
        </p:blipFill>
        <p:spPr>
          <a:xfrm>
            <a:off x="8136000" y="5850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137" name="文本框 8200"/>
          <p:cNvSpPr/>
          <p:nvPr/>
        </p:nvSpPr>
        <p:spPr>
          <a:xfrm>
            <a:off x="2411280" y="112536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0A47-5CDD-4386-8655-032EC720D9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思考： “雄健的国民”的现实意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14400" y="321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后练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品味文章的修辞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品味文章的哲理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6"/>
          <p:cNvSpPr/>
          <p:nvPr/>
        </p:nvSpPr>
        <p:spPr>
          <a:xfrm>
            <a:off x="547560" y="9079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00720" y="764640"/>
            <a:ext cx="374328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李大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89-192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字守常，河北乐亭人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，在北京成立共产主义小组，成为中国共产党的创始人之一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2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，被奉系军阀张作霖杀害于北京，时年仅三十八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ZGJXDZSD4010B"/>
          <p:cNvPicPr/>
          <p:nvPr/>
        </p:nvPicPr>
        <p:blipFill>
          <a:blip r:embed="rId2"/>
          <a:stretch/>
        </p:blipFill>
        <p:spPr>
          <a:xfrm>
            <a:off x="468360" y="692280"/>
            <a:ext cx="3876480" cy="5400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41760"/>
            <a:ext cx="8686800" cy="689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时代背景：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本文写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世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代，正当五四运动高潮过后，封建军阀与帝国主义相勾结，加紧了对中国人民的压迫，加紧了对文化运动的破坏。封建复古势力从一蹶不振中昂起头来，对新文化运动发动猖狂的反扑。社会黑暗到了极点。中华民族真如“大病初愈的病人”千疮百孔，步履维艰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在这种“艰难的国运”面前，是临阵脱逃，垂头丧气，悲观失望，彷徨苦闷，还是正视现实，挺起胸膛，振奋民族精神？这是摆在每一个有爱国心的正直的人们面前的严峻问题，必须作出决择，必须作出明确的回答。那些民族精神不健全的人，怯懦的人，脆弱的人和奴颜婢膝的人，有的高升，有的退隐，或化敌为友，为虎作伥，或畏惧斗争，循迹而去。大多数正直的有爱国心的人们，则在黑暗中徘徊，苦于看不到光明，精神不振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针对这种现实和精神状态，李大钊大声疾呼，振奋起雄健的民族精神，在严重的历史关头，在艰难曲折的道路上，树立起冲破险阻的必胜信心，企望动员更多的人投身于救国救民的伟大事业，使救国的事业变成全民的事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755640" y="1413000"/>
            <a:ext cx="7488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一</a:t>
            </a:r>
            <a:r>
              <a:rPr b="0" lang="zh-CN" sz="3600" spc="-1" strike="noStrike" u="sng">
                <a:solidFill>
                  <a:srgbClr val="ff0066"/>
                </a:solidFill>
                <a:uFillTx/>
                <a:latin typeface="Arial"/>
              </a:rPr>
              <a:t>    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xi</a:t>
            </a:r>
            <a:r>
              <a:rPr b="0" lang="en-US" sz="3600" spc="-1" strike="noStrike">
                <a:solidFill>
                  <a:srgbClr val="ff0066"/>
                </a:solidFill>
                <a:latin typeface="宋体"/>
              </a:rPr>
              <a:t>è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）千里       险</a:t>
            </a:r>
            <a:r>
              <a:rPr b="0" lang="zh-CN" sz="3600" spc="-1" strike="noStrike" u="sng">
                <a:solidFill>
                  <a:srgbClr val="ff0066"/>
                </a:solidFill>
                <a:uFillTx/>
                <a:latin typeface="Arial"/>
              </a:rPr>
              <a:t>    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j</a:t>
            </a:r>
            <a:r>
              <a:rPr b="0" lang="en-US" sz="3600" spc="-1" strike="noStrike">
                <a:solidFill>
                  <a:srgbClr val="ff0066"/>
                </a:solidFill>
                <a:latin typeface="宋体"/>
              </a:rPr>
              <a:t>ù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n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） </a:t>
            </a:r>
            <a:r>
              <a:rPr b="0" lang="zh-CN" sz="3600" spc="-1" strike="noStrike" u="sng">
                <a:solidFill>
                  <a:srgbClr val="ff0066"/>
                </a:solidFill>
                <a:uFillTx/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丛山</a:t>
            </a:r>
            <a:r>
              <a:rPr b="0" lang="zh-CN" sz="3600" spc="-1" strike="noStrike" u="sng">
                <a:solidFill>
                  <a:srgbClr val="ff0066"/>
                </a:solidFill>
                <a:uFillTx/>
                <a:latin typeface="Arial"/>
              </a:rPr>
              <a:t>     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di</a:t>
            </a:r>
            <a:r>
              <a:rPr b="0" lang="en-US" sz="3600" spc="-1" strike="noStrike">
                <a:solidFill>
                  <a:srgbClr val="ff0066"/>
                </a:solidFill>
                <a:latin typeface="宋体"/>
              </a:rPr>
              <a:t>é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）岭   　阻</a:t>
            </a:r>
            <a:r>
              <a:rPr b="0" lang="zh-CN" sz="3600" spc="-1" strike="noStrike" u="sng">
                <a:solidFill>
                  <a:srgbClr val="ff0066"/>
                </a:solidFill>
                <a:uFillTx/>
                <a:latin typeface="Arial"/>
              </a:rPr>
              <a:t>     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（ 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y</a:t>
            </a:r>
            <a:r>
              <a:rPr b="0" lang="en-US" sz="3600" spc="-1" strike="noStrike">
                <a:solidFill>
                  <a:srgbClr val="ff0066"/>
                </a:solidFill>
                <a:latin typeface="宋体"/>
              </a:rPr>
              <a:t>ì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逼</a:t>
            </a:r>
            <a:r>
              <a:rPr b="0" lang="zh-CN" sz="3600" spc="-1" strike="noStrike" u="sng">
                <a:solidFill>
                  <a:srgbClr val="ff0066"/>
                </a:solidFill>
                <a:uFillTx/>
                <a:latin typeface="Arial"/>
              </a:rPr>
              <a:t>    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xi</a:t>
            </a:r>
            <a:r>
              <a:rPr b="0" lang="en-US" sz="3600" spc="-1" strike="noStrike">
                <a:solidFill>
                  <a:srgbClr val="ff0066"/>
                </a:solidFill>
                <a:latin typeface="宋体"/>
                <a:ea typeface="Times New Roman"/>
              </a:rPr>
              <a:t>á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）           奇趣横</a:t>
            </a:r>
            <a:r>
              <a:rPr b="0" lang="zh-CN" sz="3600" spc="-1" strike="noStrike" u="sng">
                <a:solidFill>
                  <a:srgbClr val="ff0066"/>
                </a:solidFill>
                <a:uFillTx/>
                <a:latin typeface="Arial"/>
              </a:rPr>
              <a:t>         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q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í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qū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）</a:t>
            </a:r>
            <a:r>
              <a:rPr b="0" lang="zh-CN" sz="3600" spc="-1" strike="noStrike" u="sng">
                <a:solidFill>
                  <a:srgbClr val="ff0066"/>
                </a:solidFill>
                <a:uFillTx/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         浊</a:t>
            </a:r>
            <a:r>
              <a:rPr b="0" lang="zh-CN" sz="3600" spc="-1" strike="noStrike" u="sng">
                <a:solidFill>
                  <a:srgbClr val="ff0066"/>
                </a:solidFill>
                <a:uFillTx/>
                <a:latin typeface="Arial"/>
              </a:rPr>
              <a:t>     </a:t>
            </a:r>
            <a:r>
              <a:rPr b="0" lang="zh-CN" sz="3600" spc="-1" strike="noStrike" u="sng">
                <a:solidFill>
                  <a:srgbClr val="ff0066"/>
                </a:solidFill>
                <a:uFillTx/>
                <a:latin typeface="宋体"/>
                <a:ea typeface="Times New Roman"/>
              </a:rPr>
              <a:t>  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流滚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258920" y="141300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Arial"/>
              </a:rPr>
              <a:t>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5651640" y="141300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Arial"/>
              </a:rPr>
              <a:t>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763640" y="220500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Arial"/>
              </a:rPr>
              <a:t>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5651640" y="220500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Arial"/>
              </a:rPr>
              <a:t>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2556000" y="3860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Arial"/>
              </a:rPr>
              <a:t>崎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1258920" y="299736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Arial"/>
              </a:rPr>
              <a:t>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5219640" y="3860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zhu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6012000" y="2997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hé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273672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分析课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、有时流到很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逼狭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的境界，两岸丛崇山峻岭叠岭，绝壁断崖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、民族生命的进程，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亦复如是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老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于旅途的人，走到平坦的地方，固是高高兴兴地向前走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1116000" y="270828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逼狭：非常狭窄、艰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1116000" y="386064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亦复如是：也是如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1116000" y="551664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老：富有经验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、目前的艰难境界，哪能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阻抑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我们民族生命的前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、扬子江及黄河遇见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流过去，以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成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其浊流滚滚、一泻万里的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魄势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、要知在艰难的国运中建造国家，亦是人生最有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趣味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的事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187280" y="522936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趣味：意义、价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116000" y="3573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成：成就、形成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1116000" y="191628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阻抑：阻碍抑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4643280" y="3573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魄势：气魄、威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289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概括段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55280" y="1484280"/>
            <a:ext cx="80643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、历史的道路崎岖不平，艰难境界须靠雄健的精神才能冲过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755640" y="2492280"/>
            <a:ext cx="8064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民族生命的进程，和长江大河一样并不总是坦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755640" y="3357720"/>
            <a:ext cx="806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、人类生活像旅行一样，越是崎岖险境，越能感到冒险的美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55640" y="4292640"/>
            <a:ext cx="8064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bbe0e3"/>
                </a:solidFill>
                <a:latin typeface="Arial"/>
              </a:rPr>
              <a:t>、中华民族现在的进程就是一段险路，只有雄健的精神才能感觉到它壮美的趣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755640" y="5229360"/>
            <a:ext cx="806436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99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ff99"/>
                </a:solidFill>
                <a:latin typeface="Arial"/>
              </a:rPr>
              <a:t>、我们要拿出雄健的精神，在艰难的国运中建造国家，这是人生至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品味语言的含蓄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我们应该拿出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雄健的精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高唱着进行的曲调，在这悲壮的歌声中，走过这崎岖险阻的道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要知在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艰难的国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建造国家，亦是人生最有趣味的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如何理解作者所说的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“趣味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如何理解文章的标题，二者可以互换位置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403280" y="1628640"/>
            <a:ext cx="633744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雄健的精神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也就是民族的精神，“扬子江及黄河遇见沙漠、遇见山峡、都是浩浩荡荡地往前流去，以成其浊流滚滚、一泻万里的魄势。”“雄健的精神”也就是这种冲破一切艰难险阻，勇往直前的精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W_005"/>
          <p:cNvPicPr/>
          <p:nvPr/>
        </p:nvPicPr>
        <p:blipFill>
          <a:blip r:embed="rId2"/>
          <a:stretch/>
        </p:blipFill>
        <p:spPr>
          <a:xfrm>
            <a:off x="8043840" y="5757840"/>
            <a:ext cx="1100160" cy="1100160"/>
          </a:xfrm>
          <a:prstGeom prst="rect">
            <a:avLst/>
          </a:prstGeom>
          <a:ln w="0">
            <a:noFill/>
          </a:ln>
        </p:spPr>
      </p:pic>
      <p:sp>
        <p:nvSpPr>
          <p:cNvPr id="127" name="文本框 8200"/>
          <p:cNvSpPr/>
          <p:nvPr/>
        </p:nvSpPr>
        <p:spPr>
          <a:xfrm>
            <a:off x="1476360" y="10526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01:52:3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0:28Z</dcterms:modified>
  <cp:revision>1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