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2.jpeg" ContentType="image/jpeg"/>
  <Override PartName="/ppt/media/camera.wav" ContentType="audio/x-wav"/>
  <Override PartName="/ppt/media/image7.jpeg" ContentType="image/jpeg"/>
  <Override PartName="/ppt/media/image11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projctor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6DC-B1F0-45F6-8B94-3501577D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F75-3446-4058-BC4E-34D922C7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5FE-C2EB-411D-BE36-8020290D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32B-CFE5-4A64-9CD6-26E1E1A3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024D-C82A-49F3-A5F9-A3493560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0737-3CD0-465A-9FC5-E2C4DBFE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C372-CA74-4DE0-A804-9CA8DC57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E01E-2414-487F-885B-A1B83FDB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0348-CF90-4042-B6BF-6C21C8C6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9933-6B10-427B-9CEC-7F921817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6CBC-5188-4C1F-A6FA-5D7C365E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042-E37F-40E0-AA54-B7F1340D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651F-A769-4DDE-BCD2-5363F5EE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A687-5CB0-4734-B6D1-94194993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B463-4D1B-4583-A3BB-6DA7A0B6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4C46-D136-408F-9120-A7750100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B62E-AEC0-4FFB-A9F2-7C707C84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FBF4-8B3B-40C3-AE77-95032138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5F9E-82B7-4BBF-A5A4-A277E9F5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7015-F083-4FCF-99DE-D7846AD3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4643-2F6A-45D8-8A60-E78F18B4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E09E-9D58-4A39-9192-BD52543D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DCC-0745-4463-88BC-D160A9AB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D6C6-81CA-4712-BD06-48E74E9D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F113-BBF6-47DA-86A2-F52D377B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9662-B373-4C45-9347-3D0B0645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FF6B-3CA8-40F7-8735-78C25866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7F76-8C6B-4596-A1CA-3590086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EA31-FE27-4F9B-A836-D59FFABC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43EC-A713-4E28-BB88-E5EE6815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A0D48-5D38-44A1-8C52-B8CE0422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E51F-5A42-40CD-AFDE-8A112EA2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86619-5943-4E75-886A-8BDFC4E6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1AD-5C4F-4910-A621-FEC56FA3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2E75-5620-4F26-9E29-594DFE9F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8043-B2E3-4A33-8ECD-1BC22BB3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E2885-174D-4CFB-B4BB-21545C69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768B5-E0E6-48EB-AE2A-DEB6F756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25D42-AF25-4485-BF4C-DF6BFDEA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96E3-BC3C-4E77-ABBD-CC9883E1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F229E-A623-40E0-8B44-E7A36DFE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9B4AA-73BB-4683-AE2C-D64F7FC1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B1DAE-FA69-4B9D-9AC2-F816A469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F94-4E76-443D-91BA-822A989E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1E9-083A-46D7-B54B-56513855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FA3-D5E0-4ECA-AE03-6C1D1157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3CC-7AD6-4175-80D0-C58217C0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91B-44D0-4F99-856A-6868D6F3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2808-975B-48A4-BB19-D0CE96428CC7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B004-15B4-4D10-8B1F-D523239D934D}" type="slidenum"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556000" y="3860640"/>
            <a:ext cx="40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创艺简中圆"/>
                <a:ea typeface="创艺简中圆"/>
              </a:rPr>
              <a:t>课件制作    张国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Untitled-1"/>
          <p:cNvPicPr/>
          <p:nvPr/>
        </p:nvPicPr>
        <p:blipFill>
          <a:blip r:embed="rId2"/>
          <a:stretch/>
        </p:blipFill>
        <p:spPr>
          <a:xfrm>
            <a:off x="2340000" y="1881360"/>
            <a:ext cx="4392720" cy="16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7679-2537-43BD-9C98-71CB87DD97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971640" y="213984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语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七年级  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803A-E5E9-40AE-8952-ED7085A2D008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sstour.com/spdb/elsbwg/elshome.htm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6" descr="ss47"/>
          <p:cNvPicPr/>
          <p:nvPr/>
        </p:nvPicPr>
        <p:blipFill>
          <a:blip r:embed="rId1"/>
          <a:srcRect l="0" t="0" r="0" b="103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黑体"/>
              </a:rPr>
              <a:t>诗两首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8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9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0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2"/>
          <a:stretch/>
        </p:blipFill>
        <p:spPr>
          <a:xfrm>
            <a:off x="725400" y="2349360"/>
            <a:ext cx="7772400" cy="122256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2" descr=""/>
          <p:cNvPicPr/>
          <p:nvPr/>
        </p:nvPicPr>
        <p:blipFill>
          <a:blip r:embed="rId3"/>
          <a:stretch/>
        </p:blipFill>
        <p:spPr>
          <a:xfrm>
            <a:off x="652320" y="4005360"/>
            <a:ext cx="7772400" cy="12240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朗读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907640" y="1553760"/>
            <a:ext cx="56883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心儿永远向往着未来；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现在却常是忧郁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切都是瞬息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切都将会过去；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而那过去了的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就会成为亲切的怀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1908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一个怀疑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希金写这首诗是否缺乏对苦难的体验，空唱高调，“饱汉子不知饿汉子饥”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4920" y="2638080"/>
            <a:ext cx="84582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不，它写于普希金被沙皇流放的日子里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在这样的艰难处境下，他没有丧失希望与斗志，执著地追求理想，相信光明必来，正义必胜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77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这首诗的意义，请听一个故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928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　张老师在邢台五中工作时有一个同事，原来是湖北省歌舞团的音乐指导，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957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年被打成右派后失去了工作，文化大革命中又遭受残酷迫害。为了谋生她什么活都干过：拉架子车、为人洗衣、拣废品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978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年右派平反后才恢复了教师工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　我问她这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年是怎样熬过来的，她回答，他经常默诵普希金的诗：假如生活欺骗了你， 不要悲伤，不要心急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!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忧郁的日子里需要镇静：相信吧，快乐的日子将会来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黑体"/>
              </a:rPr>
              <a:t>未选择的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39"/>
          <p:cNvPicPr/>
          <p:nvPr/>
        </p:nvPicPr>
        <p:blipFill>
          <a:blip r:embed="rId1"/>
          <a:stretch/>
        </p:blipFill>
        <p:spPr>
          <a:xfrm>
            <a:off x="1571760" y="2133720"/>
            <a:ext cx="6000480" cy="365904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8199"/>
          <p:cNvSpPr/>
          <p:nvPr/>
        </p:nvSpPr>
        <p:spPr>
          <a:xfrm>
            <a:off x="2484360" y="170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33200" y="990360"/>
            <a:ext cx="55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作者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473200" y="2255760"/>
            <a:ext cx="4114800" cy="29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弗罗斯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874—196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美国诗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0920" y="485280"/>
            <a:ext cx="187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朗读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95280" y="766800"/>
            <a:ext cx="662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黄色的树林里分出两条路，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可惜我不能同时去涉足，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我在那路口久久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伫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立，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我向着一条路极目望去，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直到它消失在丛林深处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但我却选了另外一条路，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它荒草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萋萋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十分幽寂，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显得更诱人，更美丽；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虽然在这条小路上，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很少留下旅人的足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7451640" y="1268280"/>
            <a:ext cx="1316160" cy="720720"/>
          </a:xfrm>
          <a:prstGeom prst="wedgeRoundRectCallout">
            <a:avLst>
              <a:gd name="adj1" fmla="val -162305"/>
              <a:gd name="adj2" fmla="val 49120"/>
              <a:gd name="adj3" fmla="val 1666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宋体"/>
              </a:rPr>
              <a:t>zh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379440" y="3398760"/>
            <a:ext cx="1316160" cy="720720"/>
          </a:xfrm>
          <a:prstGeom prst="wedgeRoundRectCallout">
            <a:avLst>
              <a:gd name="adj1" fmla="val 208986"/>
              <a:gd name="adj2" fmla="val 53745"/>
              <a:gd name="adj3" fmla="val 1666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宋体"/>
              </a:rPr>
              <a:t>q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187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朗读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195280" y="982440"/>
            <a:ext cx="55450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那天清晨落叶满地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两条路都未经脚印污染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啊，留下一条路等改日再见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但我知道路径延绵无尽头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恐怕我难以再回返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也许多少年后在某个地方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我将轻声叹息将往事回顾：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一片树林里分出两条路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而我选择了人迹更少的一条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从此决定了我一生的道路。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383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朗读课文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明“路”有哪两种含义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590920" y="2774520"/>
            <a:ext cx="42861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自然之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人生之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 ——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象征手法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7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弗罗斯特为什么选择了一条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荒草萋萋，十分幽寂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人迹更少）的路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2565360"/>
            <a:ext cx="7989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因为这条路“更诱人，更美丽”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王安石：世之奇伟、瑰怪、非常之观，常在于险远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而人之所罕至焉。（游褒禅山记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毛泽东：无限风光在险峰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弗罗斯特选择的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61440" y="1125360"/>
            <a:ext cx="8458200" cy="50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弗罗斯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38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岁这一年作出一个重要选择：辞去在师范学校教书的平坦、安稳的生活，选择了诗歌创作。他们卖掉了祖父留给他的农场，来到大洋彼岸的英国，在离伦敦不远的一个村子里找到了一座木板茅屋的新家。他对自己说：“写诗吧，穷就穷吧。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不久，他的第一本诗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孩子的意愿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出版了，以它特有的朴素坦率和真诚赢得了人们的好评。庞德特别撰文推荐，说这是美国很长一段时间以来最好的一本诗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后来，他先后出版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部诗集，成为美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世纪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9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代最受欢迎的诗人之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9"/>
          <p:cNvSpPr/>
          <p:nvPr/>
        </p:nvSpPr>
        <p:spPr>
          <a:xfrm>
            <a:off x="3973680" y="371628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黑体"/>
              </a:rPr>
              <a:t>假如生活欺骗了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aa21"/>
          <p:cNvPicPr/>
          <p:nvPr/>
        </p:nvPicPr>
        <p:blipFill>
          <a:blip r:embed="rId1"/>
          <a:srcRect l="0" t="0" r="0" b="4623"/>
          <a:stretch/>
        </p:blipFill>
        <p:spPr>
          <a:xfrm>
            <a:off x="1674720" y="2205000"/>
            <a:ext cx="5792760" cy="3700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家对“路”的思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90400" y="22064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屈原：路漫漫其修远兮，吾将上下而求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辛弃疾：独上高楼，望尽天涯路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鲁迅：其实世上本没有路，走的人多了，也便成了路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8199"/>
          <p:cNvSpPr/>
          <p:nvPr/>
        </p:nvSpPr>
        <p:spPr>
          <a:xfrm>
            <a:off x="2484360" y="1844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3184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作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32284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背诵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假如生活欺骗了你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BC28-D25C-40DA-AAAD-5FD0DE0E15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6">
            <a:hlinkClick r:id="" action="ppaction://hlinkshowjump?jump=previousslide"/>
          </p:cNvPr>
          <p:cNvSpPr/>
          <p:nvPr/>
        </p:nvSpPr>
        <p:spPr>
          <a:xfrm>
            <a:off x="525924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>
            <a:hlinkClick r:id="" action="ppaction://hlinkshowjump?jump=firstslide"/>
          </p:cNvPr>
          <p:cNvSpPr/>
          <p:nvPr/>
        </p:nvSpPr>
        <p:spPr>
          <a:xfrm>
            <a:off x="598320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8920" y="91728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方正琥珀简体"/>
                <a:ea typeface="方正琥珀简体"/>
              </a:rPr>
              <a:t>作者简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932000" y="2205000"/>
            <a:ext cx="38862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楷体_GB2312"/>
              </a:rPr>
              <a:t>普希金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俄罗斯诗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9" descr="Pu"/>
          <p:cNvPicPr/>
          <p:nvPr/>
        </p:nvPicPr>
        <p:blipFill>
          <a:blip r:embed="rId1"/>
          <a:stretch/>
        </p:blipFill>
        <p:spPr>
          <a:xfrm>
            <a:off x="333360" y="476280"/>
            <a:ext cx="459900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0" y="17157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普希金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0" y="3041640"/>
            <a:ext cx="4114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1799-183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B107"/>
          <p:cNvPicPr/>
          <p:nvPr/>
        </p:nvPicPr>
        <p:blipFill>
          <a:blip r:embed="rId1"/>
          <a:stretch/>
        </p:blipFill>
        <p:spPr>
          <a:xfrm>
            <a:off x="950760" y="503280"/>
            <a:ext cx="376560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3560" y="979200"/>
            <a:ext cx="4042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普希金塑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440" y="1989000"/>
            <a:ext cx="38862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他的创作对俄国文学和语言影响很大，是现代标准俄语的创始人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aa20"/>
          <p:cNvPicPr/>
          <p:nvPr/>
        </p:nvPicPr>
        <p:blipFill>
          <a:blip r:embed="rId1"/>
          <a:srcRect l="0" t="0" r="0" b="8008"/>
          <a:stretch/>
        </p:blipFill>
        <p:spPr>
          <a:xfrm>
            <a:off x="5049720" y="907920"/>
            <a:ext cx="369900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希金塑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4200" y="2204640"/>
            <a:ext cx="3853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代表作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自由颂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致恰达耶夫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致大海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ss3">
            <a:hlinkClick r:id="rId1"/>
          </p:cNvPr>
          <p:cNvPicPr/>
          <p:nvPr/>
        </p:nvPicPr>
        <p:blipFill>
          <a:blip r:embed="rId2"/>
          <a:srcRect l="0" t="0" r="0" b="7798"/>
          <a:stretch/>
        </p:blipFill>
        <p:spPr>
          <a:xfrm>
            <a:off x="4556160" y="836640"/>
            <a:ext cx="3965400" cy="5329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普希金话剧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普希金话剧院"/>
          <p:cNvPicPr/>
          <p:nvPr/>
        </p:nvPicPr>
        <p:blipFill>
          <a:blip r:embed="rId1"/>
          <a:srcRect l="0" t="0" r="0" b="5350"/>
          <a:stretch/>
        </p:blipFill>
        <p:spPr>
          <a:xfrm>
            <a:off x="1079640" y="1773360"/>
            <a:ext cx="6984720" cy="452412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8199"/>
          <p:cNvSpPr/>
          <p:nvPr/>
        </p:nvSpPr>
        <p:spPr>
          <a:xfrm>
            <a:off x="2844720" y="155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希金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ss47"/>
          <p:cNvPicPr/>
          <p:nvPr/>
        </p:nvPicPr>
        <p:blipFill>
          <a:blip r:embed="rId1"/>
          <a:srcRect l="0" t="0" r="0" b="10363"/>
          <a:stretch/>
        </p:blipFill>
        <p:spPr>
          <a:xfrm>
            <a:off x="1746360" y="1916280"/>
            <a:ext cx="5651280" cy="4238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0400" y="1060200"/>
            <a:ext cx="52768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朗读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45800" y="2346480"/>
            <a:ext cx="741348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假如生活欺骗了你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不要悲伤，不要心急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!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忧郁的日子里需要镇静：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相信吧，快乐的日子将会来临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12:59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16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