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coin.wav" ContentType="audio/x-wav"/>
  <Override PartName="/ppt/media/image22.jpeg" ContentType="image/jpeg"/>
  <Override PartName="/ppt/media/cashreg.wav" ContentType="audio/x-wav"/>
  <Override PartName="/ppt/media/image1.jpeg" ContentType="image/jpeg"/>
  <Override PartName="/ppt/media/image35.jpeg" ContentType="image/jpeg"/>
  <Override PartName="/ppt/media/image17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0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25.jpeg" ContentType="image/jpeg"/>
  <Override PartName="/ppt/media/image31.jpeg" ContentType="image/jpeg"/>
  <Override PartName="/ppt/media/image4.jpeg" ContentType="image/jpeg"/>
  <Override PartName="/ppt/media/image26.jpeg" ContentType="image/jpeg"/>
  <Override PartName="/ppt/media/m045.WAV" ContentType="audio/x-wav"/>
  <Override PartName="/ppt/media/image32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push.wav" ContentType="audio/x-wav"/>
  <Override PartName="/ppt/media/image23.jpeg" ContentType="image/jpeg"/>
  <Override PartName="/ppt/media/image12.jpeg" ContentType="image/jpeg"/>
  <Override PartName="/ppt/media/wind.wav" ContentType="audio/x-wav"/>
  <Override PartName="/ppt/media/image16.png" ContentType="image/png"/>
  <Override PartName="/ppt/media/camera.wav" ContentType="audio/x-wav"/>
  <Override PartName="/ppt/media/chimes.wav" ContentType="audio/x-wav"/>
  <Override PartName="/ppt/media/image21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typ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91F-9389-41BA-9328-00E9E989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2D3-2C55-4F74-B1CD-87B82B37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5CB-23C1-4FC3-8CBC-6D3AC647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D20-F240-427F-974A-E8269C6C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D35-0DA1-43D3-9396-019DFB02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1F73-07D0-4B47-BF06-7FF1799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972F-4C94-4B3C-BAAB-83159EB1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D3B5-6327-4789-8938-DBCBFCF0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BBA9-AF20-45C2-A5D7-E4D9FCEE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8FAB-E1E6-49BE-936E-342DA1CD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F48C-DD62-492C-8476-B1F26B1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139-646A-4A80-86BA-EA00380B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6EC3-9314-4CF5-8403-B1893B58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3842-254B-43EA-9482-1E5E64BF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3D27-6837-4DAA-AF0D-312EC401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3756-5F6C-48D9-9AC3-9A161C60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48CA-F41B-44B5-A2CD-1B0DE138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1553-C79E-44AC-BA91-6FCD2F04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B662-A77F-43BB-BAF9-F3336171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A305-4126-4C65-937B-DADA16B5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808E-8898-4087-955F-9BAB90B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3297-BC49-40DF-9F8A-5FC808A8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FCE-9656-419E-BE09-7D8F51E6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8B60-FB31-44B5-BD02-633FF13F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07E4-0747-4F77-9595-3152CE0C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9B38-FEF1-4924-AA02-1BEB603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6CA8-CEE3-4791-8C0F-228A49F5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6EFE-C8EB-4E91-8AE2-4E1F0CBA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628B-75D5-4899-AE6D-97A0C5D8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D3F2-E6F3-4130-8FB7-7C8EB094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CA1-E5FF-4DC4-A923-ECCFC2C0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D0C-90E8-41E1-A492-CA0702BC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08E-120A-4241-9827-59A1A365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5F4-616D-4E50-BE0C-310E16E2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626-F359-4B06-A219-2EAF0C5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76D-690C-4E69-8692-DF72E3F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1A7F-764C-4C03-A8BC-00A5B1AC2C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2BA0-0E00-45E4-893A-FB444E5EC4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4947-C1C2-48C3-AF20-92F78B2FCB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045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1031760" y="2205000"/>
            <a:ext cx="69138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江山多娇课件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73000" y="9079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人教新课标 五年级品德与社会上册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347840" y="754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1" name="m04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250920" y="1413000"/>
            <a:ext cx="5148000" cy="3528720"/>
          </a:xfrm>
          <a:prstGeom prst="cloudCallout">
            <a:avLst>
              <a:gd name="adj1" fmla="val 73680"/>
              <a:gd name="adj2" fmla="val 21481"/>
            </a:avLst>
          </a:prstGeom>
          <a:solidFill>
            <a:srgbClr val="ccffcc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我们的母亲河是哪两条？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1" name="Picture 5" descr="男孩在思考"/>
          <p:cNvPicPr/>
          <p:nvPr/>
        </p:nvPicPr>
        <p:blipFill>
          <a:blip r:embed="rId1"/>
          <a:stretch/>
        </p:blipFill>
        <p:spPr>
          <a:xfrm>
            <a:off x="6012000" y="2421000"/>
            <a:ext cx="2936880" cy="416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我知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5" name="Picture 4" descr="200706241935502713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8" name="Picture 4" descr="2007040216403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826920" y="134136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宋体"/>
              </a:rPr>
              <a:t>长江是中国第一长河，全长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宋体"/>
              </a:rPr>
              <a:t>6300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宋体"/>
              </a:rPr>
              <a:t>千米。水量丰富，支流众多，人们利用长江水运输、发电、灌溉，带动了长江流域的经济发展。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810108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11544"/>
                </a:moveTo>
                <a:lnTo>
                  <a:pt x="17806" y="4538"/>
                </a:lnTo>
                <a:lnTo>
                  <a:pt x="17806" y="185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u=972744448,2084245902&amp;gp=1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u=3701819615,3299908064&amp;gp=44"/>
          <p:cNvPicPr/>
          <p:nvPr/>
        </p:nvPicPr>
        <p:blipFill>
          <a:blip r:embed="rId1"/>
          <a:stretch/>
        </p:blipFill>
        <p:spPr>
          <a:xfrm>
            <a:off x="-181080" y="-25560"/>
            <a:ext cx="932508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20030725091056AGMJTI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179280" y="1052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黄河是中国第二长河，全长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宋体"/>
              </a:rPr>
              <a:t>5500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千米。黄河流域在气候、植被、土壤等方面曾是我国自然条件最优越的地区之一，因而成为我国最古老的农耕区。黄河流域是世界著名的古代文明发祥地之一，是孕育中华民族的摇篮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heel/>
    <p:sndAc>
      <p:stSnd>
        <p:snd r:embed="rId2" name="wind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江4"/>
          <p:cNvPicPr/>
          <p:nvPr/>
        </p:nvPicPr>
        <p:blipFill>
          <a:blip r:embed="rId1"/>
          <a:stretch/>
        </p:blipFill>
        <p:spPr>
          <a:xfrm>
            <a:off x="4572000" y="620640"/>
            <a:ext cx="45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江5"/>
          <p:cNvPicPr/>
          <p:nvPr/>
        </p:nvPicPr>
        <p:blipFill>
          <a:blip r:embed="rId2"/>
          <a:stretch/>
        </p:blipFill>
        <p:spPr>
          <a:xfrm>
            <a:off x="0" y="404640"/>
            <a:ext cx="4610160" cy="3191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江6"/>
          <p:cNvPicPr/>
          <p:nvPr/>
        </p:nvPicPr>
        <p:blipFill>
          <a:blip r:embed="rId3"/>
          <a:stretch/>
        </p:blipFill>
        <p:spPr>
          <a:xfrm>
            <a:off x="0" y="3429000"/>
            <a:ext cx="4680000" cy="3209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江8"/>
          <p:cNvPicPr/>
          <p:nvPr/>
        </p:nvPicPr>
        <p:blipFill>
          <a:blip r:embed="rId4"/>
          <a:stretch/>
        </p:blipFill>
        <p:spPr>
          <a:xfrm>
            <a:off x="4572000" y="3573360"/>
            <a:ext cx="4572000" cy="302436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黄河1"/>
          <p:cNvPicPr/>
          <p:nvPr/>
        </p:nvPicPr>
        <p:blipFill>
          <a:blip r:embed="rId1"/>
          <a:stretch/>
        </p:blipFill>
        <p:spPr>
          <a:xfrm>
            <a:off x="0" y="3645000"/>
            <a:ext cx="4680000" cy="295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黄河2"/>
          <p:cNvPicPr/>
          <p:nvPr/>
        </p:nvPicPr>
        <p:blipFill>
          <a:blip r:embed="rId2"/>
          <a:stretch/>
        </p:blipFill>
        <p:spPr>
          <a:xfrm>
            <a:off x="324000" y="0"/>
            <a:ext cx="4321080" cy="354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黄河3"/>
          <p:cNvPicPr/>
          <p:nvPr/>
        </p:nvPicPr>
        <p:blipFill>
          <a:blip r:embed="rId3"/>
          <a:stretch/>
        </p:blipFill>
        <p:spPr>
          <a:xfrm>
            <a:off x="4716360" y="3402000"/>
            <a:ext cx="4427640" cy="345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黄河4"/>
          <p:cNvPicPr/>
          <p:nvPr/>
        </p:nvPicPr>
        <p:blipFill>
          <a:blip r:embed="rId4"/>
          <a:stretch/>
        </p:blipFill>
        <p:spPr>
          <a:xfrm>
            <a:off x="4716360" y="0"/>
            <a:ext cx="44276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3553200" y="766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们的母亲河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250920" y="1557360"/>
            <a:ext cx="871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母亲河养育了我们，但我们开发和利用母亲河的时候，却忽略了对母亲河的保护。母亲河脏了、浑了、丑了！人们开始反思自己的行为，为母亲河重新梳妆。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539640" y="1484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我们能为保护母亲河做什么？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0" name="Picture 9" descr="给黄河母亲塑像洗脸洗澡"/>
          <p:cNvPicPr/>
          <p:nvPr/>
        </p:nvPicPr>
        <p:blipFill>
          <a:blip r:embed="rId1"/>
          <a:stretch/>
        </p:blipFill>
        <p:spPr>
          <a:xfrm>
            <a:off x="611280" y="2205000"/>
            <a:ext cx="7600680" cy="439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自学提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9280" y="1341000"/>
            <a:ext cx="8964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自学课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52-55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页，思考：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世界的地形分哪几种？在我国都有分布吗？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你能在地图上划出四大高原、四大盆地、三大平原、主要丘陵、主要河流、主要岛屿吗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为什么长江、黄河的水是向东流的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多样的地形，地貌对我们的生产，生活有那些好处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们的母亲河是哪两条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770640" y="33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们的母亲河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79280" y="1268280"/>
            <a:ext cx="871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经过精心治理，青海省段的黄河水逐渐变清，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黄土地重披绿装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3" name="Picture 10" descr="2007103109202223083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2246760" y="1752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们的母亲河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5" name="Picture 4" descr="黄河上的彩虹"/>
          <p:cNvPicPr/>
          <p:nvPr/>
        </p:nvPicPr>
        <p:blipFill>
          <a:blip r:embed="rId1"/>
          <a:stretch/>
        </p:blipFill>
        <p:spPr>
          <a:xfrm>
            <a:off x="1523880" y="2452680"/>
            <a:ext cx="5410440" cy="39481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7160040" y="2895480"/>
            <a:ext cx="39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黄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河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上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的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彩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虹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246760" y="1752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们的母亲河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8" name="Picture 4" descr="黄河景观"/>
          <p:cNvPicPr/>
          <p:nvPr/>
        </p:nvPicPr>
        <p:blipFill>
          <a:blip r:embed="rId1"/>
          <a:stretch/>
        </p:blipFill>
        <p:spPr>
          <a:xfrm>
            <a:off x="1600200" y="2503440"/>
            <a:ext cx="5334120" cy="38210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 flipH="1">
            <a:off x="7086600" y="3276720"/>
            <a:ext cx="61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黄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河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景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Times New Roman"/>
              </a:rPr>
              <a:t>神  游  祖  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在祖国大地上，有着许多美丽的景色。我们现在就一起去看一看我国最大的咸水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青海湖，洁白纯净的吉林雾凇，青翠欲滴的杭州西湖，质朴粗犷的新疆戈壁大沙漠。还有我国被列入世界自然遗产名录的武夷山、泰山、黄山、九寨沟、黄龙、武陵源、峨眉山等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14" name="Picture 4" descr="0096ac04b95e6f8934"/>
          <p:cNvPicPr/>
          <p:nvPr/>
        </p:nvPicPr>
        <p:blipFill>
          <a:blip r:embed="rId1"/>
          <a:stretch/>
        </p:blipFill>
        <p:spPr>
          <a:xfrm>
            <a:off x="0" y="0"/>
            <a:ext cx="4427640" cy="666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91106082df4c1cc2b7"/>
          <p:cNvPicPr/>
          <p:nvPr/>
        </p:nvPicPr>
        <p:blipFill>
          <a:blip r:embed="rId2"/>
          <a:stretch/>
        </p:blipFill>
        <p:spPr>
          <a:xfrm>
            <a:off x="4932360" y="0"/>
            <a:ext cx="411804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4289040" y="404640"/>
            <a:ext cx="729000" cy="66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青海湖是我国最大的咸水湖。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19" name="Picture 4" descr="386dbf9d649e8127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468360" y="1557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Arial"/>
                <a:ea typeface="宋体"/>
              </a:rPr>
              <a:t>吉林雾凇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3" name="Picture 4" descr="229964e83d5a34d535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1619280" y="155736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西湖</a:t>
            </a:r>
            <a:endParaRPr b="1" lang="en-US" sz="5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7" name="Picture 4" descr="2f1cb2cac9781b1b8f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e674728f87d542d9c1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3276720" y="184464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9900"/>
                </a:solidFill>
                <a:latin typeface="Arial"/>
                <a:ea typeface="宋体"/>
              </a:rPr>
              <a:t>沙 漠</a:t>
            </a:r>
            <a:endParaRPr b="1" lang="en-US" sz="7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2" name="Picture 4" descr="229964e83d5a34d535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619280" y="155736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宋体"/>
              </a:rPr>
              <a:t>西湖</a:t>
            </a:r>
            <a:endParaRPr b="1" lang="en-US" sz="5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Times New Roman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Times New Roman"/>
                <a:ea typeface="宋体"/>
                <a:hlinkClick r:id="rId3"/>
              </a:rPr>
              <a:t>模板网站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7" name="Picture 4" descr="d4cb9d8335ebba11a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19280" y="1197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Arial"/>
                <a:ea typeface="宋体"/>
              </a:rPr>
              <a:t>九     寨      沟</a:t>
            </a:r>
            <a:endParaRPr b="1" lang="en-US" sz="9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39640" y="5157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九寨沟有“鸟在水中飞，鱼在天上游”之称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794840" y="3106080"/>
            <a:ext cx="3081240" cy="1681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cc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3400"/>
                </a:solidFill>
                <a:latin typeface="Times New Roman"/>
              </a:rPr>
              <a:t>高原，盆地，平原，丘陵，岛屿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24000" y="1413000"/>
            <a:ext cx="4679640" cy="2736720"/>
          </a:xfrm>
          <a:prstGeom prst="cloudCallout">
            <a:avLst>
              <a:gd name="adj1" fmla="val -34634"/>
              <a:gd name="adj2" fmla="val 71981"/>
            </a:avLst>
          </a:prstGeom>
          <a:solidFill>
            <a:srgbClr val="ccffcc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世界的地形分哪几种？</a:t>
            </a: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81080" y="189000"/>
            <a:ext cx="439272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42" name="Picture 4" descr="2c8d8054519a6b7a9c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e2f04967a8abe41e41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2050920" y="1557360"/>
            <a:ext cx="55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黄山四绝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宋体"/>
              </a:rPr>
              <a:t>—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怪石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heel/>
    <p:sndAc>
      <p:stSnd>
        <p:snd r:embed="rId3" name="chimes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3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47" name="Picture 4" descr="632c9e93fdeb838d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1908000" y="155736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Arial"/>
                <a:ea typeface="宋体"/>
              </a:rPr>
              <a:t>黄山四绝</a:t>
            </a:r>
            <a:r>
              <a:rPr b="0" lang="en-US" sz="4800" spc="-1" strike="noStrike">
                <a:solidFill>
                  <a:srgbClr val="66ff33"/>
                </a:solidFill>
                <a:latin typeface="Arial"/>
                <a:ea typeface="宋体"/>
              </a:rPr>
              <a:t>—</a:t>
            </a:r>
            <a:r>
              <a:rPr b="0" lang="zh-CN" sz="4800" spc="-1" strike="noStrike">
                <a:solidFill>
                  <a:srgbClr val="66ff33"/>
                </a:solidFill>
                <a:latin typeface="Arial"/>
                <a:ea typeface="宋体"/>
              </a:rPr>
              <a:t>奇松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ashreg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3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51" name="Picture 4" descr="14ee4b1231798e0b11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21e39bf56ff9a60847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1979640" y="170028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Arial"/>
                <a:ea typeface="宋体"/>
              </a:rPr>
              <a:t>黄山四绝</a:t>
            </a:r>
            <a:r>
              <a:rPr b="0" lang="en-US" sz="4800" spc="-1" strike="noStrike">
                <a:solidFill>
                  <a:srgbClr val="00ff00"/>
                </a:solidFill>
                <a:latin typeface="Arial"/>
                <a:ea typeface="宋体"/>
              </a:rPr>
              <a:t>—</a:t>
            </a:r>
            <a:r>
              <a:rPr b="0" lang="zh-CN" sz="4800" spc="-1" strike="noStrike">
                <a:solidFill>
                  <a:srgbClr val="00ff00"/>
                </a:solidFill>
                <a:latin typeface="Arial"/>
                <a:ea typeface="宋体"/>
              </a:rPr>
              <a:t>云 海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3" name="coin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187280" y="476280"/>
            <a:ext cx="6193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57" name="Picture 5" descr="dbb35261981e1d397e"/>
          <p:cNvPicPr/>
          <p:nvPr/>
        </p:nvPicPr>
        <p:blipFill>
          <a:blip r:embed="rId1"/>
          <a:stretch/>
        </p:blipFill>
        <p:spPr>
          <a:xfrm>
            <a:off x="-108000" y="-368280"/>
            <a:ext cx="9252000" cy="7226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1619280" y="285264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黄山四绝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宋体"/>
              </a:rPr>
              <a:t>——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温泉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push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堂清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1142640"/>
            <a:ext cx="892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会填：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我国的地势是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。因此，长江黄河水是向东流的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我国四大高原分别是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_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__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__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。三大平原分别是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__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_______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. ______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是中国第一长河，全长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千米。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是我国第二长河，全场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千米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我国两大岛屿分别是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_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2916360" y="1628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高东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4211640" y="2781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140360" y="270828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青藏高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443640" y="2781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蒙古高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95280" y="328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土高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916360" y="3284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云贵高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68360" y="378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北平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2843280" y="378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华北平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5219640" y="378936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江中下游平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39640" y="43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5941080" y="4365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300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539640" y="4869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河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868000" y="4869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500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4429080" y="544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海南岛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6588000" y="544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台湾岛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3E21-FF4F-4B95-A37D-196C27A9BD97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2712600" y="1603440"/>
            <a:ext cx="21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找一找母亲河的风光图片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3461400" y="2179800"/>
            <a:ext cx="15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讲一讲与母亲河有关的故事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678120" y="275580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唱一唱与母亲河有关的歌曲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2917080" y="3259080"/>
            <a:ext cx="21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吟一吟与母亲河有关的诗词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1332000" y="333360"/>
            <a:ext cx="45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课外作业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3845520" y="3741840"/>
            <a:ext cx="13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 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收集祖国风光的图片、资料。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4" name="Picture 4" descr="复件 20051224211018336"/>
          <p:cNvPicPr/>
          <p:nvPr/>
        </p:nvPicPr>
        <p:blipFill>
          <a:blip r:embed="rId1"/>
          <a:stretch/>
        </p:blipFill>
        <p:spPr>
          <a:xfrm>
            <a:off x="395280" y="189000"/>
            <a:ext cx="8209080" cy="6351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124000" y="5445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你能在地图上找到四大高原、四大盆地、三大平原、主要河流和岛屿吗？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556000" y="404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宋体"/>
              </a:rPr>
              <a:t>你看了这幅山脉地图后你能想象出我国的主要地形吗？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812000" y="333360"/>
            <a:ext cx="459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8105040" y="476280"/>
            <a:ext cx="454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有高原、盆地、平原、丘陵、河流、岛屿等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1" name="Picture 4" descr="py"/>
          <p:cNvPicPr/>
          <p:nvPr/>
        </p:nvPicPr>
        <p:blipFill>
          <a:blip r:embed="rId1"/>
          <a:stretch/>
        </p:blipFill>
        <p:spPr>
          <a:xfrm>
            <a:off x="-181080" y="7920"/>
            <a:ext cx="9826560" cy="6850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971640" y="24210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Arial"/>
                <a:ea typeface="宋体"/>
              </a:rPr>
              <a:t>塔里木盆地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771640" y="29973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Arial"/>
                <a:ea typeface="宋体"/>
              </a:rPr>
              <a:t>柴达木盆地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500720" y="443700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Arial"/>
                <a:ea typeface="宋体"/>
              </a:rPr>
              <a:t>四川盆地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340000" y="1413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Arial"/>
                <a:ea typeface="宋体"/>
              </a:rPr>
              <a:t>准葛尔盆地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692360" y="350028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青藏高原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500720" y="5084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云贵高原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859280" y="306864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黄土高原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067280" y="227664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4140360" y="23493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内      蒙     古    高     原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140360" y="37162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黄河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5292720" y="4437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长江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692360" y="595008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为什么长江、黄河的水是向东流的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948360" y="54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黑龙江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769000" y="522936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5948640" y="5300640"/>
            <a:ext cx="423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珠江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7529760" y="5084640"/>
            <a:ext cx="423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ff00"/>
                </a:solidFill>
                <a:latin typeface="Arial"/>
                <a:ea typeface="宋体"/>
              </a:rPr>
              <a:t>台湾岛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651640" y="63817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ff00"/>
                </a:solidFill>
                <a:latin typeface="Arial"/>
                <a:ea typeface="宋体"/>
              </a:rPr>
              <a:t>海南岛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7956720" y="2133720"/>
            <a:ext cx="458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7743240" y="1844640"/>
            <a:ext cx="91188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我国的地势是西高东低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79280" y="1185840"/>
            <a:ext cx="896472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国主要的地形、地貌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四大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高原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青藏高原、内蒙古高原、黄土高原、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云贵高原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四大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盆地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：塔里木盆地、准噶尔盆地、柴达木盆地、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四川盆地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三大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平原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：东北平原、华北平原、长江中下游平原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主要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丘陵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：辽东丘陵、山东丘陵、东南丘陵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主要河流：长江、黄河、珠江、黑龙江……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主要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岛屿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：台湾岛、海南岛……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……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42920" y="33336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记一记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888123780498"/>
          <p:cNvPicPr/>
          <p:nvPr/>
        </p:nvPicPr>
        <p:blipFill>
          <a:blip r:embed="rId1"/>
          <a:stretch/>
        </p:blipFill>
        <p:spPr>
          <a:xfrm>
            <a:off x="0" y="1119240"/>
            <a:ext cx="8964720" cy="5738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宋体"/>
              </a:rPr>
              <a:t>我国的地形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250920" y="112536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想一想，多样的地形、地貌对我们的生产、生活有哪些好处？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132000" y="33336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畅所欲言</a:t>
            </a: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468360" y="3284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平原为我们提供了耕地；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高原为我们发展牧业创造了良好的条件；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山地为我们带来了丰富的矿藏等等；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395280" y="198900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气候上，西高东低地势使海洋上湿润空气深入内地，供应大量水汽有利于农业生产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交通上，使许多大河滚滚东流，方便了我国东西交通，也方便了我国沿海和内地的联系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水力资源上，许多大河从高一级阶梯流入低一级阶梯，水流湍急，水量又丰富，这样水能就十分巨大了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这样使得我国能够从各方面满足人们生产和生活的需求。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8T05:42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43Z</dcterms:modified>
  <cp:revision>8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