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explode.wav" ContentType="audio/x-wav"/>
  <Override PartName="/ppt/media/image6.png" ContentType="image/png"/>
  <Override PartName="/ppt/media/image7.jpeg" ContentType="image/jpeg"/>
  <Override PartName="/ppt/media/camera.wav" ContentType="audio/x-wav"/>
  <Override PartName="/ppt/media/image10.gif" ContentType="image/gif"/>
  <Override PartName="/ppt/media/image12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3.jpeg" ContentType="image/jpeg"/>
  <Override PartName="/ppt/media/carbrake.wav" ContentType="audio/x-wav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1D513-E97F-4066-A65E-D723AD08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CBF25-D1A5-4CCF-A86C-AEF41208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CAD21-8E88-4E0F-8874-C87965AE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B3A63-1C64-4D91-9B87-9EC61584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ED1AE-8D06-460D-8275-FCF9BBF7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0C1B3-FBD7-4C81-B486-966BB806C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F4694-D6EB-4256-B1E6-0CF5910D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82F29D-4D50-4082-A8DC-EAB7FA31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AD266-E96C-471A-A1CE-89525ABE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1CCB8-2516-4E3B-9E92-95B6F620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A17F8-4094-4947-984A-B5C0DD038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64968-435B-4C59-BBA2-1C60978A4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5A36-B493-4615-9F25-724BBC54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E264E-D578-424A-A7BA-FABB252C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DBD6D-9B09-45C8-8405-59FFEB34F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12612-43F2-4589-B419-C26FA3BD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15194-77A7-4282-B4AC-EF735166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A504F-E639-4E4C-A609-86C88E90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B67F3C-719F-4A03-B108-949F9F7A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F3370-0C77-41E2-A8B0-82EE1E7A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B8CE8-886B-4ECF-80D0-A7217A2E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1A6BD-7AE9-40D8-A20C-C45BF38AB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4D78FA-DE6F-44F3-BE47-7F1871C2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B7091-1CA4-4F86-8F80-B57150786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90674-3111-439D-A335-A5C7C1D1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801A6-9727-4D0C-B4E4-2F982CA98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BDFD2-5E26-48B7-93FE-74ABE76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4F9E9-1B1E-4942-B282-2798404A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97AC37-45F8-446E-B7B4-BEE0E4756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1EF95E-48CF-47CF-8702-F683C920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B932F-83B5-437A-AA7A-4B4037B1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C201B-8F09-401E-8EBB-DB1CFD15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EAFE6-0EE3-49E0-B438-92C6B56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C7548-2A37-4DA9-A547-5E7A9544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DE0D-407B-498E-AF76-3C20A99E2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0FEEB-522D-410A-A3C9-1ADC133D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0071D-BD77-4A33-8792-90541FDD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56EEE-8440-41CE-9574-334BCF8F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987BC-2857-4883-900E-0BD07FC8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6904F-A0A6-47AC-8EBD-C085B4F9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BB93F-6FC3-4C39-BB00-230FDDD4D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E791B-81A1-4DB1-BA18-980BA4EB5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989B4-87C0-4884-BE30-71C2DA13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FCB24-9BBD-47BC-9875-3DC95631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51BD2-ADCB-4726-8632-362DEADE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23CB-34C1-46DA-9DDA-83E2E1E7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50839-C1CC-4F47-9DF0-C13A94F5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6F4F6-E151-43E2-897A-4EEF1D87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4FE140-D563-4E94-B833-502C71F2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D3E6F-C23B-4DF6-89BF-19463F5D1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B72F0-98DF-471C-B107-265D5D38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D3186C-9462-4C4A-8A08-4F6F39061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2209F6-2BCE-46D8-ABE5-C8F6EAA5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195F78-A073-4EA4-8FE7-0A035D3F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B26A44E-633F-4A22-BCEF-E2F70201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68E7C5-C4F8-4E4B-A23F-463C137A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0AA0-3EC1-45BF-99BC-5BCD3F2C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37DE16-10F1-4CE2-A51D-AEBB9132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22EFDE6-BCB0-4698-B41B-E4B38D06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8956B41-75B1-4F81-9FDF-9FD1653A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904E67-0C37-4DB6-8A80-6927A66D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22A0D1-C89D-471A-921F-D6B3F193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9FF1D5-13A7-4D28-B308-E7A669F8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FCE12F-D4DD-4AFE-9E0C-32BB26AA6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59FBB5-79CE-4813-BB50-A4F53C29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1EB3F6-D31B-418E-B40C-7A8A8E87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D6D2DB-13A9-42F2-8F83-F3E675DF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D92A-1FAF-4F45-B37B-ED30CC58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D2EB0C-7EA2-46A3-9B40-683A055F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5E72BB-063C-4B8A-B414-257DF09D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9E818D-9B60-4989-BD17-FCB4E170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21CCC-2535-41AE-8DB0-04E6B898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1DB416-AC6A-40A2-BF30-526B67FF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CA7D0F-C82D-4D5C-933F-0BCF786D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5FEE1-4F34-4F1B-8330-37A4659B9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DA2EA5-E8DA-4A88-8A25-BEA5C2E50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AA44E-B3E0-438D-86CE-A9BAAA70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32CE8F-3515-4CAD-832E-58D17DB46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E2F9-79B0-4ACA-93E1-42942451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B4B03A-EC6B-4EE3-8CC1-9E83421C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9743DE-5C34-4A19-9A42-CC40DACF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8D15C8-5961-42CB-B049-C2E0A69C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619921-9BC0-4ABA-BAE5-1A22D3C67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1EFCD7-A5D5-4D3A-A69F-13F0F6D2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B9F982-8CAD-4732-AF66-4EB4E2AE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7BD93-4BFB-4BA3-8A62-545A49CC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7D7BF-5CAC-48A6-8B36-D6DD3148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EF1130-9E4D-4387-A70A-89E1E1C0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F61F85-0BDB-442B-B1BE-D28D686E0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9F9D-7C2B-4FEA-A8D9-4F83D538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97221C-7DAB-4B78-BD3B-BCBE475B2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55F8B-02A8-4231-937C-6D69700C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08893-972F-4519-ACE3-9D0A0A4B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1AEC-E242-4ABC-B9B5-AC738FC7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0366D-F9EF-4433-A073-D6C28396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2CE3-43F9-4980-894E-C58FBD14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25D8-3FA2-4136-9826-1B12BBECA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61068-CA7D-4F59-98A4-4C893F237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E7F94-0D09-4127-A1C6-32081D9D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BD04D-E724-40C7-B938-AA691DEF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30E2F-FE7B-4AB7-8C0F-7472C794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34659-F95D-48F2-9C6F-9C8BFB66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831B-14BA-4A64-81B2-B40F1E75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3BF13-68C8-44CE-A843-52B69836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DCE2-733D-4F04-B93B-4B4DE414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B50F-AEA0-4353-BE39-6A4C7CED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085D-F66A-48E5-A45E-9CC08756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3B984-75D9-4FE0-96C0-D3EC74E5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1FFEE-97A2-4032-92C1-0B6B4368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8E1A-B54C-440F-97EA-0B603E0F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51547-7487-4E0A-B964-1264D0577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F83DC-4157-4FDA-9E02-B35012AE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5636A-3213-48AA-B42C-730E2DEB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5C11C-71E8-4B10-8C3E-BEDBA4BE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E3FAE-0C6E-4841-B2AB-9A5F8BB5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FE8A9-F9B2-4441-9CB1-EBB215B9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59C31-5789-4AAC-86F6-D6473007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CCB3A-50D9-4EB0-9018-68D00C2D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AC30E-5CE2-4F16-86CC-3FEAE15C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E5666-86E0-4F70-B791-3BD310D0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4EFA6-905D-4348-B830-F0794424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E8327-E6A4-4DA9-9CD7-7D297BC6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D9CC-292F-4CF2-BDAA-36FD86496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07557-2595-44C3-8B3A-3132E81A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21075-615C-45E5-A083-E7FF610D7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14CB-11CF-4A8C-81F3-3571618B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CB75D-2C53-4B24-BB2B-0AD61855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7A83A-682F-4239-B1A8-4715396A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056F6-5F23-4C6C-85E3-A5E2B900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55886-BFB7-4E84-9E22-3D819A9C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E6B64-7365-4D8F-B665-D64095C5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E6769-1AEC-4925-97FF-FEC865A2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BCFF9-98C4-48A9-AAEC-D6B17C0D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BF06A-BA18-49D9-B867-F0700A937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AF6C0-A93F-4787-9E76-DF254E93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D5982-FC8B-4EAE-93B7-A7BF5C32E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47ECE-E4DB-4D49-936C-E8AC7A79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F855E-9376-4284-9BDE-A38491063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45009-E6F2-4F13-B4B9-25DDDFE3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A8327-4B64-473B-B32A-B66001C4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A3BE7-5D4E-4E13-AAA2-963180E97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D6AE6-0D23-47A4-9A82-C16B7504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15763-C747-447C-B04F-50DBA352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D49C1-DA1D-4D83-BD29-BBA283B0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F6479-8642-40E3-B869-BD16AF80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372EC-0CF1-41D6-A5A8-685B0433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8FECF-313D-4559-A8DE-EA0EC228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EE7B-415F-487E-B194-4C16F01D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2E672-A843-41AB-85C6-912ADB39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15E98-44E2-491D-9EBD-471EC38E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C688B-3880-4D97-9265-36904BE0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644EA-B31C-4115-B7A8-05496040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48D43-8570-4FF4-96F9-BBD74CA3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2BE8F-CCBC-487E-B21A-390D599B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3A45D-7529-4F11-9745-66FA4724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7D225-87F2-492F-BD6D-24D99210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F7BEA-A36B-4AA8-8532-B385A38E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A2AC5-C614-4B58-8EA2-0361A2D7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7F7D3-5E2C-4FD8-BE52-0F99DBAA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6AEB3-6094-48E7-853E-06F8C3C44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980ED-E760-4A22-ADB7-EA2C7E03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11536-5BD4-40F1-AF51-498FEE5F1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849F1-51DF-4AF0-8A71-5AFC2687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78F80-D744-44F6-BDFF-434BC335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E8F66-1D04-4B90-87C6-AE4B3E79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DECD1-60EB-49E4-A2E5-75DA1BAE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38B38-75CC-43DE-A1A6-E626B1A8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4C3F9-B2CD-4040-98F6-2AAFAF35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63905-D798-465F-AE82-939E0723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DCA0D-A12A-484D-BB09-C6C25A30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914400" y="1544760"/>
            <a:ext cx="7315200" cy="535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A5D3B-F3C8-42EB-8FAF-FFFC36B2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FA9D7-C6AE-4CA2-84CB-7C176F5E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911D7-0BBF-45AF-A513-454B34AF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F5869-69ED-41DC-9A49-A62437DC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914400" y="4618080"/>
            <a:ext cx="731520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4BEE53-6BF7-4691-B218-59EF6B04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3080" y="276984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63080" y="4618080"/>
            <a:ext cx="356976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4169C-9491-4181-9456-B3D04183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3876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860800" y="276984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9144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3876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860800" y="4618080"/>
            <a:ext cx="2355120" cy="16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91C0E-B1A9-41BE-A36C-A8160F9C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3465F-09BC-43F7-9E5E-32C8A388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2806D-13FB-4989-8B38-7A51A086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2EA99-BA1D-4677-A44F-A060A593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D14F-F39E-4FFB-A717-71153748D65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69A2-A24F-435D-87A3-FBBA1C7FA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C028-A973-4A06-949A-8EB59F214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31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32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3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2CBD-C1CB-44CC-90B4-9BECF9B35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4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5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6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86D4-5E95-4196-BA88-E1F3D56C60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AD33-FF58-4DA6-AB58-7DFE1D720E1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7699-6AD6-45F9-973C-22E14C110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ftr" idx="39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7EBA-BB2C-4A0D-99D0-D0EE1B3C5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A8F9-FE25-45CF-86F6-98D96F8CAC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EE63-E7C4-4C7B-BEBA-FC631B48ADF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61C8-C065-431B-9A63-52BDA2395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0798-8E7A-4A0A-923B-95022D07F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6345-1595-4784-8837-000133093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0B2E-046D-4EC2-B859-8A656B2DA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D159-F0CC-4A69-87A7-0B3E20F03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584C-94AF-469B-8487-63432395A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b4171"/>
            </a:gs>
            <a:gs pos="100000">
              <a:srgbClr val="1f5d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9"/>
          <p:cNvSpPr/>
          <p:nvPr/>
        </p:nvSpPr>
        <p:spPr>
          <a:xfrm>
            <a:off x="8435880" y="573120"/>
            <a:ext cx="8568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10"/>
          <p:cNvSpPr/>
          <p:nvPr/>
        </p:nvSpPr>
        <p:spPr>
          <a:xfrm>
            <a:off x="8569440" y="573120"/>
            <a:ext cx="576000" cy="5731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20760" indent="59364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503280" indent="4111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731880" indent="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960480" indent="-4608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960480" indent="-4608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6006600" y="549360"/>
            <a:ext cx="118908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6008760" y="855720"/>
            <a:ext cx="2246400" cy="301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7314840" y="549360"/>
            <a:ext cx="939960" cy="3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EACB-3783-43DD-8646-AD57564A4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4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C:\Documents and Settings\Founder\Local Settings\Temp\Rar$DI00.929\&#20869;&#20998;&#27852;&#33146;.swf" TargetMode="External"/><Relationship Id="rId2" Type="http://schemas.openxmlformats.org/officeDocument/2006/relationships/hyperlink" Target="C:\Documents and Settings\Founder\Local Settings\Temp\Rar$DI00.929\&#22806;&#20998;&#27852;&#33146;.swf" TargetMode="External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4.jpeg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611280" y="150480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第四节 激素调节</a:t>
            </a:r>
            <a:r>
              <a:rPr b="1" lang="en-US" sz="4000" spc="-1" strike="noStrike">
                <a:solidFill>
                  <a:srgbClr val="ff33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  <a:ea typeface="宋体"/>
              </a:rPr>
              <a:t>课件免费下载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矩形 1"/>
          <p:cNvSpPr/>
          <p:nvPr/>
        </p:nvSpPr>
        <p:spPr>
          <a:xfrm>
            <a:off x="2853000" y="692280"/>
            <a:ext cx="342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六章   人体生命活动的调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5" name="图片 2" descr=""/>
          <p:cNvPicPr/>
          <p:nvPr/>
        </p:nvPicPr>
        <p:blipFill>
          <a:blip r:embed="rId1"/>
          <a:stretch/>
        </p:blipFill>
        <p:spPr>
          <a:xfrm>
            <a:off x="2509920" y="2852640"/>
            <a:ext cx="4108320" cy="301968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533520" y="19051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甲状腺激素能使人和动物的发育提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152280" y="2971800"/>
            <a:ext cx="2743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380880" y="39625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如果甲状腺激素分泌异常时怎样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0" y="380880"/>
            <a:ext cx="2743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结论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2" descr="地方性甲状腺肿"/>
          <p:cNvPicPr/>
          <p:nvPr/>
        </p:nvPicPr>
        <p:blipFill>
          <a:blip r:embed="rId1"/>
          <a:stretch/>
        </p:blipFill>
        <p:spPr>
          <a:xfrm>
            <a:off x="468360" y="404640"/>
            <a:ext cx="4895640" cy="340380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sp>
        <p:nvSpPr>
          <p:cNvPr id="704" name="Text Box 3"/>
          <p:cNvSpPr/>
          <p:nvPr/>
        </p:nvSpPr>
        <p:spPr>
          <a:xfrm>
            <a:off x="7951320" y="-129240"/>
            <a:ext cx="729000" cy="44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地方性甲状腺肿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5" name="Picture 4" descr="pic_78406"/>
          <p:cNvPicPr/>
          <p:nvPr/>
        </p:nvPicPr>
        <p:blipFill>
          <a:blip r:embed="rId2"/>
          <a:stretch/>
        </p:blipFill>
        <p:spPr>
          <a:xfrm>
            <a:off x="3681360" y="2360520"/>
            <a:ext cx="1781280" cy="160344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pic>
        <p:nvPicPr>
          <p:cNvPr id="706" name="Picture 6" descr="返回图标"/>
          <p:cNvPicPr/>
          <p:nvPr/>
        </p:nvPicPr>
        <p:blipFill>
          <a:blip r:embed="rId3"/>
          <a:stretch/>
        </p:blipFill>
        <p:spPr>
          <a:xfrm>
            <a:off x="7848720" y="6226200"/>
            <a:ext cx="12445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360" y="-1522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隶书"/>
              </a:rPr>
              <a:t>资料三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539640" y="836640"/>
            <a:ext cx="8291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1000"/>
              </a:lnSpc>
              <a:spcBef>
                <a:spcPts val="7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一：狗切除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胰腺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后，尿液中出现了葡萄糖，并出现糖尿病病人的一些症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1000"/>
              </a:lnSpc>
              <a:spcBef>
                <a:spcPts val="7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lnSpc>
                <a:spcPct val="81000"/>
              </a:lnSpc>
              <a:spcBef>
                <a:spcPts val="7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实验二：将正常狗的胰管结扎，发现胰腺大部萎缩了，只有内部一团团的细胞──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胰岛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活着，并且尿液中没有出现葡萄糖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5"/>
          <p:cNvSpPr/>
          <p:nvPr/>
        </p:nvSpPr>
        <p:spPr>
          <a:xfrm>
            <a:off x="826920" y="443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此实验说明：可能是胰岛分泌一种能够调节糖的吸收和利用的物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5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实验三：加拿大科学家班廷从狗的胰岛中提取出了胰岛素，用胰岛素治疗患糖尿病的狗并获得成功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611280" y="3789360"/>
            <a:ext cx="79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此实验说明：胰岛素是由胰岛分泌的，胰岛素能调节糖的吸收和利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Arial"/>
                <a:ea typeface="隶书"/>
              </a:rPr>
              <a:t>几种激素的作用及缺乏时的病症</a:t>
            </a:r>
            <a:endParaRPr b="0" lang="en-US" sz="3600" spc="-1" strike="noStrike">
              <a:solidFill>
                <a:srgbClr val="eeece1"/>
              </a:solidFill>
              <a:latin typeface="Arial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0" y="609480"/>
          <a:ext cx="8964720" cy="6130800"/>
        </p:xfrm>
        <a:graphic>
          <a:graphicData uri="http://schemas.openxmlformats.org/drawingml/2006/table">
            <a:tbl>
              <a:tblPr/>
              <a:tblGrid>
                <a:gridCol w="1054080"/>
                <a:gridCol w="1206360"/>
                <a:gridCol w="3389400"/>
                <a:gridCol w="3314880"/>
              </a:tblGrid>
              <a:tr h="990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隶书"/>
                        </a:rPr>
                        <a:t>激素名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隶书"/>
                        </a:rPr>
                        <a:t>产生部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隶书"/>
                        </a:rPr>
                        <a:t>作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  <a:ea typeface="隶书"/>
                        </a:rPr>
                        <a:t>分泌异常时的症状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16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0504d"/>
                          </a:solidFill>
                          <a:latin typeface="Arial"/>
                          <a:ea typeface="隶书"/>
                        </a:rPr>
                        <a:t>生长激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954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0504d"/>
                          </a:solidFill>
                          <a:latin typeface="Arial"/>
                          <a:ea typeface="隶书"/>
                        </a:rPr>
                        <a:t>甲状腺激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0504d"/>
                          </a:solidFill>
                          <a:latin typeface="Arial"/>
                          <a:ea typeface="隶书"/>
                        </a:rPr>
                        <a:t>胰岛素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Text Box 30"/>
          <p:cNvSpPr/>
          <p:nvPr/>
        </p:nvSpPr>
        <p:spPr>
          <a:xfrm>
            <a:off x="1344240" y="1905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垂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31"/>
          <p:cNvSpPr/>
          <p:nvPr/>
        </p:nvSpPr>
        <p:spPr>
          <a:xfrm>
            <a:off x="5867280" y="1523880"/>
            <a:ext cx="27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幼年分泌不足患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侏儒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11430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甲状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33"/>
          <p:cNvSpPr/>
          <p:nvPr/>
        </p:nvSpPr>
        <p:spPr>
          <a:xfrm>
            <a:off x="2362320" y="274320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促进糖和脂肪的氧化分解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促进生长发育（包括神经系统的发育）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提高神经系统的兴奋性促进新陈代谢，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提高神经系统的兴奋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 Box 34"/>
          <p:cNvSpPr/>
          <p:nvPr/>
        </p:nvSpPr>
        <p:spPr>
          <a:xfrm>
            <a:off x="5791320" y="2819520"/>
            <a:ext cx="31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幼年分泌不足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呆          小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泌过多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甲亢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35"/>
          <p:cNvSpPr/>
          <p:nvPr/>
        </p:nvSpPr>
        <p:spPr>
          <a:xfrm>
            <a:off x="1344240" y="5791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胰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Text Box 36"/>
          <p:cNvSpPr/>
          <p:nvPr/>
        </p:nvSpPr>
        <p:spPr>
          <a:xfrm>
            <a:off x="2362320" y="579132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糖的吸收、利用和转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Text Box 37"/>
          <p:cNvSpPr/>
          <p:nvPr/>
        </p:nvSpPr>
        <p:spPr>
          <a:xfrm>
            <a:off x="6591600" y="5586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分泌不足患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糖尿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38"/>
          <p:cNvSpPr/>
          <p:nvPr/>
        </p:nvSpPr>
        <p:spPr>
          <a:xfrm>
            <a:off x="2286000" y="160020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调节人体的生长发育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促进蛋白质合成和骨的生长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Text Box 39"/>
          <p:cNvSpPr/>
          <p:nvPr/>
        </p:nvSpPr>
        <p:spPr>
          <a:xfrm>
            <a:off x="5638680" y="22860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成年分泌过多患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肢端肥大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40"/>
          <p:cNvSpPr/>
          <p:nvPr/>
        </p:nvSpPr>
        <p:spPr>
          <a:xfrm>
            <a:off x="6309000" y="19051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幼年分泌过多患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巨人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41"/>
          <p:cNvSpPr/>
          <p:nvPr/>
        </p:nvSpPr>
        <p:spPr>
          <a:xfrm>
            <a:off x="5791320" y="4038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身体缺碘时，患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地方性甲状腺肿（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大脖子病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Text Box 42"/>
          <p:cNvSpPr/>
          <p:nvPr/>
        </p:nvSpPr>
        <p:spPr>
          <a:xfrm>
            <a:off x="6591600" y="6043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泌过多患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低血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8" name="Picture 45" descr="返回图标"/>
          <p:cNvPicPr/>
          <p:nvPr/>
        </p:nvPicPr>
        <p:blipFill>
          <a:blip r:embed="rId1"/>
          <a:stretch/>
        </p:blipFill>
        <p:spPr>
          <a:xfrm>
            <a:off x="8534520" y="6226200"/>
            <a:ext cx="558720" cy="622440"/>
          </a:xfrm>
          <a:prstGeom prst="rect">
            <a:avLst/>
          </a:prstGeom>
          <a:ln w="0">
            <a:noFill/>
          </a:ln>
        </p:spPr>
      </p:pic>
      <p:sp>
        <p:nvSpPr>
          <p:cNvPr id="729" name="文本框 8200"/>
          <p:cNvSpPr/>
          <p:nvPr/>
        </p:nvSpPr>
        <p:spPr>
          <a:xfrm>
            <a:off x="3333600" y="1089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9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66ff"/>
                </a:solidFill>
                <a:latin typeface="Arial"/>
                <a:ea typeface="隶书"/>
              </a:rPr>
              <a:t>激素调节与神经调节的关系</a:t>
            </a:r>
            <a:endParaRPr b="0" lang="en-US" sz="43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68000" y="299736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当你在特别兴奋或突遇危险的时候，你的心理感受及身体状况会怎样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 Box 4"/>
          <p:cNvSpPr/>
          <p:nvPr/>
        </p:nvSpPr>
        <p:spPr>
          <a:xfrm>
            <a:off x="4378680" y="479736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面红耳赤、心跳加快、血压升高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WordArt 5"/>
          <p:cNvSpPr txBox="1"/>
          <p:nvPr/>
        </p:nvSpPr>
        <p:spPr>
          <a:xfrm>
            <a:off x="539640" y="1844640"/>
            <a:ext cx="2232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想一想：</a:t>
            </a:r>
            <a:endParaRPr b="0" lang="en-US" sz="1800" spc="1" strike="noStrike">
              <a:ln w="12600">
                <a:solidFill>
                  <a:srgbClr val="ffff00"/>
                </a:solidFill>
                <a:round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 txBox="1"/>
          <p:nvPr/>
        </p:nvSpPr>
        <p:spPr>
          <a:xfrm>
            <a:off x="468000" y="3629160"/>
            <a:ext cx="8209080" cy="20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华文彩云"/>
                <a:ea typeface="华文彩云"/>
              </a:rPr>
              <a:t>         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人体的生命活动主要受到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隶书"/>
                <a:ea typeface="隶书"/>
              </a:rPr>
              <a:t>神经系统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的调节，但也受到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隶书"/>
                <a:ea typeface="隶书"/>
              </a:rPr>
              <a:t>激素</a:t>
            </a: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调节的影响。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 Box 3"/>
          <p:cNvSpPr/>
          <p:nvPr/>
        </p:nvSpPr>
        <p:spPr>
          <a:xfrm>
            <a:off x="1333080" y="1138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大脑皮层兴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Text Box 4"/>
          <p:cNvSpPr/>
          <p:nvPr/>
        </p:nvSpPr>
        <p:spPr>
          <a:xfrm>
            <a:off x="4644360" y="1125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促使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肾上腺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分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 Box 5"/>
          <p:cNvSpPr/>
          <p:nvPr/>
        </p:nvSpPr>
        <p:spPr>
          <a:xfrm>
            <a:off x="4407480" y="2205000"/>
            <a:ext cx="66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促使心跳加快、血压升高、血管扩张、面红耳赤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3276720" y="1484280"/>
            <a:ext cx="790560" cy="360"/>
            <a:chOff x="3276720" y="1484280"/>
            <a:chExt cx="790560" cy="360"/>
          </a:xfrm>
        </p:grpSpPr>
        <p:sp>
          <p:nvSpPr>
            <p:cNvPr id="739" name="Line 6"/>
            <p:cNvSpPr/>
            <p:nvPr/>
          </p:nvSpPr>
          <p:spPr>
            <a:xfrm>
              <a:off x="3276720" y="1484280"/>
              <a:ext cx="790560" cy="0"/>
            </a:xfrm>
            <a:prstGeom prst="line">
              <a:avLst/>
            </a:prstGeom>
            <a:ln w="10152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 txBox="1"/>
            <p:nvPr/>
          </p:nvSpPr>
          <p:spPr>
            <a:xfrm>
              <a:off x="3276720" y="1484280"/>
              <a:ext cx="790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7451640" y="1413000"/>
            <a:ext cx="935280" cy="360"/>
            <a:chOff x="7451640" y="1413000"/>
            <a:chExt cx="935280" cy="360"/>
          </a:xfrm>
        </p:grpSpPr>
        <p:sp>
          <p:nvSpPr>
            <p:cNvPr id="742" name="Line 7"/>
            <p:cNvSpPr/>
            <p:nvPr/>
          </p:nvSpPr>
          <p:spPr>
            <a:xfrm>
              <a:off x="7451640" y="1413000"/>
              <a:ext cx="935280" cy="0"/>
            </a:xfrm>
            <a:prstGeom prst="line">
              <a:avLst/>
            </a:prstGeom>
            <a:ln w="10152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 txBox="1"/>
            <p:nvPr/>
          </p:nvSpPr>
          <p:spPr>
            <a:xfrm>
              <a:off x="7451640" y="1413000"/>
              <a:ext cx="9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BED2-C1ED-491C-A8D7-ECD7A3FE912F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WordArt 7"/>
          <p:cNvSpPr txBox="1"/>
          <p:nvPr/>
        </p:nvSpPr>
        <p:spPr>
          <a:xfrm>
            <a:off x="2340000" y="1125360"/>
            <a:ext cx="4608360" cy="33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再见！</a:t>
            </a:r>
            <a:endParaRPr b="0" lang="en-US" sz="8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447840" y="309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学提纲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380880" y="1219320"/>
            <a:ext cx="5562720" cy="44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如何区分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内分泌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外分泌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内分泌系统的组成及其作用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几种主要的激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生长激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甲状腺激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胰岛素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激素调节与神经调节的关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6172200" y="1295280"/>
            <a:ext cx="1371600" cy="825480"/>
            <a:chOff x="6172200" y="1295280"/>
            <a:chExt cx="1371600" cy="825480"/>
          </a:xfrm>
        </p:grpSpPr>
        <p:sp>
          <p:nvSpPr>
            <p:cNvPr id="650" name="AutoShape 5"/>
            <p:cNvSpPr/>
            <p:nvPr/>
          </p:nvSpPr>
          <p:spPr>
            <a:xfrm>
              <a:off x="6172200" y="1295280"/>
              <a:ext cx="1371600" cy="381240"/>
            </a:xfrm>
            <a:custGeom>
              <a:avLst/>
              <a:gdLst>
                <a:gd name="textAreaLeft" fmla="*/ 24480 w 1371600"/>
                <a:gd name="textAreaRight" fmla="*/ 1347120 w 1371600"/>
                <a:gd name="textAreaTop" fmla="*/ 24480 h 381240"/>
                <a:gd name="textAreaBottom" fmla="*/ 356760 h 381240"/>
              </a:gdLst>
              <a:ahLst/>
              <a:rect l="textAreaLeft" t="textAreaTop" r="textAreaRight" b="textAreaBottom"/>
              <a:pathLst>
                <a:path w="77658" h="21600">
                  <a:moveTo>
                    <a:pt x="0" y="0"/>
                  </a:moveTo>
                  <a:lnTo>
                    <a:pt x="77658" y="0"/>
                  </a:lnTo>
                  <a:lnTo>
                    <a:pt x="77658" y="21600"/>
                  </a:lnTo>
                  <a:lnTo>
                    <a:pt x="0" y="21600"/>
                  </a:lnTo>
                  <a:close/>
                </a:path>
                <a:path fill="lightenLess" w="77658" h="21600">
                  <a:moveTo>
                    <a:pt x="0" y="0"/>
                  </a:moveTo>
                  <a:lnTo>
                    <a:pt x="77658" y="0"/>
                  </a:lnTo>
                  <a:lnTo>
                    <a:pt x="76258" y="1400"/>
                  </a:lnTo>
                  <a:lnTo>
                    <a:pt x="1400" y="1400"/>
                  </a:lnTo>
                  <a:close/>
                </a:path>
                <a:path fill="darken" w="77658" h="21600">
                  <a:moveTo>
                    <a:pt x="77658" y="0"/>
                  </a:moveTo>
                  <a:lnTo>
                    <a:pt x="77658" y="21600"/>
                  </a:lnTo>
                  <a:lnTo>
                    <a:pt x="76258" y="20200"/>
                  </a:lnTo>
                  <a:lnTo>
                    <a:pt x="76258" y="1400"/>
                  </a:lnTo>
                  <a:close/>
                </a:path>
                <a:path fill="darkenLess" w="77658" h="21600">
                  <a:moveTo>
                    <a:pt x="7765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6258" y="20200"/>
                  </a:lnTo>
                  <a:close/>
                </a:path>
                <a:path fill="lighten" w="7765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Text Box 6"/>
            <p:cNvSpPr/>
            <p:nvPr/>
          </p:nvSpPr>
          <p:spPr>
            <a:xfrm>
              <a:off x="6324480" y="1295280"/>
              <a:ext cx="121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let’s  go</a:t>
              </a:r>
              <a:r>
                <a:rPr b="1" lang="en-US" sz="2400" spc="-1" strike="noStrike">
                  <a:solidFill>
                    <a:srgbClr val="c0504d"/>
                  </a:solidFill>
                  <a:latin typeface="Times New Roman"/>
                </a:rPr>
                <a:t>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2" name="Group 7"/>
          <p:cNvGrpSpPr/>
          <p:nvPr/>
        </p:nvGrpSpPr>
        <p:grpSpPr>
          <a:xfrm>
            <a:off x="5796000" y="2349360"/>
            <a:ext cx="1728360" cy="459720"/>
            <a:chOff x="5796000" y="2349360"/>
            <a:chExt cx="1728360" cy="459720"/>
          </a:xfrm>
        </p:grpSpPr>
        <p:sp>
          <p:nvSpPr>
            <p:cNvPr id="653" name="AutoShape 8"/>
            <p:cNvSpPr/>
            <p:nvPr/>
          </p:nvSpPr>
          <p:spPr>
            <a:xfrm>
              <a:off x="5796000" y="2349360"/>
              <a:ext cx="1728360" cy="457200"/>
            </a:xfrm>
            <a:custGeom>
              <a:avLst/>
              <a:gdLst>
                <a:gd name="textAreaLeft" fmla="*/ 29520 w 1728360"/>
                <a:gd name="textAreaRight" fmla="*/ 1698840 w 17283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81608" h="21600">
                  <a:moveTo>
                    <a:pt x="0" y="0"/>
                  </a:moveTo>
                  <a:lnTo>
                    <a:pt x="81608" y="0"/>
                  </a:lnTo>
                  <a:lnTo>
                    <a:pt x="81608" y="21600"/>
                  </a:lnTo>
                  <a:lnTo>
                    <a:pt x="0" y="21600"/>
                  </a:lnTo>
                  <a:close/>
                </a:path>
                <a:path fill="lightenLess" w="81608" h="21600">
                  <a:moveTo>
                    <a:pt x="0" y="0"/>
                  </a:moveTo>
                  <a:lnTo>
                    <a:pt x="81608" y="0"/>
                  </a:lnTo>
                  <a:lnTo>
                    <a:pt x="80208" y="1400"/>
                  </a:lnTo>
                  <a:lnTo>
                    <a:pt x="1400" y="1400"/>
                  </a:lnTo>
                  <a:close/>
                </a:path>
                <a:path fill="darken" w="81608" h="21600">
                  <a:moveTo>
                    <a:pt x="81608" y="0"/>
                  </a:moveTo>
                  <a:lnTo>
                    <a:pt x="81608" y="21600"/>
                  </a:lnTo>
                  <a:lnTo>
                    <a:pt x="80208" y="20200"/>
                  </a:lnTo>
                  <a:lnTo>
                    <a:pt x="80208" y="1400"/>
                  </a:lnTo>
                  <a:close/>
                </a:path>
                <a:path fill="darkenLess" w="81608" h="21600">
                  <a:moveTo>
                    <a:pt x="8160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0208" y="20200"/>
                  </a:lnTo>
                  <a:close/>
                </a:path>
                <a:path fill="lighten" w="8160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Text Box 9"/>
            <p:cNvSpPr/>
            <p:nvPr/>
          </p:nvSpPr>
          <p:spPr>
            <a:xfrm>
              <a:off x="5987880" y="2349360"/>
              <a:ext cx="15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Let’s go!</a:t>
              </a:r>
              <a:r>
                <a:rPr b="1" lang="en-US" sz="24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2"/>
          <p:cNvGrpSpPr/>
          <p:nvPr/>
        </p:nvGrpSpPr>
        <p:grpSpPr>
          <a:xfrm>
            <a:off x="3780000" y="2924280"/>
            <a:ext cx="1728360" cy="459720"/>
            <a:chOff x="3780000" y="2924280"/>
            <a:chExt cx="1728360" cy="459720"/>
          </a:xfrm>
        </p:grpSpPr>
        <p:sp>
          <p:nvSpPr>
            <p:cNvPr id="656" name="AutoShape 23"/>
            <p:cNvSpPr/>
            <p:nvPr/>
          </p:nvSpPr>
          <p:spPr>
            <a:xfrm>
              <a:off x="3780000" y="2924280"/>
              <a:ext cx="1728360" cy="457200"/>
            </a:xfrm>
            <a:custGeom>
              <a:avLst/>
              <a:gdLst>
                <a:gd name="textAreaLeft" fmla="*/ 29520 w 1728360"/>
                <a:gd name="textAreaRight" fmla="*/ 1698840 w 17283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81608" h="21600">
                  <a:moveTo>
                    <a:pt x="0" y="0"/>
                  </a:moveTo>
                  <a:lnTo>
                    <a:pt x="81608" y="0"/>
                  </a:lnTo>
                  <a:lnTo>
                    <a:pt x="81608" y="21600"/>
                  </a:lnTo>
                  <a:lnTo>
                    <a:pt x="0" y="21600"/>
                  </a:lnTo>
                  <a:close/>
                </a:path>
                <a:path fill="lightenLess" w="81608" h="21600">
                  <a:moveTo>
                    <a:pt x="0" y="0"/>
                  </a:moveTo>
                  <a:lnTo>
                    <a:pt x="81608" y="0"/>
                  </a:lnTo>
                  <a:lnTo>
                    <a:pt x="80208" y="1400"/>
                  </a:lnTo>
                  <a:lnTo>
                    <a:pt x="1400" y="1400"/>
                  </a:lnTo>
                  <a:close/>
                </a:path>
                <a:path fill="darken" w="81608" h="21600">
                  <a:moveTo>
                    <a:pt x="81608" y="0"/>
                  </a:moveTo>
                  <a:lnTo>
                    <a:pt x="81608" y="21600"/>
                  </a:lnTo>
                  <a:lnTo>
                    <a:pt x="80208" y="20200"/>
                  </a:lnTo>
                  <a:lnTo>
                    <a:pt x="80208" y="1400"/>
                  </a:lnTo>
                  <a:close/>
                </a:path>
                <a:path fill="darkenLess" w="81608" h="21600">
                  <a:moveTo>
                    <a:pt x="8160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0208" y="20200"/>
                  </a:lnTo>
                  <a:close/>
                </a:path>
                <a:path fill="lighten" w="8160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4"/>
            <p:cNvSpPr/>
            <p:nvPr/>
          </p:nvSpPr>
          <p:spPr>
            <a:xfrm>
              <a:off x="3971880" y="2924280"/>
              <a:ext cx="15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Let’s go!</a:t>
              </a:r>
              <a:r>
                <a:rPr b="1" lang="en-US" sz="24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8" name="Group 25"/>
          <p:cNvGrpSpPr/>
          <p:nvPr/>
        </p:nvGrpSpPr>
        <p:grpSpPr>
          <a:xfrm>
            <a:off x="3348000" y="3573360"/>
            <a:ext cx="1728360" cy="459720"/>
            <a:chOff x="3348000" y="3573360"/>
            <a:chExt cx="1728360" cy="459720"/>
          </a:xfrm>
        </p:grpSpPr>
        <p:sp>
          <p:nvSpPr>
            <p:cNvPr id="659" name="AutoShape 26"/>
            <p:cNvSpPr/>
            <p:nvPr/>
          </p:nvSpPr>
          <p:spPr>
            <a:xfrm>
              <a:off x="3348000" y="3573360"/>
              <a:ext cx="1728360" cy="457200"/>
            </a:xfrm>
            <a:custGeom>
              <a:avLst/>
              <a:gdLst>
                <a:gd name="textAreaLeft" fmla="*/ 29520 w 1728360"/>
                <a:gd name="textAreaRight" fmla="*/ 1698840 w 17283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81608" h="21600">
                  <a:moveTo>
                    <a:pt x="0" y="0"/>
                  </a:moveTo>
                  <a:lnTo>
                    <a:pt x="81608" y="0"/>
                  </a:lnTo>
                  <a:lnTo>
                    <a:pt x="81608" y="21600"/>
                  </a:lnTo>
                  <a:lnTo>
                    <a:pt x="0" y="21600"/>
                  </a:lnTo>
                  <a:close/>
                </a:path>
                <a:path fill="lightenLess" w="81608" h="21600">
                  <a:moveTo>
                    <a:pt x="0" y="0"/>
                  </a:moveTo>
                  <a:lnTo>
                    <a:pt x="81608" y="0"/>
                  </a:lnTo>
                  <a:lnTo>
                    <a:pt x="80208" y="1400"/>
                  </a:lnTo>
                  <a:lnTo>
                    <a:pt x="1400" y="1400"/>
                  </a:lnTo>
                  <a:close/>
                </a:path>
                <a:path fill="darken" w="81608" h="21600">
                  <a:moveTo>
                    <a:pt x="81608" y="0"/>
                  </a:moveTo>
                  <a:lnTo>
                    <a:pt x="81608" y="21600"/>
                  </a:lnTo>
                  <a:lnTo>
                    <a:pt x="80208" y="20200"/>
                  </a:lnTo>
                  <a:lnTo>
                    <a:pt x="80208" y="1400"/>
                  </a:lnTo>
                  <a:close/>
                </a:path>
                <a:path fill="darkenLess" w="81608" h="21600">
                  <a:moveTo>
                    <a:pt x="8160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0208" y="20200"/>
                  </a:lnTo>
                  <a:close/>
                </a:path>
                <a:path fill="lighten" w="8160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Text Box 27"/>
            <p:cNvSpPr/>
            <p:nvPr/>
          </p:nvSpPr>
          <p:spPr>
            <a:xfrm>
              <a:off x="3539880" y="3573360"/>
              <a:ext cx="15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Let’s go!</a:t>
              </a:r>
              <a:r>
                <a:rPr b="1" lang="en-US" sz="24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1" name="Group 28"/>
          <p:cNvGrpSpPr/>
          <p:nvPr/>
        </p:nvGrpSpPr>
        <p:grpSpPr>
          <a:xfrm>
            <a:off x="3419640" y="4221000"/>
            <a:ext cx="1728360" cy="459720"/>
            <a:chOff x="3419640" y="4221000"/>
            <a:chExt cx="1728360" cy="459720"/>
          </a:xfrm>
        </p:grpSpPr>
        <p:sp>
          <p:nvSpPr>
            <p:cNvPr id="662" name="AutoShape 29"/>
            <p:cNvSpPr/>
            <p:nvPr/>
          </p:nvSpPr>
          <p:spPr>
            <a:xfrm>
              <a:off x="3419640" y="4221000"/>
              <a:ext cx="1728360" cy="457200"/>
            </a:xfrm>
            <a:custGeom>
              <a:avLst/>
              <a:gdLst>
                <a:gd name="textAreaLeft" fmla="*/ 29520 w 1728360"/>
                <a:gd name="textAreaRight" fmla="*/ 1698840 w 172836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81608" h="21600">
                  <a:moveTo>
                    <a:pt x="0" y="0"/>
                  </a:moveTo>
                  <a:lnTo>
                    <a:pt x="81608" y="0"/>
                  </a:lnTo>
                  <a:lnTo>
                    <a:pt x="81608" y="21600"/>
                  </a:lnTo>
                  <a:lnTo>
                    <a:pt x="0" y="21600"/>
                  </a:lnTo>
                  <a:close/>
                </a:path>
                <a:path fill="lightenLess" w="81608" h="21600">
                  <a:moveTo>
                    <a:pt x="0" y="0"/>
                  </a:moveTo>
                  <a:lnTo>
                    <a:pt x="81608" y="0"/>
                  </a:lnTo>
                  <a:lnTo>
                    <a:pt x="80208" y="1400"/>
                  </a:lnTo>
                  <a:lnTo>
                    <a:pt x="1400" y="1400"/>
                  </a:lnTo>
                  <a:close/>
                </a:path>
                <a:path fill="darken" w="81608" h="21600">
                  <a:moveTo>
                    <a:pt x="81608" y="0"/>
                  </a:moveTo>
                  <a:lnTo>
                    <a:pt x="81608" y="21600"/>
                  </a:lnTo>
                  <a:lnTo>
                    <a:pt x="80208" y="20200"/>
                  </a:lnTo>
                  <a:lnTo>
                    <a:pt x="80208" y="1400"/>
                  </a:lnTo>
                  <a:close/>
                </a:path>
                <a:path fill="darkenLess" w="81608" h="21600">
                  <a:moveTo>
                    <a:pt x="8160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0208" y="20200"/>
                  </a:lnTo>
                  <a:close/>
                </a:path>
                <a:path fill="lighten" w="8160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Text Box 30"/>
            <p:cNvSpPr/>
            <p:nvPr/>
          </p:nvSpPr>
          <p:spPr>
            <a:xfrm>
              <a:off x="3611520" y="4221000"/>
              <a:ext cx="153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Let’s go!</a:t>
              </a:r>
              <a:r>
                <a:rPr b="1" lang="en-US" sz="24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4" name="Group 31"/>
          <p:cNvGrpSpPr/>
          <p:nvPr/>
        </p:nvGrpSpPr>
        <p:grpSpPr>
          <a:xfrm>
            <a:off x="2771640" y="4869000"/>
            <a:ext cx="1728720" cy="459720"/>
            <a:chOff x="2771640" y="4869000"/>
            <a:chExt cx="1728720" cy="459720"/>
          </a:xfrm>
        </p:grpSpPr>
        <p:sp>
          <p:nvSpPr>
            <p:cNvPr id="665" name="AutoShape 32"/>
            <p:cNvSpPr/>
            <p:nvPr/>
          </p:nvSpPr>
          <p:spPr>
            <a:xfrm>
              <a:off x="2771640" y="4869000"/>
              <a:ext cx="1728720" cy="457200"/>
            </a:xfrm>
            <a:custGeom>
              <a:avLst/>
              <a:gdLst>
                <a:gd name="textAreaLeft" fmla="*/ 29520 w 1728720"/>
                <a:gd name="textAreaRight" fmla="*/ 1699200 w 172872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81625" h="21600">
                  <a:moveTo>
                    <a:pt x="0" y="0"/>
                  </a:moveTo>
                  <a:lnTo>
                    <a:pt x="81625" y="0"/>
                  </a:lnTo>
                  <a:lnTo>
                    <a:pt x="81625" y="21600"/>
                  </a:lnTo>
                  <a:lnTo>
                    <a:pt x="0" y="21600"/>
                  </a:lnTo>
                  <a:close/>
                </a:path>
                <a:path fill="lightenLess" w="81625" h="21600">
                  <a:moveTo>
                    <a:pt x="0" y="0"/>
                  </a:moveTo>
                  <a:lnTo>
                    <a:pt x="81625" y="0"/>
                  </a:lnTo>
                  <a:lnTo>
                    <a:pt x="80225" y="1400"/>
                  </a:lnTo>
                  <a:lnTo>
                    <a:pt x="1400" y="1400"/>
                  </a:lnTo>
                  <a:close/>
                </a:path>
                <a:path fill="darken" w="81625" h="21600">
                  <a:moveTo>
                    <a:pt x="81625" y="0"/>
                  </a:moveTo>
                  <a:lnTo>
                    <a:pt x="81625" y="21600"/>
                  </a:lnTo>
                  <a:lnTo>
                    <a:pt x="80225" y="20200"/>
                  </a:lnTo>
                  <a:lnTo>
                    <a:pt x="80225" y="1400"/>
                  </a:lnTo>
                  <a:close/>
                </a:path>
                <a:path fill="darkenLess" w="81625" h="21600">
                  <a:moveTo>
                    <a:pt x="81625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80225" y="20200"/>
                  </a:lnTo>
                  <a:close/>
                </a:path>
                <a:path fill="lighten" w="81625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Text Box 33"/>
            <p:cNvSpPr/>
            <p:nvPr/>
          </p:nvSpPr>
          <p:spPr>
            <a:xfrm>
              <a:off x="2963520" y="4869000"/>
              <a:ext cx="153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</a:rPr>
                <a:t>Let’s go!</a:t>
              </a:r>
              <a:r>
                <a:rPr b="1" lang="en-US" sz="2400" spc="-1" strike="noStrike">
                  <a:solidFill>
                    <a:srgbClr val="c0504d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665000" y="530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内分泌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3"/>
          <p:cNvSpPr/>
          <p:nvPr/>
        </p:nvSpPr>
        <p:spPr>
          <a:xfrm>
            <a:off x="6992640" y="5300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外分泌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9" name="Picture 4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625480" cy="436248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5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5545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1" name=""/>
          <p:cNvGraphicFramePr/>
          <p:nvPr/>
        </p:nvGraphicFramePr>
        <p:xfrm>
          <a:off x="0" y="1413000"/>
          <a:ext cx="8964720" cy="4824360"/>
        </p:xfrm>
        <a:graphic>
          <a:graphicData uri="http://schemas.openxmlformats.org/drawingml/2006/table">
            <a:tbl>
              <a:tblPr/>
              <a:tblGrid>
                <a:gridCol w="2921040"/>
                <a:gridCol w="2894040"/>
                <a:gridCol w="3149640"/>
              </a:tblGrid>
              <a:tr h="1589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腺体类别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导      管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泌物输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方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5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内分泌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外分泌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2" name="Text Box 20"/>
          <p:cNvSpPr/>
          <p:nvPr/>
        </p:nvSpPr>
        <p:spPr>
          <a:xfrm>
            <a:off x="4059720" y="51577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有导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21"/>
          <p:cNvSpPr/>
          <p:nvPr/>
        </p:nvSpPr>
        <p:spPr>
          <a:xfrm>
            <a:off x="3988440" y="3429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无导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6500160" y="508464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通过导管排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23"/>
          <p:cNvSpPr/>
          <p:nvPr/>
        </p:nvSpPr>
        <p:spPr>
          <a:xfrm>
            <a:off x="6500160" y="32846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直接进入腺体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内的毛细血管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Arial"/>
                <a:ea typeface="隶书"/>
              </a:rPr>
              <a:t>人体内、外分泌腺的区别</a:t>
            </a:r>
            <a:endParaRPr b="0" lang="en-US" sz="4000" spc="-1" strike="noStrike">
              <a:solidFill>
                <a:srgbClr val="eeece1"/>
              </a:solidFill>
              <a:latin typeface="Arial"/>
            </a:endParaRPr>
          </a:p>
        </p:txBody>
      </p:sp>
      <p:pic>
        <p:nvPicPr>
          <p:cNvPr id="677" name="Picture 25" descr="返回图标"/>
          <p:cNvPicPr/>
          <p:nvPr/>
        </p:nvPicPr>
        <p:blipFill>
          <a:blip r:embed="rId1"/>
          <a:stretch/>
        </p:blipFill>
        <p:spPr>
          <a:xfrm>
            <a:off x="7848720" y="6226200"/>
            <a:ext cx="12445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3"/>
          <p:cNvSpPr/>
          <p:nvPr/>
        </p:nvSpPr>
        <p:spPr>
          <a:xfrm>
            <a:off x="1676520" y="1295280"/>
            <a:ext cx="563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楷体_GB2312"/>
              </a:rPr>
              <a:t>构成内分泌系统的主要内分泌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AutoShape 5"/>
          <p:cNvSpPr/>
          <p:nvPr/>
        </p:nvSpPr>
        <p:spPr>
          <a:xfrm>
            <a:off x="3886200" y="3962520"/>
            <a:ext cx="1066680" cy="685800"/>
          </a:xfrm>
          <a:custGeom>
            <a:avLst/>
            <a:gdLst>
              <a:gd name="textAreaLeft" fmla="*/ 44280 w 1066680"/>
              <a:gd name="textAreaRight" fmla="*/ 1022400 w 1066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590" h="21600">
                <a:moveTo>
                  <a:pt x="0" y="0"/>
                </a:moveTo>
                <a:lnTo>
                  <a:pt x="33590" y="0"/>
                </a:lnTo>
                <a:lnTo>
                  <a:pt x="33590" y="21600"/>
                </a:lnTo>
                <a:lnTo>
                  <a:pt x="0" y="21600"/>
                </a:lnTo>
                <a:close/>
              </a:path>
              <a:path fill="lightenLess" w="33590" h="21600">
                <a:moveTo>
                  <a:pt x="0" y="0"/>
                </a:moveTo>
                <a:lnTo>
                  <a:pt x="33590" y="0"/>
                </a:lnTo>
                <a:lnTo>
                  <a:pt x="32190" y="1400"/>
                </a:lnTo>
                <a:lnTo>
                  <a:pt x="1400" y="1400"/>
                </a:lnTo>
                <a:close/>
              </a:path>
              <a:path fill="darken" w="33590" h="21600">
                <a:moveTo>
                  <a:pt x="33590" y="0"/>
                </a:moveTo>
                <a:lnTo>
                  <a:pt x="33590" y="21600"/>
                </a:lnTo>
                <a:lnTo>
                  <a:pt x="32190" y="20200"/>
                </a:lnTo>
                <a:lnTo>
                  <a:pt x="32190" y="1400"/>
                </a:lnTo>
                <a:close/>
              </a:path>
              <a:path fill="darkenLess" w="33590" h="21600">
                <a:moveTo>
                  <a:pt x="3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190" y="20200"/>
                </a:lnTo>
                <a:close/>
              </a:path>
              <a:path fill="lighten" w="3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590" h="21600">
                <a:moveTo>
                  <a:pt x="9788" y="7301"/>
                </a:moveTo>
                <a:lnTo>
                  <a:pt x="10702" y="7301"/>
                </a:lnTo>
                <a:lnTo>
                  <a:pt x="11085" y="7667"/>
                </a:lnTo>
                <a:lnTo>
                  <a:pt x="20294" y="7667"/>
                </a:lnTo>
                <a:lnTo>
                  <a:pt x="20851" y="8224"/>
                </a:lnTo>
                <a:lnTo>
                  <a:pt x="20851" y="8772"/>
                </a:lnTo>
                <a:lnTo>
                  <a:pt x="22696" y="8772"/>
                </a:lnTo>
                <a:lnTo>
                  <a:pt x="23062" y="8224"/>
                </a:lnTo>
                <a:lnTo>
                  <a:pt x="23801" y="8224"/>
                </a:lnTo>
                <a:lnTo>
                  <a:pt x="23801" y="13376"/>
                </a:lnTo>
                <a:lnTo>
                  <a:pt x="23062" y="13376"/>
                </a:lnTo>
                <a:lnTo>
                  <a:pt x="22696" y="12828"/>
                </a:lnTo>
                <a:lnTo>
                  <a:pt x="20851" y="12828"/>
                </a:lnTo>
                <a:lnTo>
                  <a:pt x="20851" y="14107"/>
                </a:lnTo>
                <a:lnTo>
                  <a:pt x="11268" y="14107"/>
                </a:lnTo>
                <a:lnTo>
                  <a:pt x="11268" y="9877"/>
                </a:lnTo>
                <a:lnTo>
                  <a:pt x="11085" y="9877"/>
                </a:lnTo>
                <a:lnTo>
                  <a:pt x="10702" y="10243"/>
                </a:lnTo>
                <a:lnTo>
                  <a:pt x="9788" y="10243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Times New Roman"/>
                <a:ea typeface="隶书"/>
              </a:rPr>
              <a:t>资料一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 Box 3"/>
          <p:cNvSpPr/>
          <p:nvPr/>
        </p:nvSpPr>
        <p:spPr>
          <a:xfrm>
            <a:off x="3276720" y="30481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_x000b__x000c_"/>
              </a:rPr>
              <a:t>幼年时生长激素分泌过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371600" y="3048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_x000b__x000c_"/>
              </a:rPr>
              <a:t>巨人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685800" y="16765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巨人症和侏儒症形成的原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371600" y="4114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_x000b__x000c_"/>
              </a:rPr>
              <a:t>侏儒症</a:t>
            </a:r>
            <a:r>
              <a:rPr b="1" lang="en-US" sz="2800" spc="-1" strike="noStrike">
                <a:solidFill>
                  <a:srgbClr val="ffffff"/>
                </a:solidFill>
                <a:latin typeface="_x000b__x000c_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3124080" y="41148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_x000b__x000c_"/>
              </a:rPr>
              <a:t>幼年时生长激素分泌不足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AutoShape 8"/>
          <p:cNvSpPr/>
          <p:nvPr/>
        </p:nvSpPr>
        <p:spPr>
          <a:xfrm>
            <a:off x="1066680" y="32004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Picture 2" descr="巨人"/>
          <p:cNvPicPr/>
          <p:nvPr/>
        </p:nvPicPr>
        <p:blipFill>
          <a:blip r:embed="rId1"/>
          <a:stretch/>
        </p:blipFill>
        <p:spPr>
          <a:xfrm>
            <a:off x="250920" y="260280"/>
            <a:ext cx="4118040" cy="494208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pic>
        <p:nvPicPr>
          <p:cNvPr id="688" name="Picture 3" descr="巨人与正常人对比"/>
          <p:cNvPicPr/>
          <p:nvPr/>
        </p:nvPicPr>
        <p:blipFill>
          <a:blip r:embed="rId2"/>
          <a:stretch/>
        </p:blipFill>
        <p:spPr>
          <a:xfrm>
            <a:off x="3492360" y="2600280"/>
            <a:ext cx="5327640" cy="399744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sp>
        <p:nvSpPr>
          <p:cNvPr id="689" name="Text Box 4"/>
          <p:cNvSpPr/>
          <p:nvPr/>
        </p:nvSpPr>
        <p:spPr>
          <a:xfrm>
            <a:off x="6115320" y="6094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巨人症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0" name="Picture 5" descr="pic_78404"/>
          <p:cNvPicPr/>
          <p:nvPr/>
        </p:nvPicPr>
        <p:blipFill>
          <a:blip r:embed="rId3"/>
          <a:stretch/>
        </p:blipFill>
        <p:spPr>
          <a:xfrm>
            <a:off x="1547640" y="260280"/>
            <a:ext cx="3441960" cy="633744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侏儒症2"/>
          <p:cNvPicPr/>
          <p:nvPr/>
        </p:nvPicPr>
        <p:blipFill>
          <a:blip r:embed="rId1"/>
          <a:stretch/>
        </p:blipFill>
        <p:spPr>
          <a:xfrm>
            <a:off x="1403280" y="1052640"/>
            <a:ext cx="6913800" cy="5208480"/>
          </a:xfrm>
          <a:prstGeom prst="rect">
            <a:avLst/>
          </a:prstGeom>
          <a:ln w="76320">
            <a:solidFill>
              <a:srgbClr val="4f81bd"/>
            </a:solidFill>
            <a:miter/>
          </a:ln>
        </p:spPr>
      </p:pic>
      <p:sp>
        <p:nvSpPr>
          <p:cNvPr id="692" name="Text Box 3"/>
          <p:cNvSpPr/>
          <p:nvPr/>
        </p:nvSpPr>
        <p:spPr>
          <a:xfrm>
            <a:off x="5559120" y="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侏儒症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3" name="Picture 4" descr="pic_78403"/>
          <p:cNvPicPr/>
          <p:nvPr/>
        </p:nvPicPr>
        <p:blipFill>
          <a:blip r:embed="rId2"/>
          <a:stretch/>
        </p:blipFill>
        <p:spPr>
          <a:xfrm>
            <a:off x="0" y="0"/>
            <a:ext cx="3483000" cy="685800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7" descr="返回图标"/>
          <p:cNvPicPr/>
          <p:nvPr/>
        </p:nvPicPr>
        <p:blipFill>
          <a:blip r:embed="rId3"/>
          <a:stretch/>
        </p:blipFill>
        <p:spPr>
          <a:xfrm>
            <a:off x="7848720" y="6226200"/>
            <a:ext cx="1244520" cy="622440"/>
          </a:xfrm>
          <a:prstGeom prst="rect">
            <a:avLst/>
          </a:prstGeom>
          <a:ln w="0">
            <a:noFill/>
          </a:ln>
        </p:spPr>
      </p:pic>
      <p:sp>
        <p:nvSpPr>
          <p:cNvPr id="695" name="文本框 8200"/>
          <p:cNvSpPr/>
          <p:nvPr/>
        </p:nvSpPr>
        <p:spPr>
          <a:xfrm>
            <a:off x="3935520" y="7174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154476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ff"/>
                </a:solidFill>
                <a:latin typeface="Arial"/>
                <a:ea typeface="隶书"/>
              </a:rPr>
              <a:t>资料二</a:t>
            </a:r>
            <a:endParaRPr b="0" lang="en-US" sz="4800" spc="-1" strike="noStrike">
              <a:solidFill>
                <a:srgbClr val="eeece1"/>
              </a:solidFill>
              <a:latin typeface="Arial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914400" y="2769840"/>
            <a:ext cx="73152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实验一：破坏了蝌蚪的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甲状腺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发现蝌蚪停止了发育，不能发育成蛙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实验二：在第一个实验的基础上，在饲养缸的水中放入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甲状腺激素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发现破坏了甲状腺的蝌蚪又发育成蛙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182520">
              <a:spcBef>
                <a:spcPts val="499"/>
              </a:spcBef>
              <a:buClr>
                <a:srgbClr val="eeece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实验三：在饲养正常蝌蚪的水中放入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甲状腺激素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，则蝌蚪提前变成蛙，但蛙只有苍蝇大小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Picture 4" descr="004[1]"/>
          <p:cNvPicPr/>
          <p:nvPr/>
        </p:nvPicPr>
        <p:blipFill>
          <a:blip r:embed="rId1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5:47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