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projctor.wav" ContentType="audio/x-wav"/>
  <Override PartName="/ppt/media/image24.jpeg" ContentType="image/jpeg"/>
  <Override PartName="/ppt/media/image27.png" ContentType="image/png"/>
  <Override PartName="/ppt/media/image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30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media/image2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FC44-196D-4649-BAD6-5370D481E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8773-FC8E-4227-B7EB-125C67131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81D1-B854-45C4-AF8E-41ECED3B6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8520-B1B9-4526-BBE9-CEF1B12E2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56156-3F91-41BF-9F8E-6C06081D2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F2CA2-F567-4F3F-B43F-4F5D10E99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1237E-77C7-4D04-936F-94C2699F8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D28FC-2F1F-4705-84CD-6627C14E0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AE012-0857-4454-B4DC-50F30DA18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F97B5-4913-4C31-9FA7-8F0714209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C6077-950C-4004-95F8-FDAE98EB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1C1C-FE67-489D-A96F-13FBADC4D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76343-D44F-46E6-96BB-5732C30A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B0805-770B-4C3C-94F2-AFBDF5DB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9DDB3-AB26-49E1-B79F-8B025E502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8E8DE-C94C-4052-8591-828F02F99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865CE-ADA4-461F-B979-8788421FD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CF557-57FD-4361-8F43-6265D4A5E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AD20F-1DD7-4C47-9710-56D6B357F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97D88-DC4B-4ABE-B002-89C6BAE99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76D4A-7A83-4DCF-9A73-A3BA8E6B1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0C317-A9EE-4843-AC47-87AAFAF4D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F9E5-CE1F-49FD-B0E2-CDE268C7D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1A311-BC3B-4A1D-93F8-A9FD694A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B867C-615C-46A1-B531-7A1B88D1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45CEA-ABD9-4668-A3D5-B60D76A9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9CCDA-2F91-4808-8C9B-6A850D58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D1F75-BE13-4F4E-BAA1-D46846BE0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5E703-976C-49BF-97DD-646D65A71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33237-FA50-4102-84BD-AEF30C642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5941-69A3-4653-86B2-D8067F3C1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421D-6B2D-4F68-A4ED-31903FC88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2B88-E7BF-4176-8397-7D68914C9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15EF-140B-4F32-804A-0F33F149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309D-3C70-45C7-8C75-D434338F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5192-3FC3-4008-BC6F-D3CB1D19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orbeil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 rot="5400000">
            <a:off x="5295600" y="3009960"/>
            <a:ext cx="6858000" cy="838080"/>
          </a:xfrm>
          <a:custGeom>
            <a:avLst/>
            <a:gdLst/>
            <a:ahLst/>
            <a:rect l="l" t="t" r="r" b="b"/>
            <a:pathLst>
              <a:path w="5557" h="198">
                <a:moveTo>
                  <a:pt x="5553" y="0"/>
                </a:moveTo>
                <a:lnTo>
                  <a:pt x="5553" y="150"/>
                </a:lnTo>
                <a:cubicBezTo>
                  <a:pt x="5557" y="144"/>
                  <a:pt x="5136" y="181"/>
                  <a:pt x="4585" y="186"/>
                </a:cubicBezTo>
                <a:cubicBezTo>
                  <a:pt x="4034" y="191"/>
                  <a:pt x="2849" y="170"/>
                  <a:pt x="2246" y="180"/>
                </a:cubicBezTo>
                <a:cubicBezTo>
                  <a:pt x="1643" y="190"/>
                  <a:pt x="1319" y="178"/>
                  <a:pt x="960" y="180"/>
                </a:cubicBezTo>
                <a:cubicBezTo>
                  <a:pt x="601" y="182"/>
                  <a:pt x="238" y="198"/>
                  <a:pt x="76" y="198"/>
                </a:cubicBezTo>
                <a:cubicBezTo>
                  <a:pt x="28" y="198"/>
                  <a:pt x="1" y="153"/>
                  <a:pt x="1" y="153"/>
                </a:cubicBezTo>
                <a:cubicBezTo>
                  <a:pt x="1" y="153"/>
                  <a:pt x="0" y="83"/>
                  <a:pt x="1" y="0"/>
                </a:cubicBezTo>
                <a:lnTo>
                  <a:pt x="5553" y="0"/>
                </a:lnTo>
                <a:close/>
              </a:path>
            </a:pathLst>
          </a:cu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00B79-FE9D-4E33-B7CC-4B337D9E2E4F}" type="slidenum">
              <a:rPr b="0" lang="zh-CN" sz="1400" spc="-1" strike="noStrike">
                <a:solidFill>
                  <a:srgbClr val="000000"/>
                </a:solidFill>
                <a:latin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hr-abhijit-sagade-03"/>
          <p:cNvPicPr/>
          <p:nvPr/>
        </p:nvPicPr>
        <p:blipFill>
          <a:blip r:embed="rId3"/>
          <a:srcRect l="63548" t="44973" r="2585" b="29879"/>
          <a:stretch/>
        </p:blipFill>
        <p:spPr>
          <a:xfrm>
            <a:off x="380880" y="1066680"/>
            <a:ext cx="6172200" cy="38124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corbeil"/>
          <p:cNvPicPr/>
          <p:nvPr/>
        </p:nvPicPr>
        <p:blipFill>
          <a:blip r:embed="rId4"/>
          <a:stretch/>
        </p:blipFill>
        <p:spPr>
          <a:xfrm>
            <a:off x="6477120" y="4815000"/>
            <a:ext cx="2666880" cy="204300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16264-1672-44CC-9143-428C6D3640A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orbeil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未知"/>
          <p:cNvSpPr/>
          <p:nvPr/>
        </p:nvSpPr>
        <p:spPr>
          <a:xfrm rot="5400000">
            <a:off x="5295600" y="3009960"/>
            <a:ext cx="6858000" cy="838080"/>
          </a:xfrm>
          <a:custGeom>
            <a:avLst/>
            <a:gdLst/>
            <a:ahLst/>
            <a:rect l="l" t="t" r="r" b="b"/>
            <a:pathLst>
              <a:path w="5557" h="198">
                <a:moveTo>
                  <a:pt x="5553" y="0"/>
                </a:moveTo>
                <a:lnTo>
                  <a:pt x="5553" y="150"/>
                </a:lnTo>
                <a:cubicBezTo>
                  <a:pt x="5557" y="144"/>
                  <a:pt x="5136" y="181"/>
                  <a:pt x="4585" y="186"/>
                </a:cubicBezTo>
                <a:cubicBezTo>
                  <a:pt x="4034" y="191"/>
                  <a:pt x="2849" y="170"/>
                  <a:pt x="2246" y="180"/>
                </a:cubicBezTo>
                <a:cubicBezTo>
                  <a:pt x="1643" y="190"/>
                  <a:pt x="1319" y="178"/>
                  <a:pt x="960" y="180"/>
                </a:cubicBezTo>
                <a:cubicBezTo>
                  <a:pt x="601" y="182"/>
                  <a:pt x="238" y="198"/>
                  <a:pt x="76" y="198"/>
                </a:cubicBezTo>
                <a:cubicBezTo>
                  <a:pt x="28" y="198"/>
                  <a:pt x="1" y="153"/>
                  <a:pt x="1" y="153"/>
                </a:cubicBezTo>
                <a:cubicBezTo>
                  <a:pt x="1" y="153"/>
                  <a:pt x="0" y="83"/>
                  <a:pt x="1" y="0"/>
                </a:cubicBezTo>
                <a:lnTo>
                  <a:pt x="5553" y="0"/>
                </a:lnTo>
                <a:close/>
              </a:path>
            </a:pathLst>
          </a:cu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hr-abhijit-sagade-03"/>
          <p:cNvPicPr/>
          <p:nvPr/>
        </p:nvPicPr>
        <p:blipFill>
          <a:blip r:embed="rId3"/>
          <a:srcRect l="63548" t="44973" r="2585" b="29879"/>
          <a:stretch/>
        </p:blipFill>
        <p:spPr>
          <a:xfrm>
            <a:off x="380880" y="1066680"/>
            <a:ext cx="6172200" cy="381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corbeil"/>
          <p:cNvPicPr/>
          <p:nvPr/>
        </p:nvPicPr>
        <p:blipFill>
          <a:blip r:embed="rId4"/>
          <a:stretch/>
        </p:blipFill>
        <p:spPr>
          <a:xfrm>
            <a:off x="6477120" y="4815000"/>
            <a:ext cx="2666880" cy="2043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orbeil"/>
          <p:cNvPicPr/>
          <p:nvPr/>
        </p:nvPicPr>
        <p:blipFill>
          <a:blip r:embed="rId5">
            <a:lum bright="6000"/>
          </a:blip>
          <a:stretch/>
        </p:blipFill>
        <p:spPr>
          <a:xfrm>
            <a:off x="0" y="0"/>
            <a:ext cx="9144000" cy="26668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corbeil"/>
          <p:cNvPicPr/>
          <p:nvPr/>
        </p:nvPicPr>
        <p:blipFill>
          <a:blip r:embed="rId6"/>
          <a:stretch/>
        </p:blipFill>
        <p:spPr>
          <a:xfrm>
            <a:off x="0" y="2836800"/>
            <a:ext cx="4876920" cy="4035600"/>
          </a:xfrm>
          <a:prstGeom prst="rect">
            <a:avLst/>
          </a:prstGeom>
          <a:ln w="0">
            <a:noFill/>
          </a:ln>
        </p:spPr>
      </p:pic>
      <p:sp>
        <p:nvSpPr>
          <p:cNvPr id="95" name="Freeform 27"/>
          <p:cNvSpPr/>
          <p:nvPr/>
        </p:nvSpPr>
        <p:spPr>
          <a:xfrm rot="16200000">
            <a:off x="566640" y="-567000"/>
            <a:ext cx="1152360" cy="2286000"/>
          </a:xfrm>
          <a:custGeom>
            <a:avLst/>
            <a:gdLst/>
            <a:ahLst/>
            <a:rect l="l" t="t" r="r" b="b"/>
            <a:pathLst>
              <a:path w="1785" h="3648">
                <a:moveTo>
                  <a:pt x="0" y="0"/>
                </a:moveTo>
                <a:lnTo>
                  <a:pt x="1779" y="3648"/>
                </a:lnTo>
                <a:lnTo>
                  <a:pt x="1785" y="0"/>
                </a:lnTo>
              </a:path>
            </a:pathLst>
          </a:cu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27"/>
          <p:cNvSpPr/>
          <p:nvPr/>
        </p:nvSpPr>
        <p:spPr>
          <a:xfrm rot="5400000">
            <a:off x="5705280" y="3419280"/>
            <a:ext cx="2305080" cy="4572000"/>
          </a:xfrm>
          <a:custGeom>
            <a:avLst/>
            <a:gdLst/>
            <a:ahLst/>
            <a:rect l="l" t="t" r="r" b="b"/>
            <a:pathLst>
              <a:path w="1785" h="3648">
                <a:moveTo>
                  <a:pt x="0" y="0"/>
                </a:moveTo>
                <a:lnTo>
                  <a:pt x="1779" y="3648"/>
                </a:lnTo>
                <a:lnTo>
                  <a:pt x="1785" y="0"/>
                </a:lnTo>
              </a:path>
            </a:pathLst>
          </a:cu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46E17-3233-492F-AF24-1D8E508830FE}" type="slidenum">
              <a:rPr b="0" lang="zh-CN" sz="1400" spc="-1" strike="noStrike">
                <a:solidFill>
                  <a:srgbClr val="000000"/>
                </a:solidFill>
                <a:latin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g.hnol.net/bbsimg/2006-04-3/10/2006431061471049.jpg" TargetMode="External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baike.baidu.com/image/30ecd5ef63280179acafd5d5" TargetMode="External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3"/>
          <p:cNvSpPr/>
          <p:nvPr/>
        </p:nvSpPr>
        <p:spPr>
          <a:xfrm>
            <a:off x="1042920" y="1052640"/>
            <a:ext cx="730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第</a:t>
            </a: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10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课 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建设有中国特色的社会主义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课件下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图片 6" descr=""/>
          <p:cNvPicPr/>
          <p:nvPr/>
        </p:nvPicPr>
        <p:blipFill>
          <a:blip r:embed="rId1"/>
          <a:stretch/>
        </p:blipFill>
        <p:spPr>
          <a:xfrm>
            <a:off x="3635280" y="2852640"/>
            <a:ext cx="3618000" cy="2765520"/>
          </a:xfrm>
          <a:prstGeom prst="rect">
            <a:avLst/>
          </a:prstGeom>
          <a:ln w="0">
            <a:noFill/>
          </a:ln>
        </p:spPr>
      </p:pic>
      <p:sp>
        <p:nvSpPr>
          <p:cNvPr id="140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4"/>
          <p:cNvSpPr/>
          <p:nvPr/>
        </p:nvSpPr>
        <p:spPr>
          <a:xfrm>
            <a:off x="539640" y="40464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一、改革开放的总设计师邓小平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11280" y="1197000"/>
            <a:ext cx="8064360" cy="360"/>
            <a:chOff x="611280" y="1197000"/>
            <a:chExt cx="8064360" cy="360"/>
          </a:xfrm>
        </p:grpSpPr>
        <p:sp>
          <p:nvSpPr>
            <p:cNvPr id="196" name="Line 5"/>
            <p:cNvSpPr/>
            <p:nvPr/>
          </p:nvSpPr>
          <p:spPr>
            <a:xfrm>
              <a:off x="611280" y="1197000"/>
              <a:ext cx="8064360" cy="0"/>
            </a:xfrm>
            <a:prstGeom prst="line">
              <a:avLst/>
            </a:prstGeom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 txBox="1"/>
            <p:nvPr/>
          </p:nvSpPr>
          <p:spPr>
            <a:xfrm>
              <a:off x="611280" y="1197000"/>
              <a:ext cx="806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Text Box 6"/>
          <p:cNvSpPr/>
          <p:nvPr/>
        </p:nvSpPr>
        <p:spPr>
          <a:xfrm>
            <a:off x="0" y="1341360"/>
            <a:ext cx="9468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小结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什么说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邓小平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改革开放和现代化建设的总设计师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）十一届三中全会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前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，邓小平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提出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实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改革开放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）改革开放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后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，提出坚持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四项基本原则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）中共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十二大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，提出建设有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中国特色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社会主义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）中共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十三大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阐明了社会主义初级阶段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基本路线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，经济发展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三步走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总之，在改革开放和社会主义现代化建设中，邓小平解决了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什么是社会主义，怎样建设社会主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等一系列问题，为中国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改革开放和现代化建设指明了前进的方向和道路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所以说他是改革开放和现代化建设的总设计师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4"/>
          <p:cNvSpPr/>
          <p:nvPr/>
        </p:nvSpPr>
        <p:spPr>
          <a:xfrm>
            <a:off x="539640" y="18900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二、邓小平理指导地位的确立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539640" y="1052640"/>
            <a:ext cx="8064720" cy="360"/>
            <a:chOff x="539640" y="1052640"/>
            <a:chExt cx="8064720" cy="360"/>
          </a:xfrm>
        </p:grpSpPr>
        <p:sp>
          <p:nvSpPr>
            <p:cNvPr id="201" name="Line 5"/>
            <p:cNvSpPr/>
            <p:nvPr/>
          </p:nvSpPr>
          <p:spPr>
            <a:xfrm>
              <a:off x="539640" y="1052640"/>
              <a:ext cx="8064720" cy="0"/>
            </a:xfrm>
            <a:prstGeom prst="line">
              <a:avLst/>
            </a:prstGeom>
            <a:ln w="28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 txBox="1"/>
            <p:nvPr/>
          </p:nvSpPr>
          <p:spPr>
            <a:xfrm>
              <a:off x="539640" y="1052640"/>
              <a:ext cx="8064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 Box 6"/>
          <p:cNvSpPr/>
          <p:nvPr/>
        </p:nvSpPr>
        <p:spPr>
          <a:xfrm>
            <a:off x="395280" y="1413000"/>
            <a:ext cx="8207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南巡讲话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992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年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）背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世纪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代末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代初，中国社会主义现代化建设和改革开放遇到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等问题的困扰。这些问题如不及时解决，就会影响我国改革开放和现代化建设的进程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NO_2458"/>
          <p:cNvPicPr/>
          <p:nvPr/>
        </p:nvPicPr>
        <p:blipFill>
          <a:blip r:embed="rId1"/>
          <a:stretch/>
        </p:blipFill>
        <p:spPr>
          <a:xfrm>
            <a:off x="3348000" y="692280"/>
            <a:ext cx="1982880" cy="1800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b7bc4c666e82033eab184c8b"/>
          <p:cNvPicPr/>
          <p:nvPr/>
        </p:nvPicPr>
        <p:blipFill>
          <a:blip r:embed="rId2"/>
          <a:stretch/>
        </p:blipFill>
        <p:spPr>
          <a:xfrm>
            <a:off x="684360" y="692280"/>
            <a:ext cx="2331720" cy="1800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8474fbdde27fffae76c63894"/>
          <p:cNvPicPr/>
          <p:nvPr/>
        </p:nvPicPr>
        <p:blipFill>
          <a:blip r:embed="rId3"/>
          <a:stretch/>
        </p:blipFill>
        <p:spPr>
          <a:xfrm>
            <a:off x="5580000" y="692280"/>
            <a:ext cx="2766960" cy="179856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7"/>
          <p:cNvSpPr/>
          <p:nvPr/>
        </p:nvSpPr>
        <p:spPr>
          <a:xfrm>
            <a:off x="539640" y="2421000"/>
            <a:ext cx="8137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）南巡讲话内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（主要精神，四句）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党的基本路线一百年不动摇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特区姓社不姓资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改革开放胆子要大一些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发展经济是关键；发展才是硬道理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539640" y="4797360"/>
            <a:ext cx="80647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南方谈话”核心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2800" spc="-1" strike="noStrike">
                <a:solidFill>
                  <a:srgbClr val="2a03cf"/>
                </a:solidFill>
                <a:latin typeface="黑体"/>
                <a:ea typeface="黑体"/>
              </a:rPr>
              <a:t>社会主义的本质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ca0808"/>
                </a:solidFill>
                <a:latin typeface="黑体"/>
                <a:ea typeface="黑体"/>
              </a:rPr>
              <a:t>解放和发展生产力</a:t>
            </a:r>
            <a:r>
              <a:rPr b="1" lang="en-US" sz="2800" spc="-1" strike="noStrike">
                <a:solidFill>
                  <a:srgbClr val="ca0808"/>
                </a:solidFill>
                <a:latin typeface="黑体"/>
                <a:ea typeface="黑体"/>
              </a:rPr>
              <a:t>;</a:t>
            </a:r>
            <a:r>
              <a:rPr b="1" lang="zh-CN" sz="2800" spc="-1" strike="noStrike">
                <a:solidFill>
                  <a:srgbClr val="ca0808"/>
                </a:solidFill>
                <a:latin typeface="黑体"/>
                <a:ea typeface="黑体"/>
              </a:rPr>
              <a:t>共同富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2a03cf"/>
                </a:solidFill>
                <a:latin typeface="黑体"/>
                <a:ea typeface="黑体"/>
              </a:rPr>
              <a:t>三个</a:t>
            </a:r>
            <a:r>
              <a:rPr b="1" lang="zh-CN" sz="2800" spc="-1" strike="noStrike">
                <a:solidFill>
                  <a:srgbClr val="2a03cf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2a03cf"/>
                </a:solidFill>
                <a:latin typeface="黑体"/>
                <a:ea typeface="黑体"/>
              </a:rPr>
              <a:t>有利于</a:t>
            </a:r>
            <a:r>
              <a:rPr b="1" lang="zh-CN" sz="2800" spc="-1" strike="noStrike">
                <a:solidFill>
                  <a:srgbClr val="2a03cf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2a03cf"/>
                </a:solidFill>
                <a:latin typeface="黑体"/>
                <a:ea typeface="黑体"/>
              </a:rPr>
              <a:t>标准：</a:t>
            </a: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判断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否姓社</a:t>
            </a: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三标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③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两个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不等于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ca0808"/>
                </a:solidFill>
                <a:latin typeface="黑体"/>
                <a:ea typeface="黑体"/>
              </a:rPr>
              <a:t>计划经济</a:t>
            </a:r>
            <a:r>
              <a:rPr b="1" lang="en-US" sz="2800" spc="-1" strike="noStrike">
                <a:solidFill>
                  <a:srgbClr val="ca0808"/>
                </a:solidFill>
                <a:latin typeface="Arial"/>
                <a:ea typeface="黑体"/>
              </a:rPr>
              <a:t>……</a:t>
            </a:r>
            <a:r>
              <a:rPr b="1" lang="zh-CN" sz="2800" spc="-1" strike="noStrike">
                <a:solidFill>
                  <a:srgbClr val="ca0808"/>
                </a:solidFill>
                <a:latin typeface="黑体"/>
                <a:ea typeface="黑体"/>
              </a:rPr>
              <a:t>市场经济</a:t>
            </a:r>
            <a:r>
              <a:rPr b="1" lang="en-US" sz="2800" spc="-1" strike="noStrike">
                <a:solidFill>
                  <a:srgbClr val="ca0808"/>
                </a:solidFill>
                <a:latin typeface="Arial"/>
                <a:ea typeface="黑体"/>
              </a:rPr>
              <a:t>…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539640" y="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二、邓小平理指导地位的确立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4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8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3" descr="01300000323733123030561837641"/>
          <p:cNvPicPr/>
          <p:nvPr/>
        </p:nvPicPr>
        <p:blipFill>
          <a:blip r:embed="rId1"/>
          <a:stretch/>
        </p:blipFill>
        <p:spPr>
          <a:xfrm>
            <a:off x="395280" y="907920"/>
            <a:ext cx="3774960" cy="57610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00080287d09809f2380114"/>
          <p:cNvPicPr/>
          <p:nvPr/>
        </p:nvPicPr>
        <p:blipFill>
          <a:blip r:embed="rId2"/>
          <a:stretch/>
        </p:blipFill>
        <p:spPr>
          <a:xfrm>
            <a:off x="1979640" y="3933720"/>
            <a:ext cx="1727280" cy="187344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10"/>
          <p:cNvSpPr/>
          <p:nvPr/>
        </p:nvSpPr>
        <p:spPr>
          <a:xfrm>
            <a:off x="4427640" y="1052640"/>
            <a:ext cx="3960720" cy="31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南巡讲话”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历史意义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进一步解放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了人们的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思想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对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建设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有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中国特色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社会主义产生了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深远影响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被称为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改革开放的第二次宣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539640" y="18900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二、邓小平理指导地位的确立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6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0" y="5733720"/>
            <a:ext cx="808200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2a03cf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2a03cf"/>
                </a:solidFill>
                <a:latin typeface="Arial"/>
              </a:rPr>
              <a:t>提出中国经济体制改革目标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2a03cf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2a03cf"/>
                </a:solidFill>
                <a:latin typeface="Arial"/>
              </a:rPr>
              <a:t>建立社会主义市场经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U868P1T1D13524776F21DT20070725122619"/>
          <p:cNvPicPr/>
          <p:nvPr/>
        </p:nvPicPr>
        <p:blipFill>
          <a:blip r:embed="rId1"/>
          <a:stretch/>
        </p:blipFill>
        <p:spPr>
          <a:xfrm>
            <a:off x="179280" y="1989000"/>
            <a:ext cx="5580000" cy="37911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20073272392444484"/>
          <p:cNvPicPr/>
          <p:nvPr/>
        </p:nvPicPr>
        <p:blipFill>
          <a:blip r:embed="rId2"/>
          <a:stretch/>
        </p:blipFill>
        <p:spPr>
          <a:xfrm>
            <a:off x="5759280" y="1989000"/>
            <a:ext cx="3384720" cy="381636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6"/>
          <p:cNvSpPr/>
          <p:nvPr/>
        </p:nvSpPr>
        <p:spPr>
          <a:xfrm>
            <a:off x="395280" y="4869000"/>
            <a:ext cx="8066160" cy="64260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高举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中国特色的社会主义理论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旗帜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324000" y="98100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992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年中共十四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高度评价了邓小平建设有中国特色社会主义理论，确定了它在全党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指导地位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539640" y="18900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二、邓小平理指导地位的确立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395280" y="981000"/>
            <a:ext cx="8064360" cy="360"/>
            <a:chOff x="395280" y="981000"/>
            <a:chExt cx="8064360" cy="360"/>
          </a:xfrm>
        </p:grpSpPr>
        <p:sp>
          <p:nvSpPr>
            <p:cNvPr id="221" name="Line 9"/>
            <p:cNvSpPr/>
            <p:nvPr/>
          </p:nvSpPr>
          <p:spPr>
            <a:xfrm>
              <a:off x="395280" y="981000"/>
              <a:ext cx="8064360" cy="0"/>
            </a:xfrm>
            <a:prstGeom prst="line">
              <a:avLst/>
            </a:prstGeom>
            <a:ln w="28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 txBox="1"/>
            <p:nvPr/>
          </p:nvSpPr>
          <p:spPr>
            <a:xfrm>
              <a:off x="395280" y="981000"/>
              <a:ext cx="806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文本框 8199"/>
          <p:cNvSpPr/>
          <p:nvPr/>
        </p:nvSpPr>
        <p:spPr>
          <a:xfrm>
            <a:off x="1922400" y="7239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7" descr="6a2112339747ceeb1a4cff33"/>
          <p:cNvPicPr/>
          <p:nvPr/>
        </p:nvPicPr>
        <p:blipFill>
          <a:blip r:embed="rId1"/>
          <a:stretch/>
        </p:blipFill>
        <p:spPr>
          <a:xfrm>
            <a:off x="250920" y="2133720"/>
            <a:ext cx="6772320" cy="449712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8"/>
          <p:cNvSpPr/>
          <p:nvPr/>
        </p:nvSpPr>
        <p:spPr>
          <a:xfrm>
            <a:off x="539640" y="18900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二、邓小平理指导地位的确立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539640" y="907920"/>
            <a:ext cx="8064720" cy="360"/>
            <a:chOff x="539640" y="907920"/>
            <a:chExt cx="8064720" cy="360"/>
          </a:xfrm>
        </p:grpSpPr>
        <p:sp>
          <p:nvSpPr>
            <p:cNvPr id="227" name="Line 9"/>
            <p:cNvSpPr/>
            <p:nvPr/>
          </p:nvSpPr>
          <p:spPr>
            <a:xfrm>
              <a:off x="539640" y="907920"/>
              <a:ext cx="8064720" cy="0"/>
            </a:xfrm>
            <a:prstGeom prst="line">
              <a:avLst/>
            </a:prstGeom>
            <a:ln w="28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 txBox="1"/>
            <p:nvPr/>
          </p:nvSpPr>
          <p:spPr>
            <a:xfrm>
              <a:off x="539640" y="907920"/>
              <a:ext cx="8064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Text Box 10"/>
          <p:cNvSpPr/>
          <p:nvPr/>
        </p:nvSpPr>
        <p:spPr>
          <a:xfrm>
            <a:off x="108000" y="1052640"/>
            <a:ext cx="87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997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年中共十五大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把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邓小平理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确立为党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指导思想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对建设有中国特色社会主义具有重要意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1"/>
          <p:cNvSpPr/>
          <p:nvPr/>
        </p:nvSpPr>
        <p:spPr>
          <a:xfrm>
            <a:off x="6551640" y="2060640"/>
            <a:ext cx="2592360" cy="2571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大会作了题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高举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黑体"/>
              </a:rPr>
              <a:t>邓小平理论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伟大旗帜，把建设有中国特色社会主义事业全面推向二十一世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的报告，并写入党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次大会的灵魂就是高举邓小平理论的伟大旗帜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539640" y="126828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邓小平理论的形成过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324000" y="206064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①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形成标志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解放思想，实事求是，团结一致向前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324000" y="2637000"/>
            <a:ext cx="816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逐步形成和发展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十一届三中全会，改革开放的拉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0"/>
          <p:cNvSpPr/>
          <p:nvPr/>
        </p:nvSpPr>
        <p:spPr>
          <a:xfrm>
            <a:off x="0" y="321300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华文中宋"/>
                <a:ea typeface="华文中宋"/>
              </a:rPr>
              <a:t>   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在改革开放中，建设中国特色社会主义理论</a:t>
            </a:r>
            <a:r>
              <a:rPr b="1" lang="en-US" sz="2400" spc="-1" strike="noStrike">
                <a:solidFill>
                  <a:srgbClr val="000099"/>
                </a:solidFill>
                <a:latin typeface="华文中宋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邓小平理论逐步形成和发展起来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1"/>
          <p:cNvSpPr/>
          <p:nvPr/>
        </p:nvSpPr>
        <p:spPr>
          <a:xfrm>
            <a:off x="324000" y="4149720"/>
            <a:ext cx="8820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③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形成完整体系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成熟标志）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南方讲话和中共十四大，     （十四大把建设有中国特色社会主义理论确立了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指导地位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2"/>
          <p:cNvSpPr/>
          <p:nvPr/>
        </p:nvSpPr>
        <p:spPr>
          <a:xfrm>
            <a:off x="1809000" y="5157720"/>
            <a:ext cx="5013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④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写入党章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中共十五大，首次提出使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邓小平理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把邓小平理论确立为党的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指导思想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4"/>
          <p:cNvSpPr/>
          <p:nvPr/>
        </p:nvSpPr>
        <p:spPr>
          <a:xfrm>
            <a:off x="539640" y="18900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二、邓小平理指导地位的确立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539640" y="1125360"/>
            <a:ext cx="8064720" cy="360"/>
            <a:chOff x="539640" y="1125360"/>
            <a:chExt cx="8064720" cy="360"/>
          </a:xfrm>
        </p:grpSpPr>
        <p:sp>
          <p:nvSpPr>
            <p:cNvPr id="239" name="Line 15"/>
            <p:cNvSpPr/>
            <p:nvPr/>
          </p:nvSpPr>
          <p:spPr>
            <a:xfrm>
              <a:off x="539640" y="1125360"/>
              <a:ext cx="8064720" cy="0"/>
            </a:xfrm>
            <a:prstGeom prst="line">
              <a:avLst/>
            </a:prstGeom>
            <a:ln w="28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 txBox="1"/>
            <p:nvPr/>
          </p:nvSpPr>
          <p:spPr>
            <a:xfrm>
              <a:off x="539640" y="1125360"/>
              <a:ext cx="8064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1" name="Picture 13" descr="cc506c8b0475d653c8fc7a83"/>
          <p:cNvPicPr/>
          <p:nvPr/>
        </p:nvPicPr>
        <p:blipFill>
          <a:blip r:embed="rId1"/>
          <a:stretch/>
        </p:blipFill>
        <p:spPr>
          <a:xfrm>
            <a:off x="7451640" y="189000"/>
            <a:ext cx="1295640" cy="190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5" descr="英、法、俄、西、日文版《邓小平文选》"/>
          <p:cNvPicPr/>
          <p:nvPr/>
        </p:nvPicPr>
        <p:blipFill>
          <a:blip r:embed="rId1"/>
          <a:stretch/>
        </p:blipFill>
        <p:spPr>
          <a:xfrm>
            <a:off x="0" y="2133720"/>
            <a:ext cx="2556000" cy="431964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2448000" cy="2133720"/>
          </a:xfrm>
          <a:prstGeom prst="rect">
            <a:avLst/>
          </a:prstGeom>
          <a:solidFill>
            <a:srgbClr val="99cc00"/>
          </a:solidFill>
          <a:ln w="9360">
            <a:solidFill>
              <a:srgbClr val="2a03cf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Arial"/>
                <a:ea typeface="华文隶书"/>
              </a:rPr>
              <a:t>邓小平理论的主要内容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2514240" y="0"/>
            <a:ext cx="66294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发展阶段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社会主义初级阶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根本任务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解放发展生产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外部条件：和平与发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政治保证：坚持四项基本原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战略步骤：三步走战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党的领导：坚持中共的领导核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依靠力量：工人、农民、知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分子，各族人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祖国统一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一国两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发展道路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建设有中国特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icrosoft JhengHei"/>
              <a:buChar char="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社会主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0" y="3573360"/>
            <a:ext cx="9144000" cy="106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邓小平理论的精髓：解放思想，实事求是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77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4" dur="770" fill="hold"/>
                                        <p:tgtEl>
                                          <p:spTgt spid="2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6" dur="77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8" dur="77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314316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3" descr="按此在新窗口浏览图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019400" cy="3843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20064310115931049"/>
          <p:cNvPicPr/>
          <p:nvPr/>
        </p:nvPicPr>
        <p:blipFill>
          <a:blip r:embed="rId3"/>
          <a:stretch/>
        </p:blipFill>
        <p:spPr>
          <a:xfrm>
            <a:off x="3276720" y="0"/>
            <a:ext cx="2950920" cy="371628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5"/>
          <p:cNvSpPr/>
          <p:nvPr/>
        </p:nvSpPr>
        <p:spPr>
          <a:xfrm>
            <a:off x="6300720" y="476280"/>
            <a:ext cx="2735280" cy="2654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宋体"/>
                <a:ea typeface="黑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99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9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日，正当中国的改革开放事业蒸蒸日上，香港也即将回到中国人民怀抱的时候，邓小平同志却因病医治无效在北京去世，享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9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岁。他的角膜也贡献出来了，遗体也捐作医学研究，最后，骨灰也撒到祖国的大海里去。他什么都没有留下。</a:t>
            </a:r>
            <a:r>
              <a:rPr b="1" lang="zh-CN" sz="2400" spc="-1" strike="noStrike">
                <a:solidFill>
                  <a:srgbClr val="ffff99"/>
                </a:solidFill>
                <a:latin typeface="宋体"/>
              </a:rPr>
              <a:t> </a:t>
            </a:r>
            <a:br>
              <a:rPr sz="2400"/>
            </a:br>
            <a:r>
              <a:rPr b="1" lang="zh-CN" sz="2400" spc="-1" strike="noStrike">
                <a:solidFill>
                  <a:srgbClr val="ffff99"/>
                </a:solidFill>
                <a:latin typeface="宋体"/>
              </a:rPr>
              <a:t>　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6" descr="xin_4110041211116561321920"/>
          <p:cNvPicPr/>
          <p:nvPr/>
        </p:nvPicPr>
        <p:blipFill>
          <a:blip r:embed="rId4"/>
          <a:stretch/>
        </p:blipFill>
        <p:spPr>
          <a:xfrm>
            <a:off x="3203640" y="3500280"/>
            <a:ext cx="3024000" cy="33577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D2"/>
          <p:cNvPicPr/>
          <p:nvPr/>
        </p:nvPicPr>
        <p:blipFill>
          <a:blip r:embed="rId5"/>
          <a:stretch/>
        </p:blipFill>
        <p:spPr>
          <a:xfrm>
            <a:off x="0" y="3645000"/>
            <a:ext cx="3203640" cy="321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2"/>
          <p:cNvSpPr/>
          <p:nvPr/>
        </p:nvSpPr>
        <p:spPr>
          <a:xfrm>
            <a:off x="7135200" y="0"/>
            <a:ext cx="20088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是中国人民的儿子</a:t>
            </a: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深情地爱着我的祖国和人民</a:t>
            </a: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!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3" descr="xinsrc_c2aef2f00ff94dd6892d0b2859112292"/>
          <p:cNvPicPr/>
          <p:nvPr/>
        </p:nvPicPr>
        <p:blipFill>
          <a:blip r:embed="rId1"/>
          <a:stretch/>
        </p:blipFill>
        <p:spPr>
          <a:xfrm>
            <a:off x="0" y="0"/>
            <a:ext cx="7885080" cy="688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4"/>
          <p:cNvSpPr/>
          <p:nvPr/>
        </p:nvSpPr>
        <p:spPr>
          <a:xfrm>
            <a:off x="4211640" y="404640"/>
            <a:ext cx="4465800" cy="2287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16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岁赴法国勤工俭学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在欧洲接受了马克思主义思潮的洗礼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投身于中华民族的解放事业。在枪林弹雨中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参与创建了新中国。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在新中国的初期岁月，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参与筹划巩固政权和经济建设。在文革浩劫中，曾受到错误批判，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被撤销党内外一切职务。从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1978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年以后，他成为中共的主要决策人，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中国改革和现代化建设的总设计师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3792cb39e9c0ddbb3b87ce2e"/>
          <p:cNvPicPr/>
          <p:nvPr/>
        </p:nvPicPr>
        <p:blipFill>
          <a:blip r:embed="rId1"/>
          <a:stretch/>
        </p:blipFill>
        <p:spPr>
          <a:xfrm>
            <a:off x="395280" y="260280"/>
            <a:ext cx="3354480" cy="47912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250920" y="551664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邓小平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幼圆"/>
              </a:rPr>
              <a:t>(1904---1997)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12"/>
          <p:cNvSpPr/>
          <p:nvPr/>
        </p:nvSpPr>
        <p:spPr>
          <a:xfrm>
            <a:off x="0" y="0"/>
            <a:ext cx="899784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"/>
          <p:cNvSpPr/>
          <p:nvPr/>
        </p:nvSpPr>
        <p:spPr>
          <a:xfrm>
            <a:off x="1187280" y="3213000"/>
            <a:ext cx="5940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和平与发展是当今时代的主题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1763640" y="2492280"/>
            <a:ext cx="51627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科学技术是第一生产力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2411280" y="3860640"/>
            <a:ext cx="4321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a50021"/>
                </a:solidFill>
                <a:latin typeface="宋体"/>
              </a:rPr>
              <a:t>贫穷不是社会主义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611280" y="4365720"/>
            <a:ext cx="7561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改革开放胆子要大一些，敢于试验，不能像小脚女人一样。看准了的，就大胆地试，大胆地闯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179280" y="1844640"/>
            <a:ext cx="8229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ab6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4ab6"/>
                </a:solidFill>
                <a:latin typeface="宋体"/>
              </a:rPr>
              <a:t>不管白猫黑猫</a:t>
            </a:r>
            <a:r>
              <a:rPr b="1" lang="en-US" sz="3200" spc="-1" strike="noStrike">
                <a:solidFill>
                  <a:srgbClr val="004ab6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4ab6"/>
                </a:solidFill>
                <a:latin typeface="宋体"/>
              </a:rPr>
              <a:t>捉住老鼠就是好猫。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395280" y="692280"/>
            <a:ext cx="6408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是中国人民的儿子，我深情地爱着我的祖国和人民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8"/>
          <p:cNvSpPr/>
          <p:nvPr/>
        </p:nvSpPr>
        <p:spPr>
          <a:xfrm>
            <a:off x="8229600" y="6400800"/>
            <a:ext cx="914400" cy="457200"/>
          </a:xfrm>
          <a:prstGeom prst="smileyFace">
            <a:avLst>
              <a:gd name="adj" fmla="val 4653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2666880" y="30240"/>
            <a:ext cx="2743200" cy="58140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新魏"/>
              </a:rPr>
              <a:t>小平语录摘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Object 10" descr=""/>
          <p:cNvPicPr/>
          <p:nvPr/>
        </p:nvPicPr>
        <p:blipFill>
          <a:blip r:embed="rId1"/>
          <a:stretch/>
        </p:blipFill>
        <p:spPr>
          <a:xfrm>
            <a:off x="7273800" y="0"/>
            <a:ext cx="1870200" cy="249228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11"/>
          <p:cNvSpPr/>
          <p:nvPr/>
        </p:nvSpPr>
        <p:spPr>
          <a:xfrm>
            <a:off x="0" y="5791320"/>
            <a:ext cx="9144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        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实现四化，永不称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5"/>
          <p:cNvSpPr/>
          <p:nvPr/>
        </p:nvSpPr>
        <p:spPr>
          <a:xfrm>
            <a:off x="0" y="0"/>
            <a:ext cx="899784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"/>
          <p:cNvSpPr/>
          <p:nvPr/>
        </p:nvSpPr>
        <p:spPr>
          <a:xfrm>
            <a:off x="838080" y="1676520"/>
            <a:ext cx="762156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楷体_GB2312"/>
              </a:rPr>
              <a:t>邓小平大幅度提高人民生活水平，作为与建国之父毛泽东并列的“中兴始祖”肯定将名垂青史。                         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楷体_GB2312"/>
              </a:rPr>
              <a:t>　　　　                   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楷体_GB2312"/>
              </a:rPr>
              <a:t>——《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楷体_GB2312"/>
              </a:rPr>
              <a:t>共同社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楷体_GB2312"/>
              </a:rPr>
              <a:t>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1116000" y="4076640"/>
            <a:ext cx="7469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楷体_GB2312"/>
              </a:rPr>
              <a:t>邓小平把中国带出了落后与孤立，是社会主义市场经济之父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楷体_GB2312"/>
              </a:rPr>
              <a:t>　　　　　　　　　　　　　　　　　　　                      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楷体_GB2312"/>
              </a:rPr>
              <a:t>——《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楷体_GB2312"/>
              </a:rPr>
              <a:t>德新社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楷体_GB2312"/>
              </a:rPr>
              <a:t>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楷体_GB2312"/>
              </a:rPr>
              <a:t>                                                  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WordArt 4"/>
          <p:cNvSpPr txBox="1"/>
          <p:nvPr/>
        </p:nvSpPr>
        <p:spPr>
          <a:xfrm>
            <a:off x="1981080" y="228600"/>
            <a:ext cx="49532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国际社会的评价</a:t>
            </a:r>
            <a:endParaRPr b="1" lang="en-US" sz="2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6"/>
          <p:cNvSpPr/>
          <p:nvPr/>
        </p:nvSpPr>
        <p:spPr>
          <a:xfrm>
            <a:off x="0" y="0"/>
            <a:ext cx="899784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"/>
          <p:cNvSpPr/>
          <p:nvPr/>
        </p:nvSpPr>
        <p:spPr>
          <a:xfrm>
            <a:off x="324000" y="404640"/>
            <a:ext cx="386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三、评价邓小平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0" y="1413000"/>
            <a:ext cx="9144000" cy="360"/>
            <a:chOff x="0" y="1413000"/>
            <a:chExt cx="9144000" cy="360"/>
          </a:xfrm>
        </p:grpSpPr>
        <p:sp>
          <p:nvSpPr>
            <p:cNvPr id="272" name="Line 3"/>
            <p:cNvSpPr/>
            <p:nvPr/>
          </p:nvSpPr>
          <p:spPr>
            <a:xfrm>
              <a:off x="0" y="1413000"/>
              <a:ext cx="9144000" cy="0"/>
            </a:xfrm>
            <a:prstGeom prst="line">
              <a:avLst/>
            </a:prstGeom>
            <a:ln w="2844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 txBox="1"/>
            <p:nvPr/>
          </p:nvSpPr>
          <p:spPr>
            <a:xfrm>
              <a:off x="0" y="141300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Text Box 4"/>
          <p:cNvSpPr/>
          <p:nvPr/>
        </p:nvSpPr>
        <p:spPr>
          <a:xfrm>
            <a:off x="324000" y="1700280"/>
            <a:ext cx="3456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黑体"/>
              </a:rPr>
              <a:t>、革命时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108000" y="2708280"/>
            <a:ext cx="9144000" cy="308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他领导百色起义和龙州起义，建立左右江革命根据地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解放战争时期率军开辟中原战场，领导淮海战役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渡江战役为新中国的诞生立下了赫赫战功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建国初期解放西南，主政西南，为和平解放西藏做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大量工作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2"/>
          <p:cNvSpPr/>
          <p:nvPr/>
        </p:nvSpPr>
        <p:spPr>
          <a:xfrm>
            <a:off x="0" y="0"/>
            <a:ext cx="8997840" cy="6478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60480" y="30240"/>
            <a:ext cx="400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三、评价邓小平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0" y="1052640"/>
            <a:ext cx="9144000" cy="360"/>
            <a:chOff x="0" y="1052640"/>
            <a:chExt cx="9144000" cy="360"/>
          </a:xfrm>
        </p:grpSpPr>
        <p:sp>
          <p:nvSpPr>
            <p:cNvPr id="279" name="Line 4"/>
            <p:cNvSpPr/>
            <p:nvPr/>
          </p:nvSpPr>
          <p:spPr>
            <a:xfrm>
              <a:off x="0" y="1052640"/>
              <a:ext cx="9144000" cy="0"/>
            </a:xfrm>
            <a:prstGeom prst="line">
              <a:avLst/>
            </a:prstGeom>
            <a:ln w="2844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 txBox="1"/>
            <p:nvPr/>
          </p:nvSpPr>
          <p:spPr>
            <a:xfrm>
              <a:off x="0" y="105264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Text Box 5"/>
          <p:cNvSpPr/>
          <p:nvPr/>
        </p:nvSpPr>
        <p:spPr>
          <a:xfrm>
            <a:off x="0" y="1197000"/>
            <a:ext cx="3411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黑体"/>
              </a:rPr>
              <a:t>、建设时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3447720" y="2060640"/>
            <a:ext cx="9687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、重新确立了解放思想、实事求是的思想路线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0" y="2781360"/>
            <a:ext cx="7848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、创立了建设有中国特色社会主义伟大理论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8"/>
          <p:cNvSpPr/>
          <p:nvPr/>
        </p:nvSpPr>
        <p:spPr>
          <a:xfrm>
            <a:off x="0" y="3573360"/>
            <a:ext cx="914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、以经济建设为中心，大力发展生产力，不断推进改革           开放，推动国民经济高速发展，国家综合国力大大增强，国际地位大大提高，社会主义建设取得巨大成就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9"/>
          <p:cNvSpPr/>
          <p:nvPr/>
        </p:nvSpPr>
        <p:spPr>
          <a:xfrm>
            <a:off x="0" y="5300640"/>
            <a:ext cx="914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、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一国两制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伟大构想指导下成功地解决香港、澳门问题，逐步实现祖国统一大业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4"/>
          <p:cNvSpPr/>
          <p:nvPr/>
        </p:nvSpPr>
        <p:spPr>
          <a:xfrm>
            <a:off x="0" y="0"/>
            <a:ext cx="899784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0" y="213336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是无产阶级革命家，为新中国的诞生作出了重要贡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更是中国改革开放和现代化建设的总设计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是建设中国特色社会主义理论的创立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324000" y="260280"/>
            <a:ext cx="386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三、评价邓小平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179280" y="1197000"/>
            <a:ext cx="8785440" cy="360"/>
            <a:chOff x="179280" y="1197000"/>
            <a:chExt cx="8785440" cy="360"/>
          </a:xfrm>
        </p:grpSpPr>
        <p:sp>
          <p:nvSpPr>
            <p:cNvPr id="290" name="Line 6"/>
            <p:cNvSpPr/>
            <p:nvPr/>
          </p:nvSpPr>
          <p:spPr>
            <a:xfrm>
              <a:off x="179280" y="1197000"/>
              <a:ext cx="8785440" cy="0"/>
            </a:xfrm>
            <a:prstGeom prst="line">
              <a:avLst/>
            </a:prstGeom>
            <a:ln w="2844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 txBox="1"/>
            <p:nvPr/>
          </p:nvSpPr>
          <p:spPr>
            <a:xfrm>
              <a:off x="179280" y="1197000"/>
              <a:ext cx="8785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Text Box 8"/>
          <p:cNvSpPr/>
          <p:nvPr/>
        </p:nvSpPr>
        <p:spPr>
          <a:xfrm>
            <a:off x="324000" y="1484280"/>
            <a:ext cx="3889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、全面评价邓小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4"/>
          <p:cNvSpPr/>
          <p:nvPr/>
        </p:nvSpPr>
        <p:spPr>
          <a:xfrm>
            <a:off x="0" y="0"/>
            <a:ext cx="899784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"/>
          <p:cNvSpPr/>
          <p:nvPr/>
        </p:nvSpPr>
        <p:spPr>
          <a:xfrm>
            <a:off x="324000" y="2276640"/>
            <a:ext cx="82296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胸怀宽广，志向高远，以国家民族的解放和进步为已任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勤奋好学，积极探索，以丰富的知识和科学的理论武装自己的头脑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勇于实践、实事求是，结合实践不断检验、完善和更新已有的思想理论体系，不盲从迷信权威和经验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539640" y="1557360"/>
            <a:ext cx="3672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、伟人的优秀品质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324000" y="189000"/>
            <a:ext cx="386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三、评价邓小平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179280" y="1197000"/>
            <a:ext cx="8785440" cy="360"/>
            <a:chOff x="179280" y="1197000"/>
            <a:chExt cx="8785440" cy="360"/>
          </a:xfrm>
        </p:grpSpPr>
        <p:sp>
          <p:nvSpPr>
            <p:cNvPr id="298" name="Line 7"/>
            <p:cNvSpPr/>
            <p:nvPr/>
          </p:nvSpPr>
          <p:spPr>
            <a:xfrm>
              <a:off x="179280" y="1197000"/>
              <a:ext cx="8785440" cy="0"/>
            </a:xfrm>
            <a:prstGeom prst="line">
              <a:avLst/>
            </a:prstGeom>
            <a:ln w="2844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 txBox="1"/>
            <p:nvPr/>
          </p:nvSpPr>
          <p:spPr>
            <a:xfrm>
              <a:off x="179280" y="1197000"/>
              <a:ext cx="8785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19"/>
          <p:cNvSpPr/>
          <p:nvPr/>
        </p:nvSpPr>
        <p:spPr>
          <a:xfrm>
            <a:off x="0" y="0"/>
            <a:ext cx="899784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2"/>
          <p:cNvSpPr/>
          <p:nvPr/>
        </p:nvSpPr>
        <p:spPr>
          <a:xfrm>
            <a:off x="3505320" y="152280"/>
            <a:ext cx="19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小 结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324000" y="3429000"/>
            <a:ext cx="140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邓小平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理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971280" y="2133360"/>
            <a:ext cx="360" cy="1368360"/>
            <a:chOff x="971280" y="2133360"/>
            <a:chExt cx="360" cy="1368360"/>
          </a:xfrm>
        </p:grpSpPr>
        <p:sp>
          <p:nvSpPr>
            <p:cNvPr id="304" name="Line 11"/>
            <p:cNvSpPr/>
            <p:nvPr/>
          </p:nvSpPr>
          <p:spPr>
            <a:xfrm flipV="1">
              <a:off x="971640" y="2133360"/>
              <a:ext cx="0" cy="136836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 txBox="1"/>
            <p:nvPr/>
          </p:nvSpPr>
          <p:spPr>
            <a:xfrm rot="10800000">
              <a:off x="971280" y="2133360"/>
              <a:ext cx="360" cy="136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Text Box 12"/>
          <p:cNvSpPr/>
          <p:nvPr/>
        </p:nvSpPr>
        <p:spPr>
          <a:xfrm>
            <a:off x="250920" y="11970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毛泽东思想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9"/>
          <p:cNvSpPr/>
          <p:nvPr/>
        </p:nvSpPr>
        <p:spPr>
          <a:xfrm>
            <a:off x="7956720" y="476280"/>
            <a:ext cx="838080" cy="43210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解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放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实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是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20"/>
          <p:cNvSpPr/>
          <p:nvPr/>
        </p:nvSpPr>
        <p:spPr>
          <a:xfrm>
            <a:off x="2556000" y="836640"/>
            <a:ext cx="4060800" cy="9471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解决半殖民地半封建社会的中国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如何独立并走向社会主义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的问题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21"/>
          <p:cNvSpPr/>
          <p:nvPr/>
        </p:nvSpPr>
        <p:spPr>
          <a:xfrm>
            <a:off x="2340000" y="3429000"/>
            <a:ext cx="4746600" cy="9471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楷体_GB2312"/>
              </a:rPr>
              <a:t>解决</a:t>
            </a: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楷体_GB2312"/>
              </a:rPr>
              <a:t>什么是社会主义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楷体_GB2312"/>
              </a:rPr>
              <a:t>和</a:t>
            </a:r>
            <a:br>
              <a:rPr sz="2800"/>
            </a:b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楷体_GB2312"/>
              </a:rPr>
              <a:t>怎样建设社会主义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楷体_GB2312"/>
              </a:rPr>
              <a:t>的问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1619280" y="1628640"/>
            <a:ext cx="649080" cy="360"/>
            <a:chOff x="1619280" y="1628640"/>
            <a:chExt cx="649080" cy="360"/>
          </a:xfrm>
        </p:grpSpPr>
        <p:sp>
          <p:nvSpPr>
            <p:cNvPr id="311" name="Line 23"/>
            <p:cNvSpPr/>
            <p:nvPr/>
          </p:nvSpPr>
          <p:spPr>
            <a:xfrm>
              <a:off x="1619280" y="1628640"/>
              <a:ext cx="649080" cy="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 txBox="1"/>
            <p:nvPr/>
          </p:nvSpPr>
          <p:spPr>
            <a:xfrm>
              <a:off x="1619280" y="1628640"/>
              <a:ext cx="649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1547640" y="3860640"/>
            <a:ext cx="648000" cy="360"/>
            <a:chOff x="1547640" y="3860640"/>
            <a:chExt cx="648000" cy="360"/>
          </a:xfrm>
        </p:grpSpPr>
        <p:sp>
          <p:nvSpPr>
            <p:cNvPr id="314" name="Line 24"/>
            <p:cNvSpPr/>
            <p:nvPr/>
          </p:nvSpPr>
          <p:spPr>
            <a:xfrm>
              <a:off x="1547640" y="3860640"/>
              <a:ext cx="648000" cy="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 txBox="1"/>
            <p:nvPr/>
          </p:nvSpPr>
          <p:spPr>
            <a:xfrm>
              <a:off x="1547640" y="3860640"/>
              <a:ext cx="648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4284720" y="2276640"/>
            <a:ext cx="17280" cy="1134720"/>
            <a:chOff x="4284720" y="2276640"/>
            <a:chExt cx="17280" cy="1134720"/>
          </a:xfrm>
        </p:grpSpPr>
        <p:sp>
          <p:nvSpPr>
            <p:cNvPr id="317" name="Line 26"/>
            <p:cNvSpPr/>
            <p:nvPr/>
          </p:nvSpPr>
          <p:spPr>
            <a:xfrm>
              <a:off x="4284720" y="2276640"/>
              <a:ext cx="17280" cy="1134720"/>
            </a:xfrm>
            <a:prstGeom prst="line">
              <a:avLst/>
            </a:prstGeom>
            <a:ln w="7632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 txBox="1"/>
            <p:nvPr/>
          </p:nvSpPr>
          <p:spPr>
            <a:xfrm>
              <a:off x="4284720" y="2276640"/>
              <a:ext cx="17280" cy="113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7093080" y="3860640"/>
            <a:ext cx="934920" cy="360"/>
            <a:chOff x="7093080" y="3860640"/>
            <a:chExt cx="934920" cy="360"/>
          </a:xfrm>
        </p:grpSpPr>
        <p:sp>
          <p:nvSpPr>
            <p:cNvPr id="320" name="Line 24"/>
            <p:cNvSpPr/>
            <p:nvPr/>
          </p:nvSpPr>
          <p:spPr>
            <a:xfrm>
              <a:off x="7093080" y="3860640"/>
              <a:ext cx="934920" cy="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 txBox="1"/>
            <p:nvPr/>
          </p:nvSpPr>
          <p:spPr>
            <a:xfrm>
              <a:off x="7093080" y="3860640"/>
              <a:ext cx="934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6588000" y="1773360"/>
            <a:ext cx="1440000" cy="360"/>
            <a:chOff x="6588000" y="1773360"/>
            <a:chExt cx="1440000" cy="360"/>
          </a:xfrm>
        </p:grpSpPr>
        <p:sp>
          <p:nvSpPr>
            <p:cNvPr id="323" name="Line 23"/>
            <p:cNvSpPr/>
            <p:nvPr/>
          </p:nvSpPr>
          <p:spPr>
            <a:xfrm>
              <a:off x="6588000" y="1773360"/>
              <a:ext cx="1440000" cy="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 txBox="1"/>
            <p:nvPr/>
          </p:nvSpPr>
          <p:spPr>
            <a:xfrm>
              <a:off x="6588000" y="1773360"/>
              <a:ext cx="1440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Text Box 22"/>
          <p:cNvSpPr/>
          <p:nvPr/>
        </p:nvSpPr>
        <p:spPr>
          <a:xfrm>
            <a:off x="179280" y="5300640"/>
            <a:ext cx="864072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邓小平理论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马克思主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同中国实际相结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第二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历史性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飞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的理论成果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dur="indefinite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dur="indefinite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dur="indefinite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dur="indefinite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dur="indefinite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dur="indefinite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C2C3B-8BEB-49E3-BA04-51B7F29CCFD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7"/>
          <p:cNvSpPr/>
          <p:nvPr/>
        </p:nvSpPr>
        <p:spPr>
          <a:xfrm>
            <a:off x="0" y="0"/>
            <a:ext cx="899784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5" descr="30ecd5ef63280179acafd5d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413000"/>
            <a:ext cx="1990800" cy="25192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3" descr="0e655ca713a4c28fd1435896"/>
          <p:cNvPicPr/>
          <p:nvPr/>
        </p:nvPicPr>
        <p:blipFill>
          <a:blip r:embed="rId3"/>
          <a:stretch/>
        </p:blipFill>
        <p:spPr>
          <a:xfrm>
            <a:off x="5292720" y="1413000"/>
            <a:ext cx="2897280" cy="25207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5" descr="dbf554ed5f81019cb21cb118"/>
          <p:cNvPicPr/>
          <p:nvPr/>
        </p:nvPicPr>
        <p:blipFill>
          <a:blip r:embed="rId4"/>
          <a:stretch/>
        </p:blipFill>
        <p:spPr>
          <a:xfrm>
            <a:off x="2843280" y="1413000"/>
            <a:ext cx="1886040" cy="252072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17"/>
          <p:cNvSpPr/>
          <p:nvPr/>
        </p:nvSpPr>
        <p:spPr>
          <a:xfrm>
            <a:off x="0" y="189000"/>
            <a:ext cx="8893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孙中山、毛泽东、邓小平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探索民族发展之路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思想和模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8"/>
          <p:cNvSpPr/>
          <p:nvPr/>
        </p:nvSpPr>
        <p:spPr>
          <a:xfrm>
            <a:off x="468360" y="4149720"/>
            <a:ext cx="1441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孙中山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三民主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欧美模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9"/>
          <p:cNvSpPr/>
          <p:nvPr/>
        </p:nvSpPr>
        <p:spPr>
          <a:xfrm>
            <a:off x="2843280" y="4076640"/>
            <a:ext cx="208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毛泽东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农村包围城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苏联模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0"/>
          <p:cNvSpPr/>
          <p:nvPr/>
        </p:nvSpPr>
        <p:spPr>
          <a:xfrm>
            <a:off x="5435640" y="4076640"/>
            <a:ext cx="3097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邓小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解放思想、实事求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中国特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21"/>
          <p:cNvSpPr/>
          <p:nvPr/>
        </p:nvSpPr>
        <p:spPr>
          <a:xfrm>
            <a:off x="468360" y="5734080"/>
            <a:ext cx="85327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共同道路：是救国、建国、强国之路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是振兴中华、振兴民族的道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16"/>
          <p:cNvSpPr/>
          <p:nvPr/>
        </p:nvSpPr>
        <p:spPr>
          <a:xfrm>
            <a:off x="0" y="0"/>
            <a:ext cx="899784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457200" y="380880"/>
            <a:ext cx="5943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520560" y="241200"/>
            <a:ext cx="601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邓小平的三起三落：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444600" y="10033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一落：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1587600" y="92700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黑体"/>
              </a:rPr>
              <a:t>1933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黑体"/>
              </a:rPr>
              <a:t>年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黑体"/>
              </a:rPr>
              <a:t>月，因拥护毛泽东的正确主张，被党内“左倾”领导人斗争、撤职、下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444600" y="19051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黑体"/>
              </a:rPr>
              <a:t>一起：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1663560" y="1828800"/>
            <a:ext cx="678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193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月，遵义会议后邓小平平反，邓小平得到了晋升，被正式任命为红军总政治部秘书长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444600" y="28954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二落：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1600200" y="289548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黑体"/>
              </a:rPr>
              <a:t>“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黑体"/>
              </a:rPr>
              <a:t>文革”初期，被扣上“中国第二号走资派”的帽子，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黑体"/>
              </a:rPr>
              <a:t>1969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黑体"/>
              </a:rPr>
              <a:t>年被下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444600" y="39625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黑体"/>
              </a:rPr>
              <a:t>二起：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1600200" y="396252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197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年周恩来病重，复出代周主持中央日常工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2"/>
          <p:cNvSpPr/>
          <p:nvPr/>
        </p:nvSpPr>
        <p:spPr>
          <a:xfrm>
            <a:off x="457200" y="47242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三落：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3"/>
          <p:cNvSpPr/>
          <p:nvPr/>
        </p:nvSpPr>
        <p:spPr>
          <a:xfrm>
            <a:off x="457200" y="57913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黑体"/>
              </a:rPr>
              <a:t>三起：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4"/>
          <p:cNvSpPr/>
          <p:nvPr/>
        </p:nvSpPr>
        <p:spPr>
          <a:xfrm>
            <a:off x="1523880" y="472428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  <a:ea typeface="黑体"/>
              </a:rPr>
              <a:t>全面整顿文革错误，为毛泽东所不容；“天安门事件”后，被撤销党内外一切职务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1523880" y="5791320"/>
            <a:ext cx="563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四人帮”倒台后再次复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自主学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邓小平提出改革开放的时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邓小平提出必须坚持四项基本原则的背景、四项基本原则的内容、意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邓小平提出建设有中国特色的社会主义的时间、会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邓小平阐明社会主义初级阶段的理论的时间、会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邓小平提出党在社会主义初级阶段的基本路线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找出社会主义初级阶段经济发展的三步走战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南巡的背景、南巡讲话的重要观点、讲话的意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邓小平理论是如何形成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哪个会议确立了邓小平理论在全党的指导地位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哪个会议把邓小平理论确立为党的指导思想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611280" y="80316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一、改革开放的总设计师邓小平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68360" y="1700280"/>
            <a:ext cx="8064360" cy="360"/>
            <a:chOff x="468360" y="1700280"/>
            <a:chExt cx="8064360" cy="360"/>
          </a:xfrm>
        </p:grpSpPr>
        <p:sp>
          <p:nvSpPr>
            <p:cNvPr id="163" name="Line 3"/>
            <p:cNvSpPr/>
            <p:nvPr/>
          </p:nvSpPr>
          <p:spPr>
            <a:xfrm>
              <a:off x="468360" y="1700280"/>
              <a:ext cx="8064360" cy="0"/>
            </a:xfrm>
            <a:prstGeom prst="line">
              <a:avLst/>
            </a:prstGeom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 txBox="1"/>
            <p:nvPr/>
          </p:nvSpPr>
          <p:spPr>
            <a:xfrm>
              <a:off x="468360" y="1700280"/>
              <a:ext cx="806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Rectangle 4"/>
          <p:cNvSpPr/>
          <p:nvPr/>
        </p:nvSpPr>
        <p:spPr>
          <a:xfrm>
            <a:off x="468360" y="19162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）十一届三中全会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前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，邓小平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提出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实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改革开放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NO_2381"/>
          <p:cNvPicPr/>
          <p:nvPr/>
        </p:nvPicPr>
        <p:blipFill>
          <a:blip r:embed="rId1"/>
          <a:stretch/>
        </p:blipFill>
        <p:spPr>
          <a:xfrm>
            <a:off x="684360" y="3068640"/>
            <a:ext cx="7848360" cy="338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2120040" y="40464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一、改革开放的总设计师邓小平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539640" y="1341360"/>
            <a:ext cx="8064720" cy="360"/>
            <a:chOff x="539640" y="1341360"/>
            <a:chExt cx="8064720" cy="360"/>
          </a:xfrm>
        </p:grpSpPr>
        <p:sp>
          <p:nvSpPr>
            <p:cNvPr id="169" name="Line 3"/>
            <p:cNvSpPr/>
            <p:nvPr/>
          </p:nvSpPr>
          <p:spPr>
            <a:xfrm>
              <a:off x="539640" y="1341360"/>
              <a:ext cx="8064720" cy="0"/>
            </a:xfrm>
            <a:prstGeom prst="line">
              <a:avLst/>
            </a:prstGeom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 txBox="1"/>
            <p:nvPr/>
          </p:nvSpPr>
          <p:spPr>
            <a:xfrm>
              <a:off x="539640" y="1341360"/>
              <a:ext cx="8064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Rectangle 4"/>
          <p:cNvSpPr/>
          <p:nvPr/>
        </p:nvSpPr>
        <p:spPr>
          <a:xfrm>
            <a:off x="611280" y="148428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实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改革开放后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针对出现的资产阶级自由化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提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中国实现现代化，必须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坚持四项基本原则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6" descr=""/>
          <p:cNvPicPr/>
          <p:nvPr/>
        </p:nvPicPr>
        <p:blipFill>
          <a:blip r:embed="rId1"/>
          <a:stretch/>
        </p:blipFill>
        <p:spPr>
          <a:xfrm>
            <a:off x="900000" y="2970360"/>
            <a:ext cx="7488360" cy="38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"/>
          <p:cNvGrpSpPr/>
          <p:nvPr/>
        </p:nvGrpSpPr>
        <p:grpSpPr>
          <a:xfrm>
            <a:off x="539640" y="1341360"/>
            <a:ext cx="8064720" cy="360"/>
            <a:chOff x="539640" y="1341360"/>
            <a:chExt cx="8064720" cy="360"/>
          </a:xfrm>
        </p:grpSpPr>
        <p:sp>
          <p:nvSpPr>
            <p:cNvPr id="174" name="Line 3"/>
            <p:cNvSpPr/>
            <p:nvPr/>
          </p:nvSpPr>
          <p:spPr>
            <a:xfrm>
              <a:off x="539640" y="1341360"/>
              <a:ext cx="8064720" cy="0"/>
            </a:xfrm>
            <a:prstGeom prst="line">
              <a:avLst/>
            </a:prstGeom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 txBox="1"/>
            <p:nvPr/>
          </p:nvSpPr>
          <p:spPr>
            <a:xfrm>
              <a:off x="539640" y="1341360"/>
              <a:ext cx="8064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Text Box 8"/>
          <p:cNvSpPr/>
          <p:nvPr/>
        </p:nvSpPr>
        <p:spPr>
          <a:xfrm>
            <a:off x="250920" y="1844640"/>
            <a:ext cx="4681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98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在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中共十二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上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提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把马克思主义的普遍真理同我国的具体实际结合起来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走自己的道路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建设有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中国特色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社会主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539640" y="40464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一、改革开放的总设计师邓小平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0" descr="1b0d4f0f780f4f6a6159f31c"/>
          <p:cNvPicPr/>
          <p:nvPr/>
        </p:nvPicPr>
        <p:blipFill>
          <a:blip r:embed="rId1"/>
          <a:stretch/>
        </p:blipFill>
        <p:spPr>
          <a:xfrm>
            <a:off x="5292720" y="1628640"/>
            <a:ext cx="2928960" cy="418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539640" y="1341360"/>
            <a:ext cx="8064720" cy="360"/>
            <a:chOff x="539640" y="1341360"/>
            <a:chExt cx="8064720" cy="360"/>
          </a:xfrm>
        </p:grpSpPr>
        <p:sp>
          <p:nvSpPr>
            <p:cNvPr id="180" name="Line 2"/>
            <p:cNvSpPr/>
            <p:nvPr/>
          </p:nvSpPr>
          <p:spPr>
            <a:xfrm>
              <a:off x="539640" y="1341360"/>
              <a:ext cx="8064720" cy="0"/>
            </a:xfrm>
            <a:prstGeom prst="line">
              <a:avLst/>
            </a:prstGeom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 txBox="1"/>
            <p:nvPr/>
          </p:nvSpPr>
          <p:spPr>
            <a:xfrm>
              <a:off x="539640" y="1341360"/>
              <a:ext cx="8064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Text Box 4"/>
          <p:cNvSpPr/>
          <p:nvPr/>
        </p:nvSpPr>
        <p:spPr>
          <a:xfrm>
            <a:off x="539640" y="155736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98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又为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中共十三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阐明了社会主义初级阶段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基本路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作出了经济发展分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三步走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战略部署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395280" y="3213000"/>
            <a:ext cx="8064360" cy="1169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基本路线：即（一个中心，两个基本点），以经济建设为中心，坚持四项基本原则，坚持改革开放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3"/>
          <p:cNvSpPr/>
          <p:nvPr/>
        </p:nvSpPr>
        <p:spPr>
          <a:xfrm>
            <a:off x="468360" y="5157720"/>
            <a:ext cx="244944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三步走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4"/>
          <p:cNvSpPr/>
          <p:nvPr/>
        </p:nvSpPr>
        <p:spPr>
          <a:xfrm>
            <a:off x="2193120" y="40464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一、改革开放的总设计师邓小平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8199"/>
          <p:cNvSpPr/>
          <p:nvPr/>
        </p:nvSpPr>
        <p:spPr>
          <a:xfrm>
            <a:off x="1163520" y="60069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536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WordArt 3"/>
          <p:cNvSpPr txBox="1"/>
          <p:nvPr/>
        </p:nvSpPr>
        <p:spPr>
          <a:xfrm>
            <a:off x="3924360" y="404640"/>
            <a:ext cx="5075280" cy="96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社会主义初级阶段的基本路线：</a:t>
            </a:r>
            <a:endParaRPr b="1" lang="en-US" sz="24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9" name="WordArt 4"/>
          <p:cNvSpPr txBox="1"/>
          <p:nvPr/>
        </p:nvSpPr>
        <p:spPr>
          <a:xfrm>
            <a:off x="5148360" y="2060640"/>
            <a:ext cx="3240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19080">
                  <a:solidFill>
                    <a:srgbClr val="2a03cf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一个中心</a:t>
            </a:r>
            <a:endParaRPr b="1" i="1" lang="en-US" sz="2400" spc="1" strike="noStrike">
              <a:ln w="19080">
                <a:solidFill>
                  <a:srgbClr val="2a03cf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0" name="WordArt 5"/>
          <p:cNvSpPr txBox="1"/>
          <p:nvPr/>
        </p:nvSpPr>
        <p:spPr>
          <a:xfrm>
            <a:off x="4788000" y="4076640"/>
            <a:ext cx="3240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19080">
                  <a:solidFill>
                    <a:srgbClr val="2a03cf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两个基本点</a:t>
            </a:r>
            <a:endParaRPr b="1" i="1" lang="en-US" sz="2400" spc="1" strike="noStrike">
              <a:ln w="19080">
                <a:solidFill>
                  <a:srgbClr val="2a03cf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5364000" y="292428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2a03cf"/>
                </a:solidFill>
                <a:uFillTx/>
                <a:latin typeface="Arial"/>
              </a:rPr>
              <a:t>以经济建设为中心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43640" y="486900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2a03cf"/>
                </a:solidFill>
                <a:uFillTx/>
                <a:latin typeface="Arial"/>
              </a:rPr>
              <a:t>坚持改革开放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5543640" y="566100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2a03cf"/>
                </a:solidFill>
                <a:uFillTx/>
                <a:latin typeface="Arial"/>
              </a:rPr>
              <a:t>坚持四项基本原则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77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1" dur="770" fill="hold"/>
                                        <p:tgtEl>
                                          <p:spTgt spid="1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3" dur="77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5" dur="77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77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2" dur="770" fill="hold"/>
                                        <p:tgtEl>
                                          <p:spTgt spid="1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4" dur="77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6" dur="77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77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3" dur="770" fill="hold"/>
                                        <p:tgtEl>
                                          <p:spTgt spid="1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5" dur="77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7" dur="77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8T07:21:0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9:52Z</dcterms:modified>
  <cp:revision>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