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5.jpeg" ContentType="image/jpeg"/>
  <Override PartName="/ppt/media/type.wav" ContentType="audio/x-wav"/>
  <Override PartName="/ppt/media/cashreg.wav" ContentType="audio/x-wav"/>
  <Override PartName="/ppt/media/camera.wav" ContentType="audio/x-wav"/>
  <Override PartName="/ppt/media/chimes.wav" ContentType="audio/x-wav"/>
  <Override PartName="/ppt/media/image14.png" ContentType="image/png"/>
  <Override PartName="/ppt/media/image13.jpeg" ContentType="image/jpeg"/>
  <Override PartName="/ppt/media/projctor.wav" ContentType="audio/x-wav"/>
  <Override PartName="/ppt/media/image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3CF-C1BC-48C5-B6AB-B4ACFF4E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6FC-9B94-4A8E-ACC7-009B4542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83CB3-B4E9-443B-AE0B-0DA54790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1B835-1CDA-44FC-8A25-991B4670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A7096-82FF-4D3F-95CE-035A2E83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1E038-5BED-4D07-A295-6F8AE0C1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6F7E0-6543-4F9B-B3F7-16D0CB6B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D5366-3B3E-4467-B863-A90643EA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03D46-29BF-4978-80E9-C587773F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D00A9-64C8-4F8F-989E-04867E40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E6CFD-EA58-4A29-93EA-1F10D1B1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759DE-830A-487B-8C01-9B2C0529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578-9521-4809-ACFE-B6F52862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F0F48-21D5-4D6C-A947-32F93355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A5A1E-A128-4053-A195-12C5E35C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99813-C973-435D-A27D-2A3EF1F3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90193-43DA-4871-8900-FD3C34BA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F64C9-EF75-4F84-8DE0-FD367748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17C1F-429C-424B-BFF8-7F67500E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26967-E7D6-4045-991C-1CDD2E4C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E99AE-30B0-4B91-829F-CD9F9C54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86530-C62D-4418-B816-5AF34261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3DFEE-D167-4A4B-B71A-A4E3B520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188-FBAC-4926-867A-438CEB92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A82F2-5F2D-418F-9776-90EE79FC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32D0C-6FBD-47B5-944B-35484B29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E5443-EE8B-4A8E-BD6C-0C58FA02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093BB-FB1C-4CCD-AF0D-CB0C4580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E747F-BB0B-4867-9331-6E2027B3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EBE49-B5C1-4F38-AD4E-89644FAE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B0F2C-96D7-4EC7-BA8F-47EE61A6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DE1C6-C8C8-4CEF-8F46-5CB554DD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81C0F-B08A-4427-BD9B-42DBA398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957DE-78DF-4186-84A5-05236D95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C3B1-ADD4-4440-B687-E639A07C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096FB-BAC3-4CDF-B070-47318D51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F26CF-7450-453E-B0F1-EF69900F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1B468-DC24-48B0-8C4D-69605540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FA4CE-0423-444F-9D46-93933B35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C8C8D-1C49-4329-8393-FA2B8196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EAEA1-A9DD-4A67-985A-2E8A890F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28A97-83FE-430A-966D-18D45451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1C051-99B6-4F7A-9E95-F2BDBF58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F69AB-AD99-433F-9C98-52A7E224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04380-AD1F-4524-9557-0A26D563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B912-3FB8-46DF-83E1-C526EAD4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1CAE7-2B92-4995-A863-3A09A554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D1A4D-00F3-4CA5-B213-22EA04BA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08AA1-C0E4-4D78-B642-B4BB245C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6EC46-5A0E-4F4A-9D58-181DDC22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34537-AB78-4897-8D31-18803B8C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D2BD9-570D-4AAD-9F3F-7029037E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BB150-C77B-4597-8EC6-4DAA9E7D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6A746-E79E-402B-A1DC-72C35514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AA407-9C74-49C6-9567-E1F2406F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C5057-33B3-47E3-BD63-A5C3283A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05F8-13F6-4C88-8C7A-9E26BDEA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5C1D8-81D6-42D6-BFF2-412939DB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AB48B-7342-4E99-BDF7-D3E87339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8A999-21ED-48D9-A3F7-18992842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C3605-4520-4823-9F04-4AFE643C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28842-9F8B-45AF-9997-A5E5DF25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649DE-6D3E-46A8-B55C-115D8056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14778-E20A-46E7-91D1-E8B63E3C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2ABB-1109-41ED-96C5-444CA35F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B7BB-E136-4C73-8C2F-10BE5E32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D4B1-1488-4D1D-844E-F5B6C65C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C312-4958-4C18-8686-6AEFE63E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9BE-0D27-4B1B-9904-0E56DD3C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75CB-F667-40B4-BA55-1D4D7CDE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73D0-E319-4A58-8FF4-AA39BFE4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2E05-DFFA-446C-ADBC-4DC2C569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0710-F613-432B-8072-2CE4AB05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1B14-E097-4559-B0B4-956BDFEE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9D2F7-E3A9-46F2-924A-F86706A4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2E54D-1DE7-4E5D-9970-B91823C0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534F-394F-4B95-8A62-A273B1F9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9600-05AD-4E74-A758-C5D94963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AD34D-F735-4787-A34D-FA3A6ED9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033-06A1-42B9-9A3C-F4194B5E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DD02B-1227-4F44-A061-1BB7043F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92523-2D43-4D4D-BCD0-BAF06071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160F-5C36-49A4-93EF-8C677C3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5410E-6593-45F4-8C35-B4861979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24AB-D833-4DC1-8722-FEC2A199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BA606-71CB-4C74-9520-7E23FFA8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EC885-41BF-4363-8F35-E30584EA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F51AF-00CD-4886-B872-75399610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1859B-3EBE-4D75-8E4C-DC3BE665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A8512-5268-4974-A7B7-0BDA54F9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29A-6ACC-4A87-97E2-508F178C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67C1B-7EED-4203-A180-D556FA1C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D544F-7C9D-4737-9732-52BBD341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51EE-15A6-4991-A397-E4AFAA58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C676B-E975-456C-BE20-7D1E5EF4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2B741-8E82-4908-BD9A-E1F89659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B4430-E186-4517-B1E1-3F496C50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43327-9D64-4FAD-8CBC-A99AD8CF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0BF44-C6D3-43DA-AD69-C8D02F49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CDB4-6FBE-4013-86B0-A54C527D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E719D-7F01-4469-85BD-C6A5A433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F4A-6C6B-4846-8DFD-F104EB18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0420-3C37-4D01-B95A-73EF4A3A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FD8B7-1654-4C46-87E9-A4CCE3CC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8F44C-BEB8-4DE9-AA3D-EFC07696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F478A-FFF2-4996-BECA-0E04198A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2B29B-E2C2-4027-920F-42C56B00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D9A02-A4D8-4B87-9A65-F58BE466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5E57-9195-476B-A0EC-3A6387CB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672AA-EC18-4D73-B8A3-B20B31E0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5A147-6829-4325-A012-430A911A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0A9B6-85CE-4B8B-96A0-71BED2FA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9DA-642C-4B5D-98ED-DFB8EC56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6C416-726B-4E05-9068-07EB33C6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B1DBE-4E21-4AD3-BE1D-5FC404D0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80776-F0F3-4413-824A-F975EB4D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B9E6D-5110-4602-8AE0-F5CD08DC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C1DBB-E960-4A18-8592-067A6769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F8658-2626-4243-9FBD-B466A409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EE46D-A53D-42FA-9CD3-4CBFA107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1AB92-550E-4EC6-8C0A-1D5ED634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8FDB8-FF85-433E-810B-A15F9D25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56CE7-8CFE-4271-9DAF-16075330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845-08C4-428F-AA63-AC1FA46F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F2AD5-8857-4193-A095-4A53C8CC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B5EC2-E6C7-4855-8648-ADC92995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290B8-E473-4A40-B351-E360C0E7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38075-1307-4B39-9D7C-B54D5D44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60C52-816D-48C9-9C2B-972E1D6F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237D2-210D-4C0C-A6A0-9AB62552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BB240-FE81-4B6F-BD92-0262E05B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83816-D27E-4E86-B633-FB53F0D7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D2FED-1C6B-4F68-90DE-FB5FF117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51A38-04CF-47F6-870C-1E937E8F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C22-3035-487C-ABE5-E8D174EB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56906-AD02-424F-A22B-16E9BC48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6ED66-9B8A-4960-B86F-BD9E867D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84151-F493-4803-A73C-884C4E45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14FBB-76A7-4CE0-B9DC-38630AED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A88F1-76A7-4608-A99D-A73C5052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A2175-B0C6-4391-BA39-4920131E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1D595-A031-41F3-B62F-36A1854B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1F9D9-631E-4178-AF1C-9A9E64B0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C2CC0-3D31-49FC-850C-A5401596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0588C-8664-40BE-841E-08F0757D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FF6-0642-42D4-AE6B-050BFE12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31120-0968-42B1-B735-65B0C38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E3A92-1890-4EAA-9189-99CECF17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A5400-1FD4-482C-A4B7-20D99CBC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54D40-49A8-4C52-ACF5-352171DB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42707-3337-4853-A4BA-28850D71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55B9E-FBAF-4BAF-9C6C-D6C105DB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B57A5-D024-4535-ACA4-58513796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254D1-AC06-4DA5-B933-978F97DB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08CC2-D232-49D5-995B-D1E41050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D0494-4FDA-433A-876E-78C8B462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7E15-638E-496A-9A6E-56774B2128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dt" idx="2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ftr" idx="2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sldNum" idx="3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E675-A2E9-4364-A5D5-DCBAE8153C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F04A-5CC0-4687-8BA2-62D4D45972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dt" idx="3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ftr" idx="3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sldNum" idx="3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ED22-94D7-430F-80B2-214101C1F0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3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ftr" idx="3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3AD5-DACE-4982-A301-F36D449E20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23CF-2548-41A9-ABD6-6732CEC34F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228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1CFD-2041-4C5A-8848-8D98574007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0176-EAF8-405E-BBB6-F93C4EE9C7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FCBE-6F24-4BC0-AB74-F2CD84F6C6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9D64-6835-4402-83B2-E6B3652B44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8E9C-48C9-40A2-A1F7-B7FC718C3F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2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ftr" idx="2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2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379D-9436-4AF7-B794-660E671E94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25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26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27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CB61-27DB-4413-8E6D-A48A1CC4F0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矩形 1"/>
          <p:cNvSpPr/>
          <p:nvPr/>
        </p:nvSpPr>
        <p:spPr>
          <a:xfrm>
            <a:off x="900000" y="2565360"/>
            <a:ext cx="758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节 家庭电路中电流过大的原因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矩形 2"/>
          <p:cNvSpPr/>
          <p:nvPr/>
        </p:nvSpPr>
        <p:spPr>
          <a:xfrm>
            <a:off x="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十九章 生活用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矩形 3"/>
          <p:cNvSpPr/>
          <p:nvPr/>
        </p:nvSpPr>
        <p:spPr>
          <a:xfrm>
            <a:off x="531720" y="382680"/>
            <a:ext cx="639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义 务 教 育 教 科 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物理 九年级 全一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2"/>
          <p:cNvGrpSpPr/>
          <p:nvPr/>
        </p:nvGrpSpPr>
        <p:grpSpPr>
          <a:xfrm>
            <a:off x="1476360" y="2997360"/>
            <a:ext cx="2743200" cy="2057400"/>
            <a:chOff x="1476360" y="2997360"/>
            <a:chExt cx="2743200" cy="2057400"/>
          </a:xfrm>
        </p:grpSpPr>
        <p:sp>
          <p:nvSpPr>
            <p:cNvPr id="886" name="Text Box 3"/>
            <p:cNvSpPr/>
            <p:nvPr/>
          </p:nvSpPr>
          <p:spPr>
            <a:xfrm>
              <a:off x="3762360" y="38354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Group 4"/>
            <p:cNvGrpSpPr/>
            <p:nvPr/>
          </p:nvGrpSpPr>
          <p:grpSpPr>
            <a:xfrm>
              <a:off x="1476360" y="2997360"/>
              <a:ext cx="2667240" cy="2057400"/>
              <a:chOff x="1476360" y="2997360"/>
              <a:chExt cx="2667240" cy="2057400"/>
            </a:xfrm>
          </p:grpSpPr>
          <p:grpSp>
            <p:nvGrpSpPr>
              <p:cNvPr id="888" name="Group 5"/>
              <p:cNvGrpSpPr/>
              <p:nvPr/>
            </p:nvGrpSpPr>
            <p:grpSpPr>
              <a:xfrm>
                <a:off x="3686400" y="3835440"/>
                <a:ext cx="457200" cy="457200"/>
                <a:chOff x="3686400" y="3835440"/>
                <a:chExt cx="457200" cy="457200"/>
              </a:xfrm>
            </p:grpSpPr>
            <p:sp>
              <p:nvSpPr>
                <p:cNvPr id="889" name="Oval 6"/>
                <p:cNvSpPr/>
                <p:nvPr/>
              </p:nvSpPr>
              <p:spPr>
                <a:xfrm>
                  <a:off x="3686400" y="3835440"/>
                  <a:ext cx="457200" cy="457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0" name="Group 7"/>
                <p:cNvGrpSpPr/>
                <p:nvPr/>
              </p:nvGrpSpPr>
              <p:grpSpPr>
                <a:xfrm>
                  <a:off x="3762000" y="3911760"/>
                  <a:ext cx="305280" cy="304920"/>
                  <a:chOff x="3762000" y="3911760"/>
                  <a:chExt cx="305280" cy="304920"/>
                </a:xfrm>
              </p:grpSpPr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3762000" y="3911760"/>
                    <a:ext cx="305280" cy="304920"/>
                    <a:chOff x="3762000" y="3911760"/>
                    <a:chExt cx="305280" cy="304920"/>
                  </a:xfrm>
                </p:grpSpPr>
                <p:sp>
                  <p:nvSpPr>
                    <p:cNvPr id="892" name="Line 8"/>
                    <p:cNvSpPr/>
                    <p:nvPr/>
                  </p:nvSpPr>
                  <p:spPr>
                    <a:xfrm flipH="1">
                      <a:off x="3762000" y="3911760"/>
                      <a:ext cx="304920" cy="304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"/>
                    <p:cNvSpPr txBox="1"/>
                    <p:nvPr/>
                  </p:nvSpPr>
                  <p:spPr>
                    <a:xfrm>
                      <a:off x="3762360" y="3911760"/>
                      <a:ext cx="30492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4" name=""/>
                  <p:cNvGrpSpPr/>
                  <p:nvPr/>
                </p:nvGrpSpPr>
                <p:grpSpPr>
                  <a:xfrm>
                    <a:off x="3762360" y="3911760"/>
                    <a:ext cx="304920" cy="304920"/>
                    <a:chOff x="3762360" y="3911760"/>
                    <a:chExt cx="304920" cy="304920"/>
                  </a:xfrm>
                </p:grpSpPr>
                <p:sp>
                  <p:nvSpPr>
                    <p:cNvPr id="895" name="Line 9"/>
                    <p:cNvSpPr/>
                    <p:nvPr/>
                  </p:nvSpPr>
                  <p:spPr>
                    <a:xfrm>
                      <a:off x="3762360" y="3911760"/>
                      <a:ext cx="304920" cy="304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"/>
                    <p:cNvSpPr txBox="1"/>
                    <p:nvPr/>
                  </p:nvSpPr>
                  <p:spPr>
                    <a:xfrm>
                      <a:off x="3762360" y="3911760"/>
                      <a:ext cx="30492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7" name="Group 10"/>
              <p:cNvGrpSpPr/>
              <p:nvPr/>
            </p:nvGrpSpPr>
            <p:grpSpPr>
              <a:xfrm>
                <a:off x="1476360" y="2997360"/>
                <a:ext cx="2514600" cy="2057400"/>
                <a:chOff x="1476360" y="2997360"/>
                <a:chExt cx="2514600" cy="2057400"/>
              </a:xfrm>
            </p:grpSpPr>
            <p:sp>
              <p:nvSpPr>
                <p:cNvPr id="898" name="Oval 11"/>
                <p:cNvSpPr/>
                <p:nvPr/>
              </p:nvSpPr>
              <p:spPr>
                <a:xfrm>
                  <a:off x="1476360" y="322596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9" name=""/>
                <p:cNvGrpSpPr/>
                <p:nvPr/>
              </p:nvGrpSpPr>
              <p:grpSpPr>
                <a:xfrm>
                  <a:off x="1629000" y="3302280"/>
                  <a:ext cx="914400" cy="360"/>
                  <a:chOff x="1629000" y="3302280"/>
                  <a:chExt cx="914400" cy="360"/>
                </a:xfrm>
              </p:grpSpPr>
              <p:sp>
                <p:nvSpPr>
                  <p:cNvPr id="900" name="Line 12"/>
                  <p:cNvSpPr/>
                  <p:nvPr/>
                </p:nvSpPr>
                <p:spPr>
                  <a:xfrm>
                    <a:off x="1629000" y="330228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 txBox="1"/>
                  <p:nvPr/>
                </p:nvSpPr>
                <p:spPr>
                  <a:xfrm>
                    <a:off x="1629000" y="330228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2" name="Oval 13"/>
                <p:cNvSpPr/>
                <p:nvPr/>
              </p:nvSpPr>
              <p:spPr>
                <a:xfrm>
                  <a:off x="2543400" y="3073680"/>
                  <a:ext cx="457200" cy="45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4"/>
                <p:cNvSpPr/>
                <p:nvPr/>
              </p:nvSpPr>
              <p:spPr>
                <a:xfrm>
                  <a:off x="2543400" y="2997360"/>
                  <a:ext cx="838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4" name=""/>
                <p:cNvGrpSpPr/>
                <p:nvPr/>
              </p:nvGrpSpPr>
              <p:grpSpPr>
                <a:xfrm>
                  <a:off x="3000600" y="3302280"/>
                  <a:ext cx="838080" cy="360"/>
                  <a:chOff x="3000600" y="3302280"/>
                  <a:chExt cx="838080" cy="360"/>
                </a:xfrm>
              </p:grpSpPr>
              <p:sp>
                <p:nvSpPr>
                  <p:cNvPr id="905" name="Line 15"/>
                  <p:cNvSpPr/>
                  <p:nvPr/>
                </p:nvSpPr>
                <p:spPr>
                  <a:xfrm>
                    <a:off x="3000600" y="33022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 txBox="1"/>
                  <p:nvPr/>
                </p:nvSpPr>
                <p:spPr>
                  <a:xfrm>
                    <a:off x="3000600" y="3302280"/>
                    <a:ext cx="838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7" name="Oval 16"/>
                <p:cNvSpPr/>
                <p:nvPr/>
              </p:nvSpPr>
              <p:spPr>
                <a:xfrm>
                  <a:off x="3838680" y="322596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8" name=""/>
                <p:cNvGrpSpPr/>
                <p:nvPr/>
              </p:nvGrpSpPr>
              <p:grpSpPr>
                <a:xfrm>
                  <a:off x="3915000" y="3378240"/>
                  <a:ext cx="360" cy="457200"/>
                  <a:chOff x="3915000" y="3378240"/>
                  <a:chExt cx="360" cy="457200"/>
                </a:xfrm>
              </p:grpSpPr>
              <p:sp>
                <p:nvSpPr>
                  <p:cNvPr id="909" name="Line 17"/>
                  <p:cNvSpPr/>
                  <p:nvPr/>
                </p:nvSpPr>
                <p:spPr>
                  <a:xfrm>
                    <a:off x="3915000" y="337824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 txBox="1"/>
                  <p:nvPr/>
                </p:nvSpPr>
                <p:spPr>
                  <a:xfrm>
                    <a:off x="3915000" y="337824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" name=""/>
                <p:cNvGrpSpPr/>
                <p:nvPr/>
              </p:nvGrpSpPr>
              <p:grpSpPr>
                <a:xfrm>
                  <a:off x="3915000" y="4292640"/>
                  <a:ext cx="360" cy="533520"/>
                  <a:chOff x="3915000" y="4292640"/>
                  <a:chExt cx="360" cy="533520"/>
                </a:xfrm>
              </p:grpSpPr>
              <p:sp>
                <p:nvSpPr>
                  <p:cNvPr id="912" name="Line 18"/>
                  <p:cNvSpPr/>
                  <p:nvPr/>
                </p:nvSpPr>
                <p:spPr>
                  <a:xfrm>
                    <a:off x="3915000" y="429264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 txBox="1"/>
                  <p:nvPr/>
                </p:nvSpPr>
                <p:spPr>
                  <a:xfrm>
                    <a:off x="3915000" y="4292640"/>
                    <a:ext cx="360" cy="53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4" name="Oval 19"/>
                <p:cNvSpPr/>
                <p:nvPr/>
              </p:nvSpPr>
              <p:spPr>
                <a:xfrm>
                  <a:off x="3838680" y="482616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5" name=""/>
                <p:cNvGrpSpPr/>
                <p:nvPr/>
              </p:nvGrpSpPr>
              <p:grpSpPr>
                <a:xfrm>
                  <a:off x="3076200" y="4902480"/>
                  <a:ext cx="762480" cy="360"/>
                  <a:chOff x="3076200" y="4902480"/>
                  <a:chExt cx="762480" cy="360"/>
                </a:xfrm>
              </p:grpSpPr>
              <p:sp>
                <p:nvSpPr>
                  <p:cNvPr id="916" name="Line 20"/>
                  <p:cNvSpPr/>
                  <p:nvPr/>
                </p:nvSpPr>
                <p:spPr>
                  <a:xfrm flipH="1">
                    <a:off x="3076200" y="4902480"/>
                    <a:ext cx="762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 txBox="1"/>
                  <p:nvPr/>
                </p:nvSpPr>
                <p:spPr>
                  <a:xfrm>
                    <a:off x="3076560" y="4902480"/>
                    <a:ext cx="762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8" name="Rectangle 21"/>
                <p:cNvSpPr/>
                <p:nvPr/>
              </p:nvSpPr>
              <p:spPr>
                <a:xfrm>
                  <a:off x="2390760" y="474984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9" name=""/>
                <p:cNvGrpSpPr/>
                <p:nvPr/>
              </p:nvGrpSpPr>
              <p:grpSpPr>
                <a:xfrm>
                  <a:off x="1704600" y="4902480"/>
                  <a:ext cx="686160" cy="360"/>
                  <a:chOff x="1704600" y="4902480"/>
                  <a:chExt cx="686160" cy="360"/>
                </a:xfrm>
              </p:grpSpPr>
              <p:sp>
                <p:nvSpPr>
                  <p:cNvPr id="920" name="Line 22"/>
                  <p:cNvSpPr/>
                  <p:nvPr/>
                </p:nvSpPr>
                <p:spPr>
                  <a:xfrm flipH="1">
                    <a:off x="1704600" y="490248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 txBox="1"/>
                  <p:nvPr/>
                </p:nvSpPr>
                <p:spPr>
                  <a:xfrm>
                    <a:off x="1704960" y="4902480"/>
                    <a:ext cx="685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2" name="Oval 23"/>
                <p:cNvSpPr/>
                <p:nvPr/>
              </p:nvSpPr>
              <p:spPr>
                <a:xfrm>
                  <a:off x="1552680" y="48261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3" name="Text Box 24"/>
          <p:cNvSpPr/>
          <p:nvPr/>
        </p:nvSpPr>
        <p:spPr>
          <a:xfrm>
            <a:off x="4724280" y="2819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25"/>
          <p:cNvGrpSpPr/>
          <p:nvPr/>
        </p:nvGrpSpPr>
        <p:grpSpPr>
          <a:xfrm>
            <a:off x="3995640" y="3284640"/>
            <a:ext cx="1143000" cy="1600560"/>
            <a:chOff x="3995640" y="3284640"/>
            <a:chExt cx="1143000" cy="1600560"/>
          </a:xfrm>
        </p:grpSpPr>
        <p:grpSp>
          <p:nvGrpSpPr>
            <p:cNvPr id="925" name="Group 26"/>
            <p:cNvGrpSpPr/>
            <p:nvPr/>
          </p:nvGrpSpPr>
          <p:grpSpPr>
            <a:xfrm>
              <a:off x="3995640" y="3284640"/>
              <a:ext cx="1143000" cy="1600560"/>
              <a:chOff x="3995640" y="3284640"/>
              <a:chExt cx="1143000" cy="160056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3995640" y="3284640"/>
                <a:ext cx="914400" cy="360"/>
                <a:chOff x="3995640" y="3284640"/>
                <a:chExt cx="914400" cy="360"/>
              </a:xfrm>
            </p:grpSpPr>
            <p:sp>
              <p:nvSpPr>
                <p:cNvPr id="927" name="Line 27"/>
                <p:cNvSpPr/>
                <p:nvPr/>
              </p:nvSpPr>
              <p:spPr>
                <a:xfrm>
                  <a:off x="3995640" y="328464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 txBox="1"/>
                <p:nvPr/>
              </p:nvSpPr>
              <p:spPr>
                <a:xfrm>
                  <a:off x="3995640" y="3284640"/>
                  <a:ext cx="914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3995640" y="4884840"/>
                <a:ext cx="914400" cy="360"/>
                <a:chOff x="3995640" y="4884840"/>
                <a:chExt cx="914400" cy="360"/>
              </a:xfrm>
            </p:grpSpPr>
            <p:sp>
              <p:nvSpPr>
                <p:cNvPr id="930" name="Line 28"/>
                <p:cNvSpPr/>
                <p:nvPr/>
              </p:nvSpPr>
              <p:spPr>
                <a:xfrm>
                  <a:off x="3995640" y="488484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 txBox="1"/>
                <p:nvPr/>
              </p:nvSpPr>
              <p:spPr>
                <a:xfrm>
                  <a:off x="3995640" y="4884840"/>
                  <a:ext cx="914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4910040" y="3284640"/>
                <a:ext cx="360" cy="533160"/>
                <a:chOff x="4910040" y="3284640"/>
                <a:chExt cx="360" cy="533160"/>
              </a:xfrm>
            </p:grpSpPr>
            <p:sp>
              <p:nvSpPr>
                <p:cNvPr id="933" name="Line 29"/>
                <p:cNvSpPr/>
                <p:nvPr/>
              </p:nvSpPr>
              <p:spPr>
                <a:xfrm>
                  <a:off x="4910040" y="3284640"/>
                  <a:ext cx="0" cy="53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 txBox="1"/>
                <p:nvPr/>
              </p:nvSpPr>
              <p:spPr>
                <a:xfrm>
                  <a:off x="4910040" y="3284640"/>
                  <a:ext cx="36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4910040" y="4275000"/>
                <a:ext cx="360" cy="609840"/>
                <a:chOff x="4910040" y="4275000"/>
                <a:chExt cx="360" cy="609840"/>
              </a:xfrm>
            </p:grpSpPr>
            <p:sp>
              <p:nvSpPr>
                <p:cNvPr id="936" name="Line 30"/>
                <p:cNvSpPr/>
                <p:nvPr/>
              </p:nvSpPr>
              <p:spPr>
                <a:xfrm>
                  <a:off x="4910040" y="4275000"/>
                  <a:ext cx="0" cy="609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 txBox="1"/>
                <p:nvPr/>
              </p:nvSpPr>
              <p:spPr>
                <a:xfrm>
                  <a:off x="4910040" y="4275000"/>
                  <a:ext cx="3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8" name="Oval 31"/>
              <p:cNvSpPr/>
              <p:nvPr/>
            </p:nvSpPr>
            <p:spPr>
              <a:xfrm>
                <a:off x="4681440" y="381780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32"/>
            <p:cNvGrpSpPr/>
            <p:nvPr/>
          </p:nvGrpSpPr>
          <p:grpSpPr>
            <a:xfrm>
              <a:off x="4757400" y="3894120"/>
              <a:ext cx="305280" cy="304920"/>
              <a:chOff x="4757400" y="3894120"/>
              <a:chExt cx="305280" cy="30492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4757400" y="3894120"/>
                <a:ext cx="305280" cy="304920"/>
                <a:chOff x="4757400" y="3894120"/>
                <a:chExt cx="305280" cy="304920"/>
              </a:xfrm>
            </p:grpSpPr>
            <p:sp>
              <p:nvSpPr>
                <p:cNvPr id="941" name="Line 33"/>
                <p:cNvSpPr/>
                <p:nvPr/>
              </p:nvSpPr>
              <p:spPr>
                <a:xfrm flipH="1">
                  <a:off x="4757400" y="38941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 txBox="1"/>
                <p:nvPr/>
              </p:nvSpPr>
              <p:spPr>
                <a:xfrm>
                  <a:off x="4757760" y="3894120"/>
                  <a:ext cx="3049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4757760" y="3894120"/>
                <a:ext cx="304920" cy="304920"/>
                <a:chOff x="4757760" y="3894120"/>
                <a:chExt cx="304920" cy="304920"/>
              </a:xfrm>
            </p:grpSpPr>
            <p:sp>
              <p:nvSpPr>
                <p:cNvPr id="944" name="Line 34"/>
                <p:cNvSpPr/>
                <p:nvPr/>
              </p:nvSpPr>
              <p:spPr>
                <a:xfrm>
                  <a:off x="4757760" y="38941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 txBox="1"/>
                <p:nvPr/>
              </p:nvSpPr>
              <p:spPr>
                <a:xfrm>
                  <a:off x="4757760" y="3894120"/>
                  <a:ext cx="3049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6" name="Group 35"/>
          <p:cNvGrpSpPr/>
          <p:nvPr/>
        </p:nvGrpSpPr>
        <p:grpSpPr>
          <a:xfrm>
            <a:off x="4859280" y="3212640"/>
            <a:ext cx="152280" cy="1752480"/>
            <a:chOff x="4859280" y="3212640"/>
            <a:chExt cx="152280" cy="1752480"/>
          </a:xfrm>
        </p:grpSpPr>
        <p:sp>
          <p:nvSpPr>
            <p:cNvPr id="947" name="Oval 36"/>
            <p:cNvSpPr/>
            <p:nvPr/>
          </p:nvSpPr>
          <p:spPr>
            <a:xfrm flipV="1">
              <a:off x="4859280" y="32122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37"/>
            <p:cNvSpPr/>
            <p:nvPr/>
          </p:nvSpPr>
          <p:spPr>
            <a:xfrm flipV="1">
              <a:off x="4859280" y="4812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Group 43"/>
          <p:cNvGrpSpPr/>
          <p:nvPr/>
        </p:nvGrpSpPr>
        <p:grpSpPr>
          <a:xfrm>
            <a:off x="5003640" y="3284640"/>
            <a:ext cx="2209680" cy="1600560"/>
            <a:chOff x="5003640" y="3284640"/>
            <a:chExt cx="2209680" cy="1600560"/>
          </a:xfrm>
        </p:grpSpPr>
        <p:grpSp>
          <p:nvGrpSpPr>
            <p:cNvPr id="950" name="Group 44"/>
            <p:cNvGrpSpPr/>
            <p:nvPr/>
          </p:nvGrpSpPr>
          <p:grpSpPr>
            <a:xfrm>
              <a:off x="5003640" y="3284640"/>
              <a:ext cx="990720" cy="1600560"/>
              <a:chOff x="5003640" y="3284640"/>
              <a:chExt cx="990720" cy="1600560"/>
            </a:xfrm>
          </p:grpSpPr>
          <p:grpSp>
            <p:nvGrpSpPr>
              <p:cNvPr id="951" name=""/>
              <p:cNvGrpSpPr/>
              <p:nvPr/>
            </p:nvGrpSpPr>
            <p:grpSpPr>
              <a:xfrm>
                <a:off x="5003640" y="3284640"/>
                <a:ext cx="990720" cy="360"/>
                <a:chOff x="5003640" y="3284640"/>
                <a:chExt cx="990720" cy="360"/>
              </a:xfrm>
            </p:grpSpPr>
            <p:sp>
              <p:nvSpPr>
                <p:cNvPr id="952" name="Line 45"/>
                <p:cNvSpPr/>
                <p:nvPr/>
              </p:nvSpPr>
              <p:spPr>
                <a:xfrm>
                  <a:off x="5003640" y="3284640"/>
                  <a:ext cx="99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 txBox="1"/>
                <p:nvPr/>
              </p:nvSpPr>
              <p:spPr>
                <a:xfrm>
                  <a:off x="5003640" y="3284640"/>
                  <a:ext cx="9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5003640" y="4884840"/>
                <a:ext cx="990720" cy="360"/>
                <a:chOff x="5003640" y="4884840"/>
                <a:chExt cx="990720" cy="360"/>
              </a:xfrm>
            </p:grpSpPr>
            <p:sp>
              <p:nvSpPr>
                <p:cNvPr id="955" name="Line 46"/>
                <p:cNvSpPr/>
                <p:nvPr/>
              </p:nvSpPr>
              <p:spPr>
                <a:xfrm>
                  <a:off x="5003640" y="4884840"/>
                  <a:ext cx="99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 txBox="1"/>
                <p:nvPr/>
              </p:nvSpPr>
              <p:spPr>
                <a:xfrm>
                  <a:off x="5003640" y="4884840"/>
                  <a:ext cx="9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7" name="Group 47"/>
            <p:cNvGrpSpPr/>
            <p:nvPr/>
          </p:nvGrpSpPr>
          <p:grpSpPr>
            <a:xfrm>
              <a:off x="6070320" y="3284640"/>
              <a:ext cx="1143000" cy="1600560"/>
              <a:chOff x="6070320" y="3284640"/>
              <a:chExt cx="1143000" cy="1600560"/>
            </a:xfrm>
          </p:grpSpPr>
          <p:grpSp>
            <p:nvGrpSpPr>
              <p:cNvPr id="958" name="Group 48"/>
              <p:cNvGrpSpPr/>
              <p:nvPr/>
            </p:nvGrpSpPr>
            <p:grpSpPr>
              <a:xfrm>
                <a:off x="6070320" y="3284640"/>
                <a:ext cx="1143000" cy="1600560"/>
                <a:chOff x="6070320" y="3284640"/>
                <a:chExt cx="1143000" cy="1600560"/>
              </a:xfrm>
            </p:grpSpPr>
            <p:grpSp>
              <p:nvGrpSpPr>
                <p:cNvPr id="959" name=""/>
                <p:cNvGrpSpPr/>
                <p:nvPr/>
              </p:nvGrpSpPr>
              <p:grpSpPr>
                <a:xfrm>
                  <a:off x="6070320" y="3284640"/>
                  <a:ext cx="914400" cy="360"/>
                  <a:chOff x="6070320" y="3284640"/>
                  <a:chExt cx="914400" cy="360"/>
                </a:xfrm>
              </p:grpSpPr>
              <p:sp>
                <p:nvSpPr>
                  <p:cNvPr id="960" name="Line 49"/>
                  <p:cNvSpPr/>
                  <p:nvPr/>
                </p:nvSpPr>
                <p:spPr>
                  <a:xfrm>
                    <a:off x="6070320" y="328464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 txBox="1"/>
                  <p:nvPr/>
                </p:nvSpPr>
                <p:spPr>
                  <a:xfrm>
                    <a:off x="6070320" y="328464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6070320" y="4884840"/>
                  <a:ext cx="914400" cy="360"/>
                  <a:chOff x="6070320" y="4884840"/>
                  <a:chExt cx="914400" cy="360"/>
                </a:xfrm>
              </p:grpSpPr>
              <p:sp>
                <p:nvSpPr>
                  <p:cNvPr id="963" name="Line 50"/>
                  <p:cNvSpPr/>
                  <p:nvPr/>
                </p:nvSpPr>
                <p:spPr>
                  <a:xfrm>
                    <a:off x="6070320" y="488484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 txBox="1"/>
                  <p:nvPr/>
                </p:nvSpPr>
                <p:spPr>
                  <a:xfrm>
                    <a:off x="6070320" y="488484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" name=""/>
                <p:cNvGrpSpPr/>
                <p:nvPr/>
              </p:nvGrpSpPr>
              <p:grpSpPr>
                <a:xfrm>
                  <a:off x="6984720" y="3284640"/>
                  <a:ext cx="360" cy="533160"/>
                  <a:chOff x="6984720" y="3284640"/>
                  <a:chExt cx="360" cy="533160"/>
                </a:xfrm>
              </p:grpSpPr>
              <p:sp>
                <p:nvSpPr>
                  <p:cNvPr id="966" name="Line 51"/>
                  <p:cNvSpPr/>
                  <p:nvPr/>
                </p:nvSpPr>
                <p:spPr>
                  <a:xfrm>
                    <a:off x="6984720" y="328464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 txBox="1"/>
                  <p:nvPr/>
                </p:nvSpPr>
                <p:spPr>
                  <a:xfrm>
                    <a:off x="6984720" y="3284640"/>
                    <a:ext cx="360" cy="5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6984720" y="4275000"/>
                  <a:ext cx="360" cy="609840"/>
                  <a:chOff x="6984720" y="4275000"/>
                  <a:chExt cx="360" cy="609840"/>
                </a:xfrm>
              </p:grpSpPr>
              <p:sp>
                <p:nvSpPr>
                  <p:cNvPr id="969" name="Line 52"/>
                  <p:cNvSpPr/>
                  <p:nvPr/>
                </p:nvSpPr>
                <p:spPr>
                  <a:xfrm>
                    <a:off x="6984720" y="4275000"/>
                    <a:ext cx="0" cy="609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 txBox="1"/>
                  <p:nvPr/>
                </p:nvSpPr>
                <p:spPr>
                  <a:xfrm>
                    <a:off x="6984720" y="4275000"/>
                    <a:ext cx="360" cy="60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1" name="Oval 53"/>
                <p:cNvSpPr/>
                <p:nvPr/>
              </p:nvSpPr>
              <p:spPr>
                <a:xfrm>
                  <a:off x="6756120" y="3817800"/>
                  <a:ext cx="457200" cy="457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2" name="Group 54"/>
              <p:cNvGrpSpPr/>
              <p:nvPr/>
            </p:nvGrpSpPr>
            <p:grpSpPr>
              <a:xfrm>
                <a:off x="6832080" y="3894120"/>
                <a:ext cx="305280" cy="304920"/>
                <a:chOff x="6832080" y="3894120"/>
                <a:chExt cx="305280" cy="304920"/>
              </a:xfrm>
            </p:grpSpPr>
            <p:grpSp>
              <p:nvGrpSpPr>
                <p:cNvPr id="973" name=""/>
                <p:cNvGrpSpPr/>
                <p:nvPr/>
              </p:nvGrpSpPr>
              <p:grpSpPr>
                <a:xfrm>
                  <a:off x="6832080" y="3894120"/>
                  <a:ext cx="305280" cy="304920"/>
                  <a:chOff x="6832080" y="3894120"/>
                  <a:chExt cx="305280" cy="304920"/>
                </a:xfrm>
              </p:grpSpPr>
              <p:sp>
                <p:nvSpPr>
                  <p:cNvPr id="974" name="Line 55"/>
                  <p:cNvSpPr/>
                  <p:nvPr/>
                </p:nvSpPr>
                <p:spPr>
                  <a:xfrm flipH="1">
                    <a:off x="6832080" y="3894120"/>
                    <a:ext cx="304920" cy="30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 txBox="1"/>
                  <p:nvPr/>
                </p:nvSpPr>
                <p:spPr>
                  <a:xfrm>
                    <a:off x="6832440" y="3894120"/>
                    <a:ext cx="30492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6832440" y="3894120"/>
                  <a:ext cx="304920" cy="304920"/>
                  <a:chOff x="6832440" y="3894120"/>
                  <a:chExt cx="304920" cy="304920"/>
                </a:xfrm>
              </p:grpSpPr>
              <p:sp>
                <p:nvSpPr>
                  <p:cNvPr id="977" name="Line 56"/>
                  <p:cNvSpPr/>
                  <p:nvPr/>
                </p:nvSpPr>
                <p:spPr>
                  <a:xfrm>
                    <a:off x="6832440" y="3894120"/>
                    <a:ext cx="304920" cy="30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 txBox="1"/>
                  <p:nvPr/>
                </p:nvSpPr>
                <p:spPr>
                  <a:xfrm>
                    <a:off x="6832440" y="3894120"/>
                    <a:ext cx="30492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79" name="Rectangle 57"/>
          <p:cNvSpPr/>
          <p:nvPr/>
        </p:nvSpPr>
        <p:spPr>
          <a:xfrm>
            <a:off x="2286000" y="2286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总功率过大是电       流过大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438280" y="3733920"/>
            <a:ext cx="685800" cy="360"/>
            <a:chOff x="2438280" y="3733920"/>
            <a:chExt cx="685800" cy="360"/>
          </a:xfrm>
        </p:grpSpPr>
        <p:sp>
          <p:nvSpPr>
            <p:cNvPr id="981" name="Line 59"/>
            <p:cNvSpPr/>
            <p:nvPr/>
          </p:nvSpPr>
          <p:spPr>
            <a:xfrm>
              <a:off x="2438280" y="3733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2438280" y="373392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 Box 61"/>
          <p:cNvSpPr/>
          <p:nvPr/>
        </p:nvSpPr>
        <p:spPr>
          <a:xfrm>
            <a:off x="324000" y="333360"/>
            <a:ext cx="844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62"/>
          <p:cNvSpPr/>
          <p:nvPr/>
        </p:nvSpPr>
        <p:spPr>
          <a:xfrm>
            <a:off x="395280" y="5300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用电器总功率过大时会引起电流过大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3"/>
          <p:cNvSpPr/>
          <p:nvPr/>
        </p:nvSpPr>
        <p:spPr>
          <a:xfrm>
            <a:off x="609480" y="119700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如图所示，逐渐增加并联电灯的个数，请猜想会发生什么现象？产生这些现象的原因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3"/>
          <p:cNvSpPr/>
          <p:nvPr/>
        </p:nvSpPr>
        <p:spPr>
          <a:xfrm>
            <a:off x="611280" y="3716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分析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灯泡是并联的，并联的灯泡越多，电路中总功率越大，根据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可知，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定，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大，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也大，所以并联的电灯越多干路电流越大。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4"/>
          <p:cNvSpPr/>
          <p:nvPr/>
        </p:nvSpPr>
        <p:spPr>
          <a:xfrm>
            <a:off x="611280" y="1700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现象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并联的灯泡越多，电流表的示数越大，并联的灯泡足够多时，保险丝就会熔断。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324000" y="333360"/>
            <a:ext cx="844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6"/>
          <p:cNvSpPr/>
          <p:nvPr/>
        </p:nvSpPr>
        <p:spPr>
          <a:xfrm>
            <a:off x="324000" y="333360"/>
            <a:ext cx="844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7"/>
          <p:cNvSpPr/>
          <p:nvPr/>
        </p:nvSpPr>
        <p:spPr>
          <a:xfrm>
            <a:off x="755640" y="242100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细心地同学会发现，并联接入电路的灯泡越多，开始亮着的灯泡，会稍微变暗，针对这个现象，谁能说说自己的看法？生活中你发现过类似的现象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8"/>
          <p:cNvSpPr/>
          <p:nvPr/>
        </p:nvSpPr>
        <p:spPr>
          <a:xfrm>
            <a:off x="2751480" y="141300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用电器的总功率过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3"/>
          <p:cNvSpPr/>
          <p:nvPr/>
        </p:nvSpPr>
        <p:spPr>
          <a:xfrm>
            <a:off x="1042920" y="126828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6"/>
          <p:cNvSpPr/>
          <p:nvPr/>
        </p:nvSpPr>
        <p:spPr>
          <a:xfrm>
            <a:off x="324000" y="333360"/>
            <a:ext cx="844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7"/>
          <p:cNvSpPr/>
          <p:nvPr/>
        </p:nvSpPr>
        <p:spPr>
          <a:xfrm>
            <a:off x="2680200" y="141300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用电器的总功率过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8"/>
          <p:cNvSpPr/>
          <p:nvPr/>
        </p:nvSpPr>
        <p:spPr>
          <a:xfrm>
            <a:off x="755640" y="2205000"/>
            <a:ext cx="765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导线的电阻不能忽略，干路电流越大，导线上分电压越多，灯泡两端的电压减小，实际功率变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9"/>
          <p:cNvSpPr/>
          <p:nvPr/>
        </p:nvSpPr>
        <p:spPr>
          <a:xfrm>
            <a:off x="539640" y="466740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家庭电路中的总功率过大，会有什么危害呢？应该如何防止呢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Text Box 4"/>
          <p:cNvSpPr/>
          <p:nvPr/>
        </p:nvSpPr>
        <p:spPr>
          <a:xfrm>
            <a:off x="2416320" y="11253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保险丝为什么能起到保险的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7" descr="page-0115"/>
          <p:cNvPicPr/>
          <p:nvPr/>
        </p:nvPicPr>
        <p:blipFill>
          <a:blip r:embed="rId1"/>
          <a:stretch/>
        </p:blipFill>
        <p:spPr>
          <a:xfrm>
            <a:off x="2124000" y="1989000"/>
            <a:ext cx="4753080" cy="3003840"/>
          </a:xfrm>
          <a:prstGeom prst="rect">
            <a:avLst/>
          </a:prstGeom>
          <a:ln w="0">
            <a:noFill/>
          </a:ln>
        </p:spPr>
      </p:pic>
      <p:sp>
        <p:nvSpPr>
          <p:cNvPr id="1000" name="Text Box 8"/>
          <p:cNvSpPr/>
          <p:nvPr/>
        </p:nvSpPr>
        <p:spPr>
          <a:xfrm>
            <a:off x="755640" y="5013360"/>
            <a:ext cx="78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电流过大时，保险丝熔断，切断电路，起到了保护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 Box 4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5"/>
          <p:cNvSpPr/>
          <p:nvPr/>
        </p:nvSpPr>
        <p:spPr>
          <a:xfrm>
            <a:off x="468360" y="1268280"/>
            <a:ext cx="835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教材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，思考并小组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流过大时，保险丝为什么会自动熔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了达到保险的目的，保险丝的材料应该具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否可以任意换用不同规格的保险丝，或用铁丝、铜丝代替保险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4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5"/>
          <p:cNvSpPr/>
          <p:nvPr/>
        </p:nvSpPr>
        <p:spPr>
          <a:xfrm>
            <a:off x="611280" y="234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原理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流的热效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6"/>
          <p:cNvSpPr/>
          <p:nvPr/>
        </p:nvSpPr>
        <p:spPr>
          <a:xfrm>
            <a:off x="468360" y="1052640"/>
            <a:ext cx="80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作用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电流过大时，保险丝熔断，切断电路，起到了保护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7"/>
          <p:cNvSpPr/>
          <p:nvPr/>
        </p:nvSpPr>
        <p:spPr>
          <a:xfrm>
            <a:off x="684360" y="3068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材料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阻率大，熔点低的铅锑合金合金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8"/>
          <p:cNvSpPr/>
          <p:nvPr/>
        </p:nvSpPr>
        <p:spPr>
          <a:xfrm>
            <a:off x="1965960" y="4653000"/>
            <a:ext cx="511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注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决不能用铜丝或铁丝代替保险丝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 Box 10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1"/>
          <p:cNvSpPr/>
          <p:nvPr/>
        </p:nvSpPr>
        <p:spPr>
          <a:xfrm>
            <a:off x="684360" y="118260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样是保险丝，为什么有粗有细，它们有什么不同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12" descr="snap"/>
          <p:cNvPicPr/>
          <p:nvPr/>
        </p:nvPicPr>
        <p:blipFill>
          <a:blip r:embed="rId1"/>
          <a:stretch/>
        </p:blipFill>
        <p:spPr>
          <a:xfrm>
            <a:off x="2700360" y="3573360"/>
            <a:ext cx="3384360" cy="17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4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324000" y="119700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险丝材料和长度一定时，越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阻越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保险丝的熔点相同，根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电流流过保险丝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阻小的保险丝要通过较大的电流才能熔断。所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保险丝越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电阻越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额定电流越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611280" y="3535200"/>
            <a:ext cx="8532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友情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更换保险丝时，不要换成更粗的保险丝，铜丝、铁丝的熔点较高，所以千万不能用铜丝或铁丝代替保险丝，否则当电路中电流过大时，保险丝不能及时熔断，起不到保护电路的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Picture 2" descr="19003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015" name="Rectangle 3"/>
          <p:cNvSpPr/>
          <p:nvPr/>
        </p:nvSpPr>
        <p:spPr>
          <a:xfrm>
            <a:off x="2124000" y="1125360"/>
            <a:ext cx="4751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几种常见的保险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5" descr="保险丝-5"/>
          <p:cNvPicPr/>
          <p:nvPr/>
        </p:nvPicPr>
        <p:blipFill>
          <a:blip r:embed="rId2"/>
          <a:stretch/>
        </p:blipFill>
        <p:spPr>
          <a:xfrm>
            <a:off x="611280" y="234936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6" descr="保险丝-8"/>
          <p:cNvPicPr/>
          <p:nvPr/>
        </p:nvPicPr>
        <p:blipFill>
          <a:blip r:embed="rId3"/>
          <a:stretch/>
        </p:blipFill>
        <p:spPr>
          <a:xfrm>
            <a:off x="3059280" y="2565360"/>
            <a:ext cx="2590560" cy="142560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7" descr="保险丝-10"/>
          <p:cNvPicPr/>
          <p:nvPr/>
        </p:nvPicPr>
        <p:blipFill>
          <a:blip r:embed="rId4"/>
          <a:stretch/>
        </p:blipFill>
        <p:spPr>
          <a:xfrm>
            <a:off x="6227640" y="2492280"/>
            <a:ext cx="2592360" cy="1424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8" descr="保险丝-6"/>
          <p:cNvPicPr/>
          <p:nvPr/>
        </p:nvPicPr>
        <p:blipFill>
          <a:blip r:embed="rId5"/>
          <a:stretch/>
        </p:blipFill>
        <p:spPr>
          <a:xfrm>
            <a:off x="539640" y="4653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9" descr="保险丝-1"/>
          <p:cNvPicPr/>
          <p:nvPr/>
        </p:nvPicPr>
        <p:blipFill>
          <a:blip r:embed="rId6"/>
          <a:stretch/>
        </p:blipFill>
        <p:spPr>
          <a:xfrm>
            <a:off x="3348000" y="4797360"/>
            <a:ext cx="2232000" cy="15778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0" descr="保险丝-11"/>
          <p:cNvPicPr/>
          <p:nvPr/>
        </p:nvPicPr>
        <p:blipFill>
          <a:blip r:embed="rId7"/>
          <a:stretch/>
        </p:blipFill>
        <p:spPr>
          <a:xfrm>
            <a:off x="6588000" y="4653000"/>
            <a:ext cx="2159280" cy="1665360"/>
          </a:xfrm>
          <a:prstGeom prst="rect">
            <a:avLst/>
          </a:prstGeom>
          <a:ln w="0">
            <a:noFill/>
          </a:ln>
        </p:spPr>
      </p:pic>
      <p:sp>
        <p:nvSpPr>
          <p:cNvPr id="1022" name="Text Box 11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4"/>
          <p:cNvSpPr/>
          <p:nvPr/>
        </p:nvSpPr>
        <p:spPr>
          <a:xfrm>
            <a:off x="539640" y="1052640"/>
            <a:ext cx="8301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讨论教材的“想想议议”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为什么要把输电线换成更粗的？将电能表的标定电流换成更大的？这样做有什么意义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能推测出电功率和电路中电流的关系吗？大胆发表自己的看法和意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3"/>
          <p:cNvSpPr/>
          <p:nvPr/>
        </p:nvSpPr>
        <p:spPr>
          <a:xfrm>
            <a:off x="539640" y="1168560"/>
            <a:ext cx="820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家庭中常用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空气开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保险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Group 7"/>
          <p:cNvGrpSpPr/>
          <p:nvPr/>
        </p:nvGrpSpPr>
        <p:grpSpPr>
          <a:xfrm>
            <a:off x="684360" y="1989000"/>
            <a:ext cx="7909560" cy="2232000"/>
            <a:chOff x="684360" y="1989000"/>
            <a:chExt cx="7909560" cy="2232000"/>
          </a:xfrm>
        </p:grpSpPr>
        <p:grpSp>
          <p:nvGrpSpPr>
            <p:cNvPr id="1026" name="Group 8"/>
            <p:cNvGrpSpPr/>
            <p:nvPr/>
          </p:nvGrpSpPr>
          <p:grpSpPr>
            <a:xfrm>
              <a:off x="3193920" y="1989000"/>
              <a:ext cx="2518920" cy="2223720"/>
              <a:chOff x="3193920" y="1989000"/>
              <a:chExt cx="2518920" cy="2223720"/>
            </a:xfrm>
          </p:grpSpPr>
          <p:sp>
            <p:nvSpPr>
              <p:cNvPr id="1027" name="Rectangle 9"/>
              <p:cNvSpPr/>
              <p:nvPr/>
            </p:nvSpPr>
            <p:spPr>
              <a:xfrm>
                <a:off x="3193920" y="1989000"/>
                <a:ext cx="2518920" cy="2223720"/>
              </a:xfrm>
              <a:prstGeom prst="rect">
                <a:avLst/>
              </a:prstGeom>
              <a:solidFill>
                <a:srgbClr val="ff98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8" name="Picture 10" descr="空气开关"/>
              <p:cNvPicPr/>
              <p:nvPr/>
            </p:nvPicPr>
            <p:blipFill>
              <a:blip r:embed="rId1"/>
              <a:stretch/>
            </p:blipFill>
            <p:spPr>
              <a:xfrm>
                <a:off x="3625200" y="2079360"/>
                <a:ext cx="1557000" cy="2106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9" name="Picture 11" descr="0,0,285,3537,256,209,5ac22209"/>
            <p:cNvPicPr/>
            <p:nvPr/>
          </p:nvPicPr>
          <p:blipFill>
            <a:blip r:embed="rId2"/>
            <a:stretch/>
          </p:blipFill>
          <p:spPr>
            <a:xfrm>
              <a:off x="684360" y="1989000"/>
              <a:ext cx="2438280" cy="223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0" name="Group 12"/>
            <p:cNvGrpSpPr/>
            <p:nvPr/>
          </p:nvGrpSpPr>
          <p:grpSpPr>
            <a:xfrm>
              <a:off x="5786280" y="1989000"/>
              <a:ext cx="2807640" cy="2231640"/>
              <a:chOff x="5786280" y="1989000"/>
              <a:chExt cx="2807640" cy="2231640"/>
            </a:xfrm>
          </p:grpSpPr>
          <p:sp>
            <p:nvSpPr>
              <p:cNvPr id="1031" name="Rectangle 13"/>
              <p:cNvSpPr/>
              <p:nvPr/>
            </p:nvSpPr>
            <p:spPr>
              <a:xfrm>
                <a:off x="5786280" y="1989000"/>
                <a:ext cx="2806200" cy="2231640"/>
              </a:xfrm>
              <a:prstGeom prst="rect">
                <a:avLst/>
              </a:prstGeom>
              <a:solidFill>
                <a:srgbClr val="ff98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2" name="Picture 14" descr="2007123011726327"/>
              <p:cNvPicPr/>
              <p:nvPr/>
            </p:nvPicPr>
            <p:blipFill>
              <a:blip r:embed="rId3"/>
              <a:stretch/>
            </p:blipFill>
            <p:spPr>
              <a:xfrm>
                <a:off x="5786280" y="1989000"/>
                <a:ext cx="2807640" cy="210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3" name="Rectangle 15"/>
          <p:cNvSpPr/>
          <p:nvPr/>
        </p:nvSpPr>
        <p:spPr>
          <a:xfrm>
            <a:off x="755640" y="5118480"/>
            <a:ext cx="777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线路发生短路或严重电流过载时，短路电流超过瞬时脱扣整定电流值，电磁脱扣器产生足够大的吸力，将衔铁吸合并撞击杠杆，使搭钩绕转轴座向上转动与锁扣脱开，锁扣在反力弹簧的作用下将主触头分断，切断电源。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 Box 2"/>
          <p:cNvSpPr/>
          <p:nvPr/>
        </p:nvSpPr>
        <p:spPr>
          <a:xfrm>
            <a:off x="179280" y="260280"/>
            <a:ext cx="896472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献计献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了防止电路中电流过大引发事故，你有哪些好的建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3"/>
          <p:cNvSpPr/>
          <p:nvPr/>
        </p:nvSpPr>
        <p:spPr>
          <a:xfrm>
            <a:off x="611280" y="2857680"/>
            <a:ext cx="76755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避免同时使用功率过大的用电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改造线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加装保险装置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utoShape 4"/>
          <p:cNvSpPr/>
          <p:nvPr/>
        </p:nvSpPr>
        <p:spPr>
          <a:xfrm>
            <a:off x="4356000" y="4581360"/>
            <a:ext cx="1008000" cy="574920"/>
          </a:xfrm>
          <a:prstGeom prst="rightArrow">
            <a:avLst>
              <a:gd name="adj1" fmla="val 50000"/>
              <a:gd name="adj2" fmla="val 43816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5"/>
          <p:cNvSpPr/>
          <p:nvPr/>
        </p:nvSpPr>
        <p:spPr>
          <a:xfrm>
            <a:off x="5435640" y="436572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保险丝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空气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" dur="5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9" dur="500"/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500"/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500"/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0" y="0"/>
            <a:ext cx="9144000" cy="6858000"/>
          </a:xfrm>
          <a:prstGeom prst="verticalScrol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3"/>
          <p:cNvSpPr/>
          <p:nvPr/>
        </p:nvSpPr>
        <p:spPr>
          <a:xfrm>
            <a:off x="2971800" y="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4"/>
          <p:cNvSpPr/>
          <p:nvPr/>
        </p:nvSpPr>
        <p:spPr>
          <a:xfrm>
            <a:off x="1600200" y="1371600"/>
            <a:ext cx="5791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家庭电路中电流过大的原因是：短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电器的总功率过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5"/>
          <p:cNvSpPr/>
          <p:nvPr/>
        </p:nvSpPr>
        <p:spPr>
          <a:xfrm>
            <a:off x="1752480" y="3505320"/>
            <a:ext cx="5943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家庭电路中的保险装置：保险丝或空气开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 Box 7"/>
          <p:cNvSpPr/>
          <p:nvPr/>
        </p:nvSpPr>
        <p:spPr>
          <a:xfrm>
            <a:off x="428760" y="1125360"/>
            <a:ext cx="799308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电路中电流过大的原因是（          ）或（                                    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3"/>
          <p:cNvSpPr/>
          <p:nvPr/>
        </p:nvSpPr>
        <p:spPr>
          <a:xfrm>
            <a:off x="5952960" y="1000080"/>
            <a:ext cx="14050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短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2179800" y="1571760"/>
            <a:ext cx="44640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用电器的总功率过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6"/>
          <p:cNvSpPr/>
          <p:nvPr/>
        </p:nvSpPr>
        <p:spPr>
          <a:xfrm>
            <a:off x="399960" y="0"/>
            <a:ext cx="4343400" cy="91692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课堂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4360" y="2421000"/>
            <a:ext cx="815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家庭电路中引起保险丝熔断的原因是   （         ）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保险丝太粗不合格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所有用电器同时工作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定是短路造成的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可能接入了大功率电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1187280" y="285264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2"/>
          <p:cNvSpPr/>
          <p:nvPr/>
        </p:nvSpPr>
        <p:spPr>
          <a:xfrm>
            <a:off x="533520" y="16765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家庭电路中保险丝断了，以下原因不可能的是： （    ）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家庭中用电器的功率过大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拉线开关中的两根导线头相碰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保险丝的规格不合适，熔断电流太小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插头中的两根导线头相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3"/>
          <p:cNvSpPr/>
          <p:nvPr/>
        </p:nvSpPr>
        <p:spPr>
          <a:xfrm>
            <a:off x="3203640" y="206064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5"/>
          <p:cNvSpPr/>
          <p:nvPr/>
        </p:nvSpPr>
        <p:spPr>
          <a:xfrm>
            <a:off x="990720" y="0"/>
            <a:ext cx="6553080" cy="1295280"/>
          </a:xfrm>
          <a:custGeom>
            <a:avLst/>
            <a:gdLst>
              <a:gd name="textAreaLeft" fmla="*/ 1638360 w 6553080"/>
              <a:gd name="textAreaRight" fmla="*/ 4915080 w 6553080"/>
              <a:gd name="textAreaTop" fmla="*/ 0 h 1295280"/>
              <a:gd name="textAreaBottom" fmla="*/ 1133640 h 1295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6"/>
          <p:cNvSpPr/>
          <p:nvPr/>
        </p:nvSpPr>
        <p:spPr>
          <a:xfrm>
            <a:off x="3124080" y="2286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 Box 2"/>
          <p:cNvSpPr/>
          <p:nvPr/>
        </p:nvSpPr>
        <p:spPr>
          <a:xfrm>
            <a:off x="609480" y="380880"/>
            <a:ext cx="3276720" cy="1008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幼圆"/>
              </a:rPr>
              <a:t>课堂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838080" y="1676520"/>
            <a:ext cx="784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某家庭电路，已有两盏电灯正常发光，如果再使用一个电熨斗，则该电路的       （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总电流变大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总电压变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总电阻变大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总功率变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5029200" y="2895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AutoShape 2"/>
          <p:cNvSpPr/>
          <p:nvPr/>
        </p:nvSpPr>
        <p:spPr>
          <a:xfrm>
            <a:off x="1828800" y="0"/>
            <a:ext cx="4952880" cy="1371600"/>
          </a:xfrm>
          <a:prstGeom prst="horizontalScroll">
            <a:avLst>
              <a:gd name="adj" fmla="val 12500"/>
            </a:avLst>
          </a:prstGeom>
          <a:solidFill>
            <a:srgbClr val="e1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WordArt 3"/>
          <p:cNvSpPr txBox="1"/>
          <p:nvPr/>
        </p:nvSpPr>
        <p:spPr>
          <a:xfrm>
            <a:off x="2286000" y="0"/>
            <a:ext cx="4114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课堂练习</a:t>
            </a:r>
            <a:endParaRPr b="0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057" name="Text Box 4"/>
          <p:cNvSpPr/>
          <p:nvPr/>
        </p:nvSpPr>
        <p:spPr>
          <a:xfrm>
            <a:off x="1066680" y="21337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5"/>
          <p:cNvSpPr/>
          <p:nvPr/>
        </p:nvSpPr>
        <p:spPr>
          <a:xfrm>
            <a:off x="457200" y="112536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华家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光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盏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电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盏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彩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台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电冰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台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洗衣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台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0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音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台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k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电饭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，问：他家的总保险丝应如何选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6"/>
          <p:cNvSpPr/>
          <p:nvPr/>
        </p:nvSpPr>
        <p:spPr>
          <a:xfrm>
            <a:off x="324000" y="4508640"/>
            <a:ext cx="90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答案：</a:t>
            </a:r>
            <a:r>
              <a:rPr b="1" i="1" lang="en-US" sz="3200" spc="-1" strike="noStrike">
                <a:solidFill>
                  <a:srgbClr val="ff0000"/>
                </a:solidFill>
                <a:latin typeface="宋体"/>
              </a:rPr>
              <a:t>I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i="1" lang="en-US" sz="32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总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i="1" lang="en-US" sz="3200" spc="-1" strike="noStrike">
                <a:solidFill>
                  <a:srgbClr val="ff0000"/>
                </a:solidFill>
                <a:latin typeface="宋体"/>
              </a:rPr>
              <a:t>U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165W/220V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A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5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E6BA-A4C2-4CC8-A223-9DC1CBE9F3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Text Box 4"/>
          <p:cNvSpPr/>
          <p:nvPr/>
        </p:nvSpPr>
        <p:spPr>
          <a:xfrm>
            <a:off x="611280" y="843120"/>
            <a:ext cx="81374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节练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解家里的所有家用电器的功率，计算用电器同时工作时通过保险丝的总电流，并与电能表上的标定电流比较，为保证安全用电，你将采取哪些措施？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4"/>
          <p:cNvSpPr/>
          <p:nvPr/>
        </p:nvSpPr>
        <p:spPr>
          <a:xfrm>
            <a:off x="684360" y="1341360"/>
            <a:ext cx="8064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知道用电器总功率过大和短路现象会导致家庭电路电流过大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知道保险丝和空气开关在电路中的作用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树立生活用电过程中的安全意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2627280" y="4046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873840" cy="3335400"/>
          </a:xfrm>
          <a:prstGeom prst="rect">
            <a:avLst/>
          </a:prstGeom>
          <a:ln w="0">
            <a:noFill/>
          </a:ln>
        </p:spPr>
      </p:pic>
      <p:sp>
        <p:nvSpPr>
          <p:cNvPr id="822" name="AutoShape 3"/>
          <p:cNvSpPr/>
          <p:nvPr/>
        </p:nvSpPr>
        <p:spPr>
          <a:xfrm>
            <a:off x="2771640" y="2924280"/>
            <a:ext cx="1440000" cy="503280"/>
          </a:xfrm>
          <a:prstGeom prst="wedgeRoundRectCallout">
            <a:avLst>
              <a:gd name="adj1" fmla="val 24310"/>
              <a:gd name="adj2" fmla="val -263879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保险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6"/>
          <p:cNvSpPr/>
          <p:nvPr/>
        </p:nvSpPr>
        <p:spPr>
          <a:xfrm>
            <a:off x="826920" y="3567240"/>
            <a:ext cx="806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结合生活经验，家庭中那些情况会导致电路中的电流过大，会使保险丝烧断呢（或空气开关“跳闸”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539640" y="576360"/>
            <a:ext cx="844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1187280" y="1773360"/>
            <a:ext cx="5781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短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187280" y="321300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电器的总功率过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4"/>
          <p:cNvSpPr/>
          <p:nvPr/>
        </p:nvSpPr>
        <p:spPr>
          <a:xfrm>
            <a:off x="971640" y="1197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短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"/>
          <p:cNvSpPr/>
          <p:nvPr/>
        </p:nvSpPr>
        <p:spPr>
          <a:xfrm>
            <a:off x="395280" y="333360"/>
            <a:ext cx="84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11280" y="1844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短路为什么会引起电流过大呢？说出你的判断依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8"/>
          <p:cNvSpPr/>
          <p:nvPr/>
        </p:nvSpPr>
        <p:spPr>
          <a:xfrm>
            <a:off x="395280" y="3716280"/>
            <a:ext cx="813744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短路情况下，根据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宋体"/>
              </a:rPr>
              <a:t>欧姆定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知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因为电压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U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定，发生短路时电阻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R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很小；所以导致电路中的电流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I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就很大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"/>
          <p:cNvGrpSpPr/>
          <p:nvPr/>
        </p:nvGrpSpPr>
        <p:grpSpPr>
          <a:xfrm>
            <a:off x="1797120" y="3170160"/>
            <a:ext cx="1208160" cy="360"/>
            <a:chOff x="1797120" y="3170160"/>
            <a:chExt cx="1208160" cy="360"/>
          </a:xfrm>
        </p:grpSpPr>
        <p:sp>
          <p:nvSpPr>
            <p:cNvPr id="832" name="Line 4"/>
            <p:cNvSpPr/>
            <p:nvPr/>
          </p:nvSpPr>
          <p:spPr>
            <a:xfrm>
              <a:off x="1797120" y="3170160"/>
              <a:ext cx="1208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1797120" y="3170160"/>
              <a:ext cx="1208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938320" y="5516280"/>
            <a:ext cx="2857680" cy="28440"/>
            <a:chOff x="2938320" y="5516280"/>
            <a:chExt cx="2857680" cy="28440"/>
          </a:xfrm>
        </p:grpSpPr>
        <p:sp>
          <p:nvSpPr>
            <p:cNvPr id="835" name="Line 5"/>
            <p:cNvSpPr/>
            <p:nvPr/>
          </p:nvSpPr>
          <p:spPr>
            <a:xfrm flipV="1">
              <a:off x="2938320" y="5516280"/>
              <a:ext cx="2857680" cy="28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 rot="10800000">
              <a:off x="2938320" y="5516280"/>
              <a:ext cx="2857680" cy="2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6"/>
          <p:cNvSpPr/>
          <p:nvPr/>
        </p:nvSpPr>
        <p:spPr>
          <a:xfrm>
            <a:off x="2468520" y="5423040"/>
            <a:ext cx="46980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7"/>
          <p:cNvGrpSpPr/>
          <p:nvPr/>
        </p:nvGrpSpPr>
        <p:grpSpPr>
          <a:xfrm>
            <a:off x="4249800" y="3170160"/>
            <a:ext cx="538200" cy="2374920"/>
            <a:chOff x="4249800" y="3170160"/>
            <a:chExt cx="538200" cy="2374920"/>
          </a:xfrm>
        </p:grpSpPr>
        <p:grpSp>
          <p:nvGrpSpPr>
            <p:cNvPr id="839" name="Group 8"/>
            <p:cNvGrpSpPr/>
            <p:nvPr/>
          </p:nvGrpSpPr>
          <p:grpSpPr>
            <a:xfrm>
              <a:off x="4249800" y="3998880"/>
              <a:ext cx="538200" cy="581400"/>
              <a:chOff x="4249800" y="3998880"/>
              <a:chExt cx="538200" cy="581400"/>
            </a:xfrm>
          </p:grpSpPr>
          <p:sp>
            <p:nvSpPr>
              <p:cNvPr id="840" name="Oval 9"/>
              <p:cNvSpPr/>
              <p:nvPr/>
            </p:nvSpPr>
            <p:spPr>
              <a:xfrm>
                <a:off x="4326480" y="4102200"/>
                <a:ext cx="403200" cy="43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10"/>
              <p:cNvSpPr/>
              <p:nvPr/>
            </p:nvSpPr>
            <p:spPr>
              <a:xfrm>
                <a:off x="4249800" y="3998880"/>
                <a:ext cx="538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4518000" y="3170160"/>
              <a:ext cx="360" cy="935280"/>
              <a:chOff x="4518000" y="3170160"/>
              <a:chExt cx="360" cy="935280"/>
            </a:xfrm>
          </p:grpSpPr>
          <p:sp>
            <p:nvSpPr>
              <p:cNvPr id="843" name="Line 11"/>
              <p:cNvSpPr/>
              <p:nvPr/>
            </p:nvSpPr>
            <p:spPr>
              <a:xfrm>
                <a:off x="4518000" y="3170160"/>
                <a:ext cx="0" cy="93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 txBox="1"/>
              <p:nvPr/>
            </p:nvSpPr>
            <p:spPr>
              <a:xfrm>
                <a:off x="4518000" y="3170160"/>
                <a:ext cx="360" cy="93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4517640" y="4537080"/>
              <a:ext cx="360" cy="1008000"/>
              <a:chOff x="4517640" y="4537080"/>
              <a:chExt cx="360" cy="1008000"/>
            </a:xfrm>
          </p:grpSpPr>
          <p:sp>
            <p:nvSpPr>
              <p:cNvPr id="846" name="Line 12"/>
              <p:cNvSpPr/>
              <p:nvPr/>
            </p:nvSpPr>
            <p:spPr>
              <a:xfrm flipV="1">
                <a:off x="4518000" y="4537080"/>
                <a:ext cx="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 txBox="1"/>
              <p:nvPr/>
            </p:nvSpPr>
            <p:spPr>
              <a:xfrm rot="10800000">
                <a:off x="4517640" y="453708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" name=""/>
          <p:cNvGrpSpPr/>
          <p:nvPr/>
        </p:nvGrpSpPr>
        <p:grpSpPr>
          <a:xfrm>
            <a:off x="3411000" y="3169800"/>
            <a:ext cx="2419920" cy="360"/>
            <a:chOff x="3411000" y="3169800"/>
            <a:chExt cx="2419920" cy="360"/>
          </a:xfrm>
        </p:grpSpPr>
        <p:sp>
          <p:nvSpPr>
            <p:cNvPr id="849" name="Line 13"/>
            <p:cNvSpPr/>
            <p:nvPr/>
          </p:nvSpPr>
          <p:spPr>
            <a:xfrm>
              <a:off x="3411360" y="3170160"/>
              <a:ext cx="2419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 rot="10800000">
              <a:off x="3411000" y="3169800"/>
              <a:ext cx="2419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Oval 14"/>
          <p:cNvSpPr/>
          <p:nvPr/>
        </p:nvSpPr>
        <p:spPr>
          <a:xfrm>
            <a:off x="3008160" y="2954160"/>
            <a:ext cx="4032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15"/>
          <p:cNvGrpSpPr/>
          <p:nvPr/>
        </p:nvGrpSpPr>
        <p:grpSpPr>
          <a:xfrm>
            <a:off x="1258920" y="2639880"/>
            <a:ext cx="1143000" cy="3123720"/>
            <a:chOff x="1258920" y="2639880"/>
            <a:chExt cx="1143000" cy="3123720"/>
          </a:xfrm>
        </p:grpSpPr>
        <p:sp>
          <p:nvSpPr>
            <p:cNvPr id="853" name="Text Box 16"/>
            <p:cNvSpPr/>
            <p:nvPr/>
          </p:nvSpPr>
          <p:spPr>
            <a:xfrm>
              <a:off x="1528200" y="2639880"/>
              <a:ext cx="87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17"/>
            <p:cNvSpPr/>
            <p:nvPr/>
          </p:nvSpPr>
          <p:spPr>
            <a:xfrm>
              <a:off x="1489680" y="5016600"/>
              <a:ext cx="87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8"/>
            <p:cNvSpPr/>
            <p:nvPr/>
          </p:nvSpPr>
          <p:spPr>
            <a:xfrm>
              <a:off x="1258920" y="290196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9"/>
            <p:cNvSpPr/>
            <p:nvPr/>
          </p:nvSpPr>
          <p:spPr>
            <a:xfrm>
              <a:off x="1258920" y="530388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1749240" y="5516640"/>
            <a:ext cx="735120" cy="28440"/>
            <a:chOff x="1749240" y="5516640"/>
            <a:chExt cx="735120" cy="28440"/>
          </a:xfrm>
        </p:grpSpPr>
        <p:sp>
          <p:nvSpPr>
            <p:cNvPr id="858" name="Line 20"/>
            <p:cNvSpPr/>
            <p:nvPr/>
          </p:nvSpPr>
          <p:spPr>
            <a:xfrm flipH="1">
              <a:off x="1749240" y="5516640"/>
              <a:ext cx="734760" cy="28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 txBox="1"/>
            <p:nvPr/>
          </p:nvSpPr>
          <p:spPr>
            <a:xfrm>
              <a:off x="1749600" y="5516640"/>
              <a:ext cx="734760" cy="2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Text Box 21"/>
          <p:cNvSpPr/>
          <p:nvPr/>
        </p:nvSpPr>
        <p:spPr>
          <a:xfrm>
            <a:off x="3016080" y="2897280"/>
            <a:ext cx="2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795640" y="3170160"/>
            <a:ext cx="19440" cy="979560"/>
            <a:chOff x="5795640" y="3170160"/>
            <a:chExt cx="19440" cy="979560"/>
          </a:xfrm>
        </p:grpSpPr>
        <p:sp>
          <p:nvSpPr>
            <p:cNvPr id="862" name="Line 22"/>
            <p:cNvSpPr/>
            <p:nvPr/>
          </p:nvSpPr>
          <p:spPr>
            <a:xfrm flipH="1">
              <a:off x="5795640" y="3170160"/>
              <a:ext cx="19080" cy="979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 txBox="1"/>
            <p:nvPr/>
          </p:nvSpPr>
          <p:spPr>
            <a:xfrm>
              <a:off x="5796000" y="3170160"/>
              <a:ext cx="19080" cy="9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Text Box 23"/>
          <p:cNvSpPr/>
          <p:nvPr/>
        </p:nvSpPr>
        <p:spPr>
          <a:xfrm>
            <a:off x="2336760" y="4897440"/>
            <a:ext cx="107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险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5795640" y="4537080"/>
            <a:ext cx="19440" cy="979560"/>
            <a:chOff x="5795640" y="4537080"/>
            <a:chExt cx="19440" cy="979560"/>
          </a:xfrm>
        </p:grpSpPr>
        <p:sp>
          <p:nvSpPr>
            <p:cNvPr id="866" name="Line 24"/>
            <p:cNvSpPr/>
            <p:nvPr/>
          </p:nvSpPr>
          <p:spPr>
            <a:xfrm flipH="1">
              <a:off x="5795640" y="4537080"/>
              <a:ext cx="19080" cy="979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 txBox="1"/>
            <p:nvPr/>
          </p:nvSpPr>
          <p:spPr>
            <a:xfrm>
              <a:off x="5796000" y="4537080"/>
              <a:ext cx="19080" cy="9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Text Box 25"/>
          <p:cNvSpPr/>
          <p:nvPr/>
        </p:nvSpPr>
        <p:spPr>
          <a:xfrm>
            <a:off x="5580000" y="3664080"/>
            <a:ext cx="8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5867280" y="4149720"/>
            <a:ext cx="144720" cy="431640"/>
            <a:chOff x="5867280" y="4149720"/>
            <a:chExt cx="144720" cy="431640"/>
          </a:xfrm>
        </p:grpSpPr>
        <p:sp>
          <p:nvSpPr>
            <p:cNvPr id="870" name="Line 26"/>
            <p:cNvSpPr/>
            <p:nvPr/>
          </p:nvSpPr>
          <p:spPr>
            <a:xfrm>
              <a:off x="5867280" y="4149720"/>
              <a:ext cx="144720" cy="431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 txBox="1"/>
            <p:nvPr/>
          </p:nvSpPr>
          <p:spPr>
            <a:xfrm>
              <a:off x="5867280" y="4149720"/>
              <a:ext cx="14472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Text Box 27"/>
          <p:cNvSpPr/>
          <p:nvPr/>
        </p:nvSpPr>
        <p:spPr>
          <a:xfrm>
            <a:off x="6516720" y="315612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开关闭合后会看到什么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8"/>
          <p:cNvSpPr/>
          <p:nvPr/>
        </p:nvSpPr>
        <p:spPr>
          <a:xfrm>
            <a:off x="395280" y="333360"/>
            <a:ext cx="84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9"/>
          <p:cNvSpPr/>
          <p:nvPr/>
        </p:nvSpPr>
        <p:spPr>
          <a:xfrm>
            <a:off x="1116000" y="1268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短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0" y="0"/>
            <a:ext cx="9144000" cy="2133720"/>
            <a:chOff x="0" y="0"/>
            <a:chExt cx="9144000" cy="2133720"/>
          </a:xfrm>
        </p:grpSpPr>
        <p:sp>
          <p:nvSpPr>
            <p:cNvPr id="876" name="AutoShape 3"/>
            <p:cNvSpPr/>
            <p:nvPr/>
          </p:nvSpPr>
          <p:spPr>
            <a:xfrm>
              <a:off x="0" y="0"/>
              <a:ext cx="9144000" cy="2133720"/>
            </a:xfrm>
            <a:prstGeom prst="irregularSeal2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4"/>
            <p:cNvSpPr/>
            <p:nvPr/>
          </p:nvSpPr>
          <p:spPr>
            <a:xfrm>
              <a:off x="1066680" y="304920"/>
              <a:ext cx="7162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600" spc="-1" strike="noStrike">
                  <a:solidFill>
                    <a:srgbClr val="0000ff"/>
                  </a:solidFill>
                  <a:latin typeface="Times New Roman"/>
                </a:rPr>
                <a:t>？</a:t>
              </a:r>
              <a:r>
                <a:rPr b="1" i="1" lang="zh-CN" sz="96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想</a:t>
              </a:r>
              <a:r>
                <a:rPr b="1" i="1" lang="zh-CN" sz="80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想</a:t>
              </a:r>
              <a:r>
                <a:rPr b="1" i="1" lang="zh-CN" sz="96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  议</a:t>
              </a:r>
              <a:r>
                <a:rPr b="1" i="1" lang="zh-CN" sz="80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议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5"/>
          <p:cNvSpPr/>
          <p:nvPr/>
        </p:nvSpPr>
        <p:spPr>
          <a:xfrm>
            <a:off x="539640" y="2209680"/>
            <a:ext cx="81471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看到什么现象？短路时灯泡损坏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短路为什么会引起火灾？日常生活中要如何防止短路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3"/>
          <p:cNvSpPr/>
          <p:nvPr/>
        </p:nvSpPr>
        <p:spPr>
          <a:xfrm>
            <a:off x="1042920" y="126828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"/>
          <p:cNvSpPr/>
          <p:nvPr/>
        </p:nvSpPr>
        <p:spPr>
          <a:xfrm>
            <a:off x="324000" y="333360"/>
            <a:ext cx="844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8"/>
          <p:cNvSpPr/>
          <p:nvPr/>
        </p:nvSpPr>
        <p:spPr>
          <a:xfrm>
            <a:off x="1456200" y="134136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用电器的总功率过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9"/>
          <p:cNvSpPr/>
          <p:nvPr/>
        </p:nvSpPr>
        <p:spPr>
          <a:xfrm>
            <a:off x="755640" y="2060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电器的总功率过大也会引起电流过大，能说出你的判断依据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0"/>
          <p:cNvSpPr/>
          <p:nvPr/>
        </p:nvSpPr>
        <p:spPr>
          <a:xfrm>
            <a:off x="611280" y="4464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不能用实验证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的判断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11" descr="image079"/>
          <p:cNvPicPr/>
          <p:nvPr/>
        </p:nvPicPr>
        <p:blipFill>
          <a:blip r:embed="rId1"/>
          <a:stretch/>
        </p:blipFill>
        <p:spPr>
          <a:xfrm>
            <a:off x="5830920" y="3808440"/>
            <a:ext cx="3313080" cy="3049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1:29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41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